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5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94F2-21CC-479D-ADB6-E0618DDB85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8A92-71AF-4F07-B857-F2C9973A6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25F5-AA92-4E7E-90DD-19CB637F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329-2BD5-4D46-9813-45A53748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0AE-3848-4645-9AFD-F55C8C1C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3C8-C1CC-4B74-9E3B-9BE37C33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BF0-7AB7-4C72-9C58-B8761661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125-C421-41E8-AEB0-5CFA8D24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4F0-0213-42F0-95E7-E956F0A0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B1F-8EA5-4E9E-AAB3-7EBA86C8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36B-A841-42C5-A9C5-F222F90E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D91-E6E1-4588-BDFD-0E8FC925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FC4-E502-4BE3-829D-777E87F3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23C-AD87-4BC7-B2A6-B2025EA4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D82B-294D-48D8-B9B4-B8745D754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52480" y="990720"/>
            <a:ext cx="7682040" cy="37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Человек страшится только того, 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го не знает,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нием побеждается всякий страх"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                 </a:t>
            </a: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.Г.Белинский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Историческая спр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XVII веке французские учёные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Франсуа Виет и Рене Дека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ложили основы понятия функции и разработали единую буквенную математическую,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символи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торая вскоре получила всеобщее признание. Также геометрические работы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Декарта и Пьера Фер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явили отчётливое представление переменной величины и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прямоугольной системы координа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спомогательных элементов всех современных диаграм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Историческая спр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9900"/>
                </a:solidFill>
                <a:latin typeface="Arial"/>
              </a:rPr>
              <a:t>Первые статистические графики начал строить английский экономист У.Плейфер в работе «Коммерческий и политический атлас» 1786 года. Это произведение послужило толчком для развития графических методов в общественных наука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Диа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ject 3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3435120" cy="1797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3939840"/>
            <a:ext cx="858816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мма – это средство наглядного графического изображения информации, предназначенное для сравнения нескольких величин или нескольких значений одной величины, слежение за изменением их значен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5" descr=""/>
          <p:cNvPicPr/>
          <p:nvPr/>
        </p:nvPicPr>
        <p:blipFill>
          <a:blip r:embed="rId2"/>
          <a:stretch/>
        </p:blipFill>
        <p:spPr>
          <a:xfrm>
            <a:off x="6473880" y="1413000"/>
            <a:ext cx="2670120" cy="1785960"/>
          </a:xfrm>
          <a:prstGeom prst="rect">
            <a:avLst/>
          </a:prstGeom>
          <a:ln w="0">
            <a:noFill/>
          </a:ln>
        </p:spPr>
      </p:pic>
      <p:pic>
        <p:nvPicPr>
          <p:cNvPr id="75" name="Object 6" descr=""/>
          <p:cNvPicPr/>
          <p:nvPr/>
        </p:nvPicPr>
        <p:blipFill>
          <a:blip r:embed="rId3"/>
          <a:stretch/>
        </p:blipFill>
        <p:spPr>
          <a:xfrm>
            <a:off x="684360" y="1268280"/>
            <a:ext cx="267012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ВИДЫ     ДИАГРА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Comic Sans MS"/>
              </a:rPr>
              <a:t>Круговая диаграмма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служит для сравнения нескольких величин в одной точке. Особенно полезна, если величины в сумме составляют нечто целое (100%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Круговая диа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15880" y="1600200"/>
          <a:ext cx="8055000" cy="2073240"/>
        </p:xfrm>
        <a:graphic>
          <a:graphicData uri="http://schemas.openxmlformats.org/drawingml/2006/table">
            <a:tbl>
              <a:tblPr/>
              <a:tblGrid>
                <a:gridCol w="1363680"/>
                <a:gridCol w="4921200"/>
                <a:gridCol w="1770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окно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андаш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д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Object 25" descr=""/>
          <p:cNvPicPr/>
          <p:nvPr/>
        </p:nvPicPr>
        <p:blipFill>
          <a:blip r:embed="rId1"/>
          <a:stretch/>
        </p:blipFill>
        <p:spPr>
          <a:xfrm>
            <a:off x="2484360" y="3819600"/>
            <a:ext cx="417528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60093"/>
                </a:solidFill>
                <a:latin typeface="Arial"/>
              </a:rPr>
              <a:t>Круговая диаграмма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1"/>
          <a:stretch/>
        </p:blipFill>
        <p:spPr>
          <a:xfrm>
            <a:off x="865080" y="1398600"/>
            <a:ext cx="7547040" cy="4873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ВИДЫ     ДИАГРА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9900"/>
                </a:solidFill>
                <a:latin typeface="Arial"/>
              </a:rPr>
              <a:t>Столбчатая диаграмма служит для сравнения нескольких величин в нескольких точках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Столбчатая диа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4360" y="1268280"/>
          <a:ext cx="7791480" cy="1130400"/>
        </p:xfrm>
        <a:graphic>
          <a:graphicData uri="http://schemas.openxmlformats.org/drawingml/2006/table">
            <a:tbl>
              <a:tblPr/>
              <a:tblGrid>
                <a:gridCol w="1112760"/>
                <a:gridCol w="1117440"/>
                <a:gridCol w="1111320"/>
                <a:gridCol w="1108080"/>
                <a:gridCol w="1111320"/>
                <a:gridCol w="1117440"/>
                <a:gridCol w="111312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Object 29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6727680" cy="3875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60093"/>
                </a:solidFill>
                <a:latin typeface="Arial"/>
              </a:rPr>
              <a:t>Гисто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ject 4" descr=""/>
          <p:cNvPicPr/>
          <p:nvPr/>
        </p:nvPicPr>
        <p:blipFill>
          <a:blip r:embed="rId1"/>
          <a:stretch/>
        </p:blipFill>
        <p:spPr>
          <a:xfrm>
            <a:off x="865080" y="1398600"/>
            <a:ext cx="7547040" cy="487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39640" y="119700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лн. 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ВИДЫ     ДИАГРА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Ярусная диаграм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зволяет наглядно сравнить суммы нескольких величин в нескольких точках, и при этом показать вклад каждой величины в общую сумму</a:t>
            </a:r>
            <a:r>
              <a:rPr b="0" lang="ru-RU" sz="36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60093"/>
                </a:solidFill>
                <a:latin typeface="Arial"/>
              </a:rPr>
              <a:t>Тема урока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9900"/>
                </a:solidFill>
                <a:latin typeface="Arial"/>
              </a:rPr>
              <a:t>Деловая графика. Построение диаграмм и графиков на основе табличных данны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Ярусная диа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00200" y="1628640"/>
          <a:ext cx="7870680" cy="2082960"/>
        </p:xfrm>
        <a:graphic>
          <a:graphicData uri="http://schemas.openxmlformats.org/drawingml/2006/table">
            <a:tbl>
              <a:tblPr/>
              <a:tblGrid>
                <a:gridCol w="2716200"/>
                <a:gridCol w="763560"/>
                <a:gridCol w="703080"/>
                <a:gridCol w="766800"/>
                <a:gridCol w="704880"/>
                <a:gridCol w="722520"/>
                <a:gridCol w="77292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й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опы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7" name="Object 50" descr=""/>
          <p:cNvPicPr/>
          <p:nvPr/>
        </p:nvPicPr>
        <p:blipFill>
          <a:blip r:embed="rId1"/>
          <a:stretch/>
        </p:blipFill>
        <p:spPr>
          <a:xfrm>
            <a:off x="1042920" y="3789360"/>
            <a:ext cx="71294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ВИДЫ     ДИАГРА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Линейная диаграмма служит для того, чтобы проследить за изменением нескольких величин при переходе от одной точке к друго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Линейная диа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00200" y="1628640"/>
          <a:ext cx="7870680" cy="2082960"/>
        </p:xfrm>
        <a:graphic>
          <a:graphicData uri="http://schemas.openxmlformats.org/drawingml/2006/table">
            <a:tbl>
              <a:tblPr/>
              <a:tblGrid>
                <a:gridCol w="2717640"/>
                <a:gridCol w="762120"/>
                <a:gridCol w="703080"/>
                <a:gridCol w="766800"/>
                <a:gridCol w="703440"/>
                <a:gridCol w="723960"/>
                <a:gridCol w="77292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й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опы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Object 50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6119640" cy="273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60093"/>
                </a:solidFill>
                <a:latin typeface="Arial"/>
              </a:rPr>
              <a:t>Граф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4" descr=""/>
          <p:cNvPicPr/>
          <p:nvPr/>
        </p:nvPicPr>
        <p:blipFill>
          <a:blip r:embed="rId1"/>
          <a:stretch/>
        </p:blipFill>
        <p:spPr>
          <a:xfrm>
            <a:off x="865080" y="1398600"/>
            <a:ext cx="7547040" cy="48736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066680" y="1295280"/>
            <a:ext cx="259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лн.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ВИДЫ     ДИАГРАМ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9900"/>
                </a:solidFill>
                <a:latin typeface="Arial"/>
              </a:rPr>
              <a:t>Областная диаграмма или диаграмма площадей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 –гибрид ярусной диаграммы с линейной. Позволяет одновременно проследить изменение каждой из нескольких величин и изменение их суммы в нескольких точ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4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Областная  диаграм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700200" y="1628640"/>
          <a:ext cx="7870680" cy="2082960"/>
        </p:xfrm>
        <a:graphic>
          <a:graphicData uri="http://schemas.openxmlformats.org/drawingml/2006/table">
            <a:tbl>
              <a:tblPr/>
              <a:tblGrid>
                <a:gridCol w="2717640"/>
                <a:gridCol w="762120"/>
                <a:gridCol w="703080"/>
                <a:gridCol w="766800"/>
                <a:gridCol w="703440"/>
                <a:gridCol w="723960"/>
                <a:gridCol w="772920"/>
                <a:gridCol w="72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й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ропыж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ч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Object 50" descr=""/>
          <p:cNvPicPr/>
          <p:nvPr/>
        </p:nvPicPr>
        <p:blipFill>
          <a:blip r:embed="rId1"/>
          <a:stretch/>
        </p:blipFill>
        <p:spPr>
          <a:xfrm>
            <a:off x="1763640" y="3789360"/>
            <a:ext cx="5688000" cy="2809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350"/>
                            </p:stCondLst>
                            <p:childTnLst>
                              <p:par>
                                <p:cTn id="2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85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ject 4" descr=""/>
          <p:cNvPicPr/>
          <p:nvPr/>
        </p:nvPicPr>
        <p:blipFill>
          <a:blip r:embed="rId1"/>
          <a:stretch/>
        </p:blipFill>
        <p:spPr>
          <a:xfrm>
            <a:off x="1549440" y="2421000"/>
            <a:ext cx="6265800" cy="3600360"/>
          </a:xfrm>
          <a:prstGeom prst="rect">
            <a:avLst/>
          </a:prstGeom>
          <a:ln w="0">
            <a:noFill/>
          </a:ln>
        </p:spPr>
      </p:pic>
      <p:sp>
        <p:nvSpPr>
          <p:cNvPr id="115" name="Line 5"/>
          <p:cNvSpPr/>
          <p:nvPr/>
        </p:nvSpPr>
        <p:spPr>
          <a:xfrm>
            <a:off x="684360" y="2492280"/>
            <a:ext cx="165564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 flipV="1">
            <a:off x="6084720" y="5084280"/>
            <a:ext cx="187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 flipV="1">
            <a:off x="973080" y="4581360"/>
            <a:ext cx="93492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V="1">
            <a:off x="973080" y="5734080"/>
            <a:ext cx="30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7524720" y="2925720"/>
            <a:ext cx="5047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H="1">
            <a:off x="5076360" y="2276640"/>
            <a:ext cx="64764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96720" y="1989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Ось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541440" y="602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Подписи о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932360" y="1628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Название диа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7740720" y="2276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Леге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187280" y="260280"/>
            <a:ext cx="712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285840" y="42876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Franklin Gothic Heavy"/>
              </a:rPr>
              <a:t>Основные элементы диа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885080" y="522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Heavy"/>
              </a:rPr>
              <a:t>Ось 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ХАРАКТЕРИСТИКА ДИА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15200" cy="4748040"/>
        </p:xfrm>
        <a:graphic>
          <a:graphicData uri="http://schemas.openxmlformats.org/drawingml/2006/table">
            <a:tbl>
              <a:tblPr/>
              <a:tblGrid>
                <a:gridCol w="2819520"/>
                <a:gridCol w="1798560"/>
                <a:gridCol w="1798560"/>
                <a:gridCol w="1798560"/>
              </a:tblGrid>
              <a:tr h="88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ст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овая диа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ф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ляд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ред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о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из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в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ред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из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о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я анализ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из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о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и выявления процентных со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о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из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0" y="990720"/>
            <a:ext cx="9144000" cy="96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64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60093"/>
                </a:solidFill>
                <a:latin typeface="Arial"/>
              </a:rPr>
              <a:t>Алгоритм построени</a:t>
            </a: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я</a:t>
            </a:r>
            <a:r>
              <a:rPr b="1" lang="uk-UA" sz="3600" spc="-1" strike="noStrike">
                <a:solidFill>
                  <a:srgbClr val="d60093"/>
                </a:solidFill>
                <a:latin typeface="Arial"/>
              </a:rPr>
              <a:t> диаграмм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вести в таблицу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ыделить необходимый  диапазон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Вызвать Мастера диаграмм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     (на панели инструментов или Вставка-Диаграмма) и выполнить его у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ать тип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ать отображение данных (в строках или столбц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олнить параметры диаграммы (заголовок, название осей категорий, данных, подписи данных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ать место размещения диаграммы (на отдельном листе или на имеющемс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С помощью контекстного меню отформатировать элементы диа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5867280" y="206064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. Построить таблицу данных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48400" cy="2835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0093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Обуч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комить учащихся с возможностями электронной таблицы EXCEL при создании элементов деловой графики – диаграмм и граф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виды диаграмм и их применение при решении зад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Развивающ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навыков индивидуальной и групповой практической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тие умений применять знания для решения задач различного рода с помощью электронных табли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ние творческого подхода к работе, желания экспериментир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фессиональная ориентация и подготовка к дальнейшему самообразованию к будущей трудовой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. Выделить объект, содержащий данные для ее постро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194680" cy="3031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3. Нажать кнопку Мастер диаграмм на панели инструмент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000"/>
          </a:blip>
          <a:srcRect l="0" t="-9042" r="154" b="0"/>
          <a:stretch/>
        </p:blipFill>
        <p:spPr>
          <a:xfrm>
            <a:off x="468360" y="2060640"/>
            <a:ext cx="8064360" cy="838080"/>
          </a:xfrm>
          <a:prstGeom prst="rect">
            <a:avLst/>
          </a:prstGeom>
          <a:ln w="0">
            <a:noFill/>
          </a:ln>
        </p:spPr>
      </p:pic>
      <p:sp>
        <p:nvSpPr>
          <p:cNvPr id="144" name="Line 5"/>
          <p:cNvSpPr/>
          <p:nvPr/>
        </p:nvSpPr>
        <p:spPr>
          <a:xfrm flipH="1" flipV="1">
            <a:off x="5003640" y="2924280"/>
            <a:ext cx="432000" cy="129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281040" y="4221000"/>
            <a:ext cx="21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тер диа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824840" y="5419800"/>
            <a:ext cx="55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выбрать в меню Вставка - Диа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4. Выбрать тип диаграммы из предлагаемого набор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rcRect l="0" t="-2477" r="0" b="0"/>
          <a:stretch/>
        </p:blipFill>
        <p:spPr>
          <a:xfrm>
            <a:off x="2340000" y="1989000"/>
            <a:ext cx="5294160" cy="4319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5. Поскольку диапазон был выделен ранее, то ничего менять не нужн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52578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точнить детали отображения диаграммы. Изменить формат диаграммы и легенды.</a:t>
            </a:r>
            <a:br>
              <a:rPr sz="1700"/>
            </a:br>
            <a:r>
              <a:rPr b="0" i="1" lang="ru-RU" sz="1700" spc="-1" strike="noStrike">
                <a:solidFill>
                  <a:srgbClr val="993300"/>
                </a:solidFill>
                <a:latin typeface="Arial"/>
              </a:rPr>
              <a:t>Заголовки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Служит для ввода названия диаграммы и координатных ос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rcRect l="-2926" t="0" r="0" b="0"/>
          <a:stretch/>
        </p:blipFill>
        <p:spPr>
          <a:xfrm>
            <a:off x="324000" y="1557360"/>
            <a:ext cx="5256000" cy="4775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d60093"/>
                </a:solidFill>
                <a:latin typeface="Times New Roman"/>
              </a:rPr>
              <a:t>Этапы создания диаграммы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Определить, где разместить диаграмму: на отдельном листе или на листе вместе с да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3924360" y="1557360"/>
            <a:ext cx="4495680" cy="325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В результате мы получим диаграмм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1981" t="3580" r="6182" b="10774"/>
          <a:stretch/>
        </p:blipFill>
        <p:spPr>
          <a:xfrm>
            <a:off x="1476360" y="1628640"/>
            <a:ext cx="655308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Редактирование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дактирование готовой диа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Выделите область диаграммы: щелкните левой кнопкой мыши на границе области диа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Повторите любой шаг (1 – 4) построения диаграммы. Для этог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ыберите команду меню Диаграм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ыберите нужный шаг (Тип диаграммы, Исходные данные, Параметры диаграммы, Размещен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нести изме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щелкните на кнопке 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едактирование отдельных элементов диа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Изменение элемента диаграм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ыделите отдельный элемен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щелкните правой кнопкой мыши (вызов контекстного меню для элемент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ыберите нужный пункт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внесите измен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80000"/>
              </a:lnSpc>
              <a:spcBef>
                <a:spcPts val="400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9900"/>
                </a:solidFill>
                <a:latin typeface="Arial"/>
              </a:rPr>
              <a:t>щелкните на кнопке 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Удаление выделенной диаграммы: нажмите клавишу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el</a:t>
            </a: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Редактирование диа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дактирование диаграммы производится с помощью команд контекстного меню, позволяющих изменять ее параметры: заголовки, легенду, подписи рядов и данных. Можно добавлять новые данные для построения диаграммы или удалять ранее построенные диа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74328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826920" y="1557360"/>
            <a:ext cx="763272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ДАЧ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817560"/>
            <a:ext cx="826920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Деловая</a:t>
            </a: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графи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00"/>
                </a:solidFill>
                <a:latin typeface="Arial"/>
              </a:rPr>
              <a:t>Под термином деловая графика понимаются графики и диаграммы, наглядно представляющие динамику развития того или иного производства, отрасли и любые другие числовые данны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50"/>
                            </p:stCondLst>
                            <p:childTnLst>
                              <p:par>
                                <p:cTn id="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474840"/>
            <a:ext cx="8774280" cy="97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Возможности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</a:rPr>
              <a:t>Excel </a:t>
            </a: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для создания деловой граф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4920" y="1599840"/>
            <a:ext cx="844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С помощью богатой библиотеки диаграмм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ff9900"/>
                </a:solidFill>
                <a:latin typeface="Arial"/>
              </a:rPr>
              <a:t> можно составлять диаграммы и графики разных видов: гистограммы, круговые диаграммы, столбчатые, графики и др., их можно снабжать заголовками и пояснениями, можно задавать цвет и вид штриховки в диаграммах, печатать их на бумаге, изменяя размеры и расположение на листе, и вставлять диаграммы в нужное место ли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Диаграммы</a:t>
            </a:r>
            <a:br>
              <a:rPr sz="4800"/>
            </a:b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(историческая справка</a:t>
            </a: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агра́мм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греч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Διάγραμμα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diagramm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изображение,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рисунок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,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чертё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— графическое представление числовых данных, позволяющее быстро оценить соотношение нескольких величин. Представляет собой геометрическое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симво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зображение </a:t>
            </a:r>
            <a:r>
              <a:rPr b="0" lang="ru-RU" sz="2800" spc="-1" strike="noStrike" u="sng">
                <a:solidFill>
                  <a:srgbClr val="99cc00"/>
                </a:solidFill>
                <a:uFillTx/>
                <a:latin typeface="Arial"/>
              </a:rPr>
              <a:t>информации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рименением различных приёмов техники визу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Историческая справ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ри Лоренс Гант (Henry Laurence Gantt) (1861-1919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ыл американским инженером-механиком и консультантом по вопросам управления. Он известен как разработчик диаграммы Ганта в 1910-е гг. Диаграммы Ганта использовались для работы над крупнейшими инфраструктурными проектами  включая плотины Гувера и системы скоростных шоссе в США и продолжают оставаться важнейшим инструментом в управл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3600720" cy="4392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Историческая справка</a:t>
            </a:r>
            <a:br>
              <a:rPr sz="4400"/>
            </a:b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Диаграмма  Г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45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рамма Гант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о сих пор остается в качестве важного инструмента управления, оно обеспечивает графическое отображение плана работ, удобное для контроля и отслеживания прогресса выполненных задач.  Сегодня классическую диаграмму Ганта сменяет ее современная вариация программа оценки и анализа (ПЭР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Историческая справ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rogram Evaluation and Review Techniqu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окращенн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техника оценки и анализа программ, которая используется при 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управлении проек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Была разработана в </a:t>
            </a: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1958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нсалтинговой фирмой «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Буз, Ален и Гамильт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совместно с корпорацией «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Локхи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по заказу Подразделения специальных проектов 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ВМС С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составе 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Министерства Обороны СШ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роекта создания ракетной системы «Поларис» (Polaris). Проект «Поларис» был ответом на кризис, наступивший после запуска </a:t>
            </a:r>
            <a:r>
              <a:rPr b="0" lang="ru-RU" sz="1800" spc="-1" strike="noStrike" u="sng">
                <a:solidFill>
                  <a:srgbClr val="99cc00"/>
                </a:solidFill>
                <a:uFillTx/>
                <a:latin typeface="Arial"/>
              </a:rPr>
              <a:t>Советским Союзом спу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http://upload.wikimedia.org/wikipedia/commons/b/b9/Pert_chart_colored.gif"/>
          <p:cNvPicPr/>
          <p:nvPr/>
        </p:nvPicPr>
        <p:blipFill>
          <a:blip r:embed="rId1"/>
          <a:stretch/>
        </p:blipFill>
        <p:spPr>
          <a:xfrm>
            <a:off x="539640" y="1628640"/>
            <a:ext cx="340848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5:09:00Z</dcterms:created>
  <dc:creator>Admin</dc:creator>
  <dc:description/>
  <dc:language>en-US</dc:language>
  <cp:lastModifiedBy>Admin</cp:lastModifiedBy>
  <dcterms:modified xsi:type="dcterms:W3CDTF">2011-06-20T16:05:23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0b000000000001024140</vt:lpwstr>
  </property>
</Properties>
</file>