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19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DD37-B882-4E0D-B6BE-AF3C31CB94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9FE7-5B41-4455-8D97-8AD7D7C28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355-FAA5-4F9C-AC0D-26B392DE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FBE-5797-4EE1-9CEA-E14A6F30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A16-C08F-4AFB-B76E-6CFD9541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A21-9806-4978-AEBD-78F358AC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34EC-5C16-4DB2-9DAF-2B37A30F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4EB4-EA61-4772-AB5D-E6148692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AF2-37B9-4B64-9159-F0D5FFED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9067-6C32-418B-8CDA-EA3F56C8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5E7-E380-4F45-B58C-DD062BF3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36D-7E58-47F8-B1D6-83430700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451-787B-437E-8E05-59029462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6D2-4D6C-46FB-A83A-26FCE62A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A255-35AE-4115-93C0-39CEAD17AF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52480" y="990720"/>
            <a:ext cx="7682040" cy="37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Человек страшится только того,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го не знает,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нием побеждается всякий страх"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  </a:t>
            </a: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.Г.Белинский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Историческая справ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XVII веке французские учёные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Франсуа Виет и Рене Декар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ложили основы понятия функции и разработали единую буквенную математическую,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символи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торая вскоре получила всеобщее признание. Также геометрические работы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Декарта и Пьера Фер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явили отчётливое представление переменной величины и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прямоугольной системы координа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спомогательных элементов всех современных диаграм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Историческая справ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9900"/>
                </a:solidFill>
                <a:latin typeface="Arial"/>
              </a:rPr>
              <a:t>Первые статистические графики начал строить английский экономист У.Плейфер в работе «Коммерческий и политический атлас» 1786 года. Это произведение послужило толчком для развития графических методов в общественных наука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Диаграм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ject 3" descr=""/>
          <p:cNvPicPr/>
          <p:nvPr/>
        </p:nvPicPr>
        <p:blipFill>
          <a:blip r:embed="rId1"/>
          <a:stretch/>
        </p:blipFill>
        <p:spPr>
          <a:xfrm>
            <a:off x="3203640" y="2060640"/>
            <a:ext cx="3435120" cy="1797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3939840"/>
            <a:ext cx="858816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а – это средство наглядного графического изображения информации, предназначенное для сравнения нескольких величин или нескольких значений одной величины, слежение за изменением их значений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ject 5" descr=""/>
          <p:cNvPicPr/>
          <p:nvPr/>
        </p:nvPicPr>
        <p:blipFill>
          <a:blip r:embed="rId2"/>
          <a:stretch/>
        </p:blipFill>
        <p:spPr>
          <a:xfrm>
            <a:off x="6473880" y="1413000"/>
            <a:ext cx="2670120" cy="1785960"/>
          </a:xfrm>
          <a:prstGeom prst="rect">
            <a:avLst/>
          </a:prstGeom>
          <a:ln w="0">
            <a:noFill/>
          </a:ln>
        </p:spPr>
      </p:pic>
      <p:pic>
        <p:nvPicPr>
          <p:cNvPr id="75" name="Object 6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267012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ВИДЫ     ДИАГРАМ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Comic Sans MS"/>
              </a:rPr>
              <a:t>Круговая диаграмма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служит для сравнения нескольких величин в одной точке. Особенно полезна, если величины в сумме составляют нечто целое (100%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Круговая диаграм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5880" y="1600200"/>
          <a:ext cx="8055000" cy="2073240"/>
        </p:xfrm>
        <a:graphic>
          <a:graphicData uri="http://schemas.openxmlformats.org/drawingml/2006/table">
            <a:tbl>
              <a:tblPr/>
              <a:tblGrid>
                <a:gridCol w="1363680"/>
                <a:gridCol w="4921200"/>
                <a:gridCol w="1770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н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ндаш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д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Object 25" descr=""/>
          <p:cNvPicPr/>
          <p:nvPr/>
        </p:nvPicPr>
        <p:blipFill>
          <a:blip r:embed="rId1"/>
          <a:stretch/>
        </p:blipFill>
        <p:spPr>
          <a:xfrm>
            <a:off x="2484360" y="3819600"/>
            <a:ext cx="417528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60093"/>
                </a:solidFill>
                <a:latin typeface="Arial"/>
              </a:rPr>
              <a:t>Круговая диаграмма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4" descr=""/>
          <p:cNvPicPr/>
          <p:nvPr/>
        </p:nvPicPr>
        <p:blipFill>
          <a:blip r:embed="rId1"/>
          <a:stretch/>
        </p:blipFill>
        <p:spPr>
          <a:xfrm>
            <a:off x="865080" y="1398600"/>
            <a:ext cx="7547040" cy="4873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ВИДЫ     ДИАГРАМ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Столбчатая диаграмма служит для сравнения нескольких величин в нескольких точках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Столбчатая диаграм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4360" y="1268280"/>
          <a:ext cx="7791480" cy="1130400"/>
        </p:xfrm>
        <a:graphic>
          <a:graphicData uri="http://schemas.openxmlformats.org/drawingml/2006/table">
            <a:tbl>
              <a:tblPr/>
              <a:tblGrid>
                <a:gridCol w="1112760"/>
                <a:gridCol w="1117440"/>
                <a:gridCol w="1111320"/>
                <a:gridCol w="1108080"/>
                <a:gridCol w="1111320"/>
                <a:gridCol w="1117440"/>
                <a:gridCol w="111312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Object 29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727680" cy="3875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60093"/>
                </a:solidFill>
                <a:latin typeface="Arial"/>
              </a:rPr>
              <a:t>Гистограм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865080" y="1398600"/>
            <a:ext cx="7547040" cy="4873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39640" y="119700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лн. 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ВИДЫ     ДИАГРАМ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Ярусная диаграм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озволяет наглядно сравнить суммы нескольких величин в нескольких точках, и при этом показать вклад каждой величины в общую сумму</a:t>
            </a:r>
            <a:r>
              <a:rPr b="0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60093"/>
                </a:solidFill>
                <a:latin typeface="Arial"/>
              </a:rPr>
              <a:t>Тема урок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Деловая графика. Построение диаграмм и графиков на основе табличных данных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Ярусная диаграм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00200" y="1628640"/>
          <a:ext cx="7870680" cy="2082960"/>
        </p:xfrm>
        <a:graphic>
          <a:graphicData uri="http://schemas.openxmlformats.org/drawingml/2006/table">
            <a:tbl>
              <a:tblPr/>
              <a:tblGrid>
                <a:gridCol w="2716200"/>
                <a:gridCol w="763560"/>
                <a:gridCol w="703080"/>
                <a:gridCol w="766800"/>
                <a:gridCol w="704880"/>
                <a:gridCol w="722520"/>
                <a:gridCol w="772920"/>
                <a:gridCol w="72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й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опыж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ч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Object 50" descr=""/>
          <p:cNvPicPr/>
          <p:nvPr/>
        </p:nvPicPr>
        <p:blipFill>
          <a:blip r:embed="rId1"/>
          <a:stretch/>
        </p:blipFill>
        <p:spPr>
          <a:xfrm>
            <a:off x="1042920" y="3789360"/>
            <a:ext cx="712944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ВИДЫ     ДИАГРАМ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Линейная диаграмма служит для того, чтобы проследить за изменением нескольких величин при переходе от одной точке к друг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Линейная диаграм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00200" y="1628640"/>
          <a:ext cx="7870680" cy="2082960"/>
        </p:xfrm>
        <a:graphic>
          <a:graphicData uri="http://schemas.openxmlformats.org/drawingml/2006/table">
            <a:tbl>
              <a:tblPr/>
              <a:tblGrid>
                <a:gridCol w="2717640"/>
                <a:gridCol w="762120"/>
                <a:gridCol w="703080"/>
                <a:gridCol w="766800"/>
                <a:gridCol w="703440"/>
                <a:gridCol w="723960"/>
                <a:gridCol w="772920"/>
                <a:gridCol w="72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й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опыж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ч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Object 50" descr=""/>
          <p:cNvPicPr/>
          <p:nvPr/>
        </p:nvPicPr>
        <p:blipFill>
          <a:blip r:embed="rId1"/>
          <a:stretch/>
        </p:blipFill>
        <p:spPr>
          <a:xfrm>
            <a:off x="2700360" y="3789360"/>
            <a:ext cx="611964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60093"/>
                </a:solidFill>
                <a:latin typeface="Arial"/>
              </a:rPr>
              <a:t>Граф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4" descr=""/>
          <p:cNvPicPr/>
          <p:nvPr/>
        </p:nvPicPr>
        <p:blipFill>
          <a:blip r:embed="rId1"/>
          <a:stretch/>
        </p:blipFill>
        <p:spPr>
          <a:xfrm>
            <a:off x="865080" y="1398600"/>
            <a:ext cx="7547040" cy="48736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лн.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ВИДЫ     ДИАГРАМ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бластная диаграмма или диаграмма площадей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–гибрид ярусной диаграммы с линейной. Позволяет одновременно проследить изменение каждой из нескольких величин и изменение их суммы в нескольких точ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Областная  диаграм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00200" y="1628640"/>
          <a:ext cx="7870680" cy="2082960"/>
        </p:xfrm>
        <a:graphic>
          <a:graphicData uri="http://schemas.openxmlformats.org/drawingml/2006/table">
            <a:tbl>
              <a:tblPr/>
              <a:tblGrid>
                <a:gridCol w="2717640"/>
                <a:gridCol w="762120"/>
                <a:gridCol w="703080"/>
                <a:gridCol w="766800"/>
                <a:gridCol w="703440"/>
                <a:gridCol w="723960"/>
                <a:gridCol w="772920"/>
                <a:gridCol w="72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й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опыж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ч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Object 50" descr=""/>
          <p:cNvPicPr/>
          <p:nvPr/>
        </p:nvPicPr>
        <p:blipFill>
          <a:blip r:embed="rId1"/>
          <a:stretch/>
        </p:blipFill>
        <p:spPr>
          <a:xfrm>
            <a:off x="1763640" y="3789360"/>
            <a:ext cx="5688000" cy="2809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350"/>
                            </p:stCondLst>
                            <p:childTnLst>
                              <p:par>
                                <p:cTn id="2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85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Object 4" descr=""/>
          <p:cNvPicPr/>
          <p:nvPr/>
        </p:nvPicPr>
        <p:blipFill>
          <a:blip r:embed="rId1"/>
          <a:stretch/>
        </p:blipFill>
        <p:spPr>
          <a:xfrm>
            <a:off x="1549440" y="2421000"/>
            <a:ext cx="6265800" cy="3600360"/>
          </a:xfrm>
          <a:prstGeom prst="rect">
            <a:avLst/>
          </a:prstGeom>
          <a:ln w="0">
            <a:noFill/>
          </a:ln>
        </p:spPr>
      </p:pic>
      <p:sp>
        <p:nvSpPr>
          <p:cNvPr id="115" name="Line 5"/>
          <p:cNvSpPr/>
          <p:nvPr/>
        </p:nvSpPr>
        <p:spPr>
          <a:xfrm>
            <a:off x="684360" y="2492280"/>
            <a:ext cx="165564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 flipV="1">
            <a:off x="6084720" y="5084280"/>
            <a:ext cx="187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 flipV="1">
            <a:off x="973080" y="4581360"/>
            <a:ext cx="93492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V="1">
            <a:off x="973080" y="5734080"/>
            <a:ext cx="30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7524720" y="2925720"/>
            <a:ext cx="504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5076360" y="2276640"/>
            <a:ext cx="64764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96720" y="198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Heavy"/>
              </a:rPr>
              <a:t>Ось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541440" y="6021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Heavy"/>
              </a:rPr>
              <a:t>Подписи о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932360" y="162864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Heavy"/>
              </a:rPr>
              <a:t>Название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740720" y="227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Heavy"/>
              </a:rPr>
              <a:t>Леге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1187280" y="260280"/>
            <a:ext cx="712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285840" y="4287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Franklin Gothic Heavy"/>
              </a:rPr>
              <a:t>Основные элементы диа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7885080" y="522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Heavy"/>
              </a:rPr>
              <a:t>Ось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ХАРАКТЕРИСТИКА ДИА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15200" cy="4748040"/>
        </p:xfrm>
        <a:graphic>
          <a:graphicData uri="http://schemas.openxmlformats.org/drawingml/2006/table">
            <a:tbl>
              <a:tblPr/>
              <a:tblGrid>
                <a:gridCol w="2819520"/>
                <a:gridCol w="1798560"/>
                <a:gridCol w="1798560"/>
                <a:gridCol w="1798560"/>
              </a:tblGrid>
              <a:tr h="88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ст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овая диа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ляд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редня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ысо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из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в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редня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из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ысо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я анали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ред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из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ысо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и выявления процентных со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ред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ысо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из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64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93"/>
                </a:solidFill>
                <a:latin typeface="Arial"/>
              </a:rPr>
              <a:t>Алгоритм построени</a:t>
            </a: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я</a:t>
            </a:r>
            <a:r>
              <a:rPr b="1" lang="uk-UA" sz="3600" spc="-1" strike="noStrike">
                <a:solidFill>
                  <a:srgbClr val="d60093"/>
                </a:solidFill>
                <a:latin typeface="Arial"/>
              </a:rPr>
              <a:t> диаграмм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Ввести в таблицу д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Выделить необходимый  диапазон д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Вызвать Мастера диаграмм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    (на панели инструментов или Вставка-Диаграмма) и выполнить его у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рать тип диа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рать отображение данных (в строках или столбц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лнить параметры диаграммы (заголовок, название осей категорий, данных, подписи данных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рать место размещения диаграммы (на отдельном листе или на имеющем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С помощью контекстного меню отформатировать элементы ди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5867280" y="206064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Этапы создания диаграммы: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. Построить таблицу данны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48400" cy="2835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Обуч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комить учащихся с возможностями электронной таблицы EXCEL при создании элементов деловой графики – диаграмм и граф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еть виды диаграмм и их применение при решении зад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выков индивидуальной и групповой практиче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умений применять знания для решения задач различного рода с помощью электронных табли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Воспит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 творческого подхода к работе, желания экспериментир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ессиональная ориентация и подготовка к дальнейшему самообразованию к будущей трудов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Этапы создания диаграммы: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2. Выделить объект, содержащий данные для ее постро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194680" cy="3031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Этапы создания диаграмм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3. Нажать кнопку Мастер диаграмм на панели инструментов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>
            <a:lum contrast="6000"/>
          </a:blip>
          <a:srcRect l="0" t="-9042" r="154" b="0"/>
          <a:stretch/>
        </p:blipFill>
        <p:spPr>
          <a:xfrm>
            <a:off x="468360" y="2060640"/>
            <a:ext cx="8064360" cy="838080"/>
          </a:xfrm>
          <a:prstGeom prst="rect">
            <a:avLst/>
          </a:prstGeom>
          <a:ln w="0">
            <a:noFill/>
          </a:ln>
        </p:spPr>
      </p:pic>
      <p:sp>
        <p:nvSpPr>
          <p:cNvPr id="144" name="Line 5"/>
          <p:cNvSpPr/>
          <p:nvPr/>
        </p:nvSpPr>
        <p:spPr>
          <a:xfrm flipH="1" flipV="1">
            <a:off x="5003640" y="2924280"/>
            <a:ext cx="432000" cy="129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281040" y="4221000"/>
            <a:ext cx="21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тер диа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824840" y="541980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выбрать в меню Вставка - Диа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Этапы создания диаграммы: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4. Выбрать тип диаграммы из предлагаемого набор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rcRect l="0" t="-2477" r="0" b="0"/>
          <a:stretch/>
        </p:blipFill>
        <p:spPr>
          <a:xfrm>
            <a:off x="2340000" y="1989000"/>
            <a:ext cx="529416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Этапы создания диаграммы: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5. Поскольку диапазон был выделен ранее, то ничего менять не нужн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525780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Этапы создания диаграммы: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точнить детали отображения диаграммы. Изменить формат диаграммы и легенды.</a:t>
            </a:r>
            <a:br>
              <a:rPr sz="1700"/>
            </a:br>
            <a:r>
              <a:rPr b="0" i="1" lang="ru-RU" sz="1700" spc="-1" strike="noStrike">
                <a:solidFill>
                  <a:srgbClr val="993300"/>
                </a:solidFill>
                <a:latin typeface="Arial"/>
              </a:rPr>
              <a:t>Заголовк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 Служит для ввода названия диаграммы и координатных ос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2"/>
          <a:srcRect l="-2926" t="0" r="0" b="0"/>
          <a:stretch/>
        </p:blipFill>
        <p:spPr>
          <a:xfrm>
            <a:off x="324000" y="1557360"/>
            <a:ext cx="525600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Этапы создания диаграмм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Определить, где разместить диаграмму: на отдельном листе или на листе вместе с да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3924360" y="1557360"/>
            <a:ext cx="4495680" cy="3252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В результате мы получим диаграм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rcRect l="1981" t="3580" r="6182" b="10774"/>
          <a:stretch/>
        </p:blipFill>
        <p:spPr>
          <a:xfrm>
            <a:off x="1476360" y="1628640"/>
            <a:ext cx="6553080" cy="3889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Редактирование диа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дактирование готовой диа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Выделите область диаграммы: щелкните левой кнопкой мыши на границе области диа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Повторите любой шаг (1 – 4) построения диаграммы. Для этог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выберите команду меню Диаграм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выберите нужный шаг (Тип диаграммы, Исходные данные, Параметры диаграммы, Размещен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внести изме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щелкните на кнопке 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дактирование отдельных элементов диа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Изменение элемента диа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выделите отдельный элемен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щелкните правой кнопкой мыши (вызов контекстного меню для элемент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выберите нужный пункт мен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внесите изме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щелкните на кнопке 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Удаление выделенной диаграммы: нажмите клавишу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el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Редактирование диа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актирование диаграммы производится с помощью команд контекстного меню, позволяющих изменять ее параметры: заголовки, легенду, подписи рядов и данных. Можно добавлять новые данные для построения диаграммы или удалять ранее построенные диа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74328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826920" y="1557360"/>
            <a:ext cx="763272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ДАЧИ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817560"/>
            <a:ext cx="82692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Деловая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граф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од термином деловая графика понимаются графики и диаграммы, наглядно представляющие динамику развития того или иного производства, отрасли и любые другие числовые данны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50"/>
                            </p:stCondLst>
                            <p:childTnLst>
                              <p:par>
                                <p:cTn id="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474840"/>
            <a:ext cx="877428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Возможности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Excel </a:t>
            </a: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для создания деловой граф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44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С помощью богатой библиотеки диаграмм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можно составлять диаграммы и графики разных видов: гистограммы, круговые диаграммы, столбчатые, графики и др., их можно снабжать заголовками и пояснениями, можно задавать цвет и вид штриховки в диаграммах, печатать их на бумаге, изменяя размеры и расположение на листе, и вставлять диаграммы в нужное место л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Диаграммы</a:t>
            </a:r>
            <a:br>
              <a:rPr sz="4800"/>
            </a:b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(историческая справка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́м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греч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Διάγραμμα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diagramm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—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изображение,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рисунок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чертёж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— графическое представление числовых данных, позволяющее быстро оценить соотношение нескольких величин. Представляет собой геометрическое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симво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зображение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информации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рименением различных приёмов техники визу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Историческая справ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ри Лоренс Гант (Henry Laurence Gantt) (1861-1919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ыл американским инженером-механиком и консультантом по вопросам управления. Он известен как разработчик диаграммы Ганта в 1910-е гг. Диаграммы Ганта использовались для работы над крупнейшими инфраструктурными проектами  включая плотины Гувера и системы скоростных шоссе в США и продолжают оставаться важнейшим инструментом в управл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60072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Историческая справка</a:t>
            </a:r>
            <a:br>
              <a:rPr sz="4400"/>
            </a:b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Диаграмма  Г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3456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а Гант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 сих пор остается в качестве важного инструмента управления, оно обеспечивает графическое отображение плана работ, удобное для контроля и отслеживания прогресса выполненных задач.  Сегодня классическую диаграмму Ганта сменяет ее современная вариация программа оценки и анализа (ПЭР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Историческая справ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rogram Evaluation and Review Techniqu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окращенн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ER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 — техника оценки и анализа программ, которая используется при </a:t>
            </a: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</a:rPr>
              <a:t>управлении проект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Была разработана в </a:t>
            </a:r>
            <a:r>
              <a:rPr b="0" lang="ru-RU" sz="1800" spc="-1" strike="noStrike">
                <a:solidFill>
                  <a:srgbClr val="99cc00"/>
                </a:solidFill>
                <a:latin typeface="Arial"/>
              </a:rPr>
              <a:t>1958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нсалтинговой фирмой «</a:t>
            </a: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</a:rPr>
              <a:t>Буз, Ален и Гамильт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совместно с корпорацией «</a:t>
            </a: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</a:rPr>
              <a:t>Локхи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по заказу Подразделения специальных проектов </a:t>
            </a: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</a:rPr>
              <a:t>ВМС СШ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оставе </a:t>
            </a: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</a:rPr>
              <a:t>Министерства Обороны СШ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проекта создания ракетной системы «Поларис» (Polaris). Проект «Поларис» был ответом на кризис, наступивший после запуска </a:t>
            </a: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</a:rPr>
              <a:t>Советским Союзом спу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http://upload.wikimedia.org/wikipedia/commons/b/b9/Pert_chart_colored.gif"/>
          <p:cNvPicPr/>
          <p:nvPr/>
        </p:nvPicPr>
        <p:blipFill>
          <a:blip r:embed="rId1"/>
          <a:stretch/>
        </p:blipFill>
        <p:spPr>
          <a:xfrm>
            <a:off x="539640" y="1628640"/>
            <a:ext cx="340848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5:09:00Z</dcterms:created>
  <dc:creator>Admin</dc:creator>
  <dc:description/>
  <dc:language>en-US</dc:language>
  <cp:lastModifiedBy>Admin</cp:lastModifiedBy>
  <dcterms:modified xsi:type="dcterms:W3CDTF">2011-06-20T16:05:23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0b000000000001024140</vt:lpwstr>
  </property>
</Properties>
</file>