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E1F-6658-44A3-B0A8-65A7D4F9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23E0-CDBC-483D-A96F-4C3E26BF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914-C3BE-4142-A21D-925A3D0C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A2B-C625-46A0-8FE1-57366357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14D-11D0-4C3A-87D9-6F2F2D6B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266-54DD-40B2-B283-0AFDA3FA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BAA9-73BB-48EE-80D6-4A207A1E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2C6-F849-4D33-A456-8BB06C57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6ED9-956E-437A-8049-0BCD0415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B07-B525-4D38-9338-999E5282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8352-3DE5-46C4-8500-D6CB2B11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C9A-CFFF-49A7-9AA9-2A8C74AF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4113-9C61-4233-A6E7-C89832A224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189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ракти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4000" y="1052640"/>
            <a:ext cx="835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buClr>
                <a:srgbClr val="19605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Arial"/>
              </a:rPr>
              <a:t>Создайте приложение </a:t>
            </a:r>
            <a:r>
              <a:rPr b="1" lang="en-US" sz="2800" spc="-1" strike="noStrike">
                <a:solidFill>
                  <a:srgbClr val="196051"/>
                </a:solidFill>
                <a:latin typeface="Arial"/>
              </a:rPr>
              <a:t>Windows Forms</a:t>
            </a:r>
            <a:r>
              <a:rPr b="1" lang="ru-RU" sz="2800" spc="-1" strike="noStrike">
                <a:solidFill>
                  <a:srgbClr val="19605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196051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Для Формы измен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179640">
              <a:lnSpc>
                <a:spcPct val="100000"/>
              </a:lnSpc>
              <a:buClr>
                <a:srgbClr val="19605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И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179640">
              <a:lnSpc>
                <a:spcPct val="100000"/>
              </a:lnSpc>
              <a:buClr>
                <a:srgbClr val="19605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179640">
              <a:lnSpc>
                <a:spcPct val="100000"/>
              </a:lnSpc>
              <a:buClr>
                <a:srgbClr val="19605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Раз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179640">
              <a:lnSpc>
                <a:spcPct val="100000"/>
              </a:lnSpc>
              <a:buClr>
                <a:srgbClr val="19605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Разме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179640">
              <a:lnSpc>
                <a:spcPct val="100000"/>
              </a:lnSpc>
              <a:buClr>
                <a:srgbClr val="19605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Гра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196051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Расположить на Форме рису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196051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Установить прозрачность Формы 5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196051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Запустите прило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17:29:19Z</dcterms:created>
  <dc:creator>User</dc:creator>
  <dc:description/>
  <dc:language>en-US</dc:language>
  <cp:lastModifiedBy>***</cp:lastModifiedBy>
  <dcterms:modified xsi:type="dcterms:W3CDTF">2011-06-16T09:35:54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1000000000001024140</vt:lpwstr>
  </property>
</Properties>
</file>