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419-1FB2-4D52-8536-51F5A321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45A4-80FA-487A-8028-C7D2AED3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84F-DB37-4904-873E-2F9154BD9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B83-FB66-4C3A-BA69-08C168343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7F9C-9B83-4590-8530-0AA5462C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7FBD-A3A4-473C-A5D5-0720D634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8AE-6999-4B8E-B3FD-D6D7C6E4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305-289D-4BD5-88DD-82FBD8C2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4836-97B6-4598-8056-64BB7261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1F19-B8D6-48BC-AA78-191AE1A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5CB-7B4A-4A41-800C-CDFFC80A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EB5D-67FF-48DC-A794-D0A6F66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A926-D691-460F-B8E5-F6B8A5C6D4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95280" y="1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рактическая рабо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24000" y="1052640"/>
            <a:ext cx="835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196051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Создайте приложение </a:t>
            </a:r>
            <a:r>
              <a:rPr b="1" lang="en-US" sz="2800" spc="-1" strike="noStrike">
                <a:solidFill>
                  <a:srgbClr val="196051"/>
                </a:solidFill>
                <a:latin typeface="Arial"/>
              </a:rPr>
              <a:t>Windows Forms</a:t>
            </a:r>
            <a:r>
              <a:rPr b="1" lang="ru-RU" sz="2800" spc="-1" strike="noStrike">
                <a:solidFill>
                  <a:srgbClr val="196051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Для Формы измени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И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зме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179640">
              <a:lnSpc>
                <a:spcPct val="100000"/>
              </a:lnSpc>
              <a:buClr>
                <a:srgbClr val="196051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Гран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Расположить на Форме рисун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Установить прозрачность Формы 5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buClr>
                <a:srgbClr val="196051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96051"/>
                </a:solidFill>
                <a:latin typeface="Verdana"/>
              </a:rPr>
              <a:t>Запустите прилож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5T17:29:19Z</dcterms:created>
  <dc:creator>User</dc:creator>
  <dc:description/>
  <dc:language>en-US</dc:language>
  <cp:lastModifiedBy>***</cp:lastModifiedBy>
  <dcterms:modified xsi:type="dcterms:W3CDTF">2011-06-16T09:35:54Z</dcterms:modified>
  <cp:revision>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1000000000001024140</vt:lpwstr>
  </property>
</Properties>
</file>