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1BC-15A9-4041-99EA-95B2400C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BB4-1AC5-41C3-8A31-6BE86D32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A04-F027-4EAB-98AF-0290D864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E4A-F0BB-4995-84DF-456EA99A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D8D-E98C-4603-AA40-47CF4FC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1EE-BCF1-4CD8-A325-5B54FE8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198-AF9B-43C2-8A97-B08962F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461-7FA7-41D1-84C7-DF8F496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B93-FD1D-496D-BF7E-88A59C8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285-C610-4999-B313-AA05391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F9D-5CFA-4CCF-A023-27E27A4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A73-E020-45D0-ACF6-A68E3D7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874D-D024-45A2-8F25-686EEBB28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0526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19605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Создайте приложение </a:t>
            </a:r>
            <a:r>
              <a:rPr b="1" lang="en-US" sz="2800" spc="-1" strike="noStrike">
                <a:solidFill>
                  <a:srgbClr val="196051"/>
                </a:solidFill>
                <a:latin typeface="Arial"/>
              </a:rPr>
              <a:t>Windows Forms</a:t>
            </a: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Для Формы изме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Г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сположить на Форме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Установить прозрачность Формы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Запустите при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29:19Z</dcterms:created>
  <dc:creator>User</dc:creator>
  <dc:description/>
  <dc:language>en-US</dc:language>
  <cp:lastModifiedBy>***</cp:lastModifiedBy>
  <dcterms:modified xsi:type="dcterms:W3CDTF">2011-06-16T09:35:5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1000000000001024140</vt:lpwstr>
  </property>
</Properties>
</file>