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199-07D2-4CE9-B367-323B75F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6E9-DB47-401E-9632-50B8140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711-012B-410D-828E-CB305AB8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24A-DCAF-4A40-84B4-F65B75D5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892-C4C4-43F2-8BD9-CE6DC1BB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BE7-BB7B-4D89-BD56-91C0A212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BDF-70AF-4258-85F0-31D5323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4A3-F814-4111-A6CF-473E886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748-16D0-43D6-BFB6-7E1BE62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7BA-4FB1-41F6-A72A-E600957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882-B57E-4182-B904-77E6287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E12-5494-43BC-8EBA-4D985C7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0FDA-4269-434F-94CC-E4A419BD2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0526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19605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Создайте приложение </a:t>
            </a:r>
            <a:r>
              <a:rPr b="1" lang="en-US" sz="2800" spc="-1" strike="noStrike">
                <a:solidFill>
                  <a:srgbClr val="196051"/>
                </a:solidFill>
                <a:latin typeface="Arial"/>
              </a:rPr>
              <a:t>Windows Forms</a:t>
            </a: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Для Формы изме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Г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сположить на Форме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Установить прозрачность Формы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Запустите при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29:19Z</dcterms:created>
  <dc:creator>User</dc:creator>
  <dc:description/>
  <dc:language>en-US</dc:language>
  <cp:lastModifiedBy>***</cp:lastModifiedBy>
  <dcterms:modified xsi:type="dcterms:W3CDTF">2011-06-16T09:35:5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1000000000001024140</vt:lpwstr>
  </property>
</Properties>
</file>