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1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0A6E-F15D-46BD-BB88-1B8A02CCF2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984F-14CC-466C-8CC2-57F3057DFE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9A09-83E5-414F-8166-70D4437166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9891-A8A9-4580-BCE4-63BB138840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9167-64F4-40A1-95AA-4DC19BC1C2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9269-40F8-4892-A976-662BD04657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E235-B1CD-491E-B2C9-915A1C281B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261B-90F1-4A5F-B4AD-C0865820B2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05B-C86F-4BBB-ABCD-414C83BD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5F2-E99A-4F94-B815-F657A7F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E69-8B05-47F1-B50F-546ED772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1DE-F02E-48D9-950A-547CC5E6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F042-0FE0-4D93-84F5-0F5999B3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4DFF-EC3C-4241-AEC2-76986D06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BA1F-3916-43E8-A305-94104063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EB27-F8F4-476A-80B6-B9FA27A9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38CA-C19C-4077-8315-C016852C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44DC-690B-4937-99EE-3EF6EB5F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5BC5-07F0-4776-875E-B4AA708B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7C7-2F2E-4EE0-9905-A9A698FF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060F-ADE1-4C2D-94FE-30E03B20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50F4-4D14-4F3D-AD89-09F23E7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5666-8819-408B-B875-3BED4E5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9A7D-A3DE-4AF6-89E7-863A4398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E5A-EE09-4D85-9FEC-9A52F2DA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25E93-F8B8-46D8-B4F7-98CE3B13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2B8A-7E8E-4998-AD22-58D7A5BF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F9FB1-C101-4FC8-9C7C-D297D22F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79A2-76C2-44BC-A6EE-02EB18B3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349A-B69C-4FA8-81C7-8734661D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BD6-33AE-4DEC-B57A-C8219944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48A0-6B1A-44F2-BECA-EB455492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C751-B475-45AB-A353-073721DD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0E29-50F9-4318-ABF8-A9FBEDB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4AD7-E2F9-43E0-963A-5DBB37DA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041B-6194-40E6-81B3-A91889E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F9D6-2804-4D21-BE1B-BE14B0AA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5274-C09A-4CEF-9C8B-FE69B02B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AA58-A928-4AE2-95A1-C48F77EC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C721-877A-440A-821A-AAC8C186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BA3D7-091A-431A-A8EE-5A9069FC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668-04D6-49DD-B8EF-4292C993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A58A-30A0-43D1-8546-A81FE7B8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76D81-158B-4C5E-A169-9C0DA9EF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C5DC-BB5F-4A6B-9018-F32B68AE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0D2DC-B97C-458A-B83C-CA5FF10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213E4-F5D2-402A-8493-AD4D579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7167-1D71-4EAB-9339-89453F7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4747-B60E-4B9B-846D-5877C17C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B6283-7BE0-443C-A8A9-A828577E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5B3F9-48F9-4C3E-9D7F-0B0BE6C9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5455-935F-42EE-B7B8-2C3E02BD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288-25EB-45A3-BF27-6BD79C0D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ACAA6-30DE-405F-A077-299AA594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32332-B80E-49E2-B6E2-B9162A23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B7C42-E7D9-4FD9-88D6-711A1E6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1EF77-C5C4-4F87-AB94-3CF975E2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BF3D9-46BF-4BB5-8EA2-4B80F733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CD1C-FA88-40B2-BD80-0D1BBF57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B0773-C6F3-4FC1-A189-89B41634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030E6-161D-49E1-8646-5C2EDD8E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75A27-BFB7-493E-BCC3-D0551534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F29EE-186A-4B2B-8945-8511F2A8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75C-5862-4421-B896-B647AD87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487CC-C51A-47B4-9195-ADE701B6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49A30-0DDD-4D72-A7B3-6C53FCEB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FC697-EAC5-42FD-B330-BC1F2171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BEF3C-C0FB-4C4E-8289-B5A0AA47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802F0-1CF4-4944-80C8-335FF06C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FD6B8-751A-4F55-A638-3A872680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3B550-DB8F-416C-8418-693CB2A6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AD0A9-5E8D-4140-8AC2-A63A94D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785E3-F343-42E4-A2F0-A63734C0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333004-886D-4728-9CBC-35EC1D81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87F-0772-4352-B074-B4B4FA30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2B5EB-977D-40E7-A657-A2FC5C44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4CEC8-6E09-48BF-A0F5-B022F7ED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DEE00-17BB-4EB8-ABC2-AAF7E48B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DC6B0-69BC-4518-9024-E5206FA1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1524D-5DB2-40F0-B0E8-60ABB620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D3D5B-EF9D-464C-B086-638E8D8D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A5CF6-BDD6-4C20-9D18-A962F2EC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70054-90D9-4C35-96D9-6A304ACF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9F429-5DC8-440B-AF20-B9A6FB27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3911B-6253-459A-AB4E-AC87A0E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C7C-B90F-475E-B386-3E15A19E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D0197-97E4-41D3-9059-D842416A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F5FB5-EA28-4C90-87CC-35219002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713C8-148F-4F78-9000-9B79FF2A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61CBD-D125-4252-9E91-EA511DA0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4DD9-837D-48CF-AF70-D3BE2693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8B7-B6A3-48C7-8B4A-4121FD0A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04DD-78CC-47AE-AB8A-3DB9D41BEAE3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176D-21D7-4127-8806-55447187888B}" type="slidenum">
              <a:rPr b="0" lang="ru-RU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B2AF-B265-4E96-AE6B-E94AF0A56D73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B2EF-B638-4717-950E-5C71B166FECB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7376-9D08-42D3-8EE9-A29748319D27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72BE-8D33-4E67-BBD2-AFE135AE6109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39E8-09FD-4A81-BE17-198AA101C01C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1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ХАРАКТЕРНЫЕ ПРИЗНАКИ ЖАНРОВ ХОРОВОЙ МУЗЫКИ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(ЛИТУРГИИ, РЕКВИЕМА)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 В СООТВЕТСТВИИ С ИХ НАЗНАЧЕНИЕМ 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752120"/>
            <a:ext cx="8640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382d"/>
                </a:solidFill>
                <a:latin typeface="Book Antiqua"/>
              </a:rPr>
              <a:t>ПРЕЗЕНТАЦИЯ</a:t>
            </a:r>
            <a:br>
              <a:rPr sz="2200"/>
            </a:br>
            <a:r>
              <a:rPr b="1" lang="ru-RU" sz="1900" spc="-1" strike="noStrike">
                <a:solidFill>
                  <a:srgbClr val="40382d"/>
                </a:solidFill>
                <a:latin typeface="Book Antiqua"/>
              </a:rPr>
              <a:t>к уроку  музыкального искусства в 6 классе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382d"/>
                </a:solidFill>
                <a:latin typeface="Book Antiqua"/>
              </a:rPr>
              <a:t>Составитель: учитель музыкального искусства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382d"/>
                </a:solidFill>
                <a:latin typeface="Book Antiqua"/>
              </a:rPr>
              <a:t> </a:t>
            </a:r>
            <a:r>
              <a:rPr b="1" lang="ru-RU" sz="1900" spc="-1" strike="noStrike">
                <a:solidFill>
                  <a:srgbClr val="40382d"/>
                </a:solidFill>
                <a:latin typeface="Book Antiqua"/>
              </a:rPr>
              <a:t>Донецкой общеобразовательной школы № 72                                                                Яковенко О.М.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382d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1692360" y="2492280"/>
            <a:ext cx="5688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РОДИЛСЯ ОН В СЕМЬЕ ТАЛАНТЛИВОГО МУЗЫКАНТА, КОМПОЗИТОРА И ПЕДАГОГА ЛЕОПОЛЬДА МОЦАРТА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324000" y="1752480"/>
            <a:ext cx="849600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ИНТЕРЕС К МУЗЫКАЛЬНОМУ ТВОРЧЕСТВУ  ПРОЯВИЛСЯ У ВОЛЬФГАНГА С РАННЕГО ДЕТСТВА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1979640" y="1752480"/>
            <a:ext cx="5184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МОЦАРТ БЫЛ  НЕОБЫЧАЙНО ТАЛАНТЛИВЫМ И В ТОЖЕ ВРЕМЯ ОЧЕНЬ ТРУДОЛЮБИВЫМ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569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ВЫСКАЗЫВАНИЯ ИЗВЕСТНЫХ ЛЮДЕЙ О МОЦАРТЕ</a:t>
            </a:r>
            <a:r>
              <a:rPr b="1" lang="en-US" sz="2000" spc="-1" strike="noStrike">
                <a:solidFill>
                  <a:srgbClr val="40382d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92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«Слушая его музыку, я как будто совершаю хороший поступок»</a:t>
            </a:r>
            <a:br>
              <a:rPr sz="2200"/>
            </a:b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                                               </a:t>
            </a:r>
            <a:r>
              <a:rPr b="1" lang="en-US" sz="2200" spc="-1" strike="noStrike">
                <a:solidFill>
                  <a:srgbClr val="40382d"/>
                </a:solidFill>
                <a:latin typeface="Book Antiqua"/>
              </a:rPr>
              <a:t>                  </a:t>
            </a: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         П.И. Чайковский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 </a:t>
            </a: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« По моему глубокому убеждению, Моцарт есть высшая, кульминационная точка, до которой красота достигала в сфере музыки».    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                                                 </a:t>
            </a:r>
            <a:r>
              <a:rPr b="1" lang="en-US" sz="2200" spc="-1" strike="noStrike">
                <a:solidFill>
                  <a:srgbClr val="40382d"/>
                </a:solidFill>
                <a:latin typeface="Book Antiqua"/>
              </a:rPr>
              <a:t>                 </a:t>
            </a: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        </a:t>
            </a: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П.И. Чайковский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«Моцарт — это мост между космосом и нашей жизнью»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                                                   </a:t>
            </a:r>
            <a:r>
              <a:rPr b="1" lang="en-US" sz="2200" spc="-1" strike="noStrike">
                <a:solidFill>
                  <a:srgbClr val="40382d"/>
                </a:solidFill>
                <a:latin typeface="Book Antiqua"/>
              </a:rPr>
              <a:t>               </a:t>
            </a: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         </a:t>
            </a: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Анатоль Франц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«Многим поколениям он дал и даст утешение и исцеление»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                                                        </a:t>
            </a:r>
            <a:r>
              <a:rPr b="1" lang="en-US" sz="2200" spc="-1" strike="noStrike">
                <a:solidFill>
                  <a:srgbClr val="40382d"/>
                </a:solidFill>
                <a:latin typeface="Book Antiqua"/>
              </a:rPr>
              <a:t>           </a:t>
            </a: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         </a:t>
            </a: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Эдвард Григ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МОЦАРТ НАЧАЛ РАБОТУ НАД «РЕКВИЕМОМ», НО ПРОИЗВЕДЕНИЕ ДАВАЛОСЬ С БОЛЬШИМ ТРУДОМ –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МНОГО ЖИЗНЕННЫХ СИЛ ЗАБИРАЛО НАПИСАНИЕ ЕГО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МОЦАРТ БУКВАЛЬНО УГАСАЛ С КАЖДЫМ НОВЫМ ФРАГМЕНТОМ ПРОИЗВЕДЕНИЯ, И УМЕР, 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ТАК И НЕ ДОПИСАВ ЕГО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324000" y="1752480"/>
            <a:ext cx="849600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РЕКВИЕМ БЫЛ ЗАВЕРШЕН ПОЗДНЕЕ УЧЕНИКОМ МОЦАРТА Ф.К. ЗЮСМАЙРОМ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56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ВЕЛИЧЕСТВЕННОЕ И ТРОГАТЕЛЬНОЕ ЗВУЧАНИЕ РЕКВИЕМА НЕСЕТ В СЕБЕ ГЛУБОКОЕ ЧУВСТВО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ЛЮБВИ КОМПОЗИТОРА К ЛЮДЯМ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РЕКВИЕМ - ТРАУРНАЯ ЗАУПОКОЙНАЯ МЕССА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 В РИМСКО-КАТОЛИЧЕСКОЙ ЦЕРКВИ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В ПРАВОСЛАВНЫХ ХРАМАХ, ПОДОБНАЯ ПО ЗНАЧЕНИЮ,  ПАНИХИДА, ОДНАКО ОНА ЗНАЧИТЕЛЬНО ОТЛИЧАЕТСЯ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ОТ РЕКВИЕМА ПО ФОРМЕ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642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ЦЕЛЬ ЛЮБОЙ МУЗЫКИ  −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ОЧИЩЕНИЕ ЧЕЛОВЕЧЕСКОЙ ДУШИ</a:t>
            </a:r>
            <a:r>
              <a:rPr b="1" lang="en-US" sz="2000" spc="-1" strike="noStrike">
                <a:solidFill>
                  <a:srgbClr val="40382d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                                                                   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                                                                                                            И.С.БАХ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464000" cy="4373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3"/>
          <a:stretch/>
        </p:blipFill>
        <p:spPr>
          <a:xfrm>
            <a:off x="2708280" y="2068560"/>
            <a:ext cx="44640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РЕКВИЕМ ПРЕВРАТИЛСЯ В БОЛЬШУЮ ЦИКЛИЧЕСКУЮ ФОРМУ ДЛЯ ХОРА, СОЛИСТОВ И ОРКЕСТРА 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СЕДЬМАЯ ЧАСТЬ РЕКВИЕМА – ГЕНИАЛЬНАЯ LACRIMOSA  (В ПЕРЕВОДЕ С  ЛАТЫНИ: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«СКОРБНАЯ», «СЛЕЗНАЯ») 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864216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РЕКВИЕМ СТАЛ «ПРОЩАЛЬНЫМ СЛОВОМ» И ДУХОВНЫМ ЗАВЕЩАНИЕМ ВЕЛИКОГО </a:t>
            </a: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КОМПОЗИТОРА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НАИЛУЧШИЕ ОБРАЗЦЫ ЭТОГО МУЗЫКАЛЬНОГО ЖАНРА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СОЗДАНЫ И ДРУГИМИ  КОМПОЗИТОРАМИ – КЛАССИКАМИ:    Г. БЕРЛИОЗОМ,  Д. КАБАЛЕВСКИМ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141800" cy="4897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3"/>
          <a:stretch/>
        </p:blipFill>
        <p:spPr>
          <a:xfrm>
            <a:off x="4572000" y="1671480"/>
            <a:ext cx="4248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В ДУХОВНОЙ ЖИЗНИ ПРАВОСЛАВНЫХ ХРИСТИАН ЦЕНТРАЛЬНОЕ МЕСТО ЗАНИМАЕТ ЛИТУРГИЯ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50920" y="1752480"/>
            <a:ext cx="864216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920" y="407520"/>
            <a:ext cx="864216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ИСТОРИЯ ЛИТУРГИИ ВОСХОДИТ К ТАЙНОЙ ВЕЧЕРЕ, КОГДА ХРИСТОС ПЕРВЫЙ РАЗ ПРИЧАСТИЛ СВОИХ УЧЕНИКОВ, ПОКАЗАВ БЕСКРОВНУЮ ЖЕРТВУ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 (ТАИНСТВО ЕВХАРИСТИИ)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6421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ПЕРВЫМ СОСТАВИЛ ПОСЛЕДОВАТЕЛЬНОСТЬ ЛИТУРГИИ АПОСТОЛ ИАКОВ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590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В  IVВ. СОКРАЩЕННЫЙ ВАРИАНТ ЛИТУРГИИ ЗАПИСАЛ СВЯТИТЕЛЬ ВАСИЛИЙ ВЕЛИКИЙ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32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СВЯТИТЕЛЬ ИОАНН ЗЛАТОУСТ (IVВ.) СДЕЛАЛ ЕЩЕ БОЛЕЕ СОКРАЩЕННЫЙ ЧИН ЛИТУРГИИ, КОТОРЫЙ И ЯВЛЯЕТСЯ ОСНОВНЫМ В ПРАКТИКЕ ПРАВОСЛАВНОЙ ЦЕРКВИ 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61672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ЛИТУРГИЯ (ГРЕЧ. LEITURGIA, ДОСЛОВНО – ОБЩЕСТВЕННОЕ СЛУЖЕНИЕ) - ТОРЖЕСТВЕННОЕ БОГОСЛУЖЕНИЕ У ХРИСТИАН, СОПРОВОЖДАЮЩЕЕСЯ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 ЧТЕНИЕМ, ПЕНИЕМ И МОЛИТВАМИ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4962600" y="1752480"/>
            <a:ext cx="3960720" cy="4845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3"/>
          <a:stretch/>
        </p:blipFill>
        <p:spPr>
          <a:xfrm>
            <a:off x="243000" y="1700280"/>
            <a:ext cx="4689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85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ИТАЛИЯ С ДАВНИХ ВРЕМЕН СЛАВИЛАСЬ СВОИМИ МУЗЫКАЛЬНЫМИ ДОСТИЖЕНИЯМИ 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Book Antiqua"/>
              </a:rPr>
              <a:t>К ЖАНРУ ЛИТУРГИИ ОБРАЩАЛОСЬ МНОГО ВЫДАЮЩИХСЯ КОМПОЗИТОРОВ - КЛАССИКОВ И СОВРЕМЕННЫХ КОМПОЗИТОРОВ</a:t>
            </a:r>
            <a:r>
              <a:rPr b="0" lang="ru-RU" sz="3200" spc="-1" strike="noStrike">
                <a:solidFill>
                  <a:srgbClr val="0d0d0d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248360" cy="4897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450036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Book Antiqua"/>
              </a:rPr>
              <a:t>КЛАССИК  И РЕФОРМАТОР  ДУХОВНОЙ ПРАВОСЛАВНОЙ МУЗЫКИ  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Book Antiqua"/>
              </a:rPr>
              <a:t>Д. БОРТНЯНСКИЙ (1751 – 1825)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808360" cy="4824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3"/>
          <a:stretch/>
        </p:blipFill>
        <p:spPr>
          <a:xfrm>
            <a:off x="3132000" y="1952640"/>
            <a:ext cx="3384720" cy="4699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4"/>
          <a:stretch/>
        </p:blipFill>
        <p:spPr>
          <a:xfrm>
            <a:off x="158760" y="1619280"/>
            <a:ext cx="30448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517680"/>
            <a:ext cx="825984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ЕГО ТВОРЧЕСТВО ЯВЛЯЕТСЯ ВЕРШИНОЙ РУССКОЙ МУЗЫКАЛЬНОЙ КУЛЬТУРЫ XVIII В.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130320" y="1795320"/>
            <a:ext cx="3958920" cy="4916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3"/>
          <a:stretch/>
        </p:blipFill>
        <p:spPr>
          <a:xfrm>
            <a:off x="3959280" y="1736640"/>
            <a:ext cx="5040360" cy="4969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4"/>
          <a:stretch/>
        </p:blipFill>
        <p:spPr>
          <a:xfrm>
            <a:off x="130320" y="1736640"/>
            <a:ext cx="39589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КОМПОЗИТОР  СМОГ РАЗВИТЬ И ОБОГАТИТЬ ПО СОДЕРЖАНИЮ И ФОРМЕ 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БОЛЬШИНСТВО ЖАНРОВ ХОРОВОЙ МУЗЫКИ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85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Д. БОРТНЯНСКИЙ СТАЛ ПЕРВЫМ РУКОВОДИТЕЛЕМ ПРИДВОРНОЙ ПЕВЧЕСКОЙ КАПЕЛЛЫ В ПЕТЕРБУРГЕ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642160" cy="489744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3"/>
          <p:cNvSpPr/>
          <p:nvPr/>
        </p:nvSpPr>
        <p:spPr>
          <a:xfrm>
            <a:off x="3892680" y="32446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Бортнянс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ХОРОВОЙ КОНЦЕРТ – СТАРИННЫЙ ЖАНР ДУХОВНОЙ МУЗЫКИ, ПОЛИФОНИЧЕСКОЕ ВОКАЛЬНОЕ ИЛИ ВОКАЛЬНО – ИНСТРУМЕНТАЛЬНОЕ </a:t>
            </a:r>
            <a:r>
              <a:rPr b="1" lang="ru-RU" sz="3200" spc="-1" strike="noStrike">
                <a:solidFill>
                  <a:srgbClr val="40382d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ПРОИЗВЕДЕНИЕ 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713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560" y="407880"/>
            <a:ext cx="87138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ВО ДВОРЦЕ КУЛЬТУРЫ ЧАО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«МАКЕЕВСКИЙ МЕТАЛЛУРГИЧЕСКИЙ ЗАВОД» 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ЕЖЕГОДНО ПРОВОДИТСЯ 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 «ВЕСЕННИЙ БЛАГОВЕСТ»</a:t>
            </a:r>
            <a:br>
              <a:rPr sz="20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878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ХОРОВОЕ ПЕНИЕ – ОДНО ИЗ ДРЕВНЕЙШИХ ИСКУССТВ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40382d"/>
                </a:solidFill>
                <a:latin typeface="Book Antiqua"/>
              </a:rPr>
              <a:t>Оно тесно переплетается с самой жизнью, входит в нее как неотъемлемая часть, объединяя чувства, мысли и вол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82d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40382d"/>
                </a:solidFill>
                <a:latin typeface="Book Antiqua"/>
              </a:rPr>
              <a:t>поющих людей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82d"/>
                </a:solidFill>
                <a:latin typeface="Book Antiqua"/>
              </a:rPr>
              <a:t>Хоровое пение – это богатые возможности для достижения вершин мира музыки, к эстетическому личностному совершенствовани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ЗДЕСЬ ВПЕРВЫЕ В МИРЕ ПОЯВИЛАСЬ НОТНАЯ ЗАПИСЬ, ПЕРВЫЕ ОПЕРЫ И БОЛЬШИНСТВО ВОКАЛЬНЫХ И ИНСТРУМЕНТАЛЬНЫХ ЖАНРОВ МУЗЫКИ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96000" cy="4969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"/>
          <p:cNvPicPr/>
          <p:nvPr/>
        </p:nvPicPr>
        <p:blipFill>
          <a:blip r:embed="rId3"/>
          <a:stretch/>
        </p:blipFill>
        <p:spPr>
          <a:xfrm>
            <a:off x="476280" y="1781280"/>
            <a:ext cx="849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ЧЛЕНОМ БОЛОНСКОЙ  МУЗЫКАЛЬНОЙ АКАДЕМИИ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В 14 ЛЕТ СТАЛ ВОЛЬФГАНГ МОЦАРТ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2149560" y="1752480"/>
            <a:ext cx="48448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СВОЕЙ МУЗЫКОЙ ПОКОРИЛ ИТАЛИЮ И 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ДМИТРИЙ  БОРТНЯНСКИЙ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КОМПОЗИТОР СОЧИНЯЛ МУЗЫКУ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ЯРКУЮ, ЖИЗНЕУТВЕРЖДАЮЩУЮ, </a:t>
            </a:r>
            <a:br>
              <a:rPr sz="2000"/>
            </a:b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ПОЛНУЮ ОПТИМИСТИЧЕСКОЙ СИЛЫ 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2124000" y="1752480"/>
            <a:ext cx="4824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82d"/>
                </a:solidFill>
                <a:latin typeface="Book Antiqua"/>
              </a:rPr>
              <a:t>МОЦАРТ СОЗДАЛ ОСОБУЮ ЭПОХУ И В ЖАНРЕ СИМФОНИИ. ЗА ДВАДЦАТЬ ЛЕТ ОН НАПИСАЛ ОКОЛО ПЯТИДЕСЯТИ СИМФОНИЧЕСКИХ ЦИКЛОВ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1979640" y="1752480"/>
            <a:ext cx="54720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82d"/>
                </a:solidFill>
                <a:latin typeface="Book Antiqua"/>
              </a:rPr>
              <a:t>В.А. МОЦАРТ -  ВСЕМИРНО ИЗВЕСТНЫЙ КОМПОЗИТОР ГОДЫ ЕГО ЖИЗНИ: 1756-1791</a:t>
            </a:r>
            <a:r>
              <a:rPr b="1" lang="ru-RU" sz="3500" spc="-1" strike="noStrike">
                <a:solidFill>
                  <a:srgbClr val="40382d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2050920" y="1752480"/>
            <a:ext cx="52578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20:17:45Z</dcterms:created>
  <dc:creator>local_user</dc:creator>
  <dc:description/>
  <dc:language>en-US</dc:language>
  <cp:lastModifiedBy>Admin</cp:lastModifiedBy>
  <dcterms:modified xsi:type="dcterms:W3CDTF">2014-12-05T15:01:34Z</dcterms:modified>
  <cp:revision>6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24000000000001024140</vt:lpwstr>
  </property>
</Properties>
</file>