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19A-6582-438C-8013-E02226AA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B0E-0450-4F54-86E6-01A92D10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C75-B4BC-4E9A-AB67-1613771A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0D5-D415-412E-87B2-1A3921A7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4397D-2DD5-44DD-A626-289162B8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044FC-9E13-4B6E-89FE-E84011FA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BE42A-A418-4AFA-80B2-DEF6BA7B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A2C19-09FF-4969-8CCA-E1AB6D12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515B6-A77C-41DC-B8BB-F32CBBE2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90701-1F1F-427F-9C4B-216AD8A5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9537A-9EB2-447D-BF22-AAB2B42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C384-1C29-45E5-B613-76E140A0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8440E-A29D-4DBA-B337-C18AAC78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8491C-E4E0-4359-93F0-3569A6E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CBB25-0F39-450C-B4C8-B2EEEDD5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690F7-F016-458A-B88A-4FB810FC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C24EB-2E19-4402-9DC1-A349EC08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60621-A242-4FD1-A337-4A541E42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896D7-F347-4F2F-BB7E-0CEBA35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2766C-71F1-49DE-9482-6829D7A8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CFF97-8DA7-4D43-8B4E-EB58C90D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7170B-3D7D-4921-9F83-97A92E0C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56D-614B-4F4C-9D2D-1AFCDAA6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E68B1-756D-4973-B0B6-3962F0F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ED317-D9CE-4F13-BE2E-8B98BBEF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3274F-9113-400F-BB03-D509203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82E78-22B4-47DF-8A5C-4D434812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F14F2-1A5B-4343-AD37-AED47074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90AB7-CCBF-408A-9791-57C8958C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F962F-3004-44F2-BFB9-BAB458B0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420EC-95A3-4677-A69B-653B2CD2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DDE3D-7016-4661-B00E-44E1EC47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1A590-B0DC-41E9-8A75-F69F7351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666-D4BE-4A5C-96AD-D2AAB1A9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90E89-F3E7-4FAB-A92D-066FF5FC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546C4-330D-4B3F-B6BD-78252C11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ABCC3-3AA9-4F10-BECC-6D7B300F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4B88D-A457-44BD-A6C7-154552E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EE1B4-B68F-4664-8B11-FD2E15AD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4EC9D-AE24-471B-9C30-FFD14E5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3920DE-C417-48A5-84B4-308FFAD5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3F39A-9223-4BE6-9DAA-A0714E79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4F880-3F15-4A8E-8F19-47E53236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26115-FE61-4891-ABEC-EB909118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61F-37F3-4826-A00D-0F082821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DAD99D-A67B-4254-8E42-DDD0FDBD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BEFB0-0FEA-48FF-931B-925D1CFE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4CA80-C120-486A-86BA-83EE31C8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61FB5-DE45-4B42-8AF4-BA60AA70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5F8C7-DB60-4651-A49A-B69AFF6F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BD089-1647-42D9-A705-4D9E542B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C26F0-5206-42D8-BC2B-04FE5AAB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8D3DC-0C26-4884-904F-627BD6EA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8621C-71F4-4A8A-AC68-28987376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461FD-3144-4EEB-9517-22B3902F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0AF-E92B-4943-A329-E3BEE63E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C14CC2-1B04-43ED-900D-BB5C5E26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926CB-B48B-4E49-90B3-2AF55EC9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F9C135-6F8E-4512-A9D6-093A3277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0DE35-2243-4265-91B3-FA54F0D5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08486-7356-4488-92FF-26141C1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FD3FF-9D52-40F6-AFBB-D20E6DEE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02281-63C8-4837-91F5-A11A6BE2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99014-ED79-42F2-A9DF-BCE0ACB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ABFCA-D730-4A9D-B6D7-664A33FF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ED582-3B60-4B99-9BAB-4AAD8AA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643-EDC4-41B1-8BD4-4487EB1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D8D17-CAAC-4196-BA55-B7D49EE4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01C6B-0947-418C-8B15-85239D93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CD802-5115-49BC-BA9D-A458621E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6D4-197E-4684-AF51-FAE258D6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E8F-2FB4-44D4-A745-44596875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AF44-CBD1-41BE-A00A-92B9C48F37D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C70A-BFF3-4028-820A-20810456D11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415-3D9E-4256-8EDC-2C4AE556100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364-E1CC-400C-9799-5A95443EEF6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689A-9D2A-4BFF-9FC7-74FDDDFF36D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1040-0EEF-4634-9877-F08C14BCB13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http://venagid.ru/wp-content/uploads/2010/11/Wienerwa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7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1.Понравилась ли вам музы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2.Сколько разделов в вальсе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3.При помощи каких средств выразительности создаётся музыкальный образ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4. Почему эта музыка  и сегодня волнует, радует и вдохновляет слушателей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3" name="Picture 6" descr="1"/>
          <p:cNvPicPr/>
          <p:nvPr/>
        </p:nvPicPr>
        <p:blipFill>
          <a:blip r:embed="rId2"/>
          <a:stretch/>
        </p:blipFill>
        <p:spPr>
          <a:xfrm>
            <a:off x="536400" y="2908440"/>
            <a:ext cx="2829240" cy="3535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1 (7)"/>
          <p:cNvPicPr/>
          <p:nvPr/>
        </p:nvPicPr>
        <p:blipFill>
          <a:blip r:embed="rId3"/>
          <a:stretch/>
        </p:blipFill>
        <p:spPr>
          <a:xfrm>
            <a:off x="4059360" y="2846520"/>
            <a:ext cx="27921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_isN_1272987073.jpg"/>
          <p:cNvPicPr/>
          <p:nvPr/>
        </p:nvPicPr>
        <p:blipFill>
          <a:blip r:embed="rId2"/>
          <a:stretch/>
        </p:blipFill>
        <p:spPr>
          <a:xfrm>
            <a:off x="-181080" y="123840"/>
            <a:ext cx="927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Загрузки\450px-Памятник_Воину-освободителю._Харьков.jpg"/>
          <p:cNvPicPr/>
          <p:nvPr/>
        </p:nvPicPr>
        <p:blipFill>
          <a:blip r:embed="rId2"/>
          <a:stretch/>
        </p:blipFill>
        <p:spPr>
          <a:xfrm>
            <a:off x="468360" y="189000"/>
            <a:ext cx="4049640" cy="539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Загрузки\1278878727_20091007205945_rodina.jpg"/>
          <p:cNvPicPr/>
          <p:nvPr/>
        </p:nvPicPr>
        <p:blipFill>
          <a:blip r:embed="rId3"/>
          <a:stretch/>
        </p:blipFill>
        <p:spPr>
          <a:xfrm>
            <a:off x="5054760" y="212760"/>
            <a:ext cx="3948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Загрузки\42946f124da4f6c9552af468fc63f72a.gif"/>
          <p:cNvPicPr/>
          <p:nvPr/>
        </p:nvPicPr>
        <p:blipFill>
          <a:blip r:embed="rId2"/>
          <a:stretch/>
        </p:blipFill>
        <p:spPr>
          <a:xfrm>
            <a:off x="1403280" y="28260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dfmonet.files.wordpress.com/2010/12/austria_07.jpg"/>
          <p:cNvPicPr/>
          <p:nvPr/>
        </p:nvPicPr>
        <p:blipFill>
          <a:blip r:embed="rId2"/>
          <a:stretch/>
        </p:blipFill>
        <p:spPr>
          <a:xfrm>
            <a:off x="826920" y="115920"/>
            <a:ext cx="7743960" cy="5832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2214720" y="63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75438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Назови композиторов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Picture 2" descr="C:\Users\Татьяна\Desktop\портреты\1.jpg"/>
          <p:cNvPicPr/>
          <p:nvPr/>
        </p:nvPicPr>
        <p:blipFill>
          <a:blip r:embed="rId2"/>
          <a:stretch/>
        </p:blipFill>
        <p:spPr>
          <a:xfrm>
            <a:off x="853920" y="18334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Татьяна\Desktop\портреты\250px-JSBach.jpg"/>
          <p:cNvPicPr/>
          <p:nvPr/>
        </p:nvPicPr>
        <p:blipFill>
          <a:blip r:embed="rId3"/>
          <a:stretch/>
        </p:blipFill>
        <p:spPr>
          <a:xfrm>
            <a:off x="3206880" y="4595760"/>
            <a:ext cx="1515960" cy="216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Татьяна\Desktop\портреты\georgiy_sviridov01.jpg"/>
          <p:cNvPicPr/>
          <p:nvPr/>
        </p:nvPicPr>
        <p:blipFill>
          <a:blip r:embed="rId4"/>
          <a:stretch/>
        </p:blipFill>
        <p:spPr>
          <a:xfrm>
            <a:off x="7194600" y="459900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5"/>
          <a:stretch/>
        </p:blipFill>
        <p:spPr>
          <a:xfrm>
            <a:off x="5216400" y="2027160"/>
            <a:ext cx="1659240" cy="21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6"/>
          <a:stretch/>
        </p:blipFill>
        <p:spPr>
          <a:xfrm>
            <a:off x="5357880" y="4595760"/>
            <a:ext cx="1365120" cy="20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7"/>
          <a:stretch/>
        </p:blipFill>
        <p:spPr>
          <a:xfrm>
            <a:off x="936720" y="4564080"/>
            <a:ext cx="1562040" cy="215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8"/>
          <a:stretch/>
        </p:blipFill>
        <p:spPr>
          <a:xfrm>
            <a:off x="3112920" y="198108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9"/>
          <a:stretch/>
        </p:blipFill>
        <p:spPr>
          <a:xfrm>
            <a:off x="7164360" y="2098800"/>
            <a:ext cx="1685880" cy="2124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1340280" y="162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382464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42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707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529280" y="423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867480" y="4278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6045480" y="4297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8003160" y="4351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оссвор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822560" y="476280"/>
            <a:ext cx="43210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1.Большое музыкальное произведение для солиста с оркестр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( соревнование)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2. Хоровая народная обрядовая песня, связанная с приходом весны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3. Инструментальное произведение, состоящее из нескольких контрастных (разнохарактерных) частей, чаще танцевального типа, объединенных общим замысл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4. Сольный вокальный номер из оперы, кантаты и т.п., который воплощает мысли, чувства и характер действующего лица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2" descr="C:\Users\Татьяна\Desktop\кроссворд полный\Пустой кроссворд.bmp"/>
          <p:cNvPicPr/>
          <p:nvPr/>
        </p:nvPicPr>
        <p:blipFill>
          <a:blip r:embed="rId2"/>
          <a:stretch/>
        </p:blipFill>
        <p:spPr>
          <a:xfrm>
            <a:off x="6480" y="790560"/>
            <a:ext cx="4822560" cy="43401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0" y="5157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окальное произведение для голоса с инструментальным сопровождением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6480" y="5452920"/>
            <a:ext cx="91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2. Тренировочная упражнение для развития исполнительской техники музыкан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-248760" y="5934240"/>
            <a:ext cx="93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. Вокально- инструментальное траурное произведение, посвященное памят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мерших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4. Ансамбль из трех исполнителей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019120" y="4797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о вертикали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7812000" y="4478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478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Picture 2" descr="C:\Users\Татьяна\Desktop\кроссворд полный\Заполненный кроссворд.bmp"/>
          <p:cNvPicPr/>
          <p:nvPr/>
        </p:nvPicPr>
        <p:blipFill>
          <a:blip r:embed="rId2"/>
          <a:stretch/>
        </p:blipFill>
        <p:spPr>
          <a:xfrm>
            <a:off x="-10800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05120" y="259920"/>
            <a:ext cx="5292720" cy="26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м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«Король вальсов» 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Иоганн Штрау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( 1825-1899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532320" cy="4968720"/>
          </a:xfrm>
          <a:prstGeom prst="rect">
            <a:avLst/>
          </a:prstGeom>
          <a:ln w="0">
            <a:noFill/>
          </a:ln>
        </p:spPr>
      </p:pic>
      <p:pic>
        <p:nvPicPr>
          <p:cNvPr id="346" name="012 %D0%98ogann-Shtraus-Na-prekrasnom-golubom-Dunae(muzofon.com).mp3" descr=""/>
          <p:cNvPicPr/>
          <p:nvPr/>
        </p:nvPicPr>
        <p:blipFill>
          <a:blip r:embed="rId3"/>
          <a:stretch/>
        </p:blipFill>
        <p:spPr>
          <a:xfrm>
            <a:off x="193680" y="505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9962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-181080" y="27000"/>
            <a:ext cx="92538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-108000" y="-387360"/>
            <a:ext cx="91886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-244440" y="-20520"/>
            <a:ext cx="932508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ранцузские хореографы связывают вальс с живым и весёлым провансальским танцем «вольта»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4" descr="1 (3)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9:54:49Z</dcterms:created>
  <dc:creator>Татьяна</dc:creator>
  <dc:description/>
  <dc:language>en-US</dc:language>
  <cp:lastModifiedBy>Admin</cp:lastModifiedBy>
  <dcterms:modified xsi:type="dcterms:W3CDTF">2014-05-05T10:46:35Z</dcterms:modified>
  <cp:revision>42</cp:revision>
  <dc:subject/>
  <dc:title>Король вальсов  Иоганн Штрау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3c000000000001024140</vt:lpwstr>
  </property>
</Properties>
</file>