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7.gif" ContentType="image/gif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783B-3348-4AB1-BFAA-E6AA30A7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BC7-2C65-4C7B-94F3-3FBF3BAC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F3F-EB47-4585-B450-C9B8D650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AA6-A920-4EB4-A0EE-E01A3780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74A7F-B9C1-43A1-9509-04958BC6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40F3B-C91D-4DF4-93E5-63E1AF5A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8992B-95F7-4300-890D-BE71EE98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12EE7-F400-4A82-B550-9F49F8B2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B0B8B-5739-4449-9AD7-D2D92AF1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E1306-70B1-4D7A-8B61-AE9CBF23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EECC6-C06A-4674-BD90-C9DF7FCF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33D5-FEDB-4267-B90E-850A5709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7D755-30F9-439C-BF85-7E6CA02B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5F0CE-0963-49FA-AFBA-5F938CD5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A18C4-B18E-4A26-94B8-7914078E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A1FE3-5BD1-4C32-9DBD-2AEE6B55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EDF9C-BF56-46F8-BB27-24CA3C44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E76A8-ED52-474F-8CCC-4E1CD543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FD6AD-0A48-4977-9B5B-5697DD07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A8815-C3A2-46F5-BA5E-67949E3C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0E07A-59BE-4ABC-B0B3-46326CDB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E1005-A647-41DF-B952-BFB211FB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8C04-6ED7-45DC-BEF2-1FCB98D9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15133-4780-4978-A88B-C9C4401C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39038-CA81-4D49-A1A1-D8277869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F619A-0878-4372-A96C-B2D37340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6D723-DE94-4BC8-9259-7A1D2C3A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BF172-C22E-4E40-8E34-D7445BE4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B6AD4-E309-433F-A7C0-D49CB798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D0AEB-96E6-490A-83D3-4D8DD2A6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132BA5-9D10-474A-AE0A-0A2C44E0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447E47-B7CE-4F9D-9B86-06E631C5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A8852E-4255-44C2-879C-3D4254BB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7BB-7F20-408A-947D-0E4AF375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9C8C4A-36F5-4C94-BB24-14D4CBD8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13C757-5141-436B-8E5B-DA6648CB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4DC848-D2DB-48AA-AA18-66849BDF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C5F378-B97C-49B0-82D2-BB339FA6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4E627B-74D5-4F6B-B640-C66D87DD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3F1194-7ADB-4055-A616-FB2596B6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5C6902-4610-40EB-B902-DB070DF4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199F0-2089-4D26-B508-7488B0B9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00C041-12F0-405D-9528-1FF5CDBD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3BA67-D77B-4B60-A023-555A613F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34B-96F7-49F4-8244-F5B65515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99A148-B84E-4F98-B908-6D2E8CB5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D68D2-6B8A-4E81-B0F3-A8FEEF9C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B121B8-7B98-4F5A-AF1C-3401FC38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2B730-50D3-4136-A2DA-FDBE7172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996517-9AD1-44CF-A324-D50B529B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F61E88-562F-4DF7-A6A6-2621EB67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B5124-6166-430B-A14A-BFBCFA68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9259BF-4A60-4851-84B6-668F4F38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3D76D-8AE4-4CD4-B199-29DECCF6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049253-9EA8-4F95-BACA-3536C031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8834-3AB1-4240-855E-31AC04CB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A7808E-13DE-45B8-96EA-D8BA9556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5A77CE-DD54-46F6-AD45-E5D6CDF3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31A80B-1909-4BC5-A3AA-9B2725FD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A915F1-12F0-4B21-8DDC-BE9FF63C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DB4716-D315-4370-921C-AA6286BC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A16D4B-0B11-4614-95D3-E8D37D53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79B01E-805A-4755-ACCE-A2BE6310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4DA7D6-C25E-4AE0-BC81-EB4D960A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E74347-E35D-4EAC-B033-B9EC425A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382549-DF2E-4C9C-BFE3-B77F84E6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91F-A076-4A43-9DBF-61459B06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BE65F6-8A43-48C5-8DEB-8B1DE856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B93729-C6C1-426F-8109-31316D83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860C4D-18AC-4EF2-BAF5-F4FEB80D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6673-2F25-4F88-A32E-78BBBD2F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FACF-83D0-4ED5-96B1-9EC26ACE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F584-E89F-47B4-93AB-941B041A3B2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7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F354-D529-4DBD-AAB6-26840CDABC2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3D03-E2E1-4C3D-9694-9F876F2F031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2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167B-98C4-414F-9E1B-F8017D32563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8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FB71-A2C1-421E-9E53-A2BE27B5C13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8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DDC3-4208-4159-B06B-7E42DCCC9A2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7600" y="1218960"/>
            <a:ext cx="75438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133360" y="33746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4" name="Picture 2" descr="http://venagid.ru/wp-content/uploads/2010/11/Wienerwal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5" name="Штраус - Вальс Звуки весеннего вальса (mp3ostrov.com).mp3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4789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41672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1.Понравилась ли вам музыка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2.Сколько разделов в вальсе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3.При помощи каких средств выразительности создаётся музыкальный образ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4. Почему эта музыка  и сегодня волнует, радует и вдохновляет слушателей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3" name="Picture 6" descr="1"/>
          <p:cNvPicPr/>
          <p:nvPr/>
        </p:nvPicPr>
        <p:blipFill>
          <a:blip r:embed="rId2"/>
          <a:stretch/>
        </p:blipFill>
        <p:spPr>
          <a:xfrm>
            <a:off x="536400" y="2908440"/>
            <a:ext cx="2829240" cy="3535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1 (7)"/>
          <p:cNvPicPr/>
          <p:nvPr/>
        </p:nvPicPr>
        <p:blipFill>
          <a:blip r:embed="rId3"/>
          <a:stretch/>
        </p:blipFill>
        <p:spPr>
          <a:xfrm>
            <a:off x="4059360" y="2846520"/>
            <a:ext cx="279216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1" descr="_isN_1272987073.jpg"/>
          <p:cNvPicPr/>
          <p:nvPr/>
        </p:nvPicPr>
        <p:blipFill>
          <a:blip r:embed="rId2"/>
          <a:stretch/>
        </p:blipFill>
        <p:spPr>
          <a:xfrm>
            <a:off x="-181080" y="123840"/>
            <a:ext cx="92710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D:\Загрузки\450px-Памятник_Воину-освободителю._Харьков.jpg"/>
          <p:cNvPicPr/>
          <p:nvPr/>
        </p:nvPicPr>
        <p:blipFill>
          <a:blip r:embed="rId2"/>
          <a:stretch/>
        </p:blipFill>
        <p:spPr>
          <a:xfrm>
            <a:off x="468360" y="189000"/>
            <a:ext cx="4049640" cy="5398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D:\Загрузки\1278878727_20091007205945_rodina.jpg"/>
          <p:cNvPicPr/>
          <p:nvPr/>
        </p:nvPicPr>
        <p:blipFill>
          <a:blip r:embed="rId3"/>
          <a:stretch/>
        </p:blipFill>
        <p:spPr>
          <a:xfrm>
            <a:off x="5054760" y="212760"/>
            <a:ext cx="39481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D:\Загрузки\42946f124da4f6c9552af468fc63f72a.gif"/>
          <p:cNvPicPr/>
          <p:nvPr/>
        </p:nvPicPr>
        <p:blipFill>
          <a:blip r:embed="rId2"/>
          <a:stretch/>
        </p:blipFill>
        <p:spPr>
          <a:xfrm>
            <a:off x="1403280" y="282600"/>
            <a:ext cx="65516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s://dfmonet.files.wordpress.com/2010/12/austria_07.jpg"/>
          <p:cNvPicPr/>
          <p:nvPr/>
        </p:nvPicPr>
        <p:blipFill>
          <a:blip r:embed="rId2"/>
          <a:stretch/>
        </p:blipFill>
        <p:spPr>
          <a:xfrm>
            <a:off x="826920" y="115920"/>
            <a:ext cx="7743960" cy="5832360"/>
          </a:xfrm>
          <a:prstGeom prst="rect">
            <a:avLst/>
          </a:prstGeom>
          <a:ln w="0">
            <a:noFill/>
          </a:ln>
        </p:spPr>
      </p:pic>
      <p:sp>
        <p:nvSpPr>
          <p:cNvPr id="360" name="TextBox 3"/>
          <p:cNvSpPr/>
          <p:nvPr/>
        </p:nvSpPr>
        <p:spPr>
          <a:xfrm>
            <a:off x="2214720" y="63086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Спасибо за внимание!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280" y="-100080"/>
            <a:ext cx="75438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Palatino Linotype"/>
              </a:rPr>
              <a:t>Назови композиторов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7" name="Picture 2" descr="C:\Users\Татьяна\Desktop\портреты\1.jpg"/>
          <p:cNvPicPr/>
          <p:nvPr/>
        </p:nvPicPr>
        <p:blipFill>
          <a:blip r:embed="rId2"/>
          <a:stretch/>
        </p:blipFill>
        <p:spPr>
          <a:xfrm>
            <a:off x="853920" y="1833480"/>
            <a:ext cx="1727280" cy="2158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C:\Users\Татьяна\Desktop\портреты\250px-JSBach.jpg"/>
          <p:cNvPicPr/>
          <p:nvPr/>
        </p:nvPicPr>
        <p:blipFill>
          <a:blip r:embed="rId3"/>
          <a:stretch/>
        </p:blipFill>
        <p:spPr>
          <a:xfrm>
            <a:off x="3206880" y="4595760"/>
            <a:ext cx="1515960" cy="2160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C:\Users\Татьяна\Desktop\портреты\georgiy_sviridov01.jpg"/>
          <p:cNvPicPr/>
          <p:nvPr/>
        </p:nvPicPr>
        <p:blipFill>
          <a:blip r:embed="rId4"/>
          <a:stretch/>
        </p:blipFill>
        <p:spPr>
          <a:xfrm>
            <a:off x="7194600" y="4599000"/>
            <a:ext cx="1636560" cy="2160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"/>
          <p:cNvPicPr/>
          <p:nvPr/>
        </p:nvPicPr>
        <p:blipFill>
          <a:blip r:embed="rId5"/>
          <a:stretch/>
        </p:blipFill>
        <p:spPr>
          <a:xfrm>
            <a:off x="5216400" y="2027160"/>
            <a:ext cx="1659240" cy="2195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6"/>
          <a:stretch/>
        </p:blipFill>
        <p:spPr>
          <a:xfrm>
            <a:off x="5357880" y="4595760"/>
            <a:ext cx="1365120" cy="2052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7"/>
          <a:stretch/>
        </p:blipFill>
        <p:spPr>
          <a:xfrm>
            <a:off x="936720" y="4564080"/>
            <a:ext cx="1562040" cy="2158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"/>
          <p:cNvPicPr/>
          <p:nvPr/>
        </p:nvPicPr>
        <p:blipFill>
          <a:blip r:embed="rId8"/>
          <a:stretch/>
        </p:blipFill>
        <p:spPr>
          <a:xfrm>
            <a:off x="3112920" y="1981080"/>
            <a:ext cx="1731960" cy="2160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9"/>
          <a:stretch/>
        </p:blipFill>
        <p:spPr>
          <a:xfrm>
            <a:off x="7164360" y="2098800"/>
            <a:ext cx="1685880" cy="21240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2"/>
          <p:cNvSpPr/>
          <p:nvPr/>
        </p:nvSpPr>
        <p:spPr>
          <a:xfrm>
            <a:off x="1340280" y="162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382464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604260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770760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1529280" y="4230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TextBox 7"/>
          <p:cNvSpPr/>
          <p:nvPr/>
        </p:nvSpPr>
        <p:spPr>
          <a:xfrm>
            <a:off x="3867480" y="42782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1" name="TextBox 8"/>
          <p:cNvSpPr/>
          <p:nvPr/>
        </p:nvSpPr>
        <p:spPr>
          <a:xfrm>
            <a:off x="6045480" y="4297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8003160" y="4351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Кроссворд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822560" y="476280"/>
            <a:ext cx="4321080" cy="43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По горизонтали: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1.Большое музыкальное произведение для солиста с оркестром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( соревнование)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2. Хоровая народная обрядовая песня, связанная с приходом весны 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3. Инструментальное произведение, состоящее из нескольких контрастных (разнохарактерных) частей, чаще танцевального типа, объединенных общим замыслом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4. Сольный вокальный номер из оперы, кантаты и т.п., который воплощает мысли, чувства и характер действующего лица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5" name="Picture 2" descr="C:\Users\Татьяна\Desktop\кроссворд полный\Пустой кроссворд.bmp"/>
          <p:cNvPicPr/>
          <p:nvPr/>
        </p:nvPicPr>
        <p:blipFill>
          <a:blip r:embed="rId2"/>
          <a:stretch/>
        </p:blipFill>
        <p:spPr>
          <a:xfrm>
            <a:off x="6480" y="790560"/>
            <a:ext cx="4822560" cy="4340160"/>
          </a:xfrm>
          <a:prstGeom prst="rect">
            <a:avLst/>
          </a:prstGeom>
          <a:ln w="0">
            <a:noFill/>
          </a:ln>
        </p:spPr>
      </p:pic>
      <p:sp>
        <p:nvSpPr>
          <p:cNvPr id="336" name="TextBox 6"/>
          <p:cNvSpPr/>
          <p:nvPr/>
        </p:nvSpPr>
        <p:spPr>
          <a:xfrm>
            <a:off x="0" y="515772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Вокальное произведение для голоса с инструментальным сопровождением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7" name="TextBox 10"/>
          <p:cNvSpPr/>
          <p:nvPr/>
        </p:nvSpPr>
        <p:spPr>
          <a:xfrm>
            <a:off x="6480" y="5452920"/>
            <a:ext cx="91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2. Тренировочная упражнение для развития исполнительской техники музыканта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TextBox 11"/>
          <p:cNvSpPr/>
          <p:nvPr/>
        </p:nvSpPr>
        <p:spPr>
          <a:xfrm>
            <a:off x="-248760" y="5934240"/>
            <a:ext cx="93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3. Вокально- инструментальное траурное произведение, посвященное памяти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умерших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4. Ансамбль из трех исполнителей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TextBox 12"/>
          <p:cNvSpPr/>
          <p:nvPr/>
        </p:nvSpPr>
        <p:spPr>
          <a:xfrm>
            <a:off x="5019120" y="479736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По вертикали: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0" name="Штраус - Вальс Звуки весеннего вальса (mp3ostrov.com).mp3" descr=""/>
          <p:cNvPicPr/>
          <p:nvPr/>
        </p:nvPicPr>
        <p:blipFill>
          <a:blip r:embed="rId3"/>
          <a:stretch/>
        </p:blipFill>
        <p:spPr>
          <a:xfrm>
            <a:off x="7812000" y="4478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34789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3" name="Picture 2" descr="C:\Users\Татьяна\Desktop\кроссворд полный\Заполненный кроссворд.bmp"/>
          <p:cNvPicPr/>
          <p:nvPr/>
        </p:nvPicPr>
        <p:blipFill>
          <a:blip r:embed="rId2"/>
          <a:stretch/>
        </p:blipFill>
        <p:spPr>
          <a:xfrm>
            <a:off x="-108000" y="0"/>
            <a:ext cx="909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705120" y="259920"/>
            <a:ext cx="5292720" cy="26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Тема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«Король вальсов» </a:t>
            </a:r>
            <a:br>
              <a:rPr sz="6000"/>
            </a:br>
            <a:r>
              <a:rPr b="1" lang="ru-RU" sz="4000" spc="-1" strike="noStrike">
                <a:solidFill>
                  <a:srgbClr val="ffffff"/>
                </a:solidFill>
                <a:latin typeface="Palatino Linotype"/>
              </a:rPr>
              <a:t>Иоганн Штраус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Palatino Linotype"/>
              </a:rPr>
              <a:t>( 1825-1899)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532320" cy="4968720"/>
          </a:xfrm>
          <a:prstGeom prst="rect">
            <a:avLst/>
          </a:prstGeom>
          <a:ln w="0">
            <a:noFill/>
          </a:ln>
        </p:spPr>
      </p:pic>
      <p:pic>
        <p:nvPicPr>
          <p:cNvPr id="346" name="012 %D0%98ogann-Shtraus-Na-prekrasnom-golubom-Dunae(muzofon.com).mp3" descr=""/>
          <p:cNvPicPr/>
          <p:nvPr/>
        </p:nvPicPr>
        <p:blipFill>
          <a:blip r:embed="rId3"/>
          <a:stretch/>
        </p:blipFill>
        <p:spPr>
          <a:xfrm>
            <a:off x="193680" y="5051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9962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2"/>
          <a:stretch/>
        </p:blipFill>
        <p:spPr>
          <a:xfrm>
            <a:off x="-181080" y="27000"/>
            <a:ext cx="925380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-108000" y="-387360"/>
            <a:ext cx="918864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-244440" y="-20520"/>
            <a:ext cx="9325080" cy="71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Французские хореографы связывают вальс с живым и весёлым провансальским танцем «вольта»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1" name="Picture 4" descr="1 (3)"/>
          <p:cNvPicPr/>
          <p:nvPr/>
        </p:nvPicPr>
        <p:blipFill>
          <a:blip r:embed="rId2"/>
          <a:stretch/>
        </p:blipFill>
        <p:spPr>
          <a:xfrm>
            <a:off x="684360" y="189000"/>
            <a:ext cx="7488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19:54:49Z</dcterms:created>
  <dc:creator>Татьяна</dc:creator>
  <dc:description/>
  <dc:language>en-US</dc:language>
  <cp:lastModifiedBy>Admin</cp:lastModifiedBy>
  <dcterms:modified xsi:type="dcterms:W3CDTF">2014-05-05T10:46:35Z</dcterms:modified>
  <cp:revision>42</cp:revision>
  <dc:subject/>
  <dc:title>Король вальсов  Иоганн Штрау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3c000000000001024140</vt:lpwstr>
  </property>
</Properties>
</file>