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7.gif" ContentType="image/gif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8AD-C0A4-4D2E-BCB8-478AC25B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158-9F0D-44DB-9CD5-71875D03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582-4D80-41DD-BD5C-E1CC5181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691-9CD1-417C-9C03-FDBB808F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9CBC2-CAF2-4D79-AEDD-7244308C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3424B-3B87-49B3-872D-9231A8C1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7181E-24CB-47E4-8FCD-57ABAEC5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40B1D-4E7D-42B6-9EF6-425FCAE2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E4BA9-43A3-40B6-9918-69039DB9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7730B-9475-448F-BDF2-1A4FDD72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01BFA-5907-482F-8738-AA32E0B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125-1A33-4B35-A5D5-52FD7AFD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0B631-CBCE-4FF3-A632-5DD9F658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171B7-5AD2-4798-A581-C57656F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C3054-4ADE-4348-8DDA-D88A7D94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C19C2-2DAA-4A95-9D4E-6014CC75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474D5-EC5B-4BB4-A6BD-C0114282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64CA2-7A24-4171-AA5F-932D598A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FF2B5-B330-4A06-B34F-6F633F6D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45B59-7C99-42C6-BEE7-3F59A87A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4AC39-F21B-4676-BF11-783F7211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1A42A-2C44-4625-96D0-9D224574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BD7-F0D5-4271-BD1D-11B9BB78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DF7BD-04B9-4D5C-9DE8-C18D8FF9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79233-7D7F-4F6A-B13D-1BB52303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0B49E-6DAC-48FA-A30A-1AAB583A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21328-C661-4483-ABBD-5E4C9B22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E2C91-0A34-4C8B-889F-DF69B11E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9481A-321D-4A86-8E96-13290611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EEE28-40AC-4EE9-934B-7942CA07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1BB28-794A-436C-872E-EC7F6168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1CE4B7-92AD-49A9-B5BD-1134AC4B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769D2-D0AB-4BDE-8D16-1D0E4F24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CC2-95D7-4D41-9995-5CA5D000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CFED66-0164-4C54-B5CF-9BA3A3BA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4408F-81BB-4008-B509-0BB1D673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2C95C7-64EB-4188-B3C1-50C79EA1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BBF3C-9091-4AFE-852D-AEFCDA08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C5692-0006-4D48-AE4A-AE4FF8C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AD387-9D54-477F-A7F3-E9A16C36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A4763-CE40-4BF1-8237-811FA82E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E9569-E29D-4403-BC7D-6079D235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F15E4-A1DB-484F-92FB-813460FA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85332-AE9B-43AF-B253-863A89D9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33E-5D11-4ACB-AEB4-7FF079F9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CFB6B-EB5F-4029-BB4E-5F9CC0CC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F60CD-1F23-4DB3-BD14-7027F45C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689D28-7EC9-41CF-962C-6A2BB5AE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C2A8CE-D4DA-4E6F-8BB8-42987062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57030-D24C-4F51-A596-AD9014D4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CF1C7-9B1A-4213-8AE5-BB090F64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248CF-2CEC-45BD-B542-0035969C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D1F4E-9C8E-49E5-BC36-0FB33DC7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E7104-6A1A-4246-8C07-A8D26EF1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CEC29-A401-4263-99FF-1F78D6DA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12A-7936-46E7-AEA4-9325D02F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666CB1-67DD-4D6A-A214-F5558442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5CAD7-D786-45EA-BDDE-E828885F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4B5E8-0F82-408C-9601-6CE1B7A0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7C1AD-82BB-4739-97FF-69B6737E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FEC59-D9BA-49A5-BBC4-A61EBA5D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D2E91-9109-4989-8624-1C5D2582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5A4A9-0E40-4E5A-994F-BF2101CC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740FB-2E07-4D94-9134-EB49B458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6816E6-3609-48E8-B9B4-2CD9CF20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6244F-99FF-484B-9A35-A0AACCDC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89D-9BA0-464A-BF68-F74E4566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AC3AA-7892-4D0E-B567-1A8621A3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78306-4CC3-402E-9848-407C40A6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FBC5F-74A3-4B8F-BC30-8C610F1B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5EC-4603-497A-ABEF-174CB5A6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FB2-F5A6-41D8-A112-867BFD85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5888-4A0B-4E0F-ACE7-2B187B9EBA3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E23A-AB55-4562-A7FC-97141D05DE09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3BB4-6877-408D-8DCD-20A4D6F84A9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2AFF-2007-4CDE-A3E0-E957E897E9D1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3E51-31E9-444E-A571-A4039E92CB9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CE7C-B336-430F-9A80-267038B981C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2" descr="http://venagid.ru/wp-content/uploads/2010/11/Wienerwal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7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416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1.Понравилась ли вам музы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2.Сколько разделов в вальсе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3.При помощи каких средств выразительности создаётся музыкальный образ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4. Почему эта музыка  и сегодня волнует, радует и вдохновляет слушателей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3" name="Picture 6" descr="1"/>
          <p:cNvPicPr/>
          <p:nvPr/>
        </p:nvPicPr>
        <p:blipFill>
          <a:blip r:embed="rId2"/>
          <a:stretch/>
        </p:blipFill>
        <p:spPr>
          <a:xfrm>
            <a:off x="536400" y="2908440"/>
            <a:ext cx="2829240" cy="3535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1 (7)"/>
          <p:cNvPicPr/>
          <p:nvPr/>
        </p:nvPicPr>
        <p:blipFill>
          <a:blip r:embed="rId3"/>
          <a:stretch/>
        </p:blipFill>
        <p:spPr>
          <a:xfrm>
            <a:off x="4059360" y="2846520"/>
            <a:ext cx="27921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_isN_1272987073.jpg"/>
          <p:cNvPicPr/>
          <p:nvPr/>
        </p:nvPicPr>
        <p:blipFill>
          <a:blip r:embed="rId2"/>
          <a:stretch/>
        </p:blipFill>
        <p:spPr>
          <a:xfrm>
            <a:off x="-181080" y="123840"/>
            <a:ext cx="9271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D:\Загрузки\450px-Памятник_Воину-освободителю._Харьков.jpg"/>
          <p:cNvPicPr/>
          <p:nvPr/>
        </p:nvPicPr>
        <p:blipFill>
          <a:blip r:embed="rId2"/>
          <a:stretch/>
        </p:blipFill>
        <p:spPr>
          <a:xfrm>
            <a:off x="468360" y="189000"/>
            <a:ext cx="4049640" cy="539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D:\Загрузки\1278878727_20091007205945_rodina.jpg"/>
          <p:cNvPicPr/>
          <p:nvPr/>
        </p:nvPicPr>
        <p:blipFill>
          <a:blip r:embed="rId3"/>
          <a:stretch/>
        </p:blipFill>
        <p:spPr>
          <a:xfrm>
            <a:off x="5054760" y="212760"/>
            <a:ext cx="3948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D:\Загрузки\42946f124da4f6c9552af468fc63f72a.gif"/>
          <p:cNvPicPr/>
          <p:nvPr/>
        </p:nvPicPr>
        <p:blipFill>
          <a:blip r:embed="rId2"/>
          <a:stretch/>
        </p:blipFill>
        <p:spPr>
          <a:xfrm>
            <a:off x="1403280" y="282600"/>
            <a:ext cx="655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s://dfmonet.files.wordpress.com/2010/12/austria_07.jpg"/>
          <p:cNvPicPr/>
          <p:nvPr/>
        </p:nvPicPr>
        <p:blipFill>
          <a:blip r:embed="rId2"/>
          <a:stretch/>
        </p:blipFill>
        <p:spPr>
          <a:xfrm>
            <a:off x="826920" y="115920"/>
            <a:ext cx="7743960" cy="5832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2214720" y="63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-100080"/>
            <a:ext cx="75438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Назови композиторов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Picture 2" descr="C:\Users\Татьяна\Desktop\портреты\1.jpg"/>
          <p:cNvPicPr/>
          <p:nvPr/>
        </p:nvPicPr>
        <p:blipFill>
          <a:blip r:embed="rId2"/>
          <a:stretch/>
        </p:blipFill>
        <p:spPr>
          <a:xfrm>
            <a:off x="853920" y="1833480"/>
            <a:ext cx="1727280" cy="2158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Татьяна\Desktop\портреты\250px-JSBach.jpg"/>
          <p:cNvPicPr/>
          <p:nvPr/>
        </p:nvPicPr>
        <p:blipFill>
          <a:blip r:embed="rId3"/>
          <a:stretch/>
        </p:blipFill>
        <p:spPr>
          <a:xfrm>
            <a:off x="3206880" y="4595760"/>
            <a:ext cx="1515960" cy="216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Users\Татьяна\Desktop\портреты\georgiy_sviridov01.jpg"/>
          <p:cNvPicPr/>
          <p:nvPr/>
        </p:nvPicPr>
        <p:blipFill>
          <a:blip r:embed="rId4"/>
          <a:stretch/>
        </p:blipFill>
        <p:spPr>
          <a:xfrm>
            <a:off x="7194600" y="4599000"/>
            <a:ext cx="1636560" cy="2160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5"/>
          <a:stretch/>
        </p:blipFill>
        <p:spPr>
          <a:xfrm>
            <a:off x="5216400" y="2027160"/>
            <a:ext cx="1659240" cy="2195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6"/>
          <a:stretch/>
        </p:blipFill>
        <p:spPr>
          <a:xfrm>
            <a:off x="5357880" y="4595760"/>
            <a:ext cx="1365120" cy="2052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7"/>
          <a:stretch/>
        </p:blipFill>
        <p:spPr>
          <a:xfrm>
            <a:off x="936720" y="4564080"/>
            <a:ext cx="1562040" cy="2158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8"/>
          <a:stretch/>
        </p:blipFill>
        <p:spPr>
          <a:xfrm>
            <a:off x="3112920" y="1981080"/>
            <a:ext cx="1731960" cy="216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9"/>
          <a:stretch/>
        </p:blipFill>
        <p:spPr>
          <a:xfrm>
            <a:off x="7164360" y="2098800"/>
            <a:ext cx="1685880" cy="2124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1340280" y="162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382464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042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707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1529280" y="4230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3867480" y="4278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6045480" y="4297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8003160" y="4351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россворд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822560" y="476280"/>
            <a:ext cx="432108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1.Большое музыкальное произведение для солиста с оркестр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( соревнование)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2. Хоровая народная обрядовая песня, связанная с приходом весны 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3. Инструментальное произведение, состоящее из нескольких контрастных (разнохарактерных) частей, чаще танцевального типа, объединенных общим замысл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4. Сольный вокальный номер из оперы, кантаты и т.п., который воплощает мысли, чувства и характер действующего лица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2" descr="C:\Users\Татьяна\Desktop\кроссворд полный\Пустой кроссворд.bmp"/>
          <p:cNvPicPr/>
          <p:nvPr/>
        </p:nvPicPr>
        <p:blipFill>
          <a:blip r:embed="rId2"/>
          <a:stretch/>
        </p:blipFill>
        <p:spPr>
          <a:xfrm>
            <a:off x="6480" y="790560"/>
            <a:ext cx="4822560" cy="43401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0" y="515772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Вокальное произведение для голоса с инструментальным сопровождением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6480" y="5452920"/>
            <a:ext cx="91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2. Тренировочная упражнение для развития исполнительской техники музыкант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-248760" y="5934240"/>
            <a:ext cx="93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. Вокально- инструментальное траурное произведение, посвященное памяти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мерших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4. Ансамбль из трех исполнителей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019120" y="47973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о вертикали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7812000" y="4478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4789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Picture 2" descr="C:\Users\Татьяна\Desktop\кроссворд полный\Заполненный кроссворд.bmp"/>
          <p:cNvPicPr/>
          <p:nvPr/>
        </p:nvPicPr>
        <p:blipFill>
          <a:blip r:embed="rId2"/>
          <a:stretch/>
        </p:blipFill>
        <p:spPr>
          <a:xfrm>
            <a:off x="-108000" y="0"/>
            <a:ext cx="909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05120" y="259920"/>
            <a:ext cx="5292720" cy="26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м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«Король вальсов» </a:t>
            </a:r>
            <a:br>
              <a:rPr sz="6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Иоганн Штрау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( 1825-1899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532320" cy="4968720"/>
          </a:xfrm>
          <a:prstGeom prst="rect">
            <a:avLst/>
          </a:prstGeom>
          <a:ln w="0">
            <a:noFill/>
          </a:ln>
        </p:spPr>
      </p:pic>
      <p:pic>
        <p:nvPicPr>
          <p:cNvPr id="346" name="012 %D0%98ogann-Shtraus-Na-prekrasnom-golubom-Dunae(muzofon.com).mp3" descr=""/>
          <p:cNvPicPr/>
          <p:nvPr/>
        </p:nvPicPr>
        <p:blipFill>
          <a:blip r:embed="rId3"/>
          <a:stretch/>
        </p:blipFill>
        <p:spPr>
          <a:xfrm>
            <a:off x="193680" y="505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9962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-181080" y="27000"/>
            <a:ext cx="92538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-108000" y="-387360"/>
            <a:ext cx="91886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-244440" y="-20520"/>
            <a:ext cx="932508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Французские хореографы связывают вальс с живым и весёлым провансальским танцем «вольта»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Picture 4" descr="1 (3)"/>
          <p:cNvPicPr/>
          <p:nvPr/>
        </p:nvPicPr>
        <p:blipFill>
          <a:blip r:embed="rId2"/>
          <a:stretch/>
        </p:blipFill>
        <p:spPr>
          <a:xfrm>
            <a:off x="684360" y="189000"/>
            <a:ext cx="748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9:54:49Z</dcterms:created>
  <dc:creator>Татьяна</dc:creator>
  <dc:description/>
  <dc:language>en-US</dc:language>
  <cp:lastModifiedBy>Admin</cp:lastModifiedBy>
  <dcterms:modified xsi:type="dcterms:W3CDTF">2014-05-05T10:46:35Z</dcterms:modified>
  <cp:revision>42</cp:revision>
  <dc:subject/>
  <dc:title>Король вальсов  Иоганн Штрау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3c000000000001024140</vt:lpwstr>
  </property>
</Properties>
</file>