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23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27.gif" ContentType="image/gif"/>
  <Override PartName="/ppt/media/image25.jpeg" ContentType="image/jpeg"/>
  <Override PartName="/ppt/media/image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D85E-DD92-4E3C-9126-32F8DE209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10D43-480A-4BC1-9EF3-47F3FE33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FFD4-4AE6-4880-B9C2-049B52F3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915D-4345-4ED3-B2C5-D9CCE0EB7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BAB0AF-10E4-47CE-9082-9C6A7380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5DC3ED-FAE8-49CF-84B5-18683B9EE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192E3C-949B-4C5E-A49B-C219B811B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9677D5-8492-4B02-A9EE-8E447A07E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08AB8-9D51-419D-B798-96BC74AF2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DC11F-29A0-44D1-91AA-EB91A4F68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7E404-1933-434D-8EBF-05421F2FE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BC34-65B1-41CE-88E9-107483FF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FF0B57-39CB-445D-AF49-7D5691B2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84937-16CB-40EA-982F-06EE3EF0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4593ED-809D-4885-8E73-4AFF5ED1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355E1A-FA03-4D80-814D-C7A5D1FE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59BC01-1039-497F-A54B-07BA858B8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2A5E22-3A2B-4CDA-A77B-6A85DEEC5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E0BD81-5315-414F-8351-786070E24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C54CB9-F7E8-4173-8605-8092931B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085DC0-779E-4212-9150-0C2EC367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7FC635-C998-4172-A1C7-E7A3F202C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E99-BF27-41F7-8890-BC07FCAB2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0F6388-0B30-4BFF-B6E4-20FC4DA02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A86FC9-594B-4A75-8FB1-9D4C972BF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CAFA00-BFE9-4697-AECC-3B90D2F5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D8CA67-CB77-4BF5-A22F-99E94FC1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3E312C-637E-465C-8ED8-29B8856A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52246A-E307-4CB7-BE89-7501FF051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33120B-B36D-4AC5-A4E8-3C76B3DD7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333A45-9F0A-4666-9ECC-056E45979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807510-B90E-44AA-AC0E-C07C0E1F2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702736-EF56-430D-9E78-106DECD2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A52F-5CE9-44DB-AD0B-041CF0BF3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B76497-1EBA-4444-9A49-ADD889A4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F74FE3-8292-473A-88B8-9D0A0B2C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CD46A7-6179-4C2E-B425-07FEDBFB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360971-5008-418B-B043-47B2D88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4DEE85-FCBC-4D38-A7DF-A4CBC6A1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065AD-15ED-4CC5-AF3A-CE9D80D9B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212588-F5A9-412F-9F73-25D81177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5BA5FE-764D-48F1-81D7-951D036D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092736-3EF2-4A48-80FB-53E533DA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327E02-3B46-4E69-BFE9-FFE9C4F1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47F8-1D79-4B50-B22C-73EBDE9D4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A6A259-EC75-44E4-93B9-F00AEB445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5A0A75-61B8-417D-B4D8-C7CC7C35A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3F2A9-0853-449D-8450-B960CEC1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8F0840-8537-42D4-9F68-2501C2B2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4151EA-753C-4B3A-A2BD-ACA47AAB6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23E50B9-9982-4200-B4E3-59B225F3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534C32-0FEE-4C15-9108-46EFB2C2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D3B5A6-BB81-488C-906E-FF768968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123D71-CF15-4E6D-9CB1-B2F44E6F0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06293D-40D6-418D-8C20-C34B60D10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9BC1-C96B-445C-8369-554ABC9F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78DD277-79E9-4055-B562-E319A1466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0426C2D-82ED-4266-8EF4-A19ABC75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AE40100-2062-419F-94A1-55B401F3E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69EC2F-EB20-4967-9E93-AEF3A5FC1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99C4B4-C093-40DE-B2EC-474783C5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5C98C9E-4B8F-4E1A-AF25-B7D9976F7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777600" y="4876920"/>
            <a:ext cx="75438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algn="ct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BA6B6B6-8303-4E84-AD4F-171EF431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ADEED2-167C-416F-B59A-EEC8CF25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312AD5-814F-45D2-BB0D-31223BD85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D556D1-1726-4457-AE5B-AC600938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E66-596A-4476-9308-2C895C73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BE887B-EA17-4EB9-B6A2-38779C41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BB1258-F5BC-4F98-9C38-2A22ECCB0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194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55720" y="68580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213336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4194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255720" y="2596320"/>
            <a:ext cx="19627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CB5993-3D89-497B-8319-D018F6D07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57080" y="259632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55E3-1B55-418D-9628-FF87B9E5D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3336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57080" y="685800"/>
            <a:ext cx="29746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133360" y="2596320"/>
            <a:ext cx="6095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4F30-77C5-4890-A794-F85980119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F3B65-CAD9-4F80-9E35-0F1373D9962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52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53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5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56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58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61" name="TextBox 7"/>
          <p:cNvSpPr/>
          <p:nvPr/>
        </p:nvSpPr>
        <p:spPr>
          <a:xfrm>
            <a:off x="1828800" y="3164400"/>
            <a:ext cx="4572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9000" bIns="90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5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1F32F-B7B5-4E4B-83F2-8CE6C7F3492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ftr" idx="6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04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05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07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08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10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11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13" name="TextBox 7"/>
          <p:cNvSpPr/>
          <p:nvPr/>
        </p:nvSpPr>
        <p:spPr>
          <a:xfrm>
            <a:off x="4267080" y="4075200"/>
            <a:ext cx="457200" cy="10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6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sldNum" idx="8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F525-E633-4863-AB71-D8FE1E5BD03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9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156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157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59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160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162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163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165" name="TextBox 12"/>
          <p:cNvSpPr/>
          <p:nvPr/>
        </p:nvSpPr>
        <p:spPr>
          <a:xfrm>
            <a:off x="105732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6" name="TextBox 17"/>
          <p:cNvSpPr/>
          <p:nvPr/>
        </p:nvSpPr>
        <p:spPr>
          <a:xfrm>
            <a:off x="4780080" y="5205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11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3926-46A9-4BFA-B1B9-D3FB66934D4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ftr" idx="12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09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10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2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13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15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16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18" name="TextBox 8"/>
          <p:cNvSpPr/>
          <p:nvPr/>
        </p:nvSpPr>
        <p:spPr>
          <a:xfrm>
            <a:off x="5329080" y="1774800"/>
            <a:ext cx="4572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8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4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41680-575B-4B24-BBAA-556EE312C112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ftr" idx="15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04652">
                  <a:alpha val="36078"/>
                </a:srgbClr>
              </a:gs>
              <a:gs pos="100000">
                <a:srgbClr val="242852">
                  <a:alpha val="1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grpSp>
        <p:nvGrpSpPr>
          <p:cNvPr id="261" name="Oval 7"/>
          <p:cNvGrpSpPr/>
          <p:nvPr/>
        </p:nvGrpSpPr>
        <p:grpSpPr>
          <a:xfrm>
            <a:off x="1554120" y="804960"/>
            <a:ext cx="6877080" cy="6175440"/>
            <a:chOff x="1554120" y="804960"/>
            <a:chExt cx="6877080" cy="6175440"/>
          </a:xfrm>
        </p:grpSpPr>
        <p:pic>
          <p:nvPicPr>
            <p:cNvPr id="262" name="Oval 7" descr=""/>
            <p:cNvPicPr/>
            <p:nvPr/>
          </p:nvPicPr>
          <p:blipFill>
            <a:blip r:embed="rId3"/>
            <a:stretch/>
          </p:blipFill>
          <p:spPr>
            <a:xfrm>
              <a:off x="1554120" y="804960"/>
              <a:ext cx="6877080" cy="617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 rot="19723800">
              <a:off x="2433600" y="1874520"/>
              <a:ext cx="5119560" cy="40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4" name="Oval 8"/>
          <p:cNvGrpSpPr/>
          <p:nvPr/>
        </p:nvGrpSpPr>
        <p:grpSpPr>
          <a:xfrm>
            <a:off x="152280" y="712800"/>
            <a:ext cx="4687920" cy="5389560"/>
            <a:chOff x="152280" y="712800"/>
            <a:chExt cx="4687920" cy="5389560"/>
          </a:xfrm>
        </p:grpSpPr>
        <p:pic>
          <p:nvPicPr>
            <p:cNvPr id="265" name="Oval 8" descr=""/>
            <p:cNvPicPr/>
            <p:nvPr/>
          </p:nvPicPr>
          <p:blipFill>
            <a:blip r:embed="rId4"/>
            <a:stretch/>
          </p:blipFill>
          <p:spPr>
            <a:xfrm>
              <a:off x="152280" y="712800"/>
              <a:ext cx="4687920" cy="538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 rot="17656800">
              <a:off x="536760" y="1821960"/>
              <a:ext cx="3916080" cy="31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grpSp>
        <p:nvGrpSpPr>
          <p:cNvPr id="267" name="Oval 9"/>
          <p:cNvGrpSpPr/>
          <p:nvPr/>
        </p:nvGrpSpPr>
        <p:grpSpPr>
          <a:xfrm>
            <a:off x="3481560" y="-152280"/>
            <a:ext cx="6076800" cy="5290920"/>
            <a:chOff x="3481560" y="-152280"/>
            <a:chExt cx="6076800" cy="5290920"/>
          </a:xfrm>
        </p:grpSpPr>
        <p:pic>
          <p:nvPicPr>
            <p:cNvPr id="268" name="Oval 9" descr=""/>
            <p:cNvPicPr/>
            <p:nvPr/>
          </p:nvPicPr>
          <p:blipFill>
            <a:blip r:embed="rId5"/>
            <a:stretch/>
          </p:blipFill>
          <p:spPr>
            <a:xfrm>
              <a:off x="3481560" y="-152280"/>
              <a:ext cx="6076800" cy="529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 rot="19723800">
              <a:off x="4227120" y="812520"/>
              <a:ext cx="4581720" cy="33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Palatino Linotype"/>
              </a:endParaRPr>
            </a:p>
          </p:txBody>
        </p:sp>
      </p:grpSp>
      <p:sp>
        <p:nvSpPr>
          <p:cNvPr id="270" name="TextBox 8"/>
          <p:cNvSpPr/>
          <p:nvPr/>
        </p:nvSpPr>
        <p:spPr>
          <a:xfrm>
            <a:off x="2435400" y="3332160"/>
            <a:ext cx="4572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Palatino Linotype"/>
              </a:rPr>
              <a:t>{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Palatino Linotype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Click to edit the outline text format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1" marL="63972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con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2" marL="100476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Third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3" marL="1371600" indent="-25560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our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4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Fif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5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ix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  <a:p>
            <a:pPr lvl="6" marL="16444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Palatino Linotype"/>
              </a:rPr>
              <a:t>Seventh Outline Level</a:t>
            </a: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171840" y="615420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sldNum" idx="17"/>
          </p:nvPr>
        </p:nvSpPr>
        <p:spPr>
          <a:xfrm>
            <a:off x="821880" y="584208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0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535F4-CAA3-4DF6-85B6-B19BD8DB8D4A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ftr" idx="18"/>
          </p:nvPr>
        </p:nvSpPr>
        <p:spPr>
          <a:xfrm>
            <a:off x="822240" y="6154200"/>
            <a:ext cx="4572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77600" y="1218960"/>
            <a:ext cx="7543800" cy="21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2133360" y="337464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764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4" name="Picture 2" descr="http://venagid.ru/wp-content/uploads/2010/11/Wienerwald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5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395280" y="1890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34789" fill="hold"/>
                                        <p:tgtEl>
                                          <p:spTgt spid="3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416720" cy="25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1.Понравилась ли вам музыка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2.Сколько разделов в вальсе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3.При помощи каких средств выразительности создаётся музыкальный образ?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4. Почему эта музыка  и сегодня волнует, радует и вдохновляет слушателей?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3" name="Picture 6" descr="1"/>
          <p:cNvPicPr/>
          <p:nvPr/>
        </p:nvPicPr>
        <p:blipFill>
          <a:blip r:embed="rId2"/>
          <a:stretch/>
        </p:blipFill>
        <p:spPr>
          <a:xfrm>
            <a:off x="536400" y="2908440"/>
            <a:ext cx="2829240" cy="35352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5" descr="1 (7)"/>
          <p:cNvPicPr/>
          <p:nvPr/>
        </p:nvPicPr>
        <p:blipFill>
          <a:blip r:embed="rId3"/>
          <a:stretch/>
        </p:blipFill>
        <p:spPr>
          <a:xfrm>
            <a:off x="4059360" y="2846520"/>
            <a:ext cx="279216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Рисунок 1" descr="_isN_1272987073.jpg"/>
          <p:cNvPicPr/>
          <p:nvPr/>
        </p:nvPicPr>
        <p:blipFill>
          <a:blip r:embed="rId2"/>
          <a:stretch/>
        </p:blipFill>
        <p:spPr>
          <a:xfrm>
            <a:off x="-181080" y="123840"/>
            <a:ext cx="92710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Picture 2" descr="D:\Загрузки\450px-Памятник_Воину-освободителю._Харьков.jpg"/>
          <p:cNvPicPr/>
          <p:nvPr/>
        </p:nvPicPr>
        <p:blipFill>
          <a:blip r:embed="rId2"/>
          <a:stretch/>
        </p:blipFill>
        <p:spPr>
          <a:xfrm>
            <a:off x="468360" y="189000"/>
            <a:ext cx="4049640" cy="5398920"/>
          </a:xfrm>
          <a:prstGeom prst="rect">
            <a:avLst/>
          </a:prstGeom>
          <a:ln w="0">
            <a:noFill/>
          </a:ln>
        </p:spPr>
      </p:pic>
      <p:pic>
        <p:nvPicPr>
          <p:cNvPr id="357" name="Picture 3" descr="D:\Загрузки\1278878727_20091007205945_rodina.jpg"/>
          <p:cNvPicPr/>
          <p:nvPr/>
        </p:nvPicPr>
        <p:blipFill>
          <a:blip r:embed="rId3"/>
          <a:stretch/>
        </p:blipFill>
        <p:spPr>
          <a:xfrm>
            <a:off x="5054760" y="212760"/>
            <a:ext cx="3948120" cy="53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Picture 2" descr="D:\Загрузки\42946f124da4f6c9552af468fc63f72a.gif"/>
          <p:cNvPicPr/>
          <p:nvPr/>
        </p:nvPicPr>
        <p:blipFill>
          <a:blip r:embed="rId2"/>
          <a:stretch/>
        </p:blipFill>
        <p:spPr>
          <a:xfrm>
            <a:off x="1403280" y="282600"/>
            <a:ext cx="65516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2" descr="https://dfmonet.files.wordpress.com/2010/12/austria_07.jpg"/>
          <p:cNvPicPr/>
          <p:nvPr/>
        </p:nvPicPr>
        <p:blipFill>
          <a:blip r:embed="rId2"/>
          <a:stretch/>
        </p:blipFill>
        <p:spPr>
          <a:xfrm>
            <a:off x="826920" y="115920"/>
            <a:ext cx="7743960" cy="5832360"/>
          </a:xfrm>
          <a:prstGeom prst="rect">
            <a:avLst/>
          </a:prstGeom>
          <a:ln w="0">
            <a:noFill/>
          </a:ln>
        </p:spPr>
      </p:pic>
      <p:sp>
        <p:nvSpPr>
          <p:cNvPr id="360" name="TextBox 3"/>
          <p:cNvSpPr/>
          <p:nvPr/>
        </p:nvSpPr>
        <p:spPr>
          <a:xfrm>
            <a:off x="2214720" y="630864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Palatino Linotype"/>
              </a:rPr>
              <a:t>Спасибо за внимание!</a:t>
            </a:r>
            <a:endParaRPr b="0" lang="en-US" sz="2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280" y="-100080"/>
            <a:ext cx="754380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Palatino Linotype"/>
              </a:rPr>
              <a:t>Назови композиторов</a:t>
            </a:r>
            <a:endParaRPr b="0" lang="en-US" sz="6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17" name="Picture 2" descr="C:\Users\Татьяна\Desktop\портреты\1.jpg"/>
          <p:cNvPicPr/>
          <p:nvPr/>
        </p:nvPicPr>
        <p:blipFill>
          <a:blip r:embed="rId2"/>
          <a:stretch/>
        </p:blipFill>
        <p:spPr>
          <a:xfrm>
            <a:off x="853920" y="1833480"/>
            <a:ext cx="1727280" cy="215892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3" descr="C:\Users\Татьяна\Desktop\портреты\250px-JSBach.jpg"/>
          <p:cNvPicPr/>
          <p:nvPr/>
        </p:nvPicPr>
        <p:blipFill>
          <a:blip r:embed="rId3"/>
          <a:stretch/>
        </p:blipFill>
        <p:spPr>
          <a:xfrm>
            <a:off x="3206880" y="4595760"/>
            <a:ext cx="1515960" cy="21607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4" descr="C:\Users\Татьяна\Desktop\портреты\georgiy_sviridov01.jpg"/>
          <p:cNvPicPr/>
          <p:nvPr/>
        </p:nvPicPr>
        <p:blipFill>
          <a:blip r:embed="rId4"/>
          <a:stretch/>
        </p:blipFill>
        <p:spPr>
          <a:xfrm>
            <a:off x="7194600" y="4599000"/>
            <a:ext cx="1636560" cy="216072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5" descr=""/>
          <p:cNvPicPr/>
          <p:nvPr/>
        </p:nvPicPr>
        <p:blipFill>
          <a:blip r:embed="rId5"/>
          <a:stretch/>
        </p:blipFill>
        <p:spPr>
          <a:xfrm>
            <a:off x="5216400" y="2027160"/>
            <a:ext cx="1659240" cy="219564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"/>
          <p:cNvPicPr/>
          <p:nvPr/>
        </p:nvPicPr>
        <p:blipFill>
          <a:blip r:embed="rId6"/>
          <a:stretch/>
        </p:blipFill>
        <p:spPr>
          <a:xfrm>
            <a:off x="5357880" y="4595760"/>
            <a:ext cx="1365120" cy="20527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7" descr=""/>
          <p:cNvPicPr/>
          <p:nvPr/>
        </p:nvPicPr>
        <p:blipFill>
          <a:blip r:embed="rId7"/>
          <a:stretch/>
        </p:blipFill>
        <p:spPr>
          <a:xfrm>
            <a:off x="936720" y="4564080"/>
            <a:ext cx="1562040" cy="21589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8" descr=""/>
          <p:cNvPicPr/>
          <p:nvPr/>
        </p:nvPicPr>
        <p:blipFill>
          <a:blip r:embed="rId8"/>
          <a:stretch/>
        </p:blipFill>
        <p:spPr>
          <a:xfrm>
            <a:off x="3112920" y="1981080"/>
            <a:ext cx="1731960" cy="21607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9"/>
          <a:stretch/>
        </p:blipFill>
        <p:spPr>
          <a:xfrm>
            <a:off x="7164360" y="2098800"/>
            <a:ext cx="1685880" cy="2124000"/>
          </a:xfrm>
          <a:prstGeom prst="rect">
            <a:avLst/>
          </a:prstGeom>
          <a:ln w="0">
            <a:noFill/>
          </a:ln>
        </p:spPr>
      </p:pic>
      <p:sp>
        <p:nvSpPr>
          <p:cNvPr id="325" name="TextBox 2"/>
          <p:cNvSpPr/>
          <p:nvPr/>
        </p:nvSpPr>
        <p:spPr>
          <a:xfrm>
            <a:off x="1340280" y="16286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382464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6042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7707600" y="1647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1529280" y="42307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3867480" y="427824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6045480" y="4297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Palatino Linotype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2" name="TextBox 9"/>
          <p:cNvSpPr/>
          <p:nvPr/>
        </p:nvSpPr>
        <p:spPr>
          <a:xfrm>
            <a:off x="8003160" y="4351320"/>
            <a:ext cx="30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8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754380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ffffff"/>
                </a:solidFill>
                <a:latin typeface="Palatino Linotype"/>
              </a:rPr>
              <a:t>Кроссворд</a:t>
            </a:r>
            <a:endParaRPr b="0" lang="en-US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822560" y="476280"/>
            <a:ext cx="432108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176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По горизонтали: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1.Большое музыкальное произведение для солиста с оркестр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( соревнование)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2. Хоровая народная обрядовая песня, связанная с приходом весны 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3. Инструментальное произведение, состоящее из нескольких контрастных (разнохарактерных) частей, чаще танцевального типа, объединенных общим замыслом.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  <a:p>
            <a:pPr marL="176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Palatino Linotype"/>
              </a:rPr>
              <a:t>4. Сольный вокальный номер из оперы, кантаты и т.п., который воплощает мысли, чувства и характер действующего лица</a:t>
            </a:r>
            <a:endParaRPr b="0" lang="en-US" sz="16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35" name="Picture 2" descr="C:\Users\Татьяна\Desktop\кроссворд полный\Пустой кроссворд.bmp"/>
          <p:cNvPicPr/>
          <p:nvPr/>
        </p:nvPicPr>
        <p:blipFill>
          <a:blip r:embed="rId2"/>
          <a:stretch/>
        </p:blipFill>
        <p:spPr>
          <a:xfrm>
            <a:off x="6480" y="790560"/>
            <a:ext cx="4822560" cy="4340160"/>
          </a:xfrm>
          <a:prstGeom prst="rect">
            <a:avLst/>
          </a:prstGeom>
          <a:ln w="0">
            <a:noFill/>
          </a:ln>
        </p:spPr>
      </p:pic>
      <p:sp>
        <p:nvSpPr>
          <p:cNvPr id="336" name="TextBox 6"/>
          <p:cNvSpPr/>
          <p:nvPr/>
        </p:nvSpPr>
        <p:spPr>
          <a:xfrm>
            <a:off x="0" y="5157720"/>
            <a:ext cx="90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Palatino Linotyp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Вокальное произведение для голоса с инструментальным сопровождением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7" name="TextBox 10"/>
          <p:cNvSpPr/>
          <p:nvPr/>
        </p:nvSpPr>
        <p:spPr>
          <a:xfrm>
            <a:off x="6480" y="5452920"/>
            <a:ext cx="910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2. Тренировочная упражнение для развития исполнительской техники музыканта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8" name="TextBox 11"/>
          <p:cNvSpPr/>
          <p:nvPr/>
        </p:nvSpPr>
        <p:spPr>
          <a:xfrm>
            <a:off x="-248760" y="5934240"/>
            <a:ext cx="934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3. Вокально- инструментальное траурное произведение, посвященное памяти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умерших.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4. Ансамбль из трех исполнителей 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39" name="TextBox 12"/>
          <p:cNvSpPr/>
          <p:nvPr/>
        </p:nvSpPr>
        <p:spPr>
          <a:xfrm>
            <a:off x="5019120" y="47973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Palatino Linotype"/>
              </a:rPr>
              <a:t>По вертикали:</a:t>
            </a:r>
            <a:endParaRPr b="0" lang="en-US" sz="18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0" name="Штраус - Вальс Звуки весеннего вальса (mp3ostrov.com).mp3" descr=""/>
          <p:cNvPicPr/>
          <p:nvPr/>
        </p:nvPicPr>
        <p:blipFill>
          <a:blip r:embed="rId3"/>
          <a:stretch/>
        </p:blipFill>
        <p:spPr>
          <a:xfrm>
            <a:off x="7812000" y="44784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334789" fill="hold"/>
                                        <p:tgtEl>
                                          <p:spTgt spid="3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133360" y="6858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55240">
              <a:spcBef>
                <a:spcPts val="524"/>
              </a:spcBef>
              <a:buClr>
                <a:srgbClr val="ffffff"/>
              </a:buClr>
              <a:buSzPct val="60000"/>
              <a:buFont typeface="Wingdings" charset="2"/>
              <a:buChar char="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Palatino Linotype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9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3" name="Picture 2" descr="C:\Users\Татьяна\Desktop\кроссворд полный\Заполненный кроссворд.bmp"/>
          <p:cNvPicPr/>
          <p:nvPr/>
        </p:nvPicPr>
        <p:blipFill>
          <a:blip r:embed="rId2"/>
          <a:stretch/>
        </p:blipFill>
        <p:spPr>
          <a:xfrm>
            <a:off x="-108000" y="0"/>
            <a:ext cx="909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705120" y="259920"/>
            <a:ext cx="5292720" cy="2676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Тема.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Palatino Linotype"/>
              </a:rPr>
              <a:t>«Король вальсов» </a:t>
            </a:r>
            <a:br>
              <a:rPr sz="6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Иоганн Штраус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Palatino Linotype"/>
              </a:rPr>
              <a:t>( 1825-1899)</a:t>
            </a:r>
            <a:endParaRPr b="0" lang="en-US" sz="4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45" name="Picture 2" descr=""/>
          <p:cNvPicPr/>
          <p:nvPr/>
        </p:nvPicPr>
        <p:blipFill>
          <a:blip r:embed="rId2"/>
          <a:stretch/>
        </p:blipFill>
        <p:spPr>
          <a:xfrm>
            <a:off x="179280" y="692280"/>
            <a:ext cx="3532320" cy="4968720"/>
          </a:xfrm>
          <a:prstGeom prst="rect">
            <a:avLst/>
          </a:prstGeom>
          <a:ln w="0">
            <a:noFill/>
          </a:ln>
        </p:spPr>
      </p:pic>
      <p:pic>
        <p:nvPicPr>
          <p:cNvPr id="346" name="012 %D0%98ogann-Shtraus-Na-prekrasnom-golubom-Dunae(muzofon.com).mp3" descr=""/>
          <p:cNvPicPr/>
          <p:nvPr/>
        </p:nvPicPr>
        <p:blipFill>
          <a:blip r:embed="rId3"/>
          <a:stretch/>
        </p:blipFill>
        <p:spPr>
          <a:xfrm>
            <a:off x="193680" y="5051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289962" fill="hold"/>
                                        <p:tgtEl>
                                          <p:spTgt spid="3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Picture 2" descr=""/>
          <p:cNvPicPr/>
          <p:nvPr/>
        </p:nvPicPr>
        <p:blipFill>
          <a:blip r:embed="rId2"/>
          <a:stretch/>
        </p:blipFill>
        <p:spPr>
          <a:xfrm>
            <a:off x="-181080" y="27000"/>
            <a:ext cx="9253800" cy="71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Picture 2" descr=""/>
          <p:cNvPicPr/>
          <p:nvPr/>
        </p:nvPicPr>
        <p:blipFill>
          <a:blip r:embed="rId2"/>
          <a:stretch/>
        </p:blipFill>
        <p:spPr>
          <a:xfrm>
            <a:off x="-108000" y="-387360"/>
            <a:ext cx="9188640" cy="72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2" descr=""/>
          <p:cNvPicPr/>
          <p:nvPr/>
        </p:nvPicPr>
        <p:blipFill>
          <a:blip r:embed="rId2"/>
          <a:stretch/>
        </p:blipFill>
        <p:spPr>
          <a:xfrm>
            <a:off x="-244440" y="-20520"/>
            <a:ext cx="9325080" cy="71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77600" y="4876920"/>
            <a:ext cx="7543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Palatino Linotype"/>
              </a:rPr>
              <a:t>Французские хореографы связывают вальс с живым и весёлым провансальским танцем «вольта»</a:t>
            </a:r>
            <a:endParaRPr b="0" lang="en-US" sz="2000" spc="-1" strike="noStrike">
              <a:solidFill>
                <a:srgbClr val="ffffff"/>
              </a:solidFill>
              <a:latin typeface="Palatino Linotype"/>
            </a:endParaRPr>
          </a:p>
        </p:txBody>
      </p:sp>
      <p:pic>
        <p:nvPicPr>
          <p:cNvPr id="351" name="Picture 4" descr="1 (3)"/>
          <p:cNvPicPr/>
          <p:nvPr/>
        </p:nvPicPr>
        <p:blipFill>
          <a:blip r:embed="rId2"/>
          <a:stretch/>
        </p:blipFill>
        <p:spPr>
          <a:xfrm>
            <a:off x="684360" y="189000"/>
            <a:ext cx="7488000" cy="49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3T19:54:49Z</dcterms:created>
  <dc:creator>Татьяна</dc:creator>
  <dc:description/>
  <dc:language>en-US</dc:language>
  <cp:lastModifiedBy>Admin</cp:lastModifiedBy>
  <dcterms:modified xsi:type="dcterms:W3CDTF">2014-05-05T10:46:35Z</dcterms:modified>
  <cp:revision>42</cp:revision>
  <dc:subject/>
  <dc:title>Король вальсов  Иоганн Штрау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3c000000000001024140</vt:lpwstr>
  </property>
</Properties>
</file>