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7.gif" ContentType="image/gif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E26-D962-40A5-A621-EC2DE5FC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D70-E3AF-40AA-BB87-094C3EC5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8D3-AE4E-47F9-8F22-71560886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AF3-5672-4D1C-9469-4C863874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0C904-A3CB-496E-BE18-27A91C77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D9C36-F648-4466-B942-44830098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AD118-F3E2-442C-9CFE-480C800A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ED78B-3761-4A9C-B2F3-361AA1FC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B6C62-0DDF-429E-9488-47443155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80AEB-1D94-42A4-B96D-19D8BF6F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2BE2C-AF52-4956-9D5C-5B4A0BFC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644-23B8-40AE-A593-A231CDE4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A9F1B-3CD2-42AA-9F19-81CD60A2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AD2E9-0738-4F5D-AB36-19ACA67C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4247D-5D43-40C0-853C-E4109CF8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DE27D-4882-45B5-A4E0-FCD355AC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F2799-110D-41A4-BFDD-6D735218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CB366-07C1-4D26-B470-2FE949C4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41B5F-3FC9-4787-89F7-7969A791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F287A-832F-4D3D-B29C-58971F7B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803F3-E67E-4CD6-B38E-BA191D54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492A0-5F2F-4F87-B9A0-B9C71E7F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19E-BAE9-4059-B302-E8E921B4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9D2D2-9B4D-449F-9804-3CC3AD57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2BB38-AC7B-4CCC-9A17-1667A8E1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5798D-9821-4A4C-BB46-782C9596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116F3-F3DC-4846-8DE3-A163E05B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C59F4-8BDC-4186-B688-7274ABBD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BF41C-933C-48CA-9055-B9B1F095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079A1-0956-4AD7-9DB3-88E5AC41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E6EB5-8479-47B4-BDB1-5D8FCEFA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CE7D7-724C-4B54-930A-2180B1F4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662C8-1678-46F1-943B-8DFA6F15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119-7BBB-403A-BA6C-82854468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42202-F1FD-46E0-BC83-53DDCB83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A8DD50-0F0A-4356-B215-4A60CC5D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3DB0F-9795-498E-BE44-808C0438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881FC5-2A53-44BB-8371-CCCEF57D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880113-ECFD-489F-AEC0-241C8289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56BBE-492F-4CE2-B988-D871BBA6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C793D-9E35-4C8F-B940-E6E51E5D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694A2D-A527-43B0-8E96-900187AC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A9F1C-740A-41DC-BAC5-27E70455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D0232-AD15-41C9-8424-3AE38B7B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49F-FD08-496C-B36F-657E41F5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2E77A-5F0C-4088-A3F1-065D0810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D30F2-E5A4-40D4-BE14-F5C7CB60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8B3B6-2A2B-47EC-9A19-B6B71717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F6674-A263-4A11-AE0F-33BD0748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B9854-098F-4F51-94A5-8EAEC3EA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7D8C1-6F10-4E3E-8946-8E966E86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F37072-8527-4A47-A9C8-1E400D3F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F575B-8692-4DCC-845F-4ECBDFAB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E5862-AC19-4549-8CA1-32EA7A9F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B0553-6046-4B24-8B36-832A1A04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D8A-E4A5-4B19-B1F9-496511FF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FDBF6-9420-43CF-A0DD-A54369E3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F352D-D837-4F62-B56B-E0E3460B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10682-F715-4E66-9300-0000AEC5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2B066-B998-4DEB-A876-8E655B14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92326-ABE4-4BF9-9B39-A6F3936A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0B5FE-04C8-467D-A907-DBEB7A09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77688-AB9C-4FC9-A2A9-0252317F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13D40-A3C9-465D-8F29-E430EFAF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2852E2-7D51-4D46-8D7A-0A326D91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4E29B-FC6D-4420-A3CD-D5E235B6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029-1E53-4E41-9EC0-B39E1ADF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DD9CD-321D-46DA-8793-063FF04A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4F748A-4AB0-4FC6-8086-621084C7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5426D-A5F0-4ED4-8CEC-C28E0DDD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52D-FC2D-430D-B306-8AA7EBF5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724-6F66-4752-B2BC-F00F0DA1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E428-C70A-4708-9AB3-31AA0AA1413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1002-7D46-4CC5-8AB3-F38AB16D282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01C5-7A2F-4C48-855E-0885545C055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FEC8-BC1E-4EB9-810C-6F9D4530E51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264C-35FD-4D41-A2AA-5DCC91E539E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3348-E73C-4101-8161-B1924076939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2" descr="http://venagid.ru/wp-content/uploads/2010/11/Wienerwal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7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416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1.Понравилась ли вам музы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2.Сколько разделов в вальсе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3.При помощи каких средств выразительности создаётся музыкальный образ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4. Почему эта музыка  и сегодня волнует, радует и вдохновляет слушателей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3" name="Picture 6" descr="1"/>
          <p:cNvPicPr/>
          <p:nvPr/>
        </p:nvPicPr>
        <p:blipFill>
          <a:blip r:embed="rId2"/>
          <a:stretch/>
        </p:blipFill>
        <p:spPr>
          <a:xfrm>
            <a:off x="536400" y="2908440"/>
            <a:ext cx="2829240" cy="3535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1 (7)"/>
          <p:cNvPicPr/>
          <p:nvPr/>
        </p:nvPicPr>
        <p:blipFill>
          <a:blip r:embed="rId3"/>
          <a:stretch/>
        </p:blipFill>
        <p:spPr>
          <a:xfrm>
            <a:off x="4059360" y="2846520"/>
            <a:ext cx="27921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_isN_1272987073.jpg"/>
          <p:cNvPicPr/>
          <p:nvPr/>
        </p:nvPicPr>
        <p:blipFill>
          <a:blip r:embed="rId2"/>
          <a:stretch/>
        </p:blipFill>
        <p:spPr>
          <a:xfrm>
            <a:off x="-181080" y="123840"/>
            <a:ext cx="9271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D:\Загрузки\450px-Памятник_Воину-освободителю._Харьков.jpg"/>
          <p:cNvPicPr/>
          <p:nvPr/>
        </p:nvPicPr>
        <p:blipFill>
          <a:blip r:embed="rId2"/>
          <a:stretch/>
        </p:blipFill>
        <p:spPr>
          <a:xfrm>
            <a:off x="468360" y="189000"/>
            <a:ext cx="4049640" cy="539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D:\Загрузки\1278878727_20091007205945_rodina.jpg"/>
          <p:cNvPicPr/>
          <p:nvPr/>
        </p:nvPicPr>
        <p:blipFill>
          <a:blip r:embed="rId3"/>
          <a:stretch/>
        </p:blipFill>
        <p:spPr>
          <a:xfrm>
            <a:off x="5054760" y="212760"/>
            <a:ext cx="3948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D:\Загрузки\42946f124da4f6c9552af468fc63f72a.gif"/>
          <p:cNvPicPr/>
          <p:nvPr/>
        </p:nvPicPr>
        <p:blipFill>
          <a:blip r:embed="rId2"/>
          <a:stretch/>
        </p:blipFill>
        <p:spPr>
          <a:xfrm>
            <a:off x="1403280" y="282600"/>
            <a:ext cx="6551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s://dfmonet.files.wordpress.com/2010/12/austria_07.jpg"/>
          <p:cNvPicPr/>
          <p:nvPr/>
        </p:nvPicPr>
        <p:blipFill>
          <a:blip r:embed="rId2"/>
          <a:stretch/>
        </p:blipFill>
        <p:spPr>
          <a:xfrm>
            <a:off x="826920" y="115920"/>
            <a:ext cx="7743960" cy="58323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2214720" y="63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-100080"/>
            <a:ext cx="75438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Назови композиторов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Picture 2" descr="C:\Users\Татьяна\Desktop\портреты\1.jpg"/>
          <p:cNvPicPr/>
          <p:nvPr/>
        </p:nvPicPr>
        <p:blipFill>
          <a:blip r:embed="rId2"/>
          <a:stretch/>
        </p:blipFill>
        <p:spPr>
          <a:xfrm>
            <a:off x="853920" y="1833480"/>
            <a:ext cx="1727280" cy="2158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Татьяна\Desktop\портреты\250px-JSBach.jpg"/>
          <p:cNvPicPr/>
          <p:nvPr/>
        </p:nvPicPr>
        <p:blipFill>
          <a:blip r:embed="rId3"/>
          <a:stretch/>
        </p:blipFill>
        <p:spPr>
          <a:xfrm>
            <a:off x="3206880" y="4595760"/>
            <a:ext cx="1515960" cy="2160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Users\Татьяна\Desktop\портреты\georgiy_sviridov01.jpg"/>
          <p:cNvPicPr/>
          <p:nvPr/>
        </p:nvPicPr>
        <p:blipFill>
          <a:blip r:embed="rId4"/>
          <a:stretch/>
        </p:blipFill>
        <p:spPr>
          <a:xfrm>
            <a:off x="7194600" y="4599000"/>
            <a:ext cx="1636560" cy="2160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5"/>
          <a:stretch/>
        </p:blipFill>
        <p:spPr>
          <a:xfrm>
            <a:off x="5216400" y="2027160"/>
            <a:ext cx="1659240" cy="2195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6"/>
          <a:stretch/>
        </p:blipFill>
        <p:spPr>
          <a:xfrm>
            <a:off x="5357880" y="4595760"/>
            <a:ext cx="1365120" cy="2052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7"/>
          <a:stretch/>
        </p:blipFill>
        <p:spPr>
          <a:xfrm>
            <a:off x="936720" y="4564080"/>
            <a:ext cx="1562040" cy="2158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8"/>
          <a:stretch/>
        </p:blipFill>
        <p:spPr>
          <a:xfrm>
            <a:off x="3112920" y="1981080"/>
            <a:ext cx="1731960" cy="216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9"/>
          <a:stretch/>
        </p:blipFill>
        <p:spPr>
          <a:xfrm>
            <a:off x="7164360" y="2098800"/>
            <a:ext cx="1685880" cy="2124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1340280" y="162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382464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042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707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1529280" y="4230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3867480" y="4278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6045480" y="4297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8003160" y="4351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россворд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822560" y="476280"/>
            <a:ext cx="432108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о горизонтали: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1.Большое музыкальное произведение для солиста с оркестр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( соревнование)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2. Хоровая народная обрядовая песня, связанная с приходом весны 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3. Инструментальное произведение, состоящее из нескольких контрастных (разнохарактерных) частей, чаще танцевального типа, объединенных общим замысл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4. Сольный вокальный номер из оперы, кантаты и т.п., который воплощает мысли, чувства и характер действующего лица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Picture 2" descr="C:\Users\Татьяна\Desktop\кроссворд полный\Пустой кроссворд.bmp"/>
          <p:cNvPicPr/>
          <p:nvPr/>
        </p:nvPicPr>
        <p:blipFill>
          <a:blip r:embed="rId2"/>
          <a:stretch/>
        </p:blipFill>
        <p:spPr>
          <a:xfrm>
            <a:off x="6480" y="790560"/>
            <a:ext cx="4822560" cy="43401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0" y="515772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Вокальное произведение для голоса с инструментальным сопровождением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6480" y="5452920"/>
            <a:ext cx="91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2. Тренировочная упражнение для развития исполнительской техники музыкант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-248760" y="5934240"/>
            <a:ext cx="93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. Вокально- инструментальное траурное произведение, посвященное памяти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мерших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4. Ансамбль из трех исполнителей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019120" y="47973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о вертикали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7812000" y="4478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4789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Picture 2" descr="C:\Users\Татьяна\Desktop\кроссворд полный\Заполненный кроссворд.bmp"/>
          <p:cNvPicPr/>
          <p:nvPr/>
        </p:nvPicPr>
        <p:blipFill>
          <a:blip r:embed="rId2"/>
          <a:stretch/>
        </p:blipFill>
        <p:spPr>
          <a:xfrm>
            <a:off x="-108000" y="0"/>
            <a:ext cx="909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05120" y="259920"/>
            <a:ext cx="5292720" cy="26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ма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«Король вальсов» </a:t>
            </a:r>
            <a:br>
              <a:rPr sz="6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Иоганн Штрау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( 1825-1899)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532320" cy="4968720"/>
          </a:xfrm>
          <a:prstGeom prst="rect">
            <a:avLst/>
          </a:prstGeom>
          <a:ln w="0">
            <a:noFill/>
          </a:ln>
        </p:spPr>
      </p:pic>
      <p:pic>
        <p:nvPicPr>
          <p:cNvPr id="346" name="012 %D0%98ogann-Shtraus-Na-prekrasnom-golubom-Dunae(muzofon.com).mp3" descr=""/>
          <p:cNvPicPr/>
          <p:nvPr/>
        </p:nvPicPr>
        <p:blipFill>
          <a:blip r:embed="rId3"/>
          <a:stretch/>
        </p:blipFill>
        <p:spPr>
          <a:xfrm>
            <a:off x="193680" y="5051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9962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-181080" y="27000"/>
            <a:ext cx="92538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-108000" y="-387360"/>
            <a:ext cx="918864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-244440" y="-20520"/>
            <a:ext cx="932508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Французские хореографы связывают вальс с живым и весёлым провансальским танцем «вольта»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Picture 4" descr="1 (3)"/>
          <p:cNvPicPr/>
          <p:nvPr/>
        </p:nvPicPr>
        <p:blipFill>
          <a:blip r:embed="rId2"/>
          <a:stretch/>
        </p:blipFill>
        <p:spPr>
          <a:xfrm>
            <a:off x="684360" y="189000"/>
            <a:ext cx="748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9:54:49Z</dcterms:created>
  <dc:creator>Татьяна</dc:creator>
  <dc:description/>
  <dc:language>en-US</dc:language>
  <cp:lastModifiedBy>Admin</cp:lastModifiedBy>
  <dcterms:modified xsi:type="dcterms:W3CDTF">2014-05-05T10:46:35Z</dcterms:modified>
  <cp:revision>42</cp:revision>
  <dc:subject/>
  <dc:title>Король вальсов  Иоганн Штрау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3c000000000001024140</vt:lpwstr>
  </property>
</Properties>
</file>