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8750-94C8-4C59-90F8-D2D1E29F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E7C-CA27-420C-B15F-E3D43B4E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32D-22D4-4A15-9B80-28088CDB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77D-1538-4DB6-A9D7-45AF4D2C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60D-A0EF-49AC-B118-C1CF09D2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E88E-37DA-4E55-A673-4B58FEEA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F4D-68C2-45D0-BE86-12BC6377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713-C52D-4F35-8CFC-7376CF15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9CEA-08AD-4DE6-A986-4EE001F6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4A7-7830-4125-A406-A6F04A37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1DA-2861-4E84-BB66-61DC3055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948-CB6A-450A-B5B5-2E6EE284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D829-B152-4A64-B41D-18CEA17F1D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img_url=img0.liveinternet.ru%2Fimages%2Fattach%2Fc%2F0%2F47%2F348%2F47348409_img.jpg&amp;tld=ua&amp;p=4&amp;text=&#1080;&#1083;&#1083;&#1102;&#1089;&#1090;&#1088;&#1072;&#1094;&#1080;&#1080;%20&#1082;%20&#1087;&#1088;&#1077;&#1079;&#1077;&#1085;&#1090;&#1072;&#1094;&#1080;&#1080;%20&#1086;%20&#1078;&#1080;&#1079;&#1085;&#1080;%20&#1080;%20&#1090;&#1074;&#1086;&#1088;&#1095;&#1077;&#1089;&#1090;&#1074;&#1077;%20&#1060;&#1088;&#1077;&#1076;&#1077;&#1088;&#1080;&#1082;&#1072;%20&#1064;&#1086;&#1087;&#1077;&#1085;&#1072;&amp;noreask=1&amp;pos=122&amp;lr=142&amp;rpt=simage&amp;noj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images.yandex.ua/yandsearch?text=&#1080;&#1083;&#1083;&#1102;&#1089;&#1090;&#1088;&#1072;&#1094;&#1080;&#1080;%20&#1086;%20&#1046;&#1086;&#1088;&#1078;%20&#1057;&#1072;&#1085;&#1076;&amp;img_url=cs5284.vkontakte.ru%2Fu89958586%2F-14%2Fx_ebd4cc20.jpg&amp;pos=7&amp;rpt=simage&amp;nojs=1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hyperlink" Target="http://images.yandex.ua/yandsearch?tld=ua&amp;p=3&amp;text=&#1080;&#1083;&#1083;&#1102;&#1089;&#1090;&#1088;&#1072;&#1094;&#1080;&#1080;%20&#1082;&#1072;&#1088;&#1090;&#1080;&#1085;&#1082;&#1080;%20&#1076;&#1088;&#1091;&#1079;&#1077;&#1081;%20&#1064;&#1086;&#1087;&#1077;&#1085;&#1072;%20&#1074;%20&#1055;&#1072;&#1088;&#1080;&#1078;&#1077;&amp;img_url=www.peoples.ru%2Fart%2Fmusic%2Fcomposer%2Fliszt%2Fliszt_ferenc.jpg&amp;pos=116&amp;rpt=simage&amp;nojs=1" TargetMode="External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ext=&#1080;&#1083;&#1083;&#1102;&#1089;&#1090;&#1088;&#1072;&#1094;&#1080;&#1080;%20&#1082;&#1086;&#1089;&#1090;&#1077;&#1083;&#1072;%20&#1057;&#1074;&#1103;&#1090;&#1086;&#1075;&#1086;%20&#1050;&#1088;&#1077;&#1089;&#1090;&#1072;%20&#1074;%20&#1042;&#1072;&#1088;&#1096;&#1072;&#1074;&#1077;&amp;img_url=world.lib.ru%2Fimg%2Fp%2Fpetrow_a_s%2Fpolvesna%2F05_serdceshopena.jpg&amp;pos=2&amp;rpt=simage&amp;nojs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ext=&#1080;&#1083;&#1083;&#1102;&#1089;&#1090;&#1088;&#1072;&#1094;&#1080;&#1080;%20&#1082;%20&#1087;&#1088;&#1077;&#1079;&#1077;&#1085;&#1090;&#1072;&#1094;&#1080;&#1080;%20&#1086;%20&#1078;&#1080;&#1079;&#1085;&#1080;%20&#1080;%20&#1090;&#1074;&#1086;&#1088;&#1095;&#1077;&#1089;&#1090;&#1074;&#1077;%20&#1060;&#1088;&#1077;&#1076;&#1077;&#1088;&#1080;&#1082;&#1072;%20&#1064;&#1086;&#1087;&#1077;&#1085;&#1072;&amp;noreask=1&amp;img_url=www.peoples.ru%2Fart%2Fmusic%2Fcomposer%2Fchopin%2Fchopin_200911192126383.jpg&amp;pos=14&amp;rpt=simage&amp;lr=142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hyperlink" Target="http://images.yandex.ua/yandsearch?tld=ua&amp;text=&#1080;&#1083;&#1083;&#1102;&#1089;&#1090;&#1088;&#1072;&#1094;&#1080;&#1080;%20&#1082;%20&#1084;&#1091;&#1079;&#1099;&#1082;&#1072;&#1083;&#1100;&#1085;&#1099;&#1084;%20&#1086;&#1073;&#1088;&#1072;&#1079;&#1072;&#1084;%20&#1087;&#1088;&#1086;&#1080;&#1079;&#1074;&#1077;&#1076;&#1077;&#1085;&#1080;&#1081;%20%20&#1064;&#1086;&#1087;&#1077;&#1085;&#1072;&amp;img_url=www.chitalnya.ru%2Fupload%2F794%2F57594663184136.gif&amp;pos=19&amp;rpt=simage&amp;nojs=1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ld=ua&amp;p=5&amp;text=&#1080;&#1083;&#1083;&#1102;&#1089;&#1090;&#1088;&#1072;&#1094;&#1080;&#1080;%20&#1082;%20&#1084;&#1091;&#1079;&#1099;&#1082;&#1072;&#1083;&#1100;&#1085;&#1099;&#1084;%20&#1086;&#1073;&#1088;&#1072;&#1079;&#1072;&#1084;%20&#1087;&#1088;&#1086;&#1080;&#1079;&#1074;&#1077;&#1076;&#1077;&#1085;&#1080;&#1081;%20%20&#1064;&#1086;&#1087;&#1077;&#1085;&#1072;&amp;img_url=www.stihi.ru%2Fpics%2F2010%2F03%2F09%2F6734.jpg&amp;pos=176&amp;rpt=simage&amp;nojs=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2285640"/>
            <a:ext cx="8686800" cy="43434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33"/>
                </a:solidFill>
                <a:latin typeface="Arial"/>
              </a:rPr>
              <a:t>Фредерик Шопен – душа фортепиа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623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Композитор-новатор вышел за рамки традиционного содержания ноктюрна, обогатив его настроениями сильных и ярких душевных пережи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472428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Жизнь Ф. Шопена в Париж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88620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581280" y="3886200"/>
            <a:ext cx="2819520" cy="217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14800" y="1600200"/>
            <a:ext cx="1673280" cy="2057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5867280" y="1600200"/>
            <a:ext cx="2600280" cy="1981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6705720" y="3886200"/>
            <a:ext cx="1706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</a:rPr>
              <a:t>Ф. Шопен. Скерцо (шутк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Сохраняет ли композитор шутливый характер музы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Из предложенных образов выберите те, которые вы ощутили в му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(шутливый, грациозный, светлый, романтический, настроения бури и натис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Продолжите пред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Отражая в своих произведениях глубокие чувства и переживани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Ф. Шопена по - праву можно назвать композитором …(импрессионистом, романтиком, классиком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Фортепиано в руках Шопена могло звучать филигранно, как маленький инструмент, а могло  звучать и как целый симфонический оркес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45720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17 октября  1849 года </a:t>
            </a:r>
            <a:br>
              <a:rPr sz="2800"/>
            </a:b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перестало биться сердце</a:t>
            </a:r>
            <a:br>
              <a:rPr sz="2800"/>
            </a:b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 великого польского компози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579132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996633"/>
                </a:solidFill>
                <a:latin typeface="Arial"/>
              </a:rPr>
              <a:t>«Там сердце мое, </a:t>
            </a:r>
            <a:br>
              <a:rPr sz="4400"/>
            </a:br>
            <a:r>
              <a:rPr b="1" i="1" lang="ru-RU" sz="4400" spc="-1" strike="noStrike">
                <a:solidFill>
                  <a:srgbClr val="996633"/>
                </a:solidFill>
                <a:latin typeface="Arial"/>
              </a:rPr>
              <a:t>где моя Роди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04920"/>
            <a:ext cx="3911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Закончите предложение. </a:t>
            </a:r>
            <a:br>
              <a:rPr sz="4400"/>
            </a:b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Ноктюрн – эт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народная песня, распространенная в Западной Украи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. вокальное произведение для голоса в сопровождении гита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3. лирическая пьеса с распевной широкой мелод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Из перечисленных музыкальных жанров назовите любимые жанры компози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1. этю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2. симфо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3. ноктюр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4. канта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5. оп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6. прелюд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7. сона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8. скерц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Назовите любимый </a:t>
            </a:r>
            <a:br>
              <a:rPr sz="4000"/>
            </a:b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музыкальный инструмент</a:t>
            </a:r>
            <a:br>
              <a:rPr sz="4000"/>
            </a:b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 Ф. Шоп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1</a:t>
            </a: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.</a:t>
            </a: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 гитар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2. фортепиан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3. скрипк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4. виолонч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812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(1810 – 184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Таинственный как дьявол, женственный и мужественный, непонятный и всем понятный, трагичный Шоп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                                       </a:t>
            </a: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С. Рихтер</a:t>
            </a: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33760" y="152280"/>
            <a:ext cx="23335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В каком городе</a:t>
            </a:r>
            <a:br>
              <a:rPr sz="4000"/>
            </a:b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 покоится сердце </a:t>
            </a:r>
            <a:br>
              <a:rPr sz="4000"/>
            </a:b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великого композитор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1. Кр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           </a:t>
            </a: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2. Варш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                    </a:t>
            </a: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3. Вроцл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909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Из предложенного перечня календарно-обрядовых песен выберите песни зимнего период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42670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1. Ой на горі та й женці жн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6633"/>
                </a:solidFill>
                <a:latin typeface="Arial"/>
              </a:rPr>
              <a:t>2.  Ішов Миколай лужком-береж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6633"/>
                </a:solidFill>
                <a:latin typeface="Arial"/>
              </a:rPr>
              <a:t>3.  Ой у лузі червона к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6633"/>
                </a:solidFill>
                <a:latin typeface="Arial"/>
              </a:rPr>
              <a:t>4.  Добрий вечір тобі, пане господар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6633"/>
                </a:solidFill>
                <a:latin typeface="Arial"/>
              </a:rPr>
              <a:t>5.  Щед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623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Arial"/>
              </a:rPr>
              <a:t>Каков характер песни</a:t>
            </a:r>
            <a:br>
              <a:rPr sz="4000"/>
            </a:br>
            <a:r>
              <a:rPr b="1" i="1" lang="uk-UA" sz="4000" spc="-1" strike="noStrike">
                <a:solidFill>
                  <a:srgbClr val="996633"/>
                </a:solidFill>
                <a:latin typeface="Arial"/>
              </a:rPr>
              <a:t>”Добрий вечір тобі, пане господарю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1.  Лир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2.  Радостный, торжественно-приподня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3.  Взволнов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4.  Спокой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511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6633"/>
                </a:solidFill>
                <a:latin typeface="Arial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В различных видах искусства  найдите иллюстрации о жизни и творчестве композитора Ф. Шоп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33"/>
                </a:solidFill>
                <a:latin typeface="Arial"/>
              </a:rPr>
              <a:t>Образы, отраженные в музыке Шопе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43434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71800" y="4800600"/>
            <a:ext cx="200016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562720" y="4800600"/>
            <a:ext cx="205740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2514600"/>
            <a:ext cx="1981440" cy="196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438280" y="2514600"/>
            <a:ext cx="2705400" cy="1998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57800" y="24382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60036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3581280"/>
            <a:ext cx="9144000" cy="32767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Произведения Шопена – это пушки, прикрытые цветам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                         </a:t>
            </a: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Р. Шума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33720" y="533520"/>
            <a:ext cx="49528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4952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Музыкальные мысли Ф. Шопена рождались в фортепианной музыке и передавали разнообразные настроения и чув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Любимые жанры  фортепианной музыки композитор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4724280" cy="46483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Этю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Полон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Мазур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Прелюд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Ноктюр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5680" y="2209680"/>
            <a:ext cx="4648320" cy="46483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Валь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Экспром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Сон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Скерц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Песни для голоса и фортепи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848720" cy="3962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Из букв сложите слова – жанры фортепианной муз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33"/>
                </a:solidFill>
                <a:latin typeface="Arial"/>
              </a:rPr>
              <a:t>Н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К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Е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К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Р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Т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Ц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Ю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О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Р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669900"/>
                </a:solidFill>
                <a:latin typeface="Arial"/>
              </a:rPr>
              <a:t>С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33"/>
                </a:solidFill>
                <a:latin typeface="Arial"/>
              </a:rPr>
              <a:t>Ноктюрн</a:t>
            </a:r>
            <a:br>
              <a:rPr sz="5400"/>
            </a:br>
            <a:r>
              <a:rPr b="1" i="1" lang="en-US" sz="5400" spc="-1" strike="noStrike">
                <a:solidFill>
                  <a:srgbClr val="996633"/>
                </a:solidFill>
                <a:latin typeface="Arial"/>
              </a:rPr>
              <a:t> (франц. «ночной») – </a:t>
            </a:r>
            <a:br>
              <a:rPr sz="5400"/>
            </a:br>
            <a:r>
              <a:rPr b="1" i="1" lang="en-US" sz="5400" spc="-1" strike="noStrike">
                <a:solidFill>
                  <a:srgbClr val="996633"/>
                </a:solidFill>
                <a:latin typeface="Arial"/>
              </a:rPr>
              <a:t>«песня ночи» -лирическая пьеса с распевной широкой мелоди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eedcb0"/>
          </a:solidFill>
          <a:ln w="9360">
            <a:solidFill>
              <a:srgbClr val="eddcb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Фредерик Шопен. Ноктюр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4114800" cy="2361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029200" y="3962520"/>
            <a:ext cx="3657600" cy="2361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952880" y="137160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57200" y="1371600"/>
            <a:ext cx="4114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09:57:54Z</dcterms:created>
  <dc:creator>Admin</dc:creator>
  <dc:description/>
  <dc:language>en-US</dc:language>
  <cp:lastModifiedBy>User</cp:lastModifiedBy>
  <dcterms:modified xsi:type="dcterms:W3CDTF">2013-11-29T18:35:3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203000000000001024140</vt:lpwstr>
  </property>
  <property fmtid="{D5CDD505-2E9C-101B-9397-08002B2CF9AE}" pid="3" name="Version">
    <vt:r8>1</vt:r8>
  </property>
</Properties>
</file>