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01F-DC4C-48A2-BDAA-5FEB4573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D61-7BB2-4DD9-B6D9-FFBB0290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7A2-AB32-4E20-8873-54403004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F73-FFC8-4E21-AE69-FE6C5C69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D3B-EA59-4766-A793-3C326F94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51E-1B5A-4CA2-ADFF-4CEC483D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9DD-7E0A-486C-9530-1BAB2EC7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B7E-95CB-404E-9554-414544C5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AEE-33C0-47EE-AA8D-18C1DC14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B05-CC68-4B28-AC9F-180269A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4BB-BC61-428C-8D3C-DFBD37D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354-8C19-4F7D-A610-E8F2BF2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EFFC-458A-4F3E-82F1-25B14AEC3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img_url=img0.liveinternet.ru%2Fimages%2Fattach%2Fc%2F0%2F47%2F348%2F47348409_img.jpg&amp;tld=ua&amp;p=4&amp;text=&#1080;&#1083;&#1083;&#1102;&#1089;&#1090;&#1088;&#1072;&#1094;&#1080;&#1080;%20&#1082;%20&#1087;&#1088;&#1077;&#1079;&#1077;&#1085;&#1090;&#1072;&#1094;&#1080;&#1080;%20&#1086;%20&#1078;&#1080;&#1079;&#1085;&#1080;%20&#1080;%20&#1090;&#1074;&#1086;&#1088;&#1095;&#1077;&#1089;&#1090;&#1074;&#1077;%20&#1060;&#1088;&#1077;&#1076;&#1077;&#1088;&#1080;&#1082;&#1072;%20&#1064;&#1086;&#1087;&#1077;&#1085;&#1072;&amp;noreask=1&amp;pos=122&amp;lr=142&amp;rpt=simage&amp;noj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ages.yandex.ua/yandsearch?text=&#1080;&#1083;&#1083;&#1102;&#1089;&#1090;&#1088;&#1072;&#1094;&#1080;&#1080;%20&#1086;%20&#1046;&#1086;&#1088;&#1078;%20&#1057;&#1072;&#1085;&#1076;&amp;img_url=cs5284.vkontakte.ru%2Fu89958586%2F-14%2Fx_ebd4cc20.jpg&amp;pos=7&amp;rpt=simage&amp;nojs=1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hyperlink" Target="http://images.yandex.ua/yandsearch?tld=ua&amp;p=3&amp;text=&#1080;&#1083;&#1083;&#1102;&#1089;&#1090;&#1088;&#1072;&#1094;&#1080;&#1080;%20&#1082;&#1072;&#1088;&#1090;&#1080;&#1085;&#1082;&#1080;%20&#1076;&#1088;&#1091;&#1079;&#1077;&#1081;%20&#1064;&#1086;&#1087;&#1077;&#1085;&#1072;%20&#1074;%20&#1055;&#1072;&#1088;&#1080;&#1078;&#1077;&amp;img_url=www.peoples.ru%2Fart%2Fmusic%2Fcomposer%2Fliszt%2Fliszt_ferenc.jpg&amp;pos=116&amp;rpt=simage&amp;nojs=1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3;&#1083;&#1102;&#1089;&#1090;&#1088;&#1072;&#1094;&#1080;&#1080;%20&#1082;&#1086;&#1089;&#1090;&#1077;&#1083;&#1072;%20&#1057;&#1074;&#1103;&#1090;&#1086;&#1075;&#1086;%20&#1050;&#1088;&#1077;&#1089;&#1090;&#1072;%20&#1074;%20&#1042;&#1072;&#1088;&#1096;&#1072;&#1074;&#1077;&amp;img_url=world.lib.ru%2Fimg%2Fp%2Fpetrow_a_s%2Fpolvesna%2F05_serdceshopena.jpg&amp;pos=2&amp;rpt=simage&amp;noj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3;&#1083;&#1102;&#1089;&#1090;&#1088;&#1072;&#1094;&#1080;&#1080;%20&#1082;%20&#1087;&#1088;&#1077;&#1079;&#1077;&#1085;&#1090;&#1072;&#1094;&#1080;&#1080;%20&#1086;%20&#1078;&#1080;&#1079;&#1085;&#1080;%20&#1080;%20&#1090;&#1074;&#1086;&#1088;&#1095;&#1077;&#1089;&#1090;&#1074;&#1077;%20&#1060;&#1088;&#1077;&#1076;&#1077;&#1088;&#1080;&#1082;&#1072;%20&#1064;&#1086;&#1087;&#1077;&#1085;&#1072;&amp;noreask=1&amp;img_url=www.peoples.ru%2Fart%2Fmusic%2Fcomposer%2Fchopin%2Fchopin_200911192126383.jpg&amp;pos=14&amp;rpt=simage&amp;lr=14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images.yandex.ua/yandsearch?tld=ua&amp;text=&#1080;&#1083;&#1083;&#1102;&#1089;&#1090;&#1088;&#1072;&#1094;&#1080;&#1080;%20&#1082;%20&#1084;&#1091;&#1079;&#1099;&#1082;&#1072;&#1083;&#1100;&#1085;&#1099;&#1084;%20&#1086;&#1073;&#1088;&#1072;&#1079;&#1072;&#1084;%20&#1087;&#1088;&#1086;&#1080;&#1079;&#1074;&#1077;&#1076;&#1077;&#1085;&#1080;&#1081;%20%20&#1064;&#1086;&#1087;&#1077;&#1085;&#1072;&amp;img_url=www.chitalnya.ru%2Fupload%2F794%2F57594663184136.gif&amp;pos=19&amp;rpt=simage&amp;nojs=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ld=ua&amp;p=5&amp;text=&#1080;&#1083;&#1083;&#1102;&#1089;&#1090;&#1088;&#1072;&#1094;&#1080;&#1080;%20&#1082;%20&#1084;&#1091;&#1079;&#1099;&#1082;&#1072;&#1083;&#1100;&#1085;&#1099;&#1084;%20&#1086;&#1073;&#1088;&#1072;&#1079;&#1072;&#1084;%20&#1087;&#1088;&#1086;&#1080;&#1079;&#1074;&#1077;&#1076;&#1077;&#1085;&#1080;&#1081;%20%20&#1064;&#1086;&#1087;&#1077;&#1085;&#1072;&amp;img_url=www.stihi.ru%2Fpics%2F2010%2F03%2F09%2F6734.jpg&amp;pos=176&amp;rpt=simage&amp;noj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285640"/>
            <a:ext cx="8686800" cy="4343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Фредерик Шопен – душа фортепиа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Композитор-новатор вышел за рамки традиционного содержания ноктюрна, обогатив его настроениями сильных и ярких душевных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724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Жизнь Ф. Шопена в Париж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8620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581280" y="3886200"/>
            <a:ext cx="2819520" cy="217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1600200"/>
            <a:ext cx="167328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867280" y="1600200"/>
            <a:ext cx="260028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705720" y="3886200"/>
            <a:ext cx="170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Ф. Шопен. Скерцо (шут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Сохраняет ли композитор шутливый характер музы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Из предложенных образов выберите те, которые вы ощутили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(шутливый, грациозный, светлый, романтический, настроения бури и натис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Продолжите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Отражая в своих произведениях глубокие чувства и пережива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Ф. Шопена по - праву можно назвать композитором …(импрессионистом, романтиком, классиком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Фортепиано в руках Шопена могло звучать филигранно, как маленький инструмент, а могло  звучать и как целый симфонический оркес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4572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17 октября  1849 года 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перестало биться сердце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 великого польского компози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57913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«Там сердце мое, </a:t>
            </a:r>
            <a:br>
              <a:rPr sz="4400"/>
            </a:b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где моя Род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04920"/>
            <a:ext cx="3911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Закончите предложение. </a:t>
            </a:r>
            <a:br>
              <a:rPr sz="4400"/>
            </a:b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Ноктюрн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народная песня, распространенная в Западной Укра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. вокальное произведение для голоса в сопровождении гит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3. лирическая пьеса с распевной широкой мелод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Из перечисленных музыкальных жанров назовите любимые жанры компози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1. этю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. симфо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3. ноктюр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4. кант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5. оп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6. прелюд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7. сон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8. скер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Назовите любимый 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музыкальный инструмент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Ф. Шоп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1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 гитар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2. фортепиа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3. скрип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4. виолонч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(1810 – 18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Таинственный как дьявол, женственный и мужественный, непонятный и всем понятный, трагичный Шоп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                                       </a:t>
            </a: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. Рихтер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33760" y="152280"/>
            <a:ext cx="2333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В каком городе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покоится сердце 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великого композито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1. Кр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. Варш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3. Вроц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Из предложенного перечня календарно-обрядовых песен выберите песни зимнего перио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4267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1. Ой на горі та й женці ж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2.  Ішов Миколай лужком-береж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3.  Ой у лузі червона к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4.  Добрий вечір тобі, пане господар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5.  Щед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Каков характер песни</a:t>
            </a:r>
            <a:br>
              <a:rPr sz="4000"/>
            </a:br>
            <a:r>
              <a:rPr b="1" i="1" lang="uk-UA" sz="4000" spc="-1" strike="noStrike">
                <a:solidFill>
                  <a:srgbClr val="996633"/>
                </a:solidFill>
                <a:latin typeface="Arial"/>
              </a:rPr>
              <a:t>”Добрий вечір тобі, пане господарю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1.  Ли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2.  Радостный, торжественно-приподн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3.  Взволнов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4.  Спокой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511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6633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В различных видах искусства  найдите иллюстрации о жизни и творчестве композитора Ф. Шоп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Образы, отраженные в музыке Шоп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1800" y="4800600"/>
            <a:ext cx="20001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562720" y="4800600"/>
            <a:ext cx="205740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1981440" cy="196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438280" y="2514600"/>
            <a:ext cx="2705400" cy="199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2438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036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Произведения Шопена – это пушки, прикрытые цвета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                         </a:t>
            </a: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Р. Шум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49528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Музыкальные мысли Ф. Шопена рождались в фортепианной музыке и передавали разнообразные настроения и чу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Любимые жанры  фортепианной музыки композито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4724280" cy="4648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тю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олон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Мазу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релюд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Ноктюр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680" y="2209680"/>
            <a:ext cx="4648320" cy="4648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Валь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кспром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он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кер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есни для голоса и фортепи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84872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Из букв сложите слова – жанры фортепианной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Т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Ю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О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Ноктюрн</a:t>
            </a:r>
            <a:br>
              <a:rPr sz="5400"/>
            </a:b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 (франц. «ночной») – </a:t>
            </a:r>
            <a:br>
              <a:rPr sz="5400"/>
            </a:b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«песня ночи» -лирическая пьеса с распевной широкой мелоди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edcb0"/>
          </a:solidFill>
          <a:ln w="9360">
            <a:solidFill>
              <a:srgbClr val="eddcb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Фредерик Шопен. Ноктюр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657600" cy="23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52880" y="13716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" y="137160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9:57:54Z</dcterms:created>
  <dc:creator>Admin</dc:creator>
  <dc:description/>
  <dc:language>en-US</dc:language>
  <cp:lastModifiedBy>User</cp:lastModifiedBy>
  <dcterms:modified xsi:type="dcterms:W3CDTF">2013-11-29T18:35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3000000000001024140</vt:lpwstr>
  </property>
  <property fmtid="{D5CDD505-2E9C-101B-9397-08002B2CF9AE}" pid="3" name="Version">
    <vt:r8>1</vt:r8>
  </property>
</Properties>
</file>