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0B8-A61E-4501-A6D9-401B6EC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DB3-C16D-4F85-95E6-235B0C1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9F3-B031-4C58-8DDB-BF7C4A3A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3CF-5474-4C7F-A91A-82504F44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174-798C-435A-B52F-B8C5E39E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130-ABF5-4C80-B092-5BC8A87D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6E6-D47C-419B-9C79-F50FD15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2B8-9B04-4894-81F5-0E04191B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8E2-5F20-46EB-A2FE-619FD11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2A2-BB67-456A-AA25-11057F7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088-6AB9-46E4-A2BB-2CC523B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5E4-DA84-4E66-88DD-1FB78D02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A3E-CC3C-4091-A81E-3C43695BD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img_url=img0.liveinternet.ru%2Fimages%2Fattach%2Fc%2F0%2F47%2F348%2F47348409_img.jpg&amp;tld=ua&amp;p=4&amp;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pos=122&amp;lr=142&amp;rpt=simage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s.yandex.ua/yandsearch?text=&#1080;&#1083;&#1083;&#1102;&#1089;&#1090;&#1088;&#1072;&#1094;&#1080;&#1080;%20&#1086;%20&#1046;&#1086;&#1088;&#1078;%20&#1057;&#1072;&#1085;&#1076;&amp;img_url=cs5284.vkontakte.ru%2Fu89958586%2F-14%2Fx_ebd4cc20.jpg&amp;pos=7&amp;rpt=simage&amp;nojs=1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images.yandex.ua/yandsearch?tld=ua&amp;p=3&amp;text=&#1080;&#1083;&#1083;&#1102;&#1089;&#1090;&#1088;&#1072;&#1094;&#1080;&#1080;%20&#1082;&#1072;&#1088;&#1090;&#1080;&#1085;&#1082;&#1080;%20&#1076;&#1088;&#1091;&#1079;&#1077;&#1081;%20&#1064;&#1086;&#1087;&#1077;&#1085;&#1072;%20&#1074;%20&#1055;&#1072;&#1088;&#1080;&#1078;&#1077;&amp;img_url=www.peoples.ru%2Fart%2Fmusic%2Fcomposer%2Fliszt%2Fliszt_ferenc.jpg&amp;pos=116&amp;rpt=simage&amp;nojs=1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&#1086;&#1089;&#1090;&#1077;&#1083;&#1072;%20&#1057;&#1074;&#1103;&#1090;&#1086;&#1075;&#1086;%20&#1050;&#1088;&#1077;&#1089;&#1090;&#1072;%20&#1074;%20&#1042;&#1072;&#1088;&#1096;&#1072;&#1074;&#1077;&amp;img_url=world.lib.ru%2Fimg%2Fp%2Fpetrow_a_s%2Fpolvesna%2F05_serdceshopena.jpg&amp;pos=2&amp;rpt=simage&amp;noj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3;&#1083;&#1102;&#1089;&#1090;&#1088;&#1072;&#1094;&#1080;&#1080;%20&#1082;%20&#1087;&#1088;&#1077;&#1079;&#1077;&#1085;&#1090;&#1072;&#1094;&#1080;&#1080;%20&#1086;%20&#1078;&#1080;&#1079;&#1085;&#1080;%20&#1080;%20&#1090;&#1074;&#1086;&#1088;&#1095;&#1077;&#1089;&#1090;&#1074;&#1077;%20&#1060;&#1088;&#1077;&#1076;&#1077;&#1088;&#1080;&#1082;&#1072;%20&#1064;&#1086;&#1087;&#1077;&#1085;&#1072;&amp;noreask=1&amp;img_url=www.peoples.ru%2Fart%2Fmusic%2Fcomposer%2Fchopin%2Fchopin_200911192126383.jpg&amp;pos=14&amp;rpt=simage&amp;lr=14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images.yandex.ua/yandsearch?tld=ua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chitalnya.ru%2Fupload%2F794%2F57594663184136.gif&amp;pos=19&amp;rpt=simage&amp;nojs=1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ld=ua&amp;p=5&amp;text=&#1080;&#1083;&#1083;&#1102;&#1089;&#1090;&#1088;&#1072;&#1094;&#1080;&#1080;%20&#1082;%20&#1084;&#1091;&#1079;&#1099;&#1082;&#1072;&#1083;&#1100;&#1085;&#1099;&#1084;%20&#1086;&#1073;&#1088;&#1072;&#1079;&#1072;&#1084;%20&#1087;&#1088;&#1086;&#1080;&#1079;&#1074;&#1077;&#1076;&#1077;&#1085;&#1080;&#1081;%20%20&#1064;&#1086;&#1087;&#1077;&#1085;&#1072;&amp;img_url=www.stihi.ru%2Fpics%2F2010%2F03%2F09%2F6734.jpg&amp;pos=176&amp;rpt=simage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2285640"/>
            <a:ext cx="86868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Фредерик Шопен – душа фортепиа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Композитор-новатор вышел за рамки традиционного содержания ноктюрна, обогатив его настроениями сильных и ярких душев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724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Жизнь Ф. Шопена в Пари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8620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81280" y="3886200"/>
            <a:ext cx="2819520" cy="21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1600200"/>
            <a:ext cx="167328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867280" y="1600200"/>
            <a:ext cx="26002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</a:rPr>
              <a:t>Ф. Шопен. Скерцо (шут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Сохраняет ли композитор шутливый характер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редложенных образов выберите те, которые вы ощутили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(шутливый, грациозный, светлый, романтический, настроения бури и нати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долж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тражая в своих произведениях глубокие чувства и пережива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Ф. Шопена по - праву можно назвать композитором …(импрессионистом, романтиком, классиком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Фортепиано в руках Шопена могло звучать филигранно, как маленький инструмент, а могло  звучать и как целый 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45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7 октября  1849 года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перестало биться сердце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 великого польского компози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7913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«Там сердце мое, </a:t>
            </a:r>
            <a:br>
              <a:rPr sz="4400"/>
            </a:br>
            <a:r>
              <a:rPr b="1" i="1" lang="ru-RU" sz="4400" spc="-1" strike="noStrike">
                <a:solidFill>
                  <a:srgbClr val="996633"/>
                </a:solidFill>
                <a:latin typeface="Arial"/>
              </a:rPr>
              <a:t>где моя Род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04920"/>
            <a:ext cx="3911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Закончите пред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Ноктюрн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народная песня, распространенная в Западной Укра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. вокальное произведение для голоса в сопровождении гит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3. лирическая пьеса с распевной широкой мелод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Из перечисленных музыкальных жанров назовите любимые жанры компози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этю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симф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ноктюр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4. кант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5. оп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6. прелю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7. сон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8. скер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Назовите любимый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музыкальный инструмент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Ф.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гитар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2.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3. скрип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4. виолонч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(1810 – 18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Таинственный как дьявол, женственный и мужественный, непонятный и всем понятный, трагичный Шоп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                                       </a:t>
            </a: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. Рихтер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33760" y="152280"/>
            <a:ext cx="2333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 каком городе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 покоится сердце </a:t>
            </a:r>
            <a:br>
              <a:rPr sz="4000"/>
            </a:b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великого композит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1. Кр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2. Варш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3. Вроц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Из предложенного перечня календарно-обрядовых песен выберите песни зимнего пери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Arial"/>
              </a:rPr>
              <a:t>1. Ой на горі та й женці ж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2.  Ішов Миколай лужком-береж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3.  Ой у лузі червона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4.  Добрий вечір тобі, пане господа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6633"/>
                </a:solidFill>
                <a:latin typeface="Arial"/>
              </a:rPr>
              <a:t>5.  Щед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Каков характер песни</a:t>
            </a:r>
            <a:br>
              <a:rPr sz="4000"/>
            </a:br>
            <a:r>
              <a:rPr b="1" i="1" lang="uk-UA" sz="4000" spc="-1" strike="noStrike">
                <a:solidFill>
                  <a:srgbClr val="996633"/>
                </a:solidFill>
                <a:latin typeface="Arial"/>
              </a:rPr>
              <a:t>”Добрий вечір тобі, пане господарю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1.  Ли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2.  Радостный, торжественно-приподн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3.  Взволн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996633"/>
                </a:solidFill>
                <a:latin typeface="Arial"/>
              </a:rPr>
              <a:t>4.  Спок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511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6633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В различных видах искусства  найдите иллюстрации о жизни и творчестве композитора Ф. Шоп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Образы, отраженные в музыке Шоп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1800" y="48006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62720" y="480060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1981440" cy="196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2705400" cy="199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5780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Произведения Шопена – это пушки, прикрытые цвет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                         </a:t>
            </a: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Р. Шум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952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Arial"/>
              </a:rPr>
              <a:t>Музыкальные мысли Ф. Шопена рождались в фортепианной музыке и передавали разнообразные настроения и чу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Любимые жанры  фортепианной музыки композит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72428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ю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олон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Мазу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релю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Ноктюр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680" y="2209680"/>
            <a:ext cx="4648320" cy="464832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Валь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кспром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он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Скер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Песни для голоса и фортепи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Из букв сложите слова – жанры фортепианной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Ю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dc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Ноктюрн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 (франц. «ночной») – </a:t>
            </a:r>
            <a:br>
              <a:rPr sz="5400"/>
            </a:br>
            <a:r>
              <a:rPr b="1" i="1" lang="en-US" sz="5400" spc="-1" strike="noStrike">
                <a:solidFill>
                  <a:srgbClr val="996633"/>
                </a:solidFill>
                <a:latin typeface="Arial"/>
              </a:rPr>
              <a:t>«песня ночи» -лирическая пьеса с распевной широкой мелоди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eedcb0"/>
          </a:solidFill>
          <a:ln w="9360">
            <a:solidFill>
              <a:srgbClr val="eddcb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Фредерик Шопен. Ноктюр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6576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3716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57:54Z</dcterms:created>
  <dc:creator>Admin</dc:creator>
  <dc:description/>
  <dc:language>en-US</dc:language>
  <cp:lastModifiedBy>User</cp:lastModifiedBy>
  <dcterms:modified xsi:type="dcterms:W3CDTF">2013-11-29T18:35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3000000000001024140</vt:lpwstr>
  </property>
  <property fmtid="{D5CDD505-2E9C-101B-9397-08002B2CF9AE}" pid="3" name="Version">
    <vt:r8>1</vt:r8>
  </property>
</Properties>
</file>