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FBA-99E3-4B6E-B350-31F776DF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E7F-3510-4675-9A55-2883136B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9A4-B3F1-4812-B64B-579DCE7A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AE2-62A7-4A0B-B0CC-2AA81EB4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D9C-8DE7-4A78-B562-0C2F544A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6B76-3DAD-4178-956F-8D0B8423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9D45-4DD3-4241-A0ED-EDA2603D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908-80D3-48AA-9139-F562CCFB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54F-CFC1-42A3-9D75-D40146FD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205-72FD-4727-8639-1A816EEB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E61-8ED7-40E3-A3C1-26B99BE1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202-F9A8-4AE1-93FC-5BEAD205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2769-0616-4886-A105-B512FE412A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74;&#1099;&#1089;&#1086;&#1094;&#1082;&#1080;&#1081;%20&#1055;&#1045;&#1057;&#1053;&#1071;%20&#1054;%20&#1047;&#1045;&#1052;&#1051;&#1045;.mp3" TargetMode="External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кладная графика. Плакат. Экологический плакат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876920" y="525780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йрапетян И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учитель изобразитель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скусства ДЗОШ № 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C:\Documents and Settings\Admin\Мои документы\Загрузки\экоплакат8.gif"/>
          <p:cNvPicPr/>
          <p:nvPr/>
        </p:nvPicPr>
        <p:blipFill>
          <a:blip r:embed="rId1"/>
          <a:stretch/>
        </p:blipFill>
        <p:spPr>
          <a:xfrm>
            <a:off x="3200400" y="1905120"/>
            <a:ext cx="2743200" cy="387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Admin\Мои документы\Загрузки\экоплакат9.gif"/>
          <p:cNvPicPr/>
          <p:nvPr/>
        </p:nvPicPr>
        <p:blipFill>
          <a:blip r:embed="rId2"/>
          <a:stretch/>
        </p:blipFill>
        <p:spPr>
          <a:xfrm>
            <a:off x="228600" y="2514600"/>
            <a:ext cx="2743200" cy="382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Admin\Мои документы\Загрузки\экоплак10.gif"/>
          <p:cNvPicPr/>
          <p:nvPr/>
        </p:nvPicPr>
        <p:blipFill>
          <a:blip r:embed="rId3"/>
          <a:stretch/>
        </p:blipFill>
        <p:spPr>
          <a:xfrm>
            <a:off x="6172200" y="1600200"/>
            <a:ext cx="2585880" cy="366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1951200" cy="2438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2" name="TextBox 2"/>
          <p:cNvSpPr/>
          <p:nvPr/>
        </p:nvSpPr>
        <p:spPr>
          <a:xfrm>
            <a:off x="2819520" y="5867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ладимир Маяковс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2036880" cy="2971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6477120" y="304920"/>
            <a:ext cx="2403360" cy="2438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5" name="Picture 5" descr=""/>
          <p:cNvPicPr/>
          <p:nvPr/>
        </p:nvPicPr>
        <p:blipFill>
          <a:blip r:embed="rId4"/>
          <a:stretch/>
        </p:blipFill>
        <p:spPr>
          <a:xfrm>
            <a:off x="6477120" y="3200400"/>
            <a:ext cx="2133360" cy="24811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>
            <a:off x="2666880" y="457200"/>
            <a:ext cx="3505320" cy="5022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472464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и и виды плаката:</a:t>
            </a: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агитация       о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бщественно-политический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реклама      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екламны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пропаганда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оциальный и экологически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информация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релищны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обучение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инструктаж      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чебный</a:t>
            </a:r>
            <a:br>
              <a:rPr sz="2800"/>
            </a:b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98" name="Прямая со стрелкой 4"/>
          <p:cNvCxnSpPr/>
          <p:nvPr/>
        </p:nvCxnSpPr>
        <p:spPr>
          <a:xfrm>
            <a:off x="2895120" y="3200400"/>
            <a:ext cx="6865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9" name="Прямая со стрелкой 6"/>
          <p:cNvCxnSpPr/>
          <p:nvPr/>
        </p:nvCxnSpPr>
        <p:spPr>
          <a:xfrm>
            <a:off x="2590920" y="1066320"/>
            <a:ext cx="7624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0" name="Прямая со стрелкой 7"/>
          <p:cNvCxnSpPr/>
          <p:nvPr/>
        </p:nvCxnSpPr>
        <p:spPr>
          <a:xfrm>
            <a:off x="2514240" y="2362320"/>
            <a:ext cx="6865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1" name="Прямая со стрелкой 9"/>
          <p:cNvCxnSpPr/>
          <p:nvPr/>
        </p:nvCxnSpPr>
        <p:spPr>
          <a:xfrm>
            <a:off x="3200040" y="4495320"/>
            <a:ext cx="76284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2" name="Прямая со стрелкой 11"/>
          <p:cNvCxnSpPr/>
          <p:nvPr/>
        </p:nvCxnSpPr>
        <p:spPr>
          <a:xfrm>
            <a:off x="2971440" y="5791320"/>
            <a:ext cx="7628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03" name="Picture 8" descr="C:\Documents and Settings\Admin\Мои документы\Загрузки\плакат ч-б.jpg"/>
          <p:cNvPicPr/>
          <p:nvPr/>
        </p:nvPicPr>
        <p:blipFill>
          <a:blip r:embed="rId1"/>
          <a:stretch/>
        </p:blipFill>
        <p:spPr>
          <a:xfrm>
            <a:off x="4876920" y="990720"/>
            <a:ext cx="36604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плаката: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ысл понятен сразу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Легко запоминается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ивлекает внимание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зображение 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кст – одно цело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5" name="Picture 4" descr="C:\Documents and Settings\Admin\Мои документы\Загрузки\лотрек.jpg"/>
          <p:cNvPicPr/>
          <p:nvPr/>
        </p:nvPicPr>
        <p:blipFill>
          <a:blip r:embed="rId1"/>
          <a:stretch/>
        </p:blipFill>
        <p:spPr>
          <a:xfrm>
            <a:off x="4648320" y="380880"/>
            <a:ext cx="42130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йдите общие средства выразительности плаката: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7" name="Рисунок 2" descr="31ec08051c04.jpg"/>
          <p:cNvPicPr/>
          <p:nvPr/>
        </p:nvPicPr>
        <p:blipFill>
          <a:blip r:embed="rId1"/>
          <a:stretch/>
        </p:blipFill>
        <p:spPr>
          <a:xfrm>
            <a:off x="0" y="1600200"/>
            <a:ext cx="2971800" cy="49528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" descr="PV-5-smol.jpg"/>
          <p:cNvPicPr/>
          <p:nvPr/>
        </p:nvPicPr>
        <p:blipFill>
          <a:blip r:embed="rId2"/>
          <a:stretch/>
        </p:blipFill>
        <p:spPr>
          <a:xfrm>
            <a:off x="3048120" y="1600200"/>
            <a:ext cx="2895480" cy="49528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Томашевский Евгений Эдуардович Открой глаза.jpg"/>
          <p:cNvPicPr/>
          <p:nvPr/>
        </p:nvPicPr>
        <p:blipFill>
          <a:blip r:embed="rId3"/>
          <a:stretch/>
        </p:blipFill>
        <p:spPr>
          <a:xfrm>
            <a:off x="6172200" y="1600200"/>
            <a:ext cx="2666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42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плаката: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астность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мало цветов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четкое выдел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озиционного центра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бобщённые форм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едметов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отсутствие деталей;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внимание на центральную фигуру;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стиль шрифта (текст краткий, легко                                                                  читается).</a:t>
            </a:r>
            <a:br>
              <a:rPr sz="3600"/>
            </a:b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Picture 3" descr="C:\Documents and Settings\Admin\Мои документы\Загрузки\плакат.jpg"/>
          <p:cNvPicPr/>
          <p:nvPr/>
        </p:nvPicPr>
        <p:blipFill>
          <a:blip r:embed="rId1"/>
          <a:stretch/>
        </p:blipFill>
        <p:spPr>
          <a:xfrm>
            <a:off x="5486400" y="228600"/>
            <a:ext cx="3333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poster-60.jpg"/>
          <p:cNvPicPr/>
          <p:nvPr/>
        </p:nvPicPr>
        <p:blipFill>
          <a:blip r:embed="rId1"/>
          <a:stretch/>
        </p:blipFill>
        <p:spPr>
          <a:xfrm>
            <a:off x="4495680" y="304920"/>
            <a:ext cx="3754440" cy="61135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дмитрий моор.jpg"/>
          <p:cNvPicPr/>
          <p:nvPr/>
        </p:nvPicPr>
        <p:blipFill>
          <a:blip r:embed="rId2"/>
          <a:stretch/>
        </p:blipFill>
        <p:spPr>
          <a:xfrm>
            <a:off x="762120" y="533520"/>
            <a:ext cx="2361960" cy="33051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705600" y="4114800"/>
            <a:ext cx="35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Дмитрий Мо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114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Экологический плакат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6" name="Picture 5" descr="C:\Documents and Settings\Admin\Мои документы\Загрузки\экоплакат4.gif"/>
          <p:cNvPicPr/>
          <p:nvPr/>
        </p:nvPicPr>
        <p:blipFill>
          <a:blip r:embed="rId2"/>
          <a:stretch/>
        </p:blipFill>
        <p:spPr>
          <a:xfrm>
            <a:off x="228600" y="2438280"/>
            <a:ext cx="4807080" cy="3200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:\Documents and Settings\Admin\Мои документы\Загрузки\экоплакат12.jpg"/>
          <p:cNvPicPr/>
          <p:nvPr/>
        </p:nvPicPr>
        <p:blipFill>
          <a:blip r:embed="rId3"/>
          <a:stretch/>
        </p:blipFill>
        <p:spPr>
          <a:xfrm>
            <a:off x="5410080" y="685800"/>
            <a:ext cx="353376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C:\Documents and Settings\Admin\Мои документы\Загрузки\экоплакат3.jpg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C:\Documents and Settings\Admin\Мои документы\Загрузки\экоплакат2.jpg"/>
          <p:cNvPicPr/>
          <p:nvPr/>
        </p:nvPicPr>
        <p:blipFill>
          <a:blip r:embed="rId1"/>
          <a:stretch/>
        </p:blipFill>
        <p:spPr>
          <a:xfrm>
            <a:off x="380880" y="380880"/>
            <a:ext cx="3975120" cy="6096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Documents and Settings\Admin\Мои документы\Загрузки\экоплакат6.jpg"/>
          <p:cNvPicPr/>
          <p:nvPr/>
        </p:nvPicPr>
        <p:blipFill>
          <a:blip r:embed="rId2"/>
          <a:stretch/>
        </p:blipFill>
        <p:spPr>
          <a:xfrm>
            <a:off x="4648320" y="380880"/>
            <a:ext cx="4038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638680" y="53337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Детские </a:t>
            </a:r>
            <a:br>
              <a:rPr sz="3600"/>
            </a:b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работы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2" name="Picture 6" descr="C:\Documents and Settings\Admin\Мои документы\Загрузки\экоплак7.jpg"/>
          <p:cNvPicPr/>
          <p:nvPr/>
        </p:nvPicPr>
        <p:blipFill>
          <a:blip r:embed="rId1"/>
          <a:stretch/>
        </p:blipFill>
        <p:spPr>
          <a:xfrm>
            <a:off x="5334120" y="380880"/>
            <a:ext cx="30985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Documents and Settings\Admin\Мои документы\Загрузки\экоплакат13.jpg"/>
          <p:cNvPicPr/>
          <p:nvPr/>
        </p:nvPicPr>
        <p:blipFill>
          <a:blip r:embed="rId2"/>
          <a:stretch/>
        </p:blipFill>
        <p:spPr>
          <a:xfrm>
            <a:off x="533520" y="304920"/>
            <a:ext cx="417168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бери  репродукции, относящиеся к графике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38480" y="3962160"/>
            <a:ext cx="4572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D:\для работы\урок 2010\графика\графика\onegin.jpg"/>
          <p:cNvPicPr/>
          <p:nvPr/>
        </p:nvPicPr>
        <p:blipFill>
          <a:blip r:embed="rId1"/>
          <a:stretch/>
        </p:blipFill>
        <p:spPr>
          <a:xfrm>
            <a:off x="457200" y="2743200"/>
            <a:ext cx="1828800" cy="1784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9" name="Picture 3" descr="D:\для работы\урок 2010\графика\графика\васильев Дали изборские.bmp"/>
          <p:cNvPicPr/>
          <p:nvPr/>
        </p:nvPicPr>
        <p:blipFill>
          <a:blip r:embed="rId2"/>
          <a:stretch/>
        </p:blipFill>
        <p:spPr>
          <a:xfrm>
            <a:off x="4191120" y="2209680"/>
            <a:ext cx="2085840" cy="1447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0" name="Picture 4" descr="D:\для работы\урок 2010\репродукции, наглядность\алёнушка.PNG"/>
          <p:cNvPicPr/>
          <p:nvPr/>
        </p:nvPicPr>
        <p:blipFill>
          <a:blip r:embed="rId3"/>
          <a:stretch/>
        </p:blipFill>
        <p:spPr>
          <a:xfrm>
            <a:off x="2438280" y="1752480"/>
            <a:ext cx="1587600" cy="226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1" name="Picture 5" descr="D:\для работы\урок 2010\репродукции, наглядность\Левитан 1895 г. Золотая осень.jpg"/>
          <p:cNvPicPr/>
          <p:nvPr/>
        </p:nvPicPr>
        <p:blipFill>
          <a:blip r:embed="rId4"/>
          <a:stretch/>
        </p:blipFill>
        <p:spPr>
          <a:xfrm>
            <a:off x="6553080" y="1447920"/>
            <a:ext cx="2162160" cy="144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" name="Picture 2" descr="D:\для работы\урок 2010\графика\графика\onegin.jpg"/>
          <p:cNvPicPr/>
          <p:nvPr/>
        </p:nvPicPr>
        <p:blipFill>
          <a:blip r:embed="rId5"/>
          <a:stretch/>
        </p:blipFill>
        <p:spPr>
          <a:xfrm>
            <a:off x="4343400" y="4952880"/>
            <a:ext cx="1447920" cy="1413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3" name="Picture 3" descr="D:\для работы\урок 2010\графика\графика\васильев Дали изборские.bmp"/>
          <p:cNvPicPr/>
          <p:nvPr/>
        </p:nvPicPr>
        <p:blipFill>
          <a:blip r:embed="rId6"/>
          <a:stretch/>
        </p:blipFill>
        <p:spPr>
          <a:xfrm>
            <a:off x="6248520" y="4952880"/>
            <a:ext cx="2085840" cy="1447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410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то такое графика?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График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вид изобразительного искусства, основанный на искусстве рису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5" descr="C:\Documents and Settings\Admin\Мои документы\Загрузки\прикладная графика.jpeg"/>
          <p:cNvPicPr/>
          <p:nvPr/>
        </p:nvPicPr>
        <p:blipFill>
          <a:blip r:embed="rId1"/>
          <a:stretch/>
        </p:blipFill>
        <p:spPr>
          <a:xfrm>
            <a:off x="609480" y="2666880"/>
            <a:ext cx="7925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предели к какому виду графики относятся данные произведения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1068120" y="533412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АК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307440" y="2438280"/>
            <a:ext cx="33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НИЖНАЯ ГРАФ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392040" y="434340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ЬЮТЕРН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828800" cy="2440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2" name="Picture 16" descr="Веселые чижи. Стихи детских поэтов"/>
          <p:cNvPicPr/>
          <p:nvPr/>
        </p:nvPicPr>
        <p:blipFill>
          <a:blip r:embed="rId2"/>
          <a:stretch/>
        </p:blipFill>
        <p:spPr>
          <a:xfrm>
            <a:off x="6781680" y="3733920"/>
            <a:ext cx="1752840" cy="247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3" name="Прямоугольник 13"/>
          <p:cNvSpPr/>
          <p:nvPr/>
        </p:nvSpPr>
        <p:spPr>
          <a:xfrm>
            <a:off x="288000" y="327672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НКОВАЯ ГРАФ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14"/>
          <p:cNvSpPr/>
          <p:nvPr/>
        </p:nvSpPr>
        <p:spPr>
          <a:xfrm>
            <a:off x="4343400" y="2209680"/>
            <a:ext cx="457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15"/>
          <p:cNvSpPr/>
          <p:nvPr/>
        </p:nvSpPr>
        <p:spPr>
          <a:xfrm>
            <a:off x="8153280" y="838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16"/>
          <p:cNvSpPr/>
          <p:nvPr/>
        </p:nvSpPr>
        <p:spPr>
          <a:xfrm>
            <a:off x="5562720" y="5791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17"/>
          <p:cNvSpPr/>
          <p:nvPr/>
        </p:nvSpPr>
        <p:spPr>
          <a:xfrm>
            <a:off x="8534520" y="5410080"/>
            <a:ext cx="457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1854360" cy="2397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69" name="Группа 15"/>
          <p:cNvGrpSpPr/>
          <p:nvPr/>
        </p:nvGrpSpPr>
        <p:grpSpPr>
          <a:xfrm>
            <a:off x="7086600" y="1371600"/>
            <a:ext cx="1676520" cy="2057400"/>
            <a:chOff x="7086600" y="1371600"/>
            <a:chExt cx="1676520" cy="2057400"/>
          </a:xfrm>
        </p:grpSpPr>
        <p:sp>
          <p:nvSpPr>
            <p:cNvPr id="70" name="Прямоугольник 14"/>
            <p:cNvSpPr/>
            <p:nvPr/>
          </p:nvSpPr>
          <p:spPr>
            <a:xfrm>
              <a:off x="7086600" y="1371600"/>
              <a:ext cx="1676520" cy="2057400"/>
            </a:xfrm>
            <a:prstGeom prst="rect">
              <a:avLst/>
            </a:prstGeom>
            <a:solidFill>
              <a:srgbClr val="e3f2f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" name="Picture 19" descr="Плакат времен Великой Отечественной войны"/>
            <p:cNvPicPr/>
            <p:nvPr/>
          </p:nvPicPr>
          <p:blipFill>
            <a:blip r:embed="rId4"/>
            <a:stretch/>
          </p:blipFill>
          <p:spPr>
            <a:xfrm>
              <a:off x="7110360" y="1393560"/>
              <a:ext cx="1629000" cy="2013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 -0.0706 L -0.65 -0.49792 E">
                                      <p:cBhvr>
                                        <p:cTn id="2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22222E-006 L -0.39705 -0.28334 E">
                                      <p:cBhvr>
                                        <p:cTn id="3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44583 0.2 E">
                                      <p:cBhvr>
                                        <p:cTn id="3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5 0.03056 L -0.54583 0.31945 E">
                                      <p:cBhvr>
                                        <p:cTn id="39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3657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анализируйте плакаты и дайте определ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кое плакат?»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3" name="Picture 6" descr="C:\Documents and Settings\Admin\Мои документы\Загрузки\экоплакат.jpg"/>
          <p:cNvPicPr/>
          <p:nvPr/>
        </p:nvPicPr>
        <p:blipFill>
          <a:blip r:embed="rId1"/>
          <a:stretch/>
        </p:blipFill>
        <p:spPr>
          <a:xfrm>
            <a:off x="4038480" y="457200"/>
            <a:ext cx="2590920" cy="4853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Documents and Settings\Admin\Мои документы\Загрузки\экоплакат14.jpg"/>
          <p:cNvPicPr/>
          <p:nvPr/>
        </p:nvPicPr>
        <p:blipFill>
          <a:blip r:embed="rId2"/>
          <a:stretch/>
        </p:blipFill>
        <p:spPr>
          <a:xfrm>
            <a:off x="6705720" y="1143000"/>
            <a:ext cx="2216160" cy="5105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C:\Documents and Settings\Admin\Мои документы\Загрузки\пдд.jpg"/>
          <p:cNvPicPr/>
          <p:nvPr/>
        </p:nvPicPr>
        <p:blipFill>
          <a:blip r:embed="rId3"/>
          <a:stretch/>
        </p:blipFill>
        <p:spPr>
          <a:xfrm>
            <a:off x="228600" y="3276720"/>
            <a:ext cx="3751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441936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лакат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от французского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лова «плакар» – «объявление», «афиша»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зновидность графики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 понятное 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оское изображ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крупном лист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маги с кратким текстом</a:t>
            </a: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7" name="Picture 3" descr="C:\Documents and Settings\Admin\Мои документы\Загрузки\плакат8марта.jpg"/>
          <p:cNvPicPr/>
          <p:nvPr/>
        </p:nvPicPr>
        <p:blipFill>
          <a:blip r:embed="rId1"/>
          <a:stretch/>
        </p:blipFill>
        <p:spPr>
          <a:xfrm>
            <a:off x="4800600" y="380880"/>
            <a:ext cx="41241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514600" cy="26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История  плакат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687840" y="380880"/>
            <a:ext cx="43894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33920" y="51051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Анри де Тулуз-Лотрек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1" name="Picture 2" descr="C:\Documents and Settings\Admin\Мои документы\Загрузки\lotrek_portret.jpg"/>
          <p:cNvPicPr/>
          <p:nvPr/>
        </p:nvPicPr>
        <p:blipFill>
          <a:blip r:embed="rId1"/>
          <a:stretch/>
        </p:blipFill>
        <p:spPr>
          <a:xfrm>
            <a:off x="609480" y="45720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Documents and Settings\Admin\Мои документы\Загрузки\тулуз-лотрек.jpg"/>
          <p:cNvPicPr/>
          <p:nvPr/>
        </p:nvPicPr>
        <p:blipFill>
          <a:blip r:embed="rId2"/>
          <a:stretch/>
        </p:blipFill>
        <p:spPr>
          <a:xfrm>
            <a:off x="380880" y="2133720"/>
            <a:ext cx="2935440" cy="4343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Admin\Мои документы\Загрузки\тулуз-лотрек2.jpg"/>
          <p:cNvPicPr/>
          <p:nvPr/>
        </p:nvPicPr>
        <p:blipFill>
          <a:blip r:embed="rId3"/>
          <a:stretch/>
        </p:blipFill>
        <p:spPr>
          <a:xfrm>
            <a:off x="3429000" y="304920"/>
            <a:ext cx="2471760" cy="388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Admin\Мои документы\Загрузки\лотрек2.jpg"/>
          <p:cNvPicPr/>
          <p:nvPr/>
        </p:nvPicPr>
        <p:blipFill>
          <a:blip r:embed="rId4"/>
          <a:stretch/>
        </p:blipFill>
        <p:spPr>
          <a:xfrm>
            <a:off x="6095880" y="990720"/>
            <a:ext cx="2702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Альфонс Муха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6" name="Picture 2" descr="C:\Documents and Settings\Admin\Мои документы\Загрузки\муха.jpg"/>
          <p:cNvPicPr/>
          <p:nvPr/>
        </p:nvPicPr>
        <p:blipFill>
          <a:blip r:embed="rId1"/>
          <a:stretch/>
        </p:blipFill>
        <p:spPr>
          <a:xfrm>
            <a:off x="533520" y="304920"/>
            <a:ext cx="1371600" cy="128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Admin\Мои документы\Загрузки\муха-нестле.jpg"/>
          <p:cNvPicPr/>
          <p:nvPr/>
        </p:nvPicPr>
        <p:blipFill>
          <a:blip r:embed="rId2"/>
          <a:stretch/>
        </p:blipFill>
        <p:spPr>
          <a:xfrm>
            <a:off x="762120" y="1676520"/>
            <a:ext cx="2295360" cy="4897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Admin\Мои документы\Загрузки\муха-шампанское2.jpg"/>
          <p:cNvPicPr/>
          <p:nvPr/>
        </p:nvPicPr>
        <p:blipFill>
          <a:blip r:embed="rId3"/>
          <a:stretch/>
        </p:blipFill>
        <p:spPr>
          <a:xfrm>
            <a:off x="3505320" y="1219320"/>
            <a:ext cx="1985760" cy="527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Admin\Мои документы\Загрузки\муха-шоколад.jpg"/>
          <p:cNvPicPr/>
          <p:nvPr/>
        </p:nvPicPr>
        <p:blipFill>
          <a:blip r:embed="rId4"/>
          <a:stretch/>
        </p:blipFill>
        <p:spPr>
          <a:xfrm>
            <a:off x="5867280" y="3048120"/>
            <a:ext cx="2301840" cy="3565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Documents and Settings\Admin\Мои документы\Загрузки\муха-духи.jpg"/>
          <p:cNvPicPr/>
          <p:nvPr/>
        </p:nvPicPr>
        <p:blipFill>
          <a:blip r:embed="rId5"/>
          <a:stretch/>
        </p:blipFill>
        <p:spPr>
          <a:xfrm>
            <a:off x="6553080" y="228600"/>
            <a:ext cx="1954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5-26T20:12:45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10000000000001024140</vt:lpwstr>
  </property>
  <property fmtid="{D5CDD505-2E9C-101B-9397-08002B2CF9AE}" pid="3" name="Version">
    <vt:r8>1</vt:r8>
  </property>
</Properties>
</file>