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7F7-E84A-4D61-AB90-4F63C005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E3C-9C86-45B8-8ADB-BD730F01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F2D-A80F-4DB5-91EA-19E57505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8608-CCEA-43DE-947D-9199259E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55A8-FCC4-4B04-B187-6B4336C2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B4C7-5714-413F-90C3-CD1DE868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403F-A147-44A1-9FD3-196E037C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02B5-DAE0-4D53-A075-B728EF2A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3C7D-5E43-46E0-993F-AAA0DA9B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FB44-F6A1-43DE-B9DC-615F6A38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F71B-46D3-4023-B74A-C74E0C4C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A4E7-4050-4C9C-ABDC-690ABCDB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8D25-D17B-4BE5-AA65-26736DCB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900F-FA7A-46C1-A519-E8E06930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4D27-B2AB-4955-8E28-1BE3CC7A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000F-C25A-4A1D-92BB-142AD972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E082-1D7A-4D10-BAA8-88EC319B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1F241-47FA-477B-B4DE-E8873D73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1811E-F43C-4C76-977C-96AA7FCF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795E2-112B-44BB-BC7E-09B57DE5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B917D-9C2A-4041-838A-5E1D4A53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95B8B-22C9-4D1B-A4E5-C3D14FCB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E8D-41D7-4C72-9369-98567956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0158A-74F9-4AC3-92F4-4A3EEEF7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0A001-0BFE-46D4-BC07-A1A984BE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9BA79-B38C-4EE7-9480-33EC61D4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756A0-AC05-416A-8257-2CEF1D72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6A7B3-07D2-4EE0-A491-92C1566D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A484D-6A98-4CEE-8C99-0D0F340B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AA053-1C64-41DF-9873-133A9681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9C92D-A7CA-47B3-A5F7-3AAEB285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59E26-8480-4E06-8F1A-3F4E235E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41E85-972F-4F30-8110-CDDAFF5E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6D8-245E-4FB8-ACF9-A1834082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D11CA-7BAE-4C80-A0C0-B20AB130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BAB41-8525-4B74-BBDF-39F3AD5F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6B151-324F-45C7-A7A4-65DF0E84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17100-1BD9-479F-A599-44F7D381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DB6F5-C672-465A-8EB2-1BF1BA7A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0592E-55AF-4B14-9274-B63ECE72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7BD33-F1EB-4D47-B733-DD4BF843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C0BF5-BB68-457C-922B-6482A781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17AFB-BD6B-481F-AE57-4467AAC0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E92-4B04-4A65-BAC2-3B0150E9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DBF-6475-4E77-BA1A-0E98BBC5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3C0-0978-4319-920B-328289F4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FC0-84F1-4418-ADD9-D7E9FCF5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657C-EBC1-48A6-B670-5ED0224E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4E07-E562-4001-8BA3-C1490632DCC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2209-A4B5-44AC-88AF-C063DC71BC6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DE41-F3ED-4BE0-B811-AD48A9BED91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A9BA-9FBB-489E-97B8-BEF7767B9D5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opera_2.avi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79200" y="633240"/>
            <a:ext cx="8942400" cy="2567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48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 русского языка в 6-м класс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 Коротковой С. Г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237960" y="328680"/>
            <a:ext cx="8534520" cy="6346800"/>
          </a:xfrm>
          <a:prstGeom prst="rect">
            <a:avLst/>
          </a:prstGeom>
          <a:ln w="0">
            <a:noFill/>
          </a:ln>
        </p:spPr>
      </p:pic>
      <p:grpSp>
        <p:nvGrpSpPr>
          <p:cNvPr id="198" name="Группа 2"/>
          <p:cNvGrpSpPr/>
          <p:nvPr/>
        </p:nvGrpSpPr>
        <p:grpSpPr>
          <a:xfrm>
            <a:off x="2139480" y="463680"/>
            <a:ext cx="576720" cy="287280"/>
            <a:chOff x="2139480" y="463680"/>
            <a:chExt cx="576720" cy="287280"/>
          </a:xfrm>
        </p:grpSpPr>
        <p:sp>
          <p:nvSpPr>
            <p:cNvPr id="199" name="Прямая соединительная линия 3"/>
            <p:cNvSpPr/>
            <p:nvPr/>
          </p:nvSpPr>
          <p:spPr>
            <a:xfrm>
              <a:off x="2410920" y="463680"/>
              <a:ext cx="305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0" name="Прямая соединительная линия 4"/>
            <p:cNvSpPr/>
            <p:nvPr/>
          </p:nvSpPr>
          <p:spPr>
            <a:xfrm flipH="1">
              <a:off x="2139480" y="463680"/>
              <a:ext cx="271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01" name="Рисунок 5" descr="1.png"/>
          <p:cNvPicPr/>
          <p:nvPr/>
        </p:nvPicPr>
        <p:blipFill>
          <a:blip r:embed="rId2"/>
          <a:stretch/>
        </p:blipFill>
        <p:spPr>
          <a:xfrm>
            <a:off x="611280" y="1773360"/>
            <a:ext cx="936360" cy="96336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6" descr="1.png"/>
          <p:cNvPicPr/>
          <p:nvPr/>
        </p:nvPicPr>
        <p:blipFill>
          <a:blip r:embed="rId3"/>
          <a:stretch/>
        </p:blipFill>
        <p:spPr>
          <a:xfrm>
            <a:off x="2987640" y="1484280"/>
            <a:ext cx="1468440" cy="15130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7" descr="1.png"/>
          <p:cNvPicPr/>
          <p:nvPr/>
        </p:nvPicPr>
        <p:blipFill>
          <a:blip r:embed="rId4"/>
          <a:stretch/>
        </p:blipFill>
        <p:spPr>
          <a:xfrm>
            <a:off x="5940360" y="1197000"/>
            <a:ext cx="2097000" cy="2160720"/>
          </a:xfrm>
          <a:prstGeom prst="rect">
            <a:avLst/>
          </a:prstGeom>
          <a:ln w="0">
            <a:noFill/>
          </a:ln>
        </p:spPr>
      </p:pic>
      <p:grpSp>
        <p:nvGrpSpPr>
          <p:cNvPr id="204" name="Группа 8"/>
          <p:cNvGrpSpPr/>
          <p:nvPr/>
        </p:nvGrpSpPr>
        <p:grpSpPr>
          <a:xfrm>
            <a:off x="1258560" y="3573360"/>
            <a:ext cx="360720" cy="216000"/>
            <a:chOff x="1258560" y="3573360"/>
            <a:chExt cx="360720" cy="216000"/>
          </a:xfrm>
        </p:grpSpPr>
        <p:sp>
          <p:nvSpPr>
            <p:cNvPr id="205" name="Прямая соединительная линия 9"/>
            <p:cNvSpPr/>
            <p:nvPr/>
          </p:nvSpPr>
          <p:spPr>
            <a:xfrm>
              <a:off x="1428480" y="3573360"/>
              <a:ext cx="1908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6" name="Прямая соединительная линия 10"/>
            <p:cNvSpPr/>
            <p:nvPr/>
          </p:nvSpPr>
          <p:spPr>
            <a:xfrm flipH="1">
              <a:off x="1258560" y="3573360"/>
              <a:ext cx="1695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07" name="Группа 14"/>
          <p:cNvGrpSpPr/>
          <p:nvPr/>
        </p:nvGrpSpPr>
        <p:grpSpPr>
          <a:xfrm>
            <a:off x="6813360" y="3573360"/>
            <a:ext cx="360720" cy="216000"/>
            <a:chOff x="6813360" y="3573360"/>
            <a:chExt cx="360720" cy="216000"/>
          </a:xfrm>
        </p:grpSpPr>
        <p:sp>
          <p:nvSpPr>
            <p:cNvPr id="208" name="Прямая соединительная линия 15"/>
            <p:cNvSpPr/>
            <p:nvPr/>
          </p:nvSpPr>
          <p:spPr>
            <a:xfrm>
              <a:off x="6983280" y="3573360"/>
              <a:ext cx="1908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09" name="Прямая соединительная линия 16"/>
            <p:cNvSpPr/>
            <p:nvPr/>
          </p:nvSpPr>
          <p:spPr>
            <a:xfrm flipH="1">
              <a:off x="6813360" y="3573360"/>
              <a:ext cx="1695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208080" y="701640"/>
            <a:ext cx="8564400" cy="5686560"/>
          </a:xfrm>
          <a:prstGeom prst="rect">
            <a:avLst/>
          </a:prstGeom>
          <a:ln w="0">
            <a:noFill/>
          </a:ln>
        </p:spPr>
      </p:pic>
      <p:grpSp>
        <p:nvGrpSpPr>
          <p:cNvPr id="212" name="Группа 2"/>
          <p:cNvGrpSpPr/>
          <p:nvPr/>
        </p:nvGrpSpPr>
        <p:grpSpPr>
          <a:xfrm>
            <a:off x="468000" y="2781360"/>
            <a:ext cx="574920" cy="287280"/>
            <a:chOff x="468000" y="2781360"/>
            <a:chExt cx="574920" cy="287280"/>
          </a:xfrm>
        </p:grpSpPr>
        <p:sp>
          <p:nvSpPr>
            <p:cNvPr id="213" name="Прямая соединительная линия 3"/>
            <p:cNvSpPr/>
            <p:nvPr/>
          </p:nvSpPr>
          <p:spPr>
            <a:xfrm>
              <a:off x="738720" y="2781360"/>
              <a:ext cx="3042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4" name="Прямая соединительная линия 4"/>
            <p:cNvSpPr/>
            <p:nvPr/>
          </p:nvSpPr>
          <p:spPr>
            <a:xfrm flipH="1">
              <a:off x="468000" y="2781360"/>
              <a:ext cx="27036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15" name="Группа 5"/>
          <p:cNvGrpSpPr/>
          <p:nvPr/>
        </p:nvGrpSpPr>
        <p:grpSpPr>
          <a:xfrm>
            <a:off x="498240" y="3605040"/>
            <a:ext cx="576360" cy="287640"/>
            <a:chOff x="498240" y="3605040"/>
            <a:chExt cx="576360" cy="287640"/>
          </a:xfrm>
        </p:grpSpPr>
        <p:sp>
          <p:nvSpPr>
            <p:cNvPr id="216" name="Прямая соединительная линия 6"/>
            <p:cNvSpPr/>
            <p:nvPr/>
          </p:nvSpPr>
          <p:spPr>
            <a:xfrm>
              <a:off x="769680" y="3605040"/>
              <a:ext cx="3049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17" name="Прямая соединительная линия 7"/>
            <p:cNvSpPr/>
            <p:nvPr/>
          </p:nvSpPr>
          <p:spPr>
            <a:xfrm flipH="1">
              <a:off x="498240" y="3605040"/>
              <a:ext cx="27108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18" name="Группа 8"/>
          <p:cNvGrpSpPr/>
          <p:nvPr/>
        </p:nvGrpSpPr>
        <p:grpSpPr>
          <a:xfrm>
            <a:off x="498240" y="4484520"/>
            <a:ext cx="576360" cy="287640"/>
            <a:chOff x="498240" y="4484520"/>
            <a:chExt cx="576360" cy="287640"/>
          </a:xfrm>
        </p:grpSpPr>
        <p:sp>
          <p:nvSpPr>
            <p:cNvPr id="219" name="Прямая соединительная линия 9"/>
            <p:cNvSpPr/>
            <p:nvPr/>
          </p:nvSpPr>
          <p:spPr>
            <a:xfrm>
              <a:off x="769680" y="4484520"/>
              <a:ext cx="3049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0" name="Прямая соединительная линия 10"/>
            <p:cNvSpPr/>
            <p:nvPr/>
          </p:nvSpPr>
          <p:spPr>
            <a:xfrm flipH="1">
              <a:off x="498240" y="4484520"/>
              <a:ext cx="27108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21" name="Группа 11"/>
          <p:cNvGrpSpPr/>
          <p:nvPr/>
        </p:nvGrpSpPr>
        <p:grpSpPr>
          <a:xfrm>
            <a:off x="420840" y="5332320"/>
            <a:ext cx="431640" cy="289080"/>
            <a:chOff x="420840" y="5332320"/>
            <a:chExt cx="431640" cy="289080"/>
          </a:xfrm>
        </p:grpSpPr>
        <p:sp>
          <p:nvSpPr>
            <p:cNvPr id="222" name="Прямая соединительная линия 12"/>
            <p:cNvSpPr/>
            <p:nvPr/>
          </p:nvSpPr>
          <p:spPr>
            <a:xfrm>
              <a:off x="623880" y="5332320"/>
              <a:ext cx="2286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3" name="Прямая соединительная линия 13"/>
            <p:cNvSpPr/>
            <p:nvPr/>
          </p:nvSpPr>
          <p:spPr>
            <a:xfrm flipH="1">
              <a:off x="420840" y="5332320"/>
              <a:ext cx="2030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24" name="Группа 14"/>
          <p:cNvGrpSpPr/>
          <p:nvPr/>
        </p:nvGrpSpPr>
        <p:grpSpPr>
          <a:xfrm>
            <a:off x="5076360" y="2708280"/>
            <a:ext cx="574920" cy="360360"/>
            <a:chOff x="5076360" y="2708280"/>
            <a:chExt cx="574920" cy="360360"/>
          </a:xfrm>
        </p:grpSpPr>
        <p:sp>
          <p:nvSpPr>
            <p:cNvPr id="225" name="Прямая соединительная линия 15"/>
            <p:cNvSpPr/>
            <p:nvPr/>
          </p:nvSpPr>
          <p:spPr>
            <a:xfrm>
              <a:off x="5347080" y="2708280"/>
              <a:ext cx="3042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6" name="Прямая соединительная линия 16"/>
            <p:cNvSpPr/>
            <p:nvPr/>
          </p:nvSpPr>
          <p:spPr>
            <a:xfrm flipH="1">
              <a:off x="5076360" y="2708280"/>
              <a:ext cx="270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27" name="Группа 17"/>
          <p:cNvGrpSpPr/>
          <p:nvPr/>
        </p:nvGrpSpPr>
        <p:grpSpPr>
          <a:xfrm>
            <a:off x="2900160" y="3557520"/>
            <a:ext cx="576360" cy="360360"/>
            <a:chOff x="2900160" y="3557520"/>
            <a:chExt cx="576360" cy="360360"/>
          </a:xfrm>
        </p:grpSpPr>
        <p:sp>
          <p:nvSpPr>
            <p:cNvPr id="228" name="Прямая соединительная линия 18"/>
            <p:cNvSpPr/>
            <p:nvPr/>
          </p:nvSpPr>
          <p:spPr>
            <a:xfrm>
              <a:off x="3171600" y="3557520"/>
              <a:ext cx="3049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9" name="Прямая соединительная линия 19"/>
            <p:cNvSpPr/>
            <p:nvPr/>
          </p:nvSpPr>
          <p:spPr>
            <a:xfrm flipH="1">
              <a:off x="2900160" y="3557520"/>
              <a:ext cx="271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0" name="Группа 20"/>
          <p:cNvGrpSpPr/>
          <p:nvPr/>
        </p:nvGrpSpPr>
        <p:grpSpPr>
          <a:xfrm>
            <a:off x="3044520" y="4397400"/>
            <a:ext cx="574920" cy="358920"/>
            <a:chOff x="3044520" y="4397400"/>
            <a:chExt cx="574920" cy="358920"/>
          </a:xfrm>
        </p:grpSpPr>
        <p:sp>
          <p:nvSpPr>
            <p:cNvPr id="231" name="Прямая соединительная линия 21"/>
            <p:cNvSpPr/>
            <p:nvPr/>
          </p:nvSpPr>
          <p:spPr>
            <a:xfrm>
              <a:off x="3315240" y="4397400"/>
              <a:ext cx="30420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2" name="Прямая соединительная линия 22"/>
            <p:cNvSpPr/>
            <p:nvPr/>
          </p:nvSpPr>
          <p:spPr>
            <a:xfrm flipH="1">
              <a:off x="3044520" y="4397400"/>
              <a:ext cx="27036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3" name="Группа 23"/>
          <p:cNvGrpSpPr/>
          <p:nvPr/>
        </p:nvGrpSpPr>
        <p:grpSpPr>
          <a:xfrm>
            <a:off x="3111120" y="2733840"/>
            <a:ext cx="576720" cy="360360"/>
            <a:chOff x="3111120" y="2733840"/>
            <a:chExt cx="576720" cy="360360"/>
          </a:xfrm>
        </p:grpSpPr>
        <p:sp>
          <p:nvSpPr>
            <p:cNvPr id="234" name="Прямая соединительная линия 24"/>
            <p:cNvSpPr/>
            <p:nvPr/>
          </p:nvSpPr>
          <p:spPr>
            <a:xfrm>
              <a:off x="3382560" y="2733840"/>
              <a:ext cx="305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5" name="Прямая соединительная линия 25"/>
            <p:cNvSpPr/>
            <p:nvPr/>
          </p:nvSpPr>
          <p:spPr>
            <a:xfrm flipH="1">
              <a:off x="3111120" y="2733840"/>
              <a:ext cx="271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6" name="Группа 26"/>
          <p:cNvGrpSpPr/>
          <p:nvPr/>
        </p:nvGrpSpPr>
        <p:grpSpPr>
          <a:xfrm>
            <a:off x="5106600" y="3564000"/>
            <a:ext cx="576720" cy="360360"/>
            <a:chOff x="5106600" y="3564000"/>
            <a:chExt cx="576720" cy="360360"/>
          </a:xfrm>
        </p:grpSpPr>
        <p:sp>
          <p:nvSpPr>
            <p:cNvPr id="237" name="Прямая соединительная линия 27"/>
            <p:cNvSpPr/>
            <p:nvPr/>
          </p:nvSpPr>
          <p:spPr>
            <a:xfrm>
              <a:off x="5378040" y="3564000"/>
              <a:ext cx="305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8" name="Прямая соединительная линия 28"/>
            <p:cNvSpPr/>
            <p:nvPr/>
          </p:nvSpPr>
          <p:spPr>
            <a:xfrm flipH="1">
              <a:off x="5106600" y="3564000"/>
              <a:ext cx="271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9" name="Группа 29"/>
          <p:cNvGrpSpPr/>
          <p:nvPr/>
        </p:nvGrpSpPr>
        <p:grpSpPr>
          <a:xfrm>
            <a:off x="7427520" y="2708280"/>
            <a:ext cx="576720" cy="360360"/>
            <a:chOff x="7427520" y="2708280"/>
            <a:chExt cx="576720" cy="360360"/>
          </a:xfrm>
        </p:grpSpPr>
        <p:sp>
          <p:nvSpPr>
            <p:cNvPr id="240" name="Прямая соединительная линия 30"/>
            <p:cNvSpPr/>
            <p:nvPr/>
          </p:nvSpPr>
          <p:spPr>
            <a:xfrm>
              <a:off x="7698960" y="2708280"/>
              <a:ext cx="305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1" name="Прямая соединительная линия 31"/>
            <p:cNvSpPr/>
            <p:nvPr/>
          </p:nvSpPr>
          <p:spPr>
            <a:xfrm flipH="1">
              <a:off x="7427520" y="2708280"/>
              <a:ext cx="271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2" name="Группа 32"/>
          <p:cNvGrpSpPr/>
          <p:nvPr/>
        </p:nvGrpSpPr>
        <p:grpSpPr>
          <a:xfrm>
            <a:off x="7724520" y="3557520"/>
            <a:ext cx="576360" cy="360360"/>
            <a:chOff x="7724520" y="3557520"/>
            <a:chExt cx="576360" cy="360360"/>
          </a:xfrm>
        </p:grpSpPr>
        <p:sp>
          <p:nvSpPr>
            <p:cNvPr id="243" name="Прямая соединительная линия 33"/>
            <p:cNvSpPr/>
            <p:nvPr/>
          </p:nvSpPr>
          <p:spPr>
            <a:xfrm>
              <a:off x="7995960" y="3557520"/>
              <a:ext cx="3049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4" name="Прямая соединительная линия 34"/>
            <p:cNvSpPr/>
            <p:nvPr/>
          </p:nvSpPr>
          <p:spPr>
            <a:xfrm flipH="1">
              <a:off x="7724520" y="3557520"/>
              <a:ext cx="271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5" name="Группа 35"/>
          <p:cNvGrpSpPr/>
          <p:nvPr/>
        </p:nvGrpSpPr>
        <p:grpSpPr>
          <a:xfrm>
            <a:off x="7629120" y="5342040"/>
            <a:ext cx="432360" cy="287280"/>
            <a:chOff x="7629120" y="5342040"/>
            <a:chExt cx="432360" cy="287280"/>
          </a:xfrm>
        </p:grpSpPr>
        <p:sp>
          <p:nvSpPr>
            <p:cNvPr id="246" name="Прямая соединительная линия 36"/>
            <p:cNvSpPr/>
            <p:nvPr/>
          </p:nvSpPr>
          <p:spPr>
            <a:xfrm>
              <a:off x="7832880" y="5342040"/>
              <a:ext cx="2286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7" name="Прямая соединительная линия 37"/>
            <p:cNvSpPr/>
            <p:nvPr/>
          </p:nvSpPr>
          <p:spPr>
            <a:xfrm flipH="1">
              <a:off x="7629120" y="5342040"/>
              <a:ext cx="2034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8" name="Группа 44"/>
          <p:cNvGrpSpPr/>
          <p:nvPr/>
        </p:nvGrpSpPr>
        <p:grpSpPr>
          <a:xfrm>
            <a:off x="5060520" y="5348160"/>
            <a:ext cx="432360" cy="289080"/>
            <a:chOff x="5060520" y="5348160"/>
            <a:chExt cx="432360" cy="289080"/>
          </a:xfrm>
        </p:grpSpPr>
        <p:sp>
          <p:nvSpPr>
            <p:cNvPr id="249" name="Прямая соединительная линия 45"/>
            <p:cNvSpPr/>
            <p:nvPr/>
          </p:nvSpPr>
          <p:spPr>
            <a:xfrm>
              <a:off x="5264280" y="5348160"/>
              <a:ext cx="2286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0" name="Прямая соединительная линия 46"/>
            <p:cNvSpPr/>
            <p:nvPr/>
          </p:nvSpPr>
          <p:spPr>
            <a:xfrm flipH="1">
              <a:off x="5060520" y="5348160"/>
              <a:ext cx="2034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1" name="Группа 47"/>
          <p:cNvGrpSpPr/>
          <p:nvPr/>
        </p:nvGrpSpPr>
        <p:grpSpPr>
          <a:xfrm>
            <a:off x="3228480" y="5332320"/>
            <a:ext cx="390960" cy="304920"/>
            <a:chOff x="3228480" y="5332320"/>
            <a:chExt cx="390960" cy="304920"/>
          </a:xfrm>
        </p:grpSpPr>
        <p:sp>
          <p:nvSpPr>
            <p:cNvPr id="252" name="Прямая соединительная линия 48"/>
            <p:cNvSpPr/>
            <p:nvPr/>
          </p:nvSpPr>
          <p:spPr>
            <a:xfrm>
              <a:off x="3412800" y="5332320"/>
              <a:ext cx="206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3" name="Прямая соединительная линия 49"/>
            <p:cNvSpPr/>
            <p:nvPr/>
          </p:nvSpPr>
          <p:spPr>
            <a:xfrm flipH="1">
              <a:off x="3228480" y="5332320"/>
              <a:ext cx="183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4" name="Группа 50"/>
          <p:cNvGrpSpPr/>
          <p:nvPr/>
        </p:nvGrpSpPr>
        <p:grpSpPr>
          <a:xfrm>
            <a:off x="4971600" y="4492800"/>
            <a:ext cx="232200" cy="288720"/>
            <a:chOff x="4971600" y="4492800"/>
            <a:chExt cx="232200" cy="288720"/>
          </a:xfrm>
        </p:grpSpPr>
        <p:sp>
          <p:nvSpPr>
            <p:cNvPr id="255" name="Прямая соединительная линия 51"/>
            <p:cNvSpPr/>
            <p:nvPr/>
          </p:nvSpPr>
          <p:spPr>
            <a:xfrm>
              <a:off x="5081040" y="4492800"/>
              <a:ext cx="1227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6" name="Прямая соединительная линия 52"/>
            <p:cNvSpPr/>
            <p:nvPr/>
          </p:nvSpPr>
          <p:spPr>
            <a:xfrm flipH="1">
              <a:off x="4971600" y="4492800"/>
              <a:ext cx="1090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7" name="Группа 53"/>
          <p:cNvGrpSpPr/>
          <p:nvPr/>
        </p:nvGrpSpPr>
        <p:grpSpPr>
          <a:xfrm>
            <a:off x="7589520" y="4500720"/>
            <a:ext cx="232200" cy="287280"/>
            <a:chOff x="7589520" y="4500720"/>
            <a:chExt cx="232200" cy="287280"/>
          </a:xfrm>
        </p:grpSpPr>
        <p:sp>
          <p:nvSpPr>
            <p:cNvPr id="258" name="Прямая соединительная линия 54"/>
            <p:cNvSpPr/>
            <p:nvPr/>
          </p:nvSpPr>
          <p:spPr>
            <a:xfrm>
              <a:off x="7698960" y="4500720"/>
              <a:ext cx="12276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9" name="Прямая соединительная линия 55"/>
            <p:cNvSpPr/>
            <p:nvPr/>
          </p:nvSpPr>
          <p:spPr>
            <a:xfrm flipH="1">
              <a:off x="7589520" y="4500720"/>
              <a:ext cx="109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слова на это правило!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строки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420640"/>
            <a:ext cx="822960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ушка, как хороша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что за шейка, что за глазки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вать, так право, сказки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ёрышки, какой носок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верно, ангельский быть должен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ок</a:t>
            </a:r>
            <a:r>
              <a:rPr b="0" lang="ru-RU" sz="32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й слова с ек, ик, проверь: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49192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щ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–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ок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ок –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х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ок –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4" name="Группа 3"/>
          <p:cNvGrpSpPr/>
          <p:nvPr/>
        </p:nvGrpSpPr>
        <p:grpSpPr>
          <a:xfrm>
            <a:off x="4668840" y="900000"/>
            <a:ext cx="503280" cy="287280"/>
            <a:chOff x="4668840" y="900000"/>
            <a:chExt cx="503280" cy="287280"/>
          </a:xfrm>
        </p:grpSpPr>
        <p:sp>
          <p:nvSpPr>
            <p:cNvPr id="265" name="Прямая соединительная линия 4"/>
            <p:cNvSpPr/>
            <p:nvPr/>
          </p:nvSpPr>
          <p:spPr>
            <a:xfrm>
              <a:off x="4905720" y="900000"/>
              <a:ext cx="2664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6" name="Прямая соединительная линия 5"/>
            <p:cNvSpPr/>
            <p:nvPr/>
          </p:nvSpPr>
          <p:spPr>
            <a:xfrm flipH="1">
              <a:off x="4668840" y="900000"/>
              <a:ext cx="2368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7" name="Группа 6"/>
          <p:cNvGrpSpPr/>
          <p:nvPr/>
        </p:nvGrpSpPr>
        <p:grpSpPr>
          <a:xfrm>
            <a:off x="5427720" y="892080"/>
            <a:ext cx="503280" cy="289080"/>
            <a:chOff x="5427720" y="892080"/>
            <a:chExt cx="503280" cy="289080"/>
          </a:xfrm>
        </p:grpSpPr>
        <p:sp>
          <p:nvSpPr>
            <p:cNvPr id="268" name="Прямая соединительная линия 7"/>
            <p:cNvSpPr/>
            <p:nvPr/>
          </p:nvSpPr>
          <p:spPr>
            <a:xfrm>
              <a:off x="5664600" y="892080"/>
              <a:ext cx="2664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9" name="Прямая соединительная линия 8"/>
            <p:cNvSpPr/>
            <p:nvPr/>
          </p:nvSpPr>
          <p:spPr>
            <a:xfrm flipH="1">
              <a:off x="5427720" y="892080"/>
              <a:ext cx="2368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ое в человеке - от лучей солнца и от молока Матер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 Горький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565360"/>
            <a:ext cx="822960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– это значит нежность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ласка, доброта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– это безмятежность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адость, красота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oenix</cp:lastModifiedBy>
  <dcterms:modified xsi:type="dcterms:W3CDTF">2012-12-07T02:27:01Z</dcterms:modified>
  <cp:revision>23</cp:revision>
  <dc:subject/>
  <dc:title>Наиболее употребительные суффиксы существительны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09000000000001024140</vt:lpwstr>
  </property>
</Properties>
</file>