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5A6-B600-4697-88D3-A2481F3A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965-B2A1-4383-B240-5D72E72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9BB-FFE5-4B15-A8DF-43BB6B74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DCF-D23D-480D-B6C8-85CBA89F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ED88-79F0-4AE1-AB74-C3E154A8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5F2E-CBC8-4156-9D59-92CBAA14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167-75DB-4E90-8052-D44F82A5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5690-73BB-491C-B77F-10BA83B9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992E-4272-40C5-88F0-5DA71EDF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FA49-13F2-42F5-ADB9-A11CED39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1F56-DAA1-4A00-B307-8E73EB5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AB5-BB07-438F-A487-BDCD7E17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C0B5-1049-4635-A5A2-987FA82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AEB6-43DA-46FF-9BBE-8F534D42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7E0C-78F5-4E60-B174-34D749A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37A3-F2DC-45F7-99D8-B89EEC4C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4D0E-F0F0-423B-A515-2259D599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06B2-17F9-4499-9BD4-5FB7EF93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6022-BED0-49ED-9A31-F0FFC2E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32C0-31E3-493E-9D10-4D51E7D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F03E-4E34-4DE0-A8D5-183B37E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4B9D-8CDD-4BCB-ADD5-87F85FC6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7C1-BAB3-4AC9-99FA-7F42093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89FE-AB2E-474D-8853-35DCCCF6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342E-1700-4E9F-9EC4-0365CC85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C284-151D-49DF-8947-0BA045D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5FA89-7D28-4C45-87F5-4D2C6A2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1CD0-F57E-4405-8B0C-598DD4C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D312-213D-45DC-9485-C98FFBAD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4D51-C895-484B-A880-36CC63E3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26AF-FC60-4A08-BF66-0CCA6F8D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A996-3B04-4CBC-A319-7F3EDD8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5A5F8-19B1-4D6B-BD84-F21A989B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984-05E7-4C60-934E-1B06C55B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7483-B387-4D5A-A86B-DCD70FE1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DCCF-F235-432A-8201-F5AC239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0928-C8A2-4944-8A46-1C919AC8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F2D2-4157-4D6F-9C9B-2CAC2013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78B2-93C2-42B6-B786-8858B40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E1BBA-18CE-43F8-9DF0-2248A64D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0BFD-0984-426E-B7A3-09186435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6A17-DE08-449D-8362-6D5DEC57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2599-8377-4A5F-97B5-6DA339B5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D75-1C06-4A84-8741-EA98FB0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ECF-8417-45ED-A6B7-3A3466EF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F5C-0AED-48C2-9424-F6B70274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51D-DF26-44DE-91C3-BE6CC013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42B-8FA3-4901-B8FD-72CBD0F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0DA6-894C-40E8-82DF-316C0B517F6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5BA7-F64F-4EB5-8F9A-B04B146C81A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2F0C-3FCC-478F-9360-D45A53D13DD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E5C-2237-4FDE-8444-363E6C64C7F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opera_2.avi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9200" y="633240"/>
            <a:ext cx="8942400" cy="2567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русского языка в 6-м класс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Коротковой С. 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37960" y="328680"/>
            <a:ext cx="8534520" cy="6346800"/>
          </a:xfrm>
          <a:prstGeom prst="rect">
            <a:avLst/>
          </a:prstGeom>
          <a:ln w="0">
            <a:noFill/>
          </a:ln>
        </p:spPr>
      </p:pic>
      <p:grpSp>
        <p:nvGrpSpPr>
          <p:cNvPr id="198" name="Группа 2"/>
          <p:cNvGrpSpPr/>
          <p:nvPr/>
        </p:nvGrpSpPr>
        <p:grpSpPr>
          <a:xfrm>
            <a:off x="2139480" y="463680"/>
            <a:ext cx="576720" cy="287280"/>
            <a:chOff x="2139480" y="463680"/>
            <a:chExt cx="576720" cy="287280"/>
          </a:xfrm>
        </p:grpSpPr>
        <p:sp>
          <p:nvSpPr>
            <p:cNvPr id="199" name="Прямая соединительная линия 3"/>
            <p:cNvSpPr/>
            <p:nvPr/>
          </p:nvSpPr>
          <p:spPr>
            <a:xfrm>
              <a:off x="2410920" y="463680"/>
              <a:ext cx="305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0" name="Прямая соединительная линия 4"/>
            <p:cNvSpPr/>
            <p:nvPr/>
          </p:nvSpPr>
          <p:spPr>
            <a:xfrm flipH="1">
              <a:off x="2139480" y="463680"/>
              <a:ext cx="271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01" name="Рисунок 5" descr="1.png"/>
          <p:cNvPicPr/>
          <p:nvPr/>
        </p:nvPicPr>
        <p:blipFill>
          <a:blip r:embed="rId2"/>
          <a:stretch/>
        </p:blipFill>
        <p:spPr>
          <a:xfrm>
            <a:off x="611280" y="1773360"/>
            <a:ext cx="936360" cy="9633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1.png"/>
          <p:cNvPicPr/>
          <p:nvPr/>
        </p:nvPicPr>
        <p:blipFill>
          <a:blip r:embed="rId3"/>
          <a:stretch/>
        </p:blipFill>
        <p:spPr>
          <a:xfrm>
            <a:off x="2987640" y="1484280"/>
            <a:ext cx="1468440" cy="15130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1.png"/>
          <p:cNvPicPr/>
          <p:nvPr/>
        </p:nvPicPr>
        <p:blipFill>
          <a:blip r:embed="rId4"/>
          <a:stretch/>
        </p:blipFill>
        <p:spPr>
          <a:xfrm>
            <a:off x="5940360" y="1197000"/>
            <a:ext cx="20970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8"/>
          <p:cNvGrpSpPr/>
          <p:nvPr/>
        </p:nvGrpSpPr>
        <p:grpSpPr>
          <a:xfrm>
            <a:off x="1258560" y="3573360"/>
            <a:ext cx="360720" cy="216000"/>
            <a:chOff x="1258560" y="3573360"/>
            <a:chExt cx="360720" cy="216000"/>
          </a:xfrm>
        </p:grpSpPr>
        <p:sp>
          <p:nvSpPr>
            <p:cNvPr id="205" name="Прямая соединительная линия 9"/>
            <p:cNvSpPr/>
            <p:nvPr/>
          </p:nvSpPr>
          <p:spPr>
            <a:xfrm>
              <a:off x="1428480" y="3573360"/>
              <a:ext cx="190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6" name="Прямая соединительная линия 10"/>
            <p:cNvSpPr/>
            <p:nvPr/>
          </p:nvSpPr>
          <p:spPr>
            <a:xfrm flipH="1">
              <a:off x="1258560" y="3573360"/>
              <a:ext cx="1695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7" name="Группа 14"/>
          <p:cNvGrpSpPr/>
          <p:nvPr/>
        </p:nvGrpSpPr>
        <p:grpSpPr>
          <a:xfrm>
            <a:off x="6813360" y="3573360"/>
            <a:ext cx="360720" cy="216000"/>
            <a:chOff x="6813360" y="3573360"/>
            <a:chExt cx="360720" cy="216000"/>
          </a:xfrm>
        </p:grpSpPr>
        <p:sp>
          <p:nvSpPr>
            <p:cNvPr id="208" name="Прямая соединительная линия 15"/>
            <p:cNvSpPr/>
            <p:nvPr/>
          </p:nvSpPr>
          <p:spPr>
            <a:xfrm>
              <a:off x="6983280" y="3573360"/>
              <a:ext cx="190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9" name="Прямая соединительная линия 16"/>
            <p:cNvSpPr/>
            <p:nvPr/>
          </p:nvSpPr>
          <p:spPr>
            <a:xfrm flipH="1">
              <a:off x="6813360" y="3573360"/>
              <a:ext cx="1695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564400" cy="5686560"/>
          </a:xfrm>
          <a:prstGeom prst="rect">
            <a:avLst/>
          </a:prstGeom>
          <a:ln w="0">
            <a:noFill/>
          </a:ln>
        </p:spPr>
      </p:pic>
      <p:grpSp>
        <p:nvGrpSpPr>
          <p:cNvPr id="212" name="Группа 2"/>
          <p:cNvGrpSpPr/>
          <p:nvPr/>
        </p:nvGrpSpPr>
        <p:grpSpPr>
          <a:xfrm>
            <a:off x="468000" y="2781360"/>
            <a:ext cx="574920" cy="287280"/>
            <a:chOff x="468000" y="2781360"/>
            <a:chExt cx="574920" cy="287280"/>
          </a:xfrm>
        </p:grpSpPr>
        <p:sp>
          <p:nvSpPr>
            <p:cNvPr id="213" name="Прямая соединительная линия 3"/>
            <p:cNvSpPr/>
            <p:nvPr/>
          </p:nvSpPr>
          <p:spPr>
            <a:xfrm>
              <a:off x="738720" y="2781360"/>
              <a:ext cx="3042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Прямая соединительная линия 4"/>
            <p:cNvSpPr/>
            <p:nvPr/>
          </p:nvSpPr>
          <p:spPr>
            <a:xfrm flipH="1">
              <a:off x="468000" y="2781360"/>
              <a:ext cx="27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5" name="Группа 5"/>
          <p:cNvGrpSpPr/>
          <p:nvPr/>
        </p:nvGrpSpPr>
        <p:grpSpPr>
          <a:xfrm>
            <a:off x="498240" y="3605040"/>
            <a:ext cx="576360" cy="287640"/>
            <a:chOff x="498240" y="3605040"/>
            <a:chExt cx="576360" cy="287640"/>
          </a:xfrm>
        </p:grpSpPr>
        <p:sp>
          <p:nvSpPr>
            <p:cNvPr id="216" name="Прямая соединительная линия 6"/>
            <p:cNvSpPr/>
            <p:nvPr/>
          </p:nvSpPr>
          <p:spPr>
            <a:xfrm>
              <a:off x="769680" y="3605040"/>
              <a:ext cx="3049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Прямая соединительная линия 7"/>
            <p:cNvSpPr/>
            <p:nvPr/>
          </p:nvSpPr>
          <p:spPr>
            <a:xfrm flipH="1">
              <a:off x="498240" y="3605040"/>
              <a:ext cx="2710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8" name="Группа 8"/>
          <p:cNvGrpSpPr/>
          <p:nvPr/>
        </p:nvGrpSpPr>
        <p:grpSpPr>
          <a:xfrm>
            <a:off x="498240" y="4484520"/>
            <a:ext cx="576360" cy="287640"/>
            <a:chOff x="498240" y="4484520"/>
            <a:chExt cx="576360" cy="287640"/>
          </a:xfrm>
        </p:grpSpPr>
        <p:sp>
          <p:nvSpPr>
            <p:cNvPr id="219" name="Прямая соединительная линия 9"/>
            <p:cNvSpPr/>
            <p:nvPr/>
          </p:nvSpPr>
          <p:spPr>
            <a:xfrm>
              <a:off x="769680" y="4484520"/>
              <a:ext cx="3049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Прямая соединительная линия 10"/>
            <p:cNvSpPr/>
            <p:nvPr/>
          </p:nvSpPr>
          <p:spPr>
            <a:xfrm flipH="1">
              <a:off x="498240" y="4484520"/>
              <a:ext cx="2710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1" name="Группа 11"/>
          <p:cNvGrpSpPr/>
          <p:nvPr/>
        </p:nvGrpSpPr>
        <p:grpSpPr>
          <a:xfrm>
            <a:off x="420840" y="5332320"/>
            <a:ext cx="431640" cy="289080"/>
            <a:chOff x="420840" y="5332320"/>
            <a:chExt cx="431640" cy="289080"/>
          </a:xfrm>
        </p:grpSpPr>
        <p:sp>
          <p:nvSpPr>
            <p:cNvPr id="222" name="Прямая соединительная линия 12"/>
            <p:cNvSpPr/>
            <p:nvPr/>
          </p:nvSpPr>
          <p:spPr>
            <a:xfrm>
              <a:off x="623880" y="5332320"/>
              <a:ext cx="2286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3" name="Прямая соединительная линия 13"/>
            <p:cNvSpPr/>
            <p:nvPr/>
          </p:nvSpPr>
          <p:spPr>
            <a:xfrm flipH="1">
              <a:off x="420840" y="5332320"/>
              <a:ext cx="2030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4" name="Группа 14"/>
          <p:cNvGrpSpPr/>
          <p:nvPr/>
        </p:nvGrpSpPr>
        <p:grpSpPr>
          <a:xfrm>
            <a:off x="5076360" y="2708280"/>
            <a:ext cx="574920" cy="360360"/>
            <a:chOff x="5076360" y="2708280"/>
            <a:chExt cx="574920" cy="360360"/>
          </a:xfrm>
        </p:grpSpPr>
        <p:sp>
          <p:nvSpPr>
            <p:cNvPr id="225" name="Прямая соединительная линия 15"/>
            <p:cNvSpPr/>
            <p:nvPr/>
          </p:nvSpPr>
          <p:spPr>
            <a:xfrm>
              <a:off x="5347080" y="2708280"/>
              <a:ext cx="3042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6" name="Прямая соединительная линия 16"/>
            <p:cNvSpPr/>
            <p:nvPr/>
          </p:nvSpPr>
          <p:spPr>
            <a:xfrm flipH="1">
              <a:off x="5076360" y="2708280"/>
              <a:ext cx="27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7" name="Группа 17"/>
          <p:cNvGrpSpPr/>
          <p:nvPr/>
        </p:nvGrpSpPr>
        <p:grpSpPr>
          <a:xfrm>
            <a:off x="2900160" y="3557520"/>
            <a:ext cx="576360" cy="360360"/>
            <a:chOff x="2900160" y="3557520"/>
            <a:chExt cx="576360" cy="360360"/>
          </a:xfrm>
        </p:grpSpPr>
        <p:sp>
          <p:nvSpPr>
            <p:cNvPr id="228" name="Прямая соединительная линия 18"/>
            <p:cNvSpPr/>
            <p:nvPr/>
          </p:nvSpPr>
          <p:spPr>
            <a:xfrm>
              <a:off x="3171600" y="3557520"/>
              <a:ext cx="304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Прямая соединительная линия 19"/>
            <p:cNvSpPr/>
            <p:nvPr/>
          </p:nvSpPr>
          <p:spPr>
            <a:xfrm flipH="1">
              <a:off x="2900160" y="355752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0" name="Группа 20"/>
          <p:cNvGrpSpPr/>
          <p:nvPr/>
        </p:nvGrpSpPr>
        <p:grpSpPr>
          <a:xfrm>
            <a:off x="3044520" y="4397400"/>
            <a:ext cx="574920" cy="358920"/>
            <a:chOff x="3044520" y="4397400"/>
            <a:chExt cx="574920" cy="358920"/>
          </a:xfrm>
        </p:grpSpPr>
        <p:sp>
          <p:nvSpPr>
            <p:cNvPr id="231" name="Прямая соединительная линия 21"/>
            <p:cNvSpPr/>
            <p:nvPr/>
          </p:nvSpPr>
          <p:spPr>
            <a:xfrm>
              <a:off x="3315240" y="4397400"/>
              <a:ext cx="3042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2" name="Прямая соединительная линия 22"/>
            <p:cNvSpPr/>
            <p:nvPr/>
          </p:nvSpPr>
          <p:spPr>
            <a:xfrm flipH="1">
              <a:off x="3044520" y="4397400"/>
              <a:ext cx="27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3" name="Группа 23"/>
          <p:cNvGrpSpPr/>
          <p:nvPr/>
        </p:nvGrpSpPr>
        <p:grpSpPr>
          <a:xfrm>
            <a:off x="3111120" y="2733840"/>
            <a:ext cx="576720" cy="360360"/>
            <a:chOff x="3111120" y="2733840"/>
            <a:chExt cx="576720" cy="360360"/>
          </a:xfrm>
        </p:grpSpPr>
        <p:sp>
          <p:nvSpPr>
            <p:cNvPr id="234" name="Прямая соединительная линия 24"/>
            <p:cNvSpPr/>
            <p:nvPr/>
          </p:nvSpPr>
          <p:spPr>
            <a:xfrm>
              <a:off x="3382560" y="273384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Прямая соединительная линия 25"/>
            <p:cNvSpPr/>
            <p:nvPr/>
          </p:nvSpPr>
          <p:spPr>
            <a:xfrm flipH="1">
              <a:off x="3111120" y="273384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6" name="Группа 26"/>
          <p:cNvGrpSpPr/>
          <p:nvPr/>
        </p:nvGrpSpPr>
        <p:grpSpPr>
          <a:xfrm>
            <a:off x="5106600" y="3564000"/>
            <a:ext cx="576720" cy="360360"/>
            <a:chOff x="5106600" y="3564000"/>
            <a:chExt cx="576720" cy="360360"/>
          </a:xfrm>
        </p:grpSpPr>
        <p:sp>
          <p:nvSpPr>
            <p:cNvPr id="237" name="Прямая соединительная линия 27"/>
            <p:cNvSpPr/>
            <p:nvPr/>
          </p:nvSpPr>
          <p:spPr>
            <a:xfrm>
              <a:off x="5378040" y="356400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8" name="Прямая соединительная линия 28"/>
            <p:cNvSpPr/>
            <p:nvPr/>
          </p:nvSpPr>
          <p:spPr>
            <a:xfrm flipH="1">
              <a:off x="5106600" y="356400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9" name="Группа 29"/>
          <p:cNvGrpSpPr/>
          <p:nvPr/>
        </p:nvGrpSpPr>
        <p:grpSpPr>
          <a:xfrm>
            <a:off x="7427520" y="2708280"/>
            <a:ext cx="576720" cy="360360"/>
            <a:chOff x="7427520" y="2708280"/>
            <a:chExt cx="576720" cy="360360"/>
          </a:xfrm>
        </p:grpSpPr>
        <p:sp>
          <p:nvSpPr>
            <p:cNvPr id="240" name="Прямая соединительная линия 30"/>
            <p:cNvSpPr/>
            <p:nvPr/>
          </p:nvSpPr>
          <p:spPr>
            <a:xfrm>
              <a:off x="7698960" y="270828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1" name="Прямая соединительная линия 31"/>
            <p:cNvSpPr/>
            <p:nvPr/>
          </p:nvSpPr>
          <p:spPr>
            <a:xfrm flipH="1">
              <a:off x="7427520" y="270828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2" name="Группа 32"/>
          <p:cNvGrpSpPr/>
          <p:nvPr/>
        </p:nvGrpSpPr>
        <p:grpSpPr>
          <a:xfrm>
            <a:off x="7724520" y="3557520"/>
            <a:ext cx="576360" cy="360360"/>
            <a:chOff x="7724520" y="3557520"/>
            <a:chExt cx="576360" cy="360360"/>
          </a:xfrm>
        </p:grpSpPr>
        <p:sp>
          <p:nvSpPr>
            <p:cNvPr id="243" name="Прямая соединительная линия 33"/>
            <p:cNvSpPr/>
            <p:nvPr/>
          </p:nvSpPr>
          <p:spPr>
            <a:xfrm>
              <a:off x="7995960" y="3557520"/>
              <a:ext cx="304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Прямая соединительная линия 34"/>
            <p:cNvSpPr/>
            <p:nvPr/>
          </p:nvSpPr>
          <p:spPr>
            <a:xfrm flipH="1">
              <a:off x="7724520" y="355752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5" name="Группа 35"/>
          <p:cNvGrpSpPr/>
          <p:nvPr/>
        </p:nvGrpSpPr>
        <p:grpSpPr>
          <a:xfrm>
            <a:off x="7629120" y="5342040"/>
            <a:ext cx="432360" cy="287280"/>
            <a:chOff x="7629120" y="5342040"/>
            <a:chExt cx="432360" cy="287280"/>
          </a:xfrm>
        </p:grpSpPr>
        <p:sp>
          <p:nvSpPr>
            <p:cNvPr id="246" name="Прямая соединительная линия 36"/>
            <p:cNvSpPr/>
            <p:nvPr/>
          </p:nvSpPr>
          <p:spPr>
            <a:xfrm>
              <a:off x="7832880" y="5342040"/>
              <a:ext cx="2286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Прямая соединительная линия 37"/>
            <p:cNvSpPr/>
            <p:nvPr/>
          </p:nvSpPr>
          <p:spPr>
            <a:xfrm flipH="1">
              <a:off x="7629120" y="5342040"/>
              <a:ext cx="2034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8" name="Группа 44"/>
          <p:cNvGrpSpPr/>
          <p:nvPr/>
        </p:nvGrpSpPr>
        <p:grpSpPr>
          <a:xfrm>
            <a:off x="5060520" y="5348160"/>
            <a:ext cx="432360" cy="289080"/>
            <a:chOff x="5060520" y="5348160"/>
            <a:chExt cx="432360" cy="289080"/>
          </a:xfrm>
        </p:grpSpPr>
        <p:sp>
          <p:nvSpPr>
            <p:cNvPr id="249" name="Прямая соединительная линия 45"/>
            <p:cNvSpPr/>
            <p:nvPr/>
          </p:nvSpPr>
          <p:spPr>
            <a:xfrm>
              <a:off x="5264280" y="5348160"/>
              <a:ext cx="2286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Прямая соединительная линия 46"/>
            <p:cNvSpPr/>
            <p:nvPr/>
          </p:nvSpPr>
          <p:spPr>
            <a:xfrm flipH="1">
              <a:off x="5060520" y="5348160"/>
              <a:ext cx="2034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1" name="Группа 47"/>
          <p:cNvGrpSpPr/>
          <p:nvPr/>
        </p:nvGrpSpPr>
        <p:grpSpPr>
          <a:xfrm>
            <a:off x="3228480" y="5332320"/>
            <a:ext cx="390960" cy="304920"/>
            <a:chOff x="3228480" y="5332320"/>
            <a:chExt cx="390960" cy="304920"/>
          </a:xfrm>
        </p:grpSpPr>
        <p:sp>
          <p:nvSpPr>
            <p:cNvPr id="252" name="Прямая соединительная линия 48"/>
            <p:cNvSpPr/>
            <p:nvPr/>
          </p:nvSpPr>
          <p:spPr>
            <a:xfrm>
              <a:off x="3412800" y="5332320"/>
              <a:ext cx="206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3" name="Прямая соединительная линия 49"/>
            <p:cNvSpPr/>
            <p:nvPr/>
          </p:nvSpPr>
          <p:spPr>
            <a:xfrm flipH="1">
              <a:off x="3228480" y="5332320"/>
              <a:ext cx="183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Группа 50"/>
          <p:cNvGrpSpPr/>
          <p:nvPr/>
        </p:nvGrpSpPr>
        <p:grpSpPr>
          <a:xfrm>
            <a:off x="4971600" y="4492800"/>
            <a:ext cx="232200" cy="288720"/>
            <a:chOff x="4971600" y="4492800"/>
            <a:chExt cx="232200" cy="288720"/>
          </a:xfrm>
        </p:grpSpPr>
        <p:sp>
          <p:nvSpPr>
            <p:cNvPr id="255" name="Прямая соединительная линия 51"/>
            <p:cNvSpPr/>
            <p:nvPr/>
          </p:nvSpPr>
          <p:spPr>
            <a:xfrm>
              <a:off x="5081040" y="4492800"/>
              <a:ext cx="1227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Прямая соединительная линия 52"/>
            <p:cNvSpPr/>
            <p:nvPr/>
          </p:nvSpPr>
          <p:spPr>
            <a:xfrm flipH="1">
              <a:off x="4971600" y="4492800"/>
              <a:ext cx="109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Группа 53"/>
          <p:cNvGrpSpPr/>
          <p:nvPr/>
        </p:nvGrpSpPr>
        <p:grpSpPr>
          <a:xfrm>
            <a:off x="7589520" y="4500720"/>
            <a:ext cx="232200" cy="287280"/>
            <a:chOff x="7589520" y="4500720"/>
            <a:chExt cx="232200" cy="287280"/>
          </a:xfrm>
        </p:grpSpPr>
        <p:sp>
          <p:nvSpPr>
            <p:cNvPr id="258" name="Прямая соединительная линия 54"/>
            <p:cNvSpPr/>
            <p:nvPr/>
          </p:nvSpPr>
          <p:spPr>
            <a:xfrm>
              <a:off x="7698960" y="4500720"/>
              <a:ext cx="1227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Прямая соединительная линия 55"/>
            <p:cNvSpPr/>
            <p:nvPr/>
          </p:nvSpPr>
          <p:spPr>
            <a:xfrm flipH="1">
              <a:off x="7589520" y="4500720"/>
              <a:ext cx="10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лова на это правило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строки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ушка, как хороша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то за шейка, что за глазки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ть, так право, сказки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ёрышки, какой носок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ерно, ангельский быть должен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к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 слова с ек, ик, проверь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щ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к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ок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4" name="Группа 3"/>
          <p:cNvGrpSpPr/>
          <p:nvPr/>
        </p:nvGrpSpPr>
        <p:grpSpPr>
          <a:xfrm>
            <a:off x="4668840" y="900000"/>
            <a:ext cx="503280" cy="287280"/>
            <a:chOff x="4668840" y="900000"/>
            <a:chExt cx="503280" cy="287280"/>
          </a:xfrm>
        </p:grpSpPr>
        <p:sp>
          <p:nvSpPr>
            <p:cNvPr id="265" name="Прямая соединительная линия 4"/>
            <p:cNvSpPr/>
            <p:nvPr/>
          </p:nvSpPr>
          <p:spPr>
            <a:xfrm>
              <a:off x="4905720" y="900000"/>
              <a:ext cx="2664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6" name="Прямая соединительная линия 5"/>
            <p:cNvSpPr/>
            <p:nvPr/>
          </p:nvSpPr>
          <p:spPr>
            <a:xfrm flipH="1">
              <a:off x="4668840" y="900000"/>
              <a:ext cx="2368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7" name="Группа 6"/>
          <p:cNvGrpSpPr/>
          <p:nvPr/>
        </p:nvGrpSpPr>
        <p:grpSpPr>
          <a:xfrm>
            <a:off x="5427720" y="892080"/>
            <a:ext cx="503280" cy="289080"/>
            <a:chOff x="5427720" y="892080"/>
            <a:chExt cx="503280" cy="289080"/>
          </a:xfrm>
        </p:grpSpPr>
        <p:sp>
          <p:nvSpPr>
            <p:cNvPr id="268" name="Прямая соединительная линия 7"/>
            <p:cNvSpPr/>
            <p:nvPr/>
          </p:nvSpPr>
          <p:spPr>
            <a:xfrm>
              <a:off x="5664600" y="892080"/>
              <a:ext cx="2664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9" name="Прямая соединительная линия 8"/>
            <p:cNvSpPr/>
            <p:nvPr/>
          </p:nvSpPr>
          <p:spPr>
            <a:xfrm flipH="1">
              <a:off x="5427720" y="892080"/>
              <a:ext cx="2368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ое в человеке - от лучей солнца и от молока Матер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Горьки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56536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– это значит нежност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аска, доброт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– это безмятежност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дость, красота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oenix</cp:lastModifiedBy>
  <dcterms:modified xsi:type="dcterms:W3CDTF">2012-12-07T02:27:01Z</dcterms:modified>
  <cp:revision>23</cp:revision>
  <dc:subject/>
  <dc:title>Наиболее употребительные суффиксы существитель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9000000000001024140</vt:lpwstr>
  </property>
</Properties>
</file>