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76FC0-3DB7-4645-BFFA-B2C991894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3DDF7-3A64-4312-9AC1-708AF6940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0F571-720A-4FA2-ABB9-A7BAD7BB2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BFA9C-FAAB-44A0-B89B-2F56D131E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094B0-C03F-485E-91CF-5873FF29F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EEE54-08E7-4552-B534-71245B579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701D4-0DBF-43B7-8A15-66F510A17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98E79-8EDF-4501-9AC8-A6B6C574C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E250B-4BFC-4F82-815D-2AB9B195D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03131-E56C-42BF-9A8A-67356505F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2A49A-7DC1-4F7D-A6BE-2B0384BFC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D4B52-5E8A-41D1-89D6-3A5F1D24A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F9D2C-F0A8-4917-A894-17BBF97D0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0FCE9-CF75-482B-A60A-49B332566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3ED79-CA8B-4D81-BFD2-4EA7208D6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E62C6-21EA-4F38-B2B9-03DF3AAE2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FBE28-114B-4753-93AB-4A123FB8C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E56B36-6E3B-4C3D-AE37-9A9C29E4D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EB7C24-E225-4A2C-8C97-BD9E6C246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BAAE4E-991F-4FE6-81A1-7F071BE89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EFBACA-1A4B-46BD-9E64-FB4FE9544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726ABB-A34A-42D1-B62D-ABAB395D8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E6D1E-5535-4232-A0C5-D53D28585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94139B-184F-402E-995A-F15B54F64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986117-C00F-4567-8CF6-8493402F0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DD906E-888A-4A1F-88E1-BA2D2B5F2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D4DE40-F216-4842-8E4C-07855B327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BD32B4-44B5-40EB-BD80-F4CC16266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EECDC6-24FB-4439-9662-4BA43C40F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24048A-D82D-4382-B4C7-23F64DFED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6D831A-F8F6-468C-9486-077AAB55F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A7D964-9647-49B8-B846-932E84F5C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44075D-7DFB-4083-A7A8-3D0FAA0B3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FD947-8190-40BD-AB32-2EAE424AF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C8F288-8E5B-4B62-9439-12FF52847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1FAABD-EFBB-4F64-862A-901A2BC95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0738AD-F40E-4980-8671-E1136E125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74E062-F366-435D-86F4-38C1AF421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BCE91B-A133-47AE-8A12-F2863209D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410CFA-E46E-4DB5-9FA1-CB730BE75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A5FA2B-A5F2-44F1-967D-E41FA1FCC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CD00CA-6FCD-405D-9624-43642CE5C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B33839-0FFD-4D48-8207-9B2F800A9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633DB-9BBF-4885-8C4C-B2E814924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5AEAA-77FE-4882-88B4-84B59D78D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FA05F-25E1-485C-AE53-F35143F9B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181B1-6955-4977-BCB8-C2C7AB6BB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7F0B1-27DD-4147-AAE8-240024A1C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78631-E9A9-4126-BF0F-EC2B194DA183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4D07B-53B8-44BD-B483-78CCFBA8B702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E3EE1-7B10-4958-BEED-19C8BFBD46AA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4E19E-E037-403A-BFFE-CDA491C3E12C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opera_2.avi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1"/>
          <a:stretch/>
        </p:blipFill>
        <p:spPr>
          <a:xfrm>
            <a:off x="79200" y="633240"/>
            <a:ext cx="8942400" cy="256716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899640" y="3886200"/>
            <a:ext cx="7488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рок русского языка в 6-м классе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езентация Коротковой С. Г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Заголовок 1" descr=""/>
          <p:cNvPicPr/>
          <p:nvPr/>
        </p:nvPicPr>
        <p:blipFill>
          <a:blip r:embed="rId1"/>
          <a:stretch/>
        </p:blipFill>
        <p:spPr>
          <a:xfrm>
            <a:off x="237960" y="328680"/>
            <a:ext cx="8534520" cy="6346800"/>
          </a:xfrm>
          <a:prstGeom prst="rect">
            <a:avLst/>
          </a:prstGeom>
          <a:ln w="0">
            <a:noFill/>
          </a:ln>
        </p:spPr>
      </p:pic>
      <p:grpSp>
        <p:nvGrpSpPr>
          <p:cNvPr id="198" name="Группа 2"/>
          <p:cNvGrpSpPr/>
          <p:nvPr/>
        </p:nvGrpSpPr>
        <p:grpSpPr>
          <a:xfrm>
            <a:off x="2139480" y="463680"/>
            <a:ext cx="576720" cy="287280"/>
            <a:chOff x="2139480" y="463680"/>
            <a:chExt cx="576720" cy="287280"/>
          </a:xfrm>
        </p:grpSpPr>
        <p:sp>
          <p:nvSpPr>
            <p:cNvPr id="199" name="Прямая соединительная линия 3"/>
            <p:cNvSpPr/>
            <p:nvPr/>
          </p:nvSpPr>
          <p:spPr>
            <a:xfrm>
              <a:off x="2410920" y="463680"/>
              <a:ext cx="30528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00" name="Прямая соединительная линия 4"/>
            <p:cNvSpPr/>
            <p:nvPr/>
          </p:nvSpPr>
          <p:spPr>
            <a:xfrm flipH="1">
              <a:off x="2139480" y="463680"/>
              <a:ext cx="27108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pic>
        <p:nvPicPr>
          <p:cNvPr id="201" name="Рисунок 5" descr="1.png"/>
          <p:cNvPicPr/>
          <p:nvPr/>
        </p:nvPicPr>
        <p:blipFill>
          <a:blip r:embed="rId2"/>
          <a:stretch/>
        </p:blipFill>
        <p:spPr>
          <a:xfrm>
            <a:off x="611280" y="1773360"/>
            <a:ext cx="936360" cy="963360"/>
          </a:xfrm>
          <a:prstGeom prst="rect">
            <a:avLst/>
          </a:prstGeom>
          <a:ln w="0">
            <a:noFill/>
          </a:ln>
        </p:spPr>
      </p:pic>
      <p:pic>
        <p:nvPicPr>
          <p:cNvPr id="202" name="Рисунок 6" descr="1.png"/>
          <p:cNvPicPr/>
          <p:nvPr/>
        </p:nvPicPr>
        <p:blipFill>
          <a:blip r:embed="rId3"/>
          <a:stretch/>
        </p:blipFill>
        <p:spPr>
          <a:xfrm>
            <a:off x="2987640" y="1484280"/>
            <a:ext cx="1468440" cy="1513080"/>
          </a:xfrm>
          <a:prstGeom prst="rect">
            <a:avLst/>
          </a:prstGeom>
          <a:ln w="0">
            <a:noFill/>
          </a:ln>
        </p:spPr>
      </p:pic>
      <p:pic>
        <p:nvPicPr>
          <p:cNvPr id="203" name="Рисунок 7" descr="1.png"/>
          <p:cNvPicPr/>
          <p:nvPr/>
        </p:nvPicPr>
        <p:blipFill>
          <a:blip r:embed="rId4"/>
          <a:stretch/>
        </p:blipFill>
        <p:spPr>
          <a:xfrm>
            <a:off x="5940360" y="1197000"/>
            <a:ext cx="2097000" cy="2160720"/>
          </a:xfrm>
          <a:prstGeom prst="rect">
            <a:avLst/>
          </a:prstGeom>
          <a:ln w="0">
            <a:noFill/>
          </a:ln>
        </p:spPr>
      </p:pic>
      <p:grpSp>
        <p:nvGrpSpPr>
          <p:cNvPr id="204" name="Группа 8"/>
          <p:cNvGrpSpPr/>
          <p:nvPr/>
        </p:nvGrpSpPr>
        <p:grpSpPr>
          <a:xfrm>
            <a:off x="1258560" y="3573360"/>
            <a:ext cx="360720" cy="216000"/>
            <a:chOff x="1258560" y="3573360"/>
            <a:chExt cx="360720" cy="216000"/>
          </a:xfrm>
        </p:grpSpPr>
        <p:sp>
          <p:nvSpPr>
            <p:cNvPr id="205" name="Прямая соединительная линия 9"/>
            <p:cNvSpPr/>
            <p:nvPr/>
          </p:nvSpPr>
          <p:spPr>
            <a:xfrm>
              <a:off x="1428480" y="3573360"/>
              <a:ext cx="19080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06" name="Прямая соединительная линия 10"/>
            <p:cNvSpPr/>
            <p:nvPr/>
          </p:nvSpPr>
          <p:spPr>
            <a:xfrm flipH="1">
              <a:off x="1258560" y="3573360"/>
              <a:ext cx="16956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grpSp>
        <p:nvGrpSpPr>
          <p:cNvPr id="207" name="Группа 14"/>
          <p:cNvGrpSpPr/>
          <p:nvPr/>
        </p:nvGrpSpPr>
        <p:grpSpPr>
          <a:xfrm>
            <a:off x="6813360" y="3573360"/>
            <a:ext cx="360720" cy="216000"/>
            <a:chOff x="6813360" y="3573360"/>
            <a:chExt cx="360720" cy="216000"/>
          </a:xfrm>
        </p:grpSpPr>
        <p:sp>
          <p:nvSpPr>
            <p:cNvPr id="208" name="Прямая соединительная линия 15"/>
            <p:cNvSpPr/>
            <p:nvPr/>
          </p:nvSpPr>
          <p:spPr>
            <a:xfrm>
              <a:off x="6983280" y="3573360"/>
              <a:ext cx="19080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09" name="Прямая соединительная линия 16"/>
            <p:cNvSpPr/>
            <p:nvPr/>
          </p:nvSpPr>
          <p:spPr>
            <a:xfrm flipH="1">
              <a:off x="6813360" y="3573360"/>
              <a:ext cx="16956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Заголовок 1" descr=""/>
          <p:cNvPicPr/>
          <p:nvPr/>
        </p:nvPicPr>
        <p:blipFill>
          <a:blip r:embed="rId1"/>
          <a:stretch/>
        </p:blipFill>
        <p:spPr>
          <a:xfrm>
            <a:off x="450720" y="701640"/>
            <a:ext cx="8321760" cy="554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Заголовок 1" descr=""/>
          <p:cNvPicPr/>
          <p:nvPr/>
        </p:nvPicPr>
        <p:blipFill>
          <a:blip r:embed="rId1"/>
          <a:stretch/>
        </p:blipFill>
        <p:spPr>
          <a:xfrm>
            <a:off x="208080" y="701640"/>
            <a:ext cx="8564400" cy="5686560"/>
          </a:xfrm>
          <a:prstGeom prst="rect">
            <a:avLst/>
          </a:prstGeom>
          <a:ln w="0">
            <a:noFill/>
          </a:ln>
        </p:spPr>
      </p:pic>
      <p:grpSp>
        <p:nvGrpSpPr>
          <p:cNvPr id="212" name="Группа 2"/>
          <p:cNvGrpSpPr/>
          <p:nvPr/>
        </p:nvGrpSpPr>
        <p:grpSpPr>
          <a:xfrm>
            <a:off x="468000" y="2781360"/>
            <a:ext cx="574920" cy="287280"/>
            <a:chOff x="468000" y="2781360"/>
            <a:chExt cx="574920" cy="287280"/>
          </a:xfrm>
        </p:grpSpPr>
        <p:sp>
          <p:nvSpPr>
            <p:cNvPr id="213" name="Прямая соединительная линия 3"/>
            <p:cNvSpPr/>
            <p:nvPr/>
          </p:nvSpPr>
          <p:spPr>
            <a:xfrm>
              <a:off x="738720" y="2781360"/>
              <a:ext cx="30420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14" name="Прямая соединительная линия 4"/>
            <p:cNvSpPr/>
            <p:nvPr/>
          </p:nvSpPr>
          <p:spPr>
            <a:xfrm flipH="1">
              <a:off x="468000" y="2781360"/>
              <a:ext cx="27036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grpSp>
        <p:nvGrpSpPr>
          <p:cNvPr id="215" name="Группа 5"/>
          <p:cNvGrpSpPr/>
          <p:nvPr/>
        </p:nvGrpSpPr>
        <p:grpSpPr>
          <a:xfrm>
            <a:off x="498240" y="3605040"/>
            <a:ext cx="576360" cy="287640"/>
            <a:chOff x="498240" y="3605040"/>
            <a:chExt cx="576360" cy="287640"/>
          </a:xfrm>
        </p:grpSpPr>
        <p:sp>
          <p:nvSpPr>
            <p:cNvPr id="216" name="Прямая соединительная линия 6"/>
            <p:cNvSpPr/>
            <p:nvPr/>
          </p:nvSpPr>
          <p:spPr>
            <a:xfrm>
              <a:off x="769680" y="3605040"/>
              <a:ext cx="304920" cy="28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17" name="Прямая соединительная линия 7"/>
            <p:cNvSpPr/>
            <p:nvPr/>
          </p:nvSpPr>
          <p:spPr>
            <a:xfrm flipH="1">
              <a:off x="498240" y="3605040"/>
              <a:ext cx="271080" cy="28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grpSp>
        <p:nvGrpSpPr>
          <p:cNvPr id="218" name="Группа 8"/>
          <p:cNvGrpSpPr/>
          <p:nvPr/>
        </p:nvGrpSpPr>
        <p:grpSpPr>
          <a:xfrm>
            <a:off x="498240" y="4484520"/>
            <a:ext cx="576360" cy="287640"/>
            <a:chOff x="498240" y="4484520"/>
            <a:chExt cx="576360" cy="287640"/>
          </a:xfrm>
        </p:grpSpPr>
        <p:sp>
          <p:nvSpPr>
            <p:cNvPr id="219" name="Прямая соединительная линия 9"/>
            <p:cNvSpPr/>
            <p:nvPr/>
          </p:nvSpPr>
          <p:spPr>
            <a:xfrm>
              <a:off x="769680" y="4484520"/>
              <a:ext cx="304920" cy="28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20" name="Прямая соединительная линия 10"/>
            <p:cNvSpPr/>
            <p:nvPr/>
          </p:nvSpPr>
          <p:spPr>
            <a:xfrm flipH="1">
              <a:off x="498240" y="4484520"/>
              <a:ext cx="271080" cy="28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grpSp>
        <p:nvGrpSpPr>
          <p:cNvPr id="221" name="Группа 11"/>
          <p:cNvGrpSpPr/>
          <p:nvPr/>
        </p:nvGrpSpPr>
        <p:grpSpPr>
          <a:xfrm>
            <a:off x="420840" y="5332320"/>
            <a:ext cx="431640" cy="289080"/>
            <a:chOff x="420840" y="5332320"/>
            <a:chExt cx="431640" cy="289080"/>
          </a:xfrm>
        </p:grpSpPr>
        <p:sp>
          <p:nvSpPr>
            <p:cNvPr id="222" name="Прямая соединительная линия 12"/>
            <p:cNvSpPr/>
            <p:nvPr/>
          </p:nvSpPr>
          <p:spPr>
            <a:xfrm>
              <a:off x="623880" y="5332320"/>
              <a:ext cx="228600" cy="28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23" name="Прямая соединительная линия 13"/>
            <p:cNvSpPr/>
            <p:nvPr/>
          </p:nvSpPr>
          <p:spPr>
            <a:xfrm flipH="1">
              <a:off x="420840" y="5332320"/>
              <a:ext cx="203040" cy="28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grpSp>
        <p:nvGrpSpPr>
          <p:cNvPr id="224" name="Группа 14"/>
          <p:cNvGrpSpPr/>
          <p:nvPr/>
        </p:nvGrpSpPr>
        <p:grpSpPr>
          <a:xfrm>
            <a:off x="5076360" y="2708280"/>
            <a:ext cx="574920" cy="360360"/>
            <a:chOff x="5076360" y="2708280"/>
            <a:chExt cx="574920" cy="360360"/>
          </a:xfrm>
        </p:grpSpPr>
        <p:sp>
          <p:nvSpPr>
            <p:cNvPr id="225" name="Прямая соединительная линия 15"/>
            <p:cNvSpPr/>
            <p:nvPr/>
          </p:nvSpPr>
          <p:spPr>
            <a:xfrm>
              <a:off x="5347080" y="2708280"/>
              <a:ext cx="30420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26" name="Прямая соединительная линия 16"/>
            <p:cNvSpPr/>
            <p:nvPr/>
          </p:nvSpPr>
          <p:spPr>
            <a:xfrm flipH="1">
              <a:off x="5076360" y="2708280"/>
              <a:ext cx="27036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grpSp>
        <p:nvGrpSpPr>
          <p:cNvPr id="227" name="Группа 17"/>
          <p:cNvGrpSpPr/>
          <p:nvPr/>
        </p:nvGrpSpPr>
        <p:grpSpPr>
          <a:xfrm>
            <a:off x="2900160" y="3557520"/>
            <a:ext cx="576360" cy="360360"/>
            <a:chOff x="2900160" y="3557520"/>
            <a:chExt cx="576360" cy="360360"/>
          </a:xfrm>
        </p:grpSpPr>
        <p:sp>
          <p:nvSpPr>
            <p:cNvPr id="228" name="Прямая соединительная линия 18"/>
            <p:cNvSpPr/>
            <p:nvPr/>
          </p:nvSpPr>
          <p:spPr>
            <a:xfrm>
              <a:off x="3171600" y="3557520"/>
              <a:ext cx="30492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29" name="Прямая соединительная линия 19"/>
            <p:cNvSpPr/>
            <p:nvPr/>
          </p:nvSpPr>
          <p:spPr>
            <a:xfrm flipH="1">
              <a:off x="2900160" y="3557520"/>
              <a:ext cx="27108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grpSp>
        <p:nvGrpSpPr>
          <p:cNvPr id="230" name="Группа 20"/>
          <p:cNvGrpSpPr/>
          <p:nvPr/>
        </p:nvGrpSpPr>
        <p:grpSpPr>
          <a:xfrm>
            <a:off x="3044520" y="4397400"/>
            <a:ext cx="574920" cy="358920"/>
            <a:chOff x="3044520" y="4397400"/>
            <a:chExt cx="574920" cy="358920"/>
          </a:xfrm>
        </p:grpSpPr>
        <p:sp>
          <p:nvSpPr>
            <p:cNvPr id="231" name="Прямая соединительная линия 21"/>
            <p:cNvSpPr/>
            <p:nvPr/>
          </p:nvSpPr>
          <p:spPr>
            <a:xfrm>
              <a:off x="3315240" y="4397400"/>
              <a:ext cx="304200" cy="35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32" name="Прямая соединительная линия 22"/>
            <p:cNvSpPr/>
            <p:nvPr/>
          </p:nvSpPr>
          <p:spPr>
            <a:xfrm flipH="1">
              <a:off x="3044520" y="4397400"/>
              <a:ext cx="270360" cy="35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grpSp>
        <p:nvGrpSpPr>
          <p:cNvPr id="233" name="Группа 23"/>
          <p:cNvGrpSpPr/>
          <p:nvPr/>
        </p:nvGrpSpPr>
        <p:grpSpPr>
          <a:xfrm>
            <a:off x="3111120" y="2733840"/>
            <a:ext cx="576720" cy="360360"/>
            <a:chOff x="3111120" y="2733840"/>
            <a:chExt cx="576720" cy="360360"/>
          </a:xfrm>
        </p:grpSpPr>
        <p:sp>
          <p:nvSpPr>
            <p:cNvPr id="234" name="Прямая соединительная линия 24"/>
            <p:cNvSpPr/>
            <p:nvPr/>
          </p:nvSpPr>
          <p:spPr>
            <a:xfrm>
              <a:off x="3382560" y="2733840"/>
              <a:ext cx="30528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35" name="Прямая соединительная линия 25"/>
            <p:cNvSpPr/>
            <p:nvPr/>
          </p:nvSpPr>
          <p:spPr>
            <a:xfrm flipH="1">
              <a:off x="3111120" y="2733840"/>
              <a:ext cx="27108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grpSp>
        <p:nvGrpSpPr>
          <p:cNvPr id="236" name="Группа 26"/>
          <p:cNvGrpSpPr/>
          <p:nvPr/>
        </p:nvGrpSpPr>
        <p:grpSpPr>
          <a:xfrm>
            <a:off x="5106600" y="3564000"/>
            <a:ext cx="576720" cy="360360"/>
            <a:chOff x="5106600" y="3564000"/>
            <a:chExt cx="576720" cy="360360"/>
          </a:xfrm>
        </p:grpSpPr>
        <p:sp>
          <p:nvSpPr>
            <p:cNvPr id="237" name="Прямая соединительная линия 27"/>
            <p:cNvSpPr/>
            <p:nvPr/>
          </p:nvSpPr>
          <p:spPr>
            <a:xfrm>
              <a:off x="5378040" y="3564000"/>
              <a:ext cx="30528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38" name="Прямая соединительная линия 28"/>
            <p:cNvSpPr/>
            <p:nvPr/>
          </p:nvSpPr>
          <p:spPr>
            <a:xfrm flipH="1">
              <a:off x="5106600" y="3564000"/>
              <a:ext cx="27108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grpSp>
        <p:nvGrpSpPr>
          <p:cNvPr id="239" name="Группа 29"/>
          <p:cNvGrpSpPr/>
          <p:nvPr/>
        </p:nvGrpSpPr>
        <p:grpSpPr>
          <a:xfrm>
            <a:off x="7427520" y="2708280"/>
            <a:ext cx="576720" cy="360360"/>
            <a:chOff x="7427520" y="2708280"/>
            <a:chExt cx="576720" cy="360360"/>
          </a:xfrm>
        </p:grpSpPr>
        <p:sp>
          <p:nvSpPr>
            <p:cNvPr id="240" name="Прямая соединительная линия 30"/>
            <p:cNvSpPr/>
            <p:nvPr/>
          </p:nvSpPr>
          <p:spPr>
            <a:xfrm>
              <a:off x="7698960" y="2708280"/>
              <a:ext cx="30528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41" name="Прямая соединительная линия 31"/>
            <p:cNvSpPr/>
            <p:nvPr/>
          </p:nvSpPr>
          <p:spPr>
            <a:xfrm flipH="1">
              <a:off x="7427520" y="2708280"/>
              <a:ext cx="27108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grpSp>
        <p:nvGrpSpPr>
          <p:cNvPr id="242" name="Группа 32"/>
          <p:cNvGrpSpPr/>
          <p:nvPr/>
        </p:nvGrpSpPr>
        <p:grpSpPr>
          <a:xfrm>
            <a:off x="7724520" y="3557520"/>
            <a:ext cx="576360" cy="360360"/>
            <a:chOff x="7724520" y="3557520"/>
            <a:chExt cx="576360" cy="360360"/>
          </a:xfrm>
        </p:grpSpPr>
        <p:sp>
          <p:nvSpPr>
            <p:cNvPr id="243" name="Прямая соединительная линия 33"/>
            <p:cNvSpPr/>
            <p:nvPr/>
          </p:nvSpPr>
          <p:spPr>
            <a:xfrm>
              <a:off x="7995960" y="3557520"/>
              <a:ext cx="30492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44" name="Прямая соединительная линия 34"/>
            <p:cNvSpPr/>
            <p:nvPr/>
          </p:nvSpPr>
          <p:spPr>
            <a:xfrm flipH="1">
              <a:off x="7724520" y="3557520"/>
              <a:ext cx="27108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grpSp>
        <p:nvGrpSpPr>
          <p:cNvPr id="245" name="Группа 35"/>
          <p:cNvGrpSpPr/>
          <p:nvPr/>
        </p:nvGrpSpPr>
        <p:grpSpPr>
          <a:xfrm>
            <a:off x="7629120" y="5342040"/>
            <a:ext cx="432360" cy="287280"/>
            <a:chOff x="7629120" y="5342040"/>
            <a:chExt cx="432360" cy="287280"/>
          </a:xfrm>
        </p:grpSpPr>
        <p:sp>
          <p:nvSpPr>
            <p:cNvPr id="246" name="Прямая соединительная линия 36"/>
            <p:cNvSpPr/>
            <p:nvPr/>
          </p:nvSpPr>
          <p:spPr>
            <a:xfrm>
              <a:off x="7832880" y="5342040"/>
              <a:ext cx="22860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47" name="Прямая соединительная линия 37"/>
            <p:cNvSpPr/>
            <p:nvPr/>
          </p:nvSpPr>
          <p:spPr>
            <a:xfrm flipH="1">
              <a:off x="7629120" y="5342040"/>
              <a:ext cx="20340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grpSp>
        <p:nvGrpSpPr>
          <p:cNvPr id="248" name="Группа 44"/>
          <p:cNvGrpSpPr/>
          <p:nvPr/>
        </p:nvGrpSpPr>
        <p:grpSpPr>
          <a:xfrm>
            <a:off x="5060520" y="5348160"/>
            <a:ext cx="432360" cy="289080"/>
            <a:chOff x="5060520" y="5348160"/>
            <a:chExt cx="432360" cy="289080"/>
          </a:xfrm>
        </p:grpSpPr>
        <p:sp>
          <p:nvSpPr>
            <p:cNvPr id="249" name="Прямая соединительная линия 45"/>
            <p:cNvSpPr/>
            <p:nvPr/>
          </p:nvSpPr>
          <p:spPr>
            <a:xfrm>
              <a:off x="5264280" y="5348160"/>
              <a:ext cx="228600" cy="28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50" name="Прямая соединительная линия 46"/>
            <p:cNvSpPr/>
            <p:nvPr/>
          </p:nvSpPr>
          <p:spPr>
            <a:xfrm flipH="1">
              <a:off x="5060520" y="5348160"/>
              <a:ext cx="203400" cy="28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grpSp>
        <p:nvGrpSpPr>
          <p:cNvPr id="251" name="Группа 47"/>
          <p:cNvGrpSpPr/>
          <p:nvPr/>
        </p:nvGrpSpPr>
        <p:grpSpPr>
          <a:xfrm>
            <a:off x="3228480" y="5332320"/>
            <a:ext cx="390960" cy="304920"/>
            <a:chOff x="3228480" y="5332320"/>
            <a:chExt cx="390960" cy="304920"/>
          </a:xfrm>
        </p:grpSpPr>
        <p:sp>
          <p:nvSpPr>
            <p:cNvPr id="252" name="Прямая соединительная линия 48"/>
            <p:cNvSpPr/>
            <p:nvPr/>
          </p:nvSpPr>
          <p:spPr>
            <a:xfrm>
              <a:off x="3412800" y="5332320"/>
              <a:ext cx="2066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53" name="Прямая соединительная линия 49"/>
            <p:cNvSpPr/>
            <p:nvPr/>
          </p:nvSpPr>
          <p:spPr>
            <a:xfrm flipH="1">
              <a:off x="3228480" y="5332320"/>
              <a:ext cx="1839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grpSp>
        <p:nvGrpSpPr>
          <p:cNvPr id="254" name="Группа 50"/>
          <p:cNvGrpSpPr/>
          <p:nvPr/>
        </p:nvGrpSpPr>
        <p:grpSpPr>
          <a:xfrm>
            <a:off x="4971600" y="4492800"/>
            <a:ext cx="232200" cy="288720"/>
            <a:chOff x="4971600" y="4492800"/>
            <a:chExt cx="232200" cy="288720"/>
          </a:xfrm>
        </p:grpSpPr>
        <p:sp>
          <p:nvSpPr>
            <p:cNvPr id="255" name="Прямая соединительная линия 51"/>
            <p:cNvSpPr/>
            <p:nvPr/>
          </p:nvSpPr>
          <p:spPr>
            <a:xfrm>
              <a:off x="5081040" y="4492800"/>
              <a:ext cx="122760" cy="28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56" name="Прямая соединительная линия 52"/>
            <p:cNvSpPr/>
            <p:nvPr/>
          </p:nvSpPr>
          <p:spPr>
            <a:xfrm flipH="1">
              <a:off x="4971600" y="4492800"/>
              <a:ext cx="109080" cy="28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grpSp>
        <p:nvGrpSpPr>
          <p:cNvPr id="257" name="Группа 53"/>
          <p:cNvGrpSpPr/>
          <p:nvPr/>
        </p:nvGrpSpPr>
        <p:grpSpPr>
          <a:xfrm>
            <a:off x="7589520" y="4500720"/>
            <a:ext cx="232200" cy="287280"/>
            <a:chOff x="7589520" y="4500720"/>
            <a:chExt cx="232200" cy="287280"/>
          </a:xfrm>
        </p:grpSpPr>
        <p:sp>
          <p:nvSpPr>
            <p:cNvPr id="258" name="Прямая соединительная линия 54"/>
            <p:cNvSpPr/>
            <p:nvPr/>
          </p:nvSpPr>
          <p:spPr>
            <a:xfrm>
              <a:off x="7698960" y="4500720"/>
              <a:ext cx="12276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59" name="Прямая соединительная линия 55"/>
            <p:cNvSpPr/>
            <p:nvPr/>
          </p:nvSpPr>
          <p:spPr>
            <a:xfrm flipH="1">
              <a:off x="7589520" y="4500720"/>
              <a:ext cx="10908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727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йдите слова на это правило!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куда строки?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457200" y="2420640"/>
            <a:ext cx="8229600" cy="39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64600" indent="-2646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лубушка, как хороша!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у что за шейка, что за глазки!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сказывать, так право, сказки!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ие пёрышки, какой носок!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, верно, ангельский быть должен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лосок</a:t>
            </a:r>
            <a:r>
              <a:rPr b="0" lang="ru-RU" sz="3200" spc="-1" strike="noStrike" u="sng">
                <a:solidFill>
                  <a:srgbClr val="e2d700"/>
                </a:solidFill>
                <a:uFillTx/>
                <a:latin typeface="Times New Roman"/>
                <a:ea typeface="Times New Roman"/>
                <a:hlinkClick r:id="rId1"/>
              </a:rPr>
              <a:t>!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уй слова с ек, ик, проверь:</a:t>
            </a:r>
            <a:br>
              <a:rPr sz="4000"/>
            </a:b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457200" y="2491920"/>
            <a:ext cx="8229600" cy="38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щ –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м –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сок –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убок –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рох –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вонок –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264" name="Группа 3"/>
          <p:cNvGrpSpPr/>
          <p:nvPr/>
        </p:nvGrpSpPr>
        <p:grpSpPr>
          <a:xfrm>
            <a:off x="4668840" y="900000"/>
            <a:ext cx="503280" cy="287280"/>
            <a:chOff x="4668840" y="900000"/>
            <a:chExt cx="503280" cy="287280"/>
          </a:xfrm>
        </p:grpSpPr>
        <p:sp>
          <p:nvSpPr>
            <p:cNvPr id="265" name="Прямая соединительная линия 4"/>
            <p:cNvSpPr/>
            <p:nvPr/>
          </p:nvSpPr>
          <p:spPr>
            <a:xfrm>
              <a:off x="4905720" y="900000"/>
              <a:ext cx="26640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66" name="Прямая соединительная линия 5"/>
            <p:cNvSpPr/>
            <p:nvPr/>
          </p:nvSpPr>
          <p:spPr>
            <a:xfrm flipH="1">
              <a:off x="4668840" y="900000"/>
              <a:ext cx="23688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grpSp>
        <p:nvGrpSpPr>
          <p:cNvPr id="267" name="Группа 6"/>
          <p:cNvGrpSpPr/>
          <p:nvPr/>
        </p:nvGrpSpPr>
        <p:grpSpPr>
          <a:xfrm>
            <a:off x="5427720" y="892080"/>
            <a:ext cx="503280" cy="289080"/>
            <a:chOff x="5427720" y="892080"/>
            <a:chExt cx="503280" cy="289080"/>
          </a:xfrm>
        </p:grpSpPr>
        <p:sp>
          <p:nvSpPr>
            <p:cNvPr id="268" name="Прямая соединительная линия 7"/>
            <p:cNvSpPr/>
            <p:nvPr/>
          </p:nvSpPr>
          <p:spPr>
            <a:xfrm>
              <a:off x="5664600" y="892080"/>
              <a:ext cx="266400" cy="28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69" name="Прямая соединительная линия 8"/>
            <p:cNvSpPr/>
            <p:nvPr/>
          </p:nvSpPr>
          <p:spPr>
            <a:xfrm flipH="1">
              <a:off x="5427720" y="892080"/>
              <a:ext cx="236880" cy="28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716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прекрасное в человеке - от лучей солнца и от молока Матери.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ксим Горький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457200" y="2565360"/>
            <a:ext cx="8229600" cy="37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ма – это значит нежность,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ласка, доброта,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ма – это безмятежность,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радость, красота!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hoenix</cp:lastModifiedBy>
  <dcterms:modified xsi:type="dcterms:W3CDTF">2012-12-07T02:27:01Z</dcterms:modified>
  <cp:revision>23</cp:revision>
  <dc:subject/>
  <dc:title>Наиболее употребительные суффиксы существительных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9209000000000001024140</vt:lpwstr>
  </property>
</Properties>
</file>