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9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1926-2D75-4B4E-8F07-CA87FA9421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8651-3DEE-4A5E-B7EF-E8D90E7BB8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01D-5966-41A3-A5E3-7474561D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697-BA4D-43FB-95EA-40C0142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4C2-E598-41D3-8202-8120759E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828-2347-4D3E-8D5A-73F97F23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4C52-155B-474E-8B7D-5C3D48D8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D9A5-43E4-4BF2-91EA-35377B79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30CE-C7F3-44E5-B104-D87F4E19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CD64-695C-4DE8-8559-BD77F326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785A-799C-4AC4-837D-0EBB2709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6275-B996-40B4-9776-AEF2B872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022B-EF94-4627-8CB1-CE6BF24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254-465E-4000-8D7E-BD0449E1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D246-D6D8-4B6B-9D9E-1526B562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E15F-C721-4990-AA45-97E43C7B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0C86-D857-45B0-91A8-F4AA3E37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81A9-056C-4D0A-A6A5-E5B9BB9A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6E19-041C-4025-9834-3195103E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33254-BBBF-470E-9805-19252EF5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BB5E-4F04-4D9B-ACCA-61DC376E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AE2D-DF47-416D-9D3A-C18AE49D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8E16-F309-4CC5-BFAE-07212D3E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3E58-1675-43B7-A2CC-BEE8F1C1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BD5-351C-4E27-B997-F666B8A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3FB8-B007-4A2F-BEF2-1E2CA7A8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EA93-6B62-420C-867C-BC74AF27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326B6-A7EC-415F-9AD5-1D0A141A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BBEF-0224-41F4-B2F7-A9B146B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64175-E081-4248-B28E-F3CAB16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0A05-1A5C-4B02-BE65-5312242E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09C2-8456-44B4-8695-78A7934C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198E8-BAC5-4185-9486-D5430C0F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A79C-D99A-48A6-B8ED-EA54E225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CC137-3FDB-4ADB-BC96-8C15DE62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F25-B443-45DA-9178-A1D9DFC5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25D5-D8C0-41B5-A816-371CF576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CCE98-C985-468C-A28E-A0BB8B17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13421-68AB-4B92-8A29-2AEC083D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A9A2-A362-4359-9C93-6807C002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19561-0455-4B53-9E32-1C3DE51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DA1F-623C-436B-9E4C-9957A731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1DD2-8F08-4544-AFC0-FA5B447D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E1BD-E088-4F4E-96F2-51C1A555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B1E5-867C-4BF6-B79D-515862E3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731B-A5BE-4D1B-9D90-0CD8426F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B8A-33D4-485C-9AC0-5949B3EB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F28D-A180-4A2E-815E-A811B5E2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2BBC0-8D56-4F13-9C0B-6470A384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FFA01-F33D-4A60-8FA7-104E6EBB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401A8-294D-4CF6-B994-E08193DE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96F0-DDCE-4B25-ACA0-F02DA35D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2EED3-5EC1-40AB-A835-ADB71FFA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88AC-36F3-4399-947C-4FD7D22E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1FCB7-829A-4266-8A71-2E2DC25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F655E-5E6F-4B0D-87DE-C1AB35D9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4FA2E-9CD6-4C79-8B87-3FC81C13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A2D-00EC-4AD7-B957-3442BD01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98AE6-89D6-4443-9CD6-14200947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C05-17D1-4AFF-AC99-17633324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E55-BBDA-4F1F-872A-8F88D9A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C30-7E6F-4341-8FE9-69BFC66A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4CE1-3CE1-4460-945E-CE80AC0AFAB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6A6-DCA9-4F9A-A8DE-F06C16B1978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89C1-6496-4B02-873F-0FA4C6EAD3E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9085-F15E-43A8-87D8-D74180BD051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3511-FB87-419A-AA5A-32D4E4ED9B1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2706840" y="530280"/>
            <a:ext cx="577188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Овал 3"/>
          <p:cNvSpPr/>
          <p:nvPr/>
        </p:nvSpPr>
        <p:spPr>
          <a:xfrm>
            <a:off x="2714760" y="4357800"/>
            <a:ext cx="6429240" cy="19288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ыполнила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ОШ №8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аглеваная  Елена  Ивано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7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14560" y="1609200"/>
            <a:ext cx="2981160" cy="4846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http://dergachev.ru/images/Landscapes/USA/19_clip_image010.jpg"/>
          <p:cNvPicPr/>
          <p:nvPr/>
        </p:nvPicPr>
        <p:blipFill>
          <a:blip r:embed="rId3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6"/>
          <p:cNvSpPr/>
          <p:nvPr/>
        </p:nvSpPr>
        <p:spPr>
          <a:xfrm>
            <a:off x="571680" y="642960"/>
            <a:ext cx="8572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rebuchet MS"/>
              </a:rPr>
              <a:t>Ребята, сегодня мы с вами совершим путешествие по волшебному королевству «Словообразование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7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Блок-схема: узел 4"/>
          <p:cNvGrpSpPr/>
          <p:nvPr/>
        </p:nvGrpSpPr>
        <p:grpSpPr>
          <a:xfrm>
            <a:off x="517680" y="1255680"/>
            <a:ext cx="6602400" cy="5321160"/>
            <a:chOff x="517680" y="1255680"/>
            <a:chExt cx="6602400" cy="5321160"/>
          </a:xfrm>
        </p:grpSpPr>
        <p:pic>
          <p:nvPicPr>
            <p:cNvPr id="252" name="Блок-схема: узел 4" descr=""/>
            <p:cNvPicPr/>
            <p:nvPr/>
          </p:nvPicPr>
          <p:blipFill>
            <a:blip r:embed="rId2"/>
            <a:stretch/>
          </p:blipFill>
          <p:spPr>
            <a:xfrm>
              <a:off x="517680" y="1255680"/>
              <a:ext cx="6602400" cy="53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523880" y="2049480"/>
              <a:ext cx="4595760" cy="36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4" name="Прямая соединительная линия 6"/>
          <p:cNvSpPr/>
          <p:nvPr/>
        </p:nvSpPr>
        <p:spPr>
          <a:xfrm>
            <a:off x="1285920" y="2286000"/>
            <a:ext cx="5048280" cy="323676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ая соединительная линия 11"/>
          <p:cNvSpPr/>
          <p:nvPr/>
        </p:nvSpPr>
        <p:spPr>
          <a:xfrm flipH="1">
            <a:off x="2857680" y="1285920"/>
            <a:ext cx="1428480" cy="507204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 flipH="1">
            <a:off x="3642840" y="2571120"/>
            <a:ext cx="3000600" cy="114300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Блок-схема: узел 31"/>
          <p:cNvSpPr/>
          <p:nvPr/>
        </p:nvSpPr>
        <p:spPr>
          <a:xfrm>
            <a:off x="3357720" y="3500280"/>
            <a:ext cx="457200" cy="45720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TextBox 37"/>
          <p:cNvSpPr/>
          <p:nvPr/>
        </p:nvSpPr>
        <p:spPr>
          <a:xfrm rot="20565000">
            <a:off x="1087200" y="4088880"/>
            <a:ext cx="21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узыкальна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TextBox 38"/>
          <p:cNvSpPr/>
          <p:nvPr/>
        </p:nvSpPr>
        <p:spPr>
          <a:xfrm rot="20692200">
            <a:off x="4550760" y="3575880"/>
            <a:ext cx="18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сторическа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TextBox 39"/>
          <p:cNvSpPr/>
          <p:nvPr/>
        </p:nvSpPr>
        <p:spPr>
          <a:xfrm>
            <a:off x="4572000" y="2428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40"/>
          <p:cNvSpPr/>
          <p:nvPr/>
        </p:nvSpPr>
        <p:spPr>
          <a:xfrm rot="3831600">
            <a:off x="2028240" y="222048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еоретическа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TextBox 42"/>
          <p:cNvSpPr/>
          <p:nvPr/>
        </p:nvSpPr>
        <p:spPr>
          <a:xfrm rot="4092000">
            <a:off x="3261240" y="49867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актическа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TextBox 43"/>
          <p:cNvSpPr/>
          <p:nvPr/>
        </p:nvSpPr>
        <p:spPr>
          <a:xfrm rot="18784800">
            <a:off x="3681000" y="2216160"/>
            <a:ext cx="21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образительна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TextBox 59" descr=""/>
          <p:cNvPicPr/>
          <p:nvPr/>
        </p:nvPicPr>
        <p:blipFill>
          <a:blip r:embed="rId3"/>
          <a:stretch/>
        </p:blipFill>
        <p:spPr>
          <a:xfrm>
            <a:off x="1133640" y="304920"/>
            <a:ext cx="5657760" cy="822240"/>
          </a:xfrm>
          <a:prstGeom prst="rect">
            <a:avLst/>
          </a:prstGeom>
          <a:ln w="0">
            <a:noFill/>
          </a:ln>
        </p:spPr>
      </p:pic>
      <p:sp>
        <p:nvSpPr>
          <p:cNvPr id="265" name="Стрелка вниз 60"/>
          <p:cNvSpPr/>
          <p:nvPr/>
        </p:nvSpPr>
        <p:spPr>
          <a:xfrm rot="3610200">
            <a:off x="2945880" y="346464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7000">
    <p:cover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://www.artscroll.ru/Images/2008/s/Shalapugina%20Elena/0000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4" descr=""/>
          <p:cNvPicPr/>
          <p:nvPr/>
        </p:nvPicPr>
        <p:blipFill>
          <a:blip r:embed="rId3"/>
          <a:stretch/>
        </p:blipFill>
        <p:spPr>
          <a:xfrm>
            <a:off x="1390680" y="353880"/>
            <a:ext cx="7399440" cy="85896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3571920" y="17859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вучит музыкальное произведение Грига «Утро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Edvard-Grig-Utro(muzofon.com).mp3" descr=""/>
          <p:cNvPicPr/>
          <p:nvPr/>
        </p:nvPicPr>
        <p:blipFill>
          <a:blip r:embed="rId4"/>
          <a:stretch/>
        </p:blipFill>
        <p:spPr>
          <a:xfrm>
            <a:off x="7858080" y="928800"/>
            <a:ext cx="1285920" cy="1071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5113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785520"/>
            <a:ext cx="7238880" cy="56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ие слова и образы возникают перед вами, когда вы слушаете это произведение?(</a:t>
            </a:r>
            <a:r>
              <a:rPr b="0" lang="ru-RU" sz="2800" spc="-1" strike="noStrike">
                <a:solidFill>
                  <a:srgbClr val="df9307"/>
                </a:solidFill>
                <a:latin typeface="Trebuchet MS"/>
              </a:rPr>
              <a:t>Рассвет, расстелился, заря, приближается, забрезжил, прикоснулся, природа, оживает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 музыка помогает понять прекрасное в природе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 можно озаглавить музыкальное произведение?(</a:t>
            </a:r>
            <a:r>
              <a:rPr b="0" lang="ru-RU" sz="2800" spc="-1" strike="noStrike">
                <a:solidFill>
                  <a:srgbClr val="df9307"/>
                </a:solidFill>
                <a:latin typeface="Trebuchet MS"/>
              </a:rPr>
              <a:t>Природа оживает, пробуждение, утро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357200"/>
            <a:ext cx="723888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ащиеся слушают музыку и пишут сочине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3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7255080" cy="847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071360"/>
            <a:ext cx="7238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ннее утро. Чуть забрезжил рассвет. Над лесной речкой расстелился тума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лесу тихо и прохладно. Вся природа ещё дремл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о вот над лесом показался алый диск солнца. Робкий солнечный луч прикоснулся своей волшебной палочкой к каждому живому существу. Солнце встаёт всё выше и выше. Зарянки звенят в тишине, вот-вот готовой нарушиться радостью оживающей природы. Переливается жемчугом роса. Поднялась заря, и пошли летать, словно лебеди, облака. Начинается превосходный, радужный ден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дравствуй, утро ясное и прекрасно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714560" y="785520"/>
            <a:ext cx="2981160" cy="56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тается сочинение и определяется победител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koipkro.kostroma.ru/chuhloma/shoolchuh/3/%D0%9D%D0%90%20%D0%A3%D0%A0%D0%9E%D0%9A%D0%95.JPG"/>
          <p:cNvPicPr/>
          <p:nvPr/>
        </p:nvPicPr>
        <p:blipFill>
          <a:blip r:embed="rId2"/>
          <a:stretch/>
        </p:blipFill>
        <p:spPr>
          <a:xfrm>
            <a:off x="689040" y="1657440"/>
            <a:ext cx="3279600" cy="3921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становить семантические и орфографические отличия в слова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Заря, зори, зорь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9000">
    <p:blinds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499680"/>
            <a:ext cx="723888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помните начало поэмы А.С.Пушкина «Руслан и Людмила»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автор использует слово </a:t>
            </a: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зар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Учащиеся читают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…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о 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заре</a:t>
            </a: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прихлынут волн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на брег песчаный и пустой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и тридцать витязей прекрасны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чредой из волн выходят ясных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00040" y="785520"/>
            <a:ext cx="7238880" cy="567036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ащиеся устанавливают лексическое значение слова </a:t>
            </a: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заря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Яркое освещение горизонта перед восходом или заходом солнц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Перен. Начало чего-либо нового, радостного, светлого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2" descr=""/>
          <p:cNvPicPr/>
          <p:nvPr/>
        </p:nvPicPr>
        <p:blipFill>
          <a:blip r:embed="rId3"/>
          <a:stretch/>
        </p:blipFill>
        <p:spPr>
          <a:xfrm>
            <a:off x="341280" y="1603440"/>
            <a:ext cx="7656480" cy="4857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356840"/>
            <a:ext cx="7238880" cy="271476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.Паустовск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аще всего зарницы бывают в июле, когда созревают хлеба. Поэтому и существует народное поверье, что зарницы «зарят хлеб» - освещают его по ночам - и от этого хлеб наливается быстре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500040" y="500040"/>
            <a:ext cx="383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итель читает текс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500040" y="4643280"/>
            <a:ext cx="82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щиеся определяют лексическое значение, объясняют написание сл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857160"/>
            <a:ext cx="7238880" cy="321480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енние зори иные –хмурые, медленные. Дню неохота просыпаться –всё равно не отогреешь озябшую землю и не вернёшь убывающий солнечный св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428760" y="4786200"/>
            <a:ext cx="67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ясняется орфограмма в слове зор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857160"/>
            <a:ext cx="7238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вёзды меркнут и гасну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огне обла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лый пар по лугам расстилае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удрявой трав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устам лозня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 зари алый свет разливае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.Никити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142880" y="1609200"/>
            <a:ext cx="35528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водится итог путешествия по теоретической станц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2" descr="http://www.office-club.ru/img.cgi?id=364"/>
          <p:cNvPicPr/>
          <p:nvPr/>
        </p:nvPicPr>
        <p:blipFill>
          <a:blip r:embed="rId2"/>
          <a:stretch/>
        </p:blipFill>
        <p:spPr>
          <a:xfrm>
            <a:off x="714240" y="178596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7572240" cy="9399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здесь написано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2" descr="C:\Documents and Settings\Admin\Рабочий стол\DSC_0046.jpg"/>
          <p:cNvPicPr/>
          <p:nvPr/>
        </p:nvPicPr>
        <p:blipFill>
          <a:blip r:embed="rId3"/>
          <a:stretch/>
        </p:blipFill>
        <p:spPr>
          <a:xfrm>
            <a:off x="15430680" y="16787880"/>
            <a:ext cx="31089600" cy="17487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C:\Documents and Settings\Admin\Рабочий стол\DSC_0046.jpg"/>
          <p:cNvPicPr/>
          <p:nvPr/>
        </p:nvPicPr>
        <p:blipFill>
          <a:blip r:embed="rId4"/>
          <a:stretch/>
        </p:blipFill>
        <p:spPr>
          <a:xfrm>
            <a:off x="1785960" y="1928880"/>
            <a:ext cx="4857840" cy="471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твет: </a:t>
            </a:r>
            <a:r>
              <a:rPr b="0" lang="ru-RU" sz="3600" spc="-1" strike="noStrike">
                <a:solidFill>
                  <a:srgbClr val="7030a0"/>
                </a:solidFill>
                <a:latin typeface="Trebuchet MS"/>
              </a:rPr>
              <a:t>каша, очки, ножка, столица, кит, тень, изб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 каком слове семь букв </a:t>
            </a:r>
            <a:r>
              <a:rPr b="1" lang="ru-RU" sz="3600" spc="-1" strike="noStrike">
                <a:solidFill>
                  <a:srgbClr val="e36406"/>
                </a:solidFill>
                <a:latin typeface="Trebuchet MS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твет:  </a:t>
            </a:r>
            <a:r>
              <a:rPr b="0" lang="ru-RU" sz="3600" spc="-1" strike="noStrike">
                <a:solidFill>
                  <a:srgbClr val="e36406"/>
                </a:solidFill>
                <a:latin typeface="Trebuchet MS"/>
              </a:rPr>
              <a:t>обороноспособност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428400"/>
            <a:ext cx="7238880" cy="60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ШАРАДЫ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буквой </a:t>
            </a:r>
            <a:r>
              <a:rPr b="0" lang="ru-RU" sz="2600" spc="-1" strike="noStrike">
                <a:solidFill>
                  <a:srgbClr val="e36406"/>
                </a:solidFill>
                <a:latin typeface="Trebuchet MS"/>
              </a:rPr>
              <a:t>к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ри меня на покос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без буквы </a:t>
            </a:r>
            <a:r>
              <a:rPr b="0" lang="ru-RU" sz="2600" spc="-1" strike="noStrike">
                <a:solidFill>
                  <a:srgbClr val="e36406"/>
                </a:solidFill>
                <a:latin typeface="Trebuchet MS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ужалю в но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ru-RU" sz="2600" spc="-1" strike="noStrike">
                <a:solidFill>
                  <a:srgbClr val="852f74"/>
                </a:solidFill>
                <a:latin typeface="Trebuchet MS"/>
              </a:rPr>
              <a:t>коса-ос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52f74"/>
                </a:solidFill>
                <a:latin typeface="Trebuchet MS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Из писка птиц мой первый слог возьмёт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торой – с бараньей голов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кройте печь и там найдё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о, что не раз едали в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ru-RU" sz="2600" spc="-1" strike="noStrike">
                <a:solidFill>
                  <a:srgbClr val="852f74"/>
                </a:solidFill>
                <a:latin typeface="Trebuchet MS"/>
              </a:rPr>
              <a:t>пирог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http://festival.1september.ru/articles/506347/img1.gif"/>
          <p:cNvPicPr/>
          <p:nvPr/>
        </p:nvPicPr>
        <p:blipFill>
          <a:blip r:embed="rId2"/>
          <a:stretch/>
        </p:blipFill>
        <p:spPr>
          <a:xfrm>
            <a:off x="214200" y="142920"/>
            <a:ext cx="5715000" cy="32767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0" y="2166840"/>
            <a:ext cx="769608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о горизонтали: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ит из двух частей: главной и зависим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аздел науки о языке, в котором изучают части реч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дна из основных единиц языка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Часть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о вертикали: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Раздел грамматики, изучающий строение слов и способы образования новых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Наука о грамматическом строе язык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Часть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Один из способов образования новых сл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571920" y="3000240"/>
            <a:ext cx="4124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ведение итогов  путешествия по сообразительной станц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Picture 2" descr="http://www.segodnya.ua/img/article/1892/11_main.jpg"/>
          <p:cNvPicPr/>
          <p:nvPr/>
        </p:nvPicPr>
        <p:blipFill>
          <a:blip r:embed="rId2"/>
          <a:stretch/>
        </p:blipFill>
        <p:spPr>
          <a:xfrm>
            <a:off x="285840" y="285840"/>
            <a:ext cx="3609720" cy="3309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2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ово происхождение слова </a:t>
            </a: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сочетани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ова история возникновения слова </a:t>
            </a: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богатырь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ова история возникновения слова </a:t>
            </a: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вежливость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1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ловообразовательных моделей современного русского язык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7000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0"/>
            <a:ext cx="7238880" cy="64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вет: </a:t>
            </a:r>
            <a:r>
              <a:rPr b="1" lang="ru-RU" sz="2400" spc="-1" strike="noStrike">
                <a:solidFill>
                  <a:srgbClr val="852f74"/>
                </a:solidFill>
                <a:latin typeface="Trebuchet MS"/>
              </a:rPr>
              <a:t>чет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ва (слав.), </a:t>
            </a:r>
            <a:r>
              <a:rPr b="1" lang="ru-RU" sz="2400" spc="-1" strike="noStrike">
                <a:solidFill>
                  <a:srgbClr val="852f74"/>
                </a:solidFill>
                <a:latin typeface="Trebuchet MS"/>
              </a:rPr>
              <a:t>со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вмест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вет:</a:t>
            </a:r>
            <a:r>
              <a:rPr b="1" lang="ru-RU" sz="2400" spc="-1" strike="noStrike">
                <a:solidFill>
                  <a:srgbClr val="852f74"/>
                </a:solidFill>
                <a:latin typeface="Trebuchet MS"/>
              </a:rPr>
              <a:t> богатырь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древнерусское заимствование из тюрского язы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огатырь, вместо первоначального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батыр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возникло под влиянием прилагательного </a:t>
            </a:r>
            <a:r>
              <a:rPr b="0" lang="ru-RU" sz="2400" spc="-1" strike="noStrike">
                <a:solidFill>
                  <a:srgbClr val="de6c36"/>
                </a:solidFill>
                <a:latin typeface="Trebuchet MS"/>
              </a:rPr>
              <a:t>богатый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и слов с суффиксом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de6c36"/>
                </a:solidFill>
                <a:latin typeface="Trebuchet MS"/>
              </a:rPr>
              <a:t>ыр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вет: </a:t>
            </a:r>
            <a:r>
              <a:rPr b="1" lang="ru-RU" sz="2400" spc="-1" strike="noStrike">
                <a:solidFill>
                  <a:srgbClr val="852f74"/>
                </a:solidFill>
                <a:latin typeface="Trebuchet MS"/>
              </a:rPr>
              <a:t>вежливость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разовано от слова </a:t>
            </a:r>
            <a:r>
              <a:rPr b="0" lang="ru-RU" sz="2400" spc="-1" strike="noStrike">
                <a:solidFill>
                  <a:srgbClr val="de6c36"/>
                </a:solidFill>
                <a:latin typeface="Trebuchet MS"/>
              </a:rPr>
              <a:t>вежливый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de6c36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Это древнерусское производное с помощью суффикса – слов (сов.-лив.) от неупотребительного сейчас </a:t>
            </a:r>
            <a:r>
              <a:rPr b="0" lang="ru-RU" sz="2400" spc="-1" strike="noStrike">
                <a:solidFill>
                  <a:srgbClr val="de6c36"/>
                </a:solidFill>
                <a:latin typeface="Trebuchet MS"/>
              </a:rPr>
              <a:t>веж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«знаток», производного посредством суффикса –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отвъ-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ь ти- «знать». Первоначально – «знающий, опытный», с Х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в. Употребляется в современном значен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071680" y="1609200"/>
            <a:ext cx="262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ведение итогов  путешествия по исторической станц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4" descr="http://www.o-detstve.ru/assets/images/forteachers/School/process/iniciativa2/gorchakova1.jpg"/>
          <p:cNvPicPr/>
          <p:nvPr/>
        </p:nvPicPr>
        <p:blipFill>
          <a:blip r:embed="rId2"/>
          <a:stretch/>
        </p:blipFill>
        <p:spPr>
          <a:xfrm>
            <a:off x="357120" y="1285920"/>
            <a:ext cx="428616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) Разобрать слово </a:t>
            </a:r>
            <a:r>
              <a:rPr b="1" lang="ru-RU" sz="2800" spc="-1" strike="noStrike">
                <a:solidFill>
                  <a:srgbClr val="a34b73"/>
                </a:solidFill>
                <a:latin typeface="Trebuchet MS"/>
              </a:rPr>
              <a:t>застеклить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по состав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) Назвать однокоренные слова к слову </a:t>
            </a:r>
            <a:r>
              <a:rPr b="1" lang="ru-RU" sz="2800" spc="-1" strike="noStrike">
                <a:solidFill>
                  <a:srgbClr val="a34b73"/>
                </a:solidFill>
                <a:latin typeface="Trebuchet MS"/>
              </a:rPr>
              <a:t>растение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)Написать три слова с приставкой </a:t>
            </a:r>
            <a:r>
              <a:rPr b="1" lang="ru-RU" sz="2800" spc="-1" strike="noStrike">
                <a:solidFill>
                  <a:srgbClr val="a34b73"/>
                </a:solidFill>
                <a:latin typeface="Trebuchet MS"/>
              </a:rPr>
              <a:t>пр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,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обозначающей неполное действи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213840"/>
            <a:ext cx="7238880" cy="62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 -приставка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екл -корень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-суффикс 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ь -оконч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росток, поросль, выращенны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приподнять, приоткрыть, пригорел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357440" y="571680"/>
            <a:ext cx="33382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водятся итоги путешествия по количеству набранных фише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гражде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Picture 2" descr="http://kaluga-22.narod.ru/school-life/2009/2009.09.09/0002.jpg"/>
          <p:cNvPicPr/>
          <p:nvPr/>
        </p:nvPicPr>
        <p:blipFill>
          <a:blip r:embed="rId2"/>
          <a:stretch/>
        </p:blipFill>
        <p:spPr>
          <a:xfrm>
            <a:off x="347760" y="1590840"/>
            <a:ext cx="4327560" cy="5206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пытайтесь объяснить, как устроены следующие – старые и современные – назв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Универмаг, Союзпечать, канцтовары, промтовары, химчистка, ощадбанк, детсад, ЖКХ, ГАИ, Главпочтамт, сельхозпродукты, военкомат, стройматериалы, НИИ, ДК, ПДД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wheel spokes="1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общение знаний по теме: «Словообразование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сширение языкового кругозо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витие орфографических навык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оанализировать особенности словообразования в речи и учащих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работать представление о способах словообразования слов и их этимолог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вивать умения правильно употреблять слова в ре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спитывать стремление приобретать зна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спитывать интерес к родному язык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83d68"/>
                </a:solidFill>
                <a:latin typeface="Trebuchet MS"/>
              </a:rPr>
              <a:t>Плакаты,</a:t>
            </a:r>
            <a:r>
              <a:rPr b="0" lang="en-US" sz="3200" spc="-1" strike="noStrike">
                <a:solidFill>
                  <a:srgbClr val="b83d68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b83d68"/>
                </a:solidFill>
                <a:latin typeface="Trebuchet MS"/>
              </a:rPr>
              <a:t>ребусы,</a:t>
            </a:r>
            <a:r>
              <a:rPr b="0" lang="en-US" sz="3200" spc="-1" strike="noStrike">
                <a:solidFill>
                  <a:srgbClr val="b83d68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b83d68"/>
                </a:solidFill>
                <a:latin typeface="Trebuchet MS"/>
              </a:rPr>
              <a:t>шарады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83d68"/>
                </a:solidFill>
                <a:latin typeface="Trebuchet MS"/>
              </a:rPr>
              <a:t>слайды,</a:t>
            </a:r>
            <a:r>
              <a:rPr b="0" lang="en-US" sz="3200" spc="-1" strike="noStrike">
                <a:solidFill>
                  <a:srgbClr val="b83d68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b83d68"/>
                </a:solidFill>
                <a:latin typeface="Trebuchet MS"/>
              </a:rPr>
              <a:t>компьютер, принтер, сканер, мультимедийный экра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83d68"/>
                </a:solidFill>
                <a:latin typeface="Trebuchet MS"/>
              </a:rPr>
              <a:t>Раздаточный материал: отрывки из  поэмы А.С.Пушкина «Руслан и Людмила»,музыкальное произведение Грига «Утро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2" descr=""/>
          <p:cNvPicPr/>
          <p:nvPr/>
        </p:nvPicPr>
        <p:blipFill>
          <a:blip r:embed="rId3"/>
          <a:stretch/>
        </p:blipFill>
        <p:spPr>
          <a:xfrm>
            <a:off x="347760" y="1603440"/>
            <a:ext cx="7358040" cy="4857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285840"/>
            <a:ext cx="723888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ласс разбивается на три команды (три ряд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14240" y="2143080"/>
          <a:ext cx="6096240" cy="1371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 кома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кома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 кома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241" name="Блок-схема: объединение 5"/>
          <p:cNvSpPr/>
          <p:nvPr/>
        </p:nvSpPr>
        <p:spPr>
          <a:xfrm>
            <a:off x="1285920" y="2786040"/>
            <a:ext cx="685800" cy="285840"/>
          </a:xfrm>
          <a:prstGeom prst="flowChartMerg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Блок-схема: объединение 6"/>
          <p:cNvSpPr/>
          <p:nvPr/>
        </p:nvSpPr>
        <p:spPr>
          <a:xfrm>
            <a:off x="1285920" y="3286080"/>
            <a:ext cx="685800" cy="285840"/>
          </a:xfrm>
          <a:prstGeom prst="flowChartMerg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Блок-схема: объединение 7"/>
          <p:cNvSpPr/>
          <p:nvPr/>
        </p:nvSpPr>
        <p:spPr>
          <a:xfrm>
            <a:off x="3429000" y="2643120"/>
            <a:ext cx="642960" cy="357120"/>
          </a:xfrm>
          <a:prstGeom prst="flowChartMerg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6000">
    <p:split dir="in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437600" cy="1835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feae5"/>
              </a:gs>
              <a:gs pos="100000">
                <a:srgbClr val="ffc5b7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24840" dir="5400000" blurRad="0" rotWithShape="0">
              <a:srgbClr val="9a3302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Наука о языке, которая изучает процесс образования новых слов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Documents and Settings\Admin\Мои документы\Мои рисунки\Безымянный.png"/>
          <p:cNvPicPr/>
          <p:nvPr/>
        </p:nvPicPr>
        <p:blipFill>
          <a:blip r:embed="rId2"/>
          <a:stretch/>
        </p:blipFill>
        <p:spPr>
          <a:xfrm>
            <a:off x="142920" y="428760"/>
            <a:ext cx="7629480" cy="6067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4T09:06:59Z</dcterms:modified>
  <cp:revision>61</cp:revision>
  <dc:subject/>
  <dc:title>  Словообразовани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2b000000000001024140</vt:lpwstr>
  </property>
</Properties>
</file>