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54B-0B39-4275-93EA-2EFC9155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7FC-76F8-4FD7-9624-8E7A41A0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B80-B0E5-46C2-943F-629F694B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DA2-D2DD-4E2C-8AFD-90E2EF41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E96E-1A3C-485B-BA46-E9F018D8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D76E-D4B4-46FB-B1FD-0B43BD8C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F0A6-4628-430D-9438-96D83D99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6148-5232-498C-8FD0-92A40FD3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9B7B-CF8E-410B-BC6A-F3B547AD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B44B-2061-4B9A-9814-155CE662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5561-051E-4A42-8C37-C4A2B14F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32A-9C5C-4F94-BBA0-3C959DBE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356E-F63E-4862-8378-5663929C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A4ED-B3AF-48DE-A4F2-6A6EBE4F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85C6-C058-4E57-9BAC-DD424136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4AA0-9338-4379-9F85-79FB3A84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E020-935F-4261-B7BF-88EBDDAD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47217-BB58-41D7-9D5C-E1281B2B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54048-0FCC-459A-923A-62F6B447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5AC96-F7D1-4A65-9EEE-7959F004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57725-20D1-4516-B51D-41D42CC0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CF708-0848-46C3-9258-E2742610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96C-B580-4C02-A335-B2CE6766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83665-C2FD-4596-A5DA-20BFD2BC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F3EB5-D2FD-4C6A-98CD-C611E405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75ADC-168E-4D44-9951-461AEDE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AB476-CDCB-4663-AC00-DE5AF117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21F9A-015F-4806-99BF-D657B1F5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BF2AC-CD5B-45A2-B055-6A2E8795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E00CF-9D26-4CC9-A36A-8AA24414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F099-A932-4C77-9834-009C0677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71903-463B-4570-8E70-F2092E5E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0DF6-7373-4CBA-91BC-F3D6001C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0B9-8FA8-4CDE-9B34-DF6C4705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0E61-74AE-403B-A2F2-BC955BA7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BACCF-9E97-45E4-AE42-28A6E024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9429-9FBD-4425-886F-7BBE6575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1405-F604-4184-9EDF-FB17084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24ED-8131-41AE-A5E1-8EF5ABC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88C1-3B1C-4659-A3D9-3B39ADC3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5CAB-0F13-406D-8316-729C471C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4103-CDB2-4E4D-8B3B-3E93D10F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49B9-7A7A-4F37-9E9E-56869486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FC8-9229-4A94-AA35-707B76A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2A1-AFEF-4D6D-963C-EA47A964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C4E-8176-4C25-9F42-8343BD83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E95-A260-4302-AED4-A41CDEA4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E76-0AC4-4E52-B15D-412FAD86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5039-EC29-421C-A3DA-A860EDFCB10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DBEB-95F1-4340-A0C2-93309FA18246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431B-6F88-4937-9E71-E95F85E67AC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BEF8-0ABB-4789-AABF-A7422A1EBA0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5" descr=""/>
          <p:cNvPicPr/>
          <p:nvPr/>
        </p:nvPicPr>
        <p:blipFill>
          <a:blip r:embed="rId1"/>
          <a:stretch/>
        </p:blipFill>
        <p:spPr>
          <a:xfrm>
            <a:off x="3925800" y="3024360"/>
            <a:ext cx="47484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4c600"/>
                </a:solidFill>
                <a:uFillTx/>
                <a:latin typeface="Times New Roman"/>
                <a:ea typeface="Times New Roman"/>
              </a:rPr>
              <a:t>Упражнение</a:t>
            </a:r>
            <a:br>
              <a:rPr sz="3600"/>
            </a:br>
            <a:r>
              <a:rPr b="0" lang="ru-RU" sz="28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(закончить предложение, введя противоположные по смыслу глаголы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льчик 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заплак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но быстро 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Чирикают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тички с раннего утра до позднего вечера, а к ночи 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Я 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согласилс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на его предложение, но должен был из-за приезда гостей …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спомните загадки с глаголам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55280" y="3573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4c600"/>
                </a:solidFill>
                <a:uFillTx/>
                <a:latin typeface="Century Gothic"/>
              </a:rPr>
              <a:t>Выборочный диктант (выписать глаголы):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1412640"/>
            <a:ext cx="6777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Мороз и солнце: день чудесный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Еще ты дремлешь, друг прелестный –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ора, красавица, проснись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Открой сомкнуты негой взоры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Навстречу северной Авроры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Звездою севера явись!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А.С. Пушкин «Зимнее утро»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Люблю</a:t>
            </a:r>
            <a:r>
              <a:rPr b="0" lang="ru-RU" sz="1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грозу  в начале ма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Когда весенний, первый гром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Как бы резвясь и игра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Грохочет в небе голубом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Гремят раскаты молоде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Вот дождик брызнул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ыль лети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овисли перлы дождевые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И солнце нити золотит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e3d2d"/>
                </a:solidFill>
                <a:uFillTx/>
                <a:latin typeface="Century Gothic"/>
              </a:rPr>
              <a:t>Ф. Тютчев  «Весенняя гроза»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 стихотворении назвать глаголы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д голубыми небесам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еликолепными коврам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Блестя на солнце, снег лежит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озрачный лес один чернеет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И ель сквозь иней зеленеет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И речка подо льдом блести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А.С. Пушкин «Зимнее утро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483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94c600"/>
                </a:solidFill>
                <a:uFillTx/>
                <a:latin typeface="Century Gothic"/>
              </a:rPr>
              <a:t>Подведение итогов факультативного занятия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Сегодне на факультативном занятии я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Узнал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Научился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Усвоил…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94c600"/>
                </a:solidFill>
                <a:uFillTx/>
                <a:latin typeface="Century Gothic"/>
              </a:rPr>
              <a:t>П</a:t>
            </a:r>
            <a:r>
              <a:rPr b="1" lang="uk-UA" sz="4000" spc="-1" strike="noStrike" u="sng">
                <a:solidFill>
                  <a:srgbClr val="94c600"/>
                </a:solidFill>
                <a:uFillTx/>
                <a:latin typeface="Century Gothic"/>
              </a:rPr>
              <a:t>остановка домашнего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Вспомнить строки стихотворений любимых поэтов, назвать глаголы в ни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82600" y="1298160"/>
            <a:ext cx="7134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морфология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имя существи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 изменяется имя существи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собствен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нарицатель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одушевлен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неодушевлен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относятся к </a:t>
            </a:r>
            <a:r>
              <a:rPr b="1" lang="uk-UA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І, ІІ, ІІІ склонению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имя прилага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 изменяется имя прилага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зовите разряды имен прилагательн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ых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имя числи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зовите разряды имен числительных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местоимени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19080"/>
            <a:ext cx="67118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Глагол 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по-укр.: д</a:t>
            </a:r>
            <a:r>
              <a:rPr b="0" lang="uk-UA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ієслово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 – это часть речи, которая обозначает действия или состояния предмета и отвечает на вопросы </a:t>
            </a:r>
            <a:r>
              <a:rPr b="0" i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делать? что сделать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58760" y="549000"/>
            <a:ext cx="7026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Составьте предложение по картинкам, используя глаголы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1" name="Объект 3" descr=""/>
          <p:cNvPicPr/>
          <p:nvPr/>
        </p:nvPicPr>
        <p:blipFill>
          <a:blip r:embed="rId1"/>
          <a:stretch/>
        </p:blipFill>
        <p:spPr>
          <a:xfrm>
            <a:off x="2254320" y="1816200"/>
            <a:ext cx="4678200" cy="35082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5" descr=""/>
          <p:cNvPicPr/>
          <p:nvPr/>
        </p:nvPicPr>
        <p:blipFill>
          <a:blip r:embed="rId2"/>
          <a:stretch/>
        </p:blipFill>
        <p:spPr>
          <a:xfrm>
            <a:off x="2089080" y="1773360"/>
            <a:ext cx="5008680" cy="37558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"/>
          <p:cNvPicPr/>
          <p:nvPr/>
        </p:nvPicPr>
        <p:blipFill>
          <a:blip r:embed="rId3"/>
          <a:stretch/>
        </p:blipFill>
        <p:spPr>
          <a:xfrm>
            <a:off x="1395360" y="1773360"/>
            <a:ext cx="6396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ремя глагола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стояще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ошедше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Будуще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ид глагола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вершенны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совершенны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4c600"/>
                </a:solidFill>
                <a:uFillTx/>
                <a:latin typeface="Times New Roman"/>
                <a:ea typeface="Times New Roman"/>
              </a:rPr>
              <a:t>Работа с учебником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таблица «Изменение глаголов настоящего и будущего времени по лицам и числам» стр. 95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10267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4c600"/>
                </a:solidFill>
                <a:uFillTx/>
                <a:latin typeface="Times New Roman"/>
                <a:ea typeface="Times New Roman"/>
              </a:rPr>
              <a:t>Упражнение</a:t>
            </a:r>
            <a:br>
              <a:rPr sz="3600"/>
            </a:br>
            <a:r>
              <a:rPr b="0" lang="ru-RU" sz="24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(образуйте от глаголов несовершенного вида глаголы совершенного вида)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чатать -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ела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рои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ыга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ыполня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треча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Творческие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ведите примеры пословиц и поговорок с глаголам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чинение-миниатюра на тему: «Весна»,  «Зима» (использовать глаголы и назвать их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3:16:57Z</dcterms:created>
  <dc:creator>001</dc:creator>
  <dc:description/>
  <dc:language>en-US</dc:language>
  <cp:lastModifiedBy>123</cp:lastModifiedBy>
  <dcterms:modified xsi:type="dcterms:W3CDTF">2013-10-11T08:06:45Z</dcterms:modified>
  <cp:revision>21</cp:revision>
  <dc:subject/>
  <dc:title>Тема урока: Глаг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b000000000001024140</vt:lpwstr>
  </property>
</Properties>
</file>