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CF8-2B1F-4622-81C1-0AD2F114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8EA-5528-4D67-9B48-9D5D5857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36A-0563-4C51-8D4E-5708A122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EC0-E951-461D-B32F-342142FD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FF63-0145-43B4-8F6A-5FE42119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6226-9BA2-41B0-B05D-BBEFE565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B6FF-D3B2-4DE2-B8E4-E299DEFB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B323-11BD-4619-892D-64EC45BD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3BCE-2220-4F92-B666-B1340CDD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1BA1-BFE5-4C45-A1C6-FFEE656B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1A57-3BEB-4A05-81FA-8836E5F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098-E0B6-4BA4-928D-346472E2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AA56-9902-4DB8-B4EB-A9AB85C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4610-2B1C-4278-A613-7BF51A9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ECEE-72A9-4A9C-8456-57E138C4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EBE9-E8B9-4D17-A631-7D2E63CA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65DC-96A3-4877-B0B5-58A1F97C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06A1F-D447-4E9C-A1F9-79DB6800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1CEF4-AEA3-40CB-9043-81A518FA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3ECB6-BC08-4FC8-BB7C-DDA2A014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7E0C9-CEC1-48AF-8C60-8CB41C78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739A5-B171-4FF7-B765-F94A2369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53D-92D5-4C40-ACDD-9DF1DCD7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CAF7F-C02E-429E-A2A6-BD772880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EDD60-C36B-465B-B176-3CBC66F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193D9-9040-4E27-8C0D-B7CD57E1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985C3-C3C8-496E-9FAB-A16BDF20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C730C-E58A-41F5-AD25-3B45C69F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A2D1A-9CDB-42E2-8B0D-B2E1DB53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308DA-E492-4014-9D68-9DF08C82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30600-2EA0-47C6-9BB0-118BBDB5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2A37D-91B9-4CB7-B257-149C79E5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0826C-09EB-4344-A377-662541E8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C84C-37B5-478B-BA76-C3EE77FE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1520E-3F8D-4233-A5FF-CC6D7228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72515-046B-465D-B962-136FD31F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7EA77-D836-42DA-9C6A-37A2968B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5DF2-DD51-495D-A9CE-E7D6EFF7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9C2F-999E-4D5E-AF26-5906F304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AC8F-52F6-45E2-96EC-0BA26E29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C0F4A-2D6F-4024-940B-9CBFB9BA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EBE1-5CD5-4C3B-A35B-2180B4C9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9737-A7E6-4DFF-86A1-3FB27AD5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016-3951-4979-9924-83CA299D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F9E-9F0C-4F59-AAB7-23F251DE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4FB-78C2-4754-B174-E0DDCA03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D68-FC4C-463C-BC06-0A36E91B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4EC-8A30-4BEA-ACB4-CBE6E78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2C39-C663-42A5-8AFF-9D1934DD1C9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37A1-9D49-4119-A1E5-2BA5FC3FFE0B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386B-962B-44E4-8CE3-A9ED88704859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995A-C036-4A80-B0D0-06F60732FB2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Прямоугольник 5" descr=""/>
          <p:cNvPicPr/>
          <p:nvPr/>
        </p:nvPicPr>
        <p:blipFill>
          <a:blip r:embed="rId1"/>
          <a:stretch/>
        </p:blipFill>
        <p:spPr>
          <a:xfrm>
            <a:off x="3925800" y="3024360"/>
            <a:ext cx="47484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4c600"/>
                </a:solidFill>
                <a:uFillTx/>
                <a:latin typeface="Times New Roman"/>
                <a:ea typeface="Times New Roman"/>
              </a:rPr>
              <a:t>Упражнение</a:t>
            </a:r>
            <a:br>
              <a:rPr sz="3600"/>
            </a:br>
            <a:r>
              <a:rPr b="0" lang="ru-RU" sz="28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(закончить предложение, введя противоположные по смыслу глаголы)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льчик 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заплак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, но быстро 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Чирикают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птички с раннего утра до позднего вечера, а к ночи 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Я </a:t>
            </a:r>
            <a:r>
              <a:rPr b="0" lang="ru-RU" sz="2400" spc="-1" strike="noStrike" u="sng">
                <a:solidFill>
                  <a:srgbClr val="3e3d2d"/>
                </a:solidFill>
                <a:uFillTx/>
                <a:latin typeface="Century Gothic"/>
              </a:rPr>
              <a:t>согласился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на его предложение, но должен был из-за приезда гостей …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спомните загадки с глаголами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55280" y="3573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4c600"/>
                </a:solidFill>
                <a:uFillTx/>
                <a:latin typeface="Century Gothic"/>
              </a:rPr>
              <a:t>Выборочный диктант (выписать глаголы):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1412640"/>
            <a:ext cx="6777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Мороз и солнце: день чудесный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Еще ты дремлешь, друг прелестный – 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ора, красавица, проснись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Открой сомкнуты негой взоры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Навстречу северной Авроры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Звездою севера явись!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А.С. Пушкин «Зимнее утро»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Люблю</a:t>
            </a:r>
            <a:r>
              <a:rPr b="0" lang="ru-RU" sz="16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грозу  в начале ма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Когда весенний, первый гром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Как бы резвясь и игра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Грохочет в небе голубом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Гремят раскаты молоде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Вот дождик брызнул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ыль лети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овисли перлы дождевые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И солнце нити золотит.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e3d2d"/>
                </a:solidFill>
                <a:uFillTx/>
                <a:latin typeface="Century Gothic"/>
              </a:rPr>
              <a:t>Ф. Тютчев  «Весенняя гроза»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67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 стихотворении назвать глаголы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од голубыми небесам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Великолепными коврам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Блестя на солнце, снег лежит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озрачный лес один чернеет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И ель сквозь иней зеленеет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И речка подо льдом блестит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А.С. Пушкин «Зимнее утро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483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94c600"/>
                </a:solidFill>
                <a:uFillTx/>
                <a:latin typeface="Century Gothic"/>
              </a:rPr>
              <a:t>Подведение итогов факультативного занятия</a:t>
            </a: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Сегодне на факультативном занятии я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Узнал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Научился…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Усвоил…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 u="sng">
                <a:solidFill>
                  <a:srgbClr val="94c600"/>
                </a:solidFill>
                <a:uFillTx/>
                <a:latin typeface="Century Gothic"/>
              </a:rPr>
              <a:t>П</a:t>
            </a:r>
            <a:r>
              <a:rPr b="1" lang="uk-UA" sz="4000" spc="-1" strike="noStrike" u="sng">
                <a:solidFill>
                  <a:srgbClr val="94c600"/>
                </a:solidFill>
                <a:uFillTx/>
                <a:latin typeface="Century Gothic"/>
              </a:rPr>
              <a:t>остановка домашнего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e3d2d"/>
                </a:solidFill>
                <a:latin typeface="Century Gothic"/>
              </a:rPr>
              <a:t>Вспомнить строки стихотворений любимых поэтов, назвать глаголы в ни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82600" y="1298160"/>
            <a:ext cx="7134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морфология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имя существи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 изменяется имя существи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собствен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нарицатель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одушевлен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называются неодушевленными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ие существительные относятся к </a:t>
            </a:r>
            <a:r>
              <a:rPr b="1" lang="uk-UA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І, ІІ, ІІІ склонению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имя прилага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 изменяется имя прилага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зовите разряды имен прилагательн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ых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имя числительно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зовите разряды имен числительных</a:t>
            </a: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такое местоимение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7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19080"/>
            <a:ext cx="67118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Глагол 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по-укр.: д</a:t>
            </a:r>
            <a:r>
              <a:rPr b="0" lang="uk-UA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ієслово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 – это часть речи, которая обозначает действия или состояния предмета и отвечает на вопросы </a:t>
            </a:r>
            <a:r>
              <a:rPr b="0" i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что делать? что сделать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58760" y="549000"/>
            <a:ext cx="7026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Составьте предложение по картинкам, используя глаголы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1" name="Объект 3" descr=""/>
          <p:cNvPicPr/>
          <p:nvPr/>
        </p:nvPicPr>
        <p:blipFill>
          <a:blip r:embed="rId1"/>
          <a:stretch/>
        </p:blipFill>
        <p:spPr>
          <a:xfrm>
            <a:off x="2254320" y="1816200"/>
            <a:ext cx="4678200" cy="35082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5" descr=""/>
          <p:cNvPicPr/>
          <p:nvPr/>
        </p:nvPicPr>
        <p:blipFill>
          <a:blip r:embed="rId2"/>
          <a:stretch/>
        </p:blipFill>
        <p:spPr>
          <a:xfrm>
            <a:off x="2089080" y="1773360"/>
            <a:ext cx="5008680" cy="37558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4" descr=""/>
          <p:cNvPicPr/>
          <p:nvPr/>
        </p:nvPicPr>
        <p:blipFill>
          <a:blip r:embed="rId3"/>
          <a:stretch/>
        </p:blipFill>
        <p:spPr>
          <a:xfrm>
            <a:off x="1395360" y="1773360"/>
            <a:ext cx="6396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ремя глагола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Настояще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Прошедше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Будуще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Вид глагола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вершенны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есовершенный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2204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4c600"/>
                </a:solidFill>
                <a:uFillTx/>
                <a:latin typeface="Times New Roman"/>
                <a:ea typeface="Times New Roman"/>
              </a:rPr>
              <a:t>Работа с учебником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таблица «Изменение глаголов настоящего и будущего времени по лицам и числам» стр. 95.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10267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4c600"/>
                </a:solidFill>
                <a:uFillTx/>
                <a:latin typeface="Times New Roman"/>
                <a:ea typeface="Times New Roman"/>
              </a:rPr>
              <a:t>Упражнение</a:t>
            </a:r>
            <a:br>
              <a:rPr sz="3600"/>
            </a:br>
            <a:r>
              <a:rPr b="0" lang="ru-RU" sz="24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(образуйте от глаголов несовершенного вида глаголы совершенного вида)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чатать -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ела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е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рои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ыга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ыполня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тречать 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Творческие задани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ведите примеры пословиц и поговорок с глаголам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очинение-миниатюра на тему: «Весна»,  «Зима» (использовать глаголы и назвать их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3:16:57Z</dcterms:created>
  <dc:creator>001</dc:creator>
  <dc:description/>
  <dc:language>en-US</dc:language>
  <cp:lastModifiedBy>123</cp:lastModifiedBy>
  <dcterms:modified xsi:type="dcterms:W3CDTF">2013-10-11T08:06:45Z</dcterms:modified>
  <cp:revision>21</cp:revision>
  <dc:subject/>
  <dc:title>Тема урока: Глаго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b000000000001024140</vt:lpwstr>
  </property>
</Properties>
</file>