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061-5855-4A0B-8E32-186F9BED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132-85E1-4FB9-B029-D24CDAA5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2A3-EC96-496B-AB82-776095F5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BD0-77FA-4768-9426-47208AD7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5835-3184-44DC-A1A0-BE40B9E5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ECAF-241E-4E68-8A94-8EA80CF2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2C6A-AA11-4501-8951-156D7720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94D8-C498-4084-BDF2-D4BF925D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317D-B8AF-48C9-9815-A9CA1A2D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9D47-579F-4A74-9909-DD84AC6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CDC4-285A-4939-85C2-70DC7C2A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1BA-CCB1-46D6-B25E-B58CA27F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4194-BBF2-49E0-856D-507990E4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A74E-D930-4E43-AF47-2E31FAE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CA9C-4919-407F-8E56-D32F3922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15FE-15FC-44E5-A72D-A0A66CCB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257B-AEE0-411A-A1A7-EF0BA090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9D751-FD5D-486D-97D4-E045453C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36946-5D37-453C-9051-EE1F4BD7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A92AF-1E4F-47C9-9FE3-CDC42E29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6A2DD-A138-475A-9B28-536E1A4D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7057D-6FFF-4172-B5A3-69DCB923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DCE-C0A3-423D-8E87-28D56C74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D8068-75E1-44C5-9E90-CA11B4A3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12951-EA61-4E21-A7C2-2B56623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1212-0859-4DDE-A45A-23E49E73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DCA3F-611C-4DC1-B0AF-86715697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8A865-3EE3-45BE-9FCC-A873C23F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C5A97-0BF8-4C6F-A6E9-E79D2E2F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95CA8-ADF5-472C-8D58-60569630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1EED-D6F8-4F6F-B6A5-1C82CD7A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FD34-D212-4D9F-B445-B95094D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6647-2CE8-48A5-9DE4-6CE93EE9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F88-AF9A-4F42-B295-E00B816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7F4E7-2931-4457-A1A6-534D503B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E8D5B-90CB-4777-BD74-A38E1981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C8E1-FF25-4BDE-B4E7-EC6FBA47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D4DA6-06E3-43F8-8763-ECCEDCF2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F273-AA29-42DE-9E9A-65925CE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BDAF-A8B1-4A59-ABBB-08C32E4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AA6B-C50A-4C17-A191-EC21CC22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D1B1-FE2C-45AB-8663-2C059DD7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9A92-DD10-40B6-84E6-E51704B7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AE8-8D84-4951-8000-A472382F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3ED-2D69-49A1-B221-B5CEF3F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EF7-87FD-43EA-BDB1-3887BC0B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FF3-C5D6-4ECB-B745-1279E126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C55-7103-4EB0-883D-5F36771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A1FF-6145-4D4D-90EE-D141AC784CF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781A-1D67-479E-9862-B9D38CB43740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7365-405D-4B63-A8B4-46F3019817F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7E3E-5FEA-483E-9B2A-B377C60699C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5" descr=""/>
          <p:cNvPicPr/>
          <p:nvPr/>
        </p:nvPicPr>
        <p:blipFill>
          <a:blip r:embed="rId1"/>
          <a:stretch/>
        </p:blipFill>
        <p:spPr>
          <a:xfrm>
            <a:off x="3925800" y="3024360"/>
            <a:ext cx="47484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4c600"/>
                </a:solidFill>
                <a:uFillTx/>
                <a:latin typeface="Times New Roman"/>
                <a:ea typeface="Times New Roman"/>
              </a:rPr>
              <a:t>Упражнение</a:t>
            </a:r>
            <a:br>
              <a:rPr sz="3600"/>
            </a:br>
            <a:r>
              <a:rPr b="0" lang="ru-RU" sz="28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(закончить предложение, введя противоположные по смыслу глаголы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льчик 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заплак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но быстро 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Чирикают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тички с раннего утра до позднего вечера, а к ночи 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Я 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согласилс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на его предложение, но должен был из-за приезда гостей …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спомните загадки с глаголам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55280" y="3573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4c600"/>
                </a:solidFill>
                <a:uFillTx/>
                <a:latin typeface="Century Gothic"/>
              </a:rPr>
              <a:t>Выборочный диктант (выписать глаголы):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1412640"/>
            <a:ext cx="6777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Мороз и солнце: день чудесный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Еще ты дремлешь, друг прелестный –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ора, красавица, проснись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Открой сомкнуты негой взоры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Навстречу северной Авроры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Звездою севера явись!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А.С. Пушкин «Зимнее утро»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Люблю</a:t>
            </a:r>
            <a:r>
              <a:rPr b="0" lang="ru-RU" sz="1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грозу  в начале ма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Когда весенний, первый гром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Как бы резвясь и игра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Грохочет в небе голубом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Гремят раскаты молоде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Вот дождик брызнул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ыль лети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овисли перлы дождевые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И солнце нити золотит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e3d2d"/>
                </a:solidFill>
                <a:uFillTx/>
                <a:latin typeface="Century Gothic"/>
              </a:rPr>
              <a:t>Ф. Тютчев  «Весенняя гроза»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 стихотворении назвать глаголы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д голубыми небесам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еликолепными коврам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Блестя на солнце, снег лежит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озрачный лес один чернеет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И ель сквозь иней зеленеет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И речка подо льдом блести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А.С. Пушкин «Зимнее утро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483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94c600"/>
                </a:solidFill>
                <a:uFillTx/>
                <a:latin typeface="Century Gothic"/>
              </a:rPr>
              <a:t>Подведение итогов факультативного занятия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Сегодне на факультативном занятии я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Узнал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Научился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Усвоил…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94c600"/>
                </a:solidFill>
                <a:uFillTx/>
                <a:latin typeface="Century Gothic"/>
              </a:rPr>
              <a:t>П</a:t>
            </a:r>
            <a:r>
              <a:rPr b="1" lang="uk-UA" sz="4000" spc="-1" strike="noStrike" u="sng">
                <a:solidFill>
                  <a:srgbClr val="94c600"/>
                </a:solidFill>
                <a:uFillTx/>
                <a:latin typeface="Century Gothic"/>
              </a:rPr>
              <a:t>остановка домашнего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Вспомнить строки стихотворений любимых поэтов, назвать глаголы в ни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82600" y="1298160"/>
            <a:ext cx="7134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морфология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имя существи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 изменяется имя существи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собствен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нарицатель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одушевлен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неодушевлен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относятся к </a:t>
            </a:r>
            <a:r>
              <a:rPr b="1" lang="uk-UA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І, ІІ, ІІІ склонению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имя прилага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 изменяется имя прилага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зовите разряды имен прилагательн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ых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имя числи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зовите разряды имен числительных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местоимени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19080"/>
            <a:ext cx="67118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Глагол 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по-укр.: д</a:t>
            </a:r>
            <a:r>
              <a:rPr b="0" lang="uk-UA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ієслово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 – это часть речи, которая обозначает действия или состояния предмета и отвечает на вопросы </a:t>
            </a:r>
            <a:r>
              <a:rPr b="0" i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делать? что сделать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58760" y="549000"/>
            <a:ext cx="7026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Составьте предложение по картинкам, используя глаголы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1" name="Объект 3" descr=""/>
          <p:cNvPicPr/>
          <p:nvPr/>
        </p:nvPicPr>
        <p:blipFill>
          <a:blip r:embed="rId1"/>
          <a:stretch/>
        </p:blipFill>
        <p:spPr>
          <a:xfrm>
            <a:off x="2254320" y="1816200"/>
            <a:ext cx="4678200" cy="35082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5" descr=""/>
          <p:cNvPicPr/>
          <p:nvPr/>
        </p:nvPicPr>
        <p:blipFill>
          <a:blip r:embed="rId2"/>
          <a:stretch/>
        </p:blipFill>
        <p:spPr>
          <a:xfrm>
            <a:off x="2089080" y="1773360"/>
            <a:ext cx="5008680" cy="37558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"/>
          <p:cNvPicPr/>
          <p:nvPr/>
        </p:nvPicPr>
        <p:blipFill>
          <a:blip r:embed="rId3"/>
          <a:stretch/>
        </p:blipFill>
        <p:spPr>
          <a:xfrm>
            <a:off x="1395360" y="1773360"/>
            <a:ext cx="6396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ремя глагола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стояще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ошедше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Будуще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ид глагола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вершенны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совершенны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4c600"/>
                </a:solidFill>
                <a:uFillTx/>
                <a:latin typeface="Times New Roman"/>
                <a:ea typeface="Times New Roman"/>
              </a:rPr>
              <a:t>Работа с учебником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таблица «Изменение глаголов настоящего и будущего времени по лицам и числам» стр. 95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10267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4c600"/>
                </a:solidFill>
                <a:uFillTx/>
                <a:latin typeface="Times New Roman"/>
                <a:ea typeface="Times New Roman"/>
              </a:rPr>
              <a:t>Упражнение</a:t>
            </a:r>
            <a:br>
              <a:rPr sz="3600"/>
            </a:br>
            <a:r>
              <a:rPr b="0" lang="ru-RU" sz="24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(образуйте от глаголов несовершенного вида глаголы совершенного вида)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чатать -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ела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рои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ыга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ыполня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треча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Творческие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ведите примеры пословиц и поговорок с глаголам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чинение-миниатюра на тему: «Весна»,  «Зима» (использовать глаголы и назвать их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3:16:57Z</dcterms:created>
  <dc:creator>001</dc:creator>
  <dc:description/>
  <dc:language>en-US</dc:language>
  <cp:lastModifiedBy>123</cp:lastModifiedBy>
  <dcterms:modified xsi:type="dcterms:W3CDTF">2013-10-11T08:06:45Z</dcterms:modified>
  <cp:revision>21</cp:revision>
  <dc:subject/>
  <dc:title>Тема урока: Глаг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b000000000001024140</vt:lpwstr>
  </property>
</Properties>
</file>