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935-4F85-4319-9037-3AC8C1FC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649-9C40-4DB6-9E11-F5C421B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D4B-DC48-4CBF-A223-7B99820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647-84A7-4ADE-AE81-FD335F26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76DB-AC66-48FA-919B-CCE6D8F7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1C9-0670-4F35-A9B8-DB08AF52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D16B-F66D-440B-A6BD-43A887CD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619B-2D9B-4940-BDB9-38F2363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B85-F681-4BEF-8C09-F14FD3D9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F75D-C03A-450D-B4AF-B7154200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4E03-9F09-49C5-A474-A7854B5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90B-4296-4C41-A991-260F9C0B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DFE-303B-455F-B9D1-61DE8C1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036-2F25-41DF-9E62-A871C77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861E-64B3-4AE0-9520-A2BAB9BF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90A8-AE79-432F-8F2B-FE54C61A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2D32-0123-412E-8D5D-A8DC52D9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19A-3CE6-4326-BE89-90D2653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D1D-691B-4DBD-B3D3-1372A16B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2D-1F7D-495D-9F6E-FBE01DD8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BBE-70BE-4737-8660-5DB0989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289-37B8-44CB-A91C-BA167F3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F7E-8093-4A38-A82C-7E13E76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59D-B39B-4AE7-B2BC-E04B145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64AA-49AA-4337-B435-C56642888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B010-9322-4B30-88C3-79F2922A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D:\Documents and Settings\Admin\Рабочий стол\Смерчинская\Додатки\Мечта\fairyglittgk7om4.gif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6" descr=""/>
          <p:cNvPicPr/>
          <p:nvPr/>
        </p:nvPicPr>
        <p:blipFill>
          <a:blip r:embed="rId3"/>
          <a:stretch/>
        </p:blipFill>
        <p:spPr>
          <a:xfrm>
            <a:off x="-274680" y="457200"/>
            <a:ext cx="8852040" cy="2249640"/>
          </a:xfrm>
          <a:prstGeom prst="rect">
            <a:avLst/>
          </a:prstGeom>
          <a:ln w="0">
            <a:noFill/>
          </a:ln>
        </p:spPr>
      </p:pic>
      <p:pic>
        <p:nvPicPr>
          <p:cNvPr id="327" name="TextBox 7" descr=""/>
          <p:cNvPicPr/>
          <p:nvPr/>
        </p:nvPicPr>
        <p:blipFill>
          <a:blip r:embed="rId4"/>
          <a:stretch/>
        </p:blipFill>
        <p:spPr>
          <a:xfrm>
            <a:off x="6151680" y="4863960"/>
            <a:ext cx="28033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1413000"/>
            <a:ext cx="25192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Зна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препи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в БС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4360" y="1989000"/>
            <a:ext cx="215892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Запят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точка с запя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35280" y="3789360"/>
            <a:ext cx="1943280" cy="10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Ти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1916280"/>
            <a:ext cx="2232000" cy="122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Двоеточ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2920" y="1560240"/>
            <a:ext cx="8858160" cy="45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600ff"/>
                </a:solidFill>
                <a:latin typeface="Tahoma"/>
              </a:rPr>
              <a:t>І</a:t>
            </a:r>
            <a:r>
              <a:rPr b="1" lang="ru-RU" sz="1600" spc="-1" strike="noStrike">
                <a:solidFill>
                  <a:srgbClr val="6600ff"/>
                </a:solidFill>
                <a:latin typeface="Tahoma"/>
              </a:rPr>
              <a:t> групп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лнце уже пряталось, и на цветущей ржи растянулись вечерние те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Январский дань уже приближался к концу, и вечерний холод еще сильнее стискивал недвижимый воздух, и быстро гасла кровавая зар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600ff"/>
                </a:solidFill>
                <a:latin typeface="Tahoma"/>
              </a:rPr>
              <a:t>ІІ</a:t>
            </a:r>
            <a:r>
              <a:rPr b="1" lang="ru-RU" sz="1600" spc="-1" strike="noStrike">
                <a:solidFill>
                  <a:srgbClr val="6600ff"/>
                </a:solidFill>
                <a:latin typeface="Tahoma"/>
              </a:rPr>
              <a:t> групп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ейчас вода в озере была очень черная, прозрачная, потому что ряска к зиме опустилась на дно. Вокруг слышим, что во все горло кричат чибисы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мри и услышишь в сиреневой мгле, что светлое утро идет по земл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600ff"/>
                </a:solidFill>
                <a:latin typeface="Tahoma"/>
              </a:rPr>
              <a:t>ІІІ групп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Солнце дымное встает, так что будет день горячий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Деревья гибнут, а лес не умирае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Если хочешь душу леса постигнуть, найди лесной ручеек и отправляйся его берегом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Раздувается млечная накипь облаков, как будто небо сбежало, как молок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Когда я смотрю на глубокое небо, мысли и душа сливаются в сознание одиноче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584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59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2421000"/>
            <a:ext cx="259236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Запятая, точка с запят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перечис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одновременность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1052640"/>
            <a:ext cx="273528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Значение БС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и знаки препин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в н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32000" y="2852640"/>
            <a:ext cx="27352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Ти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следствие (так чт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противопоставление (а, 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условие (есл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время (ког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сравнение (как, будт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2000" y="2421000"/>
            <a:ext cx="2447640" cy="180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Двоеточ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причина (потому чт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допол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пояснение (а имен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Прямоугольник 4" descr=""/>
          <p:cNvPicPr/>
          <p:nvPr/>
        </p:nvPicPr>
        <p:blipFill>
          <a:blip r:embed="rId2"/>
          <a:stretch/>
        </p:blipFill>
        <p:spPr>
          <a:xfrm>
            <a:off x="2195640" y="765000"/>
            <a:ext cx="5070240" cy="6494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395280" y="1125360"/>
            <a:ext cx="80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Times New Roman"/>
              </a:rPr>
              <a:t>«Чтобы упрочить ваши знания, даю творческое зад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50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Мороз и солнце день чудесный!»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«Тройка борзая спешит» (А.С. Пушкин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cc00ff"/>
                </a:solidFill>
                <a:latin typeface="Tahoma"/>
              </a:rPr>
              <a:t>«Люблю грозу в начале мая...»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3366ff"/>
                </a:solidFill>
                <a:latin typeface="Tahoma"/>
              </a:rPr>
              <a:t>«Еще в полях белеет снег,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3366ff"/>
                </a:solidFill>
                <a:latin typeface="Tahoma"/>
              </a:rPr>
              <a:t>А воды уж весной шумят»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«Есть в осени первоначальной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Красивая, но дивная пор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Весь день стоит как бы хрустальный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И лучезарны облака»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66ff"/>
                </a:solidFill>
                <a:latin typeface="Tahoma"/>
              </a:rPr>
              <a:t>«И жаворонки в небе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66ff"/>
                </a:solidFill>
                <a:latin typeface="Tahoma"/>
              </a:rPr>
              <a:t>Уж подняли трезвон» (Ф. Тютчев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«Песню раннюю запел в лазури жаворонок звонкий...» (В. Жуковский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3366ff"/>
                </a:solidFill>
                <a:latin typeface="Tahoma"/>
              </a:rPr>
              <a:t>«Белая черемуха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3366ff"/>
                </a:solidFill>
                <a:latin typeface="Tahoma"/>
              </a:rPr>
              <a:t>Под моим окном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3366ff"/>
                </a:solidFill>
                <a:latin typeface="Tahoma"/>
              </a:rPr>
              <a:t>Обсыпает ветк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3366ff"/>
                </a:solidFill>
                <a:latin typeface="Tahoma"/>
              </a:rPr>
              <a:t>Новым серебром»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«Отговорила роща золотая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33cc"/>
                </a:solidFill>
                <a:latin typeface="Tahoma"/>
              </a:rPr>
              <a:t>Березовым веселым языком» (С. Есенин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a50021"/>
                </a:solidFill>
                <a:latin typeface="Tahoma"/>
              </a:rPr>
              <a:t>«Цветы! Цветы!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a50021"/>
                </a:solidFill>
                <a:latin typeface="Tahoma"/>
              </a:rPr>
              <a:t>Вовсю цветут, качаясь,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a50021"/>
                </a:solidFill>
                <a:latin typeface="Tahoma"/>
              </a:rPr>
              <a:t>Как бы гирляндой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a50021"/>
                </a:solidFill>
                <a:latin typeface="Tahoma"/>
              </a:rPr>
              <a:t>Рощу огибая» (А. Прокофьев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66ff"/>
                </a:solidFill>
                <a:latin typeface="Tahoma"/>
              </a:rPr>
              <a:t>«Чародейкою зимой околдован лес стоит –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66ff"/>
                </a:solidFill>
                <a:latin typeface="Tahoma"/>
              </a:rPr>
              <a:t>И под снежной бахромою неподвижною,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66ff"/>
                </a:solidFill>
                <a:latin typeface="Tahoma"/>
              </a:rPr>
              <a:t>Немою, чудной жизнью он блестит»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6" descr=""/>
          <p:cNvPicPr/>
          <p:nvPr/>
        </p:nvPicPr>
        <p:blipFill>
          <a:blip r:embed="rId2"/>
          <a:stretch/>
        </p:blipFill>
        <p:spPr>
          <a:xfrm>
            <a:off x="212760" y="768240"/>
            <a:ext cx="7840800" cy="15177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214200" y="214776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Прием «Ключевые слов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Человек с Горячим Сердц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Человек с Холодным Сердц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ор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цвето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Работа с текстом «Человек с Горячим Сердцем»</a:t>
            </a:r>
            <a:br>
              <a:rPr sz="3200"/>
            </a:b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 Прием «Чтения с остановками»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Творчески интерпретируем информацию</a:t>
            </a:r>
            <a:br>
              <a:rPr sz="3200"/>
            </a:b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Прием «Рафт»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59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539640" y="112536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Рефлексия. Итог ур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“</a:t>
            </a: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Чтобы знания пошли впр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Подведем урока ито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89400" y="2852640"/>
            <a:ext cx="472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 узнал(а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 научился(сь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не понравилось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ыло трудным задание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амым интересным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 достигла или не достигла 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59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Прием «Синквейн»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D:\Documents and Settings\Admin\Рабочий стол\Смерчинская\Додатки\Мечта\4fef55bf03a595a860ec9e8vn9.jpg"/>
          <p:cNvPicPr/>
          <p:nvPr/>
        </p:nvPicPr>
        <p:blipFill>
          <a:blip r:embed="rId2"/>
          <a:stretch/>
        </p:blipFill>
        <p:spPr>
          <a:xfrm>
            <a:off x="285840" y="1071720"/>
            <a:ext cx="8572320" cy="5572080"/>
          </a:xfrm>
          <a:prstGeom prst="rect">
            <a:avLst/>
          </a:prstGeom>
          <a:ln w="0">
            <a:noFill/>
          </a:ln>
        </p:spPr>
      </p:pic>
      <p:sp>
        <p:nvSpPr>
          <p:cNvPr id="329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644760" y="157176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еч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56640" y="22147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Фантаз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569440" cy="5689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195640" y="26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1425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92360" y="2133720"/>
            <a:ext cx="158436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Б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133720"/>
            <a:ext cx="158436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59280" y="2133720"/>
            <a:ext cx="158436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3640" y="2133720"/>
            <a:ext cx="158436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6600"/>
                </a:solidFill>
                <a:latin typeface="Times New Roman"/>
              </a:rPr>
              <a:t>Опорн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ые слов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ознакомиться с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читься 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меть 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1" descr="D:\Documents and Settings\Admin\Рабочий стол\Оформление презентаций\картинки\Осень\0_66b5b_f36c1f8b_orig.gif"/>
          <p:cNvPicPr/>
          <p:nvPr/>
        </p:nvPicPr>
        <p:blipFill>
          <a:blip r:embed="rId2"/>
          <a:stretch/>
        </p:blipFill>
        <p:spPr>
          <a:xfrm>
            <a:off x="285840" y="1000080"/>
            <a:ext cx="8643960" cy="550080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4240" y="4714560"/>
            <a:ext cx="8072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сть в русской природе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ая нежность»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D:\Documents and Settings\Admin\Рабочий стол\Оформление презентаций\картинки\Осень\152514155.jpeg"/>
          <p:cNvPicPr/>
          <p:nvPr/>
        </p:nvPicPr>
        <p:blipFill>
          <a:blip r:embed="rId2"/>
          <a:stretch/>
        </p:blipFill>
        <p:spPr>
          <a:xfrm>
            <a:off x="228600" y="1052640"/>
            <a:ext cx="8736120" cy="5519520"/>
          </a:xfrm>
          <a:prstGeom prst="rect">
            <a:avLst/>
          </a:prstGeom>
          <a:ln w="0">
            <a:noFill/>
          </a:ln>
        </p:spPr>
      </p:pic>
      <p:sp>
        <p:nvSpPr>
          <p:cNvPr id="347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оугольник 2"/>
          <p:cNvSpPr/>
          <p:nvPr/>
        </p:nvSpPr>
        <p:spPr>
          <a:xfrm>
            <a:off x="228600" y="2205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икой ягоды вкус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ловьиные, звонкие тре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пах спелых сад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дника ледяной перели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нега первого хрус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воцветы в начале апр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елтых листьев пок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дождя незнакомый моти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По страницам словаря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85480" y="2147760"/>
            <a:ext cx="8643960" cy="41148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ЕЙЗА'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, м. [фр. paysage]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Картина природы, вид какой-н. местности (книжн.). Взорам путников открылся чудный п.  2. Картина, рисунок, изображающие природу (живоп.). Выставка пейзажей.  3.Описание природы в литературном произведении (лит.). П. в романах Тургене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«Толковый словарь» Ушаков, 1935-1940 г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85480" y="907920"/>
            <a:ext cx="84294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Ю – НЕ ЗН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Заголовок 1"/>
          <p:cNvSpPr/>
          <p:nvPr/>
        </p:nvSpPr>
        <p:spPr>
          <a:xfrm>
            <a:off x="13716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68360" y="1557360"/>
          <a:ext cx="8280360" cy="4799160"/>
        </p:xfrm>
        <a:graphic>
          <a:graphicData uri="http://schemas.openxmlformats.org/drawingml/2006/table">
            <a:tbl>
              <a:tblPr/>
              <a:tblGrid>
                <a:gridCol w="3095640"/>
                <a:gridCol w="5184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ожносочиненное предлож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Ветер не шелохнет даже листочка молодых осинок, берез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стое предлож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Люблю грозу в начале ма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гда весенний первый гро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к бы резвяся и игра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охочет в небе голуб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ожноподчиненное предлож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Идет весна, поет вес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мы дыханьем кру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ожноподчиненное предл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Когда я смотрел кверху, мне чудилось, что месяц – бледный образ какого-то мистического ви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ожноподчиненное предложение с несколькими придаточ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Отговорила роща золо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резовым веселым языко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журавли, печально пролета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ж не жалеют больше ни о ч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ложение с однородными член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Ель хороша только при сильном солнечном св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0:44:24Z</dcterms:created>
  <dc:creator>родители</dc:creator>
  <dc:description/>
  <dc:language>en-US</dc:language>
  <cp:lastModifiedBy>Admin</cp:lastModifiedBy>
  <dcterms:modified xsi:type="dcterms:W3CDTF">2013-02-17T16:26:32Z</dcterms:modified>
  <cp:revision>20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2f000000000001024140</vt:lpwstr>
  </property>
</Properties>
</file>