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8B0-86ED-4722-8155-3CDDA2F5A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FDE3-4DF6-48B0-91FC-046647C80D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071-CA38-4496-B2C6-0882B659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536-0A3E-4C17-9DFC-53897D4B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0A2-C323-4405-9D2F-AD85E206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849-04A8-4AC1-BD34-E7BEBA07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4BC6-65BE-446C-8B8F-FF614532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3E33-252A-4CE4-80CE-813CB0B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4049-F06E-4F54-9A96-7C6C1B34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1BA3-333E-40B5-82A5-851DA1D8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991A-402D-4A79-A4CF-5FC98039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F82-FF27-4923-BBDC-643C7610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B888-DCF7-4C60-9D08-BDC7FE77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E54-C1CD-4DC3-94B9-6E5C7406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6262-B3F9-4F6E-AEBF-666F9897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634-C266-47DA-ACA2-98C2CC6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06E-77F0-4091-B71B-C6B3EFC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5989-F890-4700-858D-89F2237D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657D-A2A4-404C-82C1-7CE5749A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7515-1973-49C1-827E-07DD3903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EED0-8E8C-4E7C-8ACB-6BF54B5C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FC60-0177-48C5-9510-E8FCC93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D879-BF19-44FF-8F92-E6156340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DC86-5861-4E17-89FA-86D0F37E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A90C-0F48-403A-B03A-59DE6EDA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B72F-49C0-48DF-9A27-5C3F2F70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6D42-982F-429C-BB2C-2A4AFB30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1386-F0EB-45CA-B87D-1E789EE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A93F0-6B95-4936-BAAA-B5F49FB9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AFDD-FBD5-4440-8096-83BF7267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83A9-5A0B-4184-916C-801F719D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64A3E-98B4-4509-8378-7054282A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AF0C-262E-4188-83CE-72A546D9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3310-13F1-44FA-AFC1-3CF17DEF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299D-66B6-46DD-BDF9-6F2E02A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0014-72D2-42DA-84C0-1F13B68E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BC28-DC5F-4D75-90AC-9A18C10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813E-1480-4F02-A998-66FF2203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1F53-7936-4A34-85E3-DF5CEAA9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B139-170F-4C76-87F5-DDA360B9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7988-35D3-4F17-8C95-DD532B2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A16F7-3ED4-47A5-B464-AD9A620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1BEE-0EE6-4DA8-B038-636078D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35B0-4084-4D89-BF02-A720A4A4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62F6-7522-45B6-864A-C94FD9F4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495-AFA3-4D6F-BF34-7A80E6B6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634-1093-4824-8533-97E9CF78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772-5062-4F0C-9C33-B233F1A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0F0-B3EF-4BBE-9BEE-772FB65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7D1-6216-4A33-BD2B-BD9C408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45C4-062B-4A52-9B00-756586A786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9ED4-E01B-4298-A1B2-6C09304C7B2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29AF-FEB7-493D-A79D-010BC764E9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3E0D-BE8D-4C3E-9FF3-9905F5966C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9640" y="980640"/>
            <a:ext cx="78552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Constantia"/>
              </a:rPr>
              <a:t>Дискуссия на морально-нравственную тему: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e2d700"/>
                </a:solidFill>
                <a:latin typeface="Constantia"/>
              </a:rPr>
              <a:t>«Умерло ли рыцарство в  </a:t>
            </a:r>
            <a:r>
              <a:rPr b="1" i="1" lang="en-US" sz="3700" spc="-1" strike="noStrike">
                <a:solidFill>
                  <a:srgbClr val="e2d700"/>
                </a:solidFill>
                <a:latin typeface="Constantia"/>
              </a:rPr>
              <a:t>XXI </a:t>
            </a:r>
            <a:r>
              <a:rPr b="1" i="1" lang="ru-RU" sz="3700" spc="-1" strike="noStrike">
                <a:solidFill>
                  <a:srgbClr val="e2d700"/>
                </a:solidFill>
                <a:latin typeface="Constantia"/>
              </a:rPr>
              <a:t>веке?»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рок русского языка в 11класс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читель : Новикова Елена Александровна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ВК№5 имени Н.П.Бойко. 2013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857160" y="500040"/>
          <a:ext cx="7715520" cy="588960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о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ем установл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ст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5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записа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где, передаются устно из поколения в поко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законах – Уголовный кодекс, Административный кодекс, Семейный кодекс, Закон об образовани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ем охраняютс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ственным мн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ом – милиция, армия, спец.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о бывает за нарушени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уждение со стороны лю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траф, лишение свободы, исправительные работы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55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м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 лгать, завидовать, обижать слабых. Нужно уважать людей, помогать, говорить правду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 красть, бить человека. Хранить оружие, переходить улицу на красный сигнал светофора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600" spc="-1" strike="noStrike">
                <a:solidFill>
                  <a:srgbClr val="e2d700"/>
                </a:solidFill>
                <a:latin typeface="Calibri"/>
              </a:rPr>
              <a:t>Кто, по вашему мнению, РЫЦАРЬ?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Этим вопросом задались учащиеся 11-б класса. Они узнали мнения  школьников из анкетир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так, молодые люди 21 века считают, что рыцарь - это воин, защитник, мужественный, благородный мужчина. А вот на вопрос “Уместно ли понятие «рыцарство» в наши дни” </a:t>
            </a:r>
            <a:r>
              <a:rPr b="0" lang="ru-RU" sz="2400" spc="-1" strike="noStrike">
                <a:solidFill>
                  <a:srgbClr val="e2d700"/>
                </a:solidFill>
                <a:latin typeface="Constantia"/>
              </a:rPr>
              <a:t>72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опрошенных ответили “нет” и </a:t>
            </a:r>
            <a:r>
              <a:rPr b="0" lang="ru-RU" sz="2400" spc="-1" strike="noStrike">
                <a:solidFill>
                  <a:srgbClr val="e2d700"/>
                </a:solidFill>
                <a:latin typeface="Constantia"/>
              </a:rPr>
              <a:t>24%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сказали “да”, остальные не смогли ответить. Т.е. большинство считает, что сейчас не средневековье, поэтому образ рыцаря затерялся где-то в глубине веков, и в современном обществе ему нет мес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d700"/>
                </a:solidFill>
                <a:latin typeface="Calibri"/>
              </a:rPr>
              <a:t>Есть ли ещё рыцари и джентльмены в </a:t>
            </a:r>
            <a:r>
              <a:rPr b="0" lang="en-US" sz="2800" spc="-1" strike="noStrike">
                <a:solidFill>
                  <a:srgbClr val="e2d700"/>
                </a:solidFill>
                <a:latin typeface="Calibri"/>
              </a:rPr>
              <a:t>XXI </a:t>
            </a:r>
            <a:r>
              <a:rPr b="0" lang="ru-RU" sz="2800" spc="-1" strike="noStrike">
                <a:solidFill>
                  <a:srgbClr val="e2d700"/>
                </a:solidFill>
                <a:latin typeface="Calibri"/>
              </a:rPr>
              <a:t>веке?</a:t>
            </a:r>
            <a:r>
              <a:rPr b="0" lang="ru-RU" sz="1800" spc="-1" strike="noStrike">
                <a:solidFill>
                  <a:srgbClr val="dbf5f9"/>
                </a:solidFill>
                <a:latin typeface="Calibri"/>
              </a:rPr>
              <a:t> http://forum.mr-spb.ru/poll.php?do=showresults&amp;pollid</a:t>
            </a: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лосов – 32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онечно! </a:t>
            </a:r>
            <a:r>
              <a:rPr b="0" lang="ru-RU" sz="3600" spc="-1" strike="noStrike">
                <a:solidFill>
                  <a:srgbClr val="e2d700"/>
                </a:solidFill>
                <a:latin typeface="Constantia"/>
              </a:rPr>
              <a:t>21,2%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Рыцарей нет, джентльмены вымирают </a:t>
            </a:r>
            <a:r>
              <a:rPr b="0" lang="ru-RU" sz="3600" spc="-1" strike="noStrike">
                <a:solidFill>
                  <a:srgbClr val="e2d700"/>
                </a:solidFill>
                <a:latin typeface="Constantia"/>
              </a:rPr>
              <a:t>56,5%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Есть... по праздникам </a:t>
            </a:r>
            <a:r>
              <a:rPr b="0" lang="ru-RU" sz="3600" spc="-1" strike="noStrike">
                <a:solidFill>
                  <a:srgbClr val="e2d700"/>
                </a:solidFill>
                <a:latin typeface="Constantia"/>
              </a:rPr>
              <a:t>12,5%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Затрудняюсь ответить </a:t>
            </a:r>
            <a:r>
              <a:rPr b="0" lang="ru-RU" sz="3600" spc="-1" strike="noStrike">
                <a:solidFill>
                  <a:srgbClr val="e2d700"/>
                </a:solidFill>
                <a:latin typeface="Constantia"/>
              </a:rPr>
              <a:t>0,8%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Опрос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314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f5f9"/>
                </a:solidFill>
                <a:latin typeface="Calibri"/>
              </a:rPr>
              <a:t>Дмитрий ВОСКОБОЙНИКОВ —</a:t>
            </a:r>
            <a:r>
              <a:rPr b="0" lang="ru-RU" sz="46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dbf5f9"/>
                </a:solidFill>
                <a:latin typeface="Calibri"/>
              </a:rPr>
              <a:t>31.01.2012 «Комсомольская правда»</a:t>
            </a:r>
            <a:br>
              <a:rPr sz="2400"/>
            </a:br>
            <a:r>
              <a:rPr b="1" lang="ru-RU" sz="2400" spc="-1" strike="noStrike" u="sng">
                <a:solidFill>
                  <a:srgbClr val="e2d700"/>
                </a:solidFill>
                <a:uFillTx/>
                <a:latin typeface="Calibri"/>
              </a:rPr>
              <a:t>Титанический водораздел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Дмитрий Борисович Воскобойников (род. 13 июля 1960, Москва) — российский журналист-международник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Окончил факультет журналистики МГУ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В 1982—1992 гг. сотрудник ТАСС, в том числе на протяжении пяти лет корреспондент в Великобритани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С 1992 г. работает в информационном агентстве «Интерфакс»; с 1994 г. вице-президент, с 1997 г. исполнительный директор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В 2000—2005 гг. главный редактор журнала «Европа»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Член Совета по внешней и оборонной политике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31164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. Какую проблему поставил автор в своей статье? Считаете ли вы эту проблему интересной и актуально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. Согласны ли вы с тем, что в 21 веке происходит смена нравственных эпох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3.В статье автор, журналист Дмитрий Воскобойников пишет: «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некоторых мужчин рыцарство не умерло, но в целом оно подыхает. И причина его стремительного заката не мужчины, а женщины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» Согласны ли вы с эти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4. Как по-вашему, «мачо» и «рыцарь» - это одно и то ж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e2d700"/>
                </a:solidFill>
                <a:latin typeface="Calibri"/>
              </a:rPr>
              <a:t>ВОПРОСЫ ДЛЯ ОБСУЖДЕНИЯ: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8360" y="6194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«Титаник» 1912 г.                       «Коста Конкордия» 2011 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9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3600360" cy="1944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68360" y="1628280"/>
            <a:ext cx="40384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питан Эдвард Джон Смит (62 года) - погиб. Тело не найден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14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2129040" cy="142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"/>
          <p:cNvPicPr/>
          <p:nvPr/>
        </p:nvPicPr>
        <p:blipFill>
          <a:blip r:embed="rId5"/>
          <a:stretch/>
        </p:blipFill>
        <p:spPr>
          <a:xfrm>
            <a:off x="6084720" y="2602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7"/>
          <p:cNvSpPr/>
          <p:nvPr/>
        </p:nvSpPr>
        <p:spPr>
          <a:xfrm>
            <a:off x="4932360" y="1773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питан Франческо Скетт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52 года) сбежал с корабля, бросив пассажи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8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4038480" cy="1612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7"/>
          <a:stretch/>
        </p:blipFill>
        <p:spPr>
          <a:xfrm>
            <a:off x="6948360" y="4653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"/>
          <p:cNvPicPr/>
          <p:nvPr/>
        </p:nvPicPr>
        <p:blipFill>
          <a:blip r:embed="rId8"/>
          <a:stretch/>
        </p:blipFill>
        <p:spPr>
          <a:xfrm>
            <a:off x="1692360" y="18900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"/>
          <p:cNvPicPr/>
          <p:nvPr/>
        </p:nvPicPr>
        <p:blipFill>
          <a:blip r:embed="rId9"/>
          <a:stretch/>
        </p:blipFill>
        <p:spPr>
          <a:xfrm>
            <a:off x="4716360" y="4653000"/>
            <a:ext cx="2089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d700"/>
                </a:solidFill>
                <a:latin typeface="Calibri"/>
              </a:rPr>
              <a:t>Эллен Черчилль Кэнди, </a:t>
            </a:r>
            <a:br>
              <a:rPr sz="2800"/>
            </a:br>
            <a:r>
              <a:rPr b="0" lang="ru-RU" sz="2400" spc="-1" strike="noStrike">
                <a:solidFill>
                  <a:srgbClr val="e2d700"/>
                </a:solidFill>
                <a:latin typeface="Calibri"/>
              </a:rPr>
              <a:t>воспоминания пережившей трагедию «Титаника» женщины: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«Титаник» получил огромную пробоину в корпусе, которую нельзя было задела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Спустить шлюпки! – скомандовал капита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Но шлюпок хватало только на половину пассажир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Женщины и дети – к сходням. Мужчинам – надеть спасательные пояса! – раздалась команд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Мужчины молча отошли от борта. Одна за другой отчаливали от борта шлюпки с женщинами и детьми. Холодная и тёмная вода заполняла трюмы корабля. Вот началась посадка в последнюю шлюпку. Вдруг откуда-то выбежал толстяк с перекошенным от животного ужаса лицом. Расталкивая женщин и детей, он пытался прорваться к шлюпке. Он совал матросам пачки денег, чтобы те разрешили ему сесть в лодку. Внезапно раздался негромкий удар. Трус упал на палубу, но никто даже не оглянулся. Отчалила последняя шлюпка, а корабль почти скрылся под водой. Оставшиеся  окружили капитанский мостик. Мужчины стояли спокойно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Calibri"/>
              </a:rPr>
              <a:t>Рассказы спасенных пассажиров </a:t>
            </a:r>
            <a:br>
              <a:rPr sz="2400"/>
            </a:br>
            <a:r>
              <a:rPr b="1" lang="ru-RU" sz="2400" spc="-1" strike="noStrike">
                <a:solidFill>
                  <a:srgbClr val="e2d700"/>
                </a:solidFill>
                <a:latin typeface="Calibri"/>
              </a:rPr>
              <a:t>лайнера «Коста Конкордия»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Антониетта Симболи, пассажир: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«Люди словно сошли с ума. Родители старались держать детей повыше от страха, что малыши будут раздавлены обезумевшей толпой. Мужчины пытались пробиться в первые ряды, чтоб успеть занять место в шлюпке, расталкивая всех подряд, не глядя на то, кто перед ними: дети или старики, несмотря на то , что персонал орал, что первыми будут эвакуированы женщины и дети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укреция Антелми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пассажир : 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«Капитан вообще не сделал никакого объявления. Я видела, как многие люди прыгали в воду, чтобы самостоятельно доплыть до берега. Спасательные шлюпки были перегружены, в моей было человек 130.   Люди, озверевшие от страха, не считались ни с чем, пытаясь любыми способами прорваться к шлюпке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d700"/>
                </a:solidFill>
                <a:latin typeface="Calibri"/>
              </a:rPr>
              <a:t>Большой Энциклопедический словарь - "РЫЦАРЬ"</a:t>
            </a:r>
            <a:br>
              <a:rPr sz="4600"/>
            </a:b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РЫЦАРЬ (нем. Ritter, первоначально - всадник), в Зап. и Центр. Европе в средние века феодал, тяжеловооруженный конный воин. Для рыцаря считались обязательными моральные нормы: смелость, верность долгу, благородство по отношению к женщине. Отсюда - в переносном смысле - </a:t>
            </a:r>
            <a:r>
              <a:rPr b="1" i="1" lang="ru-RU" sz="2000" spc="-1" strike="noStrike">
                <a:solidFill>
                  <a:srgbClr val="e2d700"/>
                </a:solidFill>
                <a:latin typeface="Constantia"/>
              </a:rPr>
              <a:t>рыцарь - самоотверженный, благородный человек.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Рыцарские доблести — </a:t>
            </a:r>
            <a:r>
              <a:rPr b="1" i="1" lang="ru-RU" sz="2000" spc="-1" strike="noStrike">
                <a:solidFill>
                  <a:srgbClr val="e2d700"/>
                </a:solidFill>
                <a:latin typeface="Constantia"/>
              </a:rPr>
              <a:t>мужество,  верность, щедрость, благородство, утончённая общительность,   чувство че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Picture 9" descr="Рыцарство 011"/>
          <p:cNvPicPr/>
          <p:nvPr/>
        </p:nvPicPr>
        <p:blipFill>
          <a:blip r:embed="rId2"/>
          <a:stretch/>
        </p:blipFill>
        <p:spPr>
          <a:xfrm>
            <a:off x="755640" y="765000"/>
            <a:ext cx="367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e2d700"/>
                </a:solidFill>
                <a:latin typeface="Calibri"/>
              </a:rPr>
              <a:t>Цель урока:</a:t>
            </a: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формирование качеств, способствующих развитию диалектического мировоззрения, необходимого для ориентации в мире, способности к быстрой адаптации к непрерывным социальным изменениям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закрепление умения вести дискуссии, преодоление нравственного максимализма; развитие  самостоятельности учащихся, их логического мышления, социальной и нравственной зрелости; формирование взглядов и убеждений лич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воспитание чувства благородства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развитие навыков монологической и диалогической речи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d700"/>
                </a:solidFill>
                <a:latin typeface="Constantia"/>
              </a:rPr>
              <a:t>Мачо (исп. macho — «самец»)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— мужчина, проявляющий качества, обычно приписываемые особям мужского пола в животном мире: агрессивность, грубость, ярко выраженный мужской тип внешности и сексуальности, физическую силу, напористость, упорство. В современной культуре, выделяется, прежде всего, из-за сексуальной составляющей, притягивающей многих женщин на инстинктивном уровн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0388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феминизм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457200" y="1935000"/>
            <a:ext cx="3106800" cy="4389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2d700"/>
                </a:solidFill>
                <a:latin typeface="Constantia"/>
              </a:rPr>
              <a:t>Феминизм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(франц. feminisme, от лат. femina – женщина), женское движение за уравнение женщин в правах с мужчинами в рамках буржуазного строя. Возникло в 18 в., первоначально в Северной Америке – в период Войны за независимость 1775–1783 и во Франции – во время Великой французской революци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2d700"/>
                </a:solidFill>
                <a:latin typeface="Calibri"/>
              </a:rPr>
              <a:t>Согласны ли вы с мнением ученого?</a:t>
            </a:r>
            <a:br>
              <a:rPr sz="2800"/>
            </a:br>
            <a:r>
              <a:rPr b="1" i="1" lang="ru-RU" sz="2800" spc="-1" strike="noStrike">
                <a:solidFill>
                  <a:srgbClr val="e2d700"/>
                </a:solidFill>
                <a:latin typeface="Calibri"/>
              </a:rPr>
              <a:t>Доктор биологических наук С. Сперанский:</a:t>
            </a: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«Нарастает всеобщее остервенение… Последние пух и перья летят от тех нравственных запретов, которые худо-бедно все же цементировали общество»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e2d700"/>
                </a:solidFill>
                <a:latin typeface="Calibri"/>
              </a:rPr>
              <a:t>Продолжите фразы: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Мужчину  в обществе будут уважать за…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Всеобщее осуждение в обществе   вызывает…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Настоящий мужчина – это…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2d700"/>
                </a:solidFill>
                <a:latin typeface="Calibri"/>
              </a:rPr>
              <a:t>Итог урок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 какой проблеме, поднятой автором статьи, мы сегодня говорили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Актуальна ли она в современном мире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акой вывод вы сделали для себя на этом уроке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19444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ремя  эти  понятия  не  стёрло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Нужно  только  поднять  верхний  плас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  дымящейся  кровью  у  горл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Чувства  вечные  хлынут  из  нас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Ныне  присно,  во  веки  веков,  старин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  цена  есть  цена,  и  вина  есть  вина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  всегда   хорошо,  если  честь  спасена,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Если  духом  надёжно  прикрыта  спин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Чистоту,  простоту  мы  у  древних  берём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аги,  сказки  из  прошлого  тащи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отому,  что  добро  остаётся  добр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  прошлом,  будущем  и  настояще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 Высоцки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Баллада о времени»</a:t>
            </a:r>
            <a:r>
              <a:rPr b="0" lang="ru-RU" sz="1800" spc="-1" strike="noStrike" baseline="-2000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2"/>
          <a:stretch/>
        </p:blipFill>
        <p:spPr>
          <a:xfrm>
            <a:off x="6156360" y="549360"/>
            <a:ext cx="2448000" cy="3743280"/>
          </a:xfrm>
          <a:prstGeom prst="rect">
            <a:avLst/>
          </a:prstGeom>
          <a:ln w="889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d700"/>
                </a:solidFill>
                <a:latin typeface="Monotype Corsiva"/>
              </a:rPr>
              <a:t>Духовно-нравственные заповеди</a:t>
            </a:r>
            <a:br>
              <a:rPr sz="3200"/>
            </a:br>
            <a:r>
              <a:rPr b="0" lang="ru-RU" sz="3200" spc="-1" strike="noStrike">
                <a:solidFill>
                  <a:srgbClr val="e2d700"/>
                </a:solidFill>
                <a:latin typeface="Monotype Corsiva"/>
              </a:rPr>
              <a:t>академика </a:t>
            </a:r>
            <a:r>
              <a:rPr b="1" lang="ru-RU" sz="3200" spc="-1" strike="noStrike">
                <a:solidFill>
                  <a:srgbClr val="e2d700"/>
                </a:solidFill>
                <a:latin typeface="Monotype Corsiva"/>
              </a:rPr>
              <a:t>Дмитрия Сергеевича Лихачёва</a:t>
            </a:r>
            <a:r>
              <a:rPr b="0" lang="ru-RU" sz="3200" spc="-1" strike="noStrike">
                <a:solidFill>
                  <a:srgbClr val="e2d7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Люби людей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 и ближних, и дальн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Твори добро, не видя в том заслуг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Люби мир в себе, а не себя в мир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Будь искренним: вводя в заблуждение 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других, обманываешься са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buClr>
                <a:srgbClr val="ffffff"/>
              </a:buClr>
              <a:buSzPct val="95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Будь верующим – вера обогащает душу и укрепляет ду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Будь совестлив: вся мораль в сове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737080" cy="3529080"/>
          </a:xfrm>
          <a:prstGeom prst="rect">
            <a:avLst/>
          </a:prstGeom>
          <a:ln w="889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Аннотация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данной методической разработке приводится описание подготовки и проведения урока по русскому языку в 11 классе по теме «</a:t>
            </a:r>
            <a:r>
              <a:rPr b="1" i="1" lang="ru-RU" sz="2300" spc="-1" strike="noStrike">
                <a:solidFill>
                  <a:srgbClr val="e2d700"/>
                </a:solidFill>
                <a:latin typeface="Constantia"/>
              </a:rPr>
              <a:t>Умерло ли рыцарство в  </a:t>
            </a:r>
            <a:r>
              <a:rPr b="1" i="1" lang="en-US" sz="2300" spc="-1" strike="noStrike">
                <a:solidFill>
                  <a:srgbClr val="e2d700"/>
                </a:solidFill>
                <a:latin typeface="Constantia"/>
              </a:rPr>
              <a:t>XXI </a:t>
            </a:r>
            <a:r>
              <a:rPr b="1" i="1" lang="ru-RU" sz="2300" spc="-1" strike="noStrike">
                <a:solidFill>
                  <a:srgbClr val="e2d700"/>
                </a:solidFill>
                <a:latin typeface="Constantia"/>
              </a:rPr>
              <a:t>веке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?», соответствующего тематическому планированию уроков по русскому языку  в 11 классе  «Устное выступление. Доклад. Дискуссия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орма урока-диспута в старших классах была выбрана не случайно. Его основная цель – формирование диалектического мировоззрения школьников.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Этот тип урока олицетворяет собой одну из особенностей нашего времени: признание важности и полезности обсуждений актуальных проблем современности. Урок прежде всего направлен на решение задач нравственного воспитания. Проблема морально-нравственных ценностей в наши дни является достаточно актуальной, особенно для молодого поколения. Кроме того, урок-диспут позволяет решать многие педагогические задачи. Такие уроки вовлекают учащихся в непринужденный, живой разговор и этим помогают избежать формализма в знаниях, активно способствуют превращению знаний в убежде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d700"/>
                </a:solidFill>
                <a:latin typeface="Constantia"/>
              </a:rPr>
              <a:t>Использованные источник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скобойников Д.Б., Титанический водораздел. - Комсомольская правда. - 31.01.2012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Правдивцев В. Л. Кто управляет человечеством?//Совершенно секретно. 1999. №6, С. 32-33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Львов С. Быть или казаться. – М.: Политиздат,1987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Откровения людям Нового века (2008-2009 гг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. Смит А. Теория нравственных чувств. М.: Республика, 1997—351 с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2d700"/>
                </a:solidFill>
                <a:latin typeface="Calibri"/>
              </a:rPr>
              <a:t>Использованные источники:</a:t>
            </a:r>
            <a:br>
              <a:rPr sz="4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http://kp.ua/ «Комсомольская правда в Украине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7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//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um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r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b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u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ll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p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?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=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owresults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&amp;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llid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8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//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stival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1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ptember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u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ticles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/566055/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 u="sng">
                <a:solidFill>
                  <a:srgbClr val="e2d700"/>
                </a:solidFill>
                <a:uFillTx/>
                <a:latin typeface="Calibri"/>
              </a:rPr>
              <a:t>Диспут (от лат. рассуждать, спорить)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сегда предполагает спор, столкновение различных точек зрения. Предметом диспута должна быть проблема, которая вызывает интерес, желание высказатьс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2700360" y="3860640"/>
            <a:ext cx="3672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 u="sng">
                <a:solidFill>
                  <a:srgbClr val="e2d700"/>
                </a:solidFill>
                <a:uFillTx/>
                <a:latin typeface="Calibri"/>
              </a:rPr>
              <a:t>ЗАКОНЫ ДИСПУТА</a:t>
            </a:r>
            <a:r>
              <a:rPr b="0" lang="ru-RU" sz="5000" spc="-1" strike="noStrike">
                <a:solidFill>
                  <a:srgbClr val="e2d700"/>
                </a:solidFill>
                <a:latin typeface="Calibri"/>
              </a:rPr>
              <a:t>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Здесь нет наблюдающих, каждый – активный участник разговор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Неуместные шутки запрещаются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Острое, меткое слово приветствуется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Говори, что думаешь – думай, что говориш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Будь тактичным, искренним, взаимно вежливым и принципиальны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Поднятая рука – прошу сло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866880"/>
            <a:ext cx="8229600" cy="173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2d700"/>
                </a:solidFill>
                <a:latin typeface="Calibri"/>
              </a:rPr>
              <a:t>Правила проведения дискуссии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1.Перед тем, как спорить, подумай, что именно ты должен сказать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2. Если ты пришел на диспут, обязательно выскажи и аргументируй свое мнени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3. Говори просто и ясно, логично и последовательно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4. Говори только то, что тебя интересует, что ты знаешь, в чем ты уверен, не утверждай того, в чем сам не уверен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5. Спорь честно: не перекручивай мысли человека, с которым ты не согласен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6. Не повторяйся и не повторяй слов друг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7. Помни, что лучшие доказательства - точные факты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8. Уважай того, кто спорит с тобой; твое тактичное поведение доказывает, что ты не только сильный оппонент, но и воспитанный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d700"/>
                </a:solidFill>
                <a:latin typeface="Calibri"/>
              </a:rPr>
              <a:t>Эпиграфы урока: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Обучение - это общени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человека с человечество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А.Петровски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Если у вас есть идея и у меня есть иде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и мы обмениваемся этими идеями, то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у каждого из нас будет по две иде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…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само поражение в споре может не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слишком огорчать, ибо побежденный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больше выигрывает в том отношении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что он умножает свои знания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Б. Шо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2d700"/>
                </a:solidFill>
                <a:latin typeface="Calibri"/>
              </a:rPr>
              <a:t>Плакаты с высказываниями великих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5dfd0"/>
                </a:solidFill>
                <a:latin typeface="Constantia"/>
              </a:rPr>
              <a:t>«Благородный человек выше обид, несправедливости, горя, насмешек; он был бы неуязвим, будь он чужд состраданию». Жан Лабрюйер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«В сердце человека заключена подлинная рыцарственность: оно способно любить. Рыцарское поведение вырастает из глубины сердца». Иоганн Вольфганг Гёт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5dfd0"/>
                </a:solidFill>
                <a:latin typeface="Constantia"/>
              </a:rPr>
              <a:t>«Береги честь смолоду, как платье снову. Честь – это твое достоинство, как ты его понимаешь. Если ты видишь неуважение достоинств твоей личности, то это надобно пресечь». Соборное уложение 1649 года «О чести и бесчестии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«В войну погиб цвет народа. В живых из лучших сохранились немногие. А дети не стали лучше отцов, хотя нельзя осуждать какое-либо поколение целиком. Вот, может быть, поэтому теперь и мало кто рискует броситься грудью на амбразуру, защищая свою и чужую честь…»  Юрий Бондар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5dfd0"/>
                </a:solidFill>
                <a:latin typeface="Constantia"/>
              </a:rPr>
              <a:t>«В этом мире осталось мало людей, способных отдать свою жизнь ради чести и права называться человеком. Для этого нужно обладать немалой отвагой…» «Самурай Икс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onstantia"/>
              </a:rPr>
              <a:t>«Каждый может стать благородным мужем. Нужно только решиться им стать». Конфуц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Organization Chart 10"/>
          <p:cNvGrpSpPr/>
          <p:nvPr/>
        </p:nvGrpSpPr>
        <p:grpSpPr>
          <a:xfrm>
            <a:off x="108000" y="476280"/>
            <a:ext cx="8927280" cy="5767200"/>
            <a:chOff x="108000" y="476280"/>
            <a:chExt cx="8927280" cy="5767200"/>
          </a:xfrm>
        </p:grpSpPr>
        <p:cxnSp>
          <p:nvCxnSpPr>
            <p:cNvPr id="217" name="_s1028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556600" y="1797120"/>
              <a:ext cx="1154160" cy="3125160"/>
            </a:xfrm>
            <a:prstGeom prst="bentConnector3">
              <a:avLst>
                <a:gd name="adj1" fmla="val 1322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1029"/>
            <p:cNvCxnSpPr>
              <a:stCxn id="221" idx="0"/>
              <a:endCxn id="219" idx="2"/>
            </p:cNvCxnSpPr>
            <p:nvPr/>
          </p:nvCxnSpPr>
          <p:spPr>
            <a:xfrm flipV="1">
              <a:off x="4571280" y="2782800"/>
              <a:ext cx="3960" cy="1154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1030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2431800" y="1797120"/>
              <a:ext cx="1154160" cy="3125160"/>
            </a:xfrm>
            <a:prstGeom prst="bentConnector3">
              <a:avLst>
                <a:gd name="adj1" fmla="val 1322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9" name="_s1031"/>
            <p:cNvSpPr/>
            <p:nvPr/>
          </p:nvSpPr>
          <p:spPr>
            <a:xfrm>
              <a:off x="3232440" y="476280"/>
              <a:ext cx="2678040" cy="2306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2d700"/>
                  </a:solidFill>
                  <a:latin typeface="Arial"/>
                </a:rPr>
                <a:t>Мораль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авила поведен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инимаем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и одобряем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щ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32"/>
            <p:cNvSpPr/>
            <p:nvPr/>
          </p:nvSpPr>
          <p:spPr>
            <a:xfrm>
              <a:off x="108000" y="3936600"/>
              <a:ext cx="2678040" cy="2306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Моральные норм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основаны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представлении люде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о добре и зле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хорошем и плохом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о справедливости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чести, сов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3232440" y="3936600"/>
              <a:ext cx="2678040" cy="2306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Норма морали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это образец поведени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призн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обязатель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в обще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4"/>
            <p:cNvSpPr/>
            <p:nvPr/>
          </p:nvSpPr>
          <p:spPr>
            <a:xfrm>
              <a:off x="6357240" y="3936600"/>
              <a:ext cx="2678040" cy="2306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Нормы морал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регулирую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поведение люд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18"/>
          <p:cNvSpPr/>
          <p:nvPr/>
        </p:nvSpPr>
        <p:spPr>
          <a:xfrm>
            <a:off x="364320" y="32464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d700"/>
                </a:solidFill>
                <a:latin typeface="Arial"/>
              </a:rPr>
              <a:t>Нравственность -  принятие на   себя  ответственности за свои по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Скругленный прямоугольник 1"/>
          <p:cNvSpPr/>
          <p:nvPr/>
        </p:nvSpPr>
        <p:spPr>
          <a:xfrm>
            <a:off x="2857680" y="857160"/>
            <a:ext cx="3214440" cy="19288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2d700"/>
                </a:solidFill>
                <a:latin typeface="Constantia"/>
              </a:rPr>
              <a:t>Моральные 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3"/>
          <p:cNvCxnSpPr>
            <a:stCxn id="225" idx="2"/>
            <a:endCxn id="227" idx="7"/>
          </p:cNvCxnSpPr>
          <p:nvPr/>
        </p:nvCxnSpPr>
        <p:spPr>
          <a:xfrm flipH="1">
            <a:off x="1686960" y="2785680"/>
            <a:ext cx="2778840" cy="160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Прямая со стрелкой 4"/>
          <p:cNvCxnSpPr>
            <a:stCxn id="225" idx="2"/>
            <a:endCxn id="229" idx="0"/>
          </p:cNvCxnSpPr>
          <p:nvPr/>
        </p:nvCxnSpPr>
        <p:spPr>
          <a:xfrm flipH="1">
            <a:off x="2248920" y="2785680"/>
            <a:ext cx="2215080" cy="250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Прямая со стрелкой 5"/>
          <p:cNvCxnSpPr>
            <a:stCxn id="225" idx="2"/>
            <a:endCxn id="231" idx="0"/>
          </p:cNvCxnSpPr>
          <p:nvPr/>
        </p:nvCxnSpPr>
        <p:spPr>
          <a:xfrm flipH="1">
            <a:off x="3963240" y="2786040"/>
            <a:ext cx="500760" cy="264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Прямая со стрелкой 6"/>
          <p:cNvCxnSpPr>
            <a:stCxn id="225" idx="2"/>
            <a:endCxn id="233" idx="0"/>
          </p:cNvCxnSpPr>
          <p:nvPr/>
        </p:nvCxnSpPr>
        <p:spPr>
          <a:xfrm>
            <a:off x="4464000" y="2786040"/>
            <a:ext cx="1145520" cy="20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Прямая со стрелкой 12"/>
          <p:cNvCxnSpPr>
            <a:stCxn id="225" idx="2"/>
            <a:endCxn id="235" idx="0"/>
          </p:cNvCxnSpPr>
          <p:nvPr/>
        </p:nvCxnSpPr>
        <p:spPr>
          <a:xfrm>
            <a:off x="4464000" y="2785680"/>
            <a:ext cx="3431520" cy="250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15"/>
          <p:cNvCxnSpPr>
            <a:stCxn id="225" idx="2"/>
            <a:endCxn id="237" idx="1"/>
          </p:cNvCxnSpPr>
          <p:nvPr/>
        </p:nvCxnSpPr>
        <p:spPr>
          <a:xfrm>
            <a:off x="4465800" y="2786040"/>
            <a:ext cx="3134160" cy="117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18"/>
          <p:cNvCxnSpPr>
            <a:stCxn id="225" idx="2"/>
            <a:endCxn id="239" idx="2"/>
          </p:cNvCxnSpPr>
          <p:nvPr/>
        </p:nvCxnSpPr>
        <p:spPr>
          <a:xfrm>
            <a:off x="4464000" y="2786040"/>
            <a:ext cx="303768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Овал 22"/>
          <p:cNvSpPr/>
          <p:nvPr/>
        </p:nvSpPr>
        <p:spPr>
          <a:xfrm>
            <a:off x="285840" y="4214880"/>
            <a:ext cx="1643040" cy="12142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завид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23"/>
          <p:cNvSpPr/>
          <p:nvPr/>
        </p:nvSpPr>
        <p:spPr>
          <a:xfrm>
            <a:off x="4714920" y="4786200"/>
            <a:ext cx="178596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жадни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24"/>
          <p:cNvSpPr/>
          <p:nvPr/>
        </p:nvSpPr>
        <p:spPr>
          <a:xfrm>
            <a:off x="6643800" y="5286240"/>
            <a:ext cx="250020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могай нуждающим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25"/>
          <p:cNvSpPr/>
          <p:nvPr/>
        </p:nvSpPr>
        <p:spPr>
          <a:xfrm>
            <a:off x="7358040" y="378612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предав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26"/>
          <p:cNvSpPr/>
          <p:nvPr/>
        </p:nvSpPr>
        <p:spPr>
          <a:xfrm>
            <a:off x="7500960" y="2428920"/>
            <a:ext cx="1643040" cy="12142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27"/>
          <p:cNvSpPr/>
          <p:nvPr/>
        </p:nvSpPr>
        <p:spPr>
          <a:xfrm>
            <a:off x="3143160" y="542916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важай стар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28"/>
          <p:cNvSpPr/>
          <p:nvPr/>
        </p:nvSpPr>
        <p:spPr>
          <a:xfrm>
            <a:off x="1428840" y="528624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обижай слаб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38"/>
          <p:cNvCxnSpPr>
            <a:stCxn id="225" idx="2"/>
            <a:endCxn id="241" idx="6"/>
          </p:cNvCxnSpPr>
          <p:nvPr/>
        </p:nvCxnSpPr>
        <p:spPr>
          <a:xfrm flipH="1">
            <a:off x="1785600" y="2785680"/>
            <a:ext cx="2680560" cy="60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1" name="Овал 41"/>
          <p:cNvSpPr/>
          <p:nvPr/>
        </p:nvSpPr>
        <p:spPr>
          <a:xfrm>
            <a:off x="142920" y="278604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 л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3:00:39Z</dcterms:created>
  <dc:creator>Kamenka School</dc:creator>
  <dc:description/>
  <dc:language>en-US</dc:language>
  <cp:lastModifiedBy>Новиков</cp:lastModifiedBy>
  <dcterms:modified xsi:type="dcterms:W3CDTF">2013-03-18T18:49:39Z</dcterms:modified>
  <cp:revision>22</cp:revision>
  <dc:subject/>
  <dc:title>Мора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a000000000001024140</vt:lpwstr>
  </property>
</Properties>
</file>