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96E-1055-41E8-8A72-4DF2FEDF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56C-E5B5-484A-8CD4-D9D6C1E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F85-3917-4563-ACE7-997278A1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8BE-CDDD-4969-8B90-DA2969CD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5E3-3119-42E9-B6CA-FD10406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6D9-251B-4B56-B116-4C4915F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6DD-ADF7-4CCD-B3CF-EA9A2CD3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464-4D88-4502-944B-B46A4DF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8EF-4EC2-465B-918A-373D661B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CD0-0908-443C-B91B-68CBEB5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932-6904-4E7E-835D-936D806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FB8-8C3C-4D2F-BD8C-D1C87A5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288A-F450-456A-B948-FC0A87928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tanais.info/art/en/taxonomy/term/171?page=317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Александр Сергеевич Пушкин"/>
          <p:cNvPicPr/>
          <p:nvPr/>
        </p:nvPicPr>
        <p:blipFill>
          <a:blip r:embed="rId3"/>
          <a:stretch/>
        </p:blipFill>
        <p:spPr>
          <a:xfrm>
            <a:off x="2556000" y="988920"/>
            <a:ext cx="396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700360" y="765000"/>
            <a:ext cx="3959280" cy="583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79280" y="1535040"/>
            <a:ext cx="428328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3908520" cy="262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423040" y="1743120"/>
            <a:ext cx="37558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4859280" y="1535040"/>
            <a:ext cx="2865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28000" cy="580536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450720" y="60480"/>
            <a:ext cx="8242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929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4391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90600" y="133200"/>
            <a:ext cx="8454960" cy="9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vestnik.com/issues/2004/0623/images/orlova_ee_kern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89440" cy="482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08000" y="1268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255680" y="30240"/>
            <a:ext cx="743760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18960" y="5373360"/>
            <a:ext cx="7924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ННА АЛЕКСЕЕВНА АНДРО-ОЛЕНИНА, ГРАФИНЯ ЛАНЖЕН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805120" y="83664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08000" y="125280"/>
            <a:ext cx="1054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tanais.info/aivazovsky/aivazovsky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954000"/>
            <a:ext cx="46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5:22Z</dcterms:created>
  <dc:creator>Ludmila</dc:creator>
  <dc:description/>
  <dc:language>en-US</dc:language>
  <cp:lastModifiedBy>Admin</cp:lastModifiedBy>
  <dcterms:modified xsi:type="dcterms:W3CDTF">2012-12-18T09:55:3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3000000000001024140</vt:lpwstr>
  </property>
</Properties>
</file>