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9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88B-7DCC-43A6-B4A5-84531B20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1AB-D7A8-4FE4-90AE-89F5B22A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016-337F-468F-9C18-6634F8A0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3B2-5D41-40BC-9E9E-46521A58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411-1069-4749-BD6D-91EEED32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3A5-EEF3-48E3-8EB7-6DEE83D2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3FD-2438-4F3D-A732-F4BFB983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223-FC20-41A7-A43D-2EF1D580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FAA-83ED-465E-AB79-7720F1D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B1A-9DD3-4E14-88C9-FE8DC0E3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767-7934-426A-86D0-189A10E4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7C2-468C-4BDA-9BDC-EBA6483C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1A3B-B3E5-4C49-847D-9B6082A508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tanais.info/art/en/taxonomy/term/171?page=317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Александр Сергеевич Пушкин"/>
          <p:cNvPicPr/>
          <p:nvPr/>
        </p:nvPicPr>
        <p:blipFill>
          <a:blip r:embed="rId3"/>
          <a:stretch/>
        </p:blipFill>
        <p:spPr>
          <a:xfrm>
            <a:off x="2556000" y="988920"/>
            <a:ext cx="396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2700360" y="765000"/>
            <a:ext cx="3959280" cy="583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25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79280" y="1535040"/>
            <a:ext cx="4283280" cy="352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3908520" cy="262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5423040" y="1743120"/>
            <a:ext cx="3755880" cy="357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4859280" y="1535040"/>
            <a:ext cx="28656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8928000" cy="580536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3"/>
          <a:stretch/>
        </p:blipFill>
        <p:spPr>
          <a:xfrm>
            <a:off x="450720" y="60480"/>
            <a:ext cx="824256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9298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4391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390600" y="133200"/>
            <a:ext cx="8454960" cy="92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vestnik.com/issues/2004/0623/images/orlova_ee_kern.jpg"/>
          <p:cNvPicPr/>
          <p:nvPr/>
        </p:nvPicPr>
        <p:blipFill>
          <a:blip r:embed="rId3"/>
          <a:stretch/>
        </p:blipFill>
        <p:spPr>
          <a:xfrm>
            <a:off x="2556000" y="134136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889440" cy="482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108000" y="126828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1255680" y="30240"/>
            <a:ext cx="7437600" cy="884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18960" y="5373360"/>
            <a:ext cx="7924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АННА АЛЕКСЕЕВНА АНДРО-ОЛЕНИНА, ГРАФИНЯ ЛАНЖЕН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2805120" y="83664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08000" y="125280"/>
            <a:ext cx="10540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www.tanais.info/aivazovsky/aivazovsky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954000"/>
            <a:ext cx="46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15:22Z</dcterms:created>
  <dc:creator>Ludmila</dc:creator>
  <dc:description/>
  <dc:language>en-US</dc:language>
  <cp:lastModifiedBy>Admin</cp:lastModifiedBy>
  <dcterms:modified xsi:type="dcterms:W3CDTF">2012-12-18T09:55:3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3000000000001024140</vt:lpwstr>
  </property>
</Properties>
</file>