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3.jpeg" ContentType="image/jpeg"/>
  <Override PartName="/ppt/media/image9.jpeg" ContentType="image/jpeg"/>
  <Override PartName="/ppt/media/image24.png" ContentType="image/png"/>
  <Override PartName="/ppt/media/image23.jpeg" ContentType="image/jpeg"/>
  <Override PartName="/ppt/media/image22.png" ContentType="image/png"/>
  <Override PartName="/ppt/media/image18.jpeg" ContentType="image/jpeg"/>
  <Override PartName="/ppt/media/image21.wmf" ContentType="image/x-wmf"/>
  <Override PartName="/ppt/media/image1.jpeg" ContentType="image/jpe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07D-C4E8-4511-BAC2-A0412155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0DC-C1A8-4DF0-AA36-57013B9A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585-8F2D-4F7D-A03B-91318D88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730-6BAD-4C60-9935-9B83F4A6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5DB6-FB42-4925-B371-A2ACC156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3774-B3CC-41BB-8708-D2C1E30F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08AE-4CAB-44A8-AED7-1E4559C8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932E-1630-45D1-8F23-83BBB1EE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DAD-AF5C-4138-A534-5538DE36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ACF0-219F-4DC4-938B-D03A6BCF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9A3-41A4-47F1-B4EA-5A7E9970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7967-A6C3-441E-8E22-6783EC67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9904-9EB9-43E6-ABD5-1602B8DDEE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hyperlink" Target="http://tanais.info/art/en/taxonomy/term/171?page=317" TargetMode="External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242560" cy="9684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Александр Сергеевич Пушкин"/>
          <p:cNvPicPr/>
          <p:nvPr/>
        </p:nvPicPr>
        <p:blipFill>
          <a:blip r:embed="rId3"/>
          <a:stretch/>
        </p:blipFill>
        <p:spPr>
          <a:xfrm>
            <a:off x="2556000" y="988920"/>
            <a:ext cx="396072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450720" y="30240"/>
            <a:ext cx="8242560" cy="884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2700360" y="765000"/>
            <a:ext cx="3959280" cy="583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4"/>
          <a:stretch/>
        </p:blipFill>
        <p:spPr>
          <a:xfrm>
            <a:off x="250920" y="333360"/>
            <a:ext cx="2449440" cy="334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5"/>
          <a:stretch/>
        </p:blipFill>
        <p:spPr>
          <a:xfrm>
            <a:off x="6443640" y="3141720"/>
            <a:ext cx="252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179280" y="1535040"/>
            <a:ext cx="4283280" cy="3529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1908000" y="4076640"/>
            <a:ext cx="3908520" cy="2621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5"/>
          <a:stretch/>
        </p:blipFill>
        <p:spPr>
          <a:xfrm>
            <a:off x="5423040" y="1743120"/>
            <a:ext cx="3755880" cy="357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6"/>
          <a:stretch/>
        </p:blipFill>
        <p:spPr>
          <a:xfrm>
            <a:off x="4859280" y="1535040"/>
            <a:ext cx="286560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108000" y="1052640"/>
            <a:ext cx="8928000" cy="5805360"/>
          </a:xfrm>
          <a:prstGeom prst="rect">
            <a:avLst/>
          </a:prstGeom>
          <a:ln w="0">
            <a:noFill/>
          </a:ln>
        </p:spPr>
      </p:pic>
      <p:pic>
        <p:nvPicPr>
          <p:cNvPr id="49" name="Заголовок 1" descr=""/>
          <p:cNvPicPr/>
          <p:nvPr/>
        </p:nvPicPr>
        <p:blipFill>
          <a:blip r:embed="rId3"/>
          <a:stretch/>
        </p:blipFill>
        <p:spPr>
          <a:xfrm>
            <a:off x="450720" y="60480"/>
            <a:ext cx="8242560" cy="12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9298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2484360" y="1484280"/>
            <a:ext cx="43912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390600" y="133200"/>
            <a:ext cx="8454960" cy="927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www.vestnik.com/issues/2004/0623/images/orlova_ee_kern.jpg"/>
          <p:cNvPicPr/>
          <p:nvPr/>
        </p:nvPicPr>
        <p:blipFill>
          <a:blip r:embed="rId3"/>
          <a:stretch/>
        </p:blipFill>
        <p:spPr>
          <a:xfrm>
            <a:off x="2556000" y="1341360"/>
            <a:ext cx="4176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2"/>
          <a:stretch/>
        </p:blipFill>
        <p:spPr>
          <a:xfrm>
            <a:off x="390600" y="268200"/>
            <a:ext cx="8467560" cy="1158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4859280" y="1844640"/>
            <a:ext cx="3889440" cy="482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4"/>
          <a:stretch/>
        </p:blipFill>
        <p:spPr>
          <a:xfrm>
            <a:off x="108000" y="1268280"/>
            <a:ext cx="417672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2"/>
          <a:stretch/>
        </p:blipFill>
        <p:spPr>
          <a:xfrm>
            <a:off x="1255680" y="30240"/>
            <a:ext cx="7437600" cy="884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218960" y="5373360"/>
            <a:ext cx="79246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АННА АЛЕКСЕЕВНА АНДРО-ОЛЕНИНА, ГРАФИНЯ ЛАНЖЕНР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2805120" y="836640"/>
            <a:ext cx="3384720" cy="4537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08000" y="125280"/>
            <a:ext cx="105408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2"/>
          <a:stretch/>
        </p:blipFill>
        <p:spPr>
          <a:xfrm>
            <a:off x="450720" y="92160"/>
            <a:ext cx="8242560" cy="968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http://www.tanais.info/aivazovsky/aivazovsky2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11280" y="954000"/>
            <a:ext cx="4608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9:15:22Z</dcterms:created>
  <dc:creator>Ludmila</dc:creator>
  <dc:description/>
  <dc:language>en-US</dc:language>
  <cp:lastModifiedBy>Admin</cp:lastModifiedBy>
  <dcterms:modified xsi:type="dcterms:W3CDTF">2012-12-18T09:55:32Z</dcterms:modified>
  <cp:revision>3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813000000000001024140</vt:lpwstr>
  </property>
</Properties>
</file>