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D34-435A-4ACE-9A14-FBE99768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E0C-48C1-4B19-9AEF-FAC487DC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553-EB6B-4F5F-ACA7-65E8F83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B55-15C7-4646-A35A-47FDD20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0A5-FD72-449A-A3CA-722A3C98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8BB-0881-4E13-A1DB-B8DED327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97F-2025-4814-AFA3-2D51B9E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A94-C53A-4E77-B5C6-117C6A87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A03-ED7B-4464-B72D-8C0CE64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315-EC87-433B-8AF1-3C97E8E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AD7-4BE2-4DB4-AC94-322F6D79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821-F6AB-4BA0-8882-0D99FFC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17D-2724-4205-9FEC-55748BC9C7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tanais.info/art/en/taxonomy/term/171?page=317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Александр Сергеевич Пушкин"/>
          <p:cNvPicPr/>
          <p:nvPr/>
        </p:nvPicPr>
        <p:blipFill>
          <a:blip r:embed="rId3"/>
          <a:stretch/>
        </p:blipFill>
        <p:spPr>
          <a:xfrm>
            <a:off x="2556000" y="988920"/>
            <a:ext cx="396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700360" y="765000"/>
            <a:ext cx="3959280" cy="583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79280" y="1535040"/>
            <a:ext cx="428328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3908520" cy="262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423040" y="1743120"/>
            <a:ext cx="37558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4859280" y="1535040"/>
            <a:ext cx="2865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28000" cy="580536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450720" y="60480"/>
            <a:ext cx="8242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929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4391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90600" y="133200"/>
            <a:ext cx="8454960" cy="9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vestnik.com/issues/2004/0623/images/orlova_ee_kern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89440" cy="482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08000" y="1268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255680" y="30240"/>
            <a:ext cx="743760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18960" y="5373360"/>
            <a:ext cx="7924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ННА АЛЕКСЕЕВНА АНДРО-ОЛЕНИНА, ГРАФИНЯ ЛАНЖЕН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805120" y="83664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08000" y="125280"/>
            <a:ext cx="1054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tanais.info/aivazovsky/aivazovsky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954000"/>
            <a:ext cx="46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5:22Z</dcterms:created>
  <dc:creator>Ludmila</dc:creator>
  <dc:description/>
  <dc:language>en-US</dc:language>
  <cp:lastModifiedBy>Admin</cp:lastModifiedBy>
  <dcterms:modified xsi:type="dcterms:W3CDTF">2012-12-18T09:55:3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3000000000001024140</vt:lpwstr>
  </property>
</Properties>
</file>