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9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8.jpeg" ContentType="image/jpeg"/>
  <Override PartName="/ppt/media/image21.wmf" ContentType="image/x-wmf"/>
  <Override PartName="/ppt/media/image1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4A4-7093-402B-AF29-4BA06091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76E-D9C9-4101-97B5-8F291E5D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DF1-4F5D-4D67-88EE-DDD6C770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352-EF72-41AB-8CB4-6340CF56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879-51FE-4C6C-9C40-108B22B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082-188D-4BA2-8CB4-7EBF00E9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D14-1883-415A-BD71-CDF231F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D7A-92E8-4BD4-9AFE-43DBC4BD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7C5-1DFA-452F-A803-07D41990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C72-F3C4-4668-A399-BAD0AB5F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E37-DB51-458C-A788-E880DAEC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C47-F31B-4117-8761-11A99DA1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9677-BAB5-4F15-9F94-9007696B5F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tanais.info/art/en/taxonomy/term/171?page=317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Александр Сергеевич Пушкин"/>
          <p:cNvPicPr/>
          <p:nvPr/>
        </p:nvPicPr>
        <p:blipFill>
          <a:blip r:embed="rId3"/>
          <a:stretch/>
        </p:blipFill>
        <p:spPr>
          <a:xfrm>
            <a:off x="2556000" y="988920"/>
            <a:ext cx="3960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88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2700360" y="765000"/>
            <a:ext cx="3959280" cy="583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5"/>
          <a:stretch/>
        </p:blipFill>
        <p:spPr>
          <a:xfrm>
            <a:off x="6443640" y="3141720"/>
            <a:ext cx="25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79280" y="1535040"/>
            <a:ext cx="4283280" cy="352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1908000" y="4076640"/>
            <a:ext cx="3908520" cy="2621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5423040" y="1743120"/>
            <a:ext cx="3755880" cy="357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>
            <a:off x="4859280" y="1535040"/>
            <a:ext cx="28656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8928000" cy="580536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1" descr=""/>
          <p:cNvPicPr/>
          <p:nvPr/>
        </p:nvPicPr>
        <p:blipFill>
          <a:blip r:embed="rId3"/>
          <a:stretch/>
        </p:blipFill>
        <p:spPr>
          <a:xfrm>
            <a:off x="450720" y="60480"/>
            <a:ext cx="824256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9298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43912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390600" y="133200"/>
            <a:ext cx="8454960" cy="92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vestnik.com/issues/2004/0623/images/orlova_ee_kern.jpg"/>
          <p:cNvPicPr/>
          <p:nvPr/>
        </p:nvPicPr>
        <p:blipFill>
          <a:blip r:embed="rId3"/>
          <a:stretch/>
        </p:blipFill>
        <p:spPr>
          <a:xfrm>
            <a:off x="2556000" y="1341360"/>
            <a:ext cx="4176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889440" cy="482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108000" y="126828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1255680" y="30240"/>
            <a:ext cx="7437600" cy="884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18960" y="5373360"/>
            <a:ext cx="7924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АННА АЛЕКСЕЕВНА АНДРО-ОЛЕНИНА, ГРАФИНЯ ЛАНЖЕНР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2805120" y="836640"/>
            <a:ext cx="3384720" cy="453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08000" y="125280"/>
            <a:ext cx="10540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www.tanais.info/aivazovsky/aivazovsky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11280" y="954000"/>
            <a:ext cx="460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15:22Z</dcterms:created>
  <dc:creator>Ludmila</dc:creator>
  <dc:description/>
  <dc:language>en-US</dc:language>
  <cp:lastModifiedBy>Admin</cp:lastModifiedBy>
  <dcterms:modified xsi:type="dcterms:W3CDTF">2012-12-18T09:55:32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3000000000001024140</vt:lpwstr>
  </property>
</Properties>
</file>