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74BD-52F8-42D6-BF1E-C42D755797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B0A7-0EB3-4815-BE4A-EF392D871D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6BC-3936-4D9F-82EB-3C3E4306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B5B-22CE-4CD7-BF9E-2A19B707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B29-4971-4B92-A7C4-7EFCA943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E18-2591-46A0-94F5-DC2E14D1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9D29-0ED6-45C1-8DDE-397E4589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73DF-EC4E-415B-ABCF-9B5370AE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F675-C3FD-4DE9-93FA-D73DEA60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336E-7FA7-4E19-A564-EC1C3F51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5CA0-2305-4D6B-BE84-6BE86BC0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EE33-5ABB-44A6-B82C-6E55B8D7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C09A-4E3D-4FA0-B04D-3B879D0E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905-3C40-42C0-9EE0-FB3B6BCA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427D-82C8-4F7C-9AED-B6703D9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01D2-DB9A-45CA-AD6A-0525B918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52E5-FBF6-48EF-BFDC-19642260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484D-321D-4C91-A72E-5C57E7DF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98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08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98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08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26E4-14B4-48A5-8266-2DFA8952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C80-0380-414F-BC78-2B1662B9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66F-BC6C-4D21-A9F9-FD374D28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C1F-7F70-42C7-BFA3-5D5153E1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74320"/>
            <a:ext cx="78487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09B-E7BA-444E-8FEC-031AABCE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006-8C94-406B-BD07-1F63AF1C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494-A2F5-4EA1-9D1D-D08DD0E8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CBE-33D3-41BC-8D99-CB0AB0E6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099F-64F7-4846-BC31-34D9CEB57E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536120" indent="-219240">
              <a:spcBef>
                <a:spcPts val="2100"/>
              </a:spcBef>
              <a:buClr>
                <a:srgbClr val="000000"/>
              </a:buClr>
              <a:buFont typeface="Garamond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1974960" indent="-219240">
              <a:spcBef>
                <a:spcPts val="21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1974960" indent="-219240">
              <a:spcBef>
                <a:spcPts val="21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4D97-AD5A-4AC1-A47C-EABFC00C7C7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3" descr=""/>
          <p:cNvPicPr/>
          <p:nvPr/>
        </p:nvPicPr>
        <p:blipFill>
          <a:blip r:embed="rId2"/>
          <a:stretch/>
        </p:blipFill>
        <p:spPr>
          <a:xfrm>
            <a:off x="2371680" y="884160"/>
            <a:ext cx="4711680" cy="121932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4" descr=""/>
          <p:cNvPicPr/>
          <p:nvPr/>
        </p:nvPicPr>
        <p:blipFill>
          <a:blip r:embed="rId3"/>
          <a:stretch/>
        </p:blipFill>
        <p:spPr>
          <a:xfrm>
            <a:off x="1901880" y="2206800"/>
            <a:ext cx="536400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5" descr=""/>
          <p:cNvPicPr/>
          <p:nvPr/>
        </p:nvPicPr>
        <p:blipFill>
          <a:blip r:embed="rId4"/>
          <a:stretch/>
        </p:blipFill>
        <p:spPr>
          <a:xfrm>
            <a:off x="1292400" y="2889360"/>
            <a:ext cx="6870600" cy="6094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" descr=""/>
          <p:cNvPicPr/>
          <p:nvPr/>
        </p:nvPicPr>
        <p:blipFill>
          <a:blip r:embed="rId5"/>
          <a:stretch/>
        </p:blipFill>
        <p:spPr>
          <a:xfrm>
            <a:off x="1444680" y="4511520"/>
            <a:ext cx="7291440" cy="895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14" descr="1326186444_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33520" y="1143000"/>
            <a:ext cx="830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Загадочные пирам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ирамиды  это огромные гробницы древние египтяне сооружали их для того, чтобы возвеличить своих фараонов в Египте существует около 90 пирамид некоторые из них настолько впечатляющи, что привлекают путешественников вс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762120" y="1905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ирамиды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это огромные гробниц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Древние египтяне сооружали их для того, чтобы возвеличить своих фараонов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Египте существует около 90 пирамид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Некоторые из них настолько впечатляющи, что привлекают путешественников всего мир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4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12972095589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0a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160" y="11426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Большая пирамида Хеопс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Самая известная среди египетских пирамид Большая пирамида Хеопса  построена она четыре с половиной тысячи лет назад как и другие пирамиды она была возведена на западном берегу Нила на её строительство ушло 20 лет  высота пирамиды – 147 метров внутри находится погребальная камера фараона размером с небольшой дом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609480" y="175248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амая известная среди египетских пирамид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Большая пирамида Хеопс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Построена она четыре с половиной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тысячи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лет назад. Как и другие пирамид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на была возведена на западном берегу Нил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На её строительство ушло 20 л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ысота пирамиды – 147 метров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нутри находится погребальная камера фараона размером с небольшой дом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4" descr="0_46138_b19617hbvgnbvc15_X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4836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520" y="1447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                     </a:t>
            </a:r>
            <a:r>
              <a:rPr b="1" i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Сколько сокровищ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  <a:ea typeface="Arial"/>
              </a:rPr>
              <a:t>Когда фараон умирал, его тело мумифицировали и помещали в погребальную камеру  туда же укладывали вещи, которые могли понадобиться фараону в потустороннем мире в погребальных покоях хранились оружие одежда драгоценности статуи мебель и даже ванн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838080" y="205740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Когда фараон умирал, его тело мумифицировали и помещали в погребальную камеру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Туда же  укладывали вещи, которые могли понадобиться фараону в потустороннем мир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погребальных покоях хранились оружи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деж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драгоценност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тату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мебель и даже ванн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8" descr="egyptian_tom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В поисках смысловой законченност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685800" y="914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Это интерес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Фараона хоронили в комнате, расположенной точно под вершиной пирамиды внизу сооружались каменные двери и лжекоридоры все эти хитрости должны были ввести в заблуждение воров, пришедших за сокровищами фараона однако все известные нам гробницы были ограбл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685800" y="1676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Фараона хоронили в комнате, расположенной точно под вершиной пирамид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низу сооружались каменные двери и лжекоридор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се эти хитрости должны были ввести в заблуждение воров, пришедших за сокровищами фараон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Однако все известные нам гробницы были ограблены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Содержимое 3" descr="2d9aecf89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1066680" y="1676520"/>
            <a:ext cx="73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Река Н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Нил – самая длинная река в мире. Его истоки находятся в Центральной Африке. А впадает Нил в Средиземное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ая часть египтян живет на берегах Нила: из него они берут воду для питья, стирки и орошения полей. В прошлом из-за сезонных дождей Нил каждый год выходил их берегов. Когда он возвращался в своё русло, вода оставляла за собой превосходную почву для сельского хозя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066680" y="2362320"/>
            <a:ext cx="746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амая длинна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ека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мире. Ег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истоки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ходятся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Центральной  Африке. 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пада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 Средиземное мо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ая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часть египтя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иве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на берегах Нила: из нег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ни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еру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оду для питья, стирки и орошения полей. В прошлом из-за сезонных дождей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каждый год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ходил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х берегов. Когд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звращалс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 своё русло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од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ставляла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за собой превосходную почву для сельского хозя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20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2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ek0rqtxh1ym9a3jw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685800" y="17524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ах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Большую часть территории Египта занимают две обширные и жаркие пустыни – Синайская и Сахара. Сахаре принадлежит много рекордов: это самая большая пустыня и самое жаркое место на Земле. Солнце светит там каждый день, однако ночи в пустыне очень холодные. Самая высокая температура, которую зарегистрировали в сахаре, достигла отметки + 58˚С в т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62120" y="243828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ольшую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часть территории Египта занимают две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бширны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арки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пустыни – Синайская и Сахара. Сахаре принадлежит много рекордов: эт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ольш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устыня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жарко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место на Земле. Солнце светит там </a:t>
            </a:r>
            <a:r>
              <a:rPr b="1" lang="ru-RU" sz="2400" spc="-1" strike="noStrike" u="sng">
                <a:solidFill>
                  <a:srgbClr val="ffe0a3"/>
                </a:solidFill>
                <a:uFillTx/>
                <a:latin typeface="Arial"/>
              </a:rPr>
              <a:t>каждый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день, однако ночи в пустыне очень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холодны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ам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сокая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температура, которую зарегистрировали в сахаре, достигла отметк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+ 58˚С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в т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77612876_4059800_mir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762120" y="1905120"/>
            <a:ext cx="761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Вода, вод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лемя бедуинов научилось выживать в пустыне, в её суровых условиях. Они пасут стада овец и коз, переходя от одного озерца к другому. Иногда песок раскаляется так сильно, что начинает отражать солнечный свет. В результате голубое небо отражается на песке. У путника создаётся впечатление, что там есть вода. Это явление называют мираж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762120" y="2666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Племя бедуинов научилось выживать в пустыне, в её суровых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словиях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Они пасут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тада</a:t>
            </a:r>
            <a:r>
              <a:rPr b="1" lang="ru-RU" sz="2400" spc="-1" strike="noStrike" u="sng">
                <a:solidFill>
                  <a:srgbClr val="ffe0a3"/>
                </a:solidFill>
                <a:uFillTx/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овец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коз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, переходя от одного озерца к другому. Иногда песок раскаляется так сильно, что начинает отражать солнечный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вет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В результате голубое небо отражается н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еск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У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утника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оздаётся впечатление, что там есть вода. Это явление называют мираж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8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5" descr="nastojaschiy_tsar_skorpion_2_serii___the_real_scorpion_king_2002_satrip_816100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848720" cy="11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0a3"/>
                </a:solidFill>
                <a:latin typeface="Arial"/>
                <a:ea typeface="Arial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762120" y="19810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0a3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Жало на кончике хво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корпионы прячутся в расщелинах скал, под камнями или в песке. Слой воска защищает их от жары в пустыне. Охотятся они по ночам, выпрыгивая из своей норы и нападая на насекомых и пауков. Если насекомое мечется, они протыкают их своим жалом, расположенным на кончике хвоста. Скорпион парализует жертву, впрыскивая ей смертельный я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685800" y="2743200"/>
            <a:ext cx="777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Скорпионы прячутся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расщелинах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скал, под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камнями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 или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еск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Слой воска защищает их от жары в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устыне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Охотятся они по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очам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прыгивая из своей норы и нападая на насекомых и пауков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 Если насекомое мечется, они протыкают их своим жалом, расположенным на кончике хвоста. Скорпион парализует жертву,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прыскивая ей смертельный яд</a:t>
            </a:r>
            <a:r>
              <a:rPr b="1" lang="ru-RU" sz="2400" spc="-1" strike="noStrike">
                <a:solidFill>
                  <a:srgbClr val="ffe0a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6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16T12:55:00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e000000000001024140</vt:lpwstr>
  </property>
  <property fmtid="{D5CDD505-2E9C-101B-9397-08002B2CF9AE}" pid="3" name="Version">
    <vt:r8>1</vt:r8>
  </property>
</Properties>
</file>