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E8C-B91B-418D-8178-1976D82E39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7A4-1438-4044-8AF6-BE24E143A8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A44-0DC9-450F-BB53-71A29029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3B1-360F-4BB2-9CF3-46D2C59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45D-DA39-4BBA-9A0C-B66F34D7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BB7-A510-4E9A-918B-82ABCAB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34A-F3B1-4512-A6D7-15F59B30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1962-30A7-46F6-B11E-E01E1D79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DCAB-9DEA-485D-8DA5-66CD4A71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885-3577-4841-AF62-EDA52990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8C16-21C4-4109-A31C-86322DB8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B1E-B2D4-42FD-8EB9-D7C17F7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D89-F0BC-4056-8628-0BC6868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1AC-6333-438A-BC46-65D9D97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9AB-081E-435A-814B-AFBF778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0145-287E-4916-A9A0-CE64EB4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926-044A-4873-9503-731D3AA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1964-CB0E-481B-B46A-948389C2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17B-E34F-4B0D-941F-7CE3C3F5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3A9-07EA-4393-8666-8D26256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16B-A760-4ED5-821B-ECBCE2EE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DA1-EF9C-46BD-8EC5-ED31F20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B89-32A4-4C45-9890-621D2F13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D55-32C6-4310-ABC5-BF58BAB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F86-ED5C-4576-9EB2-220B49D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C26-A65F-48ED-9BD3-05A28A7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5C2-0B92-4264-88AC-CACD8C6810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D756-C2FD-4DDA-991E-5A7DBBA921F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2371680" y="884160"/>
            <a:ext cx="471168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2206800"/>
            <a:ext cx="53640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4"/>
          <a:stretch/>
        </p:blipFill>
        <p:spPr>
          <a:xfrm>
            <a:off x="1292400" y="2889360"/>
            <a:ext cx="687060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5"/>
          <a:stretch/>
        </p:blipFill>
        <p:spPr>
          <a:xfrm>
            <a:off x="1444680" y="4511520"/>
            <a:ext cx="7291440" cy="89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14" descr="1326186444_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3520" y="11430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Загадочные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 это огромные гробницы древние египтяне сооружали их для того, чтобы возвеличить своих фараонов в Египте существует около 90 пирамид некоторые из них настолько впечатляющи, что привлекают путешественников вс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762120" y="1905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это огромные гробниц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Древние египтяне сооружали их для того, чтобы возвеличить своих фараон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Египте существует около 90 пирамид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екоторые из них настолько впечатляющи, что привлекают путешественников всего мир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1297209558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0a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Большая пирамида Хеопс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амая известная среди египетских пирамид Большая пирамида Хеопса  построена она четыре с половиной тысячи лет назад как и другие пирамиды она была возведена на западном берегу Нила на её строительство ушло 20 лет  высота пирамиды – 147 метров внутри находится погребальная камера фараона размером с небольшой д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7524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мая известная среди египетских пирамид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Большая пирамида Хеопс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остроена она четыре с половино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тысячи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лет назад. Как и другие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на была возведена на западном берегу Ни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а её строительство ушло 20 л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ысота пирамиды – 147 метр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утри находится погребальная камера фараона размером с небольшой д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0_46138_b19617hbvgnbvc15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колько сокровищ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Когда фараон умирал, его тело мумифицировали и помещали в погребальную камеру  туда же укладывали вещи, которые могли понадобиться фараону в потустороннем мире в погребальных покоях хранились оружие одежда драгоценности статуи мебель и даже ван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38080" y="20574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Когда фараон умирал, его тело мумифицировали и помещали в погребальную камер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Туда же  укладывали вещи, которые могли понадобиться фараону в потустороннем мир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погребальных покоях хранились оружи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еж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рагоценност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тату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мебель и даже ван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8" descr="egyptian_tom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5800" y="914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 внизу сооружались каменные двери и лжекоридоры все эти хитрости должны были ввести в заблуждение воров, пришедших за сокровищами фараона однако все известные нам гробницы были ограб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85800" y="1676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изу сооружались каменные двери и лжекоридор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се эти хитрости должны были ввести в заблуждение воров, пришедших за сокровищами фарао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нако все известные нам гробницы были ограблен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2d9aecf89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066680" y="16765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Река 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ил – самая длинная река в мире. Его истоки находятся в Центральной Африке. А впадает Нил 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часть египтян живет на берегах Нила: из него они берут воду для питья, стирки и орошения полей. В прошлом из-за сезонных дождей Нил каждый год выходил их берегов. Когда он возвращался в своё русло, вода оставляла 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23623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амая длинн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мире. 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исток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ходятся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Центральной  Африке.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ада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ь египтя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ив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а берегах Нила: из н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ер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у для питья, стирки и орошения полей. В прошлом из-за сезонных дожде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каждый г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ход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х берегов. Когд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звращал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воё русло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тавля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ek0rqtxh1ym9a3j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5800" y="17524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ую часть территории Египта занимают две обширные и жаркие пустыни – Синайская и Сахара. Сахаре принадлежит много рекордов: это самая большая пустыня и самое жаркое место на Земле. Солнце светит там каждый день, однако ночи в пустыне очень холодные. Самая высокая температура, которую зарегистрировали в сахаре, достигла отметки + 58˚С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ую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часть территории Египта занимают дв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бширны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и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устыни – Синайская и Сахара. Сахаре принадлежит много рекордов: эт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устыня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место на Земле. Солнце светит там 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кажды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ень, однако ночи в пустыне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холодн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сок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температура, которую зарегистрировали в сахаре, достигла отмет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+ 58˚С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77612876_4059800_mir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62120" y="1905120"/>
            <a:ext cx="761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а, 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условиях. Они пасут стада овец и коз, переходя от одного озерца к другому. Иногда песок раскаляется так сильно, что начинает отражать солнечный свет. В результате голубое небо отражается на песке. У путника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2666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ловия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ни пасут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ада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вец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оз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переходя от одного озерца к другому. Иногда песок раскаляется так сильно, что начинает отражать солнечны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В результате голубое небо отражается н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тни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8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nastojaschiy_tsar_skorpion_2_serii___the_real_scorpion_king_2002_satrip_816100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62120" y="19810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Жало на кончике хв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расщелинах скал, под камнями или в песке. Слой воска защищает их от жары в пустыне. Охотятся они по ночам, выпрыгивая из своей норы и нападая на насекомых и пауков. Если насекомое мечется, они протыкают их своим жалом, расположенным на кончике хвоста. Скорпион парализует жертву, впрыскивая ей смертельный я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5800" y="27432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щелина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кал, п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амням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ли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Слой воска защищает их от жары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стын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хотятся они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чам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прыгивая из своей норы и нападая на насекомых и пауков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Если насекомое мечется, они протыкают их своим жалом, расположенным на кончике хвоста. Скорпион парализует жертву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рыскивая ей смертельный яд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6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6T12:55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e000000000001024140</vt:lpwstr>
  </property>
  <property fmtid="{D5CDD505-2E9C-101B-9397-08002B2CF9AE}" pid="3" name="Version">
    <vt:r8>1</vt:r8>
  </property>
</Properties>
</file>