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FC9C-431C-4179-9226-76452AAC86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70FF-FA26-4F3C-93CD-2352BEA4B6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6E17-A609-43C2-A735-2A94A9DA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9EF-52CD-4206-AD4A-0BDEB69A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C2C-BA00-44C4-9D23-A94BD38A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A07-08D8-4B93-95DC-3805261E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00F3-FD85-4BDD-96AF-67AF401E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AE9D-5302-4B67-A346-BA9182A4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175D-E999-401E-A885-F1857231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CE54-7094-4E81-86B2-51A95DD2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CFFE-81EA-4CE7-8DD2-317C059F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78A7-3C1E-4E34-8ACC-5BD6EDF7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9B58-107C-4D86-A039-93484EA5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8B2-5343-48F3-B6E8-94FADE7C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19C8-E78B-47A0-B03D-2B1C8F64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40C2-020C-46AF-B89B-DA0BFD45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D0FB-2E51-4179-AA79-7F436318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14E4-899B-4FCD-B637-030CECDE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61E7-221F-4ED9-8E56-7B34E4FE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98D-AEFB-44A9-AA73-E0D0FAB4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984-D6AE-4AFE-A53F-8A556F2F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799-2753-41C8-9E1A-5AC662D0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CD8-C3AF-40C8-98D6-792719EE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6C4-59E8-45F5-9E7C-CEA788FE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C12B-34B3-446D-93FC-498F5F6E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4B5-A5FE-4DC8-A996-23C8F7F1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A07E-BAE7-44E4-8F78-50FB713C3DB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9043-E1DB-4996-8FCB-BC5E01537E3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3" descr=""/>
          <p:cNvPicPr/>
          <p:nvPr/>
        </p:nvPicPr>
        <p:blipFill>
          <a:blip r:embed="rId2"/>
          <a:stretch/>
        </p:blipFill>
        <p:spPr>
          <a:xfrm>
            <a:off x="2371680" y="884160"/>
            <a:ext cx="4711680" cy="12193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3"/>
          <a:stretch/>
        </p:blipFill>
        <p:spPr>
          <a:xfrm>
            <a:off x="1901880" y="2206800"/>
            <a:ext cx="536400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5" descr=""/>
          <p:cNvPicPr/>
          <p:nvPr/>
        </p:nvPicPr>
        <p:blipFill>
          <a:blip r:embed="rId4"/>
          <a:stretch/>
        </p:blipFill>
        <p:spPr>
          <a:xfrm>
            <a:off x="1292400" y="2889360"/>
            <a:ext cx="6870600" cy="6094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" descr=""/>
          <p:cNvPicPr/>
          <p:nvPr/>
        </p:nvPicPr>
        <p:blipFill>
          <a:blip r:embed="rId5"/>
          <a:stretch/>
        </p:blipFill>
        <p:spPr>
          <a:xfrm>
            <a:off x="1444680" y="4511520"/>
            <a:ext cx="7291440" cy="895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14" descr="1326186444_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33520" y="11430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Загадочные пирами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ирамиды  это огромные гробницы древние египтяне сооружали их для того, чтобы возвеличить своих фараонов в Египте существует около 90 пирамид некоторые из них настолько впечатляющи, что привлекают путешественников всего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762120" y="19051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ирамиды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это огромные гробниц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Древние египтяне сооружали их для того, чтобы возвеличить своих фараонов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Египте существует около 90 пирамид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Некоторые из них настолько впечатляющи, что привлекают путешественников всего мир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4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12972095589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0a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160" y="11426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Большая пирамида Хеопс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Самая известная среди египетских пирамид Большая пирамида Хеопса  построена она четыре с половиной тысячи лет назад как и другие пирамиды она была возведена на западном берегу Нила на её строительство ушло 20 лет  высота пирамиды – 147 метров внутри находится погребальная камера фараона размером с небольшой дом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609480" y="17524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амая известная среди египетских пирамид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Большая пирамида Хеопс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Построена она четыре с половиной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тысячи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лет назад. Как и другие пирамид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на была возведена на западном берегу Нил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На её строительство ушло 20 л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ысота пирамиды – 147 метров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нутри находится погребальная камера фараона размером с небольшой до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4" descr="0_46138_b19617hbvgnbvc15_X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1447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Сколько сокровищ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Когда фараон умирал, его тело мумифицировали и помещали в погребальную камеру  туда же укладывали вещи, которые могли понадобиться фараону в потустороннем мире в погребальных покоях хранились оружие одежда драгоценности статуи мебель и даже ванн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838080" y="205740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Когда фараон умирал, его тело мумифицировали и помещали в погребальную камеру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Туда же  укладывали вещи, которые могли понадобиться фараону в потустороннем мир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погребальных покоях хранились оружи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дежд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драгоценност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тату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мебель и даже ванн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8" descr="egyptian_tom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685800" y="914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Это интерес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Фараона хоронили в комнате, расположенной точно под вершиной пирамиды внизу сооружались каменные двери и лжекоридоры все эти хитрости должны были ввести в заблуждение воров, пришедших за сокровищами фараона однако все известные нам гробницы были ограбл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685800" y="16765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Фараона хоронили в комнате, расположенной точно под вершиной пирамид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низу сооружались каменные двери и лжекоридор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се эти хитрости должны были ввести в заблуждение воров, пришедших за сокровищами фараон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днако все известные нам гробницы были ограблен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400"/>
                            </p:stCondLst>
                            <p:childTnLst>
                              <p:par>
                                <p:cTn id="1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3" descr="2d9aecf89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1066680" y="1676520"/>
            <a:ext cx="7315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Река Н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Нил – самая длинная река в мире. Его истоки находятся в Центральной Африке. А впадает Нил в Средиземное м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ая часть египтян живет на берегах Нила: из него они берут воду для питья, стирки и орошения полей. В прошлом из-за сезонных дождей Нил каждый год выходил их берегов. Когда он возвращался в своё русло, вода оставляла за собой превосходную почву для сельского хозя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066680" y="2362320"/>
            <a:ext cx="746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амая длинна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ека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мире. Ег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истоки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аходятся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Центральной  Африке. 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пада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 Средиземное м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а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часть египтян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ив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на берегах Нила: из нег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н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еру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оду для питья, стирки и орошения полей. В прошлом из-за сезонных дождей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каждый год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ход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х берегов. Когд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н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озвращалс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 своё русло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од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ставлял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за собой превосходную почву для сельского хозя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200"/>
                            </p:stCondLst>
                            <p:childTnLst>
                              <p:par>
                                <p:cTn id="1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200"/>
                            </p:stCondLst>
                            <p:childTnLst>
                              <p:par>
                                <p:cTn id="1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ek0rqtxh1ym9a3j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685800" y="17524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аха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ую часть территории Египта занимают две обширные и жаркие пустыни – Синайская и Сахара. Сахаре принадлежит много рекордов: это самая большая пустыня и самое жаркое место на Земле. Солнце светит там каждый день, однако ночи в пустыне очень холодные. Самая высокая температура, которую зарегистрировали в сахаре, достигла отметки + 58˚С в т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62120" y="243828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ольшую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часть территории Египта занимают две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бширны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арки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пустыни – Синайская и Сахара. Сахаре принадлежит много рекордов: эт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ольш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устыня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о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арко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место на Земле. Солнце светит там </a:t>
            </a:r>
            <a:r>
              <a:rPr b="1" lang="ru-RU" sz="2400" spc="-1" strike="noStrike" u="sng">
                <a:solidFill>
                  <a:srgbClr val="ffe0a3"/>
                </a:solidFill>
                <a:uFillTx/>
                <a:latin typeface="Arial"/>
              </a:rPr>
              <a:t>каждый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день, однако ночи в пустыне очень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холодны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сок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температура, которую зарегистрировали в сахаре, достигла отметк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+ 58˚С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т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77612876_4059800_mir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762120" y="1905120"/>
            <a:ext cx="761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ода, вод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лемя бедуинов научилось выживать в пустыне, в её суровых условиях. Они пасут стада овец и коз, переходя от одного озерца к другому. Иногда песок раскаляется так сильно, что начинает отражать солнечный свет. В результате голубое небо отражается на песке. У путника создаётся впечатление, что там есть вода. Это явление называют мираж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62120" y="2666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лемя бедуинов научилось выживать в пустыне, в её суровых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словиях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Они пасут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тада</a:t>
            </a:r>
            <a:r>
              <a:rPr b="1" lang="ru-RU" sz="2400" spc="-1" strike="noStrike" u="sng">
                <a:solidFill>
                  <a:srgbClr val="ffe0a3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вец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коз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, переходя от одного озерца к другому. Иногда песок раскаляется так сильно, что начинает отражать солнечный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вет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В результате голубое небо отражается н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еск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У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утника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оздаётся впечатление, что там есть вода. Это явление называют мираж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800"/>
                            </p:stCondLst>
                            <p:childTnLst>
                              <p:par>
                                <p:cTn id="2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5" descr="nastojaschiy_tsar_skorpion_2_serii___the_real_scorpion_king_2002_satrip_816100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762120" y="198108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Жало на кончике хво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корпионы прячутся в расщелинах скал, под камнями или в песке. Слой воска защищает их от жары в пустыне. Охотятся они по ночам, выпрыгивая из своей норы и нападая на насекомых и пауков. Если насекомое мечется, они протыкают их своим жалом, расположенным на кончике хвоста. Скорпион парализует жертву, впрыскивая ей смертельный я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685800" y="274320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корпионы прячутся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асщелинах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кал, под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камнями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ли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еск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Слой воска защищает их от жары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устын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Охотятся они п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очам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прыгивая из своей норы и нападая на насекомых и пауков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Если насекомое мечется, они протыкают их своим жалом, расположенным на кончике хвоста. Скорпион парализует жертву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прыскивая ей смертельный яд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600"/>
                            </p:stCondLst>
                            <p:childTnLst>
                              <p:par>
                                <p:cTn id="2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6T12:55:00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0e000000000001024140</vt:lpwstr>
  </property>
  <property fmtid="{D5CDD505-2E9C-101B-9397-08002B2CF9AE}" pid="3" name="Version">
    <vt:r8>1</vt:r8>
  </property>
</Properties>
</file>