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7124-FA3D-4772-B7D3-C7CAC87DC5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47D5-B436-4960-BAFC-A8CAFBB55A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557-E192-495A-8BB9-E99B1FAA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BCE-FD7C-4F7E-8CD6-DD621B03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066-F7B2-4CA8-B5C9-A66F180E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262-B26C-4F98-A886-37529D5E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36ED-F979-4A09-AD83-263DF485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CCD7-6B34-4CE1-914B-446552FE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C07F-BA6F-474E-A42F-0BC01C77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9C1E-ACA2-4B25-8E7B-0F96FC80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6725-6CAB-42D0-ACB7-1E2721A6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5DF1-2987-456D-AFE5-437518BD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AD66-F685-49C2-A02B-DCD6FD7A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22D-E652-411E-9E62-4EA416A8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FE20-7340-46B2-8BF4-0E9D34D5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3355-9739-4195-8964-64949E90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76BC-487F-4B1D-AB4A-040E969F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3334-B161-469B-A31F-A201AA94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51AA-D8CF-4E6E-AAE0-1F8D8D43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7A4-2624-4C94-813E-442C6B19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01D-3052-476F-83C1-7A54A9BD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0D1-CAA4-42B0-A4B3-2B455E74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E48-9FB4-4AA9-8DC1-38A95E0A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657-BDD0-43F8-917B-7E5BC063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68B-6E2C-4F5A-A7FB-CC63921A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1B4-B721-4019-9B4B-30157B2A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3B61-642D-4D49-9C88-8CCF31CA92E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2043-7D3B-4B45-BE1E-51D974C8C78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3" descr=""/>
          <p:cNvPicPr/>
          <p:nvPr/>
        </p:nvPicPr>
        <p:blipFill>
          <a:blip r:embed="rId2"/>
          <a:stretch/>
        </p:blipFill>
        <p:spPr>
          <a:xfrm>
            <a:off x="2371680" y="884160"/>
            <a:ext cx="4711680" cy="12193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3"/>
          <a:stretch/>
        </p:blipFill>
        <p:spPr>
          <a:xfrm>
            <a:off x="1901880" y="2206800"/>
            <a:ext cx="536400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5" descr=""/>
          <p:cNvPicPr/>
          <p:nvPr/>
        </p:nvPicPr>
        <p:blipFill>
          <a:blip r:embed="rId4"/>
          <a:stretch/>
        </p:blipFill>
        <p:spPr>
          <a:xfrm>
            <a:off x="1292400" y="2889360"/>
            <a:ext cx="6870600" cy="6094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" descr=""/>
          <p:cNvPicPr/>
          <p:nvPr/>
        </p:nvPicPr>
        <p:blipFill>
          <a:blip r:embed="rId5"/>
          <a:stretch/>
        </p:blipFill>
        <p:spPr>
          <a:xfrm>
            <a:off x="1444680" y="4511520"/>
            <a:ext cx="7291440" cy="895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14" descr="1326186444_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33520" y="11430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Загадочные пирам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ирамиды  это огромные гробницы древние египтяне сооружали их для того, чтобы возвеличить своих фараонов в Египте существует около 90 пирамид некоторые из них настолько впечатляющи, что привлекают путешественников все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762120" y="19051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ирамиды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это огромные гробниц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Древние египтяне сооружали их для того, чтобы возвеличить своих фараонов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Египте существует около 90 пирамид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Некоторые из них настолько впечатляющи, что привлекают путешественников всего мир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4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12972095589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0a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160" y="11426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Большая пирамида Хеопс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Самая известная среди египетских пирамид Большая пирамида Хеопса  построена она четыре с половиной тысячи лет назад как и другие пирамиды она была возведена на западном берегу Нила на её строительство ушло 20 лет  высота пирамиды – 147 метров внутри находится погребальная камера фараона размером с небольшой дом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609480" y="17524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амая известная среди египетских пирамид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Большая пирамида Хеопс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Построена она четыре с половиной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тысячи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лет назад. Как и другие пирамид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на была возведена на западном берегу Нил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На её строительство ушло 20 л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ысота пирамиды – 147 метров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нутри находится погребальная камера фараона размером с небольшой до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4" descr="0_46138_b19617hbvgnbvc15_X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1447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Сколько сокровищ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Когда фараон умирал, его тело мумифицировали и помещали в погребальную камеру  туда же укладывали вещи, которые могли понадобиться фараону в потустороннем мире в погребальных покоях хранились оружие одежда драгоценности статуи мебель и даже ванн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838080" y="205740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Когда фараон умирал, его тело мумифицировали и помещали в погребальную камеру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Туда же  укладывали вещи, которые могли понадобиться фараону в потустороннем мир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погребальных покоях хранились оружи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деж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драгоценност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тату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мебель и даже ванн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8" descr="egyptian_tom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685800" y="914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Это интерес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Фараона хоронили в комнате, расположенной точно под вершиной пирамиды внизу сооружались каменные двери и лжекоридоры все эти хитрости должны были ввести в заблуждение воров, пришедших за сокровищами фараона однако все известные нам гробницы были ограбл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685800" y="1676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Фараона хоронили в комнате, расположенной точно под вершиной пирамид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низу сооружались каменные двери и лжекоридор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се эти хитрости должны были ввести в заблуждение воров, пришедших за сокровищами фараон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днако все известные нам гробницы были ограблен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400"/>
                            </p:stCondLst>
                            <p:childTnLst>
                              <p:par>
                                <p:cTn id="1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2d9aecf89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1066680" y="1676520"/>
            <a:ext cx="731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Река Н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Нил – самая длинная река в мире. Его истоки находятся в Центральной Африке. А впадает Нил в Средиземное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ая часть египтян живет на берегах Нила: из него они берут воду для питья, стирки и орошения полей. В прошлом из-за сезонных дождей Нил каждый год выходил их берегов. Когда он возвращался в своё русло, вода оставляла за собой превосходную почву для сельского хозя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066680" y="2362320"/>
            <a:ext cx="746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амая длинна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ека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мире. Ег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истоки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ходятся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Центральной  Африке. 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пада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 Средиземное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а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часть египтян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ив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на берегах Нила: из нег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н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еру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оду для питья, стирки и орошения полей. В прошлом из-за сезонных дождей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каждый год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ход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х берегов. Когд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н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озвращалс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 своё русло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о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ставлял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за собой превосходную почву для сельского хозя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200"/>
                            </p:stCondLst>
                            <p:childTnLst>
                              <p:par>
                                <p:cTn id="1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20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ek0rqtxh1ym9a3j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685800" y="17524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аха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ую часть территории Египта занимают две обширные и жаркие пустыни – Синайская и Сахара. Сахаре принадлежит много рекордов: это самая большая пустыня и самое жаркое место на Земле. Солнце светит там каждый день, однако ночи в пустыне очень холодные. Самая высокая температура, которую зарегистрировали в сахаре, достигла отметки + 58˚С в т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62120" y="243828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ольшую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часть территории Египта занимают две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бширны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арки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пустыни – Синайская и Сахара. Сахаре принадлежит много рекордов: эт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ольш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устыня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арк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место на Земле. Солнце светит там </a:t>
            </a:r>
            <a:r>
              <a:rPr b="1" lang="ru-RU" sz="2400" spc="-1" strike="noStrike" u="sng">
                <a:solidFill>
                  <a:srgbClr val="ffe0a3"/>
                </a:solidFill>
                <a:uFillTx/>
                <a:latin typeface="Arial"/>
              </a:rPr>
              <a:t>каждый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день, однако ночи в пустыне очень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холодны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сок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температура, которую зарегистрировали в сахаре, достигла отметк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+ 58˚С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т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77612876_4059800_mir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762120" y="1905120"/>
            <a:ext cx="761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ода, во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лемя бедуинов научилось выживать в пустыне, в её суровых условиях. Они пасут стада овец и коз, переходя от одного озерца к другому. Иногда песок раскаляется так сильно, что начинает отражать солнечный свет. В результате голубое небо отражается на песке. У путника создаётся впечатление, что там есть вода. Это явление называют мираж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62120" y="2666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лемя бедуинов научилось выживать в пустыне, в её суровых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словиях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Они пасут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тада</a:t>
            </a:r>
            <a:r>
              <a:rPr b="1" lang="ru-RU" sz="2400" spc="-1" strike="noStrike" u="sng">
                <a:solidFill>
                  <a:srgbClr val="ffe0a3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вец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коз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, переходя от одного озерца к другому. Иногда песок раскаляется так сильно, что начинает отражать солнечный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вет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В результате голубое небо отражается н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еск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У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утника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оздаётся впечатление, что там есть вода. Это явление называют мираж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80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5" descr="nastojaschiy_tsar_skorpion_2_serii___the_real_scorpion_king_2002_satrip_816100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762120" y="19810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Жало на кончике хво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корпионы прячутся в расщелинах скал, под камнями или в песке. Слой воска защищает их от жары в пустыне. Охотятся они по ночам, выпрыгивая из своей норы и нападая на насекомых и пауков. Если насекомое мечется, они протыкают их своим жалом, расположенным на кончике хвоста. Скорпион парализует жертву, впрыскивая ей смертельный я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685800" y="274320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корпионы прячутся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асщелинах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кал, под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камнями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ли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еск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Слой воска защищает их от жары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устын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Охотятся они п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очам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прыгивая из своей норы и нападая на насекомых и пауков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Если насекомое мечется, они протыкают их своим жалом, расположенным на кончике хвоста. Скорпион парализует жертву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прыскивая ей смертельный яд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60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6T12:55:0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e000000000001024140</vt:lpwstr>
  </property>
  <property fmtid="{D5CDD505-2E9C-101B-9397-08002B2CF9AE}" pid="3" name="Version">
    <vt:r8>1</vt:r8>
  </property>
</Properties>
</file>