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1BDB-99A3-4B6F-8861-946F601C05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E2C-68E5-4CEA-80D3-4A6B86524C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47C-F349-4887-A06B-3ED02A9F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578-F3D6-4277-963F-0E69965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1AE-92CC-4963-87D4-3E5091A0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190-789E-4FA0-ACD3-C1FB4276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0B1C-4105-427D-AE7D-F2641DF8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DC04-A7D2-4E6D-B88E-FA776A80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B892-C649-41B3-B27B-E878986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4896-5D81-4C31-AF14-9B28332B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B2DC-7CC2-4AFF-8ABF-0A547D26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6DEF-E694-4973-9D26-E9AC66D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ED42-CCD7-4FF7-9943-4193121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42C-8058-4F95-98C1-21D3DB4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A0C0-6318-416A-8EF6-DB85DE5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DC77-EF12-4B4F-B4B8-30627A0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5E41-D274-4BCB-86E0-4F557457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48E2-8615-4220-8FD3-8B49E541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9752-72CB-4F1C-AC27-39CE3514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60B9-7372-41DC-951A-94371537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816-6F33-4F9F-8E98-EDF86B23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91B-8021-4854-8DCD-2298ECF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328-195A-4360-8580-6164C2A8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670-8F9F-4ADA-9B89-578FBEFB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125-3767-4869-A056-8BB2A3F7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F2AB-DF78-4ABB-96BE-7CC7B283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248-DE27-411A-ADCF-7150BDBD21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B2CE-5D1D-4D4D-95A7-BCA30470C0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2371680" y="884160"/>
            <a:ext cx="471168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901880" y="2206800"/>
            <a:ext cx="536400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4"/>
          <a:stretch/>
        </p:blipFill>
        <p:spPr>
          <a:xfrm>
            <a:off x="1292400" y="2889360"/>
            <a:ext cx="687060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5"/>
          <a:stretch/>
        </p:blipFill>
        <p:spPr>
          <a:xfrm>
            <a:off x="1444680" y="4511520"/>
            <a:ext cx="7291440" cy="895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14" descr="1326186444_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3520" y="11430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Загадочные 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 это огромные гробницы древние египтяне сооружали их для того, чтобы возвеличить своих фараонов в Египте существует около 90 пирамид некоторые из них настолько впечатляющи, что привлекают путешественников вс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762120" y="1905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это огромные гробниц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Древние египтяне сооружали их для того, чтобы возвеличить своих фараон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Египте существует около 90 пирамид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екоторые из них настолько впечатляющи, что привлекают путешественников всего мир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4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1297209558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0a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142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Большая пирамида Хеопс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амая известная среди египетских пирамид Большая пирамида Хеопса  построена она четыре с половиной тысячи лет назад как и другие пирамиды она была возведена на западном берегу Нила на её строительство ушло 20 лет  высота пирамиды – 147 метров внутри находится погребальная камера фараона размером с небольшой д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09480" y="17524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мая известная среди египетских пирамид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Большая пирамида Хеопс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остроена она четыре с половино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тысячи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лет назад. Как и другие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на была возведена на западном берегу Ни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а её строительство ушло 20 л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ысота пирамиды – 147 метр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утри находится погребальная камера фараона размером с небольшой д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0_46138_b19617hbvgnbvc15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колько сокровищ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Когда фараон умирал, его тело мумифицировали и помещали в погребальную камеру  туда же укладывали вещи, которые могли понадобиться фараону в потустороннем мире в погребальных покоях хранились оружие одежда драгоценности статуи мебель и даже ван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838080" y="20574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Когда фараон умирал, его тело мумифицировали и помещали в погребальную камер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Туда же  укладывали вещи, которые могли понадобиться фараону в потустороннем мир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погребальных покоях хранились оружи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еж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рагоценност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тату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мебель и даже ван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8" descr="egyptian_tom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5800" y="914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Это интерес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 внизу сооружались каменные двери и лжекоридоры все эти хитрости должны были ввести в заблуждение воров, пришедших за сокровищами фараона однако все известные нам гробницы были ограб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85800" y="1676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изу сооружались каменные двери и лжекоридор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се эти хитрости должны были ввести в заблуждение воров, пришедших за сокровищами фарао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нако все известные нам гробницы были ограблен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2d9aecf89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066680" y="167652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Река 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ил – самая длинная река в мире. Его истоки находятся в Центральной Африке. А впадает Нил 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часть египтян живет на берегах Нила: из него они берут воду для питья, стирки и орошения полей. В прошлом из-за сезонных дождей Нил каждый год выходил их берегов. Когда он возвращался в своё русло, вода оставляла 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236232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амая длинн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е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мире. 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исток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ходятся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Центральной  Африке.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ада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ь египтя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ив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а берегах Нила: из н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ер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у для питья, стирки и орошения полей. В прошлом из-за сезонных дожде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каждый г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ход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х берегов. Когд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звращал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воё русло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ставля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2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ek0rqtxh1ym9a3j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85800" y="17524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ую часть территории Египта занимают две обширные и жаркие пустыни – Синайская и Сахара. Сахаре принадлежит много рекордов: это самая большая пустыня и самое жаркое место на Земле. Солнце светит там каждый день, однако ночи в пустыне очень холодные. Самая высокая температура, которую зарегистрировали в сахаре, достигла отметки + 58˚С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62120" y="24382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ую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часть территории Египта занимают две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бширны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и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устыни – Синайская и Сахара. Сахаре принадлежит много рекордов: эт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устыня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место на Земле. Солнце светит там 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кажды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ень, однако ночи в пустыне очен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холодн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сок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температура, которую зарегистрировали в сахаре, достигла отмет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+ 58˚С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77612876_4059800_mir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62120" y="1905120"/>
            <a:ext cx="761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а, 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условиях. Они пасут стада овец и коз, переходя от одного озерца к другому. Иногда песок раскаляется так сильно, что начинает отражать солнечный свет. В результате голубое небо отражается на песке. У путника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2666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ловия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ни пасут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ада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вец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оз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переходя от одного озерца к другому. Иногда песок раскаляется так сильно, что начинает отражать солнечны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вет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В результате голубое небо отражается н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тни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8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nastojaschiy_tsar_skorpion_2_serii___the_real_scorpion_king_2002_satrip_816100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62120" y="19810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Жало на кончике хв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расщелинах скал, под камнями или в песке. Слой воска защищает их от жары в пустыне. Охотятся они по ночам, выпрыгивая из своей норы и нападая на насекомых и пауков. Если насекомое мечется, они протыкают их своим жалом, расположенным на кончике хвоста. Скорпион парализует жертву, впрыскивая ей смертельный я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85800" y="27432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асщелина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кал, п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амням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ли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Слой воска защищает их от жары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стын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хотятся они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чам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прыгивая из своей норы и нападая на насекомых и пауков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Если насекомое мечется, они протыкают их своим жалом, расположенным на кончике хвоста. Скорпион парализует жертву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рыскивая ей смертельный яд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6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6T12:55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e000000000001024140</vt:lpwstr>
  </property>
  <property fmtid="{D5CDD505-2E9C-101B-9397-08002B2CF9AE}" pid="3" name="Version">
    <vt:r8>1</vt:r8>
  </property>
</Properties>
</file>