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B16-FB76-4F83-86E7-D826CF4E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938-B035-46C9-8A76-4F597054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9F7-3845-4034-A7DC-2ADE2006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167-96C7-4D4A-A169-E98D3026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3F0-7342-44E4-AC1E-1FC11714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6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82B-BA86-4298-8677-422CC7F7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ABD-28CB-42C9-ADD8-4F2096F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6C6-E5EC-4310-8074-C2D5FCB2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707-6F3A-4D74-9EAE-D8D2AA2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CD1-4257-472B-8708-1A5590C2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89A-8512-45C4-A82E-FDCE131E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B8A-83DA-4DC1-9821-44368CAD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6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5932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4080"/>
            <a:ext cx="84628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6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7636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CA902-470D-44B1-AB21-D6A48AA08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79640" y="133200"/>
            <a:ext cx="8477280" cy="65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192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поисках смысла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каждом параграфе, в каждом рассказе,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В сказке и в песне, даже во фразе-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ы только вдумайся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олько всмотрись-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Кроется самая главная мысль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82720" y="835200"/>
            <a:ext cx="847728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Тропа бежит с пригорка на пригорок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Радуюсь звезде на небосклоне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Открыли памятник в саду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63640" y="493560"/>
            <a:ext cx="8477280" cy="6707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мазные россыпи рос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тящие вдаль обла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аинственный шелест берёз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ого солнца зака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ящество слов не хватае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асу описать твою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одную природу Алтая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лтайскую землю мо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63640" y="493560"/>
            <a:ext cx="8477280" cy="67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мазные россыпи ро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етящие вдаль облак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аинственный шелест берё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ого солнца зака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зящество слов не хват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расу описать твою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дную природу кра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04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юбимую землю мо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08000" y="421920"/>
            <a:ext cx="8477280" cy="6489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олдень в берёзовой роще пок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ей в лучах серебри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ую ветку поглажу рук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теплом поделить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Двусоста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Односоставное, без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11080" y="431640"/>
            <a:ext cx="84772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арослях малины заблужусь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потом отправлюсь к тихой речк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 в ветвях черёмух наизу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ловей плетёт любви колечки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Односоставное, опред.-лич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Двусостав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36720" y="502920"/>
            <a:ext cx="847728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лнышко лучисто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ий ветерок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чка серебриста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ыль степных дор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Односоставное, назыв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91640" y="431640"/>
            <a:ext cx="90694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Сегодня на уроке мне удалось..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Самым интересным для меня было..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1800" y="484200"/>
            <a:ext cx="90694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Работали старательно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Можем работать лучш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3640" y="1584360"/>
            <a:ext cx="2016360" cy="1440"/>
          </a:xfrm>
          <a:prstGeom prst="line">
            <a:avLst/>
          </a:prstGeom>
          <a:ln w="360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88360" y="4319640"/>
            <a:ext cx="1944720" cy="1440"/>
          </a:xfrm>
          <a:prstGeom prst="line">
            <a:avLst/>
          </a:prstGeom>
          <a:ln w="360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6:45:25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cp:lastPrinted>2011-11-20T14:19:14Z</cp:lastPrinted>
  <cp:revision>1</cp:revision>
  <dc:subject/>
  <dc:title>Предложение страте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03000000000001024140</vt:lpwstr>
  </property>
</Properties>
</file>