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350-0DA8-431A-9CA8-8D099305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D4A-58F6-4648-A161-D0A1D818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A39-DF57-4283-9C25-90F7E163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5AC-D571-42F7-BC51-90379574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DBA-DFFC-48DD-A9D9-97016188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6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B26-CA33-4FCA-8654-D629B0BC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534-AE13-42FA-A462-00F12B37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47E-5BA5-4287-A0D8-1691B50C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633-F126-4950-B51E-17693736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CD8-E2EA-4739-A3F7-CC9DC619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949-BF29-4DB3-8BF2-CB49A1E0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EB1-C7FF-4154-A6C3-1C295A4B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6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4080"/>
            <a:ext cx="84628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7636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BDE02-480F-4439-A51C-1A835A177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79640" y="133200"/>
            <a:ext cx="8477280" cy="65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192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поисках смысла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каждом параграфе, в каждом рассказе,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сказке и в песне, даже во фразе-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ы только вдумайся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олько всмотрись-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Кроется самая главная мысль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82720" y="835200"/>
            <a:ext cx="847728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ропа бежит с пригорка на пригорок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Радуюсь звезде на небосклоне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Открыли памятник в саду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63640" y="493560"/>
            <a:ext cx="8477280" cy="6707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мазные россыпи рос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тящие вдаль обла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инственный шелест берёз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ого солнца зака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ящество слов не хватае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асу описать твою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одную природу Алтая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тайскую землю мо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63640" y="493560"/>
            <a:ext cx="8477280" cy="67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мазные россыпи ро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етящие вдаль облак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аинственный шелест берё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ого солнца зака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зящество слов не хват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расу описать твою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дную природу кра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юбимую землю мо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08000" y="421920"/>
            <a:ext cx="84772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олдень в берёзовой роще пок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ей в лучах серебри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ую ветку поглажу рук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теплом поделить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вусоста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Односоставное, без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11080" y="431640"/>
            <a:ext cx="84772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арослях малины заблужус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потом отправлюсь к тихой речк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 в ветвях черёмух наизу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ловей плетёт любви колечки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вусостав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36720" y="502920"/>
            <a:ext cx="847728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лнышко лучисто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ий ветер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чка серебрист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ыль степных дор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91640" y="431640"/>
            <a:ext cx="90694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Сегодня на уроке мне удалось..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Самым интересным для меня было..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1800" y="484200"/>
            <a:ext cx="90694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Работали старательно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Можем работать лучш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3640" y="1584360"/>
            <a:ext cx="2016360" cy="1440"/>
          </a:xfrm>
          <a:prstGeom prst="line">
            <a:avLst/>
          </a:prstGeom>
          <a:ln w="360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88360" y="4319640"/>
            <a:ext cx="1944720" cy="1440"/>
          </a:xfrm>
          <a:prstGeom prst="line">
            <a:avLst/>
          </a:prstGeom>
          <a:ln w="360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6:45:25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cp:lastPrinted>2011-11-20T14:19:14Z</cp:lastPrinted>
  <cp:revision>1</cp:revision>
  <dc:subject/>
  <dc:title>Предложение страте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03000000000001024140</vt:lpwstr>
  </property>
</Properties>
</file>