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2D2-EF25-48FA-904E-31FF6043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72C-680F-4D95-B1A8-FA5D4E4F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0EA-FE25-4E94-9FE7-BD90903B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ED8-5082-4FA7-A2D0-41B0AC65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2847-92E8-4AC0-9FC7-54170999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2920" y="293760"/>
            <a:ext cx="9056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517-E9E1-4BA6-8558-0EF7DC01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65D-E512-4E2E-AB04-AB49A679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2E0-EDD5-4DDD-BC77-5CA2978A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F0B-B8C4-4FF8-B8CE-925DA2BE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C9D-BC41-4F25-8ACB-5A5A2396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517-50CC-44BD-BAFE-9D7E6DB0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5C6-51C7-44CC-8523-253318D5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2920" y="293760"/>
            <a:ext cx="9056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32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4080"/>
            <a:ext cx="846288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76360" y="6886080"/>
            <a:ext cx="23335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13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38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B25FF-DA50-4391-A200-E724974FDC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79640" y="133200"/>
            <a:ext cx="8477280" cy="65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192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В поисках смысла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В каждом параграфе, в каждом рассказе,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В сказке и в песне, даже во фразе-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Ты только вдумайся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Только всмотрись-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Кроется самая главная мысль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82720" y="835200"/>
            <a:ext cx="8477280" cy="48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Тропа бежит с пригорка на пригорок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Радуюсь звезде на небосклоне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Открыли памятник в саду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63640" y="493560"/>
            <a:ext cx="8477280" cy="6707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лмазные россыпи рос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етящие вдаль обла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аинственный шелест берёз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лого солнца зака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зящество слов не хватае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расу описать твою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одную природу Алтая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лтайскую землю мою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63640" y="493560"/>
            <a:ext cx="8477280" cy="67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Алмазные россыпи рос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етящие вдаль облак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Таинственный шелест берёз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Алого солнца зака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зящество слов не хвата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расу описать твою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одную природу кра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юбимую землю мо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08000" y="421920"/>
            <a:ext cx="847728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олдень в берёзовой роще поко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ей в лучах серебри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ждую ветку поглажу руко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бы теплом поделить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Двусоста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Односоставное, опред.-лич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Односоставное, безлич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11080" y="431640"/>
            <a:ext cx="847728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зарослях малины заблужусь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потом отправлюсь к тихой речк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де в ветвях черёмух наизу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ловей плетёт любви колечки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Односоставное, опред.-лич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Односоставное, опред.-лич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Двусостав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36720" y="502920"/>
            <a:ext cx="847728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лнышко лучисто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хий ветерок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чка серебриста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ыль степных доро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91640" y="431640"/>
            <a:ext cx="906948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Сегодня на уроке мне удалось..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Самым интересным для меня было..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21800" y="484200"/>
            <a:ext cx="9069480" cy="6572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Работали старательно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Можем работать лучше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43640" y="1584360"/>
            <a:ext cx="2016360" cy="1440"/>
          </a:xfrm>
          <a:prstGeom prst="line">
            <a:avLst/>
          </a:prstGeom>
          <a:ln w="360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88360" y="4319640"/>
            <a:ext cx="1944720" cy="1440"/>
          </a:xfrm>
          <a:prstGeom prst="line">
            <a:avLst/>
          </a:prstGeom>
          <a:ln w="360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6:45:25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/>
  <cp:lastPrinted>2011-11-20T14:19:14Z</cp:lastPrinted>
  <cp:revision>1</cp:revision>
  <dc:subject/>
  <dc:title>Предложение страте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03000000000001024140</vt:lpwstr>
  </property>
</Properties>
</file>