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2C7-2F11-48D3-82B0-6C365134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4EB-354A-4F33-B8AD-DC5DA399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783-72AB-4D6A-A499-FC1BF020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27F-029A-4ABD-BF3A-EF498DD1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18C-8CA4-4B38-9463-D52F24F1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179-37EB-4EC3-8254-7EF546D5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956-4740-479F-B7C4-E5BD4EC7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03F-03CC-4239-8C09-CA937618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039-BDFD-4507-87A3-8689339F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D7B-D4BD-4A9C-887C-D9CABCDB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0F8-3F5F-40F5-823F-D209E361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4AE-205B-428B-A166-912D1E91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3930-51C5-4797-BB0A-B26BBD647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7"/>
          <p:cNvSpPr/>
          <p:nvPr/>
        </p:nvSpPr>
        <p:spPr>
          <a:xfrm>
            <a:off x="296712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0087"/>
                </a:solidFill>
                <a:latin typeface="Arial"/>
              </a:rPr>
              <a:t>РУССКИЙ ЯЗЫ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0087"/>
                </a:solidFill>
                <a:latin typeface="Arial"/>
              </a:rPr>
              <a:t>7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042920" y="0"/>
            <a:ext cx="8101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списать текст, вместо точек вставляя подходящий суффикс, выделите его графически и  над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действительным причастием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надписать букву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д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, над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страдательным причастием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 написать – букву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с.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Расставить недостающие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78501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889280"/>
            <a:ext cx="7850160" cy="40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У меня живёт синица  пораз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..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ая меня с первой вст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 мой силок   поставл  ..    ый на поляне  попалась сини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Синичка  недавно прыга ..    ая  пища..    ая  лежала б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движения. В тепле я достал синичку и положил её на ст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застел..       ый скатертью. Каково же было моё уд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огда синичка неожиданно встрепенулась. Она летала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освещ…     ой солнцем комн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1557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17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12120" y="30686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26440" y="213372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51400" y="2421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08840" y="2421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781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050920" y="306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840" y="299736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2480" y="3645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54800" y="400536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3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0440" y="515772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2781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6669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0"/>
            <a:ext cx="705636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907920"/>
            <a:ext cx="448632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род всегда был главным героем его исторических полотен. И в новой задуманной Суриковым картине героями стали солдаты – мужики в военных мундирах, под командою отца - командира Адлександра Суворова, совершающие переход через Альпы и удивляющие своим подвигом  всю Европ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уриков читал письма и документы, неделями рылся в архивах и разыскал наконец  собственноручный рапорт полководца: « На каждом шаге в этом царстве ужаса зияющие пропасти представляли отверстые гробы смерти. Дремучие, мрачные ночи, непрестанно ударяющие громы, льющиеся дожди и густой туман облаков, при шумных водопадах, с каменьями с вершин низвергающихся, увеличивали трепе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удожник читал и видел русских солда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43600" y="981000"/>
            <a:ext cx="4100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376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250200" y="0"/>
            <a:ext cx="8893080" cy="6669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0"/>
            <a:ext cx="648180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907920"/>
            <a:ext cx="439236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ысоко слева- любимый солдатами командир, без шапки, в походном плаще, осаживающий коня на краю пропасти. А через всю картину по диагонали – стремительной лавиной несущееся с кручи русское войско. Бесстрашные,неутомимые, с тяжелыми пушками, русские солдаты готовы ринуться в бездну, вдохновляемые своим полководцем и движимые одним желанием  - п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ить отечест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еднем  плане- коренная фигура солдата, совершающего решительный прыжок. Подгоняемый сверху идущими рядами, он с ужасом смотрит на тучи снежной пыли, клубящейся над пропастью. Рядом с ним бывалый солдат, осеняющий себя крестом. Но не обреченность мы читаем на лицах, а боевой дух и решимость, предвкушение победы над обманутым противником. На наших глазах оживает история, и мы слышим легендарные слова великого полководц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 нами Бог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9402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33360"/>
            <a:ext cx="914400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33360"/>
            <a:ext cx="669780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49320" y="1125360"/>
            <a:ext cx="71517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род всегда был главным героем его исторических полотен. И в новой задуманной Суриковым картине героями стали солдаты – мужики в военных мундирах, под командою отца - командира Адлександра Суворова, совершающие переход через Альпы и удивляющие своим подвигом  всю Европ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уриков читал письма и документы, неделями рылся в архивах и разыскал наконец  собственноручный рапорт полководца: « На каждом шаге в этом царстве ужаса зияющие пропасти представляли отверстые гробы смерти. Дремучие, мрачные ночи, непрестанно ударяющие громы, льющиеся дожди и густой туман облаков, при шумных водопадах, с каменьями с вершин низвергающихся, увеличивали трепет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Художник читал и видел русских солда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ысоко слева- любимый солдатами командир, без шапки, в походном плаще, осаживающий коня на краю пропасти. А через всю картину по диагонали – стремительной лавиной несущееся с кручи русское войско. Бесстрашные, неутомимые, с тяжелыми пушками, русские солдаты готовы ринуться в бездну, вдохновляемые своим полководцем и движимые одним желанием  - п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ить отече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реднем  плане- коренная фигура солдата, совершающего решительный прыжок. Подгоняемый сверху идущими рядами, он с ужасом смотрит на тучи снежной пыли, клубящейся над пропастью. Рядом с ним бывалый солдат, осеняющий себя крестом. Но не обреченность мы читаем на лицах, а боевой дух и решимость, предвкушение победы над обманутым противником. На наших глазах оживает история, и мы слышим легендарные слова великого полководца: «С нами Бог!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rcRect l="0" t="11491" r="0" b="2638"/>
          <a:stretch/>
        </p:blipFill>
        <p:spPr>
          <a:xfrm>
            <a:off x="169236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187280" y="1764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042920" y="981000"/>
            <a:ext cx="727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Бьющие фонтаны; доносящийся шум, предлагающий услуги фотограф; искрящиеся капельки; выкрашенная скамья; негодующие, взъерошенные воробьи; опускающийся на город веч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90160" y="476280"/>
            <a:ext cx="67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инение-миниатюра «В городском сквере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484360" y="253692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468360" y="357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8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0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)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3789360"/>
            <a:ext cx="1224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08640"/>
            <a:ext cx="961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) 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…и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5516640"/>
            <a:ext cx="1008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6381720"/>
            <a:ext cx="86508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6381720"/>
            <a:ext cx="72072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4724280"/>
            <a:ext cx="1079280" cy="31932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-45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: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я в поря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щем схем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404640"/>
            <a:ext cx="7199280" cy="367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981000"/>
            <a:ext cx="7128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есь байкальский берег состоит из обточенных временем камешков. Трое мальчишек сидящих на берегу швыряли в воду камни. У самых ног пенился байкальский прибой дышавший в лицо прохладой сушилась сеть и качалась лодка просмоленная рыбаками. Я подошёл к мальчишкам доверчиво улыбнувшим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29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68360" y="357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0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)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789360"/>
            <a:ext cx="1224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08640"/>
            <a:ext cx="961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) 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…и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516640"/>
            <a:ext cx="1008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6381720"/>
            <a:ext cx="86508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6381720"/>
            <a:ext cx="72072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4724280"/>
            <a:ext cx="1079280" cy="31932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-45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: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я в поря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щем схем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404640"/>
            <a:ext cx="7199280" cy="367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981000"/>
            <a:ext cx="7128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99"/>
                </a:solidFill>
                <a:latin typeface="Comic Sans MS"/>
              </a:rPr>
              <a:t>Весь байкальский берег состоит из обточенных временем камешков. Трое мальчишек, сидящих на берегу, швыряли в воду камни. У самых ног пенился байкальский прибой, дышавший в лицо прохладой, сушилась сеть и качалась лодка, просмоленная рыбаками. Я подошёл к мальчишкам, доверчиво улыбнувшим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896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роить  предложения так, чтобы придаточное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но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замен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стным 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1125360"/>
            <a:ext cx="7486560" cy="554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916280"/>
            <a:ext cx="66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к – это хищник, зверь который не терпит слабых. У меня хранится снимок, который прислали охотники с Кавказа, с изображением белого волка. Волк, который с первобытных времён поселился на грани дикой природы и обиталища человека, не ладит с последним. Капканы, которые человек расставляет для волков, хищники чуют и обходят стороной. Мать, которая принесла волчонку полуживого зайца, даёт сыну первый урок о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0"/>
            <a:ext cx="896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роить  предложения так, чтобы придаточное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но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замен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стным 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1125360"/>
            <a:ext cx="7704000" cy="554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98900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Волк – это хищник, зверь, не терпящий слабых. У меня хранится снимок, присланный охотниками с Кавказа, с изображением белого волка. Волк, с первобытных времён поселившийся на грани дикой природы и обиталища человека, не ладит с последним. Капканы, расставленные человеком  для волков, хищники чуют и обходят стороной. Мать, принесшая  волчонку полуживого зайца, даёт сыну первый урок о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a9fe"/>
                </a:solidFill>
                <a:latin typeface="Arial"/>
              </a:rPr>
              <a:t>Действительные причастия</a:t>
            </a:r>
            <a:r>
              <a:rPr b="0" i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1268280"/>
            <a:ext cx="2232000" cy="1008360"/>
          </a:xfrm>
          <a:prstGeom prst="cloudCallout">
            <a:avLst>
              <a:gd name="adj1" fmla="val -85064"/>
              <a:gd name="adj2" fmla="val 292046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89000"/>
            <a:ext cx="2447640" cy="1295280"/>
          </a:xfrm>
          <a:prstGeom prst="cloudCallout">
            <a:avLst>
              <a:gd name="adj1" fmla="val 1037"/>
              <a:gd name="adj2" fmla="val 398773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268280"/>
            <a:ext cx="2233440" cy="1368720"/>
          </a:xfrm>
          <a:prstGeom prst="cloudCallout">
            <a:avLst>
              <a:gd name="adj1" fmla="val 78217"/>
              <a:gd name="adj2" fmla="val 206148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1080" y="162864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Терпя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0720" y="54936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Поселивши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4160" y="1484280"/>
            <a:ext cx="20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Принесш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4941720"/>
            <a:ext cx="1079640" cy="107964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013360"/>
            <a:ext cx="935280" cy="1008000"/>
          </a:xfrm>
          <a:custGeom>
            <a:avLst/>
            <a:gdLst>
              <a:gd name="textAreaLeft" fmla="*/ 125280 w 935280"/>
              <a:gd name="textAreaRight" fmla="*/ 810000 w 935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24000" y="4292640"/>
            <a:ext cx="561672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a9fe"/>
                </a:solidFill>
                <a:latin typeface="Arial"/>
              </a:rPr>
              <a:t>Страдательные  причастия</a:t>
            </a:r>
            <a:r>
              <a:rPr b="0" i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260280"/>
            <a:ext cx="2519640" cy="1656000"/>
          </a:xfrm>
          <a:prstGeom prst="cloudCallout">
            <a:avLst>
              <a:gd name="adj1" fmla="val -98328"/>
              <a:gd name="adj2" fmla="val 184037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89000"/>
            <a:ext cx="2592360" cy="1655640"/>
          </a:xfrm>
          <a:prstGeom prst="cloudCallout">
            <a:avLst>
              <a:gd name="adj1" fmla="val 85763"/>
              <a:gd name="adj2" fmla="val 188449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2640" y="69840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Прислан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30560" y="69228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Расст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773360"/>
            <a:ext cx="1297080" cy="424800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949320 h 4248000"/>
              <a:gd name="textAreaBottom" fmla="*/ 28990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56" stAng="-5400000" swAng="-5400000"/>
                <a:lnTo>
                  <a:pt x="0" y="9912"/>
                </a:lnTo>
                <a:arcTo wR="21600" hR="9656" stAng="10800000" swAng="-3100656"/>
                <a:lnTo>
                  <a:pt x="14404" y="21048"/>
                </a:lnTo>
                <a:lnTo>
                  <a:pt x="21600" y="19440"/>
                </a:lnTo>
                <a:lnTo>
                  <a:pt x="14404" y="16728"/>
                </a:lnTo>
                <a:lnTo>
                  <a:pt x="14404" y="18760"/>
                </a:lnTo>
                <a:arcTo wR="21600" hR="9656" stAng="7699344" swAng="3080283"/>
                <a:lnTo>
                  <a:pt x="2" y="9784"/>
                </a:lnTo>
                <a:arcTo wR="21600" hR="9656" stAng="-10779627" swAng="5379627"/>
                <a:close/>
              </a:path>
              <a:path fill="darkenLess" w="21600" h="21600">
                <a:moveTo>
                  <a:pt x="21600" y="0"/>
                </a:moveTo>
                <a:arcTo wR="21600" hR="9656" stAng="-5400000" swAng="-5400000"/>
                <a:lnTo>
                  <a:pt x="0" y="9656"/>
                </a:lnTo>
                <a:arcTo wR="21600" hR="9656" stAng="10800000" swAng="-20373"/>
                <a:lnTo>
                  <a:pt x="2" y="9784"/>
                </a:lnTo>
                <a:arcTo wR="21600" hR="9656" stAng="-10779627" swAng="5379627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40720" y="1773360"/>
            <a:ext cx="1224000" cy="424800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949320 h 4248000"/>
              <a:gd name="textAreaBottom" fmla="*/ 28738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3042286"/>
                <a:lnTo>
                  <a:pt x="7421" y="21012"/>
                </a:lnTo>
                <a:lnTo>
                  <a:pt x="0" y="19376"/>
                </a:lnTo>
                <a:lnTo>
                  <a:pt x="7421" y="16564"/>
                </a:lnTo>
                <a:lnTo>
                  <a:pt x="7421" y="18724"/>
                </a:lnTo>
                <a:arcTo wR="21600" hR="9656" stAng="3042286" swAng="-3032100"/>
                <a:lnTo>
                  <a:pt x="21600" y="9720"/>
                </a:lnTo>
                <a:arcTo wR="21600" hR="9656" stAng="-10186" swAng="-5389814"/>
                <a:close/>
              </a:path>
              <a:path fill="darkenLess"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-10186"/>
                <a:lnTo>
                  <a:pt x="21600" y="9720"/>
                </a:lnTo>
                <a:arcTo wR="21600" hR="9656" stAng="-10186" swAng="-5389814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11280" y="1052640"/>
            <a:ext cx="8280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ействительные и   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радательные  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частия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690640" y="1144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Действительные и страдательные причастия</a:t>
            </a:r>
            <a:r>
              <a:rPr b="0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7640" y="476280"/>
          <a:ext cx="6072480" cy="6175440"/>
        </p:xfrm>
        <a:graphic>
          <a:graphicData uri="http://schemas.openxmlformats.org/drawingml/2006/table">
            <a:tbl>
              <a:tblPr/>
              <a:tblGrid>
                <a:gridCol w="2024280"/>
                <a:gridCol w="2023920"/>
                <a:gridCol w="20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ейств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трад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ющ-, -ущ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ащ-, -ящ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ш-,    -вш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Име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ем-, -ом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им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енн-, -ённ-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т-, -и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два </a:t>
                      </a:r>
                      <a:r>
                        <a:rPr b="1" i="1" lang="en-US" sz="1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бразуются от глаго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ейств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трад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  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е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звр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Имеют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лную                                       полную                   и            кратк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В предложении быв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пределением                                 определением     и      сказуем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14036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40360" y="220464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2565360"/>
            <a:ext cx="50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2400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7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24000" y="19159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71640" y="191592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91628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5636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80400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43640" y="19159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08472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04000" y="2636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156360" y="335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32720" y="335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2637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3357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3357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979280" y="58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5805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5805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280" y="638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638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8:03:11Z</dcterms:created>
  <dc:creator>Dmitry</dc:creator>
  <dc:description/>
  <dc:language>en-US</dc:language>
  <cp:lastModifiedBy>Светлана</cp:lastModifiedBy>
  <dcterms:modified xsi:type="dcterms:W3CDTF">2011-07-21T18:35:22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5000000000001024140</vt:lpwstr>
  </property>
</Properties>
</file>