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gif" ContentType="image/gif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A1CC-CA04-4816-815D-AE054D9A6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2F7B-B84A-4DA3-BEDD-335240D4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BF92-F436-4A7D-8D2E-5F5A1EDC9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41EB-7BC0-44BB-B499-9C79FEC71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471E-5EB7-45DF-B529-14890A7E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FAED-0811-4583-848E-05E2EEE68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936E-5B9E-4D91-AF5A-6079E01D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0211-494D-4331-945F-647B1702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244E-FB2C-45F0-BEDC-26DC3D582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5E6D-C9CB-4D99-8288-FD1280F5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F8EF-16A9-421D-AC66-A2FB8491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DA6A-D460-47BC-A69B-AF2202E3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88FD-393F-4675-95E1-B018D2B4F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7"/>
          <p:cNvSpPr/>
          <p:nvPr/>
        </p:nvSpPr>
        <p:spPr>
          <a:xfrm>
            <a:off x="2967120" y="3089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2050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40087"/>
                </a:solidFill>
                <a:latin typeface="Arial"/>
              </a:rPr>
              <a:t>РУССКИЙ ЯЗЫК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40087"/>
                </a:solidFill>
                <a:latin typeface="Arial"/>
              </a:rPr>
              <a:t>7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41400">
            <a:solidFill>
              <a:srgbClr val="993366"/>
            </a:solidFill>
            <a:miter/>
          </a:ln>
        </p:spPr>
      </p:pic>
      <p:sp>
        <p:nvSpPr>
          <p:cNvPr id="150" name=""/>
          <p:cNvSpPr/>
          <p:nvPr/>
        </p:nvSpPr>
        <p:spPr>
          <a:xfrm>
            <a:off x="1042920" y="0"/>
            <a:ext cx="81010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З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а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д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а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н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и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е 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000" spc="-1" strike="noStrike">
                <a:solidFill>
                  <a:srgbClr val="000000"/>
                </a:solidFill>
                <a:latin typeface="Californian FB"/>
              </a:rPr>
              <a:t>списать текст, вместо точек вставляя подходящий суффикс, выделите его графически и  над </a:t>
            </a:r>
            <a:r>
              <a:rPr b="0" lang="uk-UA" sz="2000" spc="-1" strike="noStrike">
                <a:solidFill>
                  <a:srgbClr val="000000"/>
                </a:solidFill>
                <a:latin typeface="Californian FB"/>
              </a:rPr>
              <a:t>действительным причастием </a:t>
            </a:r>
            <a:r>
              <a:rPr b="0" i="1" lang="uk-UA" sz="2000" spc="-1" strike="noStrike">
                <a:solidFill>
                  <a:srgbClr val="000000"/>
                </a:solidFill>
                <a:latin typeface="Californian FB"/>
              </a:rPr>
              <a:t>надписать букву </a:t>
            </a:r>
            <a:r>
              <a:rPr b="0" lang="uk-UA" sz="2000" spc="-1" strike="noStrike">
                <a:solidFill>
                  <a:srgbClr val="000000"/>
                </a:solidFill>
                <a:latin typeface="Californian FB"/>
              </a:rPr>
              <a:t>д</a:t>
            </a:r>
            <a:r>
              <a:rPr b="0" i="1" lang="uk-UA" sz="2000" spc="-1" strike="noStrike">
                <a:solidFill>
                  <a:srgbClr val="000000"/>
                </a:solidFill>
                <a:latin typeface="Californian FB"/>
              </a:rPr>
              <a:t>, над </a:t>
            </a:r>
            <a:r>
              <a:rPr b="0" lang="uk-UA" sz="2000" spc="-1" strike="noStrike">
                <a:solidFill>
                  <a:srgbClr val="000000"/>
                </a:solidFill>
                <a:latin typeface="Californian FB"/>
              </a:rPr>
              <a:t>страдательным причастием</a:t>
            </a:r>
            <a:r>
              <a:rPr b="0" i="1" lang="uk-UA" sz="2000" spc="-1" strike="noStrike">
                <a:solidFill>
                  <a:srgbClr val="000000"/>
                </a:solidFill>
                <a:latin typeface="Californian FB"/>
              </a:rPr>
              <a:t> написать – букву </a:t>
            </a:r>
            <a:r>
              <a:rPr b="0" lang="uk-UA" sz="2000" spc="-1" strike="noStrike">
                <a:solidFill>
                  <a:srgbClr val="000000"/>
                </a:solidFill>
                <a:latin typeface="Californian FB"/>
              </a:rPr>
              <a:t>с. </a:t>
            </a:r>
            <a:r>
              <a:rPr b="0" i="1" lang="uk-UA" sz="2000" spc="-1" strike="noStrike">
                <a:solidFill>
                  <a:srgbClr val="000000"/>
                </a:solidFill>
                <a:latin typeface="Californian FB"/>
              </a:rPr>
              <a:t>Расставить недостающие знаки препи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42920" y="1413000"/>
            <a:ext cx="78501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42920" y="1889280"/>
            <a:ext cx="7850160" cy="405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У меня живёт синица  порази</a:t>
            </a:r>
            <a:r>
              <a:rPr b="1" lang="uk-UA" sz="2000" spc="-1" strike="noStrike">
                <a:solidFill>
                  <a:srgbClr val="000000"/>
                </a:solidFill>
                <a:latin typeface="Comic Sans MS"/>
              </a:rPr>
              <a:t> .. 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ая меня с первой встреч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В мой силок   поставл  ..    ый на поляне  попалась синич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Синичка  недавно прыга ..    ая  пища..    ая  лежала бе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движения. В тепле я достал синичку и положил её на сто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застел..       ый скатертью. Каково же было моё удив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когда синичка неожиданно встрепенулась. Она летала п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освещ…     ой солнцем комна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16360" y="1557360"/>
            <a:ext cx="5731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40087"/>
                </a:solidFill>
                <a:latin typeface="Comic Sans MS"/>
              </a:rPr>
              <a:t>в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5280" y="177336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12120" y="3068640"/>
            <a:ext cx="2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26440" y="2133720"/>
            <a:ext cx="740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40087"/>
                </a:solidFill>
                <a:latin typeface="Comic Sans MS"/>
              </a:rPr>
              <a:t>ен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51400" y="2421000"/>
            <a:ext cx="2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08840" y="2421000"/>
            <a:ext cx="2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95640" y="2781360"/>
            <a:ext cx="5731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40087"/>
                </a:solidFill>
                <a:latin typeface="Comic Sans MS"/>
              </a:rPr>
              <a:t>в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050920" y="3068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24840" y="2997360"/>
            <a:ext cx="2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412480" y="3645000"/>
            <a:ext cx="2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54800" y="4005360"/>
            <a:ext cx="740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40087"/>
                </a:solidFill>
                <a:latin typeface="Comic Sans MS"/>
              </a:rPr>
              <a:t>ен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831636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810440" y="5157720"/>
            <a:ext cx="7401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40087"/>
                </a:solidFill>
                <a:latin typeface="Comic Sans MS"/>
              </a:rPr>
              <a:t>ен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580000" y="2781360"/>
            <a:ext cx="5731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40087"/>
                </a:solidFill>
                <a:latin typeface="Comic Sans MS"/>
              </a:rPr>
              <a:t>вш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-4765680" y="2336760"/>
            <a:ext cx="3017880" cy="40798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0"/>
            <a:ext cx="9144000" cy="6669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19280" y="0"/>
            <a:ext cx="7056360" cy="76428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66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ff3399"/>
                </a:solidFill>
                <a:latin typeface="Monotype Corsiva"/>
              </a:rPr>
              <a:t>«С  нами  Бог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907920"/>
            <a:ext cx="4486320" cy="54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Народ всегда был главным героем его исторических полотен. И в новой задуманной Суриковым картине героями стали солдаты – мужики в военных мундирах, под командою отца - командира Адлександра Суворова, совершающие переход через Альпы и удивляющие своим подвигом  всю Европ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Суриков читал письма и документы, неделями рылся в архивах и разыскал наконец  собственноручный рапорт полководца: « На каждом шаге в этом царстве ужаса зияющие пропасти представляли отверстые гробы смерти. Дремучие, мрачные ночи, непрестанно ударяющие громы, льющиеся дожди и густой туман облаков, при шумных водопадах, с каменьями с вершин низвергающихся, увеличивали трепет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Художник читал и видел русских солдат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043600" y="981000"/>
            <a:ext cx="41004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376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-4765680" y="2336760"/>
            <a:ext cx="3017880" cy="4079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flipH="1">
            <a:off x="250200" y="0"/>
            <a:ext cx="8893080" cy="6669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0"/>
            <a:ext cx="6481800" cy="76428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66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ff3399"/>
                </a:solidFill>
                <a:latin typeface="Monotype Corsiva"/>
              </a:rPr>
              <a:t>«С  нами  Бог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67280" y="907920"/>
            <a:ext cx="4392360" cy="57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Высоко слева- любимый солдатами командир, без шапки, в походном плаще, осаживающий коня на краю пропасти. А через всю картину по диагонали – стремительной лавиной несущееся с кручи русское войско. Бесстрашные,неутомимые, с тяжелыми пушками, русские солдаты готовы ринуться в бездну, вдохновляемые своим полководцем и движимые одним желанием  - п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лужить отечеств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переднем  плане- коренная фигура солдата, совершающего решительный прыжок. Подгоняемый сверху идущими рядами, он с ужасом смотрит на тучи снежной пыли, клубящейся над пропастью. Рядом с ним бывалый солдат, осеняющий себя крестом. Но не обреченность мы читаем на лицах, а боевой дух и решимость, предвкушение победы над обманутым противником. На наших глазах оживает история, и мы слышим легендарные слова великого полководца: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С нами Бог!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39402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-4765680" y="2336760"/>
            <a:ext cx="3017880" cy="40798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333360"/>
            <a:ext cx="9144000" cy="63356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19280" y="333360"/>
            <a:ext cx="6697800" cy="764280"/>
          </a:xfrm>
          <a:prstGeom prst="rect">
            <a:avLst/>
          </a:prstGeom>
          <a:gradFill rotWithShape="0">
            <a:gsLst>
              <a:gs pos="0">
                <a:srgbClr val="66ff33"/>
              </a:gs>
              <a:gs pos="100000">
                <a:srgbClr val="66ff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4400" spc="-1" strike="noStrike">
                <a:solidFill>
                  <a:srgbClr val="ff3399"/>
                </a:solidFill>
                <a:latin typeface="Monotype Corsiva"/>
              </a:rPr>
              <a:t>«С  нами  Бог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49320" y="1125360"/>
            <a:ext cx="715176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Народ всегда был главным героем его исторических полотен. И в новой задуманной Суриковым картине героями стали солдаты – мужики в военных мундирах, под командою отца - командира Адлександра Суворова, совершающие переход через Альпы и удивляющие своим подвигом  всю Европ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Суриков читал письма и документы, неделями рылся в архивах и разыскал наконец  собственноручный рапорт полководца: « На каждом шаге в этом царстве ужаса зияющие пропасти представляли отверстые гробы смерти. Дремучие, мрачные ночи, непрестанно ударяющие громы, льющиеся дожди и густой туман облаков, при шумных водопадах, с каменьями с вершин низвергающихся, увеличивали трепет…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Художник читал и видел русских солдат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ысоко слева- любимый солдатами командир, без шапки, в походном плаще, осаживающий коня на краю пропасти. А через всю картину по диагонали – стремительной лавиной несущееся с кручи русское войско. Бесстрашные, неутомимые, с тяжелыми пушками, русские солдаты готовы ринуться в бездну, вдохновляемые своим полководцем и движимые одним желанием  - по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лужить отечеств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переднем  плане- коренная фигура солдата, совершающего решительный прыжок. Подгоняемый сверху идущими рядами, он с ужасом смотрит на тучи снежной пыли, клубящейся над пропастью. Рядом с ним бывалый солдат, осеняющий себя крестом. Но не обреченность мы читаем на лицах, а боевой дух и решимость, предвкушение победы над обманутым противником. На наших глазах оживает история, и мы слышим легендарные слова великого полководца: «С нами Бог!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"/>
          <p:cNvPicPr/>
          <p:nvPr/>
        </p:nvPicPr>
        <p:blipFill>
          <a:blip r:embed="rId2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rcRect l="0" t="11491" r="0" b="2638"/>
          <a:stretch/>
        </p:blipFill>
        <p:spPr>
          <a:xfrm>
            <a:off x="1692360" y="0"/>
            <a:ext cx="590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"/>
          <p:cNvPicPr/>
          <p:nvPr/>
        </p:nvPicPr>
        <p:blipFill>
          <a:blip r:embed="rId2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1187280" y="17640"/>
            <a:ext cx="684072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"/>
          <p:cNvPicPr/>
          <p:nvPr/>
        </p:nvPicPr>
        <p:blipFill>
          <a:blip r:embed="rId2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042920" y="981000"/>
            <a:ext cx="727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33cc"/>
                </a:solidFill>
                <a:latin typeface="Times New Roman"/>
              </a:rPr>
              <a:t>Бьющие фонтаны; доносящийся шум, предлагающий услуги фотограф; искрящиеся капельки; выкрашенная скамья; негодующие, взъерошенные воробьи; опускающийся на город веч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90160" y="476280"/>
            <a:ext cx="67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чинение-миниатюра «В городском сквере»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2484360" y="253692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9292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7"/>
          <p:cNvSpPr/>
          <p:nvPr/>
        </p:nvSpPr>
        <p:spPr>
          <a:xfrm>
            <a:off x="131112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468360" y="3573360"/>
            <a:ext cx="878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87840" y="208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4508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2)…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35280" y="3789360"/>
            <a:ext cx="1224000" cy="318960"/>
          </a:xfrm>
          <a:custGeom>
            <a:avLst/>
            <a:gdLst/>
            <a:ahLst/>
            <a:rect l="l" t="t" r="r" b="b"/>
            <a:pathLst>
              <a:path w="1600" h="201">
                <a:moveTo>
                  <a:pt x="0" y="82"/>
                </a:moveTo>
                <a:cubicBezTo>
                  <a:pt x="32" y="177"/>
                  <a:pt x="178" y="135"/>
                  <a:pt x="246" y="82"/>
                </a:cubicBezTo>
                <a:cubicBezTo>
                  <a:pt x="253" y="77"/>
                  <a:pt x="257" y="68"/>
                  <a:pt x="265" y="64"/>
                </a:cubicBezTo>
                <a:cubicBezTo>
                  <a:pt x="273" y="59"/>
                  <a:pt x="283" y="58"/>
                  <a:pt x="292" y="55"/>
                </a:cubicBezTo>
                <a:cubicBezTo>
                  <a:pt x="319" y="36"/>
                  <a:pt x="347" y="27"/>
                  <a:pt x="374" y="9"/>
                </a:cubicBezTo>
                <a:cubicBezTo>
                  <a:pt x="441" y="16"/>
                  <a:pt x="502" y="24"/>
                  <a:pt x="566" y="45"/>
                </a:cubicBezTo>
                <a:cubicBezTo>
                  <a:pt x="592" y="71"/>
                  <a:pt x="632" y="88"/>
                  <a:pt x="667" y="100"/>
                </a:cubicBezTo>
                <a:cubicBezTo>
                  <a:pt x="719" y="97"/>
                  <a:pt x="771" y="99"/>
                  <a:pt x="822" y="91"/>
                </a:cubicBezTo>
                <a:cubicBezTo>
                  <a:pt x="841" y="88"/>
                  <a:pt x="851" y="64"/>
                  <a:pt x="868" y="55"/>
                </a:cubicBezTo>
                <a:cubicBezTo>
                  <a:pt x="905" y="36"/>
                  <a:pt x="938" y="13"/>
                  <a:pt x="978" y="0"/>
                </a:cubicBezTo>
                <a:cubicBezTo>
                  <a:pt x="1018" y="3"/>
                  <a:pt x="1058" y="4"/>
                  <a:pt x="1097" y="9"/>
                </a:cubicBezTo>
                <a:cubicBezTo>
                  <a:pt x="1153" y="16"/>
                  <a:pt x="1174" y="73"/>
                  <a:pt x="1216" y="100"/>
                </a:cubicBezTo>
                <a:cubicBezTo>
                  <a:pt x="1281" y="201"/>
                  <a:pt x="1422" y="83"/>
                  <a:pt x="1481" y="27"/>
                </a:cubicBezTo>
                <a:cubicBezTo>
                  <a:pt x="1505" y="30"/>
                  <a:pt x="1530" y="32"/>
                  <a:pt x="1554" y="36"/>
                </a:cubicBezTo>
                <a:cubicBezTo>
                  <a:pt x="1563" y="38"/>
                  <a:pt x="1573" y="40"/>
                  <a:pt x="1581" y="45"/>
                </a:cubicBezTo>
                <a:cubicBezTo>
                  <a:pt x="1589" y="50"/>
                  <a:pt x="1600" y="64"/>
                  <a:pt x="1600" y="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408640"/>
            <a:ext cx="961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                  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3)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X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4) …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,…и…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5516640"/>
            <a:ext cx="1008000" cy="318960"/>
          </a:xfrm>
          <a:custGeom>
            <a:avLst/>
            <a:gdLst/>
            <a:ahLst/>
            <a:rect l="l" t="t" r="r" b="b"/>
            <a:pathLst>
              <a:path w="1600" h="201">
                <a:moveTo>
                  <a:pt x="0" y="82"/>
                </a:moveTo>
                <a:cubicBezTo>
                  <a:pt x="32" y="177"/>
                  <a:pt x="178" y="135"/>
                  <a:pt x="246" y="82"/>
                </a:cubicBezTo>
                <a:cubicBezTo>
                  <a:pt x="253" y="77"/>
                  <a:pt x="257" y="68"/>
                  <a:pt x="265" y="64"/>
                </a:cubicBezTo>
                <a:cubicBezTo>
                  <a:pt x="273" y="59"/>
                  <a:pt x="283" y="58"/>
                  <a:pt x="292" y="55"/>
                </a:cubicBezTo>
                <a:cubicBezTo>
                  <a:pt x="319" y="36"/>
                  <a:pt x="347" y="27"/>
                  <a:pt x="374" y="9"/>
                </a:cubicBezTo>
                <a:cubicBezTo>
                  <a:pt x="441" y="16"/>
                  <a:pt x="502" y="24"/>
                  <a:pt x="566" y="45"/>
                </a:cubicBezTo>
                <a:cubicBezTo>
                  <a:pt x="592" y="71"/>
                  <a:pt x="632" y="88"/>
                  <a:pt x="667" y="100"/>
                </a:cubicBezTo>
                <a:cubicBezTo>
                  <a:pt x="719" y="97"/>
                  <a:pt x="771" y="99"/>
                  <a:pt x="822" y="91"/>
                </a:cubicBezTo>
                <a:cubicBezTo>
                  <a:pt x="841" y="88"/>
                  <a:pt x="851" y="64"/>
                  <a:pt x="868" y="55"/>
                </a:cubicBezTo>
                <a:cubicBezTo>
                  <a:pt x="905" y="36"/>
                  <a:pt x="938" y="13"/>
                  <a:pt x="978" y="0"/>
                </a:cubicBezTo>
                <a:cubicBezTo>
                  <a:pt x="1018" y="3"/>
                  <a:pt x="1058" y="4"/>
                  <a:pt x="1097" y="9"/>
                </a:cubicBezTo>
                <a:cubicBezTo>
                  <a:pt x="1153" y="16"/>
                  <a:pt x="1174" y="73"/>
                  <a:pt x="1216" y="100"/>
                </a:cubicBezTo>
                <a:cubicBezTo>
                  <a:pt x="1281" y="201"/>
                  <a:pt x="1422" y="83"/>
                  <a:pt x="1481" y="27"/>
                </a:cubicBezTo>
                <a:cubicBezTo>
                  <a:pt x="1505" y="30"/>
                  <a:pt x="1530" y="32"/>
                  <a:pt x="1554" y="36"/>
                </a:cubicBezTo>
                <a:cubicBezTo>
                  <a:pt x="1563" y="38"/>
                  <a:pt x="1573" y="40"/>
                  <a:pt x="1581" y="45"/>
                </a:cubicBezTo>
                <a:cubicBezTo>
                  <a:pt x="1589" y="50"/>
                  <a:pt x="1600" y="64"/>
                  <a:pt x="1600" y="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24360" y="6381720"/>
            <a:ext cx="865080" cy="318960"/>
          </a:xfrm>
          <a:custGeom>
            <a:avLst/>
            <a:gdLst/>
            <a:ahLst/>
            <a:rect l="l" t="t" r="r" b="b"/>
            <a:pathLst>
              <a:path w="1600" h="201">
                <a:moveTo>
                  <a:pt x="0" y="82"/>
                </a:moveTo>
                <a:cubicBezTo>
                  <a:pt x="32" y="177"/>
                  <a:pt x="178" y="135"/>
                  <a:pt x="246" y="82"/>
                </a:cubicBezTo>
                <a:cubicBezTo>
                  <a:pt x="253" y="77"/>
                  <a:pt x="257" y="68"/>
                  <a:pt x="265" y="64"/>
                </a:cubicBezTo>
                <a:cubicBezTo>
                  <a:pt x="273" y="59"/>
                  <a:pt x="283" y="58"/>
                  <a:pt x="292" y="55"/>
                </a:cubicBezTo>
                <a:cubicBezTo>
                  <a:pt x="319" y="36"/>
                  <a:pt x="347" y="27"/>
                  <a:pt x="374" y="9"/>
                </a:cubicBezTo>
                <a:cubicBezTo>
                  <a:pt x="441" y="16"/>
                  <a:pt x="502" y="24"/>
                  <a:pt x="566" y="45"/>
                </a:cubicBezTo>
                <a:cubicBezTo>
                  <a:pt x="592" y="71"/>
                  <a:pt x="632" y="88"/>
                  <a:pt x="667" y="100"/>
                </a:cubicBezTo>
                <a:cubicBezTo>
                  <a:pt x="719" y="97"/>
                  <a:pt x="771" y="99"/>
                  <a:pt x="822" y="91"/>
                </a:cubicBezTo>
                <a:cubicBezTo>
                  <a:pt x="841" y="88"/>
                  <a:pt x="851" y="64"/>
                  <a:pt x="868" y="55"/>
                </a:cubicBezTo>
                <a:cubicBezTo>
                  <a:pt x="905" y="36"/>
                  <a:pt x="938" y="13"/>
                  <a:pt x="978" y="0"/>
                </a:cubicBezTo>
                <a:cubicBezTo>
                  <a:pt x="1018" y="3"/>
                  <a:pt x="1058" y="4"/>
                  <a:pt x="1097" y="9"/>
                </a:cubicBezTo>
                <a:cubicBezTo>
                  <a:pt x="1153" y="16"/>
                  <a:pt x="1174" y="73"/>
                  <a:pt x="1216" y="100"/>
                </a:cubicBezTo>
                <a:cubicBezTo>
                  <a:pt x="1281" y="201"/>
                  <a:pt x="1422" y="83"/>
                  <a:pt x="1481" y="27"/>
                </a:cubicBezTo>
                <a:cubicBezTo>
                  <a:pt x="1505" y="30"/>
                  <a:pt x="1530" y="32"/>
                  <a:pt x="1554" y="36"/>
                </a:cubicBezTo>
                <a:cubicBezTo>
                  <a:pt x="1563" y="38"/>
                  <a:pt x="1573" y="40"/>
                  <a:pt x="1581" y="45"/>
                </a:cubicBezTo>
                <a:cubicBezTo>
                  <a:pt x="1589" y="50"/>
                  <a:pt x="1600" y="64"/>
                  <a:pt x="1600" y="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372360" y="6381720"/>
            <a:ext cx="720720" cy="318960"/>
          </a:xfrm>
          <a:custGeom>
            <a:avLst/>
            <a:gdLst/>
            <a:ahLst/>
            <a:rect l="l" t="t" r="r" b="b"/>
            <a:pathLst>
              <a:path w="1600" h="201">
                <a:moveTo>
                  <a:pt x="0" y="82"/>
                </a:moveTo>
                <a:cubicBezTo>
                  <a:pt x="32" y="177"/>
                  <a:pt x="178" y="135"/>
                  <a:pt x="246" y="82"/>
                </a:cubicBezTo>
                <a:cubicBezTo>
                  <a:pt x="253" y="77"/>
                  <a:pt x="257" y="68"/>
                  <a:pt x="265" y="64"/>
                </a:cubicBezTo>
                <a:cubicBezTo>
                  <a:pt x="273" y="59"/>
                  <a:pt x="283" y="58"/>
                  <a:pt x="292" y="55"/>
                </a:cubicBezTo>
                <a:cubicBezTo>
                  <a:pt x="319" y="36"/>
                  <a:pt x="347" y="27"/>
                  <a:pt x="374" y="9"/>
                </a:cubicBezTo>
                <a:cubicBezTo>
                  <a:pt x="441" y="16"/>
                  <a:pt x="502" y="24"/>
                  <a:pt x="566" y="45"/>
                </a:cubicBezTo>
                <a:cubicBezTo>
                  <a:pt x="592" y="71"/>
                  <a:pt x="632" y="88"/>
                  <a:pt x="667" y="100"/>
                </a:cubicBezTo>
                <a:cubicBezTo>
                  <a:pt x="719" y="97"/>
                  <a:pt x="771" y="99"/>
                  <a:pt x="822" y="91"/>
                </a:cubicBezTo>
                <a:cubicBezTo>
                  <a:pt x="841" y="88"/>
                  <a:pt x="851" y="64"/>
                  <a:pt x="868" y="55"/>
                </a:cubicBezTo>
                <a:cubicBezTo>
                  <a:pt x="905" y="36"/>
                  <a:pt x="938" y="13"/>
                  <a:pt x="978" y="0"/>
                </a:cubicBezTo>
                <a:cubicBezTo>
                  <a:pt x="1018" y="3"/>
                  <a:pt x="1058" y="4"/>
                  <a:pt x="1097" y="9"/>
                </a:cubicBezTo>
                <a:cubicBezTo>
                  <a:pt x="1153" y="16"/>
                  <a:pt x="1174" y="73"/>
                  <a:pt x="1216" y="100"/>
                </a:cubicBezTo>
                <a:cubicBezTo>
                  <a:pt x="1281" y="201"/>
                  <a:pt x="1422" y="83"/>
                  <a:pt x="1481" y="27"/>
                </a:cubicBezTo>
                <a:cubicBezTo>
                  <a:pt x="1505" y="30"/>
                  <a:pt x="1530" y="32"/>
                  <a:pt x="1554" y="36"/>
                </a:cubicBezTo>
                <a:cubicBezTo>
                  <a:pt x="1563" y="38"/>
                  <a:pt x="1573" y="40"/>
                  <a:pt x="1581" y="45"/>
                </a:cubicBezTo>
                <a:cubicBezTo>
                  <a:pt x="1589" y="50"/>
                  <a:pt x="1600" y="64"/>
                  <a:pt x="1600" y="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24360" y="4724280"/>
            <a:ext cx="1079280" cy="319320"/>
          </a:xfrm>
          <a:custGeom>
            <a:avLst/>
            <a:gdLst/>
            <a:ahLst/>
            <a:rect l="l" t="t" r="r" b="b"/>
            <a:pathLst>
              <a:path w="1600" h="201">
                <a:moveTo>
                  <a:pt x="0" y="82"/>
                </a:moveTo>
                <a:cubicBezTo>
                  <a:pt x="32" y="177"/>
                  <a:pt x="178" y="135"/>
                  <a:pt x="246" y="82"/>
                </a:cubicBezTo>
                <a:cubicBezTo>
                  <a:pt x="253" y="77"/>
                  <a:pt x="257" y="68"/>
                  <a:pt x="265" y="64"/>
                </a:cubicBezTo>
                <a:cubicBezTo>
                  <a:pt x="273" y="59"/>
                  <a:pt x="283" y="58"/>
                  <a:pt x="292" y="55"/>
                </a:cubicBezTo>
                <a:cubicBezTo>
                  <a:pt x="319" y="36"/>
                  <a:pt x="347" y="27"/>
                  <a:pt x="374" y="9"/>
                </a:cubicBezTo>
                <a:cubicBezTo>
                  <a:pt x="441" y="16"/>
                  <a:pt x="502" y="24"/>
                  <a:pt x="566" y="45"/>
                </a:cubicBezTo>
                <a:cubicBezTo>
                  <a:pt x="592" y="71"/>
                  <a:pt x="632" y="88"/>
                  <a:pt x="667" y="100"/>
                </a:cubicBezTo>
                <a:cubicBezTo>
                  <a:pt x="719" y="97"/>
                  <a:pt x="771" y="99"/>
                  <a:pt x="822" y="91"/>
                </a:cubicBezTo>
                <a:cubicBezTo>
                  <a:pt x="841" y="88"/>
                  <a:pt x="851" y="64"/>
                  <a:pt x="868" y="55"/>
                </a:cubicBezTo>
                <a:cubicBezTo>
                  <a:pt x="905" y="36"/>
                  <a:pt x="938" y="13"/>
                  <a:pt x="978" y="0"/>
                </a:cubicBezTo>
                <a:cubicBezTo>
                  <a:pt x="1018" y="3"/>
                  <a:pt x="1058" y="4"/>
                  <a:pt x="1097" y="9"/>
                </a:cubicBezTo>
                <a:cubicBezTo>
                  <a:pt x="1153" y="16"/>
                  <a:pt x="1174" y="73"/>
                  <a:pt x="1216" y="100"/>
                </a:cubicBezTo>
                <a:cubicBezTo>
                  <a:pt x="1281" y="201"/>
                  <a:pt x="1422" y="83"/>
                  <a:pt x="1481" y="27"/>
                </a:cubicBezTo>
                <a:cubicBezTo>
                  <a:pt x="1505" y="30"/>
                  <a:pt x="1530" y="32"/>
                  <a:pt x="1554" y="36"/>
                </a:cubicBezTo>
                <a:cubicBezTo>
                  <a:pt x="1563" y="38"/>
                  <a:pt x="1573" y="40"/>
                  <a:pt x="1581" y="45"/>
                </a:cubicBezTo>
                <a:cubicBezTo>
                  <a:pt x="1589" y="50"/>
                  <a:pt x="1600" y="64"/>
                  <a:pt x="1600" y="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-4500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З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а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д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а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н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и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е </a:t>
            </a:r>
            <a:r>
              <a:rPr b="1" i="1" lang="en-US" sz="2800" spc="-1" strike="noStrike" u="sng">
                <a:solidFill>
                  <a:srgbClr val="6600cc"/>
                </a:solidFill>
                <a:uFillTx/>
                <a:latin typeface="Arial"/>
              </a:rPr>
              <a:t>I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 :</a:t>
            </a:r>
            <a:r>
              <a:rPr b="1" i="1" lang="ru-RU" sz="24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сать предложения в порядк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ующем схем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76360" y="404640"/>
            <a:ext cx="7199280" cy="3672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8ef2c2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76360" y="981000"/>
            <a:ext cx="71280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000" spc="-1" strike="noStrike">
                <a:solidFill>
                  <a:srgbClr val="000000"/>
                </a:solidFill>
                <a:latin typeface="Comic Sans MS"/>
              </a:rPr>
              <a:t>Весь байкальский берег состоит из обточенных временем камешков. Трое мальчишек сидящих на берегу швыряли в воду камни. У самых ног пенился байкальский прибой дышавший в лицо прохладой сушилась сеть и качалась лодка просмоленная рыбаками. Я подошёл к мальчишкам доверчиво улыбнувшимся м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468000" cy="6929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7"/>
          <p:cNvSpPr/>
          <p:nvPr/>
        </p:nvSpPr>
        <p:spPr>
          <a:xfrm>
            <a:off x="131112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468360" y="3573360"/>
            <a:ext cx="878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33cc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87840" y="208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508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2)…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35280" y="3789360"/>
            <a:ext cx="1224000" cy="318960"/>
          </a:xfrm>
          <a:custGeom>
            <a:avLst/>
            <a:gdLst/>
            <a:ahLst/>
            <a:rect l="l" t="t" r="r" b="b"/>
            <a:pathLst>
              <a:path w="1600" h="201">
                <a:moveTo>
                  <a:pt x="0" y="82"/>
                </a:moveTo>
                <a:cubicBezTo>
                  <a:pt x="32" y="177"/>
                  <a:pt x="178" y="135"/>
                  <a:pt x="246" y="82"/>
                </a:cubicBezTo>
                <a:cubicBezTo>
                  <a:pt x="253" y="77"/>
                  <a:pt x="257" y="68"/>
                  <a:pt x="265" y="64"/>
                </a:cubicBezTo>
                <a:cubicBezTo>
                  <a:pt x="273" y="59"/>
                  <a:pt x="283" y="58"/>
                  <a:pt x="292" y="55"/>
                </a:cubicBezTo>
                <a:cubicBezTo>
                  <a:pt x="319" y="36"/>
                  <a:pt x="347" y="27"/>
                  <a:pt x="374" y="9"/>
                </a:cubicBezTo>
                <a:cubicBezTo>
                  <a:pt x="441" y="16"/>
                  <a:pt x="502" y="24"/>
                  <a:pt x="566" y="45"/>
                </a:cubicBezTo>
                <a:cubicBezTo>
                  <a:pt x="592" y="71"/>
                  <a:pt x="632" y="88"/>
                  <a:pt x="667" y="100"/>
                </a:cubicBezTo>
                <a:cubicBezTo>
                  <a:pt x="719" y="97"/>
                  <a:pt x="771" y="99"/>
                  <a:pt x="822" y="91"/>
                </a:cubicBezTo>
                <a:cubicBezTo>
                  <a:pt x="841" y="88"/>
                  <a:pt x="851" y="64"/>
                  <a:pt x="868" y="55"/>
                </a:cubicBezTo>
                <a:cubicBezTo>
                  <a:pt x="905" y="36"/>
                  <a:pt x="938" y="13"/>
                  <a:pt x="978" y="0"/>
                </a:cubicBezTo>
                <a:cubicBezTo>
                  <a:pt x="1018" y="3"/>
                  <a:pt x="1058" y="4"/>
                  <a:pt x="1097" y="9"/>
                </a:cubicBezTo>
                <a:cubicBezTo>
                  <a:pt x="1153" y="16"/>
                  <a:pt x="1174" y="73"/>
                  <a:pt x="1216" y="100"/>
                </a:cubicBezTo>
                <a:cubicBezTo>
                  <a:pt x="1281" y="201"/>
                  <a:pt x="1422" y="83"/>
                  <a:pt x="1481" y="27"/>
                </a:cubicBezTo>
                <a:cubicBezTo>
                  <a:pt x="1505" y="30"/>
                  <a:pt x="1530" y="32"/>
                  <a:pt x="1554" y="36"/>
                </a:cubicBezTo>
                <a:cubicBezTo>
                  <a:pt x="1563" y="38"/>
                  <a:pt x="1573" y="40"/>
                  <a:pt x="1581" y="45"/>
                </a:cubicBezTo>
                <a:cubicBezTo>
                  <a:pt x="1589" y="50"/>
                  <a:pt x="1600" y="64"/>
                  <a:pt x="1600" y="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408640"/>
            <a:ext cx="961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                  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3)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X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4) …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,…и…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5516640"/>
            <a:ext cx="1008000" cy="318960"/>
          </a:xfrm>
          <a:custGeom>
            <a:avLst/>
            <a:gdLst/>
            <a:ahLst/>
            <a:rect l="l" t="t" r="r" b="b"/>
            <a:pathLst>
              <a:path w="1600" h="201">
                <a:moveTo>
                  <a:pt x="0" y="82"/>
                </a:moveTo>
                <a:cubicBezTo>
                  <a:pt x="32" y="177"/>
                  <a:pt x="178" y="135"/>
                  <a:pt x="246" y="82"/>
                </a:cubicBezTo>
                <a:cubicBezTo>
                  <a:pt x="253" y="77"/>
                  <a:pt x="257" y="68"/>
                  <a:pt x="265" y="64"/>
                </a:cubicBezTo>
                <a:cubicBezTo>
                  <a:pt x="273" y="59"/>
                  <a:pt x="283" y="58"/>
                  <a:pt x="292" y="55"/>
                </a:cubicBezTo>
                <a:cubicBezTo>
                  <a:pt x="319" y="36"/>
                  <a:pt x="347" y="27"/>
                  <a:pt x="374" y="9"/>
                </a:cubicBezTo>
                <a:cubicBezTo>
                  <a:pt x="441" y="16"/>
                  <a:pt x="502" y="24"/>
                  <a:pt x="566" y="45"/>
                </a:cubicBezTo>
                <a:cubicBezTo>
                  <a:pt x="592" y="71"/>
                  <a:pt x="632" y="88"/>
                  <a:pt x="667" y="100"/>
                </a:cubicBezTo>
                <a:cubicBezTo>
                  <a:pt x="719" y="97"/>
                  <a:pt x="771" y="99"/>
                  <a:pt x="822" y="91"/>
                </a:cubicBezTo>
                <a:cubicBezTo>
                  <a:pt x="841" y="88"/>
                  <a:pt x="851" y="64"/>
                  <a:pt x="868" y="55"/>
                </a:cubicBezTo>
                <a:cubicBezTo>
                  <a:pt x="905" y="36"/>
                  <a:pt x="938" y="13"/>
                  <a:pt x="978" y="0"/>
                </a:cubicBezTo>
                <a:cubicBezTo>
                  <a:pt x="1018" y="3"/>
                  <a:pt x="1058" y="4"/>
                  <a:pt x="1097" y="9"/>
                </a:cubicBezTo>
                <a:cubicBezTo>
                  <a:pt x="1153" y="16"/>
                  <a:pt x="1174" y="73"/>
                  <a:pt x="1216" y="100"/>
                </a:cubicBezTo>
                <a:cubicBezTo>
                  <a:pt x="1281" y="201"/>
                  <a:pt x="1422" y="83"/>
                  <a:pt x="1481" y="27"/>
                </a:cubicBezTo>
                <a:cubicBezTo>
                  <a:pt x="1505" y="30"/>
                  <a:pt x="1530" y="32"/>
                  <a:pt x="1554" y="36"/>
                </a:cubicBezTo>
                <a:cubicBezTo>
                  <a:pt x="1563" y="38"/>
                  <a:pt x="1573" y="40"/>
                  <a:pt x="1581" y="45"/>
                </a:cubicBezTo>
                <a:cubicBezTo>
                  <a:pt x="1589" y="50"/>
                  <a:pt x="1600" y="64"/>
                  <a:pt x="1600" y="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24360" y="6381720"/>
            <a:ext cx="865080" cy="318960"/>
          </a:xfrm>
          <a:custGeom>
            <a:avLst/>
            <a:gdLst/>
            <a:ahLst/>
            <a:rect l="l" t="t" r="r" b="b"/>
            <a:pathLst>
              <a:path w="1600" h="201">
                <a:moveTo>
                  <a:pt x="0" y="82"/>
                </a:moveTo>
                <a:cubicBezTo>
                  <a:pt x="32" y="177"/>
                  <a:pt x="178" y="135"/>
                  <a:pt x="246" y="82"/>
                </a:cubicBezTo>
                <a:cubicBezTo>
                  <a:pt x="253" y="77"/>
                  <a:pt x="257" y="68"/>
                  <a:pt x="265" y="64"/>
                </a:cubicBezTo>
                <a:cubicBezTo>
                  <a:pt x="273" y="59"/>
                  <a:pt x="283" y="58"/>
                  <a:pt x="292" y="55"/>
                </a:cubicBezTo>
                <a:cubicBezTo>
                  <a:pt x="319" y="36"/>
                  <a:pt x="347" y="27"/>
                  <a:pt x="374" y="9"/>
                </a:cubicBezTo>
                <a:cubicBezTo>
                  <a:pt x="441" y="16"/>
                  <a:pt x="502" y="24"/>
                  <a:pt x="566" y="45"/>
                </a:cubicBezTo>
                <a:cubicBezTo>
                  <a:pt x="592" y="71"/>
                  <a:pt x="632" y="88"/>
                  <a:pt x="667" y="100"/>
                </a:cubicBezTo>
                <a:cubicBezTo>
                  <a:pt x="719" y="97"/>
                  <a:pt x="771" y="99"/>
                  <a:pt x="822" y="91"/>
                </a:cubicBezTo>
                <a:cubicBezTo>
                  <a:pt x="841" y="88"/>
                  <a:pt x="851" y="64"/>
                  <a:pt x="868" y="55"/>
                </a:cubicBezTo>
                <a:cubicBezTo>
                  <a:pt x="905" y="36"/>
                  <a:pt x="938" y="13"/>
                  <a:pt x="978" y="0"/>
                </a:cubicBezTo>
                <a:cubicBezTo>
                  <a:pt x="1018" y="3"/>
                  <a:pt x="1058" y="4"/>
                  <a:pt x="1097" y="9"/>
                </a:cubicBezTo>
                <a:cubicBezTo>
                  <a:pt x="1153" y="16"/>
                  <a:pt x="1174" y="73"/>
                  <a:pt x="1216" y="100"/>
                </a:cubicBezTo>
                <a:cubicBezTo>
                  <a:pt x="1281" y="201"/>
                  <a:pt x="1422" y="83"/>
                  <a:pt x="1481" y="27"/>
                </a:cubicBezTo>
                <a:cubicBezTo>
                  <a:pt x="1505" y="30"/>
                  <a:pt x="1530" y="32"/>
                  <a:pt x="1554" y="36"/>
                </a:cubicBezTo>
                <a:cubicBezTo>
                  <a:pt x="1563" y="38"/>
                  <a:pt x="1573" y="40"/>
                  <a:pt x="1581" y="45"/>
                </a:cubicBezTo>
                <a:cubicBezTo>
                  <a:pt x="1589" y="50"/>
                  <a:pt x="1600" y="64"/>
                  <a:pt x="1600" y="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72360" y="6381720"/>
            <a:ext cx="720720" cy="318960"/>
          </a:xfrm>
          <a:custGeom>
            <a:avLst/>
            <a:gdLst/>
            <a:ahLst/>
            <a:rect l="l" t="t" r="r" b="b"/>
            <a:pathLst>
              <a:path w="1600" h="201">
                <a:moveTo>
                  <a:pt x="0" y="82"/>
                </a:moveTo>
                <a:cubicBezTo>
                  <a:pt x="32" y="177"/>
                  <a:pt x="178" y="135"/>
                  <a:pt x="246" y="82"/>
                </a:cubicBezTo>
                <a:cubicBezTo>
                  <a:pt x="253" y="77"/>
                  <a:pt x="257" y="68"/>
                  <a:pt x="265" y="64"/>
                </a:cubicBezTo>
                <a:cubicBezTo>
                  <a:pt x="273" y="59"/>
                  <a:pt x="283" y="58"/>
                  <a:pt x="292" y="55"/>
                </a:cubicBezTo>
                <a:cubicBezTo>
                  <a:pt x="319" y="36"/>
                  <a:pt x="347" y="27"/>
                  <a:pt x="374" y="9"/>
                </a:cubicBezTo>
                <a:cubicBezTo>
                  <a:pt x="441" y="16"/>
                  <a:pt x="502" y="24"/>
                  <a:pt x="566" y="45"/>
                </a:cubicBezTo>
                <a:cubicBezTo>
                  <a:pt x="592" y="71"/>
                  <a:pt x="632" y="88"/>
                  <a:pt x="667" y="100"/>
                </a:cubicBezTo>
                <a:cubicBezTo>
                  <a:pt x="719" y="97"/>
                  <a:pt x="771" y="99"/>
                  <a:pt x="822" y="91"/>
                </a:cubicBezTo>
                <a:cubicBezTo>
                  <a:pt x="841" y="88"/>
                  <a:pt x="851" y="64"/>
                  <a:pt x="868" y="55"/>
                </a:cubicBezTo>
                <a:cubicBezTo>
                  <a:pt x="905" y="36"/>
                  <a:pt x="938" y="13"/>
                  <a:pt x="978" y="0"/>
                </a:cubicBezTo>
                <a:cubicBezTo>
                  <a:pt x="1018" y="3"/>
                  <a:pt x="1058" y="4"/>
                  <a:pt x="1097" y="9"/>
                </a:cubicBezTo>
                <a:cubicBezTo>
                  <a:pt x="1153" y="16"/>
                  <a:pt x="1174" y="73"/>
                  <a:pt x="1216" y="100"/>
                </a:cubicBezTo>
                <a:cubicBezTo>
                  <a:pt x="1281" y="201"/>
                  <a:pt x="1422" y="83"/>
                  <a:pt x="1481" y="27"/>
                </a:cubicBezTo>
                <a:cubicBezTo>
                  <a:pt x="1505" y="30"/>
                  <a:pt x="1530" y="32"/>
                  <a:pt x="1554" y="36"/>
                </a:cubicBezTo>
                <a:cubicBezTo>
                  <a:pt x="1563" y="38"/>
                  <a:pt x="1573" y="40"/>
                  <a:pt x="1581" y="45"/>
                </a:cubicBezTo>
                <a:cubicBezTo>
                  <a:pt x="1589" y="50"/>
                  <a:pt x="1600" y="64"/>
                  <a:pt x="1600" y="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24360" y="4724280"/>
            <a:ext cx="1079280" cy="319320"/>
          </a:xfrm>
          <a:custGeom>
            <a:avLst/>
            <a:gdLst/>
            <a:ahLst/>
            <a:rect l="l" t="t" r="r" b="b"/>
            <a:pathLst>
              <a:path w="1600" h="201">
                <a:moveTo>
                  <a:pt x="0" y="82"/>
                </a:moveTo>
                <a:cubicBezTo>
                  <a:pt x="32" y="177"/>
                  <a:pt x="178" y="135"/>
                  <a:pt x="246" y="82"/>
                </a:cubicBezTo>
                <a:cubicBezTo>
                  <a:pt x="253" y="77"/>
                  <a:pt x="257" y="68"/>
                  <a:pt x="265" y="64"/>
                </a:cubicBezTo>
                <a:cubicBezTo>
                  <a:pt x="273" y="59"/>
                  <a:pt x="283" y="58"/>
                  <a:pt x="292" y="55"/>
                </a:cubicBezTo>
                <a:cubicBezTo>
                  <a:pt x="319" y="36"/>
                  <a:pt x="347" y="27"/>
                  <a:pt x="374" y="9"/>
                </a:cubicBezTo>
                <a:cubicBezTo>
                  <a:pt x="441" y="16"/>
                  <a:pt x="502" y="24"/>
                  <a:pt x="566" y="45"/>
                </a:cubicBezTo>
                <a:cubicBezTo>
                  <a:pt x="592" y="71"/>
                  <a:pt x="632" y="88"/>
                  <a:pt x="667" y="100"/>
                </a:cubicBezTo>
                <a:cubicBezTo>
                  <a:pt x="719" y="97"/>
                  <a:pt x="771" y="99"/>
                  <a:pt x="822" y="91"/>
                </a:cubicBezTo>
                <a:cubicBezTo>
                  <a:pt x="841" y="88"/>
                  <a:pt x="851" y="64"/>
                  <a:pt x="868" y="55"/>
                </a:cubicBezTo>
                <a:cubicBezTo>
                  <a:pt x="905" y="36"/>
                  <a:pt x="938" y="13"/>
                  <a:pt x="978" y="0"/>
                </a:cubicBezTo>
                <a:cubicBezTo>
                  <a:pt x="1018" y="3"/>
                  <a:pt x="1058" y="4"/>
                  <a:pt x="1097" y="9"/>
                </a:cubicBezTo>
                <a:cubicBezTo>
                  <a:pt x="1153" y="16"/>
                  <a:pt x="1174" y="73"/>
                  <a:pt x="1216" y="100"/>
                </a:cubicBezTo>
                <a:cubicBezTo>
                  <a:pt x="1281" y="201"/>
                  <a:pt x="1422" y="83"/>
                  <a:pt x="1481" y="27"/>
                </a:cubicBezTo>
                <a:cubicBezTo>
                  <a:pt x="1505" y="30"/>
                  <a:pt x="1530" y="32"/>
                  <a:pt x="1554" y="36"/>
                </a:cubicBezTo>
                <a:cubicBezTo>
                  <a:pt x="1563" y="38"/>
                  <a:pt x="1573" y="40"/>
                  <a:pt x="1581" y="45"/>
                </a:cubicBezTo>
                <a:cubicBezTo>
                  <a:pt x="1589" y="50"/>
                  <a:pt x="1600" y="64"/>
                  <a:pt x="1600" y="6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11280" y="-4500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З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а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д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а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н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и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е </a:t>
            </a:r>
            <a:r>
              <a:rPr b="1" i="1" lang="en-US" sz="2800" spc="-1" strike="noStrike" u="sng">
                <a:solidFill>
                  <a:srgbClr val="6600cc"/>
                </a:solidFill>
                <a:uFillTx/>
                <a:latin typeface="Arial"/>
              </a:rPr>
              <a:t>I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 :</a:t>
            </a:r>
            <a:r>
              <a:rPr b="1" i="1" lang="ru-RU" sz="24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сать предложения в порядк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ующем схема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476360" y="404640"/>
            <a:ext cx="7199280" cy="3672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8ef2c2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981000"/>
            <a:ext cx="71280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uk-UA" sz="2000" spc="-1" strike="noStrike">
                <a:solidFill>
                  <a:srgbClr val="000099"/>
                </a:solidFill>
                <a:latin typeface="Comic Sans MS"/>
              </a:rPr>
              <a:t>Весь байкальский берег состоит из обточенных временем камешков. Трое мальчишек, сидящих на берегу, швыряли в воду камни. У самых ног пенился байкальский прибой, дышавший в лицо прохладой, сушилась сеть и качалась лодка, просмоленная рыбаками. Я подошёл к мальчишкам, доверчиво улыбнувшимся м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79280" y="0"/>
            <a:ext cx="8964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З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а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д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а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н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и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е </a:t>
            </a:r>
            <a:r>
              <a:rPr b="1" i="1" lang="en-US" sz="2800" spc="-1" strike="noStrike" u="sng">
                <a:solidFill>
                  <a:srgbClr val="6600cc"/>
                </a:solidFill>
                <a:uFillTx/>
                <a:latin typeface="Arial"/>
              </a:rPr>
              <a:t>II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строить  предложения так, чтобы придаточное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ельное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о замене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астным оборо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16000" y="1125360"/>
            <a:ext cx="7486560" cy="554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8ef2c2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835280" y="1916280"/>
            <a:ext cx="6624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лк – это хищник, зверь который не терпит слабых. У меня хранится снимок, который прислали охотники с Кавказа, с изображением белого волка. Волк, который с первобытных времён поселился на грани дикой природы и обиталища человека, не ладит с последним. Капканы, которые человек расставляет для волков, хищники чуют и обходят стороной. Мать, которая принесла волчонку полуживого зайца, даёт сыну первый урок ох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79280" y="0"/>
            <a:ext cx="8964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З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а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д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а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н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и</a:t>
            </a:r>
            <a:r>
              <a:rPr b="1" i="1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е </a:t>
            </a:r>
            <a:r>
              <a:rPr b="1" i="1" lang="en-US" sz="2800" spc="-1" strike="noStrike" u="sng">
                <a:solidFill>
                  <a:srgbClr val="6600cc"/>
                </a:solidFill>
                <a:uFillTx/>
                <a:latin typeface="Arial"/>
              </a:rPr>
              <a:t>II</a:t>
            </a:r>
            <a:r>
              <a:rPr b="1" i="1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строить  предложения так, чтобы придаточное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ределительное 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о замене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частным оборо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16000" y="1125360"/>
            <a:ext cx="7704000" cy="554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8ef2c2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1989000"/>
            <a:ext cx="705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99"/>
                </a:solidFill>
                <a:latin typeface="Comic Sans MS"/>
              </a:rPr>
              <a:t>Волк – это хищник, зверь, не терпящий слабых. У меня хранится снимок, присланный охотниками с Кавказа, с изображением белого волка. Волк, с первобытных времён поселившийся на грани дикой природы и обиталища человека, не ладит с последним. Капканы, расставленные человеком  для волков, хищники чуют и обходят стороной. Мать, принесшая  волчонку полуживого зайца, даёт сыну первый урок ох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6156360"/>
            <a:ext cx="91440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a9fe"/>
                </a:solidFill>
                <a:latin typeface="Arial"/>
              </a:rPr>
              <a:t>Действительные причастия</a:t>
            </a:r>
            <a:r>
              <a:rPr b="0" i="1" lang="en-US" sz="40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516720" y="1268280"/>
            <a:ext cx="2232000" cy="1008360"/>
          </a:xfrm>
          <a:prstGeom prst="cloudCallout">
            <a:avLst>
              <a:gd name="adj1" fmla="val -85064"/>
              <a:gd name="adj2" fmla="val 292046"/>
            </a:avLst>
          </a:prstGeom>
          <a:solidFill>
            <a:srgbClr val="66ff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19640" y="189000"/>
            <a:ext cx="2447640" cy="1295280"/>
          </a:xfrm>
          <a:prstGeom prst="cloudCallout">
            <a:avLst>
              <a:gd name="adj1" fmla="val 1037"/>
              <a:gd name="adj2" fmla="val 398773"/>
            </a:avLst>
          </a:prstGeom>
          <a:solidFill>
            <a:srgbClr val="66ff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268280"/>
            <a:ext cx="2233440" cy="1368720"/>
          </a:xfrm>
          <a:prstGeom prst="cloudCallout">
            <a:avLst>
              <a:gd name="adj1" fmla="val 78217"/>
              <a:gd name="adj2" fmla="val 206148"/>
            </a:avLst>
          </a:prstGeom>
          <a:solidFill>
            <a:srgbClr val="66ff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01080" y="1628640"/>
            <a:ext cx="18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27900"/>
                </a:solidFill>
                <a:latin typeface="Arial"/>
              </a:rPr>
              <a:t>Терпящ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20720" y="549360"/>
            <a:ext cx="256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27900"/>
                </a:solidFill>
                <a:latin typeface="Arial"/>
              </a:rPr>
              <a:t>Поселивший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34160" y="1484280"/>
            <a:ext cx="200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27900"/>
                </a:solidFill>
                <a:latin typeface="Arial"/>
              </a:rPr>
              <a:t>Принесша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484360" y="4941720"/>
            <a:ext cx="1079640" cy="107964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189000 h 1079640"/>
              <a:gd name="textAreaBottom" fmla="*/ 78300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2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24360" y="5013360"/>
            <a:ext cx="935280" cy="1008000"/>
          </a:xfrm>
          <a:custGeom>
            <a:avLst/>
            <a:gdLst>
              <a:gd name="textAreaLeft" fmla="*/ 125280 w 935280"/>
              <a:gd name="textAreaRight" fmla="*/ 810000 w 935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2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2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124000" y="4292640"/>
            <a:ext cx="5616720" cy="1312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a9fe"/>
                </a:solidFill>
                <a:latin typeface="Arial"/>
              </a:rPr>
              <a:t>Страдательные  причастия</a:t>
            </a:r>
            <a:r>
              <a:rPr b="0" i="1" lang="en-US" sz="4000" spc="-1" strike="noStrike">
                <a:solidFill>
                  <a:srgbClr val="66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260280"/>
            <a:ext cx="2519640" cy="1656000"/>
          </a:xfrm>
          <a:prstGeom prst="cloudCallout">
            <a:avLst>
              <a:gd name="adj1" fmla="val -98328"/>
              <a:gd name="adj2" fmla="val 184037"/>
            </a:avLst>
          </a:prstGeom>
          <a:solidFill>
            <a:srgbClr val="66ff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189000"/>
            <a:ext cx="2592360" cy="1655640"/>
          </a:xfrm>
          <a:prstGeom prst="cloudCallout">
            <a:avLst>
              <a:gd name="adj1" fmla="val 85763"/>
              <a:gd name="adj2" fmla="val 188449"/>
            </a:avLst>
          </a:prstGeom>
          <a:solidFill>
            <a:srgbClr val="66ffff"/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22640" y="698400"/>
            <a:ext cx="239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Присланный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830560" y="692280"/>
            <a:ext cx="26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60093"/>
                </a:solidFill>
                <a:latin typeface="Comic Sans MS"/>
              </a:rPr>
              <a:t>Расставл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26920" y="1773360"/>
            <a:ext cx="1297080" cy="4248000"/>
          </a:xfrm>
          <a:custGeom>
            <a:avLst/>
            <a:gdLst>
              <a:gd name="textAreaLeft" fmla="*/ 173520 w 1297080"/>
              <a:gd name="textAreaRight" fmla="*/ 1123560 w 1297080"/>
              <a:gd name="textAreaTop" fmla="*/ 949320 h 4248000"/>
              <a:gd name="textAreaBottom" fmla="*/ 2899080 h 42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56" stAng="-5400000" swAng="-5400000"/>
                <a:lnTo>
                  <a:pt x="0" y="9912"/>
                </a:lnTo>
                <a:arcTo wR="21600" hR="9656" stAng="10800000" swAng="-3100656"/>
                <a:lnTo>
                  <a:pt x="14404" y="21048"/>
                </a:lnTo>
                <a:lnTo>
                  <a:pt x="21600" y="19440"/>
                </a:lnTo>
                <a:lnTo>
                  <a:pt x="14404" y="16728"/>
                </a:lnTo>
                <a:lnTo>
                  <a:pt x="14404" y="18760"/>
                </a:lnTo>
                <a:arcTo wR="21600" hR="9656" stAng="7699344" swAng="3080283"/>
                <a:lnTo>
                  <a:pt x="2" y="9784"/>
                </a:lnTo>
                <a:arcTo wR="21600" hR="9656" stAng="-10779627" swAng="5379627"/>
                <a:close/>
              </a:path>
              <a:path fill="darkenLess" w="21600" h="21600">
                <a:moveTo>
                  <a:pt x="21600" y="0"/>
                </a:moveTo>
                <a:arcTo wR="21600" hR="9656" stAng="-5400000" swAng="-5400000"/>
                <a:lnTo>
                  <a:pt x="0" y="9656"/>
                </a:lnTo>
                <a:arcTo wR="21600" hR="9656" stAng="10800000" swAng="-20373"/>
                <a:lnTo>
                  <a:pt x="2" y="9784"/>
                </a:lnTo>
                <a:arcTo wR="21600" hR="9656" stAng="-10779627" swAng="5379627"/>
                <a:close/>
              </a:path>
            </a:pathLst>
          </a:custGeom>
          <a:solidFill>
            <a:srgbClr val="f2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740720" y="1773360"/>
            <a:ext cx="1224000" cy="424800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949320 h 4248000"/>
              <a:gd name="textAreaBottom" fmla="*/ 28738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656" stAng="-5400000" swAng="5400000"/>
                <a:lnTo>
                  <a:pt x="21600" y="9784"/>
                </a:lnTo>
                <a:arcTo wR="21600" hR="9656" stAng="0" swAng="3042286"/>
                <a:lnTo>
                  <a:pt x="7421" y="21012"/>
                </a:lnTo>
                <a:lnTo>
                  <a:pt x="0" y="19376"/>
                </a:lnTo>
                <a:lnTo>
                  <a:pt x="7421" y="16564"/>
                </a:lnTo>
                <a:lnTo>
                  <a:pt x="7421" y="18724"/>
                </a:lnTo>
                <a:arcTo wR="21600" hR="9656" stAng="3042286" swAng="-3032100"/>
                <a:lnTo>
                  <a:pt x="21600" y="9720"/>
                </a:lnTo>
                <a:arcTo wR="21600" hR="9656" stAng="-10186" swAng="-5389814"/>
                <a:close/>
              </a:path>
              <a:path fill="darkenLess" w="21600" h="21600">
                <a:moveTo>
                  <a:pt x="0" y="0"/>
                </a:moveTo>
                <a:arcTo wR="21600" hR="9656" stAng="-5400000" swAng="5400000"/>
                <a:lnTo>
                  <a:pt x="21600" y="9784"/>
                </a:lnTo>
                <a:arcTo wR="21600" hR="9656" stAng="0" swAng="-10186"/>
                <a:lnTo>
                  <a:pt x="21600" y="9720"/>
                </a:lnTo>
                <a:arcTo wR="21600" hR="9656" stAng="-10186" swAng="-5389814"/>
                <a:close/>
              </a:path>
            </a:pathLst>
          </a:custGeom>
          <a:solidFill>
            <a:srgbClr val="f2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611280" y="1052640"/>
            <a:ext cx="8280360" cy="44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cc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00cc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Действительные и   </a:t>
            </a:r>
            <a:endParaRPr b="1" lang="en-US" sz="1800" spc="1" strike="noStrike">
              <a:ln w="9360">
                <a:solidFill>
                  <a:srgbClr val="6600cc"/>
                </a:solidFill>
                <a:prstDash val="sysDot"/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00cc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cc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00cc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традательные  </a:t>
            </a:r>
            <a:endParaRPr b="1" lang="en-US" sz="1800" spc="1" strike="noStrike">
              <a:ln w="9360">
                <a:solidFill>
                  <a:srgbClr val="6600cc"/>
                </a:solidFill>
                <a:prstDash val="sysDot"/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00cc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6600cc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00cc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6600cc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008000"/>
                    </a:gs>
                    <a:gs pos="100000">
                      <a:srgbClr val="00cc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ричастия</a:t>
            </a:r>
            <a:endParaRPr b="1" lang="en-US" sz="1800" spc="1" strike="noStrike">
              <a:ln w="9360">
                <a:solidFill>
                  <a:srgbClr val="6600cc"/>
                </a:solidFill>
                <a:prstDash val="sysDot"/>
                <a:miter/>
              </a:ln>
              <a:gradFill rotWithShape="0">
                <a:gsLst>
                  <a:gs pos="0">
                    <a:srgbClr val="008000"/>
                  </a:gs>
                  <a:gs pos="100000">
                    <a:srgbClr val="00cc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41400">
            <a:solidFill>
              <a:srgbClr val="993366"/>
            </a:solidFill>
            <a:miter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1835280" y="0"/>
            <a:ext cx="730872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2690640" y="11444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Действительные и страдательные причастия</a:t>
            </a:r>
            <a:r>
              <a:rPr b="0" i="1" lang="en-US" sz="24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47640" y="476280"/>
          <a:ext cx="6072480" cy="6175440"/>
        </p:xfrm>
        <a:graphic>
          <a:graphicData uri="http://schemas.openxmlformats.org/drawingml/2006/table">
            <a:tbl>
              <a:tblPr/>
              <a:tblGrid>
                <a:gridCol w="2024280"/>
                <a:gridCol w="2023920"/>
                <a:gridCol w="2024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Действите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Страдате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ющ-, -ущ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ащ-, -ящ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ш-,    -вш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Имею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ем-, -ом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им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енн-, -ённ-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т-, -ин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7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              </a:t>
                      </a:r>
                      <a:r>
                        <a:rPr b="0" i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и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два </a:t>
                      </a:r>
                      <a:r>
                        <a:rPr b="1" i="1" lang="en-US" sz="18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  време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              </a:t>
                      </a:r>
                      <a:r>
                        <a:rPr b="0" i="1" lang="en-US" sz="18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чи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Образуются от глаго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Действитель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Страдатель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т  перехо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неперехо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возврат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толь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  </a:t>
                      </a:r>
                      <a:r>
                        <a:rPr b="0" i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ереход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4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</a:t>
                      </a:r>
                      <a:r>
                        <a:rPr b="1" lang="en-US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Имеют фор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полную                                       полную                   и            кратку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7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</a:t>
                      </a:r>
                      <a:r>
                        <a:rPr b="1" lang="en-US" sz="1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В предложении бываю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i="1" lang="en-US" sz="1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определением                                 определением     и      сказуем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414036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140360" y="2204640"/>
            <a:ext cx="57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40360" y="2565360"/>
            <a:ext cx="502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124000" y="119700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771640" y="119700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124000" y="191592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771640" y="191592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050920" y="270828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843280" y="270828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87640" y="270828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270828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16360" y="191628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8360" y="191628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68360" y="119700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16360" y="119700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156360" y="119700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804000" y="119700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6443640" y="191592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084720" y="270828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804000" y="263664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156360" y="335736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732720" y="335736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00720" y="119700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948360" y="119700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88000" y="191628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227640" y="2708280"/>
            <a:ext cx="144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948360" y="2637000"/>
            <a:ext cx="14472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00720" y="335772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77080" y="3357720"/>
            <a:ext cx="14436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979280" y="5805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11640" y="580536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79640" y="5877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79640" y="580536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56000" y="580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32720" y="580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195280" y="6381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932360" y="638172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638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19640" y="638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48360" y="63817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9T18:03:11Z</dcterms:created>
  <dc:creator>Dmitry</dc:creator>
  <dc:description/>
  <dc:language>en-US</dc:language>
  <cp:lastModifiedBy>Светлана</cp:lastModifiedBy>
  <dcterms:modified xsi:type="dcterms:W3CDTF">2011-07-21T18:35:22Z</dcterms:modified>
  <cp:revision>9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05000000000001024140</vt:lpwstr>
  </property>
</Properties>
</file>