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27B-CBF9-405E-A42F-13238B86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29A-0E89-4CC2-AD96-7D5B9609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1CE-107C-440B-AFE1-CD10AE1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6BA-EFC0-4E22-8E14-E355587B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044-FBED-439E-8823-4CCDF5F5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622-4288-4797-A971-FC712960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AE6-62D3-4585-A916-9B34131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6D8-1F05-42F4-B8DB-4629C2B6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26B-2C52-4C01-8D6C-4C8036C3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1F-1516-42B5-8535-7B047545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44B-0C19-4CC0-BCA0-D38C280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339-A249-4E5C-AEBF-560D6C6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A5B-AADB-44C9-B035-9CB3D8CDB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7"/>
          <p:cNvSpPr/>
          <p:nvPr/>
        </p:nvSpPr>
        <p:spPr>
          <a:xfrm>
            <a:off x="296712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РУССКИЙ ЯЗЫ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7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042920" y="0"/>
            <a:ext cx="8101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списать текст, вместо точек вставляя подходящий суффикс, выделите его графически и 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ействительным причастием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надписать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,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традательным причастием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 написать –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.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Расставить недостающие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78501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89280"/>
            <a:ext cx="785016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У меня живёт синица  пораз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..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ая меня с первой вст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 мой силок   поставл  ..    ый на поляне  попалась сини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Синичка  недавно прыга ..    ая  пища..    ая  лежала б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вижения. В тепле я достал синичку и положил её на с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застел..       ый скатертью. Каково же было моё уд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огда синичка неожиданно встрепенулась. Она летала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освещ…     ой солнцем комн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1557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17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2120" y="30686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26440" y="2133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5140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0884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050920" y="306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840" y="299736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2480" y="3645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54800" y="400536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3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0440" y="5157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0"/>
            <a:ext cx="705636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907920"/>
            <a:ext cx="448632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43600" y="981000"/>
            <a:ext cx="4100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376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250200" y="0"/>
            <a:ext cx="889308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0"/>
            <a:ext cx="6481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907920"/>
            <a:ext cx="439236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 нами Бог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940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33360"/>
            <a:ext cx="914400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33360"/>
            <a:ext cx="6697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49320" y="1125360"/>
            <a:ext cx="71517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 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«С нами Бог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0" t="11491" r="0" b="2638"/>
          <a:stretch/>
        </p:blipFill>
        <p:spPr>
          <a:xfrm>
            <a:off x="169236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87280" y="1764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42920" y="981000"/>
            <a:ext cx="727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Бьющие фонтаны; доносящийся шум, предлагающий услуги фотограф; искрящиеся капельки; выкрашенная скамья; негодующие, взъерошенные воробьи; опускающийся на город веч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90160" y="476280"/>
            <a:ext cx="67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инение-миниатюра «В городском сквере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484360" y="253692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есь байкальский берег состоит из обточенных временем камешков. Трое мальчишек сидящих на берегу швыряли в воду камни. У самых ног пенился байкальский прибой дышавший в лицо прохладой сушилась сеть и качалась лодка просмоленная рыбаками. Я подошёл к мальчишкам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99"/>
                </a:solidFill>
                <a:latin typeface="Comic Sans MS"/>
              </a:rPr>
              <a:t>Весь байкальский берег состоит из обточенных временем камешков. Трое мальчишек, сидящих на берегу, швыряли в воду камни. У самых ног пенился байкальский прибой, дышавший в лицо прохладой, сушилась сеть и качалась лодка, просмоленная рыбаками. Я подошёл к мальчишкам,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125360"/>
            <a:ext cx="748656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916280"/>
            <a:ext cx="66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к – это хищник, зверь который не терпит слабых. У меня хранится снимок, который прислали охотники с Кавказа, с изображением белого волка. Волк, который с первобытных времён поселился на грани дикой природы и обиталища человека, не ладит с последним. Капканы, которые человек расставляет для волков, хищники чуют и обходят стороной. Мать, которая принесла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125360"/>
            <a:ext cx="770400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98900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Волк – это хищник, зверь, не терпящий слабых. У меня хранится снимок, присланный охотниками с Кавказа, с изображением белого волка. Волк, с первобытных времён поселившийся на грани дикой природы и обиталища человека, не ладит с последним. Капканы, расставленные человеком  для волков, хищники чуют и обходят стороной. Мать, принесшая 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Действительные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1268280"/>
            <a:ext cx="2232000" cy="1008360"/>
          </a:xfrm>
          <a:prstGeom prst="cloudCallout">
            <a:avLst>
              <a:gd name="adj1" fmla="val -85064"/>
              <a:gd name="adj2" fmla="val 292046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89000"/>
            <a:ext cx="2447640" cy="1295280"/>
          </a:xfrm>
          <a:prstGeom prst="cloudCallout">
            <a:avLst>
              <a:gd name="adj1" fmla="val 1037"/>
              <a:gd name="adj2" fmla="val 398773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268280"/>
            <a:ext cx="2233440" cy="1368720"/>
          </a:xfrm>
          <a:prstGeom prst="cloudCallout">
            <a:avLst>
              <a:gd name="adj1" fmla="val 78217"/>
              <a:gd name="adj2" fmla="val 206148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1080" y="16286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Терпя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0720" y="54936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осели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4160" y="1484280"/>
            <a:ext cx="20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ринесш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4941720"/>
            <a:ext cx="1079640" cy="1079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013360"/>
            <a:ext cx="935280" cy="1008000"/>
          </a:xfrm>
          <a:custGeom>
            <a:avLst/>
            <a:gdLst>
              <a:gd name="textAreaLeft" fmla="*/ 125280 w 935280"/>
              <a:gd name="textAreaRight" fmla="*/ 810000 w 935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4292640"/>
            <a:ext cx="56167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Страдательные 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60280"/>
            <a:ext cx="2519640" cy="1656000"/>
          </a:xfrm>
          <a:prstGeom prst="cloudCallout">
            <a:avLst>
              <a:gd name="adj1" fmla="val -98328"/>
              <a:gd name="adj2" fmla="val 184037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89000"/>
            <a:ext cx="2592360" cy="1655640"/>
          </a:xfrm>
          <a:prstGeom prst="cloudCallout">
            <a:avLst>
              <a:gd name="adj1" fmla="val 85763"/>
              <a:gd name="adj2" fmla="val 188449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2640" y="69840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Прислан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30560" y="69228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Расст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73360"/>
            <a:ext cx="1297080" cy="424800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949320 h 4248000"/>
              <a:gd name="textAreaBottom" fmla="*/ 28990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56" stAng="-5400000" swAng="-5400000"/>
                <a:lnTo>
                  <a:pt x="0" y="9912"/>
                </a:lnTo>
                <a:arcTo wR="21600" hR="9656" stAng="10800000" swAng="-3100656"/>
                <a:lnTo>
                  <a:pt x="14404" y="21048"/>
                </a:lnTo>
                <a:lnTo>
                  <a:pt x="21600" y="19440"/>
                </a:lnTo>
                <a:lnTo>
                  <a:pt x="14404" y="16728"/>
                </a:lnTo>
                <a:lnTo>
                  <a:pt x="14404" y="18760"/>
                </a:lnTo>
                <a:arcTo wR="21600" hR="9656" stAng="7699344" swAng="3080283"/>
                <a:lnTo>
                  <a:pt x="2" y="9784"/>
                </a:lnTo>
                <a:arcTo wR="21600" hR="9656" stAng="-10779627" swAng="5379627"/>
                <a:close/>
              </a:path>
              <a:path fill="darkenLess" w="21600" h="21600">
                <a:moveTo>
                  <a:pt x="21600" y="0"/>
                </a:moveTo>
                <a:arcTo wR="21600" hR="9656" stAng="-5400000" swAng="-5400000"/>
                <a:lnTo>
                  <a:pt x="0" y="9656"/>
                </a:lnTo>
                <a:arcTo wR="21600" hR="9656" stAng="10800000" swAng="-20373"/>
                <a:lnTo>
                  <a:pt x="2" y="9784"/>
                </a:lnTo>
                <a:arcTo wR="21600" hR="9656" stAng="-10779627" swAng="5379627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0720" y="1773360"/>
            <a:ext cx="1224000" cy="424800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949320 h 4248000"/>
              <a:gd name="textAreaBottom" fmla="*/ 28738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3042286"/>
                <a:lnTo>
                  <a:pt x="7421" y="21012"/>
                </a:lnTo>
                <a:lnTo>
                  <a:pt x="0" y="19376"/>
                </a:lnTo>
                <a:lnTo>
                  <a:pt x="7421" y="16564"/>
                </a:lnTo>
                <a:lnTo>
                  <a:pt x="7421" y="18724"/>
                </a:lnTo>
                <a:arcTo wR="21600" hR="9656" stAng="3042286" swAng="-3032100"/>
                <a:lnTo>
                  <a:pt x="21600" y="9720"/>
                </a:lnTo>
                <a:arcTo wR="21600" hR="9656" stAng="-10186" swAng="-5389814"/>
                <a:close/>
              </a:path>
              <a:path fill="darkenLess"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-10186"/>
                <a:lnTo>
                  <a:pt x="21600" y="9720"/>
                </a:lnTo>
                <a:arcTo wR="21600" hR="9656" stAng="-10186" swAng="-5389814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11280" y="105264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йствительные и 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радательные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астия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69064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Действительные и страдательные причастия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476280"/>
          <a:ext cx="6072480" cy="617544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ющ-, -у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ащ-, -я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ш-,    -вш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ме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м-, -о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и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нн-, -ённ-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т-, -и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два </a:t>
                      </a:r>
                      <a:r>
                        <a:rPr b="1" i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бразуются от глаго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  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е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вр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Имеют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лную                                       полную                   и            кратк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В предложении быв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ределением                                 определением     и      сказуем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14036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40360" y="220464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56536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2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7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2400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71640" y="19159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91628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5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0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4364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0847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04000" y="2636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5636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3272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979280" y="58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805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5805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280" y="638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638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8:03:11Z</dcterms:created>
  <dc:creator>Dmitry</dc:creator>
  <dc:description/>
  <dc:language>en-US</dc:language>
  <cp:lastModifiedBy>Светлана</cp:lastModifiedBy>
  <dcterms:modified xsi:type="dcterms:W3CDTF">2011-07-21T18:35:22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5000000000001024140</vt:lpwstr>
  </property>
</Properties>
</file>