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B9D-EA10-4F32-8711-BE14E594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D33-FC5A-4C7E-A796-8EA40BA5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CBD9-8569-467B-BC1D-EE8DB821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954-2D68-43D8-89F4-549C1B47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699-D6C2-4491-B641-02008893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0EB-CD48-4D99-9242-BF11F2C4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5DF-4B63-4F0C-A69F-76AA9F4D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72B-42B3-4F51-AFE3-ED509457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7CF-3034-4D1E-AF0D-0AD9ED6E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755-0D07-492D-AB64-F91B7B01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B55-DB72-4760-A7A8-0589E6E2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043-0DBC-4646-A80B-E9E6A470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FC14-ADB5-473C-BDFF-5A4677D2E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7"/>
          <p:cNvSpPr/>
          <p:nvPr/>
        </p:nvSpPr>
        <p:spPr>
          <a:xfrm>
            <a:off x="296712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05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40087"/>
                </a:solidFill>
                <a:latin typeface="Arial"/>
              </a:rPr>
              <a:t>РУССКИЙ ЯЗЫ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40087"/>
                </a:solidFill>
                <a:latin typeface="Arial"/>
              </a:rPr>
              <a:t>7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41400">
            <a:solidFill>
              <a:srgbClr val="993366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042920" y="0"/>
            <a:ext cx="81010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списать текст, вместо точек вставляя подходящий суффикс, выделите его графически и  над </a:t>
            </a:r>
            <a:r>
              <a:rPr b="0" lang="uk-UA" sz="2000" spc="-1" strike="noStrike">
                <a:solidFill>
                  <a:srgbClr val="000000"/>
                </a:solidFill>
                <a:latin typeface="Californian FB"/>
              </a:rPr>
              <a:t>действительным причастием 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надписать букву </a:t>
            </a:r>
            <a:r>
              <a:rPr b="0" lang="uk-UA" sz="2000" spc="-1" strike="noStrike">
                <a:solidFill>
                  <a:srgbClr val="000000"/>
                </a:solidFill>
                <a:latin typeface="Californian FB"/>
              </a:rPr>
              <a:t>д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, над </a:t>
            </a:r>
            <a:r>
              <a:rPr b="0" lang="uk-UA" sz="2000" spc="-1" strike="noStrike">
                <a:solidFill>
                  <a:srgbClr val="000000"/>
                </a:solidFill>
                <a:latin typeface="Californian FB"/>
              </a:rPr>
              <a:t>страдательным причастием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 написать – букву </a:t>
            </a:r>
            <a:r>
              <a:rPr b="0" lang="uk-UA" sz="2000" spc="-1" strike="noStrike">
                <a:solidFill>
                  <a:srgbClr val="000000"/>
                </a:solidFill>
                <a:latin typeface="Californian FB"/>
              </a:rPr>
              <a:t>с. 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Расставить недостающие знаки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413000"/>
            <a:ext cx="78501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1889280"/>
            <a:ext cx="7850160" cy="40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У меня живёт синица  пораз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..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ая меня с первой встре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В мой силок   поставл  ..    ый на поляне  попалась синич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Синичка  недавно прыга ..    ая  пища..    ая  лежала бе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движения. В тепле я достал синичку и положил её на ст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застел..       ый скатертью. Каково же было моё уди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когда синичка неожиданно встрепенулась. Она летала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освещ…     ой солнцем комна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6360" y="1557360"/>
            <a:ext cx="57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в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1773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12120" y="306864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26440" y="2133720"/>
            <a:ext cx="740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51400" y="24210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08840" y="24210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2781360"/>
            <a:ext cx="57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в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050920" y="306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24840" y="299736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2480" y="36450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54800" y="4005360"/>
            <a:ext cx="740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831636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10440" y="5157720"/>
            <a:ext cx="740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80000" y="2781360"/>
            <a:ext cx="57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в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4765680" y="2336760"/>
            <a:ext cx="3017880" cy="4079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6669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0"/>
            <a:ext cx="7056360" cy="7642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3399"/>
                </a:solidFill>
                <a:latin typeface="Monotype Corsiva"/>
              </a:rPr>
              <a:t>«С  нами  Бог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907920"/>
            <a:ext cx="448632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род всегда был главным героем его исторических полотен. И в новой задуманной Суриковым картине героями стали солдаты – мужики в военных мундирах, под командою отца - командира Адлександра Суворова, совершающие переход через Альпы и удивляющие своим подвигом  всю Европ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уриков читал письма и документы, неделями рылся в архивах и разыскал наконец  собственноручный рапорт полководца: « На каждом шаге в этом царстве ужаса зияющие пропасти представляли отверстые гробы смерти. Дремучие, мрачные ночи, непрестанно ударяющие громы, льющиеся дожди и густой туман облаков, при шумных водопадах, с каменьями с вершин низвергающихся, увеличивали трепет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Художник читал и видел русских солда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43600" y="981000"/>
            <a:ext cx="41004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376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4765680" y="2336760"/>
            <a:ext cx="3017880" cy="4079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250200" y="0"/>
            <a:ext cx="8893080" cy="6669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0"/>
            <a:ext cx="6481800" cy="7642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3399"/>
                </a:solidFill>
                <a:latin typeface="Monotype Corsiva"/>
              </a:rPr>
              <a:t>«С  нами  Бог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67280" y="907920"/>
            <a:ext cx="439236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ысоко слева- любимый солдатами командир, без шапки, в походном плаще, осаживающий коня на краю пропасти. А через всю картину по диагонали – стремительной лавиной несущееся с кручи русское войско. Бесстрашные,неутомимые, с тяжелыми пушками, русские солдаты готовы ринуться в бездну, вдохновляемые своим полководцем и движимые одним желанием  - п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жить отечеств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еднем  плане- коренная фигура солдата, совершающего решительный прыжок. Подгоняемый сверху идущими рядами, он с ужасом смотрит на тучи снежной пыли, клубящейся над пропастью. Рядом с ним бывалый солдат, осеняющий себя крестом. Но не обреченность мы читаем на лицах, а боевой дух и решимость, предвкушение победы над обманутым противником. На наших глазах оживает история, и мы слышим легендарные слова великого полководца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 нами Бог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39402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4765680" y="2336760"/>
            <a:ext cx="3017880" cy="4079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333360"/>
            <a:ext cx="9144000" cy="6335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19280" y="333360"/>
            <a:ext cx="6697800" cy="7642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3399"/>
                </a:solidFill>
                <a:latin typeface="Monotype Corsiva"/>
              </a:rPr>
              <a:t>«С  нами  Бог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49320" y="1125360"/>
            <a:ext cx="715176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род всегда был главным героем его исторических полотен. И в новой задуманной Суриковым картине героями стали солдаты – мужики в военных мундирах, под командою отца - командира Адлександра Суворова, совершающие переход через Альпы и удивляющие своим подвигом  всю Европ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уриков читал письма и документы, неделями рылся в архивах и разыскал наконец  собственноручный рапорт полководца: « На каждом шаге в этом царстве ужаса зияющие пропасти представляли отверстые гробы смерти. Дремучие, мрачные ночи, непрестанно ударяющие громы, льющиеся дожди и густой туман облаков, при шумных водопадах, с каменьями с вершин низвергающихся, увеличивали трепет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Художник читал и видел русских солда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ысоко слева- любимый солдатами командир, без шапки, в походном плаще, осаживающий коня на краю пропасти. А через всю картину по диагонали – стремительной лавиной несущееся с кручи русское войско. Бесстрашные, неутомимые, с тяжелыми пушками, русские солдаты готовы ринуться в бездну, вдохновляемые своим полководцем и движимые одним желанием  - п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жить отечест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ереднем  плане- коренная фигура солдата, совершающего решительный прыжок. Подгоняемый сверху идущими рядами, он с ужасом смотрит на тучи снежной пыли, клубящейся над пропастью. Рядом с ним бывалый солдат, осеняющий себя крестом. Но не обреченность мы читаем на лицах, а боевой дух и решимость, предвкушение победы над обманутым противником. На наших глазах оживает история, и мы слышим легендарные слова великого полководца: «С нами Бог!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rcRect l="0" t="11491" r="0" b="2638"/>
          <a:stretch/>
        </p:blipFill>
        <p:spPr>
          <a:xfrm>
            <a:off x="169236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187280" y="17640"/>
            <a:ext cx="68407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042920" y="981000"/>
            <a:ext cx="727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Бьющие фонтаны; доносящийся шум, предлагающий услуги фотограф; искрящиеся капельки; выкрашенная скамья; негодующие, взъерошенные воробьи; опускающийся на город веч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90160" y="476280"/>
            <a:ext cx="67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чинение-миниатюра «В городском сквере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2484360" y="253692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9292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7"/>
          <p:cNvSpPr/>
          <p:nvPr/>
        </p:nvSpPr>
        <p:spPr>
          <a:xfrm>
            <a:off x="131112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468360" y="357336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8784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08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)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3789360"/>
            <a:ext cx="122400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08640"/>
            <a:ext cx="961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3)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4) 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…и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5516640"/>
            <a:ext cx="100800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6381720"/>
            <a:ext cx="86508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6381720"/>
            <a:ext cx="72072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4724280"/>
            <a:ext cx="1079280" cy="31932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-450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</a:t>
            </a: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I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 :</a:t>
            </a:r>
            <a:r>
              <a:rPr b="1" i="1" lang="ru-RU" sz="24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предложения в поряд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ющем схем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404640"/>
            <a:ext cx="7199280" cy="3672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8ef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360" y="981000"/>
            <a:ext cx="7128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Весь байкальский берег состоит из обточенных временем камешков. Трое мальчишек сидящих на берегу швыряли в воду камни. У самых ног пенился байкальский прибой дышавший в лицо прохладой сушилась сеть и качалась лодка просмоленная рыбаками. Я подошёл к мальчишкам доверчиво улыбнувшимся м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929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7"/>
          <p:cNvSpPr/>
          <p:nvPr/>
        </p:nvSpPr>
        <p:spPr>
          <a:xfrm>
            <a:off x="131112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468360" y="357336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8784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508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)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789360"/>
            <a:ext cx="122400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08640"/>
            <a:ext cx="961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3)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4) 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…и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5516640"/>
            <a:ext cx="100800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6381720"/>
            <a:ext cx="86508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2360" y="6381720"/>
            <a:ext cx="72072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4724280"/>
            <a:ext cx="1079280" cy="31932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-450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</a:t>
            </a: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I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 :</a:t>
            </a:r>
            <a:r>
              <a:rPr b="1" i="1" lang="ru-RU" sz="24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предложения в поряд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ющем схем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404640"/>
            <a:ext cx="7199280" cy="3672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8ef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981000"/>
            <a:ext cx="7128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99"/>
                </a:solidFill>
                <a:latin typeface="Comic Sans MS"/>
              </a:rPr>
              <a:t>Весь байкальский берег состоит из обточенных временем камешков. Трое мальчишек, сидящих на берегу, швыряли в воду камни. У самых ног пенился байкальский прибой, дышавший в лицо прохладой, сушилась сеть и качалась лодка, просмоленная рыбаками. Я подошёл к мальчишкам, доверчиво улыбнувшимся м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0"/>
            <a:ext cx="8964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</a:t>
            </a: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II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роить  предложения так, чтобы придаточное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льное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замене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астным оборо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1125360"/>
            <a:ext cx="7486560" cy="554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8ef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916280"/>
            <a:ext cx="66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к – это хищник, зверь который не терпит слабых. У меня хранится снимок, который прислали охотники с Кавказа, с изображением белого волка. Волк, который с первобытных времён поселился на грани дикой природы и обиталища человека, не ладит с последним. Капканы, которые человек расставляет для волков, хищники чуют и обходят стороной. Мать, которая принесла волчонку полуживого зайца, даёт сыну первый урок ох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0"/>
            <a:ext cx="8964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</a:t>
            </a: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II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роить  предложения так, чтобы придаточное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льное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замене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астным оборо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1125360"/>
            <a:ext cx="7704000" cy="554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8ef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989000"/>
            <a:ext cx="705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Comic Sans MS"/>
              </a:rPr>
              <a:t>Волк – это хищник, зверь, не терпящий слабых. У меня хранится снимок, присланный охотниками с Кавказа, с изображением белого волка. Волк, с первобытных времён поселившийся на грани дикой природы и обиталища человека, не ладит с последним. Капканы, расставленные человеком  для волков, хищники чуют и обходят стороной. Мать, принесшая  волчонку полуживого зайца, даёт сыну первый урок ох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a9fe"/>
                </a:solidFill>
                <a:latin typeface="Arial"/>
              </a:rPr>
              <a:t>Действительные причастия</a:t>
            </a:r>
            <a:r>
              <a:rPr b="0" i="1" lang="en-US" sz="4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1268280"/>
            <a:ext cx="2232000" cy="1008360"/>
          </a:xfrm>
          <a:prstGeom prst="cloudCallout">
            <a:avLst>
              <a:gd name="adj1" fmla="val -85064"/>
              <a:gd name="adj2" fmla="val 292046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189000"/>
            <a:ext cx="2447640" cy="1295280"/>
          </a:xfrm>
          <a:prstGeom prst="cloudCallout">
            <a:avLst>
              <a:gd name="adj1" fmla="val 1037"/>
              <a:gd name="adj2" fmla="val 398773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268280"/>
            <a:ext cx="2233440" cy="1368720"/>
          </a:xfrm>
          <a:prstGeom prst="cloudCallout">
            <a:avLst>
              <a:gd name="adj1" fmla="val 78217"/>
              <a:gd name="adj2" fmla="val 206148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1080" y="162864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7900"/>
                </a:solidFill>
                <a:latin typeface="Arial"/>
              </a:rPr>
              <a:t>Терпящ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0720" y="549360"/>
            <a:ext cx="25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7900"/>
                </a:solidFill>
                <a:latin typeface="Arial"/>
              </a:rPr>
              <a:t>Поселивший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4160" y="1484280"/>
            <a:ext cx="20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7900"/>
                </a:solidFill>
                <a:latin typeface="Arial"/>
              </a:rPr>
              <a:t>Принесша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4941720"/>
            <a:ext cx="1079640" cy="107964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2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5013360"/>
            <a:ext cx="935280" cy="1008000"/>
          </a:xfrm>
          <a:custGeom>
            <a:avLst/>
            <a:gdLst>
              <a:gd name="textAreaLeft" fmla="*/ 125280 w 935280"/>
              <a:gd name="textAreaRight" fmla="*/ 810000 w 935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2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24000" y="4292640"/>
            <a:ext cx="561672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a9fe"/>
                </a:solidFill>
                <a:latin typeface="Arial"/>
              </a:rPr>
              <a:t>Страдательные  причастия</a:t>
            </a:r>
            <a:r>
              <a:rPr b="0" i="1" lang="en-US" sz="4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260280"/>
            <a:ext cx="2519640" cy="1656000"/>
          </a:xfrm>
          <a:prstGeom prst="cloudCallout">
            <a:avLst>
              <a:gd name="adj1" fmla="val -98328"/>
              <a:gd name="adj2" fmla="val 184037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189000"/>
            <a:ext cx="2592360" cy="1655640"/>
          </a:xfrm>
          <a:prstGeom prst="cloudCallout">
            <a:avLst>
              <a:gd name="adj1" fmla="val 85763"/>
              <a:gd name="adj2" fmla="val 188449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22640" y="69840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Прислан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30560" y="69228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Расстав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1773360"/>
            <a:ext cx="1297080" cy="424800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949320 h 4248000"/>
              <a:gd name="textAreaBottom" fmla="*/ 28990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56" stAng="-5400000" swAng="-5400000"/>
                <a:lnTo>
                  <a:pt x="0" y="9912"/>
                </a:lnTo>
                <a:arcTo wR="21600" hR="9656" stAng="10800000" swAng="-3100656"/>
                <a:lnTo>
                  <a:pt x="14404" y="21048"/>
                </a:lnTo>
                <a:lnTo>
                  <a:pt x="21600" y="19440"/>
                </a:lnTo>
                <a:lnTo>
                  <a:pt x="14404" y="16728"/>
                </a:lnTo>
                <a:lnTo>
                  <a:pt x="14404" y="18760"/>
                </a:lnTo>
                <a:arcTo wR="21600" hR="9656" stAng="7699344" swAng="3080283"/>
                <a:lnTo>
                  <a:pt x="2" y="9784"/>
                </a:lnTo>
                <a:arcTo wR="21600" hR="9656" stAng="-10779627" swAng="5379627"/>
                <a:close/>
              </a:path>
              <a:path fill="darkenLess" w="21600" h="21600">
                <a:moveTo>
                  <a:pt x="21600" y="0"/>
                </a:moveTo>
                <a:arcTo wR="21600" hR="9656" stAng="-5400000" swAng="-5400000"/>
                <a:lnTo>
                  <a:pt x="0" y="9656"/>
                </a:lnTo>
                <a:arcTo wR="21600" hR="9656" stAng="10800000" swAng="-20373"/>
                <a:lnTo>
                  <a:pt x="2" y="9784"/>
                </a:lnTo>
                <a:arcTo wR="21600" hR="9656" stAng="-10779627" swAng="5379627"/>
                <a:close/>
              </a:path>
            </a:pathLst>
          </a:custGeom>
          <a:solidFill>
            <a:srgbClr val="f2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40720" y="1773360"/>
            <a:ext cx="1224000" cy="424800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949320 h 4248000"/>
              <a:gd name="textAreaBottom" fmla="*/ 28738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56" stAng="-5400000" swAng="5400000"/>
                <a:lnTo>
                  <a:pt x="21600" y="9784"/>
                </a:lnTo>
                <a:arcTo wR="21600" hR="9656" stAng="0" swAng="3042286"/>
                <a:lnTo>
                  <a:pt x="7421" y="21012"/>
                </a:lnTo>
                <a:lnTo>
                  <a:pt x="0" y="19376"/>
                </a:lnTo>
                <a:lnTo>
                  <a:pt x="7421" y="16564"/>
                </a:lnTo>
                <a:lnTo>
                  <a:pt x="7421" y="18724"/>
                </a:lnTo>
                <a:arcTo wR="21600" hR="9656" stAng="3042286" swAng="-3032100"/>
                <a:lnTo>
                  <a:pt x="21600" y="9720"/>
                </a:lnTo>
                <a:arcTo wR="21600" hR="9656" stAng="-10186" swAng="-5389814"/>
                <a:close/>
              </a:path>
              <a:path fill="darkenLess" w="21600" h="21600">
                <a:moveTo>
                  <a:pt x="0" y="0"/>
                </a:moveTo>
                <a:arcTo wR="21600" hR="9656" stAng="-5400000" swAng="5400000"/>
                <a:lnTo>
                  <a:pt x="21600" y="9784"/>
                </a:lnTo>
                <a:arcTo wR="21600" hR="9656" stAng="0" swAng="-10186"/>
                <a:lnTo>
                  <a:pt x="21600" y="9720"/>
                </a:lnTo>
                <a:arcTo wR="21600" hR="9656" stAng="-10186" swAng="-5389814"/>
                <a:close/>
              </a:path>
            </a:pathLst>
          </a:custGeom>
          <a:solidFill>
            <a:srgbClr val="f2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611280" y="1052640"/>
            <a:ext cx="828036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ействительные и   </a:t>
            </a:r>
            <a:endParaRPr b="1" lang="en-US" sz="1800" spc="1" strike="noStrike">
              <a:ln w="9360">
                <a:solidFill>
                  <a:srgbClr val="6600cc"/>
                </a:solidFill>
                <a:prstDash val="sysDot"/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радательные  </a:t>
            </a:r>
            <a:endParaRPr b="1" lang="en-US" sz="1800" spc="1" strike="noStrike">
              <a:ln w="9360">
                <a:solidFill>
                  <a:srgbClr val="6600cc"/>
                </a:solidFill>
                <a:prstDash val="sysDot"/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6600cc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частия</a:t>
            </a:r>
            <a:endParaRPr b="1" lang="en-US" sz="1800" spc="1" strike="noStrike">
              <a:ln w="9360">
                <a:solidFill>
                  <a:srgbClr val="6600cc"/>
                </a:solidFill>
                <a:prstDash val="sysDot"/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41400">
            <a:solidFill>
              <a:srgbClr val="993366"/>
            </a:solidFill>
            <a:miter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2690640" y="1144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Действительные и страдательные причастия</a:t>
            </a:r>
            <a:r>
              <a:rPr b="0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47640" y="476280"/>
          <a:ext cx="6072480" cy="6175440"/>
        </p:xfrm>
        <a:graphic>
          <a:graphicData uri="http://schemas.openxmlformats.org/drawingml/2006/table">
            <a:tbl>
              <a:tblPr/>
              <a:tblGrid>
                <a:gridCol w="2024280"/>
                <a:gridCol w="2023920"/>
                <a:gridCol w="2024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ейств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трад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ющ-, -ущ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ащ-, -ящ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ш-,    -вш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Име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ем-, -ом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им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енн-, -ённ-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т-, -ин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два </a:t>
                      </a:r>
                      <a:r>
                        <a:rPr b="1" i="1" lang="en-US" sz="1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Образуются от глаго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ейств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трад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т  перехо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еперехо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звр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оль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рехо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1" lang="en-US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Имеют ф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лную                                       полную                   и            кратк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en-US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В предложении быв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пределением                                 определением     и      сказуем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14036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140360" y="2204640"/>
            <a:ext cx="57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40360" y="2565360"/>
            <a:ext cx="50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2400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7164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24000" y="19159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771640" y="191592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2708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843280" y="2708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2708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2708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191628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191628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15636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80400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43640" y="19159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084720" y="2708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804000" y="263664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156360" y="335736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732720" y="335736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0072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4836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191628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7640" y="2708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48360" y="26370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33577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33577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979280" y="5805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5805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587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79640" y="5805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580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2720" y="580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95280" y="6381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32360" y="6381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638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638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638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18:03:11Z</dcterms:created>
  <dc:creator>Dmitry</dc:creator>
  <dc:description/>
  <dc:language>en-US</dc:language>
  <cp:lastModifiedBy>Светлана</cp:lastModifiedBy>
  <dcterms:modified xsi:type="dcterms:W3CDTF">2011-07-21T18:35:22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5000000000001024140</vt:lpwstr>
  </property>
</Properties>
</file>