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1E6-3FED-470D-9402-C98F5FC8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743-A775-4F37-9667-F50D7396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641-4322-414E-A222-D8945E21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FF0-5EF7-4B39-95A2-4AFF9C5D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D712-1073-4492-825D-47958EA0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F28C-1218-41D0-87CB-27E7F095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E8D9-EC4C-4835-8F81-A3A8FA3D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5A49-DB62-4E84-A0A6-1A7AB8DA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4C83-554C-4771-81CD-2B3F3977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1552-6051-4D31-89D0-565BFB2A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417E-75E7-4D44-8B05-13B81CEB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DB4-87A1-4D80-9932-F12AF7BA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FADF-B8AD-44E3-8C0B-FE2BFE98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4CB4-5275-4A6C-8588-93759B04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3B17-AD37-4366-A116-8658C2C0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83F9-D982-4D8B-8018-16AF9A29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3CA9-F552-4EC9-B514-C3A9E965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116-CEBE-46BE-B7EB-6AD52145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18E-CF24-437C-B563-9A61564E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6B7-9539-4C17-B719-FD8401F9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FF4-3CD2-4801-8705-7930182F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2B5-B88A-4723-B7ED-2C9D9CAA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82D-D16C-4F0F-89BC-E36C2802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D63-124B-456E-9242-5C280834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853C-3936-4D6D-9BE3-0B00627C54A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9877-112B-4D51-B626-A4EBF429B7B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317520" y="1085760"/>
            <a:ext cx="8240760" cy="2211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 – А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43466"/>
                </a:solidFill>
                <a:latin typeface="Times New Roman"/>
              </a:rPr>
              <a:t>Учитель Е.А. Михал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"/>
          <p:cNvGrpSpPr/>
          <p:nvPr/>
        </p:nvGrpSpPr>
        <p:grpSpPr>
          <a:xfrm>
            <a:off x="539640" y="1028880"/>
            <a:ext cx="7293240" cy="5267160"/>
            <a:chOff x="539640" y="1028880"/>
            <a:chExt cx="7293240" cy="5267160"/>
          </a:xfrm>
        </p:grpSpPr>
        <p:sp>
          <p:nvSpPr>
            <p:cNvPr id="87" name="Rectangle 8"/>
            <p:cNvSpPr/>
            <p:nvPr/>
          </p:nvSpPr>
          <p:spPr>
            <a:xfrm>
              <a:off x="539640" y="3708720"/>
              <a:ext cx="7293240" cy="2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970720" y="2414880"/>
              <a:ext cx="2430720" cy="129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2970720" y="1028880"/>
              <a:ext cx="194400" cy="13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5207400" y="1028880"/>
              <a:ext cx="194400" cy="13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16"/>
            <p:cNvSpPr/>
            <p:nvPr/>
          </p:nvSpPr>
          <p:spPr>
            <a:xfrm>
              <a:off x="1803600" y="3985920"/>
              <a:ext cx="4862160" cy="23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17"/>
            <p:cNvSpPr/>
            <p:nvPr/>
          </p:nvSpPr>
          <p:spPr>
            <a:xfrm>
              <a:off x="3456720" y="4632840"/>
              <a:ext cx="1555920" cy="83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Рисунок 19" descr=""/>
          <p:cNvPicPr/>
          <p:nvPr/>
        </p:nvPicPr>
        <p:blipFill>
          <a:blip r:embed="rId4"/>
          <a:srcRect l="3823" t="0" r="5928" b="20657"/>
          <a:stretch/>
        </p:blipFill>
        <p:spPr>
          <a:xfrm>
            <a:off x="1895400" y="5562720"/>
            <a:ext cx="4680000" cy="660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0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3737880" y="380160"/>
            <a:ext cx="197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8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4"/>
          <p:cNvGrpSpPr/>
          <p:nvPr/>
        </p:nvGrpSpPr>
        <p:grpSpPr>
          <a:xfrm>
            <a:off x="279360" y="228600"/>
            <a:ext cx="8407440" cy="6400800"/>
            <a:chOff x="279360" y="228600"/>
            <a:chExt cx="8407440" cy="6400800"/>
          </a:xfrm>
        </p:grpSpPr>
        <p:sp>
          <p:nvSpPr>
            <p:cNvPr id="100" name="Rectangle 20"/>
            <p:cNvSpPr/>
            <p:nvPr/>
          </p:nvSpPr>
          <p:spPr>
            <a:xfrm>
              <a:off x="279360" y="3485160"/>
              <a:ext cx="84074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19"/>
            <p:cNvSpPr/>
            <p:nvPr/>
          </p:nvSpPr>
          <p:spPr>
            <a:xfrm>
              <a:off x="3081960" y="1912680"/>
              <a:ext cx="2802240" cy="157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18"/>
            <p:cNvSpPr/>
            <p:nvPr/>
          </p:nvSpPr>
          <p:spPr>
            <a:xfrm>
              <a:off x="3081960" y="228600"/>
              <a:ext cx="223920" cy="16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5660280" y="228600"/>
              <a:ext cx="223920" cy="16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1736640" y="3822120"/>
              <a:ext cx="5604840" cy="280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3642120" y="4608000"/>
              <a:ext cx="1793520" cy="10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6" name="Picture 12" descr=""/>
          <p:cNvPicPr/>
          <p:nvPr/>
        </p:nvPicPr>
        <p:blipFill>
          <a:blip r:embed="rId4"/>
          <a:stretch/>
        </p:blipFill>
        <p:spPr>
          <a:xfrm>
            <a:off x="4468680" y="206064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5"/>
          <a:stretch/>
        </p:blipFill>
        <p:spPr>
          <a:xfrm>
            <a:off x="3865680" y="479736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3271680" y="206064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7"/>
          <a:stretch/>
        </p:blipFill>
        <p:spPr>
          <a:xfrm>
            <a:off x="5749920" y="5864400"/>
            <a:ext cx="1380960" cy="695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8"/>
          <a:stretch/>
        </p:blipFill>
        <p:spPr>
          <a:xfrm>
            <a:off x="4479840" y="5864400"/>
            <a:ext cx="1266840" cy="69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9"/>
          <a:stretch/>
        </p:blipFill>
        <p:spPr>
          <a:xfrm>
            <a:off x="3141720" y="5921280"/>
            <a:ext cx="1380960" cy="581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10"/>
          <a:stretch/>
        </p:blipFill>
        <p:spPr>
          <a:xfrm>
            <a:off x="1862280" y="5921280"/>
            <a:ext cx="1380960" cy="5810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0" y="1469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-88920" y="302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19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6"/>
          <p:cNvGrpSpPr/>
          <p:nvPr/>
        </p:nvGrpSpPr>
        <p:grpSpPr>
          <a:xfrm>
            <a:off x="1042920" y="933480"/>
            <a:ext cx="7486560" cy="5270400"/>
            <a:chOff x="1042920" y="933480"/>
            <a:chExt cx="7486560" cy="5270400"/>
          </a:xfrm>
        </p:grpSpPr>
        <p:sp>
          <p:nvSpPr>
            <p:cNvPr id="121" name="Rectangle 12"/>
            <p:cNvSpPr/>
            <p:nvPr/>
          </p:nvSpPr>
          <p:spPr>
            <a:xfrm>
              <a:off x="1042920" y="3614760"/>
              <a:ext cx="7486560" cy="2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538440" y="2320200"/>
              <a:ext cx="2495160" cy="12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3538440" y="933480"/>
              <a:ext cx="199440" cy="138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5834160" y="933480"/>
              <a:ext cx="199440" cy="138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8"/>
            <p:cNvSpPr/>
            <p:nvPr/>
          </p:nvSpPr>
          <p:spPr>
            <a:xfrm>
              <a:off x="2340360" y="3892320"/>
              <a:ext cx="4991040" cy="231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4037400" y="4539600"/>
              <a:ext cx="1596960" cy="8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7" name="Picture 5" descr=""/>
          <p:cNvPicPr/>
          <p:nvPr/>
        </p:nvPicPr>
        <p:blipFill>
          <a:blip r:embed="rId4"/>
          <a:srcRect l="0" t="0" r="-110" b="-2191"/>
          <a:stretch/>
        </p:blipFill>
        <p:spPr>
          <a:xfrm>
            <a:off x="3738600" y="2481120"/>
            <a:ext cx="2097000" cy="1095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5"/>
          <a:srcRect l="-169" t="26537" r="4959" b="0"/>
          <a:stretch/>
        </p:blipFill>
        <p:spPr>
          <a:xfrm>
            <a:off x="4075200" y="4683240"/>
            <a:ext cx="1523880" cy="689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4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724040" y="1397160"/>
            <a:ext cx="569448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7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7"/>
          <p:cNvGrpSpPr/>
          <p:nvPr/>
        </p:nvGrpSpPr>
        <p:grpSpPr>
          <a:xfrm>
            <a:off x="735120" y="890640"/>
            <a:ext cx="7415280" cy="5657760"/>
            <a:chOff x="735120" y="890640"/>
            <a:chExt cx="7415280" cy="5657760"/>
          </a:xfrm>
        </p:grpSpPr>
        <p:sp>
          <p:nvSpPr>
            <p:cNvPr id="139" name="Rectangle 13"/>
            <p:cNvSpPr/>
            <p:nvPr/>
          </p:nvSpPr>
          <p:spPr>
            <a:xfrm>
              <a:off x="735120" y="3769200"/>
              <a:ext cx="741528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206880" y="2379240"/>
              <a:ext cx="2471400" cy="138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3206880" y="890640"/>
              <a:ext cx="197640" cy="148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5481000" y="890640"/>
              <a:ext cx="197640" cy="148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2020320" y="4066920"/>
              <a:ext cx="4943520" cy="248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3701160" y="4761720"/>
              <a:ext cx="1581840" cy="89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2195640" y="5748480"/>
            <a:ext cx="4752720" cy="63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5"/>
          <a:stretch/>
        </p:blipFill>
        <p:spPr>
          <a:xfrm>
            <a:off x="3324240" y="2492280"/>
            <a:ext cx="2290680" cy="700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2:18:26Z</dcterms:created>
  <dc:creator>НАЧАЛЬНЫЕ КЛАССЫ</dc:creator>
  <dc:description/>
  <dc:language>en-US</dc:language>
  <cp:lastModifiedBy>Admin</cp:lastModifiedBy>
  <dcterms:modified xsi:type="dcterms:W3CDTF">2014-01-13T08:46:15Z</dcterms:modified>
  <cp:revision>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b000000000001024140</vt:lpwstr>
  </property>
</Properties>
</file>