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503-4518-4459-9D7E-9E148E75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3B7-D9EB-4437-BC66-7D172D6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E2B-48E1-4201-9EB8-FD4E4BE4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833-9E94-4E07-810E-C2DDB21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5100-552A-48E9-B5F1-66750303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4255-A548-4641-A3B4-3406EE01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908A-DD37-425C-92D7-2A7018E5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4D1D-4820-47D5-92AF-7B25FA6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3031-8A29-4BF0-BDC0-3CE06A7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00BA-988F-4768-9BFB-C90ECE67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ED2-228A-4FB3-AA60-B6887D5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7C6-F527-43F7-ACB4-2DFA41D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1F1C-1E35-42B2-B7F8-0D73CDB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20C-10B9-4E4C-90C8-4F35650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1D14-EEE4-4D39-8306-134CE8E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B7F1-3592-4CDE-83D4-B0693418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E60-B7B6-4C97-A9C4-3CF04554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E6B2-42CA-4C0E-9187-79519015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3CDE-ED44-4776-B171-E8BC45E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84D3-A45E-4C49-BE42-ADEFEEF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EB5D-7FF4-44D1-BB18-4A04D452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E01C-F226-4FE9-BA20-062AAB13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BB6-9C0B-49AD-B655-51A300C4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71A3-A0DC-4DCB-BCC4-C4FE215D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4D90-0BAF-44BB-ABC4-5D5CFB6C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DF38-F2FE-4B02-89A7-E334829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B841-962C-4EB5-B285-7546DF2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3580-E4B6-43D3-AE7D-94BF4324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9913-D731-4A3D-B136-2A985D31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9B01-C166-4C23-9532-EA544708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0412-9D2A-490A-9C34-0512E0F0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D703-6E69-4D8B-BAFC-6C9ECBAD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DA7B-417C-4055-926F-CC2F8A3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02B-D56C-4BE8-A269-F2DC00D1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9FC0-B0DE-484B-892A-01852E2C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3E28-5E1C-4418-95F0-613E375D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8561-5C68-4CFC-A560-89CF1EE9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269DE-07BC-4FBB-BEFF-448EF47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EC6C-C8DA-470B-B704-368D444B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2B3E-16A2-4609-BCBF-9E598EB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8C53-BC44-4DC8-8562-90F59782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84ED-C493-4F47-88FA-95EAA2D0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F547-6D33-47AA-8BE4-9275FC18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9510-DA85-45D2-98DA-234190A6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0CB-EA3C-49DA-ADED-FC6E3028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FBBD-B70D-45F2-A9F8-6DA0B73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5C61-8ABD-4AEE-B854-CAA3B27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6FE8-A2CB-431D-9EE3-4D00A5C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1EBF-58EC-4263-8DB8-ED56599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5AD6-FF9E-4BB4-AD31-08F5E084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1828-E303-4BCE-8470-8763D38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3B01-D6E8-460C-B22F-AA299CCA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B28A3-4345-4D09-8056-47E1D61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CF4A1-A4B9-4FF6-9A1D-46CBA3E0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645C1-4DEC-4174-80CC-03C71F38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9AA-AC7F-408A-BFF6-43C92F1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52D1-DA01-4EA4-A61B-82E5D6E5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52C-4E1E-458F-9796-7B9EF30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C24-AE37-4B7D-990B-3D7E55F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C57-0CF3-40CB-900F-4E42715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05E-A06A-458B-9E7B-56D77C539990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77F8-F649-41D6-BCA2-9C01127EDF2E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A3B-464B-4EBB-9B05-4E35687BB9CB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5236-59A2-4ED6-9580-C29CE20CB9B8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B68-2582-4519-9A96-A8B3235AFC0A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517680" y="32868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зор, состоящий из ритмично чередующихся элементов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3526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268200" y="244440"/>
            <a:ext cx="842508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Украшаем фарту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Рисунок 3" descr="C:\Documents and Settings\Elena\Рабочий стол\Безымянный.bmp"/>
          <p:cNvPicPr/>
          <p:nvPr/>
        </p:nvPicPr>
        <p:blipFill>
          <a:blip r:embed="rId3"/>
          <a:stretch/>
        </p:blipFill>
        <p:spPr>
          <a:xfrm>
            <a:off x="1932120" y="177336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3" descr=""/>
          <p:cNvPicPr/>
          <p:nvPr/>
        </p:nvPicPr>
        <p:blipFill>
          <a:blip r:embed="rId3"/>
          <a:stretch/>
        </p:blipFill>
        <p:spPr>
          <a:xfrm>
            <a:off x="952560" y="1600200"/>
            <a:ext cx="723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Объект 3" descr=""/>
          <p:cNvPicPr/>
          <p:nvPr/>
        </p:nvPicPr>
        <p:blipFill>
          <a:blip r:embed="rId3"/>
          <a:stretch/>
        </p:blipFill>
        <p:spPr>
          <a:xfrm>
            <a:off x="2050920" y="1089000"/>
            <a:ext cx="4524480" cy="2771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4"/>
          <a:stretch/>
        </p:blipFill>
        <p:spPr>
          <a:xfrm>
            <a:off x="5292720" y="3929040"/>
            <a:ext cx="3282840" cy="2610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401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2"/>
          <a:stretch/>
        </p:blipFill>
        <p:spPr>
          <a:xfrm>
            <a:off x="3889440" y="328680"/>
            <a:ext cx="4016160" cy="804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962080" cy="1486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sp>
        <p:nvSpPr>
          <p:cNvPr id="395" name="Прямоугольник 4"/>
          <p:cNvSpPr/>
          <p:nvPr/>
        </p:nvSpPr>
        <p:spPr>
          <a:xfrm>
            <a:off x="3708360" y="1628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назначен для украшения различных предметов , мебели, архитектурных сооруж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6" name="Picture 14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2520720" cy="226044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630520" cy="2270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8" name="Picture 6" descr=""/>
          <p:cNvPicPr/>
          <p:nvPr/>
        </p:nvPicPr>
        <p:blipFill>
          <a:blip r:embed="rId6"/>
          <a:stretch/>
        </p:blipFill>
        <p:spPr>
          <a:xfrm>
            <a:off x="3492360" y="4091040"/>
            <a:ext cx="2592360" cy="250020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9" name="Picture 8" descr=""/>
          <p:cNvPicPr/>
          <p:nvPr/>
        </p:nvPicPr>
        <p:blipFill>
          <a:blip r:embed="rId7"/>
          <a:stretch/>
        </p:blipFill>
        <p:spPr>
          <a:xfrm>
            <a:off x="6510240" y="3375000"/>
            <a:ext cx="1747800" cy="2081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89000" y="-19080"/>
            <a:ext cx="8351640" cy="1933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4005360" cy="26733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2" name="Picture 13" descr="IMG_6512"/>
          <p:cNvPicPr/>
          <p:nvPr/>
        </p:nvPicPr>
        <p:blipFill>
          <a:blip r:embed="rId4"/>
          <a:stretch/>
        </p:blipFill>
        <p:spPr>
          <a:xfrm>
            <a:off x="4284720" y="1773360"/>
            <a:ext cx="2735280" cy="2224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3" name="Picture 2" descr=""/>
          <p:cNvPicPr/>
          <p:nvPr/>
        </p:nvPicPr>
        <p:blipFill>
          <a:blip r:embed="rId5"/>
          <a:stretch/>
        </p:blipFill>
        <p:spPr>
          <a:xfrm>
            <a:off x="6423120" y="2565360"/>
            <a:ext cx="2530440" cy="3651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3995640" y="3789360"/>
            <a:ext cx="1984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Объект 3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3048120" cy="15336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 rot="1645200">
            <a:off x="5278320" y="2206800"/>
            <a:ext cx="3326040" cy="2062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"/>
          <p:cNvPicPr/>
          <p:nvPr/>
        </p:nvPicPr>
        <p:blipFill>
          <a:blip r:embed="rId5"/>
          <a:stretch/>
        </p:blipFill>
        <p:spPr>
          <a:xfrm rot="20254800">
            <a:off x="950400" y="2081160"/>
            <a:ext cx="3149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3" descr=""/>
          <p:cNvPicPr/>
          <p:nvPr/>
        </p:nvPicPr>
        <p:blipFill>
          <a:blip r:embed="rId3"/>
          <a:stretch/>
        </p:blipFill>
        <p:spPr>
          <a:xfrm>
            <a:off x="395280" y="2038320"/>
            <a:ext cx="5113440" cy="39607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4"/>
          <a:stretch/>
        </p:blipFill>
        <p:spPr>
          <a:xfrm>
            <a:off x="5848200" y="4797360"/>
            <a:ext cx="2894040" cy="14479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3043440" cy="15523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6"/>
          <a:stretch/>
        </p:blipFill>
        <p:spPr>
          <a:xfrm>
            <a:off x="5724360" y="1424160"/>
            <a:ext cx="3015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15" name="Объект 3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4176720" cy="32781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5" descr=""/>
          <p:cNvPicPr/>
          <p:nvPr/>
        </p:nvPicPr>
        <p:blipFill>
          <a:blip r:embed="rId5"/>
          <a:stretch/>
        </p:blipFill>
        <p:spPr>
          <a:xfrm>
            <a:off x="1212840" y="1281240"/>
            <a:ext cx="2828880" cy="184788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C:\Documents and Settings\Elena\Рабочий стол\неделя труда\30735_html_66ef0a59.jpg"/>
          <p:cNvPicPr/>
          <p:nvPr/>
        </p:nvPicPr>
        <p:blipFill>
          <a:blip r:embed="rId6"/>
          <a:stretch/>
        </p:blipFill>
        <p:spPr>
          <a:xfrm>
            <a:off x="4932360" y="1366920"/>
            <a:ext cx="3816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20" name="Объект 3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206880" cy="23036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4"/>
          <a:stretch/>
        </p:blipFill>
        <p:spPr>
          <a:xfrm rot="20496600">
            <a:off x="485640" y="1634760"/>
            <a:ext cx="2772000" cy="23893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5"/>
          <a:stretch/>
        </p:blipFill>
        <p:spPr>
          <a:xfrm>
            <a:off x="4140360" y="125892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Объект 3" descr="C:\Documents and Settings\Elena\Рабочий стол\Копия U0309051.gif"/>
          <p:cNvPicPr/>
          <p:nvPr/>
        </p:nvPicPr>
        <p:blipFill>
          <a:blip r:embed="rId3"/>
          <a:stretch/>
        </p:blipFill>
        <p:spPr>
          <a:xfrm>
            <a:off x="733320" y="3645000"/>
            <a:ext cx="7740720" cy="2736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Documents and Settings\Elena\Рабочий стол\art016p5.jpg"/>
          <p:cNvPicPr/>
          <p:nvPr/>
        </p:nvPicPr>
        <p:blipFill>
          <a:blip r:embed="rId4"/>
          <a:stretch/>
        </p:blipFill>
        <p:spPr>
          <a:xfrm>
            <a:off x="611280" y="1484280"/>
            <a:ext cx="7862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79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Желты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и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2701800" y="1189080"/>
            <a:ext cx="1941480" cy="3114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4"/>
          <a:stretch/>
        </p:blipFill>
        <p:spPr>
          <a:xfrm>
            <a:off x="6804000" y="2852640"/>
            <a:ext cx="2284560" cy="3384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5"/>
          <a:stretch/>
        </p:blipFill>
        <p:spPr>
          <a:xfrm>
            <a:off x="1258920" y="4718160"/>
            <a:ext cx="5400720" cy="1311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6"/>
          <a:stretch/>
        </p:blipFill>
        <p:spPr>
          <a:xfrm>
            <a:off x="4716360" y="2276640"/>
            <a:ext cx="2565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13T08:45:58Z</dcterms:modified>
  <cp:revision>9</cp:revision>
  <dc:subject/>
  <dc:title>Орнамент – эт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8000000000001024140</vt:lpwstr>
  </property>
</Properties>
</file>