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954-336A-425E-A98B-E45E3EDA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A3B-EE91-4820-BE11-6E8F8D3E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DFF-5832-49A9-81B3-B6F2F49F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AE0-7070-425B-8014-B5BAF8AF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7A68-F070-4899-B9EA-43C8A807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36D8-C28E-4FF8-A959-A0556CEA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A06D-7173-4BC2-8F85-55CE7078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6B76-6918-4BC2-8D35-D923F3DA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5249-53E6-4492-B5E4-FEA8D664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3259-5DFF-43F1-857F-E8A890E0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FE31-A24C-4371-804F-07315232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19E-84AB-4C72-B15A-00E01AEE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109B-3C1F-4FC3-8722-C13C800A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79CF-7E00-4448-A387-DADDB569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1A68-9DFF-4148-9081-740939D8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7AFA-1DBA-4DEC-889A-8085D732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489A-DE5E-4A32-A4F4-FAD71CE0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18D-ED7F-44C5-8A9F-E6AEDCA2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738-135F-4347-BB34-2E0FFD37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F53-F636-41A3-AD17-3C9FDD15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AC8-2111-4ECA-972C-9B265910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2EF-017E-4566-8BF2-37EEB962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74E-FC35-48B0-B58D-DC399207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0E1-781E-4B09-9C3A-A40BCBEF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ED0A-4F76-4158-A4C2-FF648C99A77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7BF8-8013-407F-A51C-9188EA233D6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317520" y="1085760"/>
            <a:ext cx="8240760" cy="2211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 – А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43466"/>
                </a:solidFill>
                <a:latin typeface="Times New Roman"/>
              </a:rPr>
              <a:t>Учитель Е.А. Михал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"/>
          <p:cNvGrpSpPr/>
          <p:nvPr/>
        </p:nvGrpSpPr>
        <p:grpSpPr>
          <a:xfrm>
            <a:off x="539640" y="1028880"/>
            <a:ext cx="7293240" cy="5267160"/>
            <a:chOff x="539640" y="1028880"/>
            <a:chExt cx="7293240" cy="5267160"/>
          </a:xfrm>
        </p:grpSpPr>
        <p:sp>
          <p:nvSpPr>
            <p:cNvPr id="87" name="Rectangle 8"/>
            <p:cNvSpPr/>
            <p:nvPr/>
          </p:nvSpPr>
          <p:spPr>
            <a:xfrm>
              <a:off x="539640" y="3708720"/>
              <a:ext cx="7293240" cy="2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970720" y="2414880"/>
              <a:ext cx="2430720" cy="129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2970720" y="1028880"/>
              <a:ext cx="194400" cy="13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5207400" y="1028880"/>
              <a:ext cx="194400" cy="13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16"/>
            <p:cNvSpPr/>
            <p:nvPr/>
          </p:nvSpPr>
          <p:spPr>
            <a:xfrm>
              <a:off x="1803600" y="3985920"/>
              <a:ext cx="4862160" cy="23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17"/>
            <p:cNvSpPr/>
            <p:nvPr/>
          </p:nvSpPr>
          <p:spPr>
            <a:xfrm>
              <a:off x="3456720" y="4632840"/>
              <a:ext cx="1555920" cy="83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Рисунок 19" descr=""/>
          <p:cNvPicPr/>
          <p:nvPr/>
        </p:nvPicPr>
        <p:blipFill>
          <a:blip r:embed="rId4"/>
          <a:srcRect l="3823" t="0" r="5928" b="20657"/>
          <a:stretch/>
        </p:blipFill>
        <p:spPr>
          <a:xfrm>
            <a:off x="1895400" y="5562720"/>
            <a:ext cx="4680000" cy="660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0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3737880" y="380160"/>
            <a:ext cx="197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8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4"/>
          <p:cNvGrpSpPr/>
          <p:nvPr/>
        </p:nvGrpSpPr>
        <p:grpSpPr>
          <a:xfrm>
            <a:off x="279360" y="228600"/>
            <a:ext cx="8407440" cy="6400800"/>
            <a:chOff x="279360" y="228600"/>
            <a:chExt cx="8407440" cy="6400800"/>
          </a:xfrm>
        </p:grpSpPr>
        <p:sp>
          <p:nvSpPr>
            <p:cNvPr id="100" name="Rectangle 20"/>
            <p:cNvSpPr/>
            <p:nvPr/>
          </p:nvSpPr>
          <p:spPr>
            <a:xfrm>
              <a:off x="279360" y="3485160"/>
              <a:ext cx="84074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19"/>
            <p:cNvSpPr/>
            <p:nvPr/>
          </p:nvSpPr>
          <p:spPr>
            <a:xfrm>
              <a:off x="3081960" y="1912680"/>
              <a:ext cx="2802240" cy="157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18"/>
            <p:cNvSpPr/>
            <p:nvPr/>
          </p:nvSpPr>
          <p:spPr>
            <a:xfrm>
              <a:off x="3081960" y="228600"/>
              <a:ext cx="223920" cy="16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5660280" y="228600"/>
              <a:ext cx="223920" cy="16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1736640" y="3822120"/>
              <a:ext cx="5604840" cy="280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3642120" y="4608000"/>
              <a:ext cx="1793520" cy="10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6" name="Picture 12" descr=""/>
          <p:cNvPicPr/>
          <p:nvPr/>
        </p:nvPicPr>
        <p:blipFill>
          <a:blip r:embed="rId4"/>
          <a:stretch/>
        </p:blipFill>
        <p:spPr>
          <a:xfrm>
            <a:off x="4468680" y="206064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5"/>
          <a:stretch/>
        </p:blipFill>
        <p:spPr>
          <a:xfrm>
            <a:off x="3865680" y="479736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3271680" y="206064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7"/>
          <a:stretch/>
        </p:blipFill>
        <p:spPr>
          <a:xfrm>
            <a:off x="5749920" y="5864400"/>
            <a:ext cx="1380960" cy="695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8"/>
          <a:stretch/>
        </p:blipFill>
        <p:spPr>
          <a:xfrm>
            <a:off x="4479840" y="5864400"/>
            <a:ext cx="1266840" cy="69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9"/>
          <a:stretch/>
        </p:blipFill>
        <p:spPr>
          <a:xfrm>
            <a:off x="3141720" y="5921280"/>
            <a:ext cx="1380960" cy="581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10"/>
          <a:stretch/>
        </p:blipFill>
        <p:spPr>
          <a:xfrm>
            <a:off x="1862280" y="5921280"/>
            <a:ext cx="1380960" cy="5810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0" y="1469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-88920" y="302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19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6"/>
          <p:cNvGrpSpPr/>
          <p:nvPr/>
        </p:nvGrpSpPr>
        <p:grpSpPr>
          <a:xfrm>
            <a:off x="1042920" y="933480"/>
            <a:ext cx="7486560" cy="5270400"/>
            <a:chOff x="1042920" y="933480"/>
            <a:chExt cx="7486560" cy="5270400"/>
          </a:xfrm>
        </p:grpSpPr>
        <p:sp>
          <p:nvSpPr>
            <p:cNvPr id="121" name="Rectangle 12"/>
            <p:cNvSpPr/>
            <p:nvPr/>
          </p:nvSpPr>
          <p:spPr>
            <a:xfrm>
              <a:off x="1042920" y="3614760"/>
              <a:ext cx="7486560" cy="2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538440" y="2320200"/>
              <a:ext cx="2495160" cy="12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3538440" y="933480"/>
              <a:ext cx="199440" cy="138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5834160" y="933480"/>
              <a:ext cx="199440" cy="138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8"/>
            <p:cNvSpPr/>
            <p:nvPr/>
          </p:nvSpPr>
          <p:spPr>
            <a:xfrm>
              <a:off x="2340360" y="3892320"/>
              <a:ext cx="4991040" cy="231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4037400" y="4539600"/>
              <a:ext cx="1596960" cy="8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7" name="Picture 5" descr=""/>
          <p:cNvPicPr/>
          <p:nvPr/>
        </p:nvPicPr>
        <p:blipFill>
          <a:blip r:embed="rId4"/>
          <a:srcRect l="0" t="0" r="-110" b="-2191"/>
          <a:stretch/>
        </p:blipFill>
        <p:spPr>
          <a:xfrm>
            <a:off x="3738600" y="2481120"/>
            <a:ext cx="2097000" cy="1095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5"/>
          <a:srcRect l="-169" t="26537" r="4959" b="0"/>
          <a:stretch/>
        </p:blipFill>
        <p:spPr>
          <a:xfrm>
            <a:off x="4075200" y="4683240"/>
            <a:ext cx="1523880" cy="689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4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724040" y="1397160"/>
            <a:ext cx="569448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7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7"/>
          <p:cNvGrpSpPr/>
          <p:nvPr/>
        </p:nvGrpSpPr>
        <p:grpSpPr>
          <a:xfrm>
            <a:off x="735120" y="890640"/>
            <a:ext cx="7415280" cy="5657760"/>
            <a:chOff x="735120" y="890640"/>
            <a:chExt cx="7415280" cy="5657760"/>
          </a:xfrm>
        </p:grpSpPr>
        <p:sp>
          <p:nvSpPr>
            <p:cNvPr id="139" name="Rectangle 13"/>
            <p:cNvSpPr/>
            <p:nvPr/>
          </p:nvSpPr>
          <p:spPr>
            <a:xfrm>
              <a:off x="735120" y="3769200"/>
              <a:ext cx="741528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206880" y="2379240"/>
              <a:ext cx="2471400" cy="138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3206880" y="890640"/>
              <a:ext cx="197640" cy="148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5481000" y="890640"/>
              <a:ext cx="197640" cy="148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2020320" y="4066920"/>
              <a:ext cx="4943520" cy="248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3701160" y="4761720"/>
              <a:ext cx="1581840" cy="89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2195640" y="5748480"/>
            <a:ext cx="4752720" cy="63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5"/>
          <a:stretch/>
        </p:blipFill>
        <p:spPr>
          <a:xfrm>
            <a:off x="3324240" y="2492280"/>
            <a:ext cx="2290680" cy="700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2:18:26Z</dcterms:created>
  <dc:creator>НАЧАЛЬНЫЕ КЛАССЫ</dc:creator>
  <dc:description/>
  <dc:language>en-US</dc:language>
  <cp:lastModifiedBy>Admin</cp:lastModifiedBy>
  <dcterms:modified xsi:type="dcterms:W3CDTF">2014-01-13T08:46:15Z</dcterms:modified>
  <cp:revision>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b000000000001024140</vt:lpwstr>
  </property>
</Properties>
</file>