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5FF-1505-4739-98B0-F0EE7BF0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F88-6BB4-4EAF-8CDF-9A0B96FD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A3C-D8A9-4AD9-8693-78C551C8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D26-8773-41FC-A77A-001E397B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7BC-DEF7-42A6-AF92-A2664344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44D-D068-46BB-B570-31DE3EA9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F393-F462-4898-BB22-FDE60C31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3806-E422-44CC-95B4-75CD214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07E5-2238-4502-A192-9C624783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DC4-E30F-4B75-AB61-2F43337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7635-8E11-4A33-952F-3A48412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C9D-98D1-4719-86B4-1BBF4C4E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FB53-A672-4286-8535-62D9946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DC25-9401-40F9-8110-FCB3F493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362-AA2C-4739-BF00-6B25680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82A7-ADB5-41C3-95B9-B1F36D86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3A94-E3AF-4CE6-9FE6-A15ADBB6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D2E5-73D3-473E-A661-B6A8E542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8E9F-E4BA-4080-B056-8E15C366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8712-6FDE-4796-B2DA-14747719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EA00-9E31-4AE4-AD7B-46EA22D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052A-8B05-49F9-AC10-4495456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2A4-15C6-4998-B1E3-FE96162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CEACF-C0C1-4301-A488-6795BE72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5611-DCA3-4665-B1DB-EE4856EC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725F-D84F-4026-82C7-7203B57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D122-D94A-4EE6-8620-9E64AF8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9FC1-876C-443B-B440-8FD8B100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7977-CF2B-4DD5-B55F-72868EB5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4EEF-4A07-4BBB-AF52-2C634B1B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F3CD-EF21-48E4-B2EE-B89A81E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813E-8164-4B30-B87B-69846B30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2882-568B-46A7-9870-BCC90D1C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557-1DCB-4B76-B42F-1AEAC73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5E7F-BF2A-4C66-B8A0-9793E61D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8FC2-0A65-4D0F-90C4-C5C25635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518E-74FE-41F7-B157-D89C6E0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A188-1195-4C9C-814D-2558C912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F9A83-471A-4F1A-A3C8-E21628B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2FC2-D582-496C-8D26-04C45AB0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E729-0A7E-4BCC-9B9D-52FA87B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B549-8705-482B-9F8D-BAE1684E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90E9-BF40-4AB2-BBE6-EC031696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012F-DE58-4F6C-92DC-8DC7B5C7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586-293D-4C77-AD5E-E6D79485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CE6A-715D-48D6-9500-174B818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676FC-4F0A-45AD-9BD8-F9250BA1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B22F2-4CFC-4F78-88CC-26F5518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8EDD-1927-42CD-8979-1B5B398F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DC5F-F48E-4C09-823F-3F611F9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9355-08DF-46F1-9783-09713B6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645F5-6DF9-4A30-9688-9D0362D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BECF-30D2-45A7-9CAB-3BA8303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D6BC-9DDD-47F4-8FCE-F2AEAB7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FB84-58C2-479E-B6F6-70D3AD0C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657-453F-417D-8164-D0A38AD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6B22-65BD-45C1-8199-ABB2B8F0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228-4673-44D8-9A10-6FB7E98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440-57CB-4E19-BFE0-021E967E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9C7-19BE-4DB3-90CB-9CF95AF7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D8CA-D041-4F02-BD9F-AB118D070F33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E30-8919-4637-9DD1-B1033B888965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0D95-1876-4652-879E-8BAAFC16F9B9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FD31-01B8-441A-8365-AF62964C568A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0EA4-D275-4B95-A93B-3DA2B5761BEE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517680" y="32868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зор, состоящий из ритмично чередующихся элементов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3526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268200" y="244440"/>
            <a:ext cx="842508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Украшаем фарту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Рисунок 3" descr="C:\Documents and Settings\Elena\Рабочий стол\Безымянный.bmp"/>
          <p:cNvPicPr/>
          <p:nvPr/>
        </p:nvPicPr>
        <p:blipFill>
          <a:blip r:embed="rId3"/>
          <a:stretch/>
        </p:blipFill>
        <p:spPr>
          <a:xfrm>
            <a:off x="1932120" y="177336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3" descr=""/>
          <p:cNvPicPr/>
          <p:nvPr/>
        </p:nvPicPr>
        <p:blipFill>
          <a:blip r:embed="rId3"/>
          <a:stretch/>
        </p:blipFill>
        <p:spPr>
          <a:xfrm>
            <a:off x="952560" y="1600200"/>
            <a:ext cx="723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Объект 3" descr=""/>
          <p:cNvPicPr/>
          <p:nvPr/>
        </p:nvPicPr>
        <p:blipFill>
          <a:blip r:embed="rId3"/>
          <a:stretch/>
        </p:blipFill>
        <p:spPr>
          <a:xfrm>
            <a:off x="2050920" y="1089000"/>
            <a:ext cx="4524480" cy="2771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4"/>
          <a:stretch/>
        </p:blipFill>
        <p:spPr>
          <a:xfrm>
            <a:off x="5292720" y="3929040"/>
            <a:ext cx="3282840" cy="2610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401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2"/>
          <a:stretch/>
        </p:blipFill>
        <p:spPr>
          <a:xfrm>
            <a:off x="3889440" y="328680"/>
            <a:ext cx="4016160" cy="804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962080" cy="1486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sp>
        <p:nvSpPr>
          <p:cNvPr id="395" name="Прямоугольник 4"/>
          <p:cNvSpPr/>
          <p:nvPr/>
        </p:nvSpPr>
        <p:spPr>
          <a:xfrm>
            <a:off x="3708360" y="1628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назначен для украшения различных предметов , мебели, архитектурных сооруж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6" name="Picture 14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2520720" cy="226044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630520" cy="2270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8" name="Picture 6" descr=""/>
          <p:cNvPicPr/>
          <p:nvPr/>
        </p:nvPicPr>
        <p:blipFill>
          <a:blip r:embed="rId6"/>
          <a:stretch/>
        </p:blipFill>
        <p:spPr>
          <a:xfrm>
            <a:off x="3492360" y="4091040"/>
            <a:ext cx="2592360" cy="250020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9" name="Picture 8" descr=""/>
          <p:cNvPicPr/>
          <p:nvPr/>
        </p:nvPicPr>
        <p:blipFill>
          <a:blip r:embed="rId7"/>
          <a:stretch/>
        </p:blipFill>
        <p:spPr>
          <a:xfrm>
            <a:off x="6510240" y="3375000"/>
            <a:ext cx="1747800" cy="2081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89000" y="-19080"/>
            <a:ext cx="8351640" cy="1933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4005360" cy="26733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2" name="Picture 13" descr="IMG_6512"/>
          <p:cNvPicPr/>
          <p:nvPr/>
        </p:nvPicPr>
        <p:blipFill>
          <a:blip r:embed="rId4"/>
          <a:stretch/>
        </p:blipFill>
        <p:spPr>
          <a:xfrm>
            <a:off x="4284720" y="1773360"/>
            <a:ext cx="2735280" cy="2224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3" name="Picture 2" descr=""/>
          <p:cNvPicPr/>
          <p:nvPr/>
        </p:nvPicPr>
        <p:blipFill>
          <a:blip r:embed="rId5"/>
          <a:stretch/>
        </p:blipFill>
        <p:spPr>
          <a:xfrm>
            <a:off x="6423120" y="2565360"/>
            <a:ext cx="2530440" cy="3651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3995640" y="3789360"/>
            <a:ext cx="1984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Объект 3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3048120" cy="15336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 rot="1645200">
            <a:off x="5278320" y="2206800"/>
            <a:ext cx="3326040" cy="2062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"/>
          <p:cNvPicPr/>
          <p:nvPr/>
        </p:nvPicPr>
        <p:blipFill>
          <a:blip r:embed="rId5"/>
          <a:stretch/>
        </p:blipFill>
        <p:spPr>
          <a:xfrm rot="20254800">
            <a:off x="950400" y="2081160"/>
            <a:ext cx="3149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3" descr=""/>
          <p:cNvPicPr/>
          <p:nvPr/>
        </p:nvPicPr>
        <p:blipFill>
          <a:blip r:embed="rId3"/>
          <a:stretch/>
        </p:blipFill>
        <p:spPr>
          <a:xfrm>
            <a:off x="395280" y="2038320"/>
            <a:ext cx="5113440" cy="39607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4"/>
          <a:stretch/>
        </p:blipFill>
        <p:spPr>
          <a:xfrm>
            <a:off x="5848200" y="4797360"/>
            <a:ext cx="2894040" cy="14479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3043440" cy="15523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6"/>
          <a:stretch/>
        </p:blipFill>
        <p:spPr>
          <a:xfrm>
            <a:off x="5724360" y="1424160"/>
            <a:ext cx="3015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15" name="Объект 3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4176720" cy="32781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5" descr=""/>
          <p:cNvPicPr/>
          <p:nvPr/>
        </p:nvPicPr>
        <p:blipFill>
          <a:blip r:embed="rId5"/>
          <a:stretch/>
        </p:blipFill>
        <p:spPr>
          <a:xfrm>
            <a:off x="1212840" y="1281240"/>
            <a:ext cx="2828880" cy="184788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C:\Documents and Settings\Elena\Рабочий стол\неделя труда\30735_html_66ef0a59.jpg"/>
          <p:cNvPicPr/>
          <p:nvPr/>
        </p:nvPicPr>
        <p:blipFill>
          <a:blip r:embed="rId6"/>
          <a:stretch/>
        </p:blipFill>
        <p:spPr>
          <a:xfrm>
            <a:off x="4932360" y="1366920"/>
            <a:ext cx="3816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20" name="Объект 3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206880" cy="23036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4"/>
          <a:stretch/>
        </p:blipFill>
        <p:spPr>
          <a:xfrm rot="20496600">
            <a:off x="485640" y="1634760"/>
            <a:ext cx="2772000" cy="23893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5"/>
          <a:stretch/>
        </p:blipFill>
        <p:spPr>
          <a:xfrm>
            <a:off x="4140360" y="125892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Объект 3" descr="C:\Documents and Settings\Elena\Рабочий стол\Копия U0309051.gif"/>
          <p:cNvPicPr/>
          <p:nvPr/>
        </p:nvPicPr>
        <p:blipFill>
          <a:blip r:embed="rId3"/>
          <a:stretch/>
        </p:blipFill>
        <p:spPr>
          <a:xfrm>
            <a:off x="733320" y="3645000"/>
            <a:ext cx="7740720" cy="2736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Documents and Settings\Elena\Рабочий стол\art016p5.jpg"/>
          <p:cNvPicPr/>
          <p:nvPr/>
        </p:nvPicPr>
        <p:blipFill>
          <a:blip r:embed="rId4"/>
          <a:stretch/>
        </p:blipFill>
        <p:spPr>
          <a:xfrm>
            <a:off x="611280" y="1484280"/>
            <a:ext cx="7862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79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Желты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и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2701800" y="1189080"/>
            <a:ext cx="1941480" cy="3114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4"/>
          <a:stretch/>
        </p:blipFill>
        <p:spPr>
          <a:xfrm>
            <a:off x="6804000" y="2852640"/>
            <a:ext cx="2284560" cy="3384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5"/>
          <a:stretch/>
        </p:blipFill>
        <p:spPr>
          <a:xfrm>
            <a:off x="1258920" y="4718160"/>
            <a:ext cx="5400720" cy="1311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6"/>
          <a:stretch/>
        </p:blipFill>
        <p:spPr>
          <a:xfrm>
            <a:off x="4716360" y="2276640"/>
            <a:ext cx="2565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13T08:45:58Z</dcterms:modified>
  <cp:revision>9</cp:revision>
  <dc:subject/>
  <dc:title>Орнамент – эт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8000000000001024140</vt:lpwstr>
  </property>
</Properties>
</file>