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6BC-698D-43A3-B451-9EF7ED23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4E9-6BEC-47C1-95C0-4EAE4187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669-8175-4C2B-8421-34592F97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E6E-D330-401D-A637-00CC4511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7A53-36E7-47AA-85A3-8BFFE625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D288-7864-4C81-9644-116E63A3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B96A-C8AC-4E43-9B86-11F2E0A6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6207-C434-44D0-9291-F5BD0517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0943-2D98-4455-ABFB-718E3B65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EB46-CC05-4E25-AF30-9260BF10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BB1C-0941-4B4D-91CB-F1321173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799-5782-454E-9959-DDD06DFC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5DED-A669-42AD-BD53-FD77BE2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32A-C665-4F37-AAA6-F94F880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CA90-EDF6-4B31-93C8-035EA773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EE19-BC1B-43CC-A1EF-44696A7B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8BD5-2D54-4945-9A38-75CB361F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721-E854-452A-B75F-2A15C09B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4B7-BF25-4282-B92A-987ED761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8D1-E4B1-4580-87A2-B97EC9C8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162-94AF-450C-98BB-EC12C555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570-A160-4286-905F-39067A2B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A5F-BEFE-46DB-8ED0-A23E85DE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926-00E0-4150-B4FB-C03973C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F861-89C6-4FFD-9304-24084A9AF70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ED24-4D4A-4FF5-A48B-40826A44BA8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17520" y="1085760"/>
            <a:ext cx="8240760" cy="2211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 – А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Times New Roman"/>
              </a:rPr>
              <a:t>Учитель Е.А. Михал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"/>
          <p:cNvGrpSpPr/>
          <p:nvPr/>
        </p:nvGrpSpPr>
        <p:grpSpPr>
          <a:xfrm>
            <a:off x="539640" y="1028880"/>
            <a:ext cx="7293240" cy="5267160"/>
            <a:chOff x="539640" y="1028880"/>
            <a:chExt cx="7293240" cy="5267160"/>
          </a:xfrm>
        </p:grpSpPr>
        <p:sp>
          <p:nvSpPr>
            <p:cNvPr id="87" name="Rectangle 8"/>
            <p:cNvSpPr/>
            <p:nvPr/>
          </p:nvSpPr>
          <p:spPr>
            <a:xfrm>
              <a:off x="539640" y="3708720"/>
              <a:ext cx="729324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970720" y="2414880"/>
              <a:ext cx="2430720" cy="129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297072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520740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1803600" y="3985920"/>
              <a:ext cx="4862160" cy="23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3456720" y="4632840"/>
              <a:ext cx="1555920" cy="83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Рисунок 19" descr=""/>
          <p:cNvPicPr/>
          <p:nvPr/>
        </p:nvPicPr>
        <p:blipFill>
          <a:blip r:embed="rId4"/>
          <a:srcRect l="3823" t="0" r="5928" b="20657"/>
          <a:stretch/>
        </p:blipFill>
        <p:spPr>
          <a:xfrm>
            <a:off x="1895400" y="5562720"/>
            <a:ext cx="4680000" cy="660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0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3737880" y="380160"/>
            <a:ext cx="197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79360" y="228600"/>
            <a:ext cx="8407440" cy="6400800"/>
            <a:chOff x="279360" y="228600"/>
            <a:chExt cx="8407440" cy="6400800"/>
          </a:xfrm>
        </p:grpSpPr>
        <p:sp>
          <p:nvSpPr>
            <p:cNvPr id="100" name="Rectangle 20"/>
            <p:cNvSpPr/>
            <p:nvPr/>
          </p:nvSpPr>
          <p:spPr>
            <a:xfrm>
              <a:off x="279360" y="3485160"/>
              <a:ext cx="84074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3081960" y="1912680"/>
              <a:ext cx="2802240" cy="157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308196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566028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1736640" y="3822120"/>
              <a:ext cx="5604840" cy="280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3642120" y="4608000"/>
              <a:ext cx="1793520" cy="10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6" name="Picture 12" descr=""/>
          <p:cNvPicPr/>
          <p:nvPr/>
        </p:nvPicPr>
        <p:blipFill>
          <a:blip r:embed="rId4"/>
          <a:stretch/>
        </p:blipFill>
        <p:spPr>
          <a:xfrm>
            <a:off x="4468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3865680" y="479736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3271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7"/>
          <a:stretch/>
        </p:blipFill>
        <p:spPr>
          <a:xfrm>
            <a:off x="5749920" y="5864400"/>
            <a:ext cx="1380960" cy="695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8"/>
          <a:stretch/>
        </p:blipFill>
        <p:spPr>
          <a:xfrm>
            <a:off x="4479840" y="5864400"/>
            <a:ext cx="1266840" cy="69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9"/>
          <a:stretch/>
        </p:blipFill>
        <p:spPr>
          <a:xfrm>
            <a:off x="3141720" y="5921280"/>
            <a:ext cx="1380960" cy="581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10"/>
          <a:stretch/>
        </p:blipFill>
        <p:spPr>
          <a:xfrm>
            <a:off x="1862280" y="5921280"/>
            <a:ext cx="1380960" cy="581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0" y="1469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-88920" y="302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1042920" y="933480"/>
            <a:ext cx="7486560" cy="5270400"/>
            <a:chOff x="1042920" y="933480"/>
            <a:chExt cx="7486560" cy="5270400"/>
          </a:xfrm>
        </p:grpSpPr>
        <p:sp>
          <p:nvSpPr>
            <p:cNvPr id="121" name="Rectangle 12"/>
            <p:cNvSpPr/>
            <p:nvPr/>
          </p:nvSpPr>
          <p:spPr>
            <a:xfrm>
              <a:off x="1042920" y="3614760"/>
              <a:ext cx="748656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538440" y="2320200"/>
              <a:ext cx="2495160" cy="12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353844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583416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2340360" y="3892320"/>
              <a:ext cx="4991040" cy="231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4037400" y="4539600"/>
              <a:ext cx="1596960" cy="8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" name="Picture 5" descr=""/>
          <p:cNvPicPr/>
          <p:nvPr/>
        </p:nvPicPr>
        <p:blipFill>
          <a:blip r:embed="rId4"/>
          <a:srcRect l="0" t="0" r="-110" b="-2191"/>
          <a:stretch/>
        </p:blipFill>
        <p:spPr>
          <a:xfrm>
            <a:off x="3738600" y="2481120"/>
            <a:ext cx="2097000" cy="1095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rcRect l="-169" t="26537" r="4959" b="0"/>
          <a:stretch/>
        </p:blipFill>
        <p:spPr>
          <a:xfrm>
            <a:off x="4075200" y="4683240"/>
            <a:ext cx="1523880" cy="689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4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724040" y="1397160"/>
            <a:ext cx="569448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7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7"/>
          <p:cNvGrpSpPr/>
          <p:nvPr/>
        </p:nvGrpSpPr>
        <p:grpSpPr>
          <a:xfrm>
            <a:off x="735120" y="890640"/>
            <a:ext cx="7415280" cy="5657760"/>
            <a:chOff x="735120" y="890640"/>
            <a:chExt cx="7415280" cy="5657760"/>
          </a:xfrm>
        </p:grpSpPr>
        <p:sp>
          <p:nvSpPr>
            <p:cNvPr id="139" name="Rectangle 13"/>
            <p:cNvSpPr/>
            <p:nvPr/>
          </p:nvSpPr>
          <p:spPr>
            <a:xfrm>
              <a:off x="735120" y="3769200"/>
              <a:ext cx="741528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206880" y="2379240"/>
              <a:ext cx="2471400" cy="138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320688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548100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2020320" y="4066920"/>
              <a:ext cx="4943520" cy="24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3701160" y="4761720"/>
              <a:ext cx="1581840" cy="89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2195640" y="5748480"/>
            <a:ext cx="4752720" cy="6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5"/>
          <a:stretch/>
        </p:blipFill>
        <p:spPr>
          <a:xfrm>
            <a:off x="3324240" y="2492280"/>
            <a:ext cx="2290680" cy="700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2:18:26Z</dcterms:created>
  <dc:creator>НАЧАЛЬНЫЕ КЛАССЫ</dc:creator>
  <dc:description/>
  <dc:language>en-US</dc:language>
  <cp:lastModifiedBy>Admin</cp:lastModifiedBy>
  <dcterms:modified xsi:type="dcterms:W3CDTF">2014-01-13T08:46:15Z</dcterms:modified>
  <cp:revision>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b000000000001024140</vt:lpwstr>
  </property>
</Properties>
</file>