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1FEF-E9B6-4290-80F8-54B468D74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AB44-C41B-4843-843E-6D7FC86B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B1BA-28C8-45CB-88D2-AD42105A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D33E-8402-4E56-BB46-F8F56DF4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67E4-5AFF-4D2E-8B89-A24E10F6C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36C1-E11A-4622-A8C4-6685BE68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F598-D0B4-4CAE-AC16-27109A07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39EA-DC68-42F9-9B9B-38EC62C3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89DF-4A67-48CA-BA8B-D7677332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1BA2-9226-4037-AE75-FAC08F71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1C0A-5DA4-4D96-BA04-D92B5082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9D84-003D-43DF-BF86-9F0B443E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BA44-F32B-4B72-BB06-2CCFB4EC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B7A4-CB4A-4E9F-A99A-F33D3DE5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C737-B111-4B57-A018-1E9088C3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1B72-25E5-4937-82ED-86EEF2319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67E3-A107-49C2-B800-2A6D05606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2C4B-7B68-4895-903E-2E4DD616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735D-C2E7-4E54-A085-F89EDC6F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8EA3-648E-4262-AA47-EA8C8047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7AEC-77A0-4458-9049-560891FA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9DC0-A8CE-473F-8FFC-F9AF2B8A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C1DF-E02F-4FF5-B5F1-8243E961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0138-C422-4BC7-866B-F6432E75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A369-21D9-4EB5-ADF2-B4D2C38ED15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88F2-9EE7-4DD6-A0E4-A001C9E8204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317520" y="1085760"/>
            <a:ext cx="8240760" cy="2211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40328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6 – А клас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43466"/>
                </a:solidFill>
                <a:latin typeface="Times New Roman"/>
              </a:rPr>
              <a:t>Учитель Е.А. Михале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2"/>
          <a:stretch/>
        </p:blipFill>
        <p:spPr>
          <a:xfrm>
            <a:off x="-85680" y="152280"/>
            <a:ext cx="3030480" cy="981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18"/>
          <p:cNvGrpSpPr/>
          <p:nvPr/>
        </p:nvGrpSpPr>
        <p:grpSpPr>
          <a:xfrm>
            <a:off x="539640" y="1028880"/>
            <a:ext cx="7293240" cy="5267160"/>
            <a:chOff x="539640" y="1028880"/>
            <a:chExt cx="7293240" cy="5267160"/>
          </a:xfrm>
        </p:grpSpPr>
        <p:sp>
          <p:nvSpPr>
            <p:cNvPr id="87" name="Rectangle 8"/>
            <p:cNvSpPr/>
            <p:nvPr/>
          </p:nvSpPr>
          <p:spPr>
            <a:xfrm>
              <a:off x="539640" y="3708720"/>
              <a:ext cx="7293240" cy="27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Rectangle 9"/>
            <p:cNvSpPr/>
            <p:nvPr/>
          </p:nvSpPr>
          <p:spPr>
            <a:xfrm>
              <a:off x="2970720" y="2414880"/>
              <a:ext cx="2430720" cy="129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Rectangle 12"/>
            <p:cNvSpPr/>
            <p:nvPr/>
          </p:nvSpPr>
          <p:spPr>
            <a:xfrm>
              <a:off x="2970720" y="1028880"/>
              <a:ext cx="194400" cy="13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Rectangle 13"/>
            <p:cNvSpPr/>
            <p:nvPr/>
          </p:nvSpPr>
          <p:spPr>
            <a:xfrm>
              <a:off x="5207400" y="1028880"/>
              <a:ext cx="194400" cy="13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Rectangle 16"/>
            <p:cNvSpPr/>
            <p:nvPr/>
          </p:nvSpPr>
          <p:spPr>
            <a:xfrm>
              <a:off x="1803600" y="3985920"/>
              <a:ext cx="4862160" cy="231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Rectangle 17"/>
            <p:cNvSpPr/>
            <p:nvPr/>
          </p:nvSpPr>
          <p:spPr>
            <a:xfrm>
              <a:off x="3456720" y="4632840"/>
              <a:ext cx="1555920" cy="83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3" name="Рисунок 19" descr=""/>
          <p:cNvPicPr/>
          <p:nvPr/>
        </p:nvPicPr>
        <p:blipFill>
          <a:blip r:embed="rId4"/>
          <a:srcRect l="3823" t="0" r="5928" b="20657"/>
          <a:stretch/>
        </p:blipFill>
        <p:spPr>
          <a:xfrm>
            <a:off x="1895400" y="5562720"/>
            <a:ext cx="4680000" cy="6602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0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21"/>
          <p:cNvSpPr/>
          <p:nvPr/>
        </p:nvSpPr>
        <p:spPr>
          <a:xfrm>
            <a:off x="152280" y="60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22"/>
          <p:cNvSpPr/>
          <p:nvPr/>
        </p:nvSpPr>
        <p:spPr>
          <a:xfrm>
            <a:off x="3737880" y="380160"/>
            <a:ext cx="1972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98" name="Заголовок 1" descr=""/>
          <p:cNvPicPr/>
          <p:nvPr/>
        </p:nvPicPr>
        <p:blipFill>
          <a:blip r:embed="rId3"/>
          <a:stretch/>
        </p:blipFill>
        <p:spPr>
          <a:xfrm>
            <a:off x="-85680" y="152280"/>
            <a:ext cx="3030480" cy="98136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14"/>
          <p:cNvGrpSpPr/>
          <p:nvPr/>
        </p:nvGrpSpPr>
        <p:grpSpPr>
          <a:xfrm>
            <a:off x="279360" y="228600"/>
            <a:ext cx="8407440" cy="6400800"/>
            <a:chOff x="279360" y="228600"/>
            <a:chExt cx="8407440" cy="6400800"/>
          </a:xfrm>
        </p:grpSpPr>
        <p:sp>
          <p:nvSpPr>
            <p:cNvPr id="100" name="Rectangle 20"/>
            <p:cNvSpPr/>
            <p:nvPr/>
          </p:nvSpPr>
          <p:spPr>
            <a:xfrm>
              <a:off x="279360" y="3485160"/>
              <a:ext cx="840744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Rectangle 19"/>
            <p:cNvSpPr/>
            <p:nvPr/>
          </p:nvSpPr>
          <p:spPr>
            <a:xfrm>
              <a:off x="3081960" y="1912680"/>
              <a:ext cx="2802240" cy="157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Rectangle 18"/>
            <p:cNvSpPr/>
            <p:nvPr/>
          </p:nvSpPr>
          <p:spPr>
            <a:xfrm>
              <a:off x="3081960" y="228600"/>
              <a:ext cx="223920" cy="168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Rectangle 17"/>
            <p:cNvSpPr/>
            <p:nvPr/>
          </p:nvSpPr>
          <p:spPr>
            <a:xfrm>
              <a:off x="5660280" y="228600"/>
              <a:ext cx="223920" cy="168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Rectangle 16"/>
            <p:cNvSpPr/>
            <p:nvPr/>
          </p:nvSpPr>
          <p:spPr>
            <a:xfrm>
              <a:off x="1736640" y="3822120"/>
              <a:ext cx="5604840" cy="280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Rectangle 15"/>
            <p:cNvSpPr/>
            <p:nvPr/>
          </p:nvSpPr>
          <p:spPr>
            <a:xfrm>
              <a:off x="3642120" y="4608000"/>
              <a:ext cx="1793520" cy="101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6" name="Picture 12" descr=""/>
          <p:cNvPicPr/>
          <p:nvPr/>
        </p:nvPicPr>
        <p:blipFill>
          <a:blip r:embed="rId4"/>
          <a:stretch/>
        </p:blipFill>
        <p:spPr>
          <a:xfrm>
            <a:off x="4468680" y="2060640"/>
            <a:ext cx="1266840" cy="809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"/>
          <p:cNvPicPr/>
          <p:nvPr/>
        </p:nvPicPr>
        <p:blipFill>
          <a:blip r:embed="rId5"/>
          <a:stretch/>
        </p:blipFill>
        <p:spPr>
          <a:xfrm>
            <a:off x="3865680" y="4797360"/>
            <a:ext cx="1266840" cy="809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"/>
          <p:cNvPicPr/>
          <p:nvPr/>
        </p:nvPicPr>
        <p:blipFill>
          <a:blip r:embed="rId6"/>
          <a:stretch/>
        </p:blipFill>
        <p:spPr>
          <a:xfrm>
            <a:off x="3271680" y="2060640"/>
            <a:ext cx="1266840" cy="80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7"/>
          <a:stretch/>
        </p:blipFill>
        <p:spPr>
          <a:xfrm>
            <a:off x="5749920" y="5864400"/>
            <a:ext cx="1380960" cy="695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8"/>
          <a:stretch/>
        </p:blipFill>
        <p:spPr>
          <a:xfrm>
            <a:off x="4479840" y="5864400"/>
            <a:ext cx="1266840" cy="695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"/>
          <p:cNvPicPr/>
          <p:nvPr/>
        </p:nvPicPr>
        <p:blipFill>
          <a:blip r:embed="rId9"/>
          <a:stretch/>
        </p:blipFill>
        <p:spPr>
          <a:xfrm>
            <a:off x="3141720" y="5921280"/>
            <a:ext cx="1380960" cy="581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10"/>
          <a:stretch/>
        </p:blipFill>
        <p:spPr>
          <a:xfrm>
            <a:off x="1862280" y="5921280"/>
            <a:ext cx="1380960" cy="5810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0" y="1469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-88920" y="3027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119" name="Заголовок 1" descr=""/>
          <p:cNvPicPr/>
          <p:nvPr/>
        </p:nvPicPr>
        <p:blipFill>
          <a:blip r:embed="rId3"/>
          <a:stretch/>
        </p:blipFill>
        <p:spPr>
          <a:xfrm>
            <a:off x="-85680" y="152280"/>
            <a:ext cx="3030480" cy="98136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6"/>
          <p:cNvGrpSpPr/>
          <p:nvPr/>
        </p:nvGrpSpPr>
        <p:grpSpPr>
          <a:xfrm>
            <a:off x="1042920" y="933480"/>
            <a:ext cx="7486560" cy="5270400"/>
            <a:chOff x="1042920" y="933480"/>
            <a:chExt cx="7486560" cy="5270400"/>
          </a:xfrm>
        </p:grpSpPr>
        <p:sp>
          <p:nvSpPr>
            <p:cNvPr id="121" name="Rectangle 12"/>
            <p:cNvSpPr/>
            <p:nvPr/>
          </p:nvSpPr>
          <p:spPr>
            <a:xfrm>
              <a:off x="1042920" y="3614760"/>
              <a:ext cx="7486560" cy="27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Rectangle 11"/>
            <p:cNvSpPr/>
            <p:nvPr/>
          </p:nvSpPr>
          <p:spPr>
            <a:xfrm>
              <a:off x="3538440" y="2320200"/>
              <a:ext cx="2495160" cy="129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Rectangle 10"/>
            <p:cNvSpPr/>
            <p:nvPr/>
          </p:nvSpPr>
          <p:spPr>
            <a:xfrm>
              <a:off x="3538440" y="933480"/>
              <a:ext cx="199440" cy="138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>
              <a:off x="5834160" y="933480"/>
              <a:ext cx="199440" cy="138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Rectangle 8"/>
            <p:cNvSpPr/>
            <p:nvPr/>
          </p:nvSpPr>
          <p:spPr>
            <a:xfrm>
              <a:off x="2340360" y="3892320"/>
              <a:ext cx="4991040" cy="231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>
              <a:off x="4037400" y="4539600"/>
              <a:ext cx="1596960" cy="83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7" name="Picture 5" descr=""/>
          <p:cNvPicPr/>
          <p:nvPr/>
        </p:nvPicPr>
        <p:blipFill>
          <a:blip r:embed="rId4"/>
          <a:srcRect l="0" t="0" r="-110" b="-2191"/>
          <a:stretch/>
        </p:blipFill>
        <p:spPr>
          <a:xfrm>
            <a:off x="3738600" y="2481120"/>
            <a:ext cx="2097000" cy="1095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5"/>
          <a:srcRect l="-169" t="26537" r="4959" b="0"/>
          <a:stretch/>
        </p:blipFill>
        <p:spPr>
          <a:xfrm>
            <a:off x="4075200" y="4683240"/>
            <a:ext cx="1523880" cy="6890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16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134" name="Заголовок 1" descr=""/>
          <p:cNvPicPr/>
          <p:nvPr/>
        </p:nvPicPr>
        <p:blipFill>
          <a:blip r:embed="rId3"/>
          <a:stretch/>
        </p:blipFill>
        <p:spPr>
          <a:xfrm>
            <a:off x="-85680" y="152280"/>
            <a:ext cx="3030480" cy="981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724040" y="1397160"/>
            <a:ext cx="5694480" cy="40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137" name="Заголовок 1" descr=""/>
          <p:cNvPicPr/>
          <p:nvPr/>
        </p:nvPicPr>
        <p:blipFill>
          <a:blip r:embed="rId3"/>
          <a:stretch/>
        </p:blipFill>
        <p:spPr>
          <a:xfrm>
            <a:off x="-85680" y="152280"/>
            <a:ext cx="3030480" cy="98136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7"/>
          <p:cNvGrpSpPr/>
          <p:nvPr/>
        </p:nvGrpSpPr>
        <p:grpSpPr>
          <a:xfrm>
            <a:off x="735120" y="890640"/>
            <a:ext cx="7415280" cy="5657760"/>
            <a:chOff x="735120" y="890640"/>
            <a:chExt cx="7415280" cy="5657760"/>
          </a:xfrm>
        </p:grpSpPr>
        <p:sp>
          <p:nvSpPr>
            <p:cNvPr id="139" name="Rectangle 13"/>
            <p:cNvSpPr/>
            <p:nvPr/>
          </p:nvSpPr>
          <p:spPr>
            <a:xfrm>
              <a:off x="735120" y="3769200"/>
              <a:ext cx="7415280" cy="29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Rectangle 12"/>
            <p:cNvSpPr/>
            <p:nvPr/>
          </p:nvSpPr>
          <p:spPr>
            <a:xfrm>
              <a:off x="3206880" y="2379240"/>
              <a:ext cx="2471400" cy="138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Rectangle 11"/>
            <p:cNvSpPr/>
            <p:nvPr/>
          </p:nvSpPr>
          <p:spPr>
            <a:xfrm>
              <a:off x="3206880" y="890640"/>
              <a:ext cx="197640" cy="148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Rectangle 10"/>
            <p:cNvSpPr/>
            <p:nvPr/>
          </p:nvSpPr>
          <p:spPr>
            <a:xfrm>
              <a:off x="5481000" y="890640"/>
              <a:ext cx="197640" cy="148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Rectangle 9"/>
            <p:cNvSpPr/>
            <p:nvPr/>
          </p:nvSpPr>
          <p:spPr>
            <a:xfrm>
              <a:off x="2020320" y="4066920"/>
              <a:ext cx="4943520" cy="248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Rectangle 8"/>
            <p:cNvSpPr/>
            <p:nvPr/>
          </p:nvSpPr>
          <p:spPr>
            <a:xfrm>
              <a:off x="3701160" y="4761720"/>
              <a:ext cx="1581840" cy="89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5" name="Picture 5" descr=""/>
          <p:cNvPicPr/>
          <p:nvPr/>
        </p:nvPicPr>
        <p:blipFill>
          <a:blip r:embed="rId4"/>
          <a:stretch/>
        </p:blipFill>
        <p:spPr>
          <a:xfrm>
            <a:off x="2195640" y="5748480"/>
            <a:ext cx="4752720" cy="636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"/>
          <p:cNvPicPr/>
          <p:nvPr/>
        </p:nvPicPr>
        <p:blipFill>
          <a:blip r:embed="rId5"/>
          <a:stretch/>
        </p:blipFill>
        <p:spPr>
          <a:xfrm>
            <a:off x="3324240" y="2492280"/>
            <a:ext cx="2290680" cy="7002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2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23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24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25"/>
          <p:cNvSpPr/>
          <p:nvPr/>
        </p:nvSpPr>
        <p:spPr>
          <a:xfrm>
            <a:off x="0" y="1828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7T12:18:26Z</dcterms:created>
  <dc:creator>НАЧАЛЬНЫЕ КЛАССЫ</dc:creator>
  <dc:description/>
  <dc:language>en-US</dc:language>
  <cp:lastModifiedBy>Admin</cp:lastModifiedBy>
  <dcterms:modified xsi:type="dcterms:W3CDTF">2014-01-13T08:46:15Z</dcterms:modified>
  <cp:revision>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0b000000000001024140</vt:lpwstr>
  </property>
</Properties>
</file>