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jpeg" ContentType="image/jpeg"/>
  <Override PartName="/ppt/media/image21.jpeg" ContentType="image/jpe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30.png" ContentType="image/png"/>
  <Override PartName="/ppt/media/image10.jpeg" ContentType="image/jpeg"/>
  <Override PartName="/ppt/media/image5.png" ContentType="image/png"/>
  <Override PartName="/ppt/media/image29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png" ContentType="image/png"/>
  <Override PartName="/ppt/media/image4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11.png" ContentType="image/png"/>
  <Override PartName="/ppt/media/image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2F74-E03C-4EE8-86AF-D4A9616D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1529-ADAC-417A-8D37-9F63737F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5E6-8023-4BBE-AC42-0EC5C719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FAF1-4B44-442D-AFAC-DD60115F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ADA8-4D32-495F-B05E-0F8421E1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3232-783B-4016-9E36-6A61A374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1415-B682-44A5-ABB1-C74BFA00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3265-A8D4-46CA-8467-102E0463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7768-BD39-4A97-8592-B50914E2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7F36-A874-4EC6-B72A-B12F4B14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02D6-B3FC-4EB5-9687-A19F39F7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E83-7516-490D-BB50-CF37BDAF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B87A-6AF1-4DB6-A7D5-D5A9C372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E31A-F1E8-4BB2-B36D-C8A28CAB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D171-71BA-457D-B35F-D11D7A45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7826-0D89-4305-A33B-BF7F8A1D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D58A-35E9-4060-9005-290D516E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94E99-E2BE-4458-B02E-2AD7504F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9C41F-E095-45CB-A26E-EF3381A8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D1498-D884-4C93-8439-034CD0E5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E7415-0D3C-4290-A7D6-FAB16EE6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FC48B-72FC-48C9-B2D9-0FC94900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7B6-62F1-496E-ADF5-73B8D3FD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EEDB4-ABD2-40B5-9376-FD98A24F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4BE2-4F1C-44D6-B4AC-82F6DCAD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50A0F-2641-4EA6-B269-6872D20F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4B40D-BF2F-4D74-9311-64CDF55E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A3F8E-97A6-494C-AA3F-A317B0B3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A370E-24BA-40CE-A49C-933F1306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DE276-525E-4231-B327-7FF404B1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CA49C-82C3-487D-A82F-2390304A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01F87-3173-43AF-93EA-F8E0AE48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169EB-603C-4869-B8DF-18F6DBED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9997-35A7-4AB0-BDDC-591AFAC9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F4F6D-2264-4AEE-89E4-7DC1808B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47395-DA89-45B8-B5DE-2E4E4A84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7B9B3-B48C-4D1B-9C89-EC927695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FC145-B705-4913-9AD7-F0847118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7B2B9-B7DB-4506-ADCD-3DA85CA7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5DEBE-B698-4546-8AF2-B23FF15F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DEF90-B155-427F-9698-D05DBD87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5D69E-31DE-4972-83D2-CF73C663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791AC-0473-4F50-93E6-83E210A8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15E89-4972-45AA-8AE8-78CA86E9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76F0-A075-483E-AD58-683F7748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A5038-AC90-4C66-A2CD-C29C55C3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CEFB1-E9FE-4E4A-8C95-3CB077D1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30399-73E6-4650-9F07-FB575B27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63004-F024-4AB5-AD73-C98136FB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2E43D-D19F-4C80-80FD-46823AC3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93D5B-C963-49FB-9442-C047E4C3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7D29D-04FB-414E-9F89-86206FFE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D1C37-0847-429E-980F-DDF35CF4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678B9-9276-4BE1-9A67-71BE1B26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CA1C1-F813-4672-A8FF-3CAD9FB8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527-433A-48F4-B97E-E4152178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A3CA7-E5BB-4215-9D2E-E70E0583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F41-62FE-4002-8ED7-FA94750C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27C-FF92-4917-933A-0754787C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859-AA84-4961-ADA5-228213D1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9909-53F5-4BB5-854B-B0E99E15F18A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E909-927A-4259-B080-A604DB226C52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323D-3932-49AA-987A-679C25AF9E1D}" type="slidenum"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8BFA-DC02-4B95-A5E0-4237F3839214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DDB1-3472-439E-BF74-214992DE3949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2"/>
          <a:stretch/>
        </p:blipFill>
        <p:spPr>
          <a:xfrm>
            <a:off x="517680" y="328680"/>
            <a:ext cx="7967520" cy="8049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763640" y="126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Узор, состоящий из ритмично чередующихся элементов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2916360" y="3573360"/>
            <a:ext cx="33526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2"/>
          <a:stretch/>
        </p:blipFill>
        <p:spPr>
          <a:xfrm>
            <a:off x="268200" y="244440"/>
            <a:ext cx="8425080" cy="7430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Украшаем фартук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34" name="Рисунок 3" descr="C:\Documents and Settings\Elena\Рабочий стол\Безымянный.bmp"/>
          <p:cNvPicPr/>
          <p:nvPr/>
        </p:nvPicPr>
        <p:blipFill>
          <a:blip r:embed="rId3"/>
          <a:stretch/>
        </p:blipFill>
        <p:spPr>
          <a:xfrm>
            <a:off x="1932120" y="1773360"/>
            <a:ext cx="554508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6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436" name="Объект 3" descr=""/>
          <p:cNvPicPr/>
          <p:nvPr/>
        </p:nvPicPr>
        <p:blipFill>
          <a:blip r:embed="rId3"/>
          <a:stretch/>
        </p:blipFill>
        <p:spPr>
          <a:xfrm>
            <a:off x="952560" y="1600200"/>
            <a:ext cx="723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438" name="Объект 3" descr=""/>
          <p:cNvPicPr/>
          <p:nvPr/>
        </p:nvPicPr>
        <p:blipFill>
          <a:blip r:embed="rId3"/>
          <a:stretch/>
        </p:blipFill>
        <p:spPr>
          <a:xfrm>
            <a:off x="2050920" y="1089000"/>
            <a:ext cx="4524480" cy="277164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4" descr=""/>
          <p:cNvPicPr/>
          <p:nvPr/>
        </p:nvPicPr>
        <p:blipFill>
          <a:blip r:embed="rId4"/>
          <a:stretch/>
        </p:blipFill>
        <p:spPr>
          <a:xfrm>
            <a:off x="5292720" y="3929040"/>
            <a:ext cx="3282840" cy="2610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"/>
          <p:cNvPicPr/>
          <p:nvPr/>
        </p:nvPicPr>
        <p:blipFill>
          <a:blip r:embed="rId5"/>
          <a:stretch/>
        </p:blipFill>
        <p:spPr>
          <a:xfrm>
            <a:off x="395280" y="3933720"/>
            <a:ext cx="40194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1" descr=""/>
          <p:cNvPicPr/>
          <p:nvPr/>
        </p:nvPicPr>
        <p:blipFill>
          <a:blip r:embed="rId2"/>
          <a:stretch/>
        </p:blipFill>
        <p:spPr>
          <a:xfrm>
            <a:off x="3889440" y="328680"/>
            <a:ext cx="4016160" cy="804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2962080" cy="148608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sp>
        <p:nvSpPr>
          <p:cNvPr id="395" name="Прямоугольник 4"/>
          <p:cNvSpPr/>
          <p:nvPr/>
        </p:nvSpPr>
        <p:spPr>
          <a:xfrm>
            <a:off x="3708360" y="162864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назначен для украшения различных предметов , мебели, архитектурных сооружени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6" name="Picture 14" descr=""/>
          <p:cNvPicPr/>
          <p:nvPr/>
        </p:nvPicPr>
        <p:blipFill>
          <a:blip r:embed="rId4"/>
          <a:stretch/>
        </p:blipFill>
        <p:spPr>
          <a:xfrm>
            <a:off x="684360" y="1916280"/>
            <a:ext cx="2520720" cy="226044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397" name="Picture 4" descr=""/>
          <p:cNvPicPr/>
          <p:nvPr/>
        </p:nvPicPr>
        <p:blipFill>
          <a:blip r:embed="rId5"/>
          <a:stretch/>
        </p:blipFill>
        <p:spPr>
          <a:xfrm>
            <a:off x="684360" y="4321080"/>
            <a:ext cx="2630520" cy="227016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398" name="Picture 6" descr=""/>
          <p:cNvPicPr/>
          <p:nvPr/>
        </p:nvPicPr>
        <p:blipFill>
          <a:blip r:embed="rId6"/>
          <a:stretch/>
        </p:blipFill>
        <p:spPr>
          <a:xfrm>
            <a:off x="3492360" y="4091040"/>
            <a:ext cx="2592360" cy="250020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399" name="Picture 8" descr=""/>
          <p:cNvPicPr/>
          <p:nvPr/>
        </p:nvPicPr>
        <p:blipFill>
          <a:blip r:embed="rId7"/>
          <a:stretch/>
        </p:blipFill>
        <p:spPr>
          <a:xfrm>
            <a:off x="6510240" y="3375000"/>
            <a:ext cx="1747800" cy="208116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2"/>
          <a:stretch/>
        </p:blipFill>
        <p:spPr>
          <a:xfrm>
            <a:off x="189000" y="-19080"/>
            <a:ext cx="8351640" cy="1933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"/>
          <p:cNvPicPr/>
          <p:nvPr/>
        </p:nvPicPr>
        <p:blipFill>
          <a:blip r:embed="rId3"/>
          <a:stretch/>
        </p:blipFill>
        <p:spPr>
          <a:xfrm>
            <a:off x="108000" y="1773360"/>
            <a:ext cx="4005360" cy="267336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402" name="Picture 13" descr="IMG_6512"/>
          <p:cNvPicPr/>
          <p:nvPr/>
        </p:nvPicPr>
        <p:blipFill>
          <a:blip r:embed="rId4"/>
          <a:stretch/>
        </p:blipFill>
        <p:spPr>
          <a:xfrm>
            <a:off x="4284720" y="1773360"/>
            <a:ext cx="2735280" cy="222408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403" name="Picture 2" descr=""/>
          <p:cNvPicPr/>
          <p:nvPr/>
        </p:nvPicPr>
        <p:blipFill>
          <a:blip r:embed="rId5"/>
          <a:stretch/>
        </p:blipFill>
        <p:spPr>
          <a:xfrm>
            <a:off x="6423120" y="2565360"/>
            <a:ext cx="2530440" cy="3651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6"/>
          <a:stretch/>
        </p:blipFill>
        <p:spPr>
          <a:xfrm>
            <a:off x="3995640" y="3789360"/>
            <a:ext cx="1984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Объект 3" descr=""/>
          <p:cNvPicPr/>
          <p:nvPr/>
        </p:nvPicPr>
        <p:blipFill>
          <a:blip r:embed="rId3"/>
          <a:stretch/>
        </p:blipFill>
        <p:spPr>
          <a:xfrm>
            <a:off x="2987640" y="4724280"/>
            <a:ext cx="3048120" cy="153360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4" descr=""/>
          <p:cNvPicPr/>
          <p:nvPr/>
        </p:nvPicPr>
        <p:blipFill>
          <a:blip r:embed="rId4"/>
          <a:stretch/>
        </p:blipFill>
        <p:spPr>
          <a:xfrm rot="1645200">
            <a:off x="5278320" y="2206800"/>
            <a:ext cx="3326040" cy="20620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5" descr=""/>
          <p:cNvPicPr/>
          <p:nvPr/>
        </p:nvPicPr>
        <p:blipFill>
          <a:blip r:embed="rId5"/>
          <a:stretch/>
        </p:blipFill>
        <p:spPr>
          <a:xfrm rot="20254800">
            <a:off x="950400" y="2081160"/>
            <a:ext cx="31496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Объект 3" descr=""/>
          <p:cNvPicPr/>
          <p:nvPr/>
        </p:nvPicPr>
        <p:blipFill>
          <a:blip r:embed="rId3"/>
          <a:stretch/>
        </p:blipFill>
        <p:spPr>
          <a:xfrm>
            <a:off x="395280" y="2038320"/>
            <a:ext cx="5113440" cy="396072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4" descr=""/>
          <p:cNvPicPr/>
          <p:nvPr/>
        </p:nvPicPr>
        <p:blipFill>
          <a:blip r:embed="rId4"/>
          <a:stretch/>
        </p:blipFill>
        <p:spPr>
          <a:xfrm>
            <a:off x="5848200" y="4797360"/>
            <a:ext cx="2894040" cy="144792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5" descr=""/>
          <p:cNvPicPr/>
          <p:nvPr/>
        </p:nvPicPr>
        <p:blipFill>
          <a:blip r:embed="rId5"/>
          <a:stretch/>
        </p:blipFill>
        <p:spPr>
          <a:xfrm>
            <a:off x="5724360" y="2924280"/>
            <a:ext cx="3043440" cy="155232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6" descr=""/>
          <p:cNvPicPr/>
          <p:nvPr/>
        </p:nvPicPr>
        <p:blipFill>
          <a:blip r:embed="rId6"/>
          <a:stretch/>
        </p:blipFill>
        <p:spPr>
          <a:xfrm>
            <a:off x="5724360" y="1424160"/>
            <a:ext cx="30150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865440"/>
          </a:xfrm>
          <a:prstGeom prst="rect">
            <a:avLst/>
          </a:prstGeom>
          <a:ln w="0">
            <a:noFill/>
          </a:ln>
        </p:spPr>
      </p:pic>
      <p:pic>
        <p:nvPicPr>
          <p:cNvPr id="415" name="Объект 3" descr=""/>
          <p:cNvPicPr/>
          <p:nvPr/>
        </p:nvPicPr>
        <p:blipFill>
          <a:blip r:embed="rId3"/>
          <a:stretch/>
        </p:blipFill>
        <p:spPr>
          <a:xfrm>
            <a:off x="4932360" y="3284640"/>
            <a:ext cx="3887640" cy="316872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4" descr=""/>
          <p:cNvPicPr/>
          <p:nvPr/>
        </p:nvPicPr>
        <p:blipFill>
          <a:blip r:embed="rId4"/>
          <a:stretch/>
        </p:blipFill>
        <p:spPr>
          <a:xfrm>
            <a:off x="539640" y="3284640"/>
            <a:ext cx="4176720" cy="327816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5" descr=""/>
          <p:cNvPicPr/>
          <p:nvPr/>
        </p:nvPicPr>
        <p:blipFill>
          <a:blip r:embed="rId5"/>
          <a:stretch/>
        </p:blipFill>
        <p:spPr>
          <a:xfrm>
            <a:off x="1212840" y="1281240"/>
            <a:ext cx="2828880" cy="184788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6" descr="C:\Documents and Settings\Elena\Рабочий стол\неделя труда\30735_html_66ef0a59.jpg"/>
          <p:cNvPicPr/>
          <p:nvPr/>
        </p:nvPicPr>
        <p:blipFill>
          <a:blip r:embed="rId6"/>
          <a:stretch/>
        </p:blipFill>
        <p:spPr>
          <a:xfrm>
            <a:off x="4932360" y="1366920"/>
            <a:ext cx="381636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865440"/>
          </a:xfrm>
          <a:prstGeom prst="rect">
            <a:avLst/>
          </a:prstGeom>
          <a:ln w="0">
            <a:noFill/>
          </a:ln>
        </p:spPr>
      </p:pic>
      <p:pic>
        <p:nvPicPr>
          <p:cNvPr id="420" name="Объект 3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3206880" cy="230364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4" descr=""/>
          <p:cNvPicPr/>
          <p:nvPr/>
        </p:nvPicPr>
        <p:blipFill>
          <a:blip r:embed="rId4"/>
          <a:stretch/>
        </p:blipFill>
        <p:spPr>
          <a:xfrm rot="20496600">
            <a:off x="485640" y="1634760"/>
            <a:ext cx="2772000" cy="238932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5" descr=""/>
          <p:cNvPicPr/>
          <p:nvPr/>
        </p:nvPicPr>
        <p:blipFill>
          <a:blip r:embed="rId5"/>
          <a:stretch/>
        </p:blipFill>
        <p:spPr>
          <a:xfrm>
            <a:off x="4140360" y="1258920"/>
            <a:ext cx="4103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pic>
        <p:nvPicPr>
          <p:cNvPr id="424" name="Объект 3" descr="C:\Documents and Settings\Elena\Рабочий стол\Копия U0309051.gif"/>
          <p:cNvPicPr/>
          <p:nvPr/>
        </p:nvPicPr>
        <p:blipFill>
          <a:blip r:embed="rId3"/>
          <a:stretch/>
        </p:blipFill>
        <p:spPr>
          <a:xfrm>
            <a:off x="733320" y="3645000"/>
            <a:ext cx="7740720" cy="27367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4" descr="C:\Documents and Settings\Elena\Рабочий стол\art016p5.jpg"/>
          <p:cNvPicPr/>
          <p:nvPr/>
        </p:nvPicPr>
        <p:blipFill>
          <a:blip r:embed="rId4"/>
          <a:stretch/>
        </p:blipFill>
        <p:spPr>
          <a:xfrm>
            <a:off x="611280" y="1484280"/>
            <a:ext cx="78627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7923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расны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Черны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Зелены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Желтый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Сини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3"/>
          <a:stretch/>
        </p:blipFill>
        <p:spPr>
          <a:xfrm>
            <a:off x="2701800" y="1189080"/>
            <a:ext cx="1941480" cy="31147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4"/>
          <a:stretch/>
        </p:blipFill>
        <p:spPr>
          <a:xfrm>
            <a:off x="6804000" y="2852640"/>
            <a:ext cx="2284560" cy="3384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5"/>
          <a:stretch/>
        </p:blipFill>
        <p:spPr>
          <a:xfrm>
            <a:off x="1258920" y="4718160"/>
            <a:ext cx="5400720" cy="1311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6"/>
          <a:stretch/>
        </p:blipFill>
        <p:spPr>
          <a:xfrm>
            <a:off x="4716360" y="2276640"/>
            <a:ext cx="25653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13T08:45:58Z</dcterms:modified>
  <cp:revision>9</cp:revision>
  <dc:subject/>
  <dc:title>Орнамент – это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18000000000001024140</vt:lpwstr>
  </property>
</Properties>
</file>