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30.png" ContentType="image/png"/>
  <Override PartName="/ppt/media/image10.jpeg" ContentType="image/jpeg"/>
  <Override PartName="/ppt/media/image5.png" ContentType="image/png"/>
  <Override PartName="/ppt/media/image29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4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11.png" ContentType="image/png"/>
  <Override PartName="/ppt/media/image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5CD-838B-48D3-A94A-3FE0E8A7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15E-8778-4B8E-875E-1AEA9C45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835-7D6F-427D-8F73-2DFE9D0C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00C-846F-4EA2-8954-01B30D53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E1BA-2A26-4B5F-850C-133ED31C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8321-CEC3-4F73-8974-117CA5BD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AA0B-E76C-42C1-A9D9-F11807E8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4A24-D6DB-45D3-BF51-7C11408C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C4FF-E387-4C5C-8AAF-E45ACB2B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C170-F583-40A4-A324-8749E790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2F0F-13F1-4F2A-B5A1-81EE8B43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058-A2C4-492D-981B-DB72C0FC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30F8-3E9E-43C4-9829-EBCCEFDA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D10A-0F7C-42D4-A8D8-35C84E36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5E61-8B7C-434E-96DF-DFD7F998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2CF6-1B9C-40CF-B91A-B353018E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9FA3-DD41-4398-85D2-8C7131BD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C8C66-233D-4662-A026-32F74C9F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E1FC7-BF5F-4C62-9348-39C61212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A3CD2-EC8C-4953-84E7-FDDE1920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C76BE-6BBA-4985-9EF9-08083632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2656-D2A2-40EB-AB7C-15B92AE4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762-6D38-4ABC-82DD-688EC1EC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BB6D3-D86E-4D76-8217-99D0BCB5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F235C-7EC3-4883-9D8E-10EC0D62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5B173-9F82-45D3-A93F-6A9291A6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C183E-B834-4A68-A9EA-B59B681B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1C788-E979-4873-866D-73F3A0E4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65487-19EC-4509-B63D-38C070A6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9C6C5-44D2-41C9-B534-0B3E3201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9DC1F-B53B-4B87-95A3-ADE427CA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629E7-6100-4C06-A469-3DC6203B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6FC8B-4331-41D1-A7D6-29CDE5A0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4CA-D76A-4F98-9DC8-97BE8143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391AA-D3E0-4C61-9FD9-27AF3708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1E71E-C96D-430A-84E4-227FEFB0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2EA5F-F992-4546-91B2-BD71960B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734F2-8DE7-4F3A-9783-FC81CBA9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5D459-1527-45A4-8C70-22430DC2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B11AA-E99F-4A09-8F28-49ADF0CA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15E53-E43B-4D28-8D59-D899DEA3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87458-6C85-4185-802F-5A6EF22E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2457A-4E4B-44B6-B8F7-B0161A58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8C38D-AD2D-4EBD-A70E-A7DE125F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B98-CB41-4BF5-9008-6E34156C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C51A1-510D-4F2A-8477-B2E98F40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7AC3E-08E1-411A-B45A-968B7591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873F0-5D9A-4685-AF5C-DCCFD0BB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5E4D1-B746-4100-96FE-7DC3636F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B39C8-848F-41EB-9594-DFD99B92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3F134-8C31-4A03-A66F-C88B978A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BBE58-B47B-4F71-B3F7-295C2EDB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B6109-71B1-4AF1-9853-F7C64629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D30D9-539F-4591-AF7B-FDF43FD5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AE654-977C-427C-B735-8F5D4107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ADB-BD9C-4E13-A32A-D60CA3F2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9B007-4437-47C2-BFFD-2B86BF06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F13-83A9-4A0A-8346-1291D473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0B1-516E-4325-AF2D-475C9274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4215-4BAC-4951-8A7F-163C5DC3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51E0-0FA7-40E6-BF41-49BF36482939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FC2B-DC00-4E9C-AC2E-486ED4DA48B2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6071-577F-443D-8E99-EC32DE679FBC}" type="slidenum"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EFD6-B3AD-4288-AC2D-A248E75F096E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6566-00C4-4138-91AA-07AC966F75DC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2"/>
          <a:stretch/>
        </p:blipFill>
        <p:spPr>
          <a:xfrm>
            <a:off x="517680" y="328680"/>
            <a:ext cx="7967520" cy="8049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763640" y="126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Узор, состоящий из ритмично чередующихся элементов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2916360" y="3573360"/>
            <a:ext cx="33526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2"/>
          <a:stretch/>
        </p:blipFill>
        <p:spPr>
          <a:xfrm>
            <a:off x="268200" y="244440"/>
            <a:ext cx="8425080" cy="7430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Украшаем фартук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34" name="Рисунок 3" descr="C:\Documents and Settings\Elena\Рабочий стол\Безымянный.bmp"/>
          <p:cNvPicPr/>
          <p:nvPr/>
        </p:nvPicPr>
        <p:blipFill>
          <a:blip r:embed="rId3"/>
          <a:stretch/>
        </p:blipFill>
        <p:spPr>
          <a:xfrm>
            <a:off x="1932120" y="1773360"/>
            <a:ext cx="554508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436" name="Объект 3" descr=""/>
          <p:cNvPicPr/>
          <p:nvPr/>
        </p:nvPicPr>
        <p:blipFill>
          <a:blip r:embed="rId3"/>
          <a:stretch/>
        </p:blipFill>
        <p:spPr>
          <a:xfrm>
            <a:off x="952560" y="1600200"/>
            <a:ext cx="723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438" name="Объект 3" descr=""/>
          <p:cNvPicPr/>
          <p:nvPr/>
        </p:nvPicPr>
        <p:blipFill>
          <a:blip r:embed="rId3"/>
          <a:stretch/>
        </p:blipFill>
        <p:spPr>
          <a:xfrm>
            <a:off x="2050920" y="1089000"/>
            <a:ext cx="4524480" cy="27716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4" descr=""/>
          <p:cNvPicPr/>
          <p:nvPr/>
        </p:nvPicPr>
        <p:blipFill>
          <a:blip r:embed="rId4"/>
          <a:stretch/>
        </p:blipFill>
        <p:spPr>
          <a:xfrm>
            <a:off x="5292720" y="3929040"/>
            <a:ext cx="3282840" cy="2610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"/>
          <p:cNvPicPr/>
          <p:nvPr/>
        </p:nvPicPr>
        <p:blipFill>
          <a:blip r:embed="rId5"/>
          <a:stretch/>
        </p:blipFill>
        <p:spPr>
          <a:xfrm>
            <a:off x="395280" y="3933720"/>
            <a:ext cx="40194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2"/>
          <a:stretch/>
        </p:blipFill>
        <p:spPr>
          <a:xfrm>
            <a:off x="3889440" y="328680"/>
            <a:ext cx="4016160" cy="804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2962080" cy="148608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sp>
        <p:nvSpPr>
          <p:cNvPr id="395" name="Прямоугольник 4"/>
          <p:cNvSpPr/>
          <p:nvPr/>
        </p:nvSpPr>
        <p:spPr>
          <a:xfrm>
            <a:off x="3708360" y="162864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назначен для украшения различных предметов , мебели, архитектурных сооружени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6" name="Picture 14" descr=""/>
          <p:cNvPicPr/>
          <p:nvPr/>
        </p:nvPicPr>
        <p:blipFill>
          <a:blip r:embed="rId4"/>
          <a:stretch/>
        </p:blipFill>
        <p:spPr>
          <a:xfrm>
            <a:off x="684360" y="1916280"/>
            <a:ext cx="2520720" cy="226044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397" name="Picture 4" descr=""/>
          <p:cNvPicPr/>
          <p:nvPr/>
        </p:nvPicPr>
        <p:blipFill>
          <a:blip r:embed="rId5"/>
          <a:stretch/>
        </p:blipFill>
        <p:spPr>
          <a:xfrm>
            <a:off x="684360" y="4321080"/>
            <a:ext cx="2630520" cy="227016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398" name="Picture 6" descr=""/>
          <p:cNvPicPr/>
          <p:nvPr/>
        </p:nvPicPr>
        <p:blipFill>
          <a:blip r:embed="rId6"/>
          <a:stretch/>
        </p:blipFill>
        <p:spPr>
          <a:xfrm>
            <a:off x="3492360" y="4091040"/>
            <a:ext cx="2592360" cy="250020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399" name="Picture 8" descr=""/>
          <p:cNvPicPr/>
          <p:nvPr/>
        </p:nvPicPr>
        <p:blipFill>
          <a:blip r:embed="rId7"/>
          <a:stretch/>
        </p:blipFill>
        <p:spPr>
          <a:xfrm>
            <a:off x="6510240" y="3375000"/>
            <a:ext cx="1747800" cy="208116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2"/>
          <a:stretch/>
        </p:blipFill>
        <p:spPr>
          <a:xfrm>
            <a:off x="189000" y="-19080"/>
            <a:ext cx="8351640" cy="1933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"/>
          <p:cNvPicPr/>
          <p:nvPr/>
        </p:nvPicPr>
        <p:blipFill>
          <a:blip r:embed="rId3"/>
          <a:stretch/>
        </p:blipFill>
        <p:spPr>
          <a:xfrm>
            <a:off x="108000" y="1773360"/>
            <a:ext cx="4005360" cy="267336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402" name="Picture 13" descr="IMG_6512"/>
          <p:cNvPicPr/>
          <p:nvPr/>
        </p:nvPicPr>
        <p:blipFill>
          <a:blip r:embed="rId4"/>
          <a:stretch/>
        </p:blipFill>
        <p:spPr>
          <a:xfrm>
            <a:off x="4284720" y="1773360"/>
            <a:ext cx="2735280" cy="222408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403" name="Picture 2" descr=""/>
          <p:cNvPicPr/>
          <p:nvPr/>
        </p:nvPicPr>
        <p:blipFill>
          <a:blip r:embed="rId5"/>
          <a:stretch/>
        </p:blipFill>
        <p:spPr>
          <a:xfrm>
            <a:off x="6423120" y="2565360"/>
            <a:ext cx="2530440" cy="3651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6"/>
          <a:stretch/>
        </p:blipFill>
        <p:spPr>
          <a:xfrm>
            <a:off x="3995640" y="3789360"/>
            <a:ext cx="1984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Объект 3" descr=""/>
          <p:cNvPicPr/>
          <p:nvPr/>
        </p:nvPicPr>
        <p:blipFill>
          <a:blip r:embed="rId3"/>
          <a:stretch/>
        </p:blipFill>
        <p:spPr>
          <a:xfrm>
            <a:off x="2987640" y="4724280"/>
            <a:ext cx="3048120" cy="153360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4" descr=""/>
          <p:cNvPicPr/>
          <p:nvPr/>
        </p:nvPicPr>
        <p:blipFill>
          <a:blip r:embed="rId4"/>
          <a:stretch/>
        </p:blipFill>
        <p:spPr>
          <a:xfrm rot="1645200">
            <a:off x="5278320" y="2206800"/>
            <a:ext cx="3326040" cy="20620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5" descr=""/>
          <p:cNvPicPr/>
          <p:nvPr/>
        </p:nvPicPr>
        <p:blipFill>
          <a:blip r:embed="rId5"/>
          <a:stretch/>
        </p:blipFill>
        <p:spPr>
          <a:xfrm rot="20254800">
            <a:off x="950400" y="2081160"/>
            <a:ext cx="31496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Объект 3" descr=""/>
          <p:cNvPicPr/>
          <p:nvPr/>
        </p:nvPicPr>
        <p:blipFill>
          <a:blip r:embed="rId3"/>
          <a:stretch/>
        </p:blipFill>
        <p:spPr>
          <a:xfrm>
            <a:off x="395280" y="2038320"/>
            <a:ext cx="5113440" cy="396072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4" descr=""/>
          <p:cNvPicPr/>
          <p:nvPr/>
        </p:nvPicPr>
        <p:blipFill>
          <a:blip r:embed="rId4"/>
          <a:stretch/>
        </p:blipFill>
        <p:spPr>
          <a:xfrm>
            <a:off x="5848200" y="4797360"/>
            <a:ext cx="2894040" cy="144792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5" descr=""/>
          <p:cNvPicPr/>
          <p:nvPr/>
        </p:nvPicPr>
        <p:blipFill>
          <a:blip r:embed="rId5"/>
          <a:stretch/>
        </p:blipFill>
        <p:spPr>
          <a:xfrm>
            <a:off x="5724360" y="2924280"/>
            <a:ext cx="3043440" cy="155232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6" descr=""/>
          <p:cNvPicPr/>
          <p:nvPr/>
        </p:nvPicPr>
        <p:blipFill>
          <a:blip r:embed="rId6"/>
          <a:stretch/>
        </p:blipFill>
        <p:spPr>
          <a:xfrm>
            <a:off x="5724360" y="1424160"/>
            <a:ext cx="30150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865440"/>
          </a:xfrm>
          <a:prstGeom prst="rect">
            <a:avLst/>
          </a:prstGeom>
          <a:ln w="0">
            <a:noFill/>
          </a:ln>
        </p:spPr>
      </p:pic>
      <p:pic>
        <p:nvPicPr>
          <p:cNvPr id="415" name="Объект 3" descr=""/>
          <p:cNvPicPr/>
          <p:nvPr/>
        </p:nvPicPr>
        <p:blipFill>
          <a:blip r:embed="rId3"/>
          <a:stretch/>
        </p:blipFill>
        <p:spPr>
          <a:xfrm>
            <a:off x="4932360" y="3284640"/>
            <a:ext cx="3887640" cy="316872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4" descr=""/>
          <p:cNvPicPr/>
          <p:nvPr/>
        </p:nvPicPr>
        <p:blipFill>
          <a:blip r:embed="rId4"/>
          <a:stretch/>
        </p:blipFill>
        <p:spPr>
          <a:xfrm>
            <a:off x="539640" y="3284640"/>
            <a:ext cx="4176720" cy="32781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5" descr=""/>
          <p:cNvPicPr/>
          <p:nvPr/>
        </p:nvPicPr>
        <p:blipFill>
          <a:blip r:embed="rId5"/>
          <a:stretch/>
        </p:blipFill>
        <p:spPr>
          <a:xfrm>
            <a:off x="1212840" y="1281240"/>
            <a:ext cx="2828880" cy="184788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6" descr="C:\Documents and Settings\Elena\Рабочий стол\неделя труда\30735_html_66ef0a59.jpg"/>
          <p:cNvPicPr/>
          <p:nvPr/>
        </p:nvPicPr>
        <p:blipFill>
          <a:blip r:embed="rId6"/>
          <a:stretch/>
        </p:blipFill>
        <p:spPr>
          <a:xfrm>
            <a:off x="4932360" y="1366920"/>
            <a:ext cx="38163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865440"/>
          </a:xfrm>
          <a:prstGeom prst="rect">
            <a:avLst/>
          </a:prstGeom>
          <a:ln w="0">
            <a:noFill/>
          </a:ln>
        </p:spPr>
      </p:pic>
      <p:pic>
        <p:nvPicPr>
          <p:cNvPr id="420" name="Объект 3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3206880" cy="230364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4" descr=""/>
          <p:cNvPicPr/>
          <p:nvPr/>
        </p:nvPicPr>
        <p:blipFill>
          <a:blip r:embed="rId4"/>
          <a:stretch/>
        </p:blipFill>
        <p:spPr>
          <a:xfrm rot="20496600">
            <a:off x="485640" y="1634760"/>
            <a:ext cx="2772000" cy="238932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5" descr=""/>
          <p:cNvPicPr/>
          <p:nvPr/>
        </p:nvPicPr>
        <p:blipFill>
          <a:blip r:embed="rId5"/>
          <a:stretch/>
        </p:blipFill>
        <p:spPr>
          <a:xfrm>
            <a:off x="4140360" y="1258920"/>
            <a:ext cx="4103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424" name="Объект 3" descr="C:\Documents and Settings\Elena\Рабочий стол\Копия U0309051.gif"/>
          <p:cNvPicPr/>
          <p:nvPr/>
        </p:nvPicPr>
        <p:blipFill>
          <a:blip r:embed="rId3"/>
          <a:stretch/>
        </p:blipFill>
        <p:spPr>
          <a:xfrm>
            <a:off x="733320" y="3645000"/>
            <a:ext cx="7740720" cy="27367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4" descr="C:\Documents and Settings\Elena\Рабочий стол\art016p5.jpg"/>
          <p:cNvPicPr/>
          <p:nvPr/>
        </p:nvPicPr>
        <p:blipFill>
          <a:blip r:embed="rId4"/>
          <a:stretch/>
        </p:blipFill>
        <p:spPr>
          <a:xfrm>
            <a:off x="611280" y="1484280"/>
            <a:ext cx="78627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7923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расны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Черны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Зелены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Желтый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ини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3"/>
          <a:stretch/>
        </p:blipFill>
        <p:spPr>
          <a:xfrm>
            <a:off x="2701800" y="1189080"/>
            <a:ext cx="1941480" cy="3114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4"/>
          <a:stretch/>
        </p:blipFill>
        <p:spPr>
          <a:xfrm>
            <a:off x="6804000" y="2852640"/>
            <a:ext cx="2284560" cy="3384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5"/>
          <a:stretch/>
        </p:blipFill>
        <p:spPr>
          <a:xfrm>
            <a:off x="1258920" y="4718160"/>
            <a:ext cx="5400720" cy="1311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6"/>
          <a:stretch/>
        </p:blipFill>
        <p:spPr>
          <a:xfrm>
            <a:off x="4716360" y="2276640"/>
            <a:ext cx="25653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13T08:45:58Z</dcterms:modified>
  <cp:revision>9</cp:revision>
  <dc:subject/>
  <dc:title>Орнамент – это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18000000000001024140</vt:lpwstr>
  </property>
</Properties>
</file>