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4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E56-CB72-4DDE-9B5D-E47AA08C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15A-6822-44A5-90D9-C3857296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762-B85C-40DD-A204-13BE2FA4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B6A-BFC7-4FBA-A7D0-242AA519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08E-149D-4BEC-B452-5A28B919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F2E-4735-4B4D-B776-9F1B2F1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97AF-4A80-4660-B976-B2919DEC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6D2-169A-4B46-9E6B-2D141F8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D37D-BEC9-4999-B3AB-5A634191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29FD-CD77-4343-B353-249C838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9F2B-65B8-4CC6-9F76-9541BA5C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8A6-B1EC-4737-8149-4435D011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535F-05AE-44B7-8377-09BDBBE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AB7-C03A-481D-BA7C-FBCF436A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101-405A-47F6-8CC2-8FF8FBD4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70A7-0881-49F4-8853-40F289C2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4178-C845-44F8-82E0-2CFA7FB2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B3A5-9FFD-4B4C-89A6-77200EBA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2AEE-CAB1-457E-B338-671A567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DA89-2A41-488F-BCDD-F89D9672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E308-F833-4088-A871-A6303F84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7DD3-A99F-40AE-BFEA-EADCF1BE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5A1-E1D6-4D50-B370-FB3CF41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C76F-A509-4516-8E5F-564B1905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642F-4123-44D9-B126-1EC12E4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8EBF-EE51-4280-9C68-F21FECFC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EAFE-DCF8-4742-A78C-749CE0C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FE43-EDAB-4C2D-945B-A42EAF8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7791A-EF31-4E30-83A2-B877D094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D586-5B35-45D7-B95C-28210F66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7FBB-9CD7-48BF-AB58-37847409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C3EB-6EC7-4BC2-9A12-7B3EC36A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4A99E-13CF-4C58-95FB-A957F7E2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647-A5BA-434A-9D80-6C9E53B8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2973-D84D-4D67-94EE-206562B0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4F69-1050-4ECC-B618-EAA3B680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82AE-31BE-47C9-9E7D-2A543BD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EA53-C49E-49D8-BB78-93F0B66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16D86-E759-4BF8-887F-AF2B6EC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2A00-2521-4AE5-A00B-89F402AD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5EA9-96E9-492D-B7BB-1A8A48D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CCF0-6C2F-4386-BCDD-677FB0B0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B4575-E961-4C62-879E-5425E207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157B-7F36-4F25-8775-5464D40A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0D6-88CA-4DD3-96BC-7BAB70B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1F87-9B9C-4C3C-BAE7-D8DA359F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45373-5F03-4129-92C2-4EFE7DF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6B810-C900-487D-95EA-62F97361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C49D-B07E-4AC1-A4F3-36792A59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48C5D-580E-42C0-835E-27C0A6D5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6593B-C2E5-4F0E-A82B-FF721C02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7BCB-A230-4648-98F3-FE6FF502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5AC2-FCB7-4732-9F35-6B3AF03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4422-58F8-42C1-A3F0-ECAF24E3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5E0FB-5620-4389-9C5E-2B7A5982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66C-E4BA-40FD-9888-2C5DD84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128A-EACF-418E-BDB0-F565682C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727-7E86-4C43-AD8C-52F7858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680-5796-479B-A001-8334FD41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73C-652E-4519-A5A9-EC1DC85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A45-8002-4719-AF26-93200B21EBA3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FFDA-8DA4-4093-99C7-F66941DBB3AE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B87C-2486-4CE1-B05E-2BFC9E92A942}" type="slidenum">
              <a:rPr b="0" lang="ru-RU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031-4D47-47F8-AB65-428710CA5717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31AB-85BF-4298-9AA2-0CCE4998E52E}" type="slidenum">
              <a:rPr b="0" lang="ru-RU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517680" y="328680"/>
            <a:ext cx="796752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763640" y="126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зор, состоящий из ритмично чередующихся элементов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2916360" y="3573360"/>
            <a:ext cx="33526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268200" y="244440"/>
            <a:ext cx="8425080" cy="743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Украшаем фартук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Рисунок 3" descr="C:\Documents and Settings\Elena\Рабочий стол\Безымянный.bmp"/>
          <p:cNvPicPr/>
          <p:nvPr/>
        </p:nvPicPr>
        <p:blipFill>
          <a:blip r:embed="rId3"/>
          <a:stretch/>
        </p:blipFill>
        <p:spPr>
          <a:xfrm>
            <a:off x="1932120" y="1773360"/>
            <a:ext cx="554508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Объект 3" descr=""/>
          <p:cNvPicPr/>
          <p:nvPr/>
        </p:nvPicPr>
        <p:blipFill>
          <a:blip r:embed="rId3"/>
          <a:stretch/>
        </p:blipFill>
        <p:spPr>
          <a:xfrm>
            <a:off x="952560" y="1600200"/>
            <a:ext cx="723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Объект 3" descr=""/>
          <p:cNvPicPr/>
          <p:nvPr/>
        </p:nvPicPr>
        <p:blipFill>
          <a:blip r:embed="rId3"/>
          <a:stretch/>
        </p:blipFill>
        <p:spPr>
          <a:xfrm>
            <a:off x="2050920" y="1089000"/>
            <a:ext cx="4524480" cy="27716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"/>
          <p:cNvPicPr/>
          <p:nvPr/>
        </p:nvPicPr>
        <p:blipFill>
          <a:blip r:embed="rId4"/>
          <a:stretch/>
        </p:blipFill>
        <p:spPr>
          <a:xfrm>
            <a:off x="5292720" y="3929040"/>
            <a:ext cx="3282840" cy="2610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5"/>
          <a:stretch/>
        </p:blipFill>
        <p:spPr>
          <a:xfrm>
            <a:off x="395280" y="3933720"/>
            <a:ext cx="4019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2"/>
          <a:stretch/>
        </p:blipFill>
        <p:spPr>
          <a:xfrm>
            <a:off x="3889440" y="328680"/>
            <a:ext cx="4016160" cy="804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2962080" cy="1486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sp>
        <p:nvSpPr>
          <p:cNvPr id="395" name="Прямоугольник 4"/>
          <p:cNvSpPr/>
          <p:nvPr/>
        </p:nvSpPr>
        <p:spPr>
          <a:xfrm>
            <a:off x="3708360" y="1628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назначен для украшения различных предметов , мебели, архитектурных сооруже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6" name="Picture 14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2520720" cy="226044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7" name="Picture 4" descr=""/>
          <p:cNvPicPr/>
          <p:nvPr/>
        </p:nvPicPr>
        <p:blipFill>
          <a:blip r:embed="rId5"/>
          <a:stretch/>
        </p:blipFill>
        <p:spPr>
          <a:xfrm>
            <a:off x="684360" y="4321080"/>
            <a:ext cx="2630520" cy="2270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8" name="Picture 6" descr=""/>
          <p:cNvPicPr/>
          <p:nvPr/>
        </p:nvPicPr>
        <p:blipFill>
          <a:blip r:embed="rId6"/>
          <a:stretch/>
        </p:blipFill>
        <p:spPr>
          <a:xfrm>
            <a:off x="3492360" y="4091040"/>
            <a:ext cx="2592360" cy="250020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399" name="Picture 8" descr=""/>
          <p:cNvPicPr/>
          <p:nvPr/>
        </p:nvPicPr>
        <p:blipFill>
          <a:blip r:embed="rId7"/>
          <a:stretch/>
        </p:blipFill>
        <p:spPr>
          <a:xfrm>
            <a:off x="6510240" y="3375000"/>
            <a:ext cx="1747800" cy="20811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189000" y="-19080"/>
            <a:ext cx="8351640" cy="1933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4005360" cy="267336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2" name="Picture 13" descr="IMG_6512"/>
          <p:cNvPicPr/>
          <p:nvPr/>
        </p:nvPicPr>
        <p:blipFill>
          <a:blip r:embed="rId4"/>
          <a:stretch/>
        </p:blipFill>
        <p:spPr>
          <a:xfrm>
            <a:off x="4284720" y="1773360"/>
            <a:ext cx="2735280" cy="2224080"/>
          </a:xfrm>
          <a:prstGeom prst="rect">
            <a:avLst/>
          </a:prstGeom>
          <a:ln w="19080">
            <a:solidFill>
              <a:srgbClr val="66aacd"/>
            </a:solidFill>
            <a:miter/>
          </a:ln>
        </p:spPr>
      </p:pic>
      <p:pic>
        <p:nvPicPr>
          <p:cNvPr id="403" name="Picture 2" descr=""/>
          <p:cNvPicPr/>
          <p:nvPr/>
        </p:nvPicPr>
        <p:blipFill>
          <a:blip r:embed="rId5"/>
          <a:stretch/>
        </p:blipFill>
        <p:spPr>
          <a:xfrm>
            <a:off x="6423120" y="2565360"/>
            <a:ext cx="2530440" cy="3651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6"/>
          <a:stretch/>
        </p:blipFill>
        <p:spPr>
          <a:xfrm>
            <a:off x="3995640" y="3789360"/>
            <a:ext cx="1984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Объект 3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3048120" cy="153360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"/>
          <p:cNvPicPr/>
          <p:nvPr/>
        </p:nvPicPr>
        <p:blipFill>
          <a:blip r:embed="rId4"/>
          <a:stretch/>
        </p:blipFill>
        <p:spPr>
          <a:xfrm rot="1645200">
            <a:off x="5278320" y="2206800"/>
            <a:ext cx="3326040" cy="20620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"/>
          <p:cNvPicPr/>
          <p:nvPr/>
        </p:nvPicPr>
        <p:blipFill>
          <a:blip r:embed="rId5"/>
          <a:stretch/>
        </p:blipFill>
        <p:spPr>
          <a:xfrm rot="20254800">
            <a:off x="950400" y="2081160"/>
            <a:ext cx="3149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3" descr=""/>
          <p:cNvPicPr/>
          <p:nvPr/>
        </p:nvPicPr>
        <p:blipFill>
          <a:blip r:embed="rId3"/>
          <a:stretch/>
        </p:blipFill>
        <p:spPr>
          <a:xfrm>
            <a:off x="395280" y="2038320"/>
            <a:ext cx="5113440" cy="396072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4"/>
          <a:stretch/>
        </p:blipFill>
        <p:spPr>
          <a:xfrm>
            <a:off x="5848200" y="4797360"/>
            <a:ext cx="2894040" cy="14479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5"/>
          <a:stretch/>
        </p:blipFill>
        <p:spPr>
          <a:xfrm>
            <a:off x="5724360" y="2924280"/>
            <a:ext cx="3043440" cy="15523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"/>
          <p:cNvPicPr/>
          <p:nvPr/>
        </p:nvPicPr>
        <p:blipFill>
          <a:blip r:embed="rId6"/>
          <a:stretch/>
        </p:blipFill>
        <p:spPr>
          <a:xfrm>
            <a:off x="5724360" y="1424160"/>
            <a:ext cx="3015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15" name="Объект 3" descr=""/>
          <p:cNvPicPr/>
          <p:nvPr/>
        </p:nvPicPr>
        <p:blipFill>
          <a:blip r:embed="rId3"/>
          <a:stretch/>
        </p:blipFill>
        <p:spPr>
          <a:xfrm>
            <a:off x="4932360" y="328464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" descr=""/>
          <p:cNvPicPr/>
          <p:nvPr/>
        </p:nvPicPr>
        <p:blipFill>
          <a:blip r:embed="rId4"/>
          <a:stretch/>
        </p:blipFill>
        <p:spPr>
          <a:xfrm>
            <a:off x="539640" y="3284640"/>
            <a:ext cx="4176720" cy="32781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5" descr=""/>
          <p:cNvPicPr/>
          <p:nvPr/>
        </p:nvPicPr>
        <p:blipFill>
          <a:blip r:embed="rId5"/>
          <a:stretch/>
        </p:blipFill>
        <p:spPr>
          <a:xfrm>
            <a:off x="1212840" y="1281240"/>
            <a:ext cx="2828880" cy="184788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C:\Documents and Settings\Elena\Рабочий стол\неделя труда\30735_html_66ef0a59.jpg"/>
          <p:cNvPicPr/>
          <p:nvPr/>
        </p:nvPicPr>
        <p:blipFill>
          <a:blip r:embed="rId6"/>
          <a:stretch/>
        </p:blipFill>
        <p:spPr>
          <a:xfrm>
            <a:off x="4932360" y="1366920"/>
            <a:ext cx="3816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865440"/>
          </a:xfrm>
          <a:prstGeom prst="rect">
            <a:avLst/>
          </a:prstGeom>
          <a:ln w="0">
            <a:noFill/>
          </a:ln>
        </p:spPr>
      </p:pic>
      <p:pic>
        <p:nvPicPr>
          <p:cNvPr id="420" name="Объект 3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3206880" cy="23036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4"/>
          <a:stretch/>
        </p:blipFill>
        <p:spPr>
          <a:xfrm rot="20496600">
            <a:off x="485640" y="1634760"/>
            <a:ext cx="2772000" cy="23893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5" descr=""/>
          <p:cNvPicPr/>
          <p:nvPr/>
        </p:nvPicPr>
        <p:blipFill>
          <a:blip r:embed="rId5"/>
          <a:stretch/>
        </p:blipFill>
        <p:spPr>
          <a:xfrm>
            <a:off x="4140360" y="1258920"/>
            <a:ext cx="4103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Объект 3" descr="C:\Documents and Settings\Elena\Рабочий стол\Копия U0309051.gif"/>
          <p:cNvPicPr/>
          <p:nvPr/>
        </p:nvPicPr>
        <p:blipFill>
          <a:blip r:embed="rId3"/>
          <a:stretch/>
        </p:blipFill>
        <p:spPr>
          <a:xfrm>
            <a:off x="733320" y="3645000"/>
            <a:ext cx="7740720" cy="27367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Documents and Settings\Elena\Рабочий стол\art016p5.jpg"/>
          <p:cNvPicPr/>
          <p:nvPr/>
        </p:nvPicPr>
        <p:blipFill>
          <a:blip r:embed="rId4"/>
          <a:stretch/>
        </p:blipFill>
        <p:spPr>
          <a:xfrm>
            <a:off x="611280" y="1484280"/>
            <a:ext cx="7862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425080" cy="7923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Чер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Зелены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e6d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Желтый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и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3"/>
          <a:stretch/>
        </p:blipFill>
        <p:spPr>
          <a:xfrm>
            <a:off x="2701800" y="1189080"/>
            <a:ext cx="1941480" cy="3114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4"/>
          <a:stretch/>
        </p:blipFill>
        <p:spPr>
          <a:xfrm>
            <a:off x="6804000" y="2852640"/>
            <a:ext cx="2284560" cy="3384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5"/>
          <a:stretch/>
        </p:blipFill>
        <p:spPr>
          <a:xfrm>
            <a:off x="1258920" y="4718160"/>
            <a:ext cx="5400720" cy="1311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6"/>
          <a:stretch/>
        </p:blipFill>
        <p:spPr>
          <a:xfrm>
            <a:off x="4716360" y="2276640"/>
            <a:ext cx="25653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13T08:45:58Z</dcterms:modified>
  <cp:revision>9</cp:revision>
  <dc:subject/>
  <dc:title>Орнамент – это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8000000000001024140</vt:lpwstr>
  </property>
</Properties>
</file>