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413-7EC4-44E7-AF87-630271B8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961-99DD-4EAD-8321-C84AD087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477-33B1-4F53-9B62-64F1DE91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987-75C1-4510-ADBA-994E35DF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0EC3-7FF9-49BE-9ABE-201E8704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7496-41B7-4B5C-827D-BBE8E67A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7AA7-C598-4AB8-986E-4AA66A84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2686-B37A-481D-933C-9F71ACAA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F89F-0D82-4E52-822B-B6A519D3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5A46-E0C8-4A33-B63B-98FE325C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3886-72BB-411B-874C-EEF8D39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C3D-BD3B-49FC-BEAC-D25F38C3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AE23-B78C-43E8-9107-670A04DA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D600-548A-4BBF-A4DB-DEB005AD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6EDA-EFE0-4836-B722-6DAD0A72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06A8-8E19-435B-B285-13CEADC6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526D-217D-4522-9558-863ABBDA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91B1-67FB-4002-8557-1E664A68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D5C4-A7C3-498A-A62D-3DC5BF61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B7F7-6E73-4AD1-A1E5-2692C5DB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0291-EB82-4FD6-982B-C2950F23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565B-B319-4C62-957C-8A0B7FCB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8BC-ABA1-4BB8-849C-CF9CA3AE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87F7-5849-4B84-8F04-612944D3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EE1A-E8F3-4DF5-9018-AA32481C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8BAB-70D3-4BD4-A3C3-8A6D7242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8B98-AC69-41C1-9114-24BEDF2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20FE-06CD-4552-8182-8113DDD8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BE51-3A06-4A7F-BA08-A457F1EF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E7B59-D9DE-471F-A1E5-8405C026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523F-AC27-4592-BC5E-2186275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B657F-65B3-47BA-ACB7-B9C1BC28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B55EA-DB3E-42F3-A83F-357B5FE3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C3B0-9B64-4FD0-9AED-745AFA7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71C3-DF3C-4D52-BB0C-EA346C88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5843-0CD5-4C48-B87B-8E0BCC4C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DD9B-47CF-4360-BB55-1934AB5A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C585-EFBC-4E6B-9C1E-CE64C4DC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ECA9-E34E-48DD-9185-89C667EB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D722-1859-4D2D-8C8A-3562A72B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145E-603F-4A70-98B2-3B85739B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70D7F-3E65-416E-A971-2AF63204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8E80-A888-45E3-9F56-A691C1FB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DF4-C803-4D45-9AA7-268CC913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846-C858-4022-9F96-345540CF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3B1-F1A9-49F7-8073-6EF36703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1D7-D1EC-4140-8BD2-C3F676A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E06-9A60-46BC-9303-32A02D33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ED3B-978C-4994-90CF-623B6B03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445C-5696-493C-B3EC-F6318234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8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2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7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3E48-B835-46CD-92CD-F8EB6E1506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6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0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A37D-E813-4BC7-A6C2-3960086D495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Мир сказок Г.Х.Андерсе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9960" y="3650760"/>
            <a:ext cx="669924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ок внеклассного чтения в 5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1960" y="5949360"/>
            <a:ext cx="53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а: Самохвалова Татьяна Григорьев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62960" y="5373360"/>
            <a:ext cx="768348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-был купец. Он был так богат, что мог бы вымост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бряными деньгами целую улицу и переулок в придач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, он этого не делал - он знал, куда девать деньги, и ес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тил копейку, то наживал целый рубль. Вот каков был этот купец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56400" y="259560"/>
            <a:ext cx="38077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ундук-самолет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11280" y="332640"/>
            <a:ext cx="3115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Ганс Чурбан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58160" y="5157720"/>
            <a:ext cx="61153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 в усадьбе старик хозяин, и было у не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сына, такие умники, что и вполовину хватило б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ешили они посвататься к королеве - отчего же не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сама объявила, что возьмет в мужья того, кто 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м в карман не полезет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66920" y="6021000"/>
            <a:ext cx="64929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али ли вы когда-нибудь старинный деревянный шкаф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сем почерневший от времен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80000" y="187920"/>
            <a:ext cx="49305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астушка и трубочист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6292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38200" y="6165000"/>
            <a:ext cx="81086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ёл солдат по дороге: раз-два! Раз-два! Ранец за спиной, сабля на бок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403920"/>
            <a:ext cx="2053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гниво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29600" cy="62928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339280" y="5805000"/>
            <a:ext cx="62751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ткрытом море вода такая синяя, как васильки,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зрачная, как чистое стекло, — но зато и глубоко там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7640" y="259560"/>
            <a:ext cx="2728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Русалочк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очный бин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305080" cy="1941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2592360" cy="1617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2160360" cy="20988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3419640" y="1052640"/>
            <a:ext cx="2734920" cy="1662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27640" y="4941720"/>
            <a:ext cx="2633760" cy="1684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2376360" cy="1717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7"/>
          <a:stretch/>
        </p:blipFill>
        <p:spPr>
          <a:xfrm>
            <a:off x="5508720" y="2997360"/>
            <a:ext cx="2076480" cy="1858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8"/>
          <a:stretch/>
        </p:blipFill>
        <p:spPr>
          <a:xfrm>
            <a:off x="6588000" y="768240"/>
            <a:ext cx="21970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ка «Соловей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казка «Ганс Чурбан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казка «Огниво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408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29600" cy="6264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700360" y="5084640"/>
            <a:ext cx="5904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Во что превратилась Русалоч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шая девушкой в конце сказ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инц женился на другой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0360" y="475200"/>
            <a:ext cx="150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ен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ликий сказочник Ганс Христиан Андерсе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 цветущей Дании, где свет увидел я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ерет мой мир свое начало…На датском языке мать песни мне певала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Шептала сказки мне родимая моя…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19320" y="24382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826160" y="1413000"/>
            <a:ext cx="3925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25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561440" cy="65530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132000" y="4797360"/>
            <a:ext cx="51501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В какой сказке котел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ванивал старинную песн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х, мой милый Августин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ё прошло, всё прошло!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7920"/>
            <a:ext cx="2568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винопас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11280" y="309600"/>
            <a:ext cx="7921440" cy="6238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11280" y="5876280"/>
            <a:ext cx="7821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Как звали сестру в сказке «Дикие лебед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33080" y="619920"/>
            <a:ext cx="146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из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3240" y="5516280"/>
            <a:ext cx="4610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Сколько братьев был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казке «Дикие лебед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740720" y="475200"/>
            <a:ext cx="747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68360" y="5444280"/>
            <a:ext cx="5759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Из какой страны прилете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пля в сказке « Ель»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17440" y="332640"/>
            <a:ext cx="2163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Егип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284720" y="333000"/>
            <a:ext cx="43196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До какой страны довёз Олень Герд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5875920"/>
            <a:ext cx="2379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планд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4" descr="Андерсен Стойкий оловянный солдатик.jpg"/>
          <p:cNvPicPr/>
          <p:nvPr/>
        </p:nvPicPr>
        <p:blipFill>
          <a:blip r:embed="rId1"/>
          <a:stretch/>
        </p:blipFill>
        <p:spPr>
          <a:xfrm>
            <a:off x="1042920" y="66600"/>
            <a:ext cx="6842160" cy="6791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484360" y="5484600"/>
            <a:ext cx="53308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Какой документ потребов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тойкого оловянного солдатика крыс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640" y="187920"/>
            <a:ext cx="187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сп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681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пенгаген-столица Д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633744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" descr="Андерсен.JPG"/>
          <p:cNvPicPr/>
          <p:nvPr/>
        </p:nvPicPr>
        <p:blipFill>
          <a:blip r:embed="rId2"/>
          <a:stretch/>
        </p:blipFill>
        <p:spPr>
          <a:xfrm>
            <a:off x="492120" y="333360"/>
            <a:ext cx="2403360" cy="2886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564000" y="3501000"/>
            <a:ext cx="5064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т сказка моей жизни. Рассказал 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её здесь открыто и чистосердечн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ак бы в кругу близких друз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-Х.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041560" y="222120"/>
            <a:ext cx="545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762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ВСЕМ СПАСИБО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762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ОЛОДЦЫ!!!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405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амятник Г.Х.Андерсен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6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46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120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82560" y="5805000"/>
            <a:ext cx="72946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но – давно жил на свете коро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так любил наряжаться, что тратил на наряды все свои деньг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3840" y="259560"/>
            <a:ext cx="46249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Новый наряд короля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453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26920" y="5941800"/>
            <a:ext cx="756144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-был принц. Королевство у него было маленькое-премаленьк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все же это было королевство, и можно бы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умать о королеве – жени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85800" y="-720"/>
            <a:ext cx="22712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инопа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435880" cy="6421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5660640"/>
            <a:ext cx="592920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 однажды принц. И пришло ему время жени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хотел взять себе в жены непременно принцесс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не какую-нибудь, а самую настоящу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19640" y="133920"/>
            <a:ext cx="52560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ринцесса на горошине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4" descr="дюймовочка.jpg"/>
          <p:cNvPicPr/>
          <p:nvPr/>
        </p:nvPicPr>
        <p:blipFill>
          <a:blip r:embed="rId1"/>
          <a:stretch/>
        </p:blipFill>
        <p:spPr>
          <a:xfrm>
            <a:off x="1308240" y="0"/>
            <a:ext cx="646092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546200" y="6216120"/>
            <a:ext cx="56563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ла-была одна женщина, и не было у нее дет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ей очень хотелось маленького ребеноч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00000" y="-720"/>
            <a:ext cx="3115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юймовочк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8:00:46Z</dcterms:created>
  <dc:creator>Гость</dc:creator>
  <dc:description/>
  <dc:language>en-US</dc:language>
  <cp:lastModifiedBy>WinXPProSP3</cp:lastModifiedBy>
  <dcterms:modified xsi:type="dcterms:W3CDTF">2014-07-18T08:49:46Z</dcterms:modified>
  <cp:revision>60</cp:revision>
  <dc:subject/>
  <dc:title>Мир сказок Г.Х.Андерс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18000000000001024140</vt:lpwstr>
  </property>
</Properties>
</file>