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F563-7DA3-473C-98C0-79D1166A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5099-529B-4B36-AD77-F94A7315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8AFE-E7FF-4749-A149-4E3326B8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21F2-FC14-4934-9A6E-D5C16319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34A5-77C6-47B9-821A-3D825E10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958D-D9C8-4FBF-B12D-31F13D89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D42C-4B0A-4497-831F-08F25962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A038-F424-4696-BD48-45B5502F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E6AA-D72D-4F47-8C30-A6A72058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9BEA-0452-4374-A6C5-3CC20A40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55DD-AAE5-4BDB-A772-15A0125A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6E31-BCAD-4210-8A34-93664255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C080-686D-428A-A8FB-74BAFEF2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AB53-A7C2-40DE-AA79-8C382F5E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5276-7EBC-46AA-9FAD-D390254C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C55A-5573-4B20-8107-7FDBACD1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15D7-D7CD-47A0-9FCE-04E00E90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54224-8FB4-4002-9EB6-4003BD11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A6F01-B22E-4AB2-8D8D-584D7D2D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E1AFD-BD66-4CB6-9CBD-37958C64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3BCA9-CB07-424D-A362-1C694F6C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573E6-042A-471D-AE24-445B4EF1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4D6A-C932-4D4A-9049-77BED026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79738-E308-4BEC-8EEB-79480A19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6C699-33D5-4F44-9C52-6B25D22C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E8C6F-5671-4818-94C4-6E3417AA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5433E-6324-490B-80DD-2F7E2E6B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EF5AE-052E-4711-A608-8C558B9B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C6B8D-BBB7-41FB-9B77-49F87406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3B23C-ECA8-4688-BDFA-D0585ED1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CE256-7F2F-41A3-8371-A0274F8B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139A4-B0BE-4B0A-9E6D-0095AD9B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E3297-2E81-48F3-85E0-F5F1646F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5A2E-F8DF-42FB-AEB8-70F334BE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DD320-E07D-4160-B063-36569503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BCB90-C92A-4065-90CE-9566AE78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7CC8F-8111-4A06-90E5-DBE5DC63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3DEB1-785D-4341-8860-6DC3BD55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48118-6A53-4518-AE91-C610CD2A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2C6C3-A099-4B8D-AB6F-F79E30BA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D6AA2-33C0-439B-BFDB-509AC8F4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E0439-8BA2-4243-9F5D-CE39A6D7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3CB12-2886-44B7-9F40-8B3B9DC5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882F-C592-483A-A46B-8A4116EF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E5BF-A346-46A8-A8F0-70D9B7FD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78E-AB3A-47CB-9D6E-A5C1F2D6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ECA6-4E97-41B1-9AF8-B8735414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1BF5-BDEF-4979-9B89-6289B27A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7B3B-AB92-45D8-8499-F825F132E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D953-CF75-4BF3-8B6C-A0BAB79B3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8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2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7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F61E-84B1-459A-86CE-1634068E993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76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80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05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E554-0615-4CDE-8051-1AC5FD42E47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Мир сказок Г.Х.Андерсен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299960" y="3650760"/>
            <a:ext cx="6699240" cy="15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ок внеклассного чтения в 5 клас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51960" y="5949360"/>
            <a:ext cx="53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ила: Самохвалова Татьяна Григорьев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087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62960" y="5373360"/>
            <a:ext cx="768348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л-был купец. Он был так богат, что мог бы вымости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ебряными деньгами целую улицу и переулок в придач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чно, он этого не делал - он знал, куда девать деньги, и ес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атил копейку, то наживал целый рубль. Вот каков был этот купец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56400" y="259560"/>
            <a:ext cx="38077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Сундук-самолет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6337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11280" y="332640"/>
            <a:ext cx="3115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Ганс Чурбан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58160" y="5157720"/>
            <a:ext cx="6115320" cy="1465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 в усадьбе старик хозяин, и было у н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а сына, такие умники, что и вполовину хватило б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решили они посвататься к королеве - отчего же нет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сама объявила, что возьмет в мужья того, кто 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ом в карман не полезет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80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66920" y="6021000"/>
            <a:ext cx="649296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али ли вы когда-нибудь старинный деревянный шкаф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сем почерневший от времен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80000" y="187920"/>
            <a:ext cx="493056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Пастушка и трубочист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29600" cy="62928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38200" y="6165000"/>
            <a:ext cx="810864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ёл солдат по дороге: раз-два! Раз-два! Ранец за спиной, сабля на бок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443640" y="403920"/>
            <a:ext cx="2053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Огниво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29600" cy="62928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339280" y="5805000"/>
            <a:ext cx="627516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ткрытом море вода такая синяя, как васильки,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зрачная, как чистое стекло, — но зато и глубоко там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7640" y="259560"/>
            <a:ext cx="2728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Русалочка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казочный бин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2305080" cy="19414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2050920" y="2852640"/>
            <a:ext cx="2592360" cy="16178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250920" y="4581360"/>
            <a:ext cx="2160360" cy="20988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3419640" y="1052640"/>
            <a:ext cx="2734920" cy="16621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227640" y="4941720"/>
            <a:ext cx="2633760" cy="16844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2376360" cy="17179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7"/>
          <a:stretch/>
        </p:blipFill>
        <p:spPr>
          <a:xfrm>
            <a:off x="5508720" y="2997360"/>
            <a:ext cx="2076480" cy="18586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8"/>
          <a:stretch/>
        </p:blipFill>
        <p:spPr>
          <a:xfrm>
            <a:off x="6588000" y="768240"/>
            <a:ext cx="219708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казка «Соловей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57200" y="981000"/>
            <a:ext cx="82296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казка «Ганс Чурбан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57200" y="981000"/>
            <a:ext cx="82296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казка «Огниво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6408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29600" cy="62643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2700360" y="5084640"/>
            <a:ext cx="59040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Во что превратилась Русалочк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шая девушкой в конце сказк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принц женился на другой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20360" y="475200"/>
            <a:ext cx="1503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ен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еликий сказочник Ганс Христиан Андерсе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 цветущей Дании, где свет увидел я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Берет мой мир свое начало…На датском языке мать песни мне певала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Шептала сказки мне родимая моя…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219320" y="2438280"/>
            <a:ext cx="7924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826160" y="1413000"/>
            <a:ext cx="3925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252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7561440" cy="65530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132000" y="4797360"/>
            <a:ext cx="515016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В какой сказке котело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ванивал старинную песн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х, мой милый Августин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ё прошло, всё прошло!?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7920"/>
            <a:ext cx="2568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Свинопас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611280" y="309600"/>
            <a:ext cx="7921440" cy="6238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11280" y="5876280"/>
            <a:ext cx="7821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Как звали сестру в сказке «Дикие лебеди»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733080" y="619920"/>
            <a:ext cx="1462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из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63374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43240" y="5516280"/>
            <a:ext cx="46108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Сколько братьев был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казке «Дикие лебеди»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740720" y="475200"/>
            <a:ext cx="747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63374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68360" y="5444280"/>
            <a:ext cx="57592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Из какой страны прилете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апля в сказке « Ель»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17440" y="332640"/>
            <a:ext cx="2163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Егип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087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284720" y="333000"/>
            <a:ext cx="43196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До какой страны довёз Олень Герд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5875920"/>
            <a:ext cx="2379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планд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Рисунок 4" descr="Андерсен Стойкий оловянный солдатик.jpg"/>
          <p:cNvPicPr/>
          <p:nvPr/>
        </p:nvPicPr>
        <p:blipFill>
          <a:blip r:embed="rId1"/>
          <a:stretch/>
        </p:blipFill>
        <p:spPr>
          <a:xfrm>
            <a:off x="1042920" y="66600"/>
            <a:ext cx="6842160" cy="67914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484360" y="5484600"/>
            <a:ext cx="533088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Какой документ потребов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стойкого оловянного солдатика крыс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867640" y="187920"/>
            <a:ext cx="1873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спо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681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9138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опенгаген-столица Дан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785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633744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3" descr="Андерсен.JPG"/>
          <p:cNvPicPr/>
          <p:nvPr/>
        </p:nvPicPr>
        <p:blipFill>
          <a:blip r:embed="rId2"/>
          <a:stretch/>
        </p:blipFill>
        <p:spPr>
          <a:xfrm>
            <a:off x="492120" y="333360"/>
            <a:ext cx="2403360" cy="28861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3564000" y="3501000"/>
            <a:ext cx="5064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от сказка моей жизни. Рассказал 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её здесь открыто и чистосердечно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как бы в кругу близких друз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Г.-Х. Андерс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041560" y="222120"/>
            <a:ext cx="545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762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ВСЕМ СПАСИБО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762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ОЛОДЦЫ!!!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5832720" cy="4059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амятник Г.Х.Андерсен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680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9246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6120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682560" y="5805000"/>
            <a:ext cx="729468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но – давно жил на свете корол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так любил наряжаться, что тратил на наряды все свои деньг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93840" y="259560"/>
            <a:ext cx="46249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Новый наряд короля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561440" cy="6453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26920" y="5941800"/>
            <a:ext cx="7561440" cy="916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л-был принц. Королевство у него было маленькое-премаленько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все же это было королевство, и можно был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умать о королеве – женить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85800" y="-720"/>
            <a:ext cx="227124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инопа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50920" y="176040"/>
            <a:ext cx="8435880" cy="64216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24000" y="5660640"/>
            <a:ext cx="5929200" cy="916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л однажды принц. И пришло ему время женить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хотел взять себе в жены непременно принцесс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 не какую-нибудь, а самую настоящу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19640" y="133920"/>
            <a:ext cx="52560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Принцесса на горошине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4" descr="дюймовочка.jpg"/>
          <p:cNvPicPr/>
          <p:nvPr/>
        </p:nvPicPr>
        <p:blipFill>
          <a:blip r:embed="rId1"/>
          <a:stretch/>
        </p:blipFill>
        <p:spPr>
          <a:xfrm>
            <a:off x="1308240" y="0"/>
            <a:ext cx="646092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546200" y="6216120"/>
            <a:ext cx="565632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ла-была одна женщина, и не было у нее дет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ей очень хотелось маленького ребеноч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00000" y="-720"/>
            <a:ext cx="3115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Дюймовочка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08:00:46Z</dcterms:created>
  <dc:creator>Гость</dc:creator>
  <dc:description/>
  <dc:language>en-US</dc:language>
  <cp:lastModifiedBy>WinXPProSP3</cp:lastModifiedBy>
  <dcterms:modified xsi:type="dcterms:W3CDTF">2014-07-18T08:49:46Z</dcterms:modified>
  <cp:revision>60</cp:revision>
  <dc:subject/>
  <dc:title>Мир сказок Г.Х.Андерсе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618000000000001024140</vt:lpwstr>
  </property>
</Properties>
</file>