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2812-A4C3-4036-B80D-416E5624A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CFED-27F1-4249-99A5-25CCDE310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30AB-4565-4D63-9353-80FFC56C2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127F-1238-4D4A-B122-9A670D928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095CC-8739-47FE-B777-2ADC5071E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3DBD3-CCB1-4EC4-B482-4951D6B4D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BE3F3-96A3-4EAE-B174-E33E40D4A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526D5-718B-493B-9798-207AD3DDD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C8958-4237-48EB-A20F-2421C6566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FF695-D2F1-4BDC-B0DD-F2C777492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4D65F-1E7D-4EE1-88A1-2C1FACDF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F8B8-9E2F-4D8D-B00A-1B08BC041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5F4E1-81AB-4241-A3B9-AD99B106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D74AF-F920-439B-88B8-6C153AF1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50E10-AAEF-4DFC-81DA-4885F5E62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07C5B-1055-4268-AE47-7C090D62D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323F6-FED2-4CBB-8D96-B1910F386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5F244-6A86-4190-9F77-9FA602E2B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AA0C7-5328-485E-9F16-2811A7ECA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6705D-7E81-456C-AC51-74D6E33C4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8079B-2B86-4EEE-9FBD-9D174BD25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EF602-E5D8-48CF-A504-B6E92481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B706-1D9C-4300-B33B-6A94FB356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CB49C-BCB5-4504-B8EC-F0D665B6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F29F6-E58A-4741-A655-DB00F2DE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56CE4-2D84-4EBF-8971-46EAFE4F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90D5D-167D-42F1-BF25-2B887703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90278-59F8-4413-865E-C427F18CD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229B3-A752-4FE3-ACF8-804E1BA34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70929-96E7-4EDE-B058-0F7684E79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13D65-5F5B-4873-A04A-D732A141E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4905E-F3D0-434D-BEA5-3C13C8586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9BC70-56F0-4038-AADB-52DB468DF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12A9-4E5D-4847-B5A5-7BE5FE30F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AD56D-45DD-4706-A70E-D56F1A8FB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A19FE-0106-4A24-A834-37ACF1DBD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5946C-A23D-4023-B53F-E75BDED42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177F2-F491-4023-8408-5A5194B6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E3BCF-D410-4BB8-A36D-B9818C50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51D26-8039-44FB-A753-345BB9C1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EF3CD-2559-49B1-8812-E3B389EA4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D5E90-F2F2-4D21-8947-85DE844CF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C1A2B-BD92-46E9-A70D-72AEFA827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5CEB-53CF-42E1-B182-ADF030994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C4F2-E81D-4493-9BF1-0B32043B0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C88F-1F35-4225-A369-90377AE6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B5D4-C127-4973-8834-051D1C1E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73B4-27A1-4ECD-85D4-1DBFADDA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F88A7-0F4F-4769-90E7-228907520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296D0-87C2-4ECF-964A-56A5DB9A3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98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02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27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4F4DF-CCFC-4621-9741-5CC65FE6EFD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76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80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205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918C3-0F07-4BC2-A35A-76EB922343F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Мир сказок Г.Х.Андерсена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299960" y="3650760"/>
            <a:ext cx="6699240" cy="15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рок внеклассного чтения в 5 класс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351960" y="5949360"/>
            <a:ext cx="536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ставила: Самохвалова Татьяна Григорьевн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457200" y="189000"/>
            <a:ext cx="8229600" cy="64087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462960" y="5373360"/>
            <a:ext cx="7683480" cy="11912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ил-был купец. Он был так богат, что мог бы вымости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ребряными деньгами целую улицу и переулок в придач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ечно, он этого не делал - он знал, куда девать деньги, и есл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ратил копейку, то наживал целый рубль. Вот каков был этот купец…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856400" y="259560"/>
            <a:ext cx="380772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Сундук-самолет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29600" cy="6337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611280" y="332640"/>
            <a:ext cx="31158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Ганс Чурбан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558160" y="5157720"/>
            <a:ext cx="6115320" cy="1465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л в усадьбе старик хозяин, и было у не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а сына, такие умники, что и вполовину хватило б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решили они посвататься к королеве - отчего же нет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а сама объявила, что возьмет в мужья того, кто з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овом в карман не полезет…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457200" y="189000"/>
            <a:ext cx="8229600" cy="648000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466920" y="6021000"/>
            <a:ext cx="649296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идали ли вы когда-нибудь старинный деревянный шкаф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всем почерневший от времени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780000" y="187920"/>
            <a:ext cx="493056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Пастушка и трубочист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229600" cy="62928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538200" y="6165000"/>
            <a:ext cx="810864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ёл солдат по дороге: раз-два! Раз-два! Ранец за спиной, сабля на бок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443640" y="403920"/>
            <a:ext cx="20538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Огниво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229600" cy="629280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2339280" y="5805000"/>
            <a:ext cx="627516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открытом море вода такая синяя, как васильки,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зрачная, как чистое стекло, — но зато и глубоко там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67640" y="259560"/>
            <a:ext cx="27288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Русалочка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Сказочный бином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2305080" cy="194148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2050920" y="2852640"/>
            <a:ext cx="2592360" cy="161784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3"/>
          <a:stretch/>
        </p:blipFill>
        <p:spPr>
          <a:xfrm>
            <a:off x="250920" y="4581360"/>
            <a:ext cx="2160360" cy="209880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4"/>
          <a:stretch/>
        </p:blipFill>
        <p:spPr>
          <a:xfrm>
            <a:off x="3419640" y="1052640"/>
            <a:ext cx="2734920" cy="166212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5"/>
          <a:stretch/>
        </p:blipFill>
        <p:spPr>
          <a:xfrm>
            <a:off x="6227640" y="4941720"/>
            <a:ext cx="2633760" cy="168444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6"/>
          <a:stretch/>
        </p:blipFill>
        <p:spPr>
          <a:xfrm>
            <a:off x="3059280" y="4941720"/>
            <a:ext cx="2376360" cy="171792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7"/>
          <a:stretch/>
        </p:blipFill>
        <p:spPr>
          <a:xfrm>
            <a:off x="5508720" y="2997360"/>
            <a:ext cx="2076480" cy="185868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8"/>
          <a:stretch/>
        </p:blipFill>
        <p:spPr>
          <a:xfrm>
            <a:off x="6588000" y="768240"/>
            <a:ext cx="219708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Сказка «Соловей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457200" y="981000"/>
            <a:ext cx="82296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казка «Ганс Чурбан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457200" y="981000"/>
            <a:ext cx="82296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Сказка «Огниво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1476360" y="836640"/>
            <a:ext cx="640872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229600" cy="62643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2700360" y="5084640"/>
            <a:ext cx="590400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Во что превратилась Русалочка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вшая девушкой в конце сказк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гда принц женился на другой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20360" y="475200"/>
            <a:ext cx="1503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пену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55280" y="1886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еликий сказочник Ганс Христиан Андерсен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5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В цветущей Дании, где свет увидел я,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Берет мой мир свое начало…На датском языке мать песни мне певала,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Шептала сказки мне родимая моя…”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1219320" y="2438280"/>
            <a:ext cx="79246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4826160" y="1413000"/>
            <a:ext cx="3925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457200" y="189000"/>
            <a:ext cx="82296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642520" cy="64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826920" y="115920"/>
            <a:ext cx="7561440" cy="655308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3132000" y="4797360"/>
            <a:ext cx="515016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В какой сказке котелок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званивал старинную песн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х, мой милый Августин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сё прошло, всё прошло!?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00000" y="187920"/>
            <a:ext cx="25686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Свинопас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611280" y="309600"/>
            <a:ext cx="7921440" cy="62388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611280" y="5876280"/>
            <a:ext cx="7821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Как звали сестру в сказке «Дикие лебеди»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733080" y="619920"/>
            <a:ext cx="14623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лиз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457200" y="260280"/>
            <a:ext cx="8229600" cy="633744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543240" y="5516280"/>
            <a:ext cx="461088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Сколько братьев был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сказке «Дикие лебеди»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740720" y="475200"/>
            <a:ext cx="747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457200" y="260280"/>
            <a:ext cx="8229600" cy="633744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468360" y="5444280"/>
            <a:ext cx="575928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Из какой страны прилетел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апля в сказке « Ель»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17440" y="332640"/>
            <a:ext cx="21636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 Египт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457200" y="189000"/>
            <a:ext cx="8229600" cy="640872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4284720" y="333000"/>
            <a:ext cx="43196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До какой страны довёз Олень Герду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11280" y="5875920"/>
            <a:ext cx="23799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апланд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Рисунок 4" descr="Андерсен Стойкий оловянный солдатик.jpg"/>
          <p:cNvPicPr/>
          <p:nvPr/>
        </p:nvPicPr>
        <p:blipFill>
          <a:blip r:embed="rId1"/>
          <a:stretch/>
        </p:blipFill>
        <p:spPr>
          <a:xfrm>
            <a:off x="1042920" y="66600"/>
            <a:ext cx="6842160" cy="679140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2484360" y="5484600"/>
            <a:ext cx="533088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Какой документ потребова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 стойкого оловянного солдатика крыса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867640" y="187920"/>
            <a:ext cx="18738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спор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2411280" y="189000"/>
            <a:ext cx="46818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1187280" y="260280"/>
            <a:ext cx="69138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1092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Копенгаген-столица Дан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87854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457200" y="260280"/>
            <a:ext cx="82296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457200" y="260280"/>
            <a:ext cx="8229600" cy="6337440"/>
          </a:xfrm>
          <a:prstGeom prst="rect">
            <a:avLst/>
          </a:prstGeom>
          <a:ln w="0">
            <a:noFill/>
          </a:ln>
        </p:spPr>
      </p:pic>
      <p:pic>
        <p:nvPicPr>
          <p:cNvPr id="333" name="Рисунок 3" descr="Андерсен.JPG"/>
          <p:cNvPicPr/>
          <p:nvPr/>
        </p:nvPicPr>
        <p:blipFill>
          <a:blip r:embed="rId2"/>
          <a:stretch/>
        </p:blipFill>
        <p:spPr>
          <a:xfrm>
            <a:off x="492120" y="333360"/>
            <a:ext cx="2403360" cy="28861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3564000" y="3501000"/>
            <a:ext cx="5064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Вот сказка моей жизни. Рассказал 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её здесь открыто и чистосердечно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как бы в кругу близких друз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Г.-Х. Андерс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2041560" y="222120"/>
            <a:ext cx="545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762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ВСЕМ СПАСИБО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762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МОЛОДЦЫ!!!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1763640" y="2205000"/>
            <a:ext cx="5832720" cy="4059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1844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амятник Г.Х.Андерсену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2124000" y="1268280"/>
            <a:ext cx="4680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79246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351640" cy="61200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682560" y="5805000"/>
            <a:ext cx="729468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вно – давно жил на свете корол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 так любил наряжаться, что тратил на наряды все свои деньг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993840" y="259560"/>
            <a:ext cx="462492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Новый наряд короля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7561440" cy="645336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826920" y="5941800"/>
            <a:ext cx="7561440" cy="916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ил-был принц. Королевство у него было маленькое-премаленько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 все же это было королевство, и можно был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умать о королеве – женитьс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85800" y="-720"/>
            <a:ext cx="227124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винопа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250920" y="176040"/>
            <a:ext cx="8435880" cy="642168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324000" y="5660640"/>
            <a:ext cx="5929200" cy="916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ил однажды принц. И пришло ему время женитьс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н хотел взять себе в жены непременно принцессу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 не какую-нибудь, а самую настоящую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419640" y="133920"/>
            <a:ext cx="52560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Принцесса на горошине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Рисунок 4" descr="дюймовочка.jpg"/>
          <p:cNvPicPr/>
          <p:nvPr/>
        </p:nvPicPr>
        <p:blipFill>
          <a:blip r:embed="rId1"/>
          <a:stretch/>
        </p:blipFill>
        <p:spPr>
          <a:xfrm>
            <a:off x="1308240" y="0"/>
            <a:ext cx="6460920" cy="68580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1546200" y="6216120"/>
            <a:ext cx="565632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ила-была одна женщина, и не было у нее дете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 ей очень хотелось маленького ребеночк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500000" y="-720"/>
            <a:ext cx="31158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Дюймовочка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8T08:00:46Z</dcterms:created>
  <dc:creator>Гость</dc:creator>
  <dc:description/>
  <dc:language>en-US</dc:language>
  <cp:lastModifiedBy>WinXPProSP3</cp:lastModifiedBy>
  <dcterms:modified xsi:type="dcterms:W3CDTF">2014-07-18T08:49:46Z</dcterms:modified>
  <cp:revision>60</cp:revision>
  <dc:subject/>
  <dc:title>Мир сказок Г.Х.Андерсен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618000000000001024140</vt:lpwstr>
  </property>
</Properties>
</file>