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ACF-598C-4409-B1DD-18454BB0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599-0F35-42E5-B328-6EC19138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1EA-0A30-4B01-A9AD-2FFE80FA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D51-F13F-4004-B928-1E38F1E9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6757-187E-4C2B-9495-FF3B2447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91A-B06E-42CA-9693-53B858A6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4606-7166-4DD0-B371-AC6E4DE7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93A9-BBC3-49F7-9D9B-93FED94B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AD45-ED60-4789-BB36-CD76B8AE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FBBA-F4D9-480C-8E45-1BB3DE8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00C9-6686-46A5-B784-FD5DF34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2B2-53D9-4334-A66D-765210FD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8B0-B95D-48F2-A096-D204AA4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CE8-BD8E-4197-9B88-2BE3FA9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63F1-FB20-4D9B-AD8B-5A1483C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1607-F9E9-4E92-A07B-113A3D1D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7576-80B5-4891-9DAE-C915C8C0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391-FE5D-46D5-B177-505D12F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722-88A8-4218-919C-DE8DADE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40D-F349-4F37-9689-C4543EC7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241-3E51-4D65-88B1-ED10638C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975-F832-4FF6-8C2C-873E7EC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B4C-ACAD-4B02-90D6-A5F9C33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CA6-7308-488B-AC25-18ED586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250E-39B9-4A93-A9C8-F483B4FAF9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171F-63B8-4823-B4A4-0D86F043F9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2963880" cy="3267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Bookman Old Style"/>
              </a:rPr>
              <a:t>«Хотя моя книга предназначена главным образом для развлечения мальчиков и девочек, я надеюсь, что ею не побрезгуют и взрослые мужчины и женщины, ибо в мои планы входило напомнить им, какими были они сами когда-то, что чувствовали, думали, как разговаривали и в какие странные авантюры иногда ввязывались…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Содержимое 4" descr="книга прик том .jpg"/>
          <p:cNvPicPr/>
          <p:nvPr/>
        </p:nvPicPr>
        <p:blipFill>
          <a:blip r:embed="rId2"/>
          <a:stretch/>
        </p:blipFill>
        <p:spPr>
          <a:xfrm rot="286800">
            <a:off x="4714560" y="581040"/>
            <a:ext cx="2806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ртрет геро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…на нём была застёгнута чистенькая курточка до самого подбородка, отвёрнут книзу широкий воротник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ломенная шляпа с крапинками. Он выглядел очень нарядно и чувствовал себя очень неловко…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537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то это сказа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1773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ичего плохого в нём не было, - озорник, вот и всё. Ну, ветер в голове, рассеян немножко. С него и спрашивать-то нельзя, всё равно что с жеребёнка. Никому он зла не хотел, и сердце у него было золотое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«Ты плохо себя вёл?... По сравнению со мной ты просто ангел. Боже ты мой, боже, хоть бы мне вполовину быть таким хорошим, как ты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" descr="C:\Users\Листик\Desktop\КОНКУРС\a96cb68c38.jpg"/>
          <p:cNvPicPr/>
          <p:nvPr/>
        </p:nvPicPr>
        <p:blipFill>
          <a:blip r:embed="rId1"/>
          <a:stretch/>
        </p:blipFill>
        <p:spPr>
          <a:xfrm>
            <a:off x="324000" y="260280"/>
            <a:ext cx="4657680" cy="5456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493800" cy="4392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Листик\Desktop\КОНКУРС\2155.jpg"/>
          <p:cNvPicPr/>
          <p:nvPr/>
        </p:nvPicPr>
        <p:blipFill>
          <a:blip r:embed="rId3"/>
          <a:stretch/>
        </p:blipFill>
        <p:spPr>
          <a:xfrm>
            <a:off x="5003640" y="3645000"/>
            <a:ext cx="40341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C:\Users\Листик\Desktop\КОНКУРС\l_cc1609e3.jpg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5356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гда проявляются «романтические» нотки Геро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«После этого поцелуя, знаешь, ты уже не должна никого любить, кроме меня, и замуж тоже не должна выходить ни за кого другого. Теперь это уж навсегда, на веки вечные. Хорошо?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гра в пира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00"/>
                </a:solidFill>
                <a:latin typeface="Bookman Old Style"/>
              </a:rPr>
              <a:t>«..Тремя милями ниже Санкт-Петербурга, в том месте, где река Миссисипи немного шире мили, лежит длинный, узкий, поросший лесом остров с большой песчаной отмелью. Остров был необитаем, лежал ближе к другому берегу, как раз напротив густого и почти безлюдного леса. Потому-то они и выбрали остров Джексона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12840" y="1600200"/>
            <a:ext cx="4259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ой эпизод изображен 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438200" y="1600200"/>
            <a:ext cx="6265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исать письмо Тому Сойеру о своем дет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8:00:29Z</dcterms:created>
  <dc:creator>USER</dc:creator>
  <dc:description/>
  <dc:language>en-US</dc:language>
  <cp:lastModifiedBy>USER</cp:lastModifiedBy>
  <dcterms:modified xsi:type="dcterms:W3CDTF">2014-02-10T15:39:20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4000000000001024140</vt:lpwstr>
  </property>
</Properties>
</file>