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F30-00DE-4E84-B355-AB3F300E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20F-9835-4147-917C-E8AF32F0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5B1-0292-478F-A9C8-EE346F5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459-0FD3-4769-9FC3-02C89628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9D82-0706-47A7-A4D8-1559A181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0238-D312-4B21-8174-92D13250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1215-D619-4AB6-8ABD-7EA16DE7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D9BD-7681-4C05-BE58-35CC807B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2D41-A14E-426E-8B3B-1AE54C1B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9103-2EEC-42CB-A40A-FBFEF6C3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1C10-BC25-4E2B-B03B-0A965CA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4943-011A-4365-8AEE-37D6446D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11C9-8B82-4633-BD55-A0A2D56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BBBB-CC28-4BD9-A264-04FB2FA7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4DAF-3163-4CC7-8209-D291D984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52EA-DBA1-4DA8-8106-0F0E0983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C11D-5E32-4205-8ED0-67CD5209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A91-53EC-4F71-92E8-F9F5F7C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7BC-7FA2-4932-991A-C5561A51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C3C-23BD-4B85-85CD-328E3851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949-F146-43F9-9F50-6AEE579E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EEF-A057-43B1-AAF4-D111F7C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F7B-97DC-4252-B844-B2B5DB5F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EB3-9674-43F0-9027-907EEB8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7BDE-319F-4146-A45E-8A2F8DE17B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9E4-B93C-4E00-B154-F7CABDE9FE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2963880" cy="3267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71600" y="414936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Bookman Old Style"/>
              </a:rPr>
              <a:t>«Хотя моя книга предназначена главным образом для развлечения мальчиков и девочек, я надеюсь, что ею не побрезгуют и взрослые мужчины и женщины, ибо в мои планы входило напомнить им, какими были они сами когда-то, что чувствовали, думали, как разговаривали и в какие странные авантюры иногда ввязывались…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Содержимое 4" descr="книга прик том .jpg"/>
          <p:cNvPicPr/>
          <p:nvPr/>
        </p:nvPicPr>
        <p:blipFill>
          <a:blip r:embed="rId2"/>
          <a:stretch/>
        </p:blipFill>
        <p:spPr>
          <a:xfrm rot="286800">
            <a:off x="4714560" y="581040"/>
            <a:ext cx="2806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ртрет геро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«…на нём была застёгнута чистенькая курточка до самого подбородка, отвёрнут книзу широкий воротник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соломенная шляпа с крапинками. Он выглядел очень нарядно и чувствовал себя очень неловко…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537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то это сказал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1773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ничего плохого в нём не было, - озорник, вот и всё. Ну, ветер в голове, рассеян немножко. С него и спрашивать-то нельзя, всё равно что с жеребёнка. Никому он зла не хотел, и сердце у него было золотое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«Ты плохо себя вёл?... По сравнению со мной ты просто ангел. Боже ты мой, боже, хоть бы мне вполовину быть таким хорошим, как ты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5" descr="C:\Users\Листик\Desktop\КОНКУРС\a96cb68c38.jpg"/>
          <p:cNvPicPr/>
          <p:nvPr/>
        </p:nvPicPr>
        <p:blipFill>
          <a:blip r:embed="rId1"/>
          <a:stretch/>
        </p:blipFill>
        <p:spPr>
          <a:xfrm>
            <a:off x="324000" y="260280"/>
            <a:ext cx="4657680" cy="5456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493800" cy="4392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Users\Листик\Desktop\КОНКУРС\2155.jpg"/>
          <p:cNvPicPr/>
          <p:nvPr/>
        </p:nvPicPr>
        <p:blipFill>
          <a:blip r:embed="rId3"/>
          <a:stretch/>
        </p:blipFill>
        <p:spPr>
          <a:xfrm>
            <a:off x="5003640" y="3645000"/>
            <a:ext cx="40341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C:\Users\Листик\Desktop\КОНКУРС\l_cc1609e3.jpg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45356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гда проявляются «романтические» нотки Геро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«После этого поцелуя, знаешь, ты уже не должна никого любить, кроме меня, и замуж тоже не должна выходить ни за кого другого. Теперь это уж навсегда, на веки вечные. Хорошо?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гра в пира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00"/>
                </a:solidFill>
                <a:latin typeface="Bookman Old Style"/>
              </a:rPr>
              <a:t>«..Тремя милями ниже Санкт-Петербурга, в том месте, где река Миссисипи немного шире мили, лежит длинный, узкий, поросший лесом остров с большой песчаной отмелью. Остров был необитаем, лежал ближе к другому берегу, как раз напротив густого и почти безлюдного леса. Потому-то они и выбрали остров Джексона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12840" y="1600200"/>
            <a:ext cx="42591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акой эпизод изображен 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438200" y="1600200"/>
            <a:ext cx="6265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исать письмо Тому Сойеру о своем детс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8:00:29Z</dcterms:created>
  <dc:creator>USER</dc:creator>
  <dc:description/>
  <dc:language>en-US</dc:language>
  <cp:lastModifiedBy>USER</cp:lastModifiedBy>
  <dcterms:modified xsi:type="dcterms:W3CDTF">2014-02-10T15:39:20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4000000000001024140</vt:lpwstr>
  </property>
</Properties>
</file>