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8550-326A-4BA6-88E1-65F6169C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1D9-C5F2-46BA-87C5-7C1FA6FA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2C8-6220-4948-B157-94FCD08A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A8BC-EE4A-41B6-AF5F-4A89CBF0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65B-7DF7-4364-8153-BB96A499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DC0-E4EC-4D75-92A2-7E029B2D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D5F-86B3-4CEB-A27F-408F8D3D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B6E-86F8-4465-A0E6-84393A0D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358-1892-4D2E-8EA5-A60FF9BC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E0E-548D-4AA0-B2C2-CF5A0F19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C1F-9729-4B96-995C-8CED2A2D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2258-7CB9-4E4D-B3AB-9C87EA64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9C07-C54E-4C61-A9BB-1BC4FDE57F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71680" y="713880"/>
            <a:ext cx="8229600" cy="28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ю подготов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русского языка и литературы Стальновской общеобразовательной школы І–ІІІ ступеней Джанкойского района АР Кр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лилаева Эмине Талят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3333600" y="3267000"/>
            <a:ext cx="26226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USER\Desktop\тарас бульба\taras_bulba_001_450.gif"/>
          <p:cNvPicPr/>
          <p:nvPr/>
        </p:nvPicPr>
        <p:blipFill>
          <a:blip r:embed="rId1"/>
          <a:stretch/>
        </p:blipFill>
        <p:spPr>
          <a:xfrm>
            <a:off x="1525680" y="2451240"/>
            <a:ext cx="6049800" cy="4194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три всадника ехали молчаливо. Старый Тарас думал о давнем: перед ним проходила его молодость, его лета, его протекшие лета, о которых всегда плачет козак, желавший бы, чтобы вся жизнь его была молодость. Он думал о том, кого он встретит на Сечи из своих прежних сотоварищей. Он вычислял, какие уже перемерли, какие живут еще. Слеза тихо круглилась на его зенице, и поседевшая голова его уныло понурилас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58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ДВЕДЕНИЕ ИТОГОВ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ыскажите свое м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на уроке меня взволнова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чем, услышанном сегодня на уроке, нужно говорить всег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чему никогда не будут безразличны люд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дифференцирован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8924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ть сообщение «Нравы и обычаи Запорожской Сечи» (первая групп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ть и подготовить устный пересказ отрывков из глав о жизни казаков Запорожской Сечи (вторая групп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ть иллюстрации к описанию степ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57480" y="488880"/>
            <a:ext cx="4057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колай  Васильевич  Гоголь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1809 - 185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USER\Desktop\тарас бульба\гоголь.jpg"/>
          <p:cNvPicPr/>
          <p:nvPr/>
        </p:nvPicPr>
        <p:blipFill>
          <a:blip r:embed="rId1"/>
          <a:stretch/>
        </p:blipFill>
        <p:spPr>
          <a:xfrm>
            <a:off x="285840" y="642960"/>
            <a:ext cx="4292640" cy="5572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786200" y="1928520"/>
            <a:ext cx="40435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Гоголь - великий русский писатель, автор бессмертных произведений "Вечера на хуторе близ Диканьки", "Тарас Бульба", "Вий", "Ревизор", "Мертвые души" и др. Удивительный талант Гоголя проявляется в этих столь непохожих друг на друга произведениях по-разному: то поражая читателя богатством языка и колоритностью украинской темы (и эпическим размахом "Тараса Бульбы"), то увлекая фантастикой петербургских повестей, то вызывая смех в "Ревизоре" и "Мертвых душах". Жизненный и творческий путь Гоголя и его трагическая судьба до сих пор представляют собой загадку, которую разгадывает не одно поколение исследователе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37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езд сынов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раса Буль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7214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– А поворотись-ка, сын! Экой ты смешной какой! Что это на вас за поповские подрясники? И эдак все ходят в академии? – Такими словами встретил старый Бульба двух сыновей своих, учившихся в киевской бурсе и приехавших домой к отцу…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– Стойте, стойте! Дайте мне разглядеть вас хорошенько, – продолжал он, поворачивая их, – какие же длинные на вас свитки! Экие свитки! Таких свиток еще и на свете не было. А побеги который-нибудь из вас! Я посмотрю, не шлепнется ли он на землю, запутавшися в полы…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USER\Desktop\тарас бульба\1_bulba_vs_sons.jpg"/>
          <p:cNvPicPr/>
          <p:nvPr/>
        </p:nvPicPr>
        <p:blipFill>
          <a:blip r:embed="rId1"/>
          <a:stretch/>
        </p:blipFill>
        <p:spPr>
          <a:xfrm>
            <a:off x="109440" y="428760"/>
            <a:ext cx="437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одзаголовок 2"/>
          <p:cNvSpPr/>
          <p:nvPr/>
        </p:nvSpPr>
        <p:spPr>
          <a:xfrm>
            <a:off x="571680" y="1214280"/>
            <a:ext cx="828648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Н. В. Гоголь. “Тарас Бульба”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мейство Тараса. Первое знакомство с героям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26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…Вся поверхность земли представлялася зелено-золотым океаном, по которому брызнули миллионы разных цветов. Сквозь тонкие, высокие стебли травы сквозили голубые, синие и лиловые волошки; желтый дрок выскакивал вверх своею пирамидальною верхушкою; белая кашка зонтикообразными шапками пестрела на поверхности; занесенный бог знает откуда колос пшеницы наливался в гуще…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USER\Desktop\тарас бульба\457846.jpg"/>
          <p:cNvPicPr/>
          <p:nvPr/>
        </p:nvPicPr>
        <p:blipFill>
          <a:blip r:embed="rId1"/>
          <a:stretch/>
        </p:blipFill>
        <p:spPr>
          <a:xfrm>
            <a:off x="1857240" y="2714760"/>
            <a:ext cx="56739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Черт вас возьми, степи, как вы хороши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USER\Desktop\тарас бульба\prirodnaya_zona_stepi_big.jpg"/>
          <p:cNvPicPr/>
          <p:nvPr/>
        </p:nvPicPr>
        <p:blipFill>
          <a:blip r:embed="rId1"/>
          <a:stretch/>
        </p:blipFill>
        <p:spPr>
          <a:xfrm>
            <a:off x="1785960" y="1467000"/>
            <a:ext cx="52862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600" y="5500440"/>
            <a:ext cx="81867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ртина И. К. Айвазовского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Ветряные мельницы в украинской степи при закате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USER\Desktop\тарас бульба\small_file7298d02b5f587e7309dfa504fe35b8ab.jpg"/>
          <p:cNvPicPr/>
          <p:nvPr/>
        </p:nvPicPr>
        <p:blipFill>
          <a:blip r:embed="rId1"/>
          <a:stretch/>
        </p:blipFill>
        <p:spPr>
          <a:xfrm>
            <a:off x="2023920" y="285840"/>
            <a:ext cx="4929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85520" y="785520"/>
            <a:ext cx="197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рас Буль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USER\Desktop\тарас бульба\taras-bulba.jpeg"/>
          <p:cNvPicPr/>
          <p:nvPr/>
        </p:nvPicPr>
        <p:blipFill>
          <a:blip r:embed="rId1"/>
          <a:stretch/>
        </p:blipFill>
        <p:spPr>
          <a:xfrm>
            <a:off x="2786040" y="285840"/>
            <a:ext cx="3214800" cy="3405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USER\Desktop\тарас бульба\ostab-taras-bulba-literatura-20.jpg"/>
          <p:cNvPicPr/>
          <p:nvPr/>
        </p:nvPicPr>
        <p:blipFill>
          <a:blip r:embed="rId2"/>
          <a:srcRect l="0" t="0" r="0" b="25"/>
          <a:stretch/>
        </p:blipFill>
        <p:spPr>
          <a:xfrm>
            <a:off x="500040" y="3643200"/>
            <a:ext cx="3753000" cy="2657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USER\Desktop\тарас бульба\andrij-taras-bulba-literatura-21.jpg"/>
          <p:cNvPicPr/>
          <p:nvPr/>
        </p:nvPicPr>
        <p:blipFill>
          <a:blip r:embed="rId3"/>
          <a:srcRect l="0" t="0" r="29" b="-31"/>
          <a:stretch/>
        </p:blipFill>
        <p:spPr>
          <a:xfrm>
            <a:off x="5424480" y="3286080"/>
            <a:ext cx="3513240" cy="3286080"/>
          </a:xfrm>
          <a:prstGeom prst="rect">
            <a:avLst/>
          </a:prstGeom>
          <a:ln w="0">
            <a:noFill/>
          </a:ln>
        </p:spPr>
      </p:pic>
      <p:sp>
        <p:nvSpPr>
          <p:cNvPr id="60" name="Заголовок 1"/>
          <p:cNvSpPr/>
          <p:nvPr/>
        </p:nvSpPr>
        <p:spPr>
          <a:xfrm>
            <a:off x="3357720" y="3643200"/>
            <a:ext cx="300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д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USER\Desktop\тарас бульба\10106b6143faf517c5dc3c0550cd0a57.jpg"/>
          <p:cNvPicPr/>
          <p:nvPr/>
        </p:nvPicPr>
        <p:blipFill>
          <a:blip r:embed="rId1"/>
          <a:stretch/>
        </p:blipFill>
        <p:spPr>
          <a:xfrm>
            <a:off x="357120" y="236520"/>
            <a:ext cx="8491680" cy="6305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…Они, проехавши, оглянулись назад; хутор их как будто ушел в землю; только видны были над землей две трубы скромного их домика да вершины дерев, по сучьям которых они лазили, как белки; один только дальний луг еще стлался перед ними, – тот луг, по которому они могли припомнить всю историю своей жизни, от лет, когда катались по росистой траве его, до лет, когда поджидали в нем чернобровую козачку, боязливо перелетавшую через него с помощию своих свежих, быстрых ног. Вот уже один только шест над колодцем с привязанным вверху колесом от телеги одиноко торчит в небе; уже равнина, которую они проехали, кажется издали горою и все собою закрыла. – Прощайте и детство, и игры, и всё, и всё!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08:17:26Z</dcterms:created>
  <dc:creator>USER</dc:creator>
  <dc:description/>
  <dc:language>en-US</dc:language>
  <cp:lastModifiedBy>USER</cp:lastModifiedBy>
  <dcterms:modified xsi:type="dcterms:W3CDTF">2013-12-15T10:13:02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8000000000001024140</vt:lpwstr>
  </property>
</Properties>
</file>