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9E8-C4B4-4106-BA52-779A657A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616-1A04-4C0A-B11A-8CA4A103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AFB-9D02-46BF-8E85-582CA992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176-52C1-4142-B2E5-F356795B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263-5E21-4F22-8E36-1268BE09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9EE-D8BE-44B4-896D-D51E655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AB6-76EE-44BD-9E20-2DF9462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3B1-8021-44CC-9532-739A517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EDE-819B-46D1-A3EA-240A2C5D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4A3-0622-4D84-8D45-D752F23C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885-375D-46B3-B222-6E57FBE0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2DC-2732-4CDC-BAE9-4C0BC1C3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FF2A-CF32-44A5-AA14-A31A873FF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71388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 Стальновской общеобразовательной школы І–ІІІ ступеней Джанкойского района АР Кр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лилаева Эмине Талят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3333600" y="3267000"/>
            <a:ext cx="26226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тарас бульба\taras_bulba_001_450.gif"/>
          <p:cNvPicPr/>
          <p:nvPr/>
        </p:nvPicPr>
        <p:blipFill>
          <a:blip r:embed="rId1"/>
          <a:stretch/>
        </p:blipFill>
        <p:spPr>
          <a:xfrm>
            <a:off x="1525680" y="2451240"/>
            <a:ext cx="6049800" cy="419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три всадника ехали молчаливо. Старый Тарас думал о давнем: перед ним проходила его молодость, его лета, его протекшие лета, о которых всегда плачет козак, желавший бы, чтобы вся жизнь его была молодость. Он думал о том, кого он встретит на Сечи из своих прежних сотоварищей. Он вычислял, какие уже перемерли, какие живут еще. Слеза тихо круглилась на его зенице, и поседевшая голова его уныло понурила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скажите свое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 уроке меня взволнов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чем, услышанном сегодня на уроке, нужно говорить все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чему никогда не будут безразличны лю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дифференцирован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9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сообщение «Нравы и обычаи Запорожской Сечи» (перв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и подготовить устный пересказ отрывков из глав о жизни казаков Запорожской Сечи (втор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иллюстрации к описанию степ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7480" y="488880"/>
            <a:ext cx="4057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 Васильевич  Гогол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809 - 185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esktop\тарас бульба\гоголь.jpg"/>
          <p:cNvPicPr/>
          <p:nvPr/>
        </p:nvPicPr>
        <p:blipFill>
          <a:blip r:embed="rId1"/>
          <a:stretch/>
        </p:blipFill>
        <p:spPr>
          <a:xfrm>
            <a:off x="285840" y="642960"/>
            <a:ext cx="4292640" cy="557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86200" y="1928520"/>
            <a:ext cx="4043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голь - великий русский писатель, автор бессмертных произведений "Вечера на хуторе близ Диканьки", "Тарас Бульба", "Вий", "Ревизор", "Мертвые души" и др. Удивительный талант Гоголя проявляется в этих столь непохожих друг на друга произведениях по-разному: то поражая читателя богатством языка и колоритностью украинской темы (и эпическим размахом "Тараса Бульбы"), то увлекая фантастикой петербургских повестей, то вызывая смех в "Ревизоре" и "Мертвых душах". Жизненный и творческий путь Гоголя и его трагическая судьба до сих пор представляют собой загадку, которую разгадывает не одно поколение исследова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37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зд сынов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а Буль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14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А поворотись-ка, сын! Экой ты смешной какой! Что это на вас за поповские подрясники? И эдак все ходят в академии? – Такими словами встретил старый Бульба двух сыновей своих, учившихся в киевской бурсе и приехавших домой к отцу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Стойте, стойте! Дайте мне разглядеть вас хорошенько, – продолжал он, поворачивая их, – какие же длинные на вас свитки! Экие свитки! Таких свиток еще и на свете не было. А побеги который-нибудь из вас! Я посмотрю, не шлепнется ли он на землю, запутавшися в полы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тарас бульба\1_bulba_vs_sons.jpg"/>
          <p:cNvPicPr/>
          <p:nvPr/>
        </p:nvPicPr>
        <p:blipFill>
          <a:blip r:embed="rId1"/>
          <a:stretch/>
        </p:blipFill>
        <p:spPr>
          <a:xfrm>
            <a:off x="109440" y="428760"/>
            <a:ext cx="437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571680" y="1214280"/>
            <a:ext cx="828648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. В. Гоголь. “Тарас Бульба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ейство Тараса. Первое знакомство с героя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…Вся поверхность земли представлялася зелено-золотым океаном, по которому брызнули миллионы разных цветов. Сквозь тонкие, высокие стебли травы сквозили голубые, синие и лиловые волошки; желтый дрок выскакивал вверх своею пирамидальною верхушкою; белая кашка зонтикообразными шапками пестрела на поверхности; занесенный бог знает откуда колос пшеницы наливался в гуще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тарас бульба\457846.jpg"/>
          <p:cNvPicPr/>
          <p:nvPr/>
        </p:nvPicPr>
        <p:blipFill>
          <a:blip r:embed="rId1"/>
          <a:stretch/>
        </p:blipFill>
        <p:spPr>
          <a:xfrm>
            <a:off x="1857240" y="2714760"/>
            <a:ext cx="5673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Черт вас возьми, степи, как вы хороши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тарас бульба\prirodnaya_zona_stepi_big.jpg"/>
          <p:cNvPicPr/>
          <p:nvPr/>
        </p:nvPicPr>
        <p:blipFill>
          <a:blip r:embed="rId1"/>
          <a:stretch/>
        </p:blipFill>
        <p:spPr>
          <a:xfrm>
            <a:off x="1785960" y="1467000"/>
            <a:ext cx="5286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5500440"/>
            <a:ext cx="8186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ртина И. К. Айвазовско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Ветряные мельницы в украинской степи при закат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тарас бульба\small_file7298d02b5f587e7309dfa504fe35b8ab.jpg"/>
          <p:cNvPicPr/>
          <p:nvPr/>
        </p:nvPicPr>
        <p:blipFill>
          <a:blip r:embed="rId1"/>
          <a:stretch/>
        </p:blipFill>
        <p:spPr>
          <a:xfrm>
            <a:off x="2023920" y="28584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19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 Бу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тарас бульба\taras-bulba.jpeg"/>
          <p:cNvPicPr/>
          <p:nvPr/>
        </p:nvPicPr>
        <p:blipFill>
          <a:blip r:embed="rId1"/>
          <a:stretch/>
        </p:blipFill>
        <p:spPr>
          <a:xfrm>
            <a:off x="2786040" y="285840"/>
            <a:ext cx="3214800" cy="3405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тарас бульба\ostab-taras-bulba-literatura-20.jpg"/>
          <p:cNvPicPr/>
          <p:nvPr/>
        </p:nvPicPr>
        <p:blipFill>
          <a:blip r:embed="rId2"/>
          <a:srcRect l="0" t="0" r="0" b="25"/>
          <a:stretch/>
        </p:blipFill>
        <p:spPr>
          <a:xfrm>
            <a:off x="500040" y="3643200"/>
            <a:ext cx="3753000" cy="26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тарас бульба\andrij-taras-bulba-literatura-21.jpg"/>
          <p:cNvPicPr/>
          <p:nvPr/>
        </p:nvPicPr>
        <p:blipFill>
          <a:blip r:embed="rId3"/>
          <a:srcRect l="0" t="0" r="29" b="-31"/>
          <a:stretch/>
        </p:blipFill>
        <p:spPr>
          <a:xfrm>
            <a:off x="5424480" y="3286080"/>
            <a:ext cx="351324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3357720" y="3643200"/>
            <a:ext cx="300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д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тарас бульба\10106b6143faf517c5dc3c0550cd0a57.jpg"/>
          <p:cNvPicPr/>
          <p:nvPr/>
        </p:nvPicPr>
        <p:blipFill>
          <a:blip r:embed="rId1"/>
          <a:stretch/>
        </p:blipFill>
        <p:spPr>
          <a:xfrm>
            <a:off x="357120" y="236520"/>
            <a:ext cx="8491680" cy="630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Они, проехавши, оглянулись назад; хутор их как будто ушел в землю; только видны были над землей две трубы скромного их домика да вершины дерев, по сучьям которых они лазили, как белки; один только дальний луг еще стлался перед ними, – тот луг, по которому они могли припомнить всю историю своей жизни, от лет, когда катались по росистой траве его, до лет, когда поджидали в нем чернобровую козачку, боязливо перелетавшую через него с помощию своих свежих, быстрых ног. Вот уже один только шест над колодцем с привязанным вверху колесом от телеги одиноко торчит в небе; уже равнина, которую они проехали, кажется издали горою и все собою закрыла. – Прощайте и детство, и игры, и всё, и всё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8:17:26Z</dcterms:created>
  <dc:creator>USER</dc:creator>
  <dc:description/>
  <dc:language>en-US</dc:language>
  <cp:lastModifiedBy>USER</cp:lastModifiedBy>
  <dcterms:modified xsi:type="dcterms:W3CDTF">2013-12-15T10:13:0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4140</vt:lpwstr>
  </property>
</Properties>
</file>