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5D6-E0D5-44EB-8DDC-1AEA433D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AF7-AFE9-4291-AF4E-5EE65B18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E12-B7FA-4819-B8B6-FD3FCF62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B48-086D-4F4D-9146-C31F4B5E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F7C4-4FE5-40EC-8E3D-58401D21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5598-7448-43CF-B3E0-6F546E95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B771-32EE-4235-8ACB-0FA186B8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3E16-4CCD-46E7-A8F6-FA0FB35B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7FDF-C7C1-4BD7-B4D3-431B206F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B746-C6A2-4A62-A12E-84965BDE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D8DC-3B08-4203-99A7-4F467750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204-0CA4-42B9-A16F-8A7BA25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C90A-7124-4B3A-B690-FAFF864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8DF6-2219-4AB6-94D2-FB4517A7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9EA5-5C3A-435B-94B8-5E159A6E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B3BE-8502-44D7-99F3-8AB12972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ED6B-3B79-47A2-B52E-CB086D82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9C4-3357-4600-86AD-21D87B06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936-B468-494D-B177-BA528C98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8E5-F251-4534-A1A1-16193E5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20D-0AEB-485D-AB58-31B3CB1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8D0-5373-4927-9381-063D04A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5C0-94B3-46C8-8188-1A022D82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BC8-CD5E-46F0-AD83-86A738FF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024C-4D1D-4575-9125-DEE3B49C3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FF5D-2FAF-4914-BB6B-6CABADE4C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2;&#1091;&#1096;&#1080;&#1085;&#1089;&#1082;&#1080;&#1081;,_&#1040;&#1083;&#1077;&#1082;&#1089;&#1077;&#1081;_&#1040;&#1085;&#1072;&#1090;&#1086;&#1083;&#1100;&#1077;&#1074;&#1080;&#1095;" TargetMode="External"/><Relationship Id="rId2" Type="http://schemas.openxmlformats.org/officeDocument/2006/relationships/hyperlink" Target="http://ru.wikipedia.org/wiki/&#1056;&#1099;&#1073;&#1072;&#1082;&#1086;&#1074;&#1072;,_&#1052;&#1072;&#1088;&#1080;&#1103;_&#1040;&#1083;&#1077;&#1082;&#1089;&#1072;&#1085;&#1076;&#1088;&#1086;&#1074;&#1085;&#1072;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ecff"/>
                </a:solidFill>
                <a:latin typeface="Georgia"/>
              </a:rPr>
              <a:t>А.Рыбаков </a:t>
            </a:r>
            <a:br>
              <a:rPr sz="4800"/>
            </a:br>
            <a:r>
              <a:rPr b="0" i="1" lang="en-US" sz="4800" spc="-1" strike="noStrike">
                <a:solidFill>
                  <a:srgbClr val="ccecff"/>
                </a:solidFill>
                <a:latin typeface="Georgia"/>
              </a:rPr>
              <a:t>«Неизвестный солдат» -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экзамен  на гражданскую зрел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иски имени неизвестного солдата стало экзаменом для героев повести на гражданскую зрелость.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3068280"/>
            <a:ext cx="87854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Как вы понимаете сочетание «гражданская зрелость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енность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– нравственная позиция, выражающаяся </a:t>
            </a:r>
            <a:r>
              <a:rPr b="1" lang="en-US" sz="3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 чувстве долга и ответственности человека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еред гражданским коллективом, к которому он принадлежит (государство, семья, церковь) </a:t>
            </a:r>
            <a:r>
              <a:rPr b="1" lang="en-US" sz="3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 готовности отстаивать и защищать от всяких посягательств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ё права и интерес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Философский 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4. Основная мыс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оворив с родителями, бабушками, дедушками, просмотрев домашние архивы, фотографии, подумать над вопросом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Как отразилась война на судьбе твоей семьи, твоих близких, родных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ужны ли нам книги о войне? Актуальна ли книга А. Рыбакова в наши дн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века, через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тех, кто уже не придёт никогд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лачьте, в горле сдержите стон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ькие стоны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и павших будьте достойн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чно достойны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ебом и песней, мечтой и стихам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знью просторно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й секундой, каждым дыханье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те достойны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ди! Покуда сердца стуча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ю ценою завоёвано счаст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жалуйста, 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Реквием» Р.Рождестве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Атлас авто дорог России"/>
          <p:cNvPicPr/>
          <p:nvPr/>
        </p:nvPicPr>
        <p:blipFill>
          <a:blip r:embed="rId1"/>
          <a:stretch/>
        </p:blipFill>
        <p:spPr>
          <a:xfrm>
            <a:off x="74520" y="1125360"/>
            <a:ext cx="9069480" cy="4977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788000" y="5013360"/>
            <a:ext cx="9903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.Аталанк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3789360"/>
            <a:ext cx="647640" cy="107964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704880" cy="1076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356000" y="4005360"/>
            <a:ext cx="857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.Овсянка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781360"/>
            <a:ext cx="647640" cy="107928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716360" y="2781360"/>
            <a:ext cx="781200" cy="108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116000" y="3141720"/>
            <a:ext cx="78120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Москва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1844640"/>
            <a:ext cx="647640" cy="107964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403280" y="1844640"/>
            <a:ext cx="647640" cy="1076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«Литературная география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натолий Наумович Рыба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11-19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ая фамилия Аро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лся 14 января 1911г. в Чернигове (Украин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19 г. с семьей переехал в Москву, поселился на Арба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-181"/>
          <a:stretch/>
        </p:blipFill>
        <p:spPr>
          <a:xfrm>
            <a:off x="38160" y="2205000"/>
            <a:ext cx="34351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rcRect l="0" t="0" r="0" b="-9"/>
          <a:stretch/>
        </p:blipFill>
        <p:spPr>
          <a:xfrm>
            <a:off x="324000" y="189000"/>
            <a:ext cx="3184200" cy="3959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0" t="0" r="0" b="-10"/>
          <a:stretch/>
        </p:blipFill>
        <p:spPr>
          <a:xfrm>
            <a:off x="4356000" y="2276640"/>
            <a:ext cx="4527720" cy="323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4956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ражден многими орденами и медалями; начав войну рядовым, окончил ее в звании майо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50920" y="189000"/>
            <a:ext cx="4830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самого начала войны мобилизован в армию. Прошел с боями от Москвы до Берл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2680" y="6020640"/>
            <a:ext cx="541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й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— первое звание старших офиц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 1947 году А. Рыбаков обращается к литературной деятельности, пишет повести для юношеств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весть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Кортик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48), её продолжение — повесть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Бронзовая птиц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56). Обе повести были экранизиров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вест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Приключения Крош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60) с продолжениям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Каникулы Крош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66) 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Неизвестный солдат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7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0" t="0" r="-198" b="-123"/>
          <a:stretch/>
        </p:blipFill>
        <p:spPr>
          <a:xfrm rot="21000000">
            <a:off x="179280" y="1413000"/>
            <a:ext cx="1824120" cy="256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1562040" cy="251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851280" y="1268280"/>
            <a:ext cx="1562040" cy="2519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508720" y="1268280"/>
            <a:ext cx="1539720" cy="2482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 rot="600000">
            <a:off x="7164360" y="1341360"/>
            <a:ext cx="1789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. Н. Рыбаков умер 23 декабря 1998 года в Нью-Йорке, похоронен в Москве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4244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н А. Рыбакова - поэт, прозаик и эссеист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Алексей Макушински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4797000"/>
            <a:ext cx="403848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учка А.Рыбакова - писательница 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Мария Рыбако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4059360" cy="323820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rcRect l="0" t="0" r="-75" b="0"/>
          <a:stretch/>
        </p:blipFill>
        <p:spPr>
          <a:xfrm>
            <a:off x="4356000" y="1484280"/>
            <a:ext cx="4515120" cy="32385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1.  Год напис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2. Жан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3. Т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4. Основная мыс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Georgia"/>
              </a:rPr>
              <a:t>«Размышляем над прочитанным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605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ое событие в центре внимания автора?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развивается сюжет после нахождения могилы неизвестного солда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попал Сергей Крашенинников на строительство автомагистрали? Кто дал ему сове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он отнёсся вначале к поручению узнать что-либо о неизвестном солдат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Так почему же герой решил довести до конца свои поиски, хотя никто от него этого не требов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то помогает Сергею в поис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3. Т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2:11:18Z</dcterms:created>
  <dc:creator>XP GAME 2007</dc:creator>
  <dc:description/>
  <dc:language>en-US</dc:language>
  <cp:lastModifiedBy>XP GAME 2007</cp:lastModifiedBy>
  <dcterms:modified xsi:type="dcterms:W3CDTF">2013-04-15T16:33:18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5000000000001024140</vt:lpwstr>
  </property>
</Properties>
</file>