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891-EDFC-403A-A401-E28EF253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DB5-CA6B-419B-9F74-B99BC7B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364-A715-478F-A681-7629A06A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B18-3A8E-4950-A5D4-778BCDF7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89CA-F052-4317-9912-B3B2FCDC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957B-0F0A-4675-80EC-2D4E8EBB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52C1-86F9-4401-B125-73AB66DB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136A-98F2-45DF-9167-AAFC4644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7055-E474-4873-B725-C00B0FC5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E046-B800-48D3-8856-6B15DF5E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C2C0-8C62-488B-B60D-EA7D415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1E4-C03C-404A-B171-D805FB16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CF3-CC94-44D0-8279-9C309D7F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6AA-7F56-417C-8BC0-1CAAF31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AD20-BAA0-4CA6-9A42-D1D6975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3E33-E71A-4E23-88B3-B695BF56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A4A2-E396-46C1-86B8-2325D7A9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CDD-EB1B-41A8-AECC-1FD2B596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3E1-ADF7-4A5C-B17A-11B7E07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5A7-982C-48C1-B445-B1A29E7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B00-61A8-4034-960C-68717C5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8F4-D99A-4FAB-9AAF-C2EE80E8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900-BF5D-447F-ACFD-1E161B6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B6E-1EA0-44D2-9774-73D8C76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183-B535-4CFA-86ED-C75815AB6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6CA-5794-4A7A-875B-E1612FDBF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2;&#1091;&#1096;&#1080;&#1085;&#1089;&#1082;&#1080;&#1081;,_&#1040;&#1083;&#1077;&#1082;&#1089;&#1077;&#1081;_&#1040;&#1085;&#1072;&#1090;&#1086;&#1083;&#1100;&#1077;&#1074;&#1080;&#1095;" TargetMode="External"/><Relationship Id="rId2" Type="http://schemas.openxmlformats.org/officeDocument/2006/relationships/hyperlink" Target="http://ru.wikipedia.org/wiki/&#1056;&#1099;&#1073;&#1072;&#1082;&#1086;&#1074;&#1072;,_&#1052;&#1072;&#1088;&#1080;&#1103;_&#1040;&#1083;&#1077;&#1082;&#1089;&#1072;&#1085;&#1076;&#1088;&#1086;&#1074;&#1085;&#1072;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А.Рыбаков </a:t>
            </a:r>
            <a:br>
              <a:rPr sz="4800"/>
            </a:b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«Неизвестный солдат» -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экзамен  на гражданскую зрел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иски имени неизвестного солдата стало экзаменом для героев повести на гражданскую зрелость.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785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Как вы понимаете сочетание «гражданская зрелость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енность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 нравственная позиция, выражающаяся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чувстве долга и ответственности человека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ед гражданским коллективом, к которому он принадлежит (государство, семья, церковь)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готовности отстаивать и защищать от всяких посягательств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ё права и интерес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илософский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ворив с родителями, бабушками, дедушками, просмотрев домашние архивы, фотографии, подумать над вопросом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Как отразилась война на судьбе твоей семьи, твоих близких, родных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ужны ли нам книги о войне? Актуальна ли книга А. Рыбакова в наши дн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века, через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тех, кто уже не придёт никогд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лачьте, в горле сдержите сто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ькие стоны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и павших будьте достой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чно достойны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ебом и песней, мечтой и стихам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ью простор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й секундой, каждым дыханье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те достойны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ди! Покуда сердца стуча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ю ценою завоёвано счаст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жалуйста,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Реквием» Р.Рождестве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Атлас авто дорог России"/>
          <p:cNvPicPr/>
          <p:nvPr/>
        </p:nvPicPr>
        <p:blipFill>
          <a:blip r:embed="rId1"/>
          <a:stretch/>
        </p:blipFill>
        <p:spPr>
          <a:xfrm>
            <a:off x="74520" y="1125360"/>
            <a:ext cx="9069480" cy="4977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788000" y="5013360"/>
            <a:ext cx="9903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.Атала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378936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704880" cy="107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356000" y="4005360"/>
            <a:ext cx="857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Овсянка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781360"/>
            <a:ext cx="647640" cy="107928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716360" y="2781360"/>
            <a:ext cx="78120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16000" y="3141720"/>
            <a:ext cx="78120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Москва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184464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403280" y="1844640"/>
            <a:ext cx="647640" cy="1076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«Литературная географ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натолий Наумович Рыба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11-19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ая фамилия А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14 января 1911г. в Чернигове (Украин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19 г. с семьей переехал в Москву, поселился на Арба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-181"/>
          <a:stretch/>
        </p:blipFill>
        <p:spPr>
          <a:xfrm>
            <a:off x="38160" y="2205000"/>
            <a:ext cx="34351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rcRect l="0" t="0" r="0" b="-9"/>
          <a:stretch/>
        </p:blipFill>
        <p:spPr>
          <a:xfrm>
            <a:off x="324000" y="189000"/>
            <a:ext cx="3184200" cy="395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0" t="0" r="0" b="-10"/>
          <a:stretch/>
        </p:blipFill>
        <p:spPr>
          <a:xfrm>
            <a:off x="4356000" y="2276640"/>
            <a:ext cx="4527720" cy="323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4956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ажден многими орденами и медалями; начав войну рядовым, окончил ее в звании майо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50920" y="189000"/>
            <a:ext cx="4830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самого начала войны мобилизован в армию. Прошел с боями от Москвы до Бер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2680" y="6020640"/>
            <a:ext cx="541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й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— первое звание старших офиц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 1947 году А. Рыбаков обращается к литературной деятельности, пишет повести для юношест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ортик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48), её продолжение — 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Бронзовая птиц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56). Обе повести были экраниз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Приключения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0) с продолжениям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аникулы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6) 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Неизвестный солдат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7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0" r="-198" b="-123"/>
          <a:stretch/>
        </p:blipFill>
        <p:spPr>
          <a:xfrm rot="21000000">
            <a:off x="179280" y="1413000"/>
            <a:ext cx="1824120" cy="256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85128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1539720" cy="2482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 rot="600000">
            <a:off x="7164360" y="1341360"/>
            <a:ext cx="1789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. Н. Рыбаков умер 23 декабря 1998 года в Нью-Йорке, похоронен в Москв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4244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н А. Рыбакова - поэт, прозаик и эссеист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Алексей Макушинск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4797000"/>
            <a:ext cx="40384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учка А.Рыбакова - писательница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Мария Рыбако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059360" cy="323820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0" t="0" r="-75" b="0"/>
          <a:stretch/>
        </p:blipFill>
        <p:spPr>
          <a:xfrm>
            <a:off x="4356000" y="1484280"/>
            <a:ext cx="4515120" cy="32385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1.  Год напис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2. Жан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Georgia"/>
              </a:rPr>
              <a:t>«Размышляем над прочитанным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605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ое событие в центре внимания автора?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развивается сюжет после нахождения могилы неизвестного солд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попал Сергей Крашенинников на строительство автомагистрали? Кто дал ему сове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он отнёсся вначале к поручению узнать что-либо о неизвестном солда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ак почему же герой решил довести до конца свои поиски, хотя никто от него этого не требов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то помогает Сергею в поис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2:11:18Z</dcterms:created>
  <dc:creator>XP GAME 2007</dc:creator>
  <dc:description/>
  <dc:language>en-US</dc:language>
  <cp:lastModifiedBy>XP GAME 2007</cp:lastModifiedBy>
  <dcterms:modified xsi:type="dcterms:W3CDTF">2013-04-15T16:33:18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5000000000001024140</vt:lpwstr>
  </property>
</Properties>
</file>