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5E87-14F2-4E87-8156-40BC1DE4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2C5-1A52-4571-82AF-93405614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11C-C71F-46D0-95E7-3D28DB0A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944-500F-4EE8-A2FC-866CC030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0A19-331D-4AFB-B6AB-175E4B0E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6F0E-6FBD-43B9-9607-77BA0541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74AF-F2CE-4042-803D-1F733D89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67AD-9880-4011-9AC4-FD174368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3841-7A12-4293-8E88-C1678BAB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D8AB-CAA7-43A6-A267-1873437F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710A-7C10-4307-89D2-551EFA20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539-C2C5-4E2F-92F4-DB479E70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6023-0F52-429A-AE71-CB0581C7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02E6-6E1D-4C96-91A6-AC95155F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FDB3-222B-4527-BAE7-6BB42040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9D00-BA16-4407-AC28-8BC48027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D5F3-829B-4C0C-B04D-E60FD592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750-C2D1-4815-B8D6-D7D0972A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193-ECC0-4560-9378-82C1B850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27D-EDFE-4D94-B0F3-B177DFDE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C8A-0579-4E4E-8EE1-43C55C14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F45-56C2-4D05-859F-6D810EF5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9AF-3977-4745-9227-4752B6C8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22C-E8F8-411D-9784-07F341FD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89B7-25DA-4610-ADFB-9288BAE62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9DF0-7AFB-4AC5-A7B7-0643E0EFB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2;&#1091;&#1096;&#1080;&#1085;&#1089;&#1082;&#1080;&#1081;,_&#1040;&#1083;&#1077;&#1082;&#1089;&#1077;&#1081;_&#1040;&#1085;&#1072;&#1090;&#1086;&#1083;&#1100;&#1077;&#1074;&#1080;&#1095;" TargetMode="External"/><Relationship Id="rId2" Type="http://schemas.openxmlformats.org/officeDocument/2006/relationships/hyperlink" Target="http://ru.wikipedia.org/wiki/&#1056;&#1099;&#1073;&#1072;&#1082;&#1086;&#1074;&#1072;,_&#1052;&#1072;&#1088;&#1080;&#1103;_&#1040;&#1083;&#1077;&#1082;&#1089;&#1072;&#1085;&#1076;&#1088;&#1086;&#1074;&#1085;&#1072;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ecff"/>
                </a:solidFill>
                <a:latin typeface="Georgia"/>
              </a:rPr>
              <a:t>А.Рыбаков </a:t>
            </a:r>
            <a:br>
              <a:rPr sz="4800"/>
            </a:br>
            <a:r>
              <a:rPr b="0" i="1" lang="en-US" sz="4800" spc="-1" strike="noStrike">
                <a:solidFill>
                  <a:srgbClr val="ccecff"/>
                </a:solidFill>
                <a:latin typeface="Georgia"/>
              </a:rPr>
              <a:t>«Неизвестный солдат» -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eorgia"/>
              </a:rPr>
              <a:t>экзамен  на гражданскую зрел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оиски имени неизвестного солдата стало экзаменом для героев повести на гражданскую зрелость.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3068280"/>
            <a:ext cx="87854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Как вы понимаете сочетание «гражданская зрелость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оварн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ственность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– нравственная позиция, выражающаяся </a:t>
            </a:r>
            <a:r>
              <a:rPr b="1" lang="en-US" sz="3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в чувстве долга и ответственности человека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еред гражданским коллективом, к которому он принадлежит (государство, семья, церковь) </a:t>
            </a:r>
            <a:r>
              <a:rPr b="1" lang="en-US" sz="3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в готовности отстаивать и защищать от всяких посягательств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её права и интересы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Философский слова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«Паспорт произведения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4. Основная мыс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говорив с родителями, бабушками, дедушками, просмотрев домашние архивы, фотографии, подумать над вопросом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Как отразилась война на судьбе твоей семьи, твоих близких, родных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ужны ли нам книги о войне? Актуальна ли книга А. Рыбакова в наши дн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з века, через го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тех, кто уже не придёт никогд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лачьте, в горле сдержите стоны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рькие стоны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мяти павших будьте достойны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чно достойны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лебом и песней, мечтой и стихами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знью просторной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й секундой, каждым дыханье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ьте достойны!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ди! Покуда сердца стучат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мни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ю ценою завоёвано счасть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жалуйста, помни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Реквием» Р.Рождестве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Атлас авто дорог России"/>
          <p:cNvPicPr/>
          <p:nvPr/>
        </p:nvPicPr>
        <p:blipFill>
          <a:blip r:embed="rId1"/>
          <a:stretch/>
        </p:blipFill>
        <p:spPr>
          <a:xfrm>
            <a:off x="74520" y="1125360"/>
            <a:ext cx="9069480" cy="4977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4788000" y="5013360"/>
            <a:ext cx="99036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.Аталанк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08720" y="3789360"/>
            <a:ext cx="647640" cy="1079640"/>
          </a:xfrm>
          <a:prstGeom prst="wedgeRoundRectCallout">
            <a:avLst>
              <a:gd name="adj1" fmla="val -75000"/>
              <a:gd name="adj2" fmla="val 60736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508720" y="3789360"/>
            <a:ext cx="704880" cy="1076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356000" y="4005360"/>
            <a:ext cx="8575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.Овсянка</a:t>
            </a:r>
            <a:endParaRPr b="1" lang="en-US" sz="1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2781360"/>
            <a:ext cx="647640" cy="1079280"/>
          </a:xfrm>
          <a:prstGeom prst="wedgeRoundRectCallout">
            <a:avLst>
              <a:gd name="adj1" fmla="val -75000"/>
              <a:gd name="adj2" fmla="val 60736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4716360" y="2781360"/>
            <a:ext cx="781200" cy="10857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116000" y="3141720"/>
            <a:ext cx="781200" cy="2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.Москва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/>
          <p:nvPr/>
        </p:nvSpPr>
        <p:spPr>
          <a:xfrm>
            <a:off x="1403280" y="1844640"/>
            <a:ext cx="647640" cy="1079640"/>
          </a:xfrm>
          <a:prstGeom prst="wedgeRoundRectCallout">
            <a:avLst>
              <a:gd name="adj1" fmla="val -75000"/>
              <a:gd name="adj2" fmla="val 60736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1403280" y="1844640"/>
            <a:ext cx="647640" cy="10764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Georgia"/>
              </a:rPr>
              <a:t>«Литературная география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натолий Наумович Рыбак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92000" y="1844640"/>
            <a:ext cx="54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911-1998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тоящая фамилия Аро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ился 14 января 1911г. в Чернигове (Украина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919 г. с семьей переехал в Москву, поселился на Арба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-181"/>
          <a:stretch/>
        </p:blipFill>
        <p:spPr>
          <a:xfrm>
            <a:off x="38160" y="2205000"/>
            <a:ext cx="343512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rcRect l="0" t="0" r="0" b="-9"/>
          <a:stretch/>
        </p:blipFill>
        <p:spPr>
          <a:xfrm>
            <a:off x="324000" y="189000"/>
            <a:ext cx="3184200" cy="3959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0" t="0" r="0" b="-10"/>
          <a:stretch/>
        </p:blipFill>
        <p:spPr>
          <a:xfrm>
            <a:off x="4356000" y="2276640"/>
            <a:ext cx="4527720" cy="3238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4956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гражден многими орденами и медалями; начав войну рядовым, окончил ее в звании майор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50920" y="189000"/>
            <a:ext cx="4830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 самого начала войны мобилизован в армию. Прошел с боями от Москвы до Берл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12680" y="6020640"/>
            <a:ext cx="541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й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— первое звание старших офице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 1947 году А. Рыбаков обращается к литературной деятельности, пишет повести для юношества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повесть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Кортик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48), её продолжение — повесть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Бронзовая птица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56). Обе повести были экранизиров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повести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Приключения Кроша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60) с продолжениями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Каникулы Кроша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66) и </a:t>
            </a:r>
            <a:r>
              <a:rPr b="1" i="1" lang="en-US" sz="2400" spc="-1" strike="noStrike">
                <a:solidFill>
                  <a:srgbClr val="ffffff"/>
                </a:solidFill>
                <a:latin typeface="Georgia"/>
              </a:rPr>
              <a:t>«Неизвестный солдат»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(1970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0" t="0" r="-198" b="-123"/>
          <a:stretch/>
        </p:blipFill>
        <p:spPr>
          <a:xfrm rot="21000000">
            <a:off x="179280" y="1413000"/>
            <a:ext cx="1824120" cy="2560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1562040" cy="2519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851280" y="1268280"/>
            <a:ext cx="1562040" cy="2519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5508720" y="1268280"/>
            <a:ext cx="1539720" cy="2482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 rot="600000">
            <a:off x="7164360" y="1341360"/>
            <a:ext cx="17892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. Н. Рыбаков умер 23 декабря 1998 года в Нью-Йорке, похоронен в Москве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4797000"/>
            <a:ext cx="424476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ын А. Рыбакова - поэт, прозаик и эссеист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Алексей Макушинский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8320" y="4797000"/>
            <a:ext cx="403848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нучка А.Рыбакова - писательница 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Мария Рыбаков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0" y="1413000"/>
            <a:ext cx="4059360" cy="323820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4"/>
          <a:srcRect l="0" t="0" r="-75" b="0"/>
          <a:stretch/>
        </p:blipFill>
        <p:spPr>
          <a:xfrm>
            <a:off x="4356000" y="1484280"/>
            <a:ext cx="4515120" cy="323856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«Паспорт произведения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1.  Год напис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2. Жан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3. Тем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4. Основная мыс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Georgia"/>
              </a:rPr>
              <a:t>«Размышляем над прочитанным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605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акое событие в центре внимания автора?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ак развивается сюжет после нахождения могилы неизвестного солдат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ак попал Сергей Крашенинников на строительство автомагистрали? Кто дал ему совет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ак он отнёсся вначале к поручению узнать что-либо о неизвестном солдат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Так почему же герой решил довести до конца свои поиски, хотя никто от него этого не требова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то помогает Сергею в поиск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«Паспорт произведения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3. Тем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12:11:18Z</dcterms:created>
  <dc:creator>XP GAME 2007</dc:creator>
  <dc:description/>
  <dc:language>en-US</dc:language>
  <cp:lastModifiedBy>XP GAME 2007</cp:lastModifiedBy>
  <dcterms:modified xsi:type="dcterms:W3CDTF">2013-04-15T16:33:18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5000000000001024140</vt:lpwstr>
  </property>
</Properties>
</file>