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554-7E3B-4259-B8A1-531B755C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750-7021-4EBF-87D3-FD72EF5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AC3-AB5D-4195-8F09-C0EE8277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7BB-FF89-4B04-A120-695934F2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9E4E-A8A8-4DBB-8CBB-82AE8337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DCE0-D0E5-49C4-932A-4D1E3C0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0548-47E3-44E5-88A3-E74F3092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A05A-0705-47E3-B0DC-F76050B0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966-60A0-4C42-929F-9D81861D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FD19-8D9C-474F-800C-DDC2281C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562-2C5E-4146-B1A2-DC35B40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401-7205-4E2A-81E9-112D35A5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764F-3FD4-485E-9C8C-2E2C4EF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E947-E5E1-4014-B3C5-ACB62F0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56EC-FCC3-4AB0-8868-60C55F7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3CD0-4187-4E10-85B3-1FC0FD1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F1D0-9C66-43DB-96D3-021FC998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126-F0E7-42AA-8F9F-0B2965E3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F45-D60F-4F22-BA52-6B05854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DEE-E04F-4E3A-B4FB-0CD1A0D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23F-0C17-4FD7-BF50-EA5884A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594-B661-4381-870E-3517FD6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316-3766-4F11-94D1-DF7F8A8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3DD-2782-4720-AB6E-5E48DB0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5B7B-3ECE-4DD6-A050-AD7C480F7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4F15-36E5-4BC4-A695-46A1ACBCC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96;&#1080;&#1085;&#1089;&#1082;&#1080;&#1081;,_&#1040;&#1083;&#1077;&#1082;&#1089;&#1077;&#1081;_&#1040;&#1085;&#1072;&#1090;&#1086;&#1083;&#1100;&#1077;&#1074;&#1080;&#1095;" TargetMode="External"/><Relationship Id="rId2" Type="http://schemas.openxmlformats.org/officeDocument/2006/relationships/hyperlink" Target="http://ru.wikipedia.org/wiki/&#1056;&#1099;&#1073;&#1072;&#1082;&#1086;&#1074;&#1072;,_&#1052;&#1072;&#1088;&#1080;&#1103;_&#1040;&#1083;&#1077;&#1082;&#1089;&#1072;&#1085;&#1076;&#1088;&#1086;&#1074;&#1085;&#1072;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А.Рыбаков </a:t>
            </a:r>
            <a:br>
              <a:rPr sz="4800"/>
            </a:b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«Неизвестный солдат» -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экзамен  на гражданскую зрел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иски имени неизвестного солдата стало экзаменом для героев повести на гражданскую зрелость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Как вы понимаете сочетание «гражданская зрелость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енность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нравственная позиция, выражающаяся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чувстве долга и ответственности человек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ед гражданским коллективом, к которому он принадлежит (государство, семья, церковь)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готовности отстаивать и защищать от всяких посягательств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ё права и интерес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илософ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ворив с родителями, бабушками, дедушками, просмотрев домашние архивы, фотографии, подумать над вопросом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Как отразилась война на судьбе твоей семьи, твоих близких, родных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ны ли нам книги о войне? Актуальна ли книга А. Рыбакова в наши дн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века, через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тех, кто уже не придёт никогд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лачьте, в горле сдержите сто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ькие стон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и павших будьте достой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чно достойны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ебом и песней, мечтой и стихам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ю простор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секундой, каждым дыхань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достойны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ди! Покуда сердца стуча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ю ценою завоёвано 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жалуйста,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Реквием» Р.Рождеств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Атлас авто дорог России"/>
          <p:cNvPicPr/>
          <p:nvPr/>
        </p:nvPicPr>
        <p:blipFill>
          <a:blip r:embed="rId1"/>
          <a:stretch/>
        </p:blipFill>
        <p:spPr>
          <a:xfrm>
            <a:off x="74520" y="1125360"/>
            <a:ext cx="9069480" cy="4977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788000" y="5013360"/>
            <a:ext cx="9903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.Атала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378936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704880" cy="107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356000" y="4005360"/>
            <a:ext cx="857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Овсянка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81360"/>
            <a:ext cx="647640" cy="107928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716360" y="2781360"/>
            <a:ext cx="78120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16000" y="3141720"/>
            <a:ext cx="78120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Москва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184464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03280" y="1844640"/>
            <a:ext cx="647640" cy="1076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«Литературная географ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натолий Наумович Рыба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11-19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ая фамилия А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14 января 1911г. в Чернигове (Украи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19 г. с семьей переехал в Москву, поселился на Арб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-181"/>
          <a:stretch/>
        </p:blipFill>
        <p:spPr>
          <a:xfrm>
            <a:off x="38160" y="2205000"/>
            <a:ext cx="34351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rcRect l="0" t="0" r="0" b="-9"/>
          <a:stretch/>
        </p:blipFill>
        <p:spPr>
          <a:xfrm>
            <a:off x="324000" y="189000"/>
            <a:ext cx="318420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0" b="-10"/>
          <a:stretch/>
        </p:blipFill>
        <p:spPr>
          <a:xfrm>
            <a:off x="4356000" y="2276640"/>
            <a:ext cx="4527720" cy="32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4956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ажден многими орденами и медалями; начав войну рядовым, окончил ее в звании май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50920" y="189000"/>
            <a:ext cx="4830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амого начала войны мобилизован в армию. Прошел с боями от Москвы до Бер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2680" y="6020640"/>
            <a:ext cx="541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— первое звание старших офиц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 1947 году А. Рыбаков обращается к литературной деятельности, пишет повести для юношест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ортик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48), её продолжение — 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Бронзовая птиц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56). Обе повести были экраниз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Приключения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0) с продолжениям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аникулы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6) 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Неизвестный солдат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7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-198" b="-123"/>
          <a:stretch/>
        </p:blipFill>
        <p:spPr>
          <a:xfrm rot="21000000">
            <a:off x="179280" y="1413000"/>
            <a:ext cx="1824120" cy="256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1539720" cy="2482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600000">
            <a:off x="7164360" y="1341360"/>
            <a:ext cx="1789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. Н. Рыбаков умер 23 декабря 1998 года в Нью-Йорке, похоронен в Москв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4244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н А. Рыбакова - поэт, прозаик и эссеист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лексей Макушинск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4797000"/>
            <a:ext cx="40384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учка А.Рыбакова - писательниц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Мария Рыбако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059360" cy="32382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0" t="0" r="-75" b="0"/>
          <a:stretch/>
        </p:blipFill>
        <p:spPr>
          <a:xfrm>
            <a:off x="4356000" y="1484280"/>
            <a:ext cx="4515120" cy="32385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1.  Год напис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2. Жан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eorgia"/>
              </a:rPr>
              <a:t>«Размышляем над прочитанны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605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ое событие в центре внимания автора?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развивается сюжет после нахождения могилы неизвестного солд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попал Сергей Крашенинников на строительство автомагистрали? Кто дал ему сове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он отнёсся вначале к поручению узнать что-либо о неизвестном солда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ак почему же герой решил довести до конца свои поиски, хотя никто от него этого не треб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то помогает Сергею в поис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2:11:18Z</dcterms:created>
  <dc:creator>XP GAME 2007</dc:creator>
  <dc:description/>
  <dc:language>en-US</dc:language>
  <cp:lastModifiedBy>XP GAME 2007</cp:lastModifiedBy>
  <dcterms:modified xsi:type="dcterms:W3CDTF">2013-04-15T16:33:18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5000000000001024140</vt:lpwstr>
  </property>
</Properties>
</file>