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6640" y="747720"/>
            <a:ext cx="4978440" cy="37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036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724D-EF9F-44C9-9DBD-CD7386976B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7000" y="74772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70360" y="946296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A0CB-4D02-4CFE-B066-BD588B5970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570-E3A6-46C2-9013-F3A6D586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D42-B22A-49E9-831C-15999316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3CD-6730-42EF-A235-72F87037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887-EF2D-4460-9514-50FBD672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588-06EC-4FC1-AC85-9B19B931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C75-D4FC-4E3F-AA4A-60017D02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AE0-1497-4DF5-99F2-A4A3D43C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8C6-67E1-449F-8836-05F2D20E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415-58C8-4964-9E44-70DBF6FF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2AA-2793-4675-8424-131CD0B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376-9D65-4113-9165-2367FEE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549-FD6A-421D-86AC-0B543DB1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85BF-AC21-4140-BA5F-059A8164E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42483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зумству храбрых поем мы славу!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Безумство храбрых - вот мудрость жизни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997440" cy="6286680"/>
          </a:xfrm>
          <a:prstGeom prst="rect">
            <a:avLst/>
          </a:prstGeom>
          <a:ln w="284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Рассказ в рассказ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 rot="483000">
            <a:off x="6041880" y="1947960"/>
            <a:ext cx="2808360" cy="439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3203640" y="1628640"/>
            <a:ext cx="2857320" cy="444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4"/>
          <a:stretch/>
        </p:blipFill>
        <p:spPr>
          <a:xfrm rot="21217800">
            <a:off x="234720" y="1848960"/>
            <a:ext cx="2936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32508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059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омпозиция рассказа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Старуха Изергиль»- утверждение правоты подвига во имя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539640" y="1758240"/>
            <a:ext cx="756144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Три част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1 часть – легенда о Ларр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2 часть – история жизни и любви Старухи Изергил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3 часть – легенда о Данк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образ автора и старуха Изерг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300040" cy="3122640"/>
          </a:xfrm>
          <a:prstGeom prst="rect">
            <a:avLst/>
          </a:prstGeom>
          <a:ln w="0">
            <a:noFill/>
          </a:ln>
        </p:spPr>
      </p:pic>
      <p:sp>
        <p:nvSpPr>
          <p:cNvPr id="98" name="Правая фигурная скобка 9"/>
          <p:cNvSpPr/>
          <p:nvPr/>
        </p:nvSpPr>
        <p:spPr>
          <a:xfrm rot="5400000">
            <a:off x="3744360" y="2528640"/>
            <a:ext cx="574560" cy="6985080"/>
          </a:xfrm>
          <a:custGeom>
            <a:avLst/>
            <a:gdLst>
              <a:gd name="textAreaLeft" fmla="*/ 0 w 574560"/>
              <a:gd name="textAreaRight" fmla="*/ 207360 w 574560"/>
              <a:gd name="textAreaTop" fmla="*/ 14760 h 6985080"/>
              <a:gd name="textAreaBottom" fmla="*/ 6970320 h 698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"/>
                  <a:pt x="10800" y="148"/>
                </a:cubicBezTo>
                <a:lnTo>
                  <a:pt x="10800" y="10652"/>
                </a:lnTo>
                <a:cubicBezTo>
                  <a:pt x="10800" y="10726"/>
                  <a:pt x="16200" y="10800"/>
                  <a:pt x="21600" y="10800"/>
                </a:cubicBezTo>
                <a:cubicBezTo>
                  <a:pt x="16200" y="10800"/>
                  <a:pt x="10800" y="10874"/>
                  <a:pt x="10800" y="10948"/>
                </a:cubicBezTo>
                <a:lnTo>
                  <a:pt x="10800" y="21452"/>
                </a:lnTo>
                <a:cubicBezTo>
                  <a:pt x="10800" y="21526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Литературное лото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«Знатоки текста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628640"/>
          <a:ext cx="8424720" cy="4392720"/>
        </p:xfrm>
        <a:graphic>
          <a:graphicData uri="http://schemas.openxmlformats.org/drawingml/2006/table">
            <a:tbl>
              <a:tblPr/>
              <a:tblGrid>
                <a:gridCol w="2639880"/>
                <a:gridCol w="2832120"/>
                <a:gridCol w="2952720"/>
              </a:tblGrid>
              <a:tr h="242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енда о Лар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о жизни Изерг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енда о Дан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2603520" cy="39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859120" cy="408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tretch/>
        </p:blipFill>
        <p:spPr>
          <a:xfrm>
            <a:off x="2843280" y="2924280"/>
            <a:ext cx="3457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4436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егенда о Лар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nastasiaScript"/>
              </a:rPr>
              <a:t>«Ларра-неоперенная стрела с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nastasiaScript"/>
              </a:rPr>
              <a:t> не отточенным наконечником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2627280" y="1979640"/>
            <a:ext cx="6516720" cy="487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0" y="1484280"/>
            <a:ext cx="2771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744560"/>
            <a:ext cx="7426080" cy="44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дост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чувство собственного достоинства, самоуважения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дын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- непомерная гордость. Высокое мнение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чрезмерное высокое мнение о себе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508280"/>
            <a:ext cx="47498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Легенда о Да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543564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«…В очах его светилось много силы и живого огня…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479760" cy="443412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4356000" y="3933720"/>
            <a:ext cx="39610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расота.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мелость.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юбовь к людям. Самопожертвование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Желание помочь окружающи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0"/>
            <a:ext cx="961236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64000" y="90756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ф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от греч. páthos — страдание, чувство, страсть), воодушевление, восторженность, подъё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ышенный стиль, который должен вызывать у слушателя сильные эмо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 rot="21080400">
            <a:off x="817200" y="2736720"/>
            <a:ext cx="2978280" cy="391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" name="Picture 3" descr="Maxim_Gorky"/>
          <p:cNvPicPr/>
          <p:nvPr/>
        </p:nvPicPr>
        <p:blipFill>
          <a:blip r:embed="rId3"/>
          <a:srcRect l="0" t="0" r="0" b="-35"/>
          <a:stretch/>
        </p:blipFill>
        <p:spPr>
          <a:xfrm>
            <a:off x="1763640" y="189000"/>
            <a:ext cx="22748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Таблица 4" descr=""/>
          <p:cNvPicPr/>
          <p:nvPr/>
        </p:nvPicPr>
        <p:blipFill>
          <a:blip r:embed="rId2"/>
          <a:stretch/>
        </p:blipFill>
        <p:spPr>
          <a:xfrm>
            <a:off x="-73080" y="-115920"/>
            <a:ext cx="9290160" cy="7047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-406872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51847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ар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романтический антиидеал, поэтому конфликт героя и толпы неизбежен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нк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омантический идеал, но в основе отношений героя и толпы тоже лежит конфлик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дна из особенностей романтического произведен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3851280" y="4365720"/>
            <a:ext cx="4432320" cy="249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324000" y="692280"/>
            <a:ext cx="3309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54356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История жизни и любви Старухи Изерги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467177"/>
          <p:cNvPicPr/>
          <p:nvPr/>
        </p:nvPicPr>
        <p:blipFill>
          <a:blip r:embed="rId2"/>
          <a:stretch/>
        </p:blipFill>
        <p:spPr>
          <a:xfrm>
            <a:off x="468360" y="404640"/>
            <a:ext cx="3568680" cy="469908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3821040" cy="295128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Старуха Изергиль , Данко, Лар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032360" cy="14284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2987640" y="1700280"/>
            <a:ext cx="2952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Идеал Данко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2484360" y="4292640"/>
            <a:ext cx="3888000" cy="1728720"/>
          </a:xfrm>
          <a:prstGeom prst="rect">
            <a:avLst/>
          </a:prstGeom>
          <a:ln w="0">
            <a:noFill/>
          </a:ln>
        </p:spPr>
      </p:pic>
      <p:sp>
        <p:nvSpPr>
          <p:cNvPr id="151" name="WordArt 6"/>
          <p:cNvSpPr txBox="1"/>
          <p:nvPr/>
        </p:nvSpPr>
        <p:spPr>
          <a:xfrm>
            <a:off x="2843280" y="5013360"/>
            <a:ext cx="302400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нтиидеал 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Ларра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6659640" y="2492280"/>
            <a:ext cx="2233440" cy="21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324000" y="2349360"/>
            <a:ext cx="197964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468360" y="260280"/>
            <a:ext cx="8064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аймонд – это семистишие особой фор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2 прилагательных или причастия, относящиеся к существительном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3 глагола или деепричастия, относящиеся к существительн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фраза из 4 слов: 1,2 характеризуют 1 существительное, 3,4 – относятся к противоположному понят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3 глагола или деепричас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2 прилагательных или причас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1 существ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395280" y="0"/>
            <a:ext cx="8064360" cy="72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ймонд к рассказу М.Горького «Старуха Изергиль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«Молод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Красивая, беспечна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Живёт, влюбляется, надеетс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молодость  счастлива, старость жесток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угасает, умирает, вспомин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горькая, неизбеж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Старос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087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«… в жизни всегда есть место подвигам»</a:t>
            </a:r>
            <a:br>
              <a:rPr sz="3200"/>
            </a:br>
            <a:r>
              <a:rPr b="0" i="1" lang="uk-UA" sz="3200" spc="-1" strike="noStrike">
                <a:solidFill>
                  <a:srgbClr val="c00000"/>
                </a:solidFill>
                <a:latin typeface="Calibri"/>
              </a:rPr>
              <a:t>                                             (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.М.Горький «Старуха Изергиль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3159000" cy="306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4189320" cy="272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4643280" y="1989000"/>
            <a:ext cx="4052880" cy="291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539640" y="-276840"/>
            <a:ext cx="4896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омантический пафос ранних произведений Горького обусловлен конфликтом сильной личности и окружающего ми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исатель исследует этот конфликт всесторонн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ильная личность в своём противопоставлении обществу может быть носителем как положительных качеств, так и отрицатель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 мнению М. Горького, нравственная позиция сильной личности приобретает очень важное  значение, потому что сильная личность может повлиять на окружающий мир, увлечь, повести за собой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5940360" y="765000"/>
            <a:ext cx="2814840" cy="511200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38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95280" y="435960"/>
            <a:ext cx="47530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 жизни по-разному можно жи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 горе можно и в радост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овремя есть, вовремя пи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овремя делать гад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А можно и та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На рассвете вста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 помышляя о чуд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Рукой обнаженною  солнце дост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 подарить его люд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ергей Остр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3357720"/>
            <a:ext cx="4383000" cy="3208320"/>
          </a:xfrm>
          <a:prstGeom prst="rect">
            <a:avLst/>
          </a:prstGeom>
          <a:ln w="19080">
            <a:solidFill>
              <a:srgbClr val="558ed5"/>
            </a:solidFill>
            <a:miter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2916360" y="0"/>
            <a:ext cx="5933880" cy="276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4716360" y="2924280"/>
            <a:ext cx="4214880" cy="3717720"/>
          </a:xfrm>
          <a:prstGeom prst="rect">
            <a:avLst/>
          </a:prstGeom>
          <a:ln w="19080">
            <a:solidFill>
              <a:srgbClr val="376092"/>
            </a:solidFill>
            <a:miter/>
          </a:ln>
        </p:spPr>
      </p:pic>
      <p:pic>
        <p:nvPicPr>
          <p:cNvPr id="59" name="Picture 8" descr=""/>
          <p:cNvPicPr/>
          <p:nvPr/>
        </p:nvPicPr>
        <p:blipFill>
          <a:blip r:embed="rId5"/>
          <a:stretch/>
        </p:blipFill>
        <p:spPr>
          <a:xfrm>
            <a:off x="611280" y="189000"/>
            <a:ext cx="1946160" cy="300492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0" name="Picture 2" descr=""/>
          <p:cNvPicPr/>
          <p:nvPr/>
        </p:nvPicPr>
        <p:blipFill>
          <a:blip r:embed="rId6"/>
          <a:stretch/>
        </p:blipFill>
        <p:spPr>
          <a:xfrm>
            <a:off x="2843280" y="1989000"/>
            <a:ext cx="3384360" cy="288000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sp>
        <p:nvSpPr>
          <p:cNvPr id="61" name="WordArt 12"/>
          <p:cNvSpPr txBox="1"/>
          <p:nvPr/>
        </p:nvSpPr>
        <p:spPr>
          <a:xfrm rot="5400000">
            <a:off x="-2704680" y="3180600"/>
            <a:ext cx="5977080" cy="56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c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Возрождение</a:t>
            </a:r>
            <a:endParaRPr b="0" lang="en-US" sz="1800" spc="1" strike="noStrike">
              <a:ln w="28440">
                <a:solidFill>
                  <a:srgbClr val="ffc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омантизм – (фр. romantisme, от средневекового фр. romant – роман) – направление в искусстве. Центр художественной системы романтизма – личность, а его главный конфликт – личности и общества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омантизм — высшая точка в развитии гуманистического искусства, начатого в эпоху Возрождения, когда человек был провозглашен мерилом всех ве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5" name="Picture 2" descr="C:\Documents and Settings\Admin\Рабочий стол\М.Горький\картинки\фон7.jpg"/>
          <p:cNvPicPr/>
          <p:nvPr/>
        </p:nvPicPr>
        <p:blipFill>
          <a:blip r:embed="rId2"/>
          <a:stretch/>
        </p:blipFill>
        <p:spPr>
          <a:xfrm>
            <a:off x="-130320" y="-96840"/>
            <a:ext cx="9274320" cy="69548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Особенности романтического произведения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ульт необыкновенной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 Романтический портр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Романтический сю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4. Романтический пейза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. Романтическая стилист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Самарская газета» (1895г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168720" cy="4302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288144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«Романтический пафос в рассказе М.Горького </a:t>
            </a:r>
            <a:r>
              <a:rPr b="1" lang="ru-RU" sz="7200" spc="-1" strike="noStrike">
                <a:solidFill>
                  <a:srgbClr val="c00000"/>
                </a:solidFill>
                <a:latin typeface="AnastasiaScript"/>
              </a:rPr>
              <a:t>«Старуха Изергиль»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238480" y="3141720"/>
            <a:ext cx="4494240" cy="33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омантический 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68520" y="1189080"/>
            <a:ext cx="6681960" cy="458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44440" y="2535120"/>
            <a:ext cx="4632480" cy="432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3992400" y="1122480"/>
            <a:ext cx="1884600" cy="59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Природа – символ безграничной свободы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324000" y="3500280"/>
            <a:ext cx="82296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…голубоватая мгла», «ночь росла и крепла», «листва вздыхала и шепталась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9:22:19Z</dcterms:created>
  <dc:creator>Admin</dc:creator>
  <dc:description/>
  <dc:language>en-US</dc:language>
  <cp:lastModifiedBy>Admin</cp:lastModifiedBy>
  <dcterms:modified xsi:type="dcterms:W3CDTF">2012-12-28T12:23:43Z</dcterms:modified>
  <cp:revision>8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2c000000000001024140</vt:lpwstr>
  </property>
</Properties>
</file>