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036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0360" y="946260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FC7-6F9B-40E3-A35C-C0EA511816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7000" y="74772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2200" y="4731840"/>
            <a:ext cx="54673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70360" y="946296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466-48F9-497F-A644-4419B702D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646-2F89-4710-B9A2-3116F1CF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54B-0587-43FF-BCC7-3B5818A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310-0864-4413-A8CF-95FBB79D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684-DC15-457A-AAC9-C26D5EF0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501-3C40-426D-9FC7-3FC2B02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3E4-5EC1-43D8-8DD4-AA15FCCE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D04-9BEF-47AB-92DA-67177822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C63-AE0B-4E27-8994-95C0165D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BB1-5F75-4D7E-9A5A-847AD8C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42E-1E0D-4A20-AFF1-B9C1F1B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F4B-104D-4432-BD95-F084FE4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BAC-0CFB-468A-A5AB-61EA5EA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6DC-8145-4A09-882C-1E909D692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зумству храбрых поем мы славу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Безумство храбрых - вот мудрость жизни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997440" cy="628668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ассказ в рассказ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483000">
            <a:off x="6041880" y="1947960"/>
            <a:ext cx="2808360" cy="43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285732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 rot="21217800">
            <a:off x="234720" y="18489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3250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59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озиция рассказ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Старуха Изергиль»- утверждение правоты подвига во имя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758240"/>
            <a:ext cx="7561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Три част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1 часть – легенда о Ларр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2 часть – история жизни и любви Старухи Изерги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  <a:ea typeface="Times New Roman"/>
              </a:rPr>
              <a:t>3 часть – легенда о Данк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образ автора и старуха Изерг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0004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Правая фигурная скобка 9"/>
          <p:cNvSpPr/>
          <p:nvPr/>
        </p:nvSpPr>
        <p:spPr>
          <a:xfrm rot="5400000">
            <a:off x="3744360" y="2528640"/>
            <a:ext cx="574560" cy="6985080"/>
          </a:xfrm>
          <a:custGeom>
            <a:avLst/>
            <a:gdLst>
              <a:gd name="textAreaLeft" fmla="*/ 0 w 574560"/>
              <a:gd name="textAreaRight" fmla="*/ 207360 w 574560"/>
              <a:gd name="textAreaTop" fmla="*/ 14760 h 6985080"/>
              <a:gd name="textAreaBottom" fmla="*/ 69703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Литературное лото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«Знатоки текст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628640"/>
          <a:ext cx="8424720" cy="4392720"/>
        </p:xfrm>
        <a:graphic>
          <a:graphicData uri="http://schemas.openxmlformats.org/drawingml/2006/table">
            <a:tbl>
              <a:tblPr/>
              <a:tblGrid>
                <a:gridCol w="2639880"/>
                <a:gridCol w="2832120"/>
                <a:gridCol w="2952720"/>
              </a:tblGrid>
              <a:tr h="242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Лар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жизни Изерг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Дан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03520" cy="39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859120" cy="40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3457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егенда о Лар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«Ларра-неоперенная стрела с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nastasiaScript"/>
              </a:rPr>
              <a:t> не отточенным наконечнико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627280" y="1979640"/>
            <a:ext cx="6516720" cy="487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0" y="1484280"/>
            <a:ext cx="27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744560"/>
            <a:ext cx="7426080" cy="44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увство собственного достоинства, самоуважения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дын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- непомерная гордость. Высокое мнение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чрезмерное высокое мнение о себ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47498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Легенда о Да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«…В очах его светилось много силы и живого огня…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479760" cy="44341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9610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расота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мелость.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Любовь к людям. Самопожертвование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Желание помочь окружающи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61236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64000" y="90756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ф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греч. páthos — страдание, чувство, страсть), воодушевление, восторженность, подъё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ышенный стиль, который должен вызывать у слушателя сильные эмо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 rot="21080400">
            <a:off x="817200" y="2736720"/>
            <a:ext cx="2978280" cy="39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3" descr="Maxim_Gorky"/>
          <p:cNvPicPr/>
          <p:nvPr/>
        </p:nvPicPr>
        <p:blipFill>
          <a:blip r:embed="rId3"/>
          <a:srcRect l="0" t="0" r="0" b="-35"/>
          <a:stretch/>
        </p:blipFill>
        <p:spPr>
          <a:xfrm>
            <a:off x="1763640" y="189000"/>
            <a:ext cx="2274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Таблица 4" descr=""/>
          <p:cNvPicPr/>
          <p:nvPr/>
        </p:nvPicPr>
        <p:blipFill>
          <a:blip r:embed="rId2"/>
          <a:stretch/>
        </p:blipFill>
        <p:spPr>
          <a:xfrm>
            <a:off x="-73080" y="-115920"/>
            <a:ext cx="9290160" cy="7047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-40687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51847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ар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омантический антиидеал, поэтому конфликт героя и толпы неизбеже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омантический идеал, но в основе отношений героя и толпы тоже лежит конфлик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дна из особенностей романтического произвед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4432320" cy="249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24000" y="692280"/>
            <a:ext cx="3309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54356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История жизни и любви Старухи Изерги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467177"/>
          <p:cNvPicPr/>
          <p:nvPr/>
        </p:nvPicPr>
        <p:blipFill>
          <a:blip r:embed="rId2"/>
          <a:stretch/>
        </p:blipFill>
        <p:spPr>
          <a:xfrm>
            <a:off x="468360" y="404640"/>
            <a:ext cx="3568680" cy="46990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3821040" cy="29512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nastasiaScript"/>
              </a:rPr>
              <a:t>Старуха Изергиль , Данко, Лар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987640" y="170028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Идеал Данко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3888000" cy="17287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2843280" y="5013360"/>
            <a:ext cx="302400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Антиидеал 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арра</a:t>
            </a:r>
            <a:endParaRPr b="0" lang="en-US" sz="1800" spc="1" strike="noStrike">
              <a:ln w="9360">
                <a:solidFill>
                  <a:srgbClr val="ffc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233440" cy="21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1979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468360" y="260280"/>
            <a:ext cx="8064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ймонд – это семистишие особой фор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, относящиеся к существи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, относящиеся к существительн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фраза из 4 слов: 1,2 характеризуют 1 существительное, 3,4 – относятся к противоположному понят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3 глагола или дее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2 прилагательных или прич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 стро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1 существите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395280" y="0"/>
            <a:ext cx="806436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ймонд к рассказу М.Горького «Старуха Изергиль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«Молод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Красивая, беспечна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Живёт, влюбляется, надеетс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молодость  счастлива, старость жесток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угасает, умирает, вспомин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горькая, неизбеж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ston"/>
              </a:rPr>
              <a:t>Стар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«… в жизни всегда есть место подвигам»</a:t>
            </a:r>
            <a:br>
              <a:rPr sz="3200"/>
            </a:br>
            <a:r>
              <a:rPr b="0" i="1" lang="uk-UA" sz="3200" spc="-1" strike="noStrike">
                <a:solidFill>
                  <a:srgbClr val="c00000"/>
                </a:solidFill>
                <a:latin typeface="Calibri"/>
              </a:rPr>
              <a:t>                                             (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.М.Горький «Старуха Изергиль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159000" cy="30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4189320" cy="272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052880" cy="291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539640" y="-27684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омантический пафос ранних произведений Горького обусловлен конфликтом сильной личности и окружающего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исатель исследует этот конфликт всесторон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ильная личность в своём противопоставлении обществу может быть носителем как положительных качеств, так и отрицатель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мнению М. Горького, нравственная позиция сильной личности приобретает очень важное  значение, потому что сильная личность может повлиять на окружающий мир, увлечь, повести за собой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814840" cy="5112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3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435960"/>
            <a:ext cx="47530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жизни по-разному можно жи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горе можно и в радост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есть, вовремя п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овремя делать гад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 можно и т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рассвете в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мышляя о чуд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укой обнаженною  солнце дос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 подарить его люд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ергей Остр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3357720"/>
            <a:ext cx="4383000" cy="3208320"/>
          </a:xfrm>
          <a:prstGeom prst="rect">
            <a:avLst/>
          </a:prstGeom>
          <a:ln w="19080">
            <a:solidFill>
              <a:srgbClr val="558ed5"/>
            </a:solidFill>
            <a:miter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2916360" y="0"/>
            <a:ext cx="5933880" cy="27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4214880" cy="3717720"/>
          </a:xfrm>
          <a:prstGeom prst="rect">
            <a:avLst/>
          </a:prstGeom>
          <a:ln w="19080">
            <a:solidFill>
              <a:srgbClr val="376092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1946160" cy="30049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6"/>
          <a:stretch/>
        </p:blipFill>
        <p:spPr>
          <a:xfrm>
            <a:off x="2843280" y="1989000"/>
            <a:ext cx="3384360" cy="288000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61" name="WordArt 12"/>
          <p:cNvSpPr txBox="1"/>
          <p:nvPr/>
        </p:nvSpPr>
        <p:spPr>
          <a:xfrm rot="5400000">
            <a:off x="-2704680" y="3180600"/>
            <a:ext cx="5977080" cy="56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Возрождение</a:t>
            </a:r>
            <a:endParaRPr b="0" lang="en-US" sz="1800" spc="1" strike="noStrike">
              <a:ln w="28440">
                <a:solidFill>
                  <a:srgbClr val="ffc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– (фр. romantisme, от средневекового фр. romant – роман) – направление в искусстве. Центр художественной системы романтизма – личность, а его главный конфликт – личности и обществ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мантизм — высшая точка в развитии гуманистического искусства, начатого в эпоху Возрождения, когда человек был провозглашен мерилом все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5" name="Picture 2" descr="C:\Documents and Settings\Admin\Рабочий стол\М.Горький\картинки\фон7.jpg"/>
          <p:cNvPicPr/>
          <p:nvPr/>
        </p:nvPicPr>
        <p:blipFill>
          <a:blip r:embed="rId2"/>
          <a:stretch/>
        </p:blipFill>
        <p:spPr>
          <a:xfrm>
            <a:off x="-130320" y="-96840"/>
            <a:ext cx="9274320" cy="69548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обенности романтического произведения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т необыкновенной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Романтический портр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Романтический сю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. Романтический пейза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 Романтическая стили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амарская газета» (1895г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168720" cy="4302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28814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Романтический пафос в рассказе М.Горького </a:t>
            </a:r>
            <a:r>
              <a:rPr b="1" lang="ru-RU" sz="7200" spc="-1" strike="noStrike">
                <a:solidFill>
                  <a:srgbClr val="c00000"/>
                </a:solidFill>
                <a:latin typeface="AnastasiaScript"/>
              </a:rPr>
              <a:t>«Старуха Изергиль»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38480" y="3141720"/>
            <a:ext cx="4494240" cy="33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М.Горький\картинки\фон7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омантический 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68520" y="1189080"/>
            <a:ext cx="6681960" cy="458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44440" y="2535120"/>
            <a:ext cx="4632480" cy="432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3992400" y="1122480"/>
            <a:ext cx="1884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Природа – символ безграничной свободы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24000" y="3500280"/>
            <a:ext cx="82296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…голубоватая мгла», «ночь росла и крепла», «листва вздыхала и шепталась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22:19Z</dcterms:created>
  <dc:creator>Admin</dc:creator>
  <dc:description/>
  <dc:language>en-US</dc:language>
  <cp:lastModifiedBy>Admin</cp:lastModifiedBy>
  <dcterms:modified xsi:type="dcterms:W3CDTF">2012-12-28T12:23:43Z</dcterms:modified>
  <cp:revision>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c000000000001024140</vt:lpwstr>
  </property>
</Properties>
</file>