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0F9-9310-4F64-871D-00F8D5FF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357-4F08-4E98-B259-74F24E7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7C5-F750-468C-AE98-2B3CEFBC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8E0-CFCB-41E4-A5B0-8A87A4E2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E429-198B-447F-9986-FB9F6239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DBBA-7E30-4FF3-BDE9-6E344A6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374F-5480-4670-9874-D642E97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34F7-46C9-4F6F-8957-DD1FF777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20D-A81F-46DB-ADE5-67DC861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D88B-7D69-4A69-8408-52590F5E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0E2-8127-407A-AC41-4C74127E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CE1-7E63-4321-B8AE-5918B2DE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AED-6C25-4BEB-B5CC-393D7D1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A10E-8F80-402E-8FB0-6A5CB8D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66F6-5B92-46FA-AA64-5E1B0B3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DE4E-AAF2-4050-9296-CD730051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57D0-26B9-40CD-8CF6-646E8431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1120-78E9-4DBC-A8A2-5566B20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9970-8844-45DE-A5D7-14C8EC04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CBEE-E32C-4944-B8BC-2264D271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271A-DB21-4563-81FD-870454C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AAA7-0D31-4077-A683-819DBA6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C69-69C2-4D39-B8A3-660E80B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3A64-289E-4A8E-9D79-71614F7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464A-B673-4278-AB04-BC05B7D3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F1FA-1FAE-40B7-9B1D-6F4FADB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BA73-2647-4546-BD36-1B08D62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59EF-13B7-4BFF-9F3D-A483ADC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E497-65B3-4678-A861-874BFE82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7BEC-9141-409C-BF4B-A1A98265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EC4-0E85-4DEF-87F2-DA05199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AD5-A667-47BF-B72D-A74F29D2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058-FE08-4923-A55B-3C5265A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52A-7641-4ED0-9787-9211982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F98-2BAC-4E83-AF57-3CCA3D4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42F-24CE-4D39-B312-6EEC49F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литература 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C5C0-4FFC-4A7A-9457-14F837E8EC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354-5B1B-4210-BD93-4E95715AC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8" descr="литератур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166-8908-4F64-B9D4-4987549D3CF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CE8-0E4A-4B3A-801F-57A4C19DC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8" descr="литература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747B-8371-4003-9A28-4D5031E459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E7D-9E69-4E5D-8242-212E7BFEA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50920" y="1628640"/>
            <a:ext cx="61963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mbria"/>
              </a:rPr>
              <a:t>Строка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mbria"/>
              </a:rPr>
              <a:t>оборванная пу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172"/>
          <a:stretch/>
        </p:blipFill>
        <p:spPr>
          <a:xfrm>
            <a:off x="4643280" y="4076640"/>
            <a:ext cx="428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5467320"/>
            <a:ext cx="7620120" cy="1390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1064-C23A-44F5-BE84-76647C3C9990}" type="slidenum">
              <a:t>1</a:t>
            </a:fld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66920" y="476280"/>
            <a:ext cx="59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усть всех имен не назову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т кровнее ро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потому ли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жи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умерли о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, им я обязан, знаю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стойна будет жизнь м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лдатской смерти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29"/>
          <a:stretch/>
        </p:blipFill>
        <p:spPr>
          <a:xfrm rot="1330800">
            <a:off x="-252000" y="188640"/>
            <a:ext cx="1954080" cy="32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124000" y="3857760"/>
            <a:ext cx="5524560" cy="30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0281-E231-45D8-AA39-416B0B441E58}" type="slidenum">
              <a:t>10</a:t>
            </a:fld>
          </a:p>
        </p:txBody>
      </p:sp>
    </p:spTree>
  </p:cSld>
  <p:transition>
    <p:randomBa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981000"/>
            <a:ext cx="70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Свой добрый в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мы прож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Как люди</a:t>
            </a:r>
            <a:r>
              <a:rPr b="1" i="1" lang="uk-UA" sz="40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1" lang="uk-UA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и для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. Майор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61CC-31F1-48C7-A78F-482EC8E6013A}" type="slidenum">
              <a:t>2</a:t>
            </a:fld>
          </a:p>
        </p:txBody>
      </p: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84464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воспоминаньях мы тужить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 буд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чем тревожить грустью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сность дн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ой добрый в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 прож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люди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87640" y="5805360"/>
            <a:ext cx="59245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836-417A-426F-A07F-B9A60B75DED4}" type="slidenum">
              <a:t>3</a:t>
            </a:fld>
          </a:p>
        </p:txBody>
      </p:sp>
    </p:spTree>
  </p:cSld>
  <p:transition>
    <p:randomBa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0" b="-79"/>
          <a:stretch/>
        </p:blipFill>
        <p:spPr>
          <a:xfrm>
            <a:off x="1908000" y="1844640"/>
            <a:ext cx="6828120" cy="468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0994000">
            <a:off x="179280" y="4149360"/>
            <a:ext cx="2194200" cy="22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5D7-4940-4541-AC94-890B85D3C73B}" type="slidenum">
              <a:t>4</a:t>
            </a:fld>
          </a:p>
        </p:txBody>
      </p:sp>
    </p:spTree>
  </p:cSld>
  <p:transition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3716280"/>
            <a:ext cx="406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Всевол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Багрицкий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1922 -1942г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130" b="0"/>
          <a:stretch/>
        </p:blipFill>
        <p:spPr>
          <a:xfrm>
            <a:off x="4606920" y="836640"/>
            <a:ext cx="4213080" cy="568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192-151C-4295-9CF0-9FFAA59E2EE2}" type="slidenum">
              <a:t>5</a:t>
            </a:fld>
          </a:p>
        </p:txBody>
      </p:sp>
    </p:spTree>
  </p:cSld>
  <p:transition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3716280"/>
            <a:ext cx="46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Павел Ког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1918 – 1942 г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270" b="0"/>
          <a:stretch/>
        </p:blipFill>
        <p:spPr>
          <a:xfrm>
            <a:off x="4427640" y="1125360"/>
            <a:ext cx="4483080" cy="5113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6C5-8FAB-4B00-8036-43C0FC40B805}" type="slidenum">
              <a:t>6</a:t>
            </a:fld>
          </a:p>
        </p:txBody>
      </p:sp>
    </p:spTree>
  </p:cSld>
  <p:transition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3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4076640"/>
            <a:ext cx="36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Николай Май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1919-1942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98" b="0"/>
          <a:stretch/>
        </p:blipFill>
        <p:spPr>
          <a:xfrm>
            <a:off x="4643280" y="765000"/>
            <a:ext cx="4034160" cy="562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191-BFCC-4183-958D-769D45C09B27}" type="slidenum">
              <a:t>7</a:t>
            </a:fld>
          </a:p>
        </p:txBody>
      </p:sp>
    </p:spTree>
  </p:cSld>
  <p:transition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12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8920" y="4076640"/>
            <a:ext cx="309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Муса Джал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1906-1944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968640" cy="587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FEE-A82A-4890-BECB-74C7D7479C8B}" type="slidenum">
              <a:t>8</a:t>
            </a:fld>
          </a:p>
        </p:txBody>
      </p:sp>
    </p:spTree>
  </p:cSld>
  <p:transition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48" dur="7107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64000" y="549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Лирика военных л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948360" y="126828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3810240" cy="339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157464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0" r="10146" b="-172"/>
          <a:stretch/>
        </p:blipFill>
        <p:spPr>
          <a:xfrm>
            <a:off x="5292720" y="4338720"/>
            <a:ext cx="3851280" cy="25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523880" y="5467320"/>
            <a:ext cx="7620120" cy="1390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522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486-E6FF-4B47-863C-8A372FC4C1EF}" type="slidenum">
              <a:t>9</a:t>
            </a:fld>
          </a:p>
        </p:txBody>
      </p:sp>
    </p:spTree>
  </p:cSld>
  <p:transition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2.0)">
                                      <p:cBhvr>
                                        <p:cTn id="1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6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76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76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76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26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5:41:07Z</dcterms:created>
  <dc:creator>Дмитрий</dc:creator>
  <dc:description/>
  <dc:language>en-US</dc:language>
  <cp:lastModifiedBy>Fabre</cp:lastModifiedBy>
  <dcterms:modified xsi:type="dcterms:W3CDTF">2012-11-24T12:43:5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7000000000001024140</vt:lpwstr>
  </property>
</Properties>
</file>