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D09-CCEB-4538-9F6E-2845A0CE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329-F73B-4AB8-A9FA-A48721A6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832-0C16-4B56-9581-D49CFDE3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0B0-09CF-407D-B1EE-8EC9EEDC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1F12-C3E7-43BE-96A0-AA4FA015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CBEA-6460-400D-829F-D4CF493E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52CF-D29F-4E2B-B9A7-EF7A8122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3089-3B7C-43B6-B773-C6A9E5C7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333D-07E1-4CCE-97C0-315EEAD5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5FC5-B887-41CA-86BC-71E4F07B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0C5D-B6F6-49D7-BC7B-DE8C3C88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7CC-5DC0-400C-9FDF-286CB906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F441-1619-4E0B-A748-E2AB6BF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FACA-D505-4FD4-9217-BFFDE145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533B-000C-4CCE-96D2-E8A716C2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AC4B-A7ED-443B-9230-3A443777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67E4-17B6-46FA-8EFC-7F6A737B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ABC1-7484-4D97-A5D8-012F7840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6DF4-EB46-41FF-87E8-DD1C33A3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FB84-E0F4-49AE-BBAE-07CC72CF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80E4-248D-4E39-803F-AFCB98C2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0A54-8872-43AB-A9C9-65CC9770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B92-D024-4752-916B-FCE6E107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CD86-8B9A-42B1-9E4E-59A828A1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C24A-599C-402D-A70D-EE659C1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1845-EA87-4504-8C13-592E74B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4DCD-6BB9-4DC2-A5C4-1EB1024F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F617-F21A-493C-A571-DA22FF96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30BB-5872-49D2-A327-C2B5ED4E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B92B-7A6F-4045-A908-07011B5B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8A9-4273-4911-91BE-B2C64A88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735-3DD7-4BA3-A785-B688BD63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9BF-881C-4880-A575-6A6933C4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E10-1C63-40C2-AB6D-BE526A63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2D1-B17E-40C5-9218-B51A36A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341-DB4E-4629-A869-4997A38A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8" descr="литература 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82B-65E5-47B5-A3A3-A001EFB113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5C66-1860-47A0-BBC8-9033E88DC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8" descr="литератур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0474-451D-4218-B461-084CDC9EE50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23AF-5860-4F21-865D-08C74C98A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8" descr="литература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F6A3-0B21-4C9B-9E55-0191F69B2BD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DFB-EB72-4E92-B818-B4F594C86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050920" y="1628640"/>
            <a:ext cx="619632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mbria"/>
              </a:rPr>
              <a:t>Строка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mbria"/>
              </a:rPr>
              <a:t>оборванная пу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-172"/>
          <a:stretch/>
        </p:blipFill>
        <p:spPr>
          <a:xfrm>
            <a:off x="4643280" y="4076640"/>
            <a:ext cx="428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3880" y="5467320"/>
            <a:ext cx="7620120" cy="1390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EFB38-D13F-4C48-8350-244C71E087DE}" type="slidenum">
              <a:t>1</a:t>
            </a:fld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166920" y="476280"/>
            <a:ext cx="597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усть всех имен не назову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т кровнее род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потому ли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жи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 умерли о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м, им я обязан, знаю 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стойна будет жизнь мо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лдатской смерти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29"/>
          <a:stretch/>
        </p:blipFill>
        <p:spPr>
          <a:xfrm rot="1330800">
            <a:off x="-252000" y="188640"/>
            <a:ext cx="1954080" cy="3240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124000" y="3857760"/>
            <a:ext cx="5524560" cy="30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3055-7ADF-48D1-BE0B-9716C6EC29DC}" type="slidenum">
              <a:t>10</a:t>
            </a:fld>
          </a:p>
        </p:txBody>
      </p:sp>
    </p:spTree>
  </p:cSld>
  <p:transition>
    <p:randomBar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35280" y="981000"/>
            <a:ext cx="70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Свой добрый в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мы прож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Как люди</a:t>
            </a:r>
            <a:r>
              <a:rPr b="1" i="1" lang="uk-UA" sz="4000" spc="-1" strike="noStrike">
                <a:solidFill>
                  <a:srgbClr val="000000"/>
                </a:solidFill>
                <a:latin typeface="Arial Unicode MS"/>
              </a:rPr>
              <a:t> –</a:t>
            </a:r>
            <a:r>
              <a:rPr b="1" lang="uk-UA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 Unicode MS"/>
              </a:rPr>
              <a:t>и для люд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. Майор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29C8-6853-4B58-8712-703972DCF4AA}" type="slidenum">
              <a:t>2</a:t>
            </a:fld>
          </a:p>
        </p:txBody>
      </p:sp>
    </p:spTree>
  </p:cSld>
  <p:transition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184464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воспоминаньях мы тужить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е буд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чем тревожить грустью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сность дн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вой добрый в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ы прож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 люди 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87640" y="5805360"/>
            <a:ext cx="592452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4AE-B5BD-4DAC-982B-F0C43B03CA6E}" type="slidenum">
              <a:t>3</a:t>
            </a:fld>
          </a:p>
        </p:txBody>
      </p:sp>
    </p:spTree>
  </p:cSld>
  <p:transition>
    <p:randomBa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0" b="-79"/>
          <a:stretch/>
        </p:blipFill>
        <p:spPr>
          <a:xfrm>
            <a:off x="1908000" y="1844640"/>
            <a:ext cx="6828120" cy="468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20994000">
            <a:off x="179280" y="4149360"/>
            <a:ext cx="2194200" cy="228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A92-F17C-4046-8363-1699AA5775E1}" type="slidenum">
              <a:t>4</a:t>
            </a:fld>
          </a:p>
        </p:txBody>
      </p:sp>
    </p:spTree>
  </p:cSld>
  <p:transition>
    <p:randomBa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3716280"/>
            <a:ext cx="406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Всеволо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Багрицкий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1922 -1942г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130" b="0"/>
          <a:stretch/>
        </p:blipFill>
        <p:spPr>
          <a:xfrm>
            <a:off x="4606920" y="836640"/>
            <a:ext cx="4213080" cy="568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87" b="0"/>
          <a:stretch/>
        </p:blipFill>
        <p:spPr>
          <a:xfrm>
            <a:off x="250920" y="2205000"/>
            <a:ext cx="1087200" cy="26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D9A-3E4A-49F1-8753-E5AA26EEF4F3}" type="slidenum">
              <a:t>5</a:t>
            </a:fld>
          </a:p>
        </p:txBody>
      </p:sp>
    </p:spTree>
  </p:cSld>
  <p:transition>
    <p:randomBa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3716280"/>
            <a:ext cx="460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Arial"/>
              </a:rPr>
              <a:t>Павел Кога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Arial"/>
              </a:rPr>
              <a:t>1918 – 1942 г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270" b="0"/>
          <a:stretch/>
        </p:blipFill>
        <p:spPr>
          <a:xfrm>
            <a:off x="4427640" y="1125360"/>
            <a:ext cx="4483080" cy="5113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0" t="0" r="87" b="0"/>
          <a:stretch/>
        </p:blipFill>
        <p:spPr>
          <a:xfrm>
            <a:off x="250920" y="2205000"/>
            <a:ext cx="1087200" cy="2619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DB9-803E-41FB-B7E4-37F45A81E972}" type="slidenum">
              <a:t>6</a:t>
            </a:fld>
          </a:p>
        </p:txBody>
      </p:sp>
    </p:spTree>
  </p:cSld>
  <p:transition>
    <p:randomBa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03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4076640"/>
            <a:ext cx="36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Николай Май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1919-1942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98" b="0"/>
          <a:stretch/>
        </p:blipFill>
        <p:spPr>
          <a:xfrm>
            <a:off x="4643280" y="765000"/>
            <a:ext cx="4034160" cy="562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0" t="0" r="87" b="0"/>
          <a:stretch/>
        </p:blipFill>
        <p:spPr>
          <a:xfrm>
            <a:off x="250920" y="2205000"/>
            <a:ext cx="1087200" cy="261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866-619D-42CB-AD88-06EAFF28C255}" type="slidenum">
              <a:t>7</a:t>
            </a:fld>
          </a:p>
        </p:txBody>
      </p:sp>
    </p:spTree>
  </p:cSld>
  <p:transition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12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58920" y="4076640"/>
            <a:ext cx="309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Муса Джал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1906-1944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3968640" cy="587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87" b="0"/>
          <a:stretch/>
        </p:blipFill>
        <p:spPr>
          <a:xfrm>
            <a:off x="250920" y="2205000"/>
            <a:ext cx="1087200" cy="261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528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D46-5B73-46C8-AA09-47F0139DCF54}" type="slidenum">
              <a:t>8</a:t>
            </a:fld>
          </a:p>
        </p:txBody>
      </p:sp>
    </p:spTree>
  </p:cSld>
  <p:transition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148" dur="71072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64000" y="5493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Лирика военных л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948360" y="1268280"/>
            <a:ext cx="1905120" cy="2667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24000" y="1773360"/>
            <a:ext cx="3810240" cy="3390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1574640" cy="2362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0" t="0" r="10146" b="-172"/>
          <a:stretch/>
        </p:blipFill>
        <p:spPr>
          <a:xfrm>
            <a:off x="5292720" y="4338720"/>
            <a:ext cx="3851280" cy="251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523880" y="5467320"/>
            <a:ext cx="7620120" cy="1390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52236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943-8A9D-47BD-8BB9-9B24CDF47401}" type="slidenum">
              <a:t>9</a:t>
            </a:fld>
          </a:p>
        </p:txBody>
      </p:sp>
    </p:spTree>
  </p:cSld>
  <p:transition>
    <p:randomBa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2.0)">
                                      <p:cBhvr>
                                        <p:cTn id="1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6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76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76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76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26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5:41:07Z</dcterms:created>
  <dc:creator>Дмитрий</dc:creator>
  <dc:description/>
  <dc:language>en-US</dc:language>
  <cp:lastModifiedBy>Fabre</cp:lastModifiedBy>
  <dcterms:modified xsi:type="dcterms:W3CDTF">2012-11-24T12:43:57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17000000000001024140</vt:lpwstr>
  </property>
</Properties>
</file>