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5.jpeg" ContentType="image/jpeg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3.png" ContentType="image/png"/>
  <Override PartName="/ppt/media/image36.png" ContentType="image/png"/>
  <Override PartName="/ppt/media/image37.jpeg" ContentType="image/jpeg"/>
  <Override PartName="/ppt/media/image12.jpeg" ContentType="image/jpeg"/>
  <Override PartName="/ppt/media/image39.wmf" ContentType="image/x-wmf"/>
  <Override PartName="/ppt/media/image13.jpeg" ContentType="image/jpeg"/>
  <Override PartName="/ppt/media/image40.jpeg" ContentType="image/jpeg"/>
  <Override PartName="/ppt/media/image44.jpeg" ContentType="image/jpeg"/>
  <Override PartName="/ppt/media/image6.jpeg" ContentType="image/jpeg"/>
  <Override PartName="/ppt/media/image27.jpeg" ContentType="image/jpeg"/>
  <Override PartName="/ppt/media/image42.gif" ContentType="image/gif"/>
  <Override PartName="/ppt/media/image43.jpeg" ContentType="image/jpeg"/>
  <Override PartName="/ppt/media/image11.jpeg" ContentType="image/jpeg"/>
  <Override PartName="/ppt/media/image9.jpeg" ContentType="image/jpeg"/>
  <Override PartName="/ppt/media/image34.wmf" ContentType="image/x-wmf"/>
  <Override PartName="/ppt/media/image22.jpeg" ContentType="image/jpeg"/>
  <Override PartName="/ppt/media/image46.gif" ContentType="image/gif"/>
  <Override PartName="/ppt/media/image45.jpeg" ContentType="image/jpeg"/>
  <Override PartName="/ppt/media/image47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5.jpeg" ContentType="image/jpeg"/>
  <Override PartName="/ppt/media/image30.wmf" ContentType="image/x-wmf"/>
  <Override PartName="/ppt/media/image4.gif" ContentType="image/gif"/>
  <Override PartName="/ppt/media/image10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5A08-E2F3-4966-BBBF-B78BDF365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E806-DAA7-4417-B94E-0DF780473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AAD-B280-4C24-93F9-E760767C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FD1-0CF3-4293-AF17-529622C8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A94-5363-4922-8B8B-0DCDF952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0D0-5981-4B43-BD1C-B8B950F3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515-C2F5-473C-9731-8FCA76C1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061-E3E4-40A6-B337-3EEB08B4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509-35BD-42FC-83E6-804F7B49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728-ECED-425B-BD19-76BD46A1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A5E-C240-44AA-B8D8-33E0C582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1B8-F2BB-48D4-A6E6-5A8FC547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D07-DD27-4665-9CA9-E49D602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400-0AD4-4BDC-9D85-FCEAB0F4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BF0C-D6F7-4BD2-A4F9-1051752EE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4046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Я вас любил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0920" y="2133720"/>
            <a:ext cx="7072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Любовная ли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А.С.Пушк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"/>
          <p:cNvPicPr/>
          <p:nvPr/>
        </p:nvPicPr>
        <p:blipFill>
          <a:blip r:embed="rId2"/>
          <a:stretch/>
        </p:blipFill>
        <p:spPr>
          <a:xfrm>
            <a:off x="5072040" y="285840"/>
            <a:ext cx="3656160" cy="359712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0" y="3929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00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Вступление .wma" descr=""/>
          <p:cNvPicPr/>
          <p:nvPr/>
        </p:nvPicPr>
        <p:blipFill>
          <a:blip r:embed="rId3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76720" y="4149720"/>
            <a:ext cx="33112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 </a:t>
            </a:r>
            <a:br>
              <a:rPr sz="2000"/>
            </a:b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mso1FB2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14200" y="1357200"/>
            <a:ext cx="2689200" cy="3857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3643200" y="714240"/>
            <a:ext cx="405000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6" name="Text Box 4"/>
          <p:cNvSpPr/>
          <p:nvPr/>
        </p:nvSpPr>
        <p:spPr>
          <a:xfrm>
            <a:off x="2162520" y="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1825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400200" y="0"/>
            <a:ext cx="64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ушкин в Михайловс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4"/>
          <a:stretch/>
        </p:blipFill>
        <p:spPr>
          <a:xfrm>
            <a:off x="3000240" y="3214800"/>
            <a:ext cx="572148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9" name="TextBox 7"/>
          <p:cNvSpPr/>
          <p:nvPr/>
        </p:nvSpPr>
        <p:spPr>
          <a:xfrm>
            <a:off x="214200" y="5786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79280" y="1989000"/>
            <a:ext cx="89647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 километрах от Михайловского, на берегу реки Сороти, среди полей и лугов, находится Тригорское -  имение Осиповых-Вульф, соседей и друзей Пушкина. Впервые поэт посетил Тригорское летом 1817 года. Тогда он и познакомился с владелицей имения  Прасковьей Александровной Осиповой-Вульф, ее детьми. Поэт очень быстро оценил теплоту отношения к нему, участие в его жизни всех членов этой семьи. Он нашел в них  умных  и приятных собеседников, которым были не чужды и  литературные интересы. В Тригорском была большая библиотека, Пушкин перечитал в ней почти все книги. Тригорскому и его обитателям он посвятил стихотворения “Простите, верные дубравы”, “Цветы последние милей”,  “Если жизнь тебя обманет”, “Признание” и другие. В гостях у  Осиповых-Вульф часто бывала  их родственница А.П. Кер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й посвящено знаменитое стихотворение поэта “Я помню чудное мгновенье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565520" y="208080"/>
            <a:ext cx="4359240" cy="2511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43040" y="857160"/>
            <a:ext cx="3076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сти, Тригорское, где рад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ня встречала столько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толь узнал я вашу сладос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б навсегда покинуть вас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 вас беру воспомина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 сердце оставляю 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0" y="0"/>
            <a:ext cx="177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msoEDC00"/>
          <p:cNvPicPr/>
          <p:nvPr/>
        </p:nvPicPr>
        <p:blipFill>
          <a:blip r:embed="rId2"/>
          <a:stretch/>
        </p:blipFill>
        <p:spPr>
          <a:xfrm>
            <a:off x="2500200" y="3970440"/>
            <a:ext cx="5214960" cy="252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58760" y="136440"/>
            <a:ext cx="189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292200" y="6519960"/>
            <a:ext cx="31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С.Пушкин на берегу реки Сор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28760" y="1643040"/>
            <a:ext cx="400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ждую ночь гуляю я по саду и повторяю себе: она была здесь – камень, о который она споткнулась, лежит у меня на столе подле ветки увядшего гелиотропа, я пишу много стихов, все это очень похоже на любов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381240" y="1285920"/>
            <a:ext cx="419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дневниковых записей А.С. Пушк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4643280" y="285840"/>
            <a:ext cx="4108680" cy="32288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1"/>
          <p:cNvSpPr/>
          <p:nvPr/>
        </p:nvSpPr>
        <p:spPr>
          <a:xfrm>
            <a:off x="4714920" y="350028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ихайловское. Аллея Керн» А.Клим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780080" y="493560"/>
            <a:ext cx="3735360" cy="4761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4"/>
          <p:cNvSpPr/>
          <p:nvPr/>
        </p:nvSpPr>
        <p:spPr>
          <a:xfrm>
            <a:off x="285840" y="3429000"/>
            <a:ext cx="480384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«Воспоминаний» А.П.Кер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другой день я должна была уехать… Он пришел утром и на прощанье принес мне экземпляр 2-ой главы «Онегина», между листами которого я нашла вчетверо сложенный лист почтовой бумаги со стих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8760" y="136440"/>
            <a:ext cx="189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>
            <a:hlinkClick r:id="rId3" action="ppaction://hlinksldjump"/>
          </p:cNvPr>
          <p:cNvSpPr/>
          <p:nvPr/>
        </p:nvSpPr>
        <p:spPr>
          <a:xfrm>
            <a:off x="8001000" y="6286680"/>
            <a:ext cx="928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5292720" y="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928800" y="78588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8001000" y="6286680"/>
            <a:ext cx="928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ushkin__Ja_pomnju_chudnoe_mgnoven'e.mp3" descr=""/>
          <p:cNvPicPr/>
          <p:nvPr/>
        </p:nvPicPr>
        <p:blipFill>
          <a:blip r:embed="rId3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7760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Ф.М.Глинка</a:t>
            </a:r>
            <a:br>
              <a:rPr sz="4000"/>
            </a:br>
            <a:r>
              <a:rPr b="1" lang="en-US" sz="4000" spc="-1" strike="noStrike">
                <a:solidFill>
                  <a:srgbClr val="cc9900"/>
                </a:solidFill>
                <a:latin typeface="Monotype Corsiva"/>
              </a:rPr>
              <a:t>Я  помню  чудное  мгновенье…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роман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mso17B07"/>
          <p:cNvPicPr/>
          <p:nvPr/>
        </p:nvPicPr>
        <p:blipFill>
          <a:blip r:embed="rId2"/>
          <a:stretch/>
        </p:blipFill>
        <p:spPr>
          <a:xfrm>
            <a:off x="2530440" y="1609560"/>
            <a:ext cx="3747960" cy="416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QUILSCRL"/>
          <p:cNvPicPr/>
          <p:nvPr/>
        </p:nvPicPr>
        <p:blipFill>
          <a:blip r:embed="rId3">
            <a:grayscl/>
          </a:blip>
          <a:stretch/>
        </p:blipFill>
        <p:spPr>
          <a:xfrm flipH="1" rot="1360800">
            <a:off x="6329160" y="2952360"/>
            <a:ext cx="2344680" cy="328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en00580_"/>
          <p:cNvPicPr/>
          <p:nvPr/>
        </p:nvPicPr>
        <p:blipFill>
          <a:blip r:embed="rId4"/>
          <a:stretch/>
        </p:blipFill>
        <p:spPr>
          <a:xfrm rot="1966800">
            <a:off x="6921000" y="3458880"/>
            <a:ext cx="1725840" cy="10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QUILSCRL"/>
          <p:cNvPicPr/>
          <p:nvPr/>
        </p:nvPicPr>
        <p:blipFill>
          <a:blip r:embed="rId5">
            <a:grayscl/>
          </a:blip>
          <a:stretch/>
        </p:blipFill>
        <p:spPr>
          <a:xfrm rot="20793600">
            <a:off x="534600" y="3171960"/>
            <a:ext cx="2065320" cy="2998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9"/>
          <p:cNvSpPr/>
          <p:nvPr/>
        </p:nvSpPr>
        <p:spPr>
          <a:xfrm rot="20497200">
            <a:off x="843120" y="3627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я помню.mp3" descr=""/>
          <p:cNvPicPr/>
          <p:nvPr/>
        </p:nvPicPr>
        <p:blipFill>
          <a:blip r:embed="rId6"/>
          <a:stretch/>
        </p:blipFill>
        <p:spPr>
          <a:xfrm>
            <a:off x="285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9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9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9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34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14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11440" y="6149880"/>
            <a:ext cx="768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орма – поэтическая речь с ее ритмико-интонацио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порядочен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643720" y="5072040"/>
            <a:ext cx="2520720" cy="101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Об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d06340_"/>
          <p:cNvPicPr/>
          <p:nvPr/>
        </p:nvPicPr>
        <p:blipFill>
          <a:blip r:embed="rId2"/>
          <a:stretch/>
        </p:blipFill>
        <p:spPr>
          <a:xfrm>
            <a:off x="7572240" y="4572000"/>
            <a:ext cx="649440" cy="1457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5857920" y="2286000"/>
            <a:ext cx="295272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Впечат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3214800" y="26431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14200" y="2071800"/>
            <a:ext cx="298764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Явление приро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429000" y="221472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я на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787920" y="2714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500040" y="107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основе стихотворения – настроение, лирическое пере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7000920" y="31431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4929120" y="3714840"/>
            <a:ext cx="38880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Monotype Corsiva"/>
              </a:rPr>
              <a:t>Лирическое пере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1500120" y="8571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ним особенности лирики как рода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14240" y="214200"/>
            <a:ext cx="7786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9900"/>
                </a:solidFill>
                <a:latin typeface="Arial"/>
              </a:rPr>
              <a:t>Сегодняшний урок –это урок анализа лирического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7000920" y="4500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лан анализа стихотв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071720" y="1357200"/>
            <a:ext cx="6858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стория 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71720" y="200016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Жан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071720" y="250020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Тема, основной мотив, настроение, чув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071720" y="3071880"/>
            <a:ext cx="6858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Компози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071720" y="3643200"/>
            <a:ext cx="68580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зобразительные средства, т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071720" y="4786200"/>
            <a:ext cx="685800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Ритмическая организация сти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071720" y="5357880"/>
            <a:ext cx="685800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Вид рифм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071720" y="6000840"/>
            <a:ext cx="68580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Место и значение стихотворения в литератур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в творчестве поэта и в вашем читательском багаж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bd06340_"/>
          <p:cNvPicPr/>
          <p:nvPr/>
        </p:nvPicPr>
        <p:blipFill>
          <a:blip r:embed="rId2"/>
          <a:stretch/>
        </p:blipFill>
        <p:spPr>
          <a:xfrm>
            <a:off x="8096400" y="219240"/>
            <a:ext cx="828360" cy="1639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071720" y="4214880"/>
            <a:ext cx="68580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Идея, основ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071720" y="714240"/>
            <a:ext cx="68580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6633"/>
                </a:solidFill>
                <a:latin typeface="Arial"/>
              </a:rPr>
              <a:t>Чтение или прослушивание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324000" y="333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Monotype Corsiva"/>
              </a:rPr>
              <a:t>Жа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QUILSCRL"/>
          <p:cNvPicPr/>
          <p:nvPr/>
        </p:nvPicPr>
        <p:blipFill>
          <a:blip r:embed="rId2">
            <a:grayscl/>
          </a:blip>
          <a:stretch/>
        </p:blipFill>
        <p:spPr>
          <a:xfrm flipH="1" rot="1025400">
            <a:off x="6156360" y="260280"/>
            <a:ext cx="2302920" cy="355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2"/>
          <p:cNvSpPr/>
          <p:nvPr/>
        </p:nvSpPr>
        <p:spPr>
          <a:xfrm rot="1242600">
            <a:off x="7092360" y="620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17002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msoB1BCB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50920" y="3284640"/>
            <a:ext cx="3562200" cy="301284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sp>
        <p:nvSpPr>
          <p:cNvPr id="147" name="Text Box 19"/>
          <p:cNvSpPr/>
          <p:nvPr/>
        </p:nvSpPr>
        <p:spPr>
          <a:xfrm>
            <a:off x="534960" y="1700280"/>
            <a:ext cx="75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 какому поэтическому жанру относится стихотвор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м заключается тайна его наз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3966120" y="4149720"/>
            <a:ext cx="518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 послание. Поэт не назы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лного имени адресата не пото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 хочет сохранить его в тай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а потому, что за этим «К***» кро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браз всех возлюбл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браз женщины, требующий веч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кло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>
            <a:hlinkClick r:id="rId4" action="ppaction://hlinksldjump"/>
          </p:cNvPr>
          <p:cNvSpPr/>
          <p:nvPr/>
        </p:nvSpPr>
        <p:spPr>
          <a:xfrm>
            <a:off x="7572240" y="6286680"/>
            <a:ext cx="100044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79280" y="18900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468360" y="76320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м пишет поэт в своем посл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скольких встречах вспомин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651640" y="10944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1916280"/>
            <a:ext cx="511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 стихотворение о любви, в нем мы видим историю взаимоотношений А.С.Пушкина и А.П.Керн, две их встречи, разделенные г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mso776F3"/>
          <p:cNvPicPr/>
          <p:nvPr/>
        </p:nvPicPr>
        <p:blipFill>
          <a:blip r:embed="rId2"/>
          <a:stretch/>
        </p:blipFill>
        <p:spPr>
          <a:xfrm>
            <a:off x="539640" y="3645000"/>
            <a:ext cx="2338560" cy="29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любовную лирику А.С.Пушкина ,раскрыть благородство, красоту, искренность чувств поэ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казать об адресатах пушкинской лир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умение анализировать поэтическое произведение , творческое воображение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79280" y="18900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Тема</a:t>
            </a:r>
            <a:r>
              <a:rPr b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56320" y="692280"/>
            <a:ext cx="37940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события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С.Пушк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адываются в содерж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ихотвор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140360" y="0"/>
            <a:ext cx="3492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380360" y="33336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819г. Первая встреча с Кер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7479000" y="1341360"/>
            <a:ext cx="167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Молодой Пушк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в светс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Петербур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7652160" y="2490840"/>
            <a:ext cx="157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Романтиче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ю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7505280" y="3498840"/>
            <a:ext cx="152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Ссыл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в Михайлов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7499160" y="4724280"/>
            <a:ext cx="146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182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Новая встре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996633"/>
                </a:solidFill>
                <a:latin typeface="Arial"/>
              </a:rPr>
              <a:t>с Ке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95640" y="3860640"/>
            <a:ext cx="355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еред нами не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история любв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но и духовная биогра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э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>
            <a:hlinkClick r:id="rId2" action="ppaction://hlinksldjump"/>
          </p:cNvPr>
          <p:cNvSpPr/>
          <p:nvPr/>
        </p:nvSpPr>
        <p:spPr>
          <a:xfrm>
            <a:off x="500040" y="5143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-112680" y="-205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292720" y="0"/>
            <a:ext cx="34923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25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4788000" y="404640"/>
            <a:ext cx="288720" cy="1511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4788000" y="2565360"/>
            <a:ext cx="504720" cy="1655640"/>
          </a:xfrm>
          <a:custGeom>
            <a:avLst/>
            <a:gdLst>
              <a:gd name="textAreaLeft" fmla="*/ 322560 w 504720"/>
              <a:gd name="textAreaRight" fmla="*/ 505080 w 5047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4716360" y="4797360"/>
            <a:ext cx="432000" cy="1656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78200" y="5614920"/>
            <a:ext cx="50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омпозиционную основу стихотв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составляют не события жизни поэта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развитие лирического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-5040" y="549360"/>
            <a:ext cx="458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ите стихотворение на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м настроением проник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ая ча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116000" y="184464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1-я часть – счастье, восторг юношеской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022040" y="2990880"/>
            <a:ext cx="39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2-я часть – угасание любв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пустошение 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025640" y="4430880"/>
            <a:ext cx="414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3-я часть – счастье, востор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т ощущения полноты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0" y="836640"/>
            <a:ext cx="48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авните 1-ю и 5-ю строфы, 4-ю и 6-ю. Какой художественный прием использует  авто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какой целью он это 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859280" y="109440"/>
            <a:ext cx="349272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**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глуши, во мраке заточ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янулись тихо дни мо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божества, без вдохнов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слез, без жизни, без люб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ше настало пробуждень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вот опять явилась 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-112680" y="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Компози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8606880" y="404640"/>
            <a:ext cx="371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75120" y="3351240"/>
            <a:ext cx="4258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ушкин использует повт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закольцовывает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бы убедить нас в 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то любовь, способная 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еловеку высшее насла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жизнью, является ещ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имволом духов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оз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>
            <a:hlinkClick r:id="rId2" action="ppaction://hlinksldjump"/>
          </p:cNvPr>
          <p:cNvSpPr/>
          <p:nvPr/>
        </p:nvSpPr>
        <p:spPr>
          <a:xfrm>
            <a:off x="571680" y="585792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-306000" y="-20520"/>
            <a:ext cx="342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Изобразитель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вырази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291280" y="189000"/>
            <a:ext cx="385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мимолетное вид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79280" y="1484280"/>
            <a:ext cx="47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чем сравнивает поэт свою возлюбленну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эпитеты использует для создания ее обр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антите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5364000" y="1052640"/>
            <a:ext cx="288000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5435640" y="1341360"/>
            <a:ext cx="29527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7380360" y="2421000"/>
            <a:ext cx="1368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6588000" y="2708280"/>
            <a:ext cx="12970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179280" y="3211560"/>
            <a:ext cx="676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ушкин сравнивает возлюбленную с «мимолетным виденьем», с «гением чистой красоты». Ее «голос нежный» не сливается с житейским шумом, а «милые черты» являются ему во сне. Образ возлюбленной предельно обобщен, это не реальная женщина, а символ, божество. Она противопоставлена всему бренному: шуму и суете светской жизни, томленью безнадежной грусти. Она – чудо, та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mso17B07"/>
          <p:cNvPicPr/>
          <p:nvPr/>
        </p:nvPicPr>
        <p:blipFill>
          <a:blip r:embed="rId2"/>
          <a:stretch/>
        </p:blipFill>
        <p:spPr>
          <a:xfrm>
            <a:off x="6929280" y="2928960"/>
            <a:ext cx="1941840" cy="31431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sp>
        <p:nvSpPr>
          <p:cNvPr id="190" name="Line 20"/>
          <p:cNvSpPr/>
          <p:nvPr/>
        </p:nvSpPr>
        <p:spPr>
          <a:xfrm>
            <a:off x="6372360" y="549360"/>
            <a:ext cx="19447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>
            <a:hlinkClick r:id="rId3" action="ppaction://hlinksldjump"/>
          </p:cNvPr>
          <p:cNvSpPr/>
          <p:nvPr/>
        </p:nvSpPr>
        <p:spPr>
          <a:xfrm>
            <a:off x="5716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0" y="0"/>
            <a:ext cx="17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Monotype Corsiva"/>
              </a:rPr>
              <a:t>Идея, основная мыс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mso8FA73"/>
          <p:cNvPicPr/>
          <p:nvPr/>
        </p:nvPicPr>
        <p:blipFill>
          <a:blip r:embed="rId2"/>
          <a:stretch/>
        </p:blipFill>
        <p:spPr>
          <a:xfrm>
            <a:off x="120600" y="1484280"/>
            <a:ext cx="3371760" cy="489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4" name="Text Box 7"/>
          <p:cNvSpPr/>
          <p:nvPr/>
        </p:nvSpPr>
        <p:spPr>
          <a:xfrm>
            <a:off x="217656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476360" y="333360"/>
            <a:ext cx="68929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 говорит о любв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еще составляет для него полноту бы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358520" y="1484280"/>
            <a:ext cx="348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ердце бьется в упо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для него воскресли вн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божество, и вдохновень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жизнь, и слезы, и люб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511080" y="3429000"/>
            <a:ext cx="563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 стихотворении Пушкина тема люб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овместилась с темой твор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вдохновения. Послание содержит в с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глубокое раздумье о жизни, о рад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творчества, о чувстве полноты быт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оторое невозможно без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>
            <a:hlinkClick r:id="rId3" action="ppaction://hlinksldjump"/>
          </p:cNvPr>
          <p:cNvSpPr/>
          <p:nvPr/>
        </p:nvSpPr>
        <p:spPr>
          <a:xfrm>
            <a:off x="7429680" y="53578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2914920" y="331560"/>
            <a:ext cx="4530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помню чудное мгновень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`-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-  `- 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- /   - `- 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о мной явилась 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- / -    `-/  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/-   `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мимолетное виденье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 -/ - `-/  -- 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`- /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гений чистой крас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 `-/ -  `-/  -    - / - `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bd06340_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635960" y="1428840"/>
            <a:ext cx="1249200" cy="28033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9"/>
          <p:cNvSpPr/>
          <p:nvPr/>
        </p:nvSpPr>
        <p:spPr>
          <a:xfrm>
            <a:off x="16560" y="-20520"/>
            <a:ext cx="24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Рит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стиха (ри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0"/>
          <p:cNvSpPr txBox="1"/>
          <p:nvPr/>
        </p:nvSpPr>
        <p:spPr>
          <a:xfrm rot="5400000">
            <a:off x="-172440" y="2958120"/>
            <a:ext cx="3744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1">
              <a:avLst>
                <a:gd name="adj1" fmla="val 0"/>
                <a:gd name="adj2" fmla="val -1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9966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Ямб</a:t>
            </a:r>
            <a:endParaRPr b="1" i="1" lang="en-US" sz="1600" spc="1" strike="noStrike">
              <a:ln w="9360">
                <a:solidFill>
                  <a:srgbClr val="996633"/>
                </a:solidFill>
                <a:miter/>
              </a:ln>
              <a:solidFill>
                <a:srgbClr val="9966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9220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424800" y="5286240"/>
            <a:ext cx="824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Четырехстопный ямб с частым пропуском ударения как 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совпадает с дыханием влюбленного героя, помог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ередать чувство восхищения, совпадает с ритмом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>
            <a:hlinkClick r:id="rId3" action="ppaction://hlinksldjump"/>
          </p:cNvPr>
          <p:cNvSpPr/>
          <p:nvPr/>
        </p:nvSpPr>
        <p:spPr>
          <a:xfrm>
            <a:off x="78580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-183240" y="-9360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рифм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3"/>
          <p:cNvSpPr/>
          <p:nvPr/>
        </p:nvSpPr>
        <p:spPr>
          <a:xfrm>
            <a:off x="1547640" y="763200"/>
            <a:ext cx="4810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омленьях грусти безнадежн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тревогах шумной суе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вучал мне долго голос неж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снились мил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ли годы. Бурь порыв мятеж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сеял прежние меч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я забыл твой голос неж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вои небесн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5"/>
          <p:cNvSpPr/>
          <p:nvPr/>
        </p:nvSpPr>
        <p:spPr>
          <a:xfrm>
            <a:off x="6227640" y="981000"/>
            <a:ext cx="503280" cy="1295640"/>
          </a:xfrm>
          <a:custGeom>
            <a:avLst/>
            <a:gdLst>
              <a:gd name="textAreaLeft" fmla="*/ 0 w 503280"/>
              <a:gd name="textAreaRight" fmla="*/ 353160 w 503280"/>
              <a:gd name="textAreaTop" fmla="*/ 84960 h 1295640"/>
              <a:gd name="textAreaBottom" fmla="*/ 1210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17"/>
                  <a:pt x="21600" y="2834"/>
                </a:cubicBezTo>
                <a:lnTo>
                  <a:pt x="21600" y="18766"/>
                </a:lnTo>
                <a:cubicBezTo>
                  <a:pt x="21600" y="20183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6"/>
          <p:cNvSpPr/>
          <p:nvPr/>
        </p:nvSpPr>
        <p:spPr>
          <a:xfrm>
            <a:off x="5508720" y="1628640"/>
            <a:ext cx="863640" cy="1295640"/>
          </a:xfrm>
          <a:custGeom>
            <a:avLst/>
            <a:gdLst>
              <a:gd name="textAreaLeft" fmla="*/ 0 w 863640"/>
              <a:gd name="textAreaRight" fmla="*/ 605880 w 863640"/>
              <a:gd name="textAreaTop" fmla="*/ 92520 h 1295640"/>
              <a:gd name="textAreaBottom" fmla="*/ 1203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43"/>
                  <a:pt x="21600" y="3086"/>
                </a:cubicBezTo>
                <a:lnTo>
                  <a:pt x="21600" y="18514"/>
                </a:lnTo>
                <a:cubicBezTo>
                  <a:pt x="21600" y="20057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7"/>
          <p:cNvSpPr/>
          <p:nvPr/>
        </p:nvSpPr>
        <p:spPr>
          <a:xfrm>
            <a:off x="6227640" y="3789360"/>
            <a:ext cx="360360" cy="1224000"/>
          </a:xfrm>
          <a:custGeom>
            <a:avLst/>
            <a:gdLst>
              <a:gd name="textAreaLeft" fmla="*/ 0 w 360360"/>
              <a:gd name="textAreaRight" fmla="*/ 252720 w 360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8"/>
          <p:cNvSpPr/>
          <p:nvPr/>
        </p:nvSpPr>
        <p:spPr>
          <a:xfrm>
            <a:off x="5651640" y="4437000"/>
            <a:ext cx="792000" cy="1295640"/>
          </a:xfrm>
          <a:custGeom>
            <a:avLst/>
            <a:gdLst>
              <a:gd name="textAreaLeft" fmla="*/ 0 w 792000"/>
              <a:gd name="textAreaRight" fmla="*/ 555480 w 79200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8388360" y="333360"/>
            <a:ext cx="43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П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крест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Рифмов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3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297360" y="5872320"/>
            <a:ext cx="819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Поэт использует перекрестную женскую и мужскую риф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Она делает стихотворение еще более гармонич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>
            <a:hlinkClick r:id="rId2" action="ppaction://hlinksldjump"/>
          </p:cNvPr>
          <p:cNvSpPr/>
          <p:nvPr/>
        </p:nvSpPr>
        <p:spPr>
          <a:xfrm>
            <a:off x="7858080" y="6286680"/>
            <a:ext cx="100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Arial"/>
              </a:rPr>
              <a:t>К пла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-243360" y="79200"/>
            <a:ext cx="43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Значение стихотво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в творчестве поэ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Monotype Corsiva"/>
              </a:rPr>
              <a:t>в литературе, в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1916280"/>
            <a:ext cx="3821400" cy="45860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4214880" y="1571760"/>
            <a:ext cx="4929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«Я помню чудное мгновенье»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это, безусловно, один из шедевров пушкинской, русской и мировой любовной лирики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Не случайно это стихотворение стало роман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Композитор Ф.И.Глинка, влюбленный в дочь А.П.Керн, воспроизвел в музыке торжество радости и восторг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Script MT Bold"/>
              </a:rPr>
              <a:t>Анна Алексеевна Олени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200px-Anna_Olenina_by_Kiprensky"/>
          <p:cNvPicPr/>
          <p:nvPr/>
        </p:nvPicPr>
        <p:blipFill>
          <a:blip r:embed="rId2"/>
          <a:stretch/>
        </p:blipFill>
        <p:spPr>
          <a:xfrm>
            <a:off x="468360" y="1484280"/>
            <a:ext cx="3516120" cy="4678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6920" y="2701800"/>
            <a:ext cx="4825800" cy="24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Я вас любил так искренно, так не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Как дай вам бог любимой быть друг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2487600" cy="3384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424980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dcb9"/>
              </a:gs>
              <a:gs pos="100000">
                <a:srgbClr val="ffffff"/>
              </a:gs>
            </a:gsLst>
            <a:lin ang="13500000"/>
          </a:gradFill>
          <a:ln w="76320">
            <a:solidFill>
              <a:srgbClr val="ff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В Москве в церкви Большого Вознесения на Малой Никитской Пушкин 18 февраля 1831 года обвенчался – и счастлив ;одно желание м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800000"/>
                </a:solidFill>
                <a:latin typeface="Monotype Corsiva"/>
              </a:rPr>
              <a:t>«Я женат, чтоб ничего в жизни моей не изменилось – лучшего не дождусь.Это состояние  для   меня так ново ,что кажется я переродился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3" descr=""/>
          <p:cNvPicPr/>
          <p:nvPr/>
        </p:nvPicPr>
        <p:blipFill>
          <a:blip r:embed="rId3"/>
          <a:stretch/>
        </p:blipFill>
        <p:spPr>
          <a:xfrm rot="4819200">
            <a:off x="6234120" y="206856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3" descr=""/>
          <p:cNvPicPr/>
          <p:nvPr/>
        </p:nvPicPr>
        <p:blipFill>
          <a:blip r:embed="rId4"/>
          <a:stretch/>
        </p:blipFill>
        <p:spPr>
          <a:xfrm>
            <a:off x="4643280" y="404640"/>
            <a:ext cx="4179960" cy="4896000"/>
          </a:xfrm>
          <a:prstGeom prst="rect">
            <a:avLst/>
          </a:prstGeom>
          <a:ln w="76320">
            <a:solidFill>
              <a:srgbClr val="ffcccc"/>
            </a:solidFill>
            <a:miter/>
          </a:ln>
        </p:spPr>
      </p:pic>
      <p:sp>
        <p:nvSpPr>
          <p:cNvPr id="226" name=""/>
          <p:cNvSpPr txBox="1"/>
          <p:nvPr/>
        </p:nvSpPr>
        <p:spPr>
          <a:xfrm>
            <a:off x="3419640" y="5589720"/>
            <a:ext cx="50958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 я  женат -  и  счастлив..."</a:t>
            </a:r>
            <a:endParaRPr b="0" lang="en-US" sz="16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743280" cy="4635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29" name="Rectangle 3" descr=""/>
          <p:cNvPicPr/>
          <p:nvPr/>
        </p:nvPicPr>
        <p:blipFill>
          <a:blip r:embed="rId3"/>
          <a:stretch/>
        </p:blipFill>
        <p:spPr>
          <a:xfrm>
            <a:off x="4859280" y="836640"/>
            <a:ext cx="3697200" cy="4608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30" name="Rectangle 3" descr=""/>
          <p:cNvPicPr/>
          <p:nvPr/>
        </p:nvPicPr>
        <p:blipFill>
          <a:blip r:embed="rId4"/>
          <a:stretch/>
        </p:blipFill>
        <p:spPr>
          <a:xfrm>
            <a:off x="2268360" y="5950080"/>
            <a:ext cx="3762720" cy="600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92720" y="291600"/>
            <a:ext cx="3394080" cy="248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Script MT Bold"/>
              </a:rPr>
              <a:t>Наталья Николаевна Гонча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b3f5a263034e"/>
          <p:cNvPicPr/>
          <p:nvPr/>
        </p:nvPicPr>
        <p:blipFill>
          <a:blip r:embed="rId2"/>
          <a:stretch/>
        </p:blipFill>
        <p:spPr>
          <a:xfrm>
            <a:off x="539640" y="549360"/>
            <a:ext cx="4581720" cy="57052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6720" y="299736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Тебя мне ниспослал, тебя, моя Мадо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99"/>
                </a:solidFill>
                <a:latin typeface="Arial"/>
              </a:rPr>
              <a:t>Чистейший прелести чистейший образ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4964040" cy="6078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ся к защите реферата на одну из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и теа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ы П.И.Чайковского на сюжеты пушкинских произве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и ба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1128600" y="0"/>
            <a:ext cx="611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87487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40000" y="1844280"/>
            <a:ext cx="432108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Души моей царицы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n133_kern_anna-03"/>
          <p:cNvPicPr/>
          <p:nvPr/>
        </p:nvPicPr>
        <p:blipFill>
          <a:blip r:embed="rId2"/>
          <a:stretch/>
        </p:blipFill>
        <p:spPr>
          <a:xfrm>
            <a:off x="7326360" y="0"/>
            <a:ext cx="1817640" cy="251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ult55_1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4929120" y="4786200"/>
            <a:ext cx="1905120" cy="1857600"/>
          </a:xfrm>
          <a:prstGeom prst="rect">
            <a:avLst/>
          </a:prstGeom>
          <a:ln w="9360">
            <a:solidFill>
              <a:srgbClr val="ffffff"/>
            </a:solidFill>
            <a:prstDash val="sysDot"/>
            <a:miter/>
          </a:ln>
        </p:spPr>
      </p:pic>
      <p:pic>
        <p:nvPicPr>
          <p:cNvPr id="67" name="Picture 6" descr="D:\Documents and Settings\Myrzik\Рабочий стол\Рисунок1.GIF"/>
          <p:cNvPicPr/>
          <p:nvPr/>
        </p:nvPicPr>
        <p:blipFill>
          <a:blip r:embed="rId4"/>
          <a:stretch/>
        </p:blipFill>
        <p:spPr>
          <a:xfrm>
            <a:off x="428760" y="571680"/>
            <a:ext cx="408600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RIA-098436"/>
          <p:cNvPicPr/>
          <p:nvPr/>
        </p:nvPicPr>
        <p:blipFill>
          <a:blip r:embed="rId2"/>
          <a:stretch/>
        </p:blipFill>
        <p:spPr>
          <a:xfrm>
            <a:off x="7308720" y="1844640"/>
            <a:ext cx="1627200" cy="25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b3f5a263034e"/>
          <p:cNvPicPr/>
          <p:nvPr/>
        </p:nvPicPr>
        <p:blipFill>
          <a:blip r:embed="rId3"/>
          <a:stretch/>
        </p:blipFill>
        <p:spPr>
          <a:xfrm>
            <a:off x="468360" y="1197000"/>
            <a:ext cx="173520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84ae8a13b9ac"/>
          <p:cNvPicPr/>
          <p:nvPr/>
        </p:nvPicPr>
        <p:blipFill>
          <a:blip r:embed="rId4"/>
          <a:stretch/>
        </p:blipFill>
        <p:spPr>
          <a:xfrm>
            <a:off x="5867280" y="333360"/>
            <a:ext cx="174168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797596533_tonnel"/>
          <p:cNvPicPr/>
          <p:nvPr/>
        </p:nvPicPr>
        <p:blipFill>
          <a:blip r:embed="rId5"/>
          <a:stretch/>
        </p:blipFill>
        <p:spPr>
          <a:xfrm>
            <a:off x="2124000" y="333360"/>
            <a:ext cx="1709640" cy="21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4cd2a5281f4f"/>
          <p:cNvPicPr/>
          <p:nvPr/>
        </p:nvPicPr>
        <p:blipFill>
          <a:blip r:embed="rId6"/>
          <a:stretch/>
        </p:blipFill>
        <p:spPr>
          <a:xfrm>
            <a:off x="2050920" y="3141720"/>
            <a:ext cx="1698840" cy="216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200px-Anna_Olenina_by_Kiprensky"/>
          <p:cNvPicPr/>
          <p:nvPr/>
        </p:nvPicPr>
        <p:blipFill>
          <a:blip r:embed="rId7"/>
          <a:stretch/>
        </p:blipFill>
        <p:spPr>
          <a:xfrm>
            <a:off x="539640" y="4076640"/>
            <a:ext cx="1622520" cy="215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elena"/>
          <p:cNvPicPr/>
          <p:nvPr/>
        </p:nvPicPr>
        <p:blipFill>
          <a:blip r:embed="rId8"/>
          <a:stretch/>
        </p:blipFill>
        <p:spPr>
          <a:xfrm>
            <a:off x="6659640" y="4221000"/>
            <a:ext cx="1662120" cy="215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10"/>
          <p:cNvPicPr/>
          <p:nvPr/>
        </p:nvPicPr>
        <p:blipFill>
          <a:blip r:embed="rId9"/>
          <a:stretch/>
        </p:blipFill>
        <p:spPr>
          <a:xfrm>
            <a:off x="3635280" y="1844640"/>
            <a:ext cx="27068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Script MT Bold"/>
              </a:rPr>
              <a:t>Елизавета Ксаверьевна Воронцо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84ae8a13b9ac"/>
          <p:cNvPicPr/>
          <p:nvPr/>
        </p:nvPicPr>
        <p:blipFill>
          <a:blip r:embed="rId2"/>
          <a:stretch/>
        </p:blipFill>
        <p:spPr>
          <a:xfrm>
            <a:off x="5092560" y="1413000"/>
            <a:ext cx="3756240" cy="4659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475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Прощай, письмо любви! прощай: она вел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Как долго медлил я! как долго не хо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Рука предать огню все радости мои!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Но полно, час настал. Гори, письмо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85840" y="1643040"/>
            <a:ext cx="853596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омая Пушкина. Урожденная Полторацкая, племянн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А. Осип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настоянию отца она в семнадцать лет была выдана замуж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пятидесятидвухлетнего бригадного генерала Е.Ф. Кер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Анна Петровна оставила му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ней весной 1819 года А.П. Керн приехала в Петербург и в доме ее родственников Олениных познакомилась с девятнадцатилетним Пушки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ом 1825 года Анна Петровна неожиданно приехала в Тригорское к Прасковье Александровне Осиповой. Анна Петровна находилась в Тригорском около месяца и почти ежедневно встречалась с Пушкиным. Поэт пережил сильное увлечение Керн и свои чувства к ней описал в строках стихотворения "Я помню чудное мгновенье".Встречи с Керн надолго запомнились Пушкину. Завязалась перепи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лись они и позднее в Петербурге - в обществе А.А. Дельвига, сестры Пушкина и его родителей. Идеальный образ Керн, рожденный воображением поэта, постепенно становится реальным, но отношения между ними продолжают оставаться дружескими. Она в курсе его творческих планов и литературных занятий и с неизменным интересом следит за его жиз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смерти мужа Анна Петровна связала свою судьбу с человеком, которого любила. Была счастлива, хотя и жила в бе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своей судьбе, о дружбе с Пушкиным и другими писателями его круга Керн рассказала в своих "Воспоминаниях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 -  Трудно было с ним вдруг сблизиться; он был очень неровен в обращении: то шумно весел, то грустен, то нескончаемо робок, то дерзок, то нескончаемо любезен, то утомительно скучен, и нельзя было угадать, в каком он будет расположении духа через минуту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 - В поступках он всегда был добр и великодушен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983600" y="767520"/>
            <a:ext cx="33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Керн Ан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(1800 - 18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58760" y="136440"/>
            <a:ext cx="196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Monotype Corsiva"/>
              </a:rPr>
              <a:t>создания стихо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5851440" y="-6480"/>
            <a:ext cx="2421000" cy="295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09:02:11Z</dcterms:created>
  <dc:creator>-</dc:creator>
  <dc:description/>
  <dc:language>en-US</dc:language>
  <cp:lastModifiedBy>Sergei</cp:lastModifiedBy>
  <dcterms:modified xsi:type="dcterms:W3CDTF">2010-02-28T19:48:15Z</dcterms:modified>
  <cp:revision>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27000000000001024140</vt:lpwstr>
  </property>
</Properties>
</file>