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3.png" ContentType="image/png"/>
  <Override PartName="/ppt/media/image36.png" ContentType="image/png"/>
  <Override PartName="/ppt/media/image37.jpeg" ContentType="image/jpeg"/>
  <Override PartName="/ppt/media/image12.jpeg" ContentType="image/jpeg"/>
  <Override PartName="/ppt/media/image39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6.jpeg" ContentType="image/jpeg"/>
  <Override PartName="/ppt/media/image27.jpeg" ContentType="image/jpeg"/>
  <Override PartName="/ppt/media/image42.gif" ContentType="image/gif"/>
  <Override PartName="/ppt/media/image43.jpeg" ContentType="image/jpeg"/>
  <Override PartName="/ppt/media/image11.jpeg" ContentType="image/jpeg"/>
  <Override PartName="/ppt/media/image9.jpeg" ContentType="image/jpeg"/>
  <Override PartName="/ppt/media/image34.wmf" ContentType="image/x-wmf"/>
  <Override PartName="/ppt/media/image22.jpeg" ContentType="image/jpeg"/>
  <Override PartName="/ppt/media/image46.gif" ContentType="image/gif"/>
  <Override PartName="/ppt/media/image45.jpeg" ContentType="image/jpeg"/>
  <Override PartName="/ppt/media/image4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30.wmf" ContentType="image/x-wmf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135-CA11-46A4-8F2F-74148E887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0DFB-F04A-485B-B500-A09AFAC3F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20-706D-49C6-B1D2-B136F0E9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582-7D37-48EA-B034-F20DFBF6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6A5-7DE2-4462-AD51-339AC96B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814-250C-4064-85B8-10AA3287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87D-93F1-403E-B3FB-0A2514C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42A-AB9B-4710-91E5-D966065D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B95-F63F-4F7D-AEE5-ABC9EF3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032-512E-4FC3-BF9E-8D653B6A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EDE-805B-4CF0-8DEF-13B55F9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838-6DE3-4B35-A652-4E2AFBE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33C-D2B2-426F-84CE-E70F2BD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8CC-1055-495B-A481-2891914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080-FF76-4349-BDDA-E2E502EBB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40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Я вас люб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0920" y="2133720"/>
            <a:ext cx="70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ная ли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.С.Пушк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656160" cy="359712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0" y="3929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Вступление .wma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mso1FB2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1357200"/>
            <a:ext cx="2689200" cy="385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3643200" y="714240"/>
            <a:ext cx="405000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6" name="Text Box 4"/>
          <p:cNvSpPr/>
          <p:nvPr/>
        </p:nvSpPr>
        <p:spPr>
          <a:xfrm>
            <a:off x="2162520" y="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1825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400200" y="0"/>
            <a:ext cx="64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ушкин в Михайло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572148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9" name="TextBox 7"/>
          <p:cNvSpPr/>
          <p:nvPr/>
        </p:nvSpPr>
        <p:spPr>
          <a:xfrm>
            <a:off x="214200" y="5786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1989000"/>
            <a:ext cx="8964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километрах от Михайловского, на берегу реки Сороти, среди полей и лугов, находится Тригорское -  имение Осиповых-Вульф, соседей и друзей Пушкина. Впервые поэт посетил Тригорское летом 1817 года. Тогда он и познакомился с владелицей имения  Прасковьей Александровной Осиповой-Вульф, ее детьми. Поэт очень быстро оценил теплоту отношения к нему, участие в его жизни всех членов этой семьи. Он нашел в них  умных  и приятных собеседников, которым были не чужды и  литературные интересы. В Тригорском была большая библиотека, Пушкин перечитал в ней почти все книги. Тригорскому и его обитателям он посвятил стихотворения “Простите, верные дубравы”, “Цветы последние милей”,  “Если жизнь тебя обманет”, “Признание” и другие. В гостях у  Осиповых-Вульф часто бывала  их родственница А.П. Кер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й посвящено знаменитое стихотворение поэта “Я помню чудное мгновень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65520" y="208080"/>
            <a:ext cx="4359240" cy="251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43040" y="857160"/>
            <a:ext cx="307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и, Тригорское, где 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ня встречала столько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толь узнал я вашу сладос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 навсегда покинуть ва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вас беру воспомин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 сердце оставляю 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0" y="0"/>
            <a:ext cx="177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soEDC00"/>
          <p:cNvPicPr/>
          <p:nvPr/>
        </p:nvPicPr>
        <p:blipFill>
          <a:blip r:embed="rId2"/>
          <a:stretch/>
        </p:blipFill>
        <p:spPr>
          <a:xfrm>
            <a:off x="2500200" y="3970440"/>
            <a:ext cx="52149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92200" y="6519960"/>
            <a:ext cx="31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С.Пушкин на берегу реки Сор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28760" y="1643040"/>
            <a:ext cx="400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ждую ночь гуляю я по саду и повторяю себе: она была здесь – камень, о который она споткнулась, лежит у меня на столе подле ветки увядшего гелиотропа, я пишу много стихов, все это очень похоже на любов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81240" y="1285920"/>
            <a:ext cx="41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дневниковых записей А.С. Пушк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4643280" y="285840"/>
            <a:ext cx="4108680" cy="32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714920" y="35002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ихайловское. Аллея Керн» А.Кли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780080" y="493560"/>
            <a:ext cx="3735360" cy="476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85840" y="3429000"/>
            <a:ext cx="480384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Воспоминаний» А.П.Кер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ругой день я должна была уехать… Он пришел утром и на прощанье принес мне экземпляр 2-ой главы «Онегина», между листами которого я нашла вчетверо сложенный лист почтовой бумаги со стих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>
            <a:hlinkClick r:id="rId3" action="ppaction://hlinksldjump"/>
          </p:cNvPr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ushkin__Ja_pomnju_chudnoe_mgnoven'e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76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Ф.М.Глинка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Monotype Corsiva"/>
              </a:rPr>
              <a:t>Я  помню  чудное  мгновенье…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рома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so17B07"/>
          <p:cNvPicPr/>
          <p:nvPr/>
        </p:nvPicPr>
        <p:blipFill>
          <a:blip r:embed="rId2"/>
          <a:stretch/>
        </p:blipFill>
        <p:spPr>
          <a:xfrm>
            <a:off x="2530440" y="1609560"/>
            <a:ext cx="3747960" cy="416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UILSCRL"/>
          <p:cNvPicPr/>
          <p:nvPr/>
        </p:nvPicPr>
        <p:blipFill>
          <a:blip r:embed="rId3">
            <a:grayscl/>
          </a:blip>
          <a:stretch/>
        </p:blipFill>
        <p:spPr>
          <a:xfrm flipH="1" rot="1360800">
            <a:off x="6329160" y="2952360"/>
            <a:ext cx="234468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en00580_"/>
          <p:cNvPicPr/>
          <p:nvPr/>
        </p:nvPicPr>
        <p:blipFill>
          <a:blip r:embed="rId4"/>
          <a:stretch/>
        </p:blipFill>
        <p:spPr>
          <a:xfrm rot="1966800">
            <a:off x="6921000" y="3458880"/>
            <a:ext cx="1725840" cy="10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QUILSCRL"/>
          <p:cNvPicPr/>
          <p:nvPr/>
        </p:nvPicPr>
        <p:blipFill>
          <a:blip r:embed="rId5">
            <a:grayscl/>
          </a:blip>
          <a:stretch/>
        </p:blipFill>
        <p:spPr>
          <a:xfrm rot="20793600">
            <a:off x="534600" y="3171960"/>
            <a:ext cx="2065320" cy="299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 rot="20497200">
            <a:off x="843120" y="362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я помню.mp3" descr=""/>
          <p:cNvPicPr/>
          <p:nvPr/>
        </p:nvPicPr>
        <p:blipFill>
          <a:blip r:embed="rId6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9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9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9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4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4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11440" y="6149880"/>
            <a:ext cx="76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орма – поэтическая речь с ее ритмико-интон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орядоч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643720" y="5072040"/>
            <a:ext cx="2520720" cy="101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Об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d06340_"/>
          <p:cNvPicPr/>
          <p:nvPr/>
        </p:nvPicPr>
        <p:blipFill>
          <a:blip r:embed="rId2"/>
          <a:stretch/>
        </p:blipFill>
        <p:spPr>
          <a:xfrm>
            <a:off x="7572240" y="4572000"/>
            <a:ext cx="649440" cy="1457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5857920" y="228600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Впечат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214800" y="26431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14200" y="2071800"/>
            <a:ext cx="298764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Явление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29000" y="221472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на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787920" y="2714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00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основе стихотворения – настроение, лирическое 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00920" y="31431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29120" y="3714840"/>
            <a:ext cx="3888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Лирическое пере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500120" y="857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м особенности лирики как рода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4240" y="214200"/>
            <a:ext cx="7786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00"/>
                </a:solidFill>
                <a:latin typeface="Arial"/>
              </a:rPr>
              <a:t>Сегодняшний урок –это урок анализа лирическ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7000920" y="4500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лан анализа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71720" y="135720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стория 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71720" y="200016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Жан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071720" y="2500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Тема, основной мотив, настроение, чув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071720" y="3071880"/>
            <a:ext cx="6858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Ком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71720" y="3643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зобразительные средства, 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71720" y="4786200"/>
            <a:ext cx="68580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Ритмическая организация ст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071720" y="5357880"/>
            <a:ext cx="6858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ид рифм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071720" y="6000840"/>
            <a:ext cx="68580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Место и значение стихотворения в литерату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 творчестве поэта и в вашем читательском багаж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d06340_"/>
          <p:cNvPicPr/>
          <p:nvPr/>
        </p:nvPicPr>
        <p:blipFill>
          <a:blip r:embed="rId2"/>
          <a:stretch/>
        </p:blipFill>
        <p:spPr>
          <a:xfrm>
            <a:off x="8096400" y="219240"/>
            <a:ext cx="828360" cy="163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071720" y="4214880"/>
            <a:ext cx="68580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дея, основ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71424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Чтение или прослушивание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324000" y="33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Monotype Corsiva"/>
              </a:rPr>
              <a:t>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QUILSCRL"/>
          <p:cNvPicPr/>
          <p:nvPr/>
        </p:nvPicPr>
        <p:blipFill>
          <a:blip r:embed="rId2">
            <a:grayscl/>
          </a:blip>
          <a:stretch/>
        </p:blipFill>
        <p:spPr>
          <a:xfrm flipH="1" rot="1025400">
            <a:off x="6156360" y="260280"/>
            <a:ext cx="2302920" cy="35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 rot="1242600">
            <a:off x="7092360" y="62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17002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msoB1BCB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50920" y="3284640"/>
            <a:ext cx="3562200" cy="301284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47" name="Text Box 19"/>
          <p:cNvSpPr/>
          <p:nvPr/>
        </p:nvSpPr>
        <p:spPr>
          <a:xfrm>
            <a:off x="534960" y="1700280"/>
            <a:ext cx="75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какому поэтическому жанру относится стихотвор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м заключается тайна его наз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66120" y="4149720"/>
            <a:ext cx="51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послание. Поэт не н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лного имени адресата не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хочет сохранить его в тай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а потому, что за этим «К***» кро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всех возлюбл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женщины, требующий ве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кло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>
            <a:hlinkClick r:id="rId4" action="ppaction://hlinksldjump"/>
          </p:cNvPr>
          <p:cNvSpPr/>
          <p:nvPr/>
        </p:nvSpPr>
        <p:spPr>
          <a:xfrm>
            <a:off x="7572240" y="6286680"/>
            <a:ext cx="10004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468360" y="7632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ишет поэт в своем посл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кольких встречах вспоми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651640" y="10944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91628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стихотворение о любви, в нем мы видим историю взаимоотношений А.С.Пушкина и А.П.Керн, две их встречи, разделенные г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mso776F3"/>
          <p:cNvPicPr/>
          <p:nvPr/>
        </p:nvPicPr>
        <p:blipFill>
          <a:blip r:embed="rId2"/>
          <a:stretch/>
        </p:blipFill>
        <p:spPr>
          <a:xfrm>
            <a:off x="539640" y="3645000"/>
            <a:ext cx="233856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юбовную лирику А.С.Пушкина ,раскрыть благородство, красоту, искренность чувств поэ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ать об адресатах пушкинской ли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поэтическое произведение , творческое воображе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</a:t>
            </a:r>
            <a:r>
              <a:rPr b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6320" y="692280"/>
            <a:ext cx="3794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обытия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адываются в содерж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140360" y="0"/>
            <a:ext cx="3492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380360" y="33336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19г. Первая встреча с Кер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7479000" y="1341360"/>
            <a:ext cx="167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Молодой Пушк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свет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652160" y="249084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Роман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05280" y="3498840"/>
            <a:ext cx="152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сы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499160" y="4724280"/>
            <a:ext cx="146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2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Новая встре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 К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95640" y="386064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 нами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история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о и духовная 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>
            <a:hlinkClick r:id="rId2" action="ppaction://hlinksldjump"/>
          </p:cNvPr>
          <p:cNvSpPr/>
          <p:nvPr/>
        </p:nvSpPr>
        <p:spPr>
          <a:xfrm>
            <a:off x="500040" y="5143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-112680" y="-205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788000" y="404640"/>
            <a:ext cx="288720" cy="1511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4788000" y="2565360"/>
            <a:ext cx="504720" cy="1655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716360" y="479736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8200" y="5614920"/>
            <a:ext cx="50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омпозиционную основу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составляют не события жизни поэт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развитие лирического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-5040" y="549360"/>
            <a:ext cx="45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 стихотворение на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м настроением проник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116000" y="1844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-я часть – счастье, восторг юношеской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022040" y="2990880"/>
            <a:ext cx="39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-я часть – угасание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пустошение 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025640" y="4430880"/>
            <a:ext cx="41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3-я часть – счастье, восто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т ощущения полнот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836640"/>
            <a:ext cx="48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 1-ю и 5-ю строфы, 4-ю и 6-ю. Какой художественный прием использует  авто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 он э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59280" y="109440"/>
            <a:ext cx="349272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-112680" y="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06880" y="404640"/>
            <a:ext cx="37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75120" y="3351240"/>
            <a:ext cx="4258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использует по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закольцовывает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бы убедить нас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любовь, способная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ловеку высшее насла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жизнью, является ещ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имволом дух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оз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>
            <a:hlinkClick r:id="rId2" action="ppaction://hlinksldjump"/>
          </p:cNvPr>
          <p:cNvSpPr/>
          <p:nvPr/>
        </p:nvSpPr>
        <p:spPr>
          <a:xfrm>
            <a:off x="571680" y="585792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-306000" y="-20520"/>
            <a:ext cx="34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зобразите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выраз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291280" y="189000"/>
            <a:ext cx="38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148428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чем сравнивает поэт свою возлюбленн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эпитеты использует для создания ее об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анти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5364000" y="1052640"/>
            <a:ext cx="28800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5435640" y="1341360"/>
            <a:ext cx="2952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7380360" y="2421000"/>
            <a:ext cx="1368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6588000" y="2708280"/>
            <a:ext cx="12970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79280" y="3211560"/>
            <a:ext cx="67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сравнивает возлюбленную с «мимолетным виденьем», с «гением чистой красоты». Ее «голос нежный» не сливается с житейским шумом, а «милые черты» являются ему во сне. Образ возлюбленной предельно обобщен, это не реальная женщина, а символ, божество. Она противопоставлена всему бренному: шуму и суете светской жизни, томленью безнадежной грусти. Она – чудо, т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mso17B07"/>
          <p:cNvPicPr/>
          <p:nvPr/>
        </p:nvPicPr>
        <p:blipFill>
          <a:blip r:embed="rId2"/>
          <a:stretch/>
        </p:blipFill>
        <p:spPr>
          <a:xfrm>
            <a:off x="6929280" y="2928960"/>
            <a:ext cx="1941840" cy="314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190" name="Line 20"/>
          <p:cNvSpPr/>
          <p:nvPr/>
        </p:nvSpPr>
        <p:spPr>
          <a:xfrm>
            <a:off x="6372360" y="549360"/>
            <a:ext cx="1944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>
            <a:hlinkClick r:id="rId3" action="ppaction://hlinksldjump"/>
          </p:cNvPr>
          <p:cNvSpPr/>
          <p:nvPr/>
        </p:nvSpPr>
        <p:spPr>
          <a:xfrm>
            <a:off x="5716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0"/>
            <a:ext cx="17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дея, основная мы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so8FA73"/>
          <p:cNvPicPr/>
          <p:nvPr/>
        </p:nvPicPr>
        <p:blipFill>
          <a:blip r:embed="rId2"/>
          <a:stretch/>
        </p:blipFill>
        <p:spPr>
          <a:xfrm>
            <a:off x="120600" y="1484280"/>
            <a:ext cx="3371760" cy="48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4" name="Text Box 7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476360" y="333360"/>
            <a:ext cx="6892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 говорит о любв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еще составляет для него полноту бы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358520" y="1484280"/>
            <a:ext cx="348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511080" y="3429000"/>
            <a:ext cx="563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 стихотворении Пушкина тема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местилась с темой твор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дохновения. Послание содержит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глубокое раздумье о жизни, о рад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творчества, о чувстве полноты быт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торое невозможно без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>
            <a:hlinkClick r:id="rId3" action="ppaction://hlinksldjump"/>
          </p:cNvPr>
          <p:cNvSpPr/>
          <p:nvPr/>
        </p:nvSpPr>
        <p:spPr>
          <a:xfrm>
            <a:off x="7429680" y="53578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2914920" y="331560"/>
            <a:ext cx="453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-  `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- /   - `- 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- / -    `-/ 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/-  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мимолетное видень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 -/ - `-/  -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 /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`-/ -  `-/  -    - / -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bd06340_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5960" y="1428840"/>
            <a:ext cx="1249200" cy="2803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16560" y="-20520"/>
            <a:ext cx="24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т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тиха (ри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0"/>
          <p:cNvSpPr txBox="1"/>
          <p:nvPr/>
        </p:nvSpPr>
        <p:spPr>
          <a:xfrm rot="5400000">
            <a:off x="-172440" y="2958120"/>
            <a:ext cx="374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-1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Ямб</a:t>
            </a:r>
            <a:endParaRPr b="1" i="1" lang="en-US" sz="16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9220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24800" y="5286240"/>
            <a:ext cx="824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тырехстопный ямб с частым пропуском ударения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падает с дыханием влюбленного героя,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ать чувство восхищения, совпадает с ритмом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>
            <a:hlinkClick r:id="rId3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-183240" y="-9360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фм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547640" y="763200"/>
            <a:ext cx="481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6227640" y="981000"/>
            <a:ext cx="503280" cy="1295640"/>
          </a:xfrm>
          <a:custGeom>
            <a:avLst/>
            <a:gdLst>
              <a:gd name="textAreaLeft" fmla="*/ 0 w 503280"/>
              <a:gd name="textAreaRight" fmla="*/ 353160 w 503280"/>
              <a:gd name="textAreaTop" fmla="*/ 84960 h 1295640"/>
              <a:gd name="textAreaBottom" fmla="*/ 1210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17"/>
                  <a:pt x="21600" y="2834"/>
                </a:cubicBezTo>
                <a:lnTo>
                  <a:pt x="21600" y="18766"/>
                </a:lnTo>
                <a:cubicBezTo>
                  <a:pt x="21600" y="20183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/>
          <p:cNvSpPr/>
          <p:nvPr/>
        </p:nvSpPr>
        <p:spPr>
          <a:xfrm>
            <a:off x="5508720" y="1628640"/>
            <a:ext cx="863640" cy="1295640"/>
          </a:xfrm>
          <a:custGeom>
            <a:avLst/>
            <a:gdLst>
              <a:gd name="textAreaLeft" fmla="*/ 0 w 863640"/>
              <a:gd name="textAreaRight" fmla="*/ 605880 w 863640"/>
              <a:gd name="textAreaTop" fmla="*/ 92520 h 1295640"/>
              <a:gd name="textAreaBottom" fmla="*/ 1203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43"/>
                  <a:pt x="21600" y="3086"/>
                </a:cubicBezTo>
                <a:lnTo>
                  <a:pt x="21600" y="18514"/>
                </a:lnTo>
                <a:cubicBezTo>
                  <a:pt x="21600" y="20057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6227640" y="3789360"/>
            <a:ext cx="360360" cy="1224000"/>
          </a:xfrm>
          <a:custGeom>
            <a:avLst/>
            <a:gdLst>
              <a:gd name="textAreaLeft" fmla="*/ 0 w 360360"/>
              <a:gd name="textAreaRight" fmla="*/ 252720 w 360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8"/>
          <p:cNvSpPr/>
          <p:nvPr/>
        </p:nvSpPr>
        <p:spPr>
          <a:xfrm>
            <a:off x="5651640" y="4437000"/>
            <a:ext cx="792000" cy="1295640"/>
          </a:xfrm>
          <a:custGeom>
            <a:avLst/>
            <a:gdLst>
              <a:gd name="textAreaLeft" fmla="*/ 0 w 792000"/>
              <a:gd name="textAreaRight" fmla="*/ 555480 w 79200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8388360" y="333360"/>
            <a:ext cx="43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П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крес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Рифмов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97360" y="5872320"/>
            <a:ext cx="81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 использует перекрестную женскую и мужскую риф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на делает стихотворение еще более гармони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>
            <a:hlinkClick r:id="rId2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243360" y="7920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Значение стихотв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творчестве поэ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литературе, в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1916280"/>
            <a:ext cx="3821400" cy="4586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214880" y="15717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«Я помню чудное мгновенье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, безусловно, один из шедевров пушкинской, русской и мировой любовной лирики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е случайно это стихотворение стало роман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мпозитор Ф.И.Глинка, влюбленный в дочь А.П.Керн, воспроизвел в музыке торжество радости и восторг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Script MT Bold"/>
              </a:rPr>
              <a:t>Анна Алексеевна Олен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200px-Anna_Olenina_by_Kiprensky"/>
          <p:cNvPicPr/>
          <p:nvPr/>
        </p:nvPicPr>
        <p:blipFill>
          <a:blip r:embed="rId2"/>
          <a:stretch/>
        </p:blipFill>
        <p:spPr>
          <a:xfrm>
            <a:off x="468360" y="1484280"/>
            <a:ext cx="3516120" cy="467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6920" y="2701800"/>
            <a:ext cx="482580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487600" cy="3384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424980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cb9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В Москве в церкви Большого Вознесения на Малой Никитской Пушкин 18 февраля 1831 года обвенчался – и счастлив ;одно желание м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«Я женат, чтоб ничего в жизни моей не изменилось – лучшего не дождусь.Это состояние  для   меня так ново ,что кажется я переродился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3"/>
          <a:stretch/>
        </p:blipFill>
        <p:spPr>
          <a:xfrm rot="4819200">
            <a:off x="6234120" y="206856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4"/>
          <a:stretch/>
        </p:blipFill>
        <p:spPr>
          <a:xfrm>
            <a:off x="4643280" y="404640"/>
            <a:ext cx="4179960" cy="4896000"/>
          </a:xfrm>
          <a:prstGeom prst="rect">
            <a:avLst/>
          </a:prstGeom>
          <a:ln w="76320">
            <a:solidFill>
              <a:srgbClr val="ffcccc"/>
            </a:solidFill>
            <a:miter/>
          </a:ln>
        </p:spPr>
      </p:pic>
      <p:sp>
        <p:nvSpPr>
          <p:cNvPr id="226" name=""/>
          <p:cNvSpPr txBox="1"/>
          <p:nvPr/>
        </p:nvSpPr>
        <p:spPr>
          <a:xfrm>
            <a:off x="3419640" y="5589720"/>
            <a:ext cx="5095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 я  женат -  и  счастлив..."</a:t>
            </a:r>
            <a:endParaRPr b="0" lang="en-US" sz="16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43280" cy="463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29" name="Rectangle 3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69720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30" name="Rectangle 3" descr=""/>
          <p:cNvPicPr/>
          <p:nvPr/>
        </p:nvPicPr>
        <p:blipFill>
          <a:blip r:embed="rId4"/>
          <a:stretch/>
        </p:blipFill>
        <p:spPr>
          <a:xfrm>
            <a:off x="2268360" y="5950080"/>
            <a:ext cx="376272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92720" y="291600"/>
            <a:ext cx="3394080" cy="24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Script MT Bold"/>
              </a:rPr>
              <a:t>Наталья Николаевна Гонча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3f5a263034e"/>
          <p:cNvPicPr/>
          <p:nvPr/>
        </p:nvPicPr>
        <p:blipFill>
          <a:blip r:embed="rId2"/>
          <a:stretch/>
        </p:blipFill>
        <p:spPr>
          <a:xfrm>
            <a:off x="539640" y="549360"/>
            <a:ext cx="4581720" cy="5705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720" y="299736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Тебя мне ниспослал, тебя, моя Мад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Чистейший прелести чистейший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964040" cy="6078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защите реферата на одну из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теа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ы П.И.Чайковского на сюжеты пушкинск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128600" y="0"/>
            <a:ext cx="611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87487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40000" y="1844280"/>
            <a:ext cx="43210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Души моей царицы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133_kern_anna-03"/>
          <p:cNvPicPr/>
          <p:nvPr/>
        </p:nvPicPr>
        <p:blipFill>
          <a:blip r:embed="rId2"/>
          <a:stretch/>
        </p:blipFill>
        <p:spPr>
          <a:xfrm>
            <a:off x="7326360" y="0"/>
            <a:ext cx="1817640" cy="251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ult55_1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929120" y="4786200"/>
            <a:ext cx="1905120" cy="18576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pic>
        <p:nvPicPr>
          <p:cNvPr id="67" name="Picture 6" descr="D:\Documents and Settings\Myrzik\Рабочий стол\Рисунок1.GIF"/>
          <p:cNvPicPr/>
          <p:nvPr/>
        </p:nvPicPr>
        <p:blipFill>
          <a:blip r:embed="rId4"/>
          <a:stretch/>
        </p:blipFill>
        <p:spPr>
          <a:xfrm>
            <a:off x="428760" y="571680"/>
            <a:ext cx="4086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RIA-098436"/>
          <p:cNvPicPr/>
          <p:nvPr/>
        </p:nvPicPr>
        <p:blipFill>
          <a:blip r:embed="rId2"/>
          <a:stretch/>
        </p:blipFill>
        <p:spPr>
          <a:xfrm>
            <a:off x="7308720" y="1844640"/>
            <a:ext cx="16272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3f5a263034e"/>
          <p:cNvPicPr/>
          <p:nvPr/>
        </p:nvPicPr>
        <p:blipFill>
          <a:blip r:embed="rId3"/>
          <a:stretch/>
        </p:blipFill>
        <p:spPr>
          <a:xfrm>
            <a:off x="468360" y="1197000"/>
            <a:ext cx="173520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4ae8a13b9ac"/>
          <p:cNvPicPr/>
          <p:nvPr/>
        </p:nvPicPr>
        <p:blipFill>
          <a:blip r:embed="rId4"/>
          <a:stretch/>
        </p:blipFill>
        <p:spPr>
          <a:xfrm>
            <a:off x="5867280" y="33336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797596533_tonnel"/>
          <p:cNvPicPr/>
          <p:nvPr/>
        </p:nvPicPr>
        <p:blipFill>
          <a:blip r:embed="rId5"/>
          <a:stretch/>
        </p:blipFill>
        <p:spPr>
          <a:xfrm>
            <a:off x="2124000" y="333360"/>
            <a:ext cx="170964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4cd2a5281f4f"/>
          <p:cNvPicPr/>
          <p:nvPr/>
        </p:nvPicPr>
        <p:blipFill>
          <a:blip r:embed="rId6"/>
          <a:stretch/>
        </p:blipFill>
        <p:spPr>
          <a:xfrm>
            <a:off x="2050920" y="3141720"/>
            <a:ext cx="169884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00px-Anna_Olenina_by_Kiprensky"/>
          <p:cNvPicPr/>
          <p:nvPr/>
        </p:nvPicPr>
        <p:blipFill>
          <a:blip r:embed="rId7"/>
          <a:stretch/>
        </p:blipFill>
        <p:spPr>
          <a:xfrm>
            <a:off x="539640" y="4076640"/>
            <a:ext cx="16225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elena"/>
          <p:cNvPicPr/>
          <p:nvPr/>
        </p:nvPicPr>
        <p:blipFill>
          <a:blip r:embed="rId8"/>
          <a:stretch/>
        </p:blipFill>
        <p:spPr>
          <a:xfrm>
            <a:off x="6659640" y="4221000"/>
            <a:ext cx="1662120" cy="21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10"/>
          <p:cNvPicPr/>
          <p:nvPr/>
        </p:nvPicPr>
        <p:blipFill>
          <a:blip r:embed="rId9"/>
          <a:stretch/>
        </p:blipFill>
        <p:spPr>
          <a:xfrm>
            <a:off x="3635280" y="1844640"/>
            <a:ext cx="27068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Script MT Bold"/>
              </a:rPr>
              <a:t>Елизавета Ксаверьевна Воронц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84ae8a13b9ac"/>
          <p:cNvPicPr/>
          <p:nvPr/>
        </p:nvPicPr>
        <p:blipFill>
          <a:blip r:embed="rId2"/>
          <a:stretch/>
        </p:blipFill>
        <p:spPr>
          <a:xfrm>
            <a:off x="5092560" y="1413000"/>
            <a:ext cx="3756240" cy="46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475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рощай, письмо любви! прощай: она вел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долго медлил я! как долго не хо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Рука предать огню все радости мои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о полно, час настал. Гори, письм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85840" y="1643040"/>
            <a:ext cx="85359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ая Пушкина. Урожденная Полторацкая, племянн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А. Осип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астоянию отца она в семнадцать лет была выдана заму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ятидесятидвухлетнего бригадного генерала Е.Ф. Кер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Анна Петровна оставила му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ей весной 1819 года А.П. Керн приехала в Петербург и в доме ее родственников Олениных познакомилась с девятнадцатилетним Пушки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1825 года Анна Петровна неожиданно приехала в Тригорское к Прасковье Александровне Осиповой. Анна Петровна находилась в Тригорском около месяца и почти ежедневно встречалась с Пушкиным. Поэт пережил сильное увлечение Керн и свои чувства к ней описал в строках стихотворения "Я помню чудное мгновенье".Встречи с Керн надолго запомнились Пушкину. Завязалась перепи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лись они и позднее в Петербурге - в обществе А.А. Дельвига, сестры Пушкина и его родителей. Идеальный образ Керн, рожденный воображением поэта, постепенно становится реальным, но отношения между ними продолжают оставаться дружескими. Она в курсе его творческих планов и литературных занятий и с неизменным интересом следит за его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смерти мужа Анна Петровна связала свою судьбу с человеком, которого любила. Была счастлива, хотя и жила в бе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воей судьбе, о дружбе с Пушкиным и другими писателями его круга Керн рассказала в своих "Воспоминаниях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 Трудно было с ним вдруг сблизиться; он был очень неровен в обращении: то шумно весел, то грустен, то нескончаемо робок, то дерзок, то нескончаемо любезен, то утомительно скучен, и нельзя было угадать, в каком он будет расположении духа через минуту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В поступках он всегда был добр и великодушен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83600" y="7675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Керн Ан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(1800 - 1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58760" y="13644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5851440" y="-6480"/>
            <a:ext cx="24210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9:02:11Z</dcterms:created>
  <dc:creator>-</dc:creator>
  <dc:description/>
  <dc:language>en-US</dc:language>
  <cp:lastModifiedBy>Sergei</cp:lastModifiedBy>
  <dcterms:modified xsi:type="dcterms:W3CDTF">2010-02-28T19:48:15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7000000000001024140</vt:lpwstr>
  </property>
</Properties>
</file>