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6E3-CED2-4E56-B3F5-E9AC6000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CD6-8D34-49E9-B88C-220167FF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90D-C6FD-4E18-AD6D-B5A4BFA7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D9A-8CA0-4734-8C17-D4A5DA5E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079-58C4-4732-BF38-7FA24CB8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853-1004-428D-8369-3A2AD835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C57-1E36-4249-8426-0805B985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D55-E1CF-4314-BC2A-262F4139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78E-6484-4C74-996D-8301B66E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18EC-C904-4523-9D75-C80A5D90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254-B4BD-4AAD-9508-EEF23BC6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3EA-EB6F-419F-9746-D0209597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FF2A-45EE-4E5B-922D-78C486DBE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2565000"/>
            <a:ext cx="701676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628640"/>
            <a:ext cx="817236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ма: Басни И.А.Крылова как творческое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95640" y="4149720"/>
            <a:ext cx="5041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следие потомкам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ресный короткий занимательный сюж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о опис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 диало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роев обычно нескольк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вный герой выражает основную иде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роями являются животные, растения, вещи, птицы, ры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сни обычно пишутся в стихотворной фор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ьзуется прием иносказ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чале или в конце сформулирован вывод-мора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меиваются человеческие по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42920" y="692280"/>
            <a:ext cx="705816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собенности басен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8002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л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ло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глу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безнрав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невеж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хвастов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050920" y="1052640"/>
            <a:ext cx="5042160" cy="1172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сни высмеиваю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др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трудолюб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усерд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ч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добр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отзыв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благород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благод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добывать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050920" y="620640"/>
            <a:ext cx="5040360" cy="88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му учат басн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2998800" cy="395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1162800">
            <a:off x="539640" y="1341000"/>
            <a:ext cx="1886040" cy="2546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 rot="1076400">
            <a:off x="356760" y="4268880"/>
            <a:ext cx="2087640" cy="1919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 rot="20490000">
            <a:off x="6227640" y="1341360"/>
            <a:ext cx="2178000" cy="290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50040" y="201600"/>
            <a:ext cx="75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ие басни проиллюстриров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47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йствующие лиц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инь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уб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рон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828720" y="333360"/>
            <a:ext cx="784872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сценировка басн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.А.Крылова «Свинья под дубом»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4248360" cy="3695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Что такое басн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Кто первый начал писать бас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Что такое иносказа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Кто лучший баснописец Росс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Назовите особенности басен( не меньше пя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Что высмеивают бас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Назовите басни И.А. Крылова( не меньше пя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Что такое мораль бас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Назовите «крылатые» слова из ба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Прочитайте наизусть одну басню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63640" y="333360"/>
            <a:ext cx="4392720" cy="17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ст – вопросник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овершенствовать известные знания, расширить 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вершенствовать умение выразительно и осознанно чит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ктивизировать и расширить словарный запас учащихся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беспечить в ходе урока закрепление следующих понятий: басня, иносказание, мораль, «крылатые» сл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действовать воспитанию нравственных качеств у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оспитывать положительное отношение к честным, благородным, добрым поступ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вивать умение анализировать, сравнивать, сопоставлять, обобщать, делать вы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действовать воспитанию конкурентно-способн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5640" y="260280"/>
            <a:ext cx="2448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и: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Краткий иносказательный нравоучительный рассказ, стихо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Обычно вымысел, выдумка, пустой разговор(из словаря С.И.Ожего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асн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ымышленное происшествие, выдумка, рассказ ради красного словца; иносказательное, поучительное повествование, притча, где принято выводить животных и даже вещи словесными; ложь, пустословие. Например: Полно басни сказывать, берись за дело (из словаря В.Дал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20776800">
            <a:off x="2626920" y="691920"/>
            <a:ext cx="43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БАС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ворчество                  И.А.Кры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й стране есть свои баснописцы. В России лучшим считается И.А.Кры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 Андреевич Крылов, родился в Москве 2 февраля 176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семье бедного дворянина, а после смерти отца, который оставил ему в наследство солдатский сундучок с книгами,  жил со своей матерью в глубокой нищете. Умер 21 ноября 1844 г. в Санкт- Петербур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535280" cy="626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Жизнь Крылова с детства сложилась так, что ему не пришлось учиться в школе. Но стремление к образованию у него было настолько сильным, что он самоучкой овладел языками, математикой и стал высокообразованным для своего времени человеком. Сначала прошлого века Крылов входит в литературу как создатель русской басни. Первая книга его басни вышла когда ему было 40 лет. А всего он создал более 200 ба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992840" y="333360"/>
            <a:ext cx="3900240" cy="6191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откуда же к нам пришли бас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много ис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вым кто стал использовать приём иносказание, а иносказание- это когда изображают животных, а имеют в виду людей- был Эз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 жил в Древней Греции около 3000 лет назад, Эзоп был рабом и не мог открыто смеяться над людьми обладающие властью, он рассказывал истории,  который якобы случались с животными. И хотя все понимали, что речь идет о людях, никто не мог обвинить Эзопа в том, что, он выслеживает неприглядные поступки определённого человека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608360" cy="63356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сих пор, иносказательную речь называют Эзоповым языком. Читая басни, мы будем учиться понимать Эзопов язык. Мно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сни Эзопа стали известны Российским читателям благодаря переводам Крылова. Он наделил их русскими чертами, вложил в их уста русскую народную реч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832720" cy="437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843280" y="981000"/>
            <a:ext cx="34574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346800" y="3789360"/>
            <a:ext cx="2292480" cy="269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88000" y="836640"/>
            <a:ext cx="2232000" cy="2617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68360" y="4292640"/>
            <a:ext cx="223200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916360" y="4149720"/>
            <a:ext cx="3041640" cy="2325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324000" y="907920"/>
            <a:ext cx="2286000" cy="3143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2520" y="189000"/>
            <a:ext cx="91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овите известные вам басни И.А.Крылова по обложкам кн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9:17:04Z</dcterms:created>
  <dc:creator>STALKER</dc:creator>
  <dc:description/>
  <dc:language>en-US</dc:language>
  <cp:lastModifiedBy>Эд</cp:lastModifiedBy>
  <dcterms:modified xsi:type="dcterms:W3CDTF">2012-06-04T15:21:08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a000000000001024140</vt:lpwstr>
  </property>
</Properties>
</file>