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D24-DB2D-45B9-8ABA-2EFF5CDB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3AD-EF38-4564-8C0B-7DE495AF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B81-2585-4E29-808A-AA93D32F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7FA-8E58-4635-85C3-FE19A163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BAE-7F88-426D-B67A-36E06561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C5D-1001-4C22-A781-EB799F19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399-7A14-49B7-AF9B-A2509C6C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47F-5461-4238-BE2E-EE90D375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208-2F48-46A7-954D-03C8E658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B04-8976-4055-B6E1-5A4B395B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449-94EE-4753-8A7E-4C17F7EC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5C2-437D-4ACD-9A44-92A4018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764F-EEAD-4E0D-B5F3-87187AD29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d0d0d"/>
                </a:solidFill>
                <a:latin typeface="Monotype Corsiva"/>
                <a:ea typeface="Times New Roman"/>
              </a:rPr>
              <a:t>Г.Х. Андерсен </a:t>
            </a:r>
            <a:br>
              <a:rPr sz="7200"/>
            </a:br>
            <a:r>
              <a:rPr b="1" lang="ru-RU" sz="7200" spc="-1" strike="noStrike">
                <a:solidFill>
                  <a:srgbClr val="0d0d0d"/>
                </a:solidFill>
                <a:latin typeface="Monotype Corsiva"/>
                <a:ea typeface="Times New Roman"/>
              </a:rPr>
              <a:t>«Снежная королев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7" descr="k5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07labdn6g1235829830.jpg"/>
          <p:cNvPicPr/>
          <p:nvPr/>
        </p:nvPicPr>
        <p:blipFill>
          <a:blip r:embed="rId2"/>
          <a:srcRect l="0" t="0" r="-69" b="17"/>
          <a:stretch/>
        </p:blipFill>
        <p:spPr>
          <a:xfrm>
            <a:off x="428760" y="285840"/>
            <a:ext cx="8358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Изучение нового материа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126098187955221748.jpg"/>
          <p:cNvPicPr/>
          <p:nvPr/>
        </p:nvPicPr>
        <p:blipFill>
          <a:blip r:embed="rId1"/>
          <a:stretch/>
        </p:blipFill>
        <p:spPr>
          <a:xfrm>
            <a:off x="428760" y="1714680"/>
            <a:ext cx="82864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med_gallery_802_3783_78289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k7.jpg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Koroleva13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11084657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0_2a3a6_57a604dd_L.jpeg"/>
          <p:cNvPicPr/>
          <p:nvPr/>
        </p:nvPicPr>
        <p:blipFill>
          <a:blip r:embed="rId1"/>
          <a:stretch/>
        </p:blipFill>
        <p:spPr>
          <a:xfrm>
            <a:off x="428760" y="50004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978-5-353-04360-7_9-500x500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med_gallery_802_3783_12880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.Х. Андерсе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Снежная королева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бота над 4-7й сказ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:\0_69e68_43d527ed_XL.jpeg"/>
          <p:cNvPicPr/>
          <p:nvPr/>
        </p:nvPicPr>
        <p:blipFill>
          <a:blip r:embed="rId1"/>
          <a:srcRect l="0" t="0" r="0" b="-1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:\2728545_068_16.jpg"/>
          <p:cNvPicPr/>
          <p:nvPr/>
        </p:nvPicPr>
        <p:blipFill>
          <a:blip r:embed="rId1"/>
          <a:srcRect l="0" t="0" r="-14" b="-23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:\16461_01.jpg"/>
          <p:cNvPicPr/>
          <p:nvPr/>
        </p:nvPicPr>
        <p:blipFill>
          <a:blip r:embed="rId1"/>
          <a:srcRect l="0" t="0" r="-59" b="-31"/>
          <a:stretch/>
        </p:blipFill>
        <p:spPr>
          <a:xfrm>
            <a:off x="428760" y="28584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:\6401804_d46a3af6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:\53964758_1263825857_ar3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:\k112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:\37239476_ar2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:\12851717522956841952.jpg"/>
          <p:cNvPicPr/>
          <p:nvPr/>
        </p:nvPicPr>
        <p:blipFill>
          <a:blip r:embed="rId1"/>
          <a:srcRect l="0" t="0" r="62" b="31"/>
          <a:stretch/>
        </p:blipFill>
        <p:spPr>
          <a:xfrm>
            <a:off x="42876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7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карту, ответь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 на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мне понравилось в характере Герды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Цели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должить работу над содержанием сказки «Снежная королева»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вершенствовать навыки  составления характеристики героя по его поступкам и поведен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вать навыки выразительного чтения и реч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ывать нравственную ли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овторяем ранее изученно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46107713_35164098.jpg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485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176ca2ddd057t.jpg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k3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53964752_1263825949_ar16.jpg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35164104.jpg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3" descr="37987215_005bdyty.jpg"/>
          <p:cNvPicPr/>
          <p:nvPr/>
        </p:nvPicPr>
        <p:blipFill>
          <a:blip r:embed="rId2"/>
          <a:stretch/>
        </p:blipFill>
        <p:spPr>
          <a:xfrm>
            <a:off x="500040" y="28584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1:53:19Z</dcterms:created>
  <dc:creator>Rimma</dc:creator>
  <dc:description/>
  <dc:language>en-US</dc:language>
  <cp:lastModifiedBy>User</cp:lastModifiedBy>
  <dcterms:modified xsi:type="dcterms:W3CDTF">2011-12-15T19:10:46Z</dcterms:modified>
  <cp:revision>28</cp:revision>
  <dc:subject/>
  <dc:title>Г.Х. Андерсон «Снежная королев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4000000000001024140</vt:lpwstr>
  </property>
</Properties>
</file>