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B29-95F7-4D57-9878-F34A824D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297-BF69-4991-88D9-A383286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429-B06D-4024-913D-E96423AC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39A-FEE9-48FC-8474-001A6D4C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CC4-4159-4BCD-A540-7C72E6A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898-ED6B-471E-80ED-7EBB310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5CF-C7C7-4EFA-908F-862539B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FEC-541B-48FF-8A2C-7E1E6D7A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2B-E53D-438F-BB62-540C49E6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A42-55ED-479F-A35F-5F5BE652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B29-7945-4BB5-993B-7803CE32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BE8-51BF-4DEE-AC68-9A8EFF84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C7A-B403-4D65-9D23-B4A1A3635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Г.Х. Андерсен </a:t>
            </a:r>
            <a:br>
              <a:rPr sz="7200"/>
            </a:b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«Снежная королев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k5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07labdn6g1235829830.jpg"/>
          <p:cNvPicPr/>
          <p:nvPr/>
        </p:nvPicPr>
        <p:blipFill>
          <a:blip r:embed="rId2"/>
          <a:srcRect l="0" t="0" r="-69" b="17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Изучение нового материа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126098187955221748.jpg"/>
          <p:cNvPicPr/>
          <p:nvPr/>
        </p:nvPicPr>
        <p:blipFill>
          <a:blip r:embed="rId1"/>
          <a:stretch/>
        </p:blipFill>
        <p:spPr>
          <a:xfrm>
            <a:off x="428760" y="1714680"/>
            <a:ext cx="8286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med_gallery_802_3783_78289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k7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Koroleva13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11084657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2a3a6_57a604dd_L.jpeg"/>
          <p:cNvPicPr/>
          <p:nvPr/>
        </p:nvPicPr>
        <p:blipFill>
          <a:blip r:embed="rId1"/>
          <a:stretch/>
        </p:blipFill>
        <p:spPr>
          <a:xfrm>
            <a:off x="428760" y="50004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978-5-353-04360-7_9-500x500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med_gallery_802_3783_12880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.Х. Андерсе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Снежная королева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бота над 4-7й сказ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:\0_69e68_43d527ed_XL.jpeg"/>
          <p:cNvPicPr/>
          <p:nvPr/>
        </p:nvPicPr>
        <p:blipFill>
          <a:blip r:embed="rId1"/>
          <a:srcRect l="0" t="0" r="0" b="-1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:\2728545_068_16.jpg"/>
          <p:cNvPicPr/>
          <p:nvPr/>
        </p:nvPicPr>
        <p:blipFill>
          <a:blip r:embed="rId1"/>
          <a:srcRect l="0" t="0" r="-14" b="-23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:\16461_01.jpg"/>
          <p:cNvPicPr/>
          <p:nvPr/>
        </p:nvPicPr>
        <p:blipFill>
          <a:blip r:embed="rId1"/>
          <a:srcRect l="0" t="0" r="-59" b="-31"/>
          <a:stretch/>
        </p:blipFill>
        <p:spPr>
          <a:xfrm>
            <a:off x="428760" y="28584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:\6401804_d46a3af6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:\53964758_1263825857_ar3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:\k11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:\37239476_ar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:\12851717522956841952.jpg"/>
          <p:cNvPicPr/>
          <p:nvPr/>
        </p:nvPicPr>
        <p:blipFill>
          <a:blip r:embed="rId1"/>
          <a:srcRect l="0" t="0" r="62" b="3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карту, ответь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 на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мне понравилось в характере Герды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должить работу над содержанием сказки «Снежная королева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вершенствовать навыки  составления характеристики героя по его поступкам и повед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навыки выразительного чтения и реч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ывать нравственную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овторяем ранее изученн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46107713_35164098.jpg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176ca2ddd057t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k3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53964752_1263825949_ar16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35164104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37987215_005bdyty.jpg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53:19Z</dcterms:created>
  <dc:creator>Rimma</dc:creator>
  <dc:description/>
  <dc:language>en-US</dc:language>
  <cp:lastModifiedBy>User</cp:lastModifiedBy>
  <dcterms:modified xsi:type="dcterms:W3CDTF">2011-12-15T19:10:46Z</dcterms:modified>
  <cp:revision>28</cp:revision>
  <dc:subject/>
  <dc:title>Г.Х. Андерсон «Снежная короле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4000000000001024140</vt:lpwstr>
  </property>
</Properties>
</file>