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78FA-D582-4F07-A74E-37DCB804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23B9-98E6-4549-B72C-E2BF586C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FA3C-DC5B-49B8-BCB4-94AD0479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9779-8C4A-481B-A0A2-E932A144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95F6-3E48-4590-876B-FB62147B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8984-B08A-423F-9621-4BE0D06B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6D97-5A16-4B5C-BED8-3C7A4BE5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84DF-3AF8-48A8-87E2-1ED3990B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5B68-1181-442F-B5F7-59759EC5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FB73-A3F8-4B3A-B157-26AD1ECB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12C6-C5EA-4A4D-96B0-37D37C47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D5B9-2D8B-45D4-B6D7-FD1435BE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C484-C839-4CDB-985C-A845902388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73080" y="0"/>
            <a:ext cx="9250200" cy="702936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634320" y="5530680"/>
            <a:ext cx="4897440" cy="131292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 зеркале биогра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Франца Каф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4932360" y="404640"/>
            <a:ext cx="4087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Нерушимое едино; оно — это каждый отдельный человек, и в то же время оно всеобщее, отсюда беспримерно нерасторжимая связь люд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Франц  Каф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73080" y="404640"/>
            <a:ext cx="48308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044960" y="3068640"/>
            <a:ext cx="2138400" cy="364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01760" y="0"/>
            <a:ext cx="3236760" cy="2427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146160" y="2097000"/>
            <a:ext cx="3749400" cy="4761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4"/>
          <a:stretch/>
        </p:blipFill>
        <p:spPr>
          <a:xfrm>
            <a:off x="2700360" y="38160"/>
            <a:ext cx="6335640" cy="28242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"/>
          <p:cNvSpPr/>
          <p:nvPr/>
        </p:nvSpPr>
        <p:spPr>
          <a:xfrm>
            <a:off x="6372360" y="3068640"/>
            <a:ext cx="244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тература – это я сам, это моя плоть и кровь, и быть другим я не мог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ранц Каф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43080" y="185760"/>
            <a:ext cx="3311280" cy="44164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"/>
          <p:cNvSpPr/>
          <p:nvPr/>
        </p:nvSpPr>
        <p:spPr>
          <a:xfrm>
            <a:off x="368280" y="50958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самого основания Праги евреи жили в гетто – Еврейском квартале. С 1940 г. гетто превратятся в промежуточные станции на пути в лагеря смер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3995640" y="185760"/>
            <a:ext cx="4753080" cy="4191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2658960" y="3425760"/>
            <a:ext cx="2151000" cy="165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5148360" y="4113360"/>
            <a:ext cx="387972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79280" y="209520"/>
            <a:ext cx="3749760" cy="45878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357120" y="51418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мцы сгоняют еврейских женщин и детей в поезд для депортации в лагерь смер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4952880" y="3578400"/>
            <a:ext cx="4035600" cy="3089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3995640" y="209520"/>
            <a:ext cx="2635200" cy="379584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6630840" y="476280"/>
            <a:ext cx="2357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годы войны жертвами Холокоста, замученными и уничтоженными в концентрационных лагерях, ста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 млн. челове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79280" y="163440"/>
            <a:ext cx="2592360" cy="3835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6084720" y="2724120"/>
            <a:ext cx="2552760" cy="3817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2843280" y="2708280"/>
            <a:ext cx="2759040" cy="381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4"/>
          <a:stretch/>
        </p:blipFill>
        <p:spPr>
          <a:xfrm>
            <a:off x="3521160" y="247680"/>
            <a:ext cx="4162320" cy="23018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"/>
          <p:cNvSpPr/>
          <p:nvPr/>
        </p:nvSpPr>
        <p:spPr>
          <a:xfrm>
            <a:off x="179280" y="4292640"/>
            <a:ext cx="25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стры Кафки: Валли, Элли, Отла (все три погибли в нацистских концентрационных лагерях в Польше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684360" y="115920"/>
            <a:ext cx="773424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38160">
                  <a:solidFill>
                    <a:srgbClr val="333333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ЕГОР  ЗАМЗА-</a:t>
            </a:r>
            <a:endParaRPr b="1" lang="en-US" sz="1800" spc="1" strike="noStrike">
              <a:ln cap="sq" w="38160">
                <a:solidFill>
                  <a:srgbClr val="333333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38160">
                  <a:solidFill>
                    <a:srgbClr val="333333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екомое  или  человек?</a:t>
            </a:r>
            <a:endParaRPr b="1" lang="en-US" sz="1800" spc="1" strike="noStrike">
              <a:ln cap="sq" w="38160">
                <a:solidFill>
                  <a:srgbClr val="333333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50920" y="1413000"/>
          <a:ext cx="8642160" cy="5270400"/>
        </p:xfrm>
        <a:graphic>
          <a:graphicData uri="http://schemas.openxmlformats.org/drawingml/2006/table">
            <a:tbl>
              <a:tblPr/>
              <a:tblGrid>
                <a:gridCol w="4321080"/>
                <a:gridCol w="4321080"/>
              </a:tblGrid>
              <a:tr h="7088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ризнаки насеком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неш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3d3d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ризнаки чело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нутрен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3d3d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5615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3d3d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3d3d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97000" y="2205000"/>
          <a:ext cx="8567640" cy="4575240"/>
        </p:xfrm>
        <a:graphic>
          <a:graphicData uri="http://schemas.openxmlformats.org/drawingml/2006/table">
            <a:tbl>
              <a:tblPr/>
              <a:tblGrid>
                <a:gridCol w="4284360"/>
                <a:gridCol w="4283280"/>
              </a:tblGrid>
              <a:tr h="45752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анцирно-твердая спина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оричневый, выпуклый, разделенный дугообразными чешуйками живот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ногочисленные, убого тонкие по сравнению с остальным телом ножки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Утерянный, болезненный писк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него не было зубов, но оказались сильными челю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о рта текла какая-то бурая жид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 ползал и всюду оставлял следы (какое-то клейкое веществ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 мог висеть на потолке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сли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да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ыди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а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нит себ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имает речь люд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вствует и понимает музы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щущает потребность в духовной пище: любви, нежности, понимании, сострада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тов пожертвовать жизнью ради друг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4:31:14Z</dcterms:created>
  <dc:creator>Ольга</dc:creator>
  <dc:description/>
  <dc:language>en-US</dc:language>
  <cp:lastModifiedBy>Admin</cp:lastModifiedBy>
  <dcterms:modified xsi:type="dcterms:W3CDTF">2011-05-01T08:44:52Z</dcterms:modified>
  <cp:revision>2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07000000000001024140</vt:lpwstr>
  </property>
</Properties>
</file>