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D348-2B39-481E-9D2B-DD3BED4B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D4B6-2124-4A0A-AE73-8330BC53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3EA-C697-4594-BB11-9EF5591C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F3F-3BFA-4C71-9069-6CBFE1E23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690-FEB6-46EE-891E-4C78F707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E9E-1149-43AE-BF49-FB4A6C7D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96D-141B-4478-94F2-B27D3764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07A6-98CE-433C-9F81-939A371D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3B0D-96B2-4A93-A128-D07970E6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F7E-4A1C-4730-9C8F-5F7781F0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2C5F-7197-4CEE-A704-D759F68E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BB0E-CFFB-4E9E-B22D-7E362C2F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EFAE-36EA-420F-86BF-547549B892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3080" y="0"/>
            <a:ext cx="9250200" cy="70293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634320" y="5530680"/>
            <a:ext cx="4897440" cy="13129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 зеркале биогра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ранца Каф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4932360" y="404640"/>
            <a:ext cx="408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ерушимое едино; оно — это каждый отдельный человек, и в то же время оно всеобщее, отсюда беспримерно нерасторжимая связь люд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Франц  Каф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3080" y="404640"/>
            <a:ext cx="48308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044960" y="3068640"/>
            <a:ext cx="2138400" cy="364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01760" y="0"/>
            <a:ext cx="3236760" cy="242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146160" y="2097000"/>
            <a:ext cx="3749400" cy="476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2700360" y="38160"/>
            <a:ext cx="6335640" cy="2824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6372360" y="3068640"/>
            <a:ext cx="24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тература – это я сам, это моя плоть и кровь, и быть другим я не мо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анц Каф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43080" y="185760"/>
            <a:ext cx="3311280" cy="4416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368280" y="50958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самого основания Праги евреи жили в гетто – Еврейском квартале. С 1940 г. гетто превратятся в промежуточные станции на пути в лагеря смер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995640" y="185760"/>
            <a:ext cx="4753080" cy="419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2658960" y="3425760"/>
            <a:ext cx="2151000" cy="165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5148360" y="4113360"/>
            <a:ext cx="38797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9280" y="209520"/>
            <a:ext cx="3749760" cy="4587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357120" y="5141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цы сгоняют еврейских женщин и детей в поезд для депортации в лагерь смер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952880" y="3578400"/>
            <a:ext cx="4035600" cy="308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3995640" y="209520"/>
            <a:ext cx="2635200" cy="3795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6630840" y="476280"/>
            <a:ext cx="235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оды войны жертвами Холокоста, замученными и уничтоженными в концентрационных лагерях, ста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млн. чело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79280" y="163440"/>
            <a:ext cx="2592360" cy="3835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084720" y="2724120"/>
            <a:ext cx="2552760" cy="3817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275904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3521160" y="247680"/>
            <a:ext cx="4162320" cy="23018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179280" y="4292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стры Кафки: Валли, Элли, Отла (все три погибли в нацистских концентрационных лагерях в Польш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684360" y="115920"/>
            <a:ext cx="77342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81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ЕГОР  ЗАМЗА-</a:t>
            </a:r>
            <a:endParaRPr b="1" lang="en-US" sz="1800" spc="1" strike="noStrike">
              <a:ln cap="sq" w="381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81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екомое  или  человек?</a:t>
            </a:r>
            <a:endParaRPr b="1" lang="en-US" sz="1800" spc="1" strike="noStrike">
              <a:ln cap="sq" w="381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1413000"/>
          <a:ext cx="8642160" cy="527040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7088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знаки насеко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неш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знаки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нутрен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615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97000" y="2205000"/>
          <a:ext cx="8567640" cy="4575240"/>
        </p:xfrm>
        <a:graphic>
          <a:graphicData uri="http://schemas.openxmlformats.org/drawingml/2006/table">
            <a:tbl>
              <a:tblPr/>
              <a:tblGrid>
                <a:gridCol w="4284360"/>
                <a:gridCol w="4283280"/>
              </a:tblGrid>
              <a:tr h="45752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анцирно-твердая спин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ричневый, выпуклый, разделенный дугообразными чешуйками живот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ногочисленные, убого тонкие по сравнению с остальным телом ножки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терянный, болезненный писк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него не было зубов, но оказались сильными челю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 рта текла какая-то бурая жид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ползал и всюду оставлял следы (какое-то клейкое вещест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мог висеть на потолке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сли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д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ыди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нит себ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мает речь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ует и понимает музы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щущает потребность в духовной пище: любви, нежности, понимании, сострад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 пожертвовать жизнью ради друг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31:14Z</dcterms:created>
  <dc:creator>Ольга</dc:creator>
  <dc:description/>
  <dc:language>en-US</dc:language>
  <cp:lastModifiedBy>Admin</cp:lastModifiedBy>
  <dcterms:modified xsi:type="dcterms:W3CDTF">2011-05-01T08:44:52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7000000000001024140</vt:lpwstr>
  </property>
</Properties>
</file>