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96E9-DAB3-4C49-B2CF-DD7632A6C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C142-29FB-40FD-AC6B-78784572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A924-63C4-4234-915E-8FB1C9DB6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7B4C-D48F-44CF-8FB0-09707D9EE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8CEC-809B-4C2C-9701-9FA85002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F036-D83A-47CD-BB5C-56FB8F07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C477-67BB-40E1-A98C-6AEDAC30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C6E7-CF8F-49E7-8C44-AAAAFC17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8FA0-017C-41B0-83E2-F5AF12AC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E8FC-52E4-4072-ABE1-F1B9E9A7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7DCB-766C-4FF0-BFBD-FE1E2CC1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8A4B-E8C2-4048-9522-3D0CB8B0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239F-BD45-4A28-BFF2-BB80B537AA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73080" y="0"/>
            <a:ext cx="9250200" cy="7029360"/>
          </a:xfrm>
          <a:prstGeom prst="rect">
            <a:avLst/>
          </a:prstGeom>
          <a:ln w="0">
            <a:noFill/>
          </a:ln>
        </p:spPr>
      </p:pic>
      <p:sp>
        <p:nvSpPr>
          <p:cNvPr id="82" name="TextBox 1"/>
          <p:cNvSpPr/>
          <p:nvPr/>
        </p:nvSpPr>
        <p:spPr>
          <a:xfrm>
            <a:off x="634320" y="5530680"/>
            <a:ext cx="4897440" cy="131292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В зеркале биограф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Франца Каф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4932360" y="404640"/>
            <a:ext cx="4087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Нерушимое едино; оно — это каждый отдельный человек, и в то же время оно всеобщее, отсюда беспримерно нерасторжимая связь люде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Франц  Кафк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73080" y="404640"/>
            <a:ext cx="483084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4044960" y="3068640"/>
            <a:ext cx="2138400" cy="3648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401760" y="0"/>
            <a:ext cx="3236760" cy="24271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3"/>
          <a:stretch/>
        </p:blipFill>
        <p:spPr>
          <a:xfrm>
            <a:off x="146160" y="2097000"/>
            <a:ext cx="3749400" cy="4761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4"/>
          <a:stretch/>
        </p:blipFill>
        <p:spPr>
          <a:xfrm>
            <a:off x="2700360" y="38160"/>
            <a:ext cx="6335640" cy="282420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1"/>
          <p:cNvSpPr/>
          <p:nvPr/>
        </p:nvSpPr>
        <p:spPr>
          <a:xfrm>
            <a:off x="6372360" y="3068640"/>
            <a:ext cx="244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тература – это я сам, это моя плоть и кровь, и быть другим я не мог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Франц Каф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343080" y="185760"/>
            <a:ext cx="3311280" cy="44164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1"/>
          <p:cNvSpPr/>
          <p:nvPr/>
        </p:nvSpPr>
        <p:spPr>
          <a:xfrm>
            <a:off x="368280" y="509580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 самого основания Праги евреи жили в гетто – Еврейском квартале. С 1940 г. гетто превратятся в промежуточные станции на пути в лагеря смер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3995640" y="185760"/>
            <a:ext cx="4753080" cy="4191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3"/>
          <a:stretch/>
        </p:blipFill>
        <p:spPr>
          <a:xfrm>
            <a:off x="2658960" y="3425760"/>
            <a:ext cx="2151000" cy="1656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4"/>
          <a:stretch/>
        </p:blipFill>
        <p:spPr>
          <a:xfrm>
            <a:off x="5148360" y="4113360"/>
            <a:ext cx="387972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179280" y="209520"/>
            <a:ext cx="3749760" cy="458784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2"/>
          <p:cNvSpPr/>
          <p:nvPr/>
        </p:nvSpPr>
        <p:spPr>
          <a:xfrm>
            <a:off x="357120" y="514188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мцы сгоняют еврейских женщин и детей в поезд для депортации в лагерь смер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4952880" y="3578400"/>
            <a:ext cx="4035600" cy="3089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3"/>
          <a:stretch/>
        </p:blipFill>
        <p:spPr>
          <a:xfrm>
            <a:off x="3995640" y="209520"/>
            <a:ext cx="2635200" cy="3795840"/>
          </a:xfrm>
          <a:prstGeom prst="rect">
            <a:avLst/>
          </a:prstGeom>
          <a:ln w="0">
            <a:noFill/>
          </a:ln>
        </p:spPr>
      </p:pic>
      <p:sp>
        <p:nvSpPr>
          <p:cNvPr id="99" name="TextBox 3"/>
          <p:cNvSpPr/>
          <p:nvPr/>
        </p:nvSpPr>
        <p:spPr>
          <a:xfrm>
            <a:off x="6630840" y="476280"/>
            <a:ext cx="2357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годы войны жертвами Холокоста, замученными и уничтоженными в концентрационных лагерях, стал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 млн. челове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79280" y="163440"/>
            <a:ext cx="2592360" cy="3835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6084720" y="2724120"/>
            <a:ext cx="2552760" cy="3817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3"/>
          <a:stretch/>
        </p:blipFill>
        <p:spPr>
          <a:xfrm>
            <a:off x="2843280" y="2708280"/>
            <a:ext cx="2759040" cy="3816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4"/>
          <a:stretch/>
        </p:blipFill>
        <p:spPr>
          <a:xfrm>
            <a:off x="3521160" y="247680"/>
            <a:ext cx="4162320" cy="230184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1"/>
          <p:cNvSpPr/>
          <p:nvPr/>
        </p:nvSpPr>
        <p:spPr>
          <a:xfrm>
            <a:off x="179280" y="4292640"/>
            <a:ext cx="2592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стры Кафки: Валли, Элли, Отла (все три погибли в нацистских концентрационных лагерях в Польше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684360" y="115920"/>
            <a:ext cx="7734240" cy="107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sq" w="38160">
                  <a:solidFill>
                    <a:srgbClr val="333333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РЕГОР  ЗАМЗА-</a:t>
            </a:r>
            <a:endParaRPr b="1" lang="en-US" sz="1800" spc="1" strike="noStrike">
              <a:ln cap="sq" w="38160">
                <a:solidFill>
                  <a:srgbClr val="333333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cap="sq" w="38160">
                  <a:solidFill>
                    <a:srgbClr val="333333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секомое  или  человек?</a:t>
            </a:r>
            <a:endParaRPr b="1" lang="en-US" sz="1800" spc="1" strike="noStrike">
              <a:ln cap="sq" w="38160">
                <a:solidFill>
                  <a:srgbClr val="333333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50920" y="1413000"/>
          <a:ext cx="8642160" cy="5270400"/>
        </p:xfrm>
        <a:graphic>
          <a:graphicData uri="http://schemas.openxmlformats.org/drawingml/2006/table">
            <a:tbl>
              <a:tblPr/>
              <a:tblGrid>
                <a:gridCol w="4321080"/>
                <a:gridCol w="4321080"/>
              </a:tblGrid>
              <a:tr h="708840"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Признаки насеком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неш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3d3d3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36000" rIns="36000" tIns="36000" bIns="36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Признаки челове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внутрен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3d3d3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4561560"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3d3d3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36000" rIns="36000" tIns="36000" bIns="36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3d3d3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97000" y="2205000"/>
          <a:ext cx="8567640" cy="4575240"/>
        </p:xfrm>
        <a:graphic>
          <a:graphicData uri="http://schemas.openxmlformats.org/drawingml/2006/table">
            <a:tbl>
              <a:tblPr/>
              <a:tblGrid>
                <a:gridCol w="4284360"/>
                <a:gridCol w="4283280"/>
              </a:tblGrid>
              <a:tr h="4575240">
                <a:tc>
                  <a:txBody>
                    <a:bodyPr lIns="36000" rIns="36000" tIns="18000" bIns="18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Панцирно-твердая спина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Коричневый, выпуклый, разделенный дугообразными чешуйками живот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ногочисленные, убого тонкие по сравнению с остальным телом ножки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Утерянный, болезненный писк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него не было зубов, но оказались сильными челюст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о рта текла какая-то бурая жидк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 ползал и всюду оставлял следы (какое-то клейкое веществ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н мог висеть на потолке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6000" rIns="36000" tIns="18000" bIns="1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ысли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да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ыдит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би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ла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знит себ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нимает речь люд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увствует и понимает музы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щущает потребность в духовной пище: любви, нежности, понимании, сострадан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тов пожертвовать жизнью ради други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36000" marR="36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14:31:14Z</dcterms:created>
  <dc:creator>Ольга</dc:creator>
  <dc:description/>
  <dc:language>en-US</dc:language>
  <cp:lastModifiedBy>Admin</cp:lastModifiedBy>
  <dcterms:modified xsi:type="dcterms:W3CDTF">2011-05-01T08:44:52Z</dcterms:modified>
  <cp:revision>22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c07000000000001024140</vt:lpwstr>
  </property>
</Properties>
</file>