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220F-6F87-41FF-873D-105DE55E4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F30D-0487-4AFB-880C-4B148B265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BDDD-17C0-4430-A15D-141E56C9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1D48-69F7-47C4-A6CF-3D21E36D5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4654-BA65-4332-8CD9-CC609144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FE00B-8BEC-4CB1-ABCC-CB0EBA98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89E-E123-4528-815A-753855CD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216A-E722-4F00-A917-9DB16DEF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893D-40AE-41C1-B743-6BC864C9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ECBD-E1C2-4E40-957E-91D8536B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2C25-661A-4965-8C15-FADD3D81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C6F4-053F-459B-9863-4985373B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601C-CCC9-4F8F-8223-D7B2CCB0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B16-E6CE-4A6A-8913-A8B499C3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0756-B449-4DB6-BAEA-06BAC1E5C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599E-2AC3-4715-AE20-9A1C4324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D1EB-4613-42CF-85BB-4FD81B315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D121-BE38-4AA2-ACC4-2B842CDA2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91D5-D6E3-4537-BD06-3866B033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A5C3-75C8-45FE-8A11-FE3AAAA7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F7B-A425-4367-87EA-49F84BE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784F-BC17-4EDE-96F9-112ED67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BD1-AC2A-4CD3-8D11-D851E79D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B9C-E836-4CEE-81C7-5329C911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E95E-074F-488F-A1CA-34D81CC3B6F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855F-DD00-4E28-81E2-679174E90A4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11280" y="189000"/>
            <a:ext cx="4489200" cy="64800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364000" y="189000"/>
            <a:ext cx="3529080" cy="606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c6c"/>
                </a:solidFill>
                <a:latin typeface="Tahoma"/>
              </a:rPr>
              <a:t>Человек свободен, поскольку тот, кто некогда будет существовать снова, обладает волей, чтобы заставить себя при любых условиях идти через жизнь и таким способом прийти к себ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80920" y="618012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a5c6c"/>
                </a:solidFill>
                <a:latin typeface="Tahoma"/>
              </a:rPr>
              <a:t>Памятник Ф. Каф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88360" y="4797360"/>
            <a:ext cx="108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Н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7840" y="333360"/>
            <a:ext cx="276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надежд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900000" y="1557000"/>
            <a:ext cx="0" cy="31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566100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1979640" y="3659040"/>
            <a:ext cx="431964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82400" y="4341960"/>
            <a:ext cx="96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и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0320" y="695160"/>
            <a:ext cx="281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искуп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1403280" y="1844640"/>
            <a:ext cx="936720" cy="266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5780160" y="0"/>
            <a:ext cx="3363840" cy="42926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2627280" y="1844640"/>
            <a:ext cx="35528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258920" y="1125360"/>
            <a:ext cx="4105080" cy="489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93200" y="6021360"/>
            <a:ext cx="37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89800" y="189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64000" y="189000"/>
            <a:ext cx="3571920" cy="568152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0" y="2997360"/>
            <a:ext cx="4897440" cy="365580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2268360" y="0"/>
            <a:ext cx="324504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3708360" y="2276640"/>
            <a:ext cx="184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4000" y="342900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06000" y="981000"/>
            <a:ext cx="36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ревращение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4871880" cy="66960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238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1244160" y="1484280"/>
            <a:ext cx="6739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А как вы понимает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мысл названия новеллы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ПРЕВРАЩЕНИЕ»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1025280" y="525600"/>
            <a:ext cx="10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9600" spc="-1" strike="noStrike">
                <a:solidFill>
                  <a:srgbClr val="ffffff"/>
                </a:solidFill>
                <a:latin typeface="Monotype Corsiva"/>
              </a:rPr>
              <a:t>П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692280"/>
            <a:ext cx="1839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914280" y="333360"/>
            <a:ext cx="224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80960" y="1413000"/>
            <a:ext cx="208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иск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54240" y="2421000"/>
            <a:ext cx="326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позна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6443640" y="260280"/>
            <a:ext cx="2467080" cy="4762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484360" y="3220920"/>
            <a:ext cx="4248360" cy="36370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 flipV="1">
            <a:off x="2340000" y="836280"/>
            <a:ext cx="1440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68360" y="1341360"/>
            <a:ext cx="863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124000" y="1557360"/>
            <a:ext cx="216000" cy="93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4667400" y="0"/>
            <a:ext cx="4476600" cy="59500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128160" y="549360"/>
            <a:ext cx="94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06400" y="0"/>
            <a:ext cx="3946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внодуш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594080" y="1125360"/>
            <a:ext cx="239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рыв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85360" y="2200320"/>
            <a:ext cx="373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дво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1116000" y="981000"/>
            <a:ext cx="647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8920" y="1557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971640" y="1773360"/>
            <a:ext cx="36036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68144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775440" y="1652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00880" y="2708280"/>
            <a:ext cx="372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«Эго…»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5641920" y="189000"/>
            <a:ext cx="3287880" cy="4032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476360" y="1484280"/>
            <a:ext cx="14292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4417920" cy="273204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276720" y="404640"/>
            <a:ext cx="196200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822840" y="2637000"/>
            <a:ext cx="97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В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30800" y="333360"/>
            <a:ext cx="31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дохнов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22960" y="148428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ер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722840" y="189000"/>
            <a:ext cx="19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остор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881240" y="5734080"/>
            <a:ext cx="16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ла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flipH="1" flipV="1">
            <a:off x="3924000" y="1125000"/>
            <a:ext cx="576360" cy="158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643280" y="980640"/>
            <a:ext cx="57636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716360" y="2349000"/>
            <a:ext cx="935280" cy="57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16360" y="3933720"/>
            <a:ext cx="43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6732720" y="260280"/>
            <a:ext cx="2147760" cy="28083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468360" y="2997360"/>
            <a:ext cx="31129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57680" y="309600"/>
            <a:ext cx="91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Р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91800" y="1228680"/>
            <a:ext cx="306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разоча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124000" y="1268280"/>
            <a:ext cx="5032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3419640" y="2205000"/>
            <a:ext cx="3028680" cy="4191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5940360" y="333360"/>
            <a:ext cx="2752920" cy="380988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3"/>
          <a:stretch/>
        </p:blipFill>
        <p:spPr>
          <a:xfrm>
            <a:off x="611280" y="2924280"/>
            <a:ext cx="247968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3770280" y="620640"/>
            <a:ext cx="95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А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362760" y="4797360"/>
            <a:ext cx="17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апат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40360" y="2565360"/>
            <a:ext cx="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610920" y="165240"/>
            <a:ext cx="145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Щ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531880" y="911160"/>
            <a:ext cx="362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ззащит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8209080" cy="48974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2050920" y="981000"/>
            <a:ext cx="50508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1835280" y="1125360"/>
            <a:ext cx="0" cy="475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95960" y="-6516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Monotype Corsiva"/>
              </a:rPr>
              <a:t>Е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89640" y="615960"/>
            <a:ext cx="395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разобщение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3762360" cy="33051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1835280" y="836640"/>
            <a:ext cx="100800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3157560" y="1841400"/>
            <a:ext cx="5986440" cy="50166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776160" y="5877000"/>
            <a:ext cx="147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обег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829120" y="189000"/>
            <a:ext cx="27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енави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050920" y="549000"/>
            <a:ext cx="3529080" cy="142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4:19:02Z</dcterms:created>
  <dc:creator>Olga</dc:creator>
  <dc:description/>
  <dc:language>en-US</dc:language>
  <cp:lastModifiedBy>Olga</cp:lastModifiedBy>
  <dcterms:modified xsi:type="dcterms:W3CDTF">2010-10-28T18:43:38Z</dcterms:modified>
  <cp:revision>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c000000000001024140</vt:lpwstr>
  </property>
  <property fmtid="{D5CDD505-2E9C-101B-9397-08002B2CF9AE}" pid="3" name="Version">
    <vt:r8>6</vt:r8>
  </property>
</Properties>
</file>