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F0E-2552-4204-9CBD-C1FCCF97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4DC-DCFF-40D9-9ED0-2FA03404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5515-81C1-4F69-858A-596D585C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5F0-5D76-4000-A119-7111F5CA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69E7-1438-435F-8104-38204489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48A5-B5C2-482B-B691-ED41194C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2015-FDC7-453A-8476-873B0E3A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ED8D-01C5-4A2A-A6E1-BFE04A45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6C8F-BCE2-45E5-A95D-FA43F59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0D5E-4FCE-4AA9-9D43-C3CE77B5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7D51-CD0E-42DC-B8C7-2D6F55D4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C27D-31F4-4932-A56F-3030EB74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BC24-8FC2-4D0A-8FF9-CA4CCCAC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DA75-E3CC-4004-8CFA-1DF0349C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7872-F7C6-4380-A1A3-D5F5D0FA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C04A-C711-4394-94FE-B3039E87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7F2E-CC78-480D-B79C-D3C2F49C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7F7-21B6-4FB2-BB73-4C5E7761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B07-2AC1-4BB0-8FFD-ED8AF07D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CA0-6CAB-435A-9880-64F82EAD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B6F9-E934-4D30-923E-A22EF9BA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DC93-C6B6-41C9-9570-B461AEF8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0755-07F3-448E-87C3-1A9F48EF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368-86A1-46EC-B51E-B4FC048F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1603-FC79-4F1A-83F5-CA73DF1DF374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312F-99DF-4ADE-A7BE-7AD62BB14BA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489200" cy="6480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364000" y="189000"/>
            <a:ext cx="352908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c6c"/>
                </a:solidFill>
                <a:latin typeface="Tahoma"/>
              </a:rPr>
              <a:t>Человек свободен, поскольку тот, кто некогда будет существовать снова, обладает волей, чтобы заставить себя при любых условиях идти через жизнь и таким способом прийти к себ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80920" y="61801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5c6c"/>
                </a:solidFill>
                <a:latin typeface="Tahoma"/>
              </a:rPr>
              <a:t>Памятник Ф. Каф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8360" y="4797360"/>
            <a:ext cx="10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7840" y="333360"/>
            <a:ext cx="27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деж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00000" y="1557000"/>
            <a:ext cx="0" cy="31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56610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979640" y="3659040"/>
            <a:ext cx="4319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82400" y="4341960"/>
            <a:ext cx="9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0320" y="69516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куп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03280" y="1844640"/>
            <a:ext cx="93672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780160" y="0"/>
            <a:ext cx="3363840" cy="4292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52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258920" y="1125360"/>
            <a:ext cx="4105080" cy="489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93200" y="602136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9800" y="189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571920" cy="5681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4897440" cy="3655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32450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708360" y="2276640"/>
            <a:ext cx="184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4000" y="342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6000" y="98100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871880" cy="6696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238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244160" y="1484280"/>
            <a:ext cx="673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 как вы понимае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мысл названия новелл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ПРЕВРАЩЕНИЕ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25280" y="525600"/>
            <a:ext cx="10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Monotype Corsiva"/>
              </a:rPr>
              <a:t>П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84720" y="69228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14280" y="333360"/>
            <a:ext cx="224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80960" y="141300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и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4240" y="2421000"/>
            <a:ext cx="326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зн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67080" cy="4762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484360" y="3220920"/>
            <a:ext cx="4248360" cy="3637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V="1">
            <a:off x="2340000" y="836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1341360"/>
            <a:ext cx="86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1557360"/>
            <a:ext cx="21600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667400" y="0"/>
            <a:ext cx="4476600" cy="5950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28160" y="54936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6400" y="0"/>
            <a:ext cx="39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внодуш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94080" y="1125360"/>
            <a:ext cx="239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5360" y="2200320"/>
            <a:ext cx="373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дво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116000" y="981000"/>
            <a:ext cx="64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8920" y="155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71640" y="177336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6814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775440" y="1652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0880" y="2708280"/>
            <a:ext cx="37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«Эго…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641920" y="189000"/>
            <a:ext cx="3287880" cy="4032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476360" y="1484280"/>
            <a:ext cx="142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4417920" cy="2732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962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22840" y="2637000"/>
            <a:ext cx="9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30800" y="33336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дохнов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22960" y="148428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22840" y="18900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стор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81240" y="57340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л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924000" y="1125000"/>
            <a:ext cx="57636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643280" y="980640"/>
            <a:ext cx="57636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716360" y="2349000"/>
            <a:ext cx="935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16360" y="3933720"/>
            <a:ext cx="43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47760" cy="2808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1129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57680" y="309600"/>
            <a:ext cx="9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91800" y="12286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оча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1268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3028680" cy="4191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247968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770280" y="620640"/>
            <a:ext cx="9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62760" y="479736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па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2565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10920" y="165240"/>
            <a:ext cx="14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31880" y="91116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ззащи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897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050920" y="981000"/>
            <a:ext cx="50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835280" y="1125360"/>
            <a:ext cx="0" cy="475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5960" y="-651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89640" y="615960"/>
            <a:ext cx="395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общ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762360" cy="3305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835280" y="836640"/>
            <a:ext cx="1008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157560" y="1841400"/>
            <a:ext cx="5986440" cy="5016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76160" y="58770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бе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29120" y="1890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енави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0920" y="549000"/>
            <a:ext cx="35290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19:02Z</dcterms:created>
  <dc:creator>Olga</dc:creator>
  <dc:description/>
  <dc:language>en-US</dc:language>
  <cp:lastModifiedBy>Olga</cp:lastModifiedBy>
  <dcterms:modified xsi:type="dcterms:W3CDTF">2010-10-28T18:43:38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c000000000001024140</vt:lpwstr>
  </property>
  <property fmtid="{D5CDD505-2E9C-101B-9397-08002B2CF9AE}" pid="3" name="Version">
    <vt:r8>6</vt:r8>
  </property>
</Properties>
</file>