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639-C3F4-454D-B962-38D629FD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DC8-56DE-4ECB-BACE-488C2C5B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3B6-384B-4F2C-A09E-45DD4652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43D-13A8-4711-BB2F-59ADC15B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1A6-E519-4B4A-846B-4AF027A7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408-F66C-4883-B4A6-DC62A176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6F7-4D44-4AE1-97EA-0890A4B7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52F-DEDF-4BEF-A481-0DEACCEB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CB3-17E2-4E92-9BEA-04FE144F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79E-4F5C-4A91-AA75-ED2F380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DEF-707B-461D-A70E-13996B9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1BA-827E-4DB7-8562-41493CA4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DB86-0DA5-43A3-9883-27A0B95FA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3080" y="0"/>
            <a:ext cx="92502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34320" y="5530680"/>
            <a:ext cx="4897440" cy="13129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зеркале био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ранца Каф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932360" y="404640"/>
            <a:ext cx="408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ерушимое едино; оно — это каждый отдельный человек, и в то же время оно всеобщее, отсюда беспримерно нерасторжимая связь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ранц  Каф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3080" y="404640"/>
            <a:ext cx="48308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44960" y="3068640"/>
            <a:ext cx="2138400" cy="364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01760" y="0"/>
            <a:ext cx="3236760" cy="242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146160" y="2097000"/>
            <a:ext cx="3749400" cy="47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2700360" y="38160"/>
            <a:ext cx="6335640" cy="2824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6372360" y="306864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 – это я сам, это моя плоть и кровь, и быть другим я не мо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 Каф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43080" y="185760"/>
            <a:ext cx="3311280" cy="4416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368280" y="5095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самого основания Праги евреи жили в гетто – Еврейском квартале. С 1940 г. гетто превратятся в промежуточные станции на пути в лагеря смер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995640" y="185760"/>
            <a:ext cx="4753080" cy="419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658960" y="3425760"/>
            <a:ext cx="215100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148360" y="4113360"/>
            <a:ext cx="38797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209520"/>
            <a:ext cx="3749760" cy="4587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57120" y="5141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цы сгоняют еврейских женщин и детей в поезд для депортации в лагерь смер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952880" y="3578400"/>
            <a:ext cx="4035600" cy="30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3995640" y="209520"/>
            <a:ext cx="2635200" cy="3795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6630840" y="476280"/>
            <a:ext cx="235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ы войны жертвами Холокоста, замученными и уничтоженными в концентрационных лагерях, ст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млн.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9280" y="163440"/>
            <a:ext cx="2592360" cy="383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084720" y="2724120"/>
            <a:ext cx="2552760" cy="381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275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3521160" y="247680"/>
            <a:ext cx="4162320" cy="2301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179280" y="4292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тры Кафки: Валли, Элли, Отла (все три погибли в нацистских концентрационных лагерях в Польш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84360" y="115920"/>
            <a:ext cx="77342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ЕГОР  ЗАМЗА-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ое  или  человек?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413000"/>
          <a:ext cx="8642160" cy="52704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708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насеко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утрен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61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97000" y="2205000"/>
          <a:ext cx="8567640" cy="4575240"/>
        </p:xfrm>
        <a:graphic>
          <a:graphicData uri="http://schemas.openxmlformats.org/drawingml/2006/table">
            <a:tbl>
              <a:tblPr/>
              <a:tblGrid>
                <a:gridCol w="4284360"/>
                <a:gridCol w="4283280"/>
              </a:tblGrid>
              <a:tr h="45752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нцирно-твердая спин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ричневый, выпуклый, разделенный дугообразными чешуйками живот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ногочисленные, убого тонкие по сравнению с остальным телом ножки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терянный, болезненный пис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его не было зубов, но оказались сильными челю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 рта текла какая-то бурая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ползал и всюду оставлял следы (какое-то клейкое веще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мог висеть на потолке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д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ыд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нит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ет речь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ует и понимает му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щущает потребность в духовной пище: любви, нежности, понимании, сострад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 пожертвовать жизнью ради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31:14Z</dcterms:created>
  <dc:creator>Ольга</dc:creator>
  <dc:description/>
  <dc:language>en-US</dc:language>
  <cp:lastModifiedBy>Admin</cp:lastModifiedBy>
  <dcterms:modified xsi:type="dcterms:W3CDTF">2011-05-01T08:44:52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4140</vt:lpwstr>
  </property>
</Properties>
</file>