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76E-5777-49D8-9568-AAE30AB1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130-482C-41AB-8BAA-79A4BF19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6C79-1D09-4C58-95C4-8948C56F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F0E-2234-430B-9952-7B76FFF2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03F1-FACB-461C-BC3E-0DEBB639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5454-F831-494E-BBD3-B6D876A4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0FC2-FF3B-4960-8C07-603C5201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16A0-746A-4778-8442-96B51D37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8DFD-3D9B-44C3-86DE-685CCABD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11F8-7BB5-43D4-A940-11E94DBC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70A0-F78C-411F-A64F-D6BFC02E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F4BD-A738-4345-96F5-9C1233EF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C595-0988-44D4-9D53-03644BD8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0901-F55D-4BB9-A752-B2D1D2C5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BF08-D3AE-457B-A45F-9A3709F9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67A5-4D45-41C5-9920-A1396CE2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F281-BD17-467A-84CE-76C87FD9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321-C921-435A-88E1-728CA88A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9C0-8FDA-4B37-BFAB-212D74B2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0EF5-A046-4BBB-B3D1-8D37CAA1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4EAF-03DC-433F-9FB0-7125D553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9F8-4152-40B1-92D4-224FCBF7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E59-E3B9-41FD-B7B1-35BAB6E8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831-420B-40DE-93C3-FD95840C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E3C9-3FE5-4F92-8C42-038CB782CBC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6592-D717-494A-AB7A-080B87E66DC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4489200" cy="6480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5364000" y="189000"/>
            <a:ext cx="3529080" cy="606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5c6c"/>
                </a:solidFill>
                <a:latin typeface="Tahoma"/>
              </a:rPr>
              <a:t>Человек свободен, поскольку тот, кто некогда будет существовать снова, обладает волей, чтобы заставить себя при любых условиях идти через жизнь и таким способом прийти к себ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80920" y="618012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5c6c"/>
                </a:solidFill>
                <a:latin typeface="Tahoma"/>
              </a:rPr>
              <a:t>Памятник Ф. Каф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88360" y="4797360"/>
            <a:ext cx="108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Н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7840" y="333360"/>
            <a:ext cx="276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адеж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900000" y="1557000"/>
            <a:ext cx="0" cy="3166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56610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979640" y="3659040"/>
            <a:ext cx="43196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482400" y="4341960"/>
            <a:ext cx="96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0320" y="69516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куп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403280" y="1844640"/>
            <a:ext cx="936720" cy="266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5780160" y="0"/>
            <a:ext cx="3363840" cy="42926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2627280" y="1844640"/>
            <a:ext cx="35528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258920" y="1125360"/>
            <a:ext cx="4105080" cy="489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993200" y="602136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вращ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9800" y="18900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3571920" cy="56815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0" y="2997360"/>
            <a:ext cx="4897440" cy="36558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2268360" y="0"/>
            <a:ext cx="324504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708360" y="2276640"/>
            <a:ext cx="1843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4000" y="34290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6000" y="981000"/>
            <a:ext cx="36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вращени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4871880" cy="6696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2385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244160" y="1484280"/>
            <a:ext cx="673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А как вы понимае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мысл названия новелл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ПРЕВРАЩЕНИЕ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025280" y="525600"/>
            <a:ext cx="100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Monotype Corsiva"/>
              </a:rPr>
              <a:t>П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84720" y="692280"/>
            <a:ext cx="1839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14280" y="333360"/>
            <a:ext cx="224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ры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80960" y="141300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ис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4240" y="2421000"/>
            <a:ext cx="326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зн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2467080" cy="4762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484360" y="3220920"/>
            <a:ext cx="4248360" cy="36370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flipV="1">
            <a:off x="2340000" y="836280"/>
            <a:ext cx="1440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68360" y="1341360"/>
            <a:ext cx="863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24000" y="1557360"/>
            <a:ext cx="21600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667400" y="0"/>
            <a:ext cx="4476600" cy="59500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28160" y="54936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Р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06400" y="0"/>
            <a:ext cx="394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внодуш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94080" y="1125360"/>
            <a:ext cx="239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ры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85360" y="2200320"/>
            <a:ext cx="373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дво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116000" y="981000"/>
            <a:ext cx="647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8920" y="1557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71640" y="1773360"/>
            <a:ext cx="360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468144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775440" y="1652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0880" y="2708280"/>
            <a:ext cx="372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«Эго…»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5641920" y="189000"/>
            <a:ext cx="3287880" cy="4032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476360" y="1484280"/>
            <a:ext cx="14292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4417920" cy="27320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3276720" y="404640"/>
            <a:ext cx="19620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22840" y="2637000"/>
            <a:ext cx="9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В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30800" y="333360"/>
            <a:ext cx="31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дохнов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22960" y="1484280"/>
            <a:ext cx="12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е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722840" y="189000"/>
            <a:ext cx="19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стор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81240" y="5734080"/>
            <a:ext cx="16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ла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3924000" y="1125000"/>
            <a:ext cx="57636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643280" y="980640"/>
            <a:ext cx="57636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716360" y="2349000"/>
            <a:ext cx="93528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716360" y="3933720"/>
            <a:ext cx="43200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2147760" cy="28083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468360" y="2997360"/>
            <a:ext cx="31129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057680" y="309600"/>
            <a:ext cx="91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Р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91800" y="1228680"/>
            <a:ext cx="30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зоча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24000" y="126828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419640" y="2205000"/>
            <a:ext cx="3028680" cy="41911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5940360" y="333360"/>
            <a:ext cx="2752920" cy="38098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611280" y="2924280"/>
            <a:ext cx="247968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770280" y="620640"/>
            <a:ext cx="95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362760" y="479736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па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40360" y="256536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10920" y="165240"/>
            <a:ext cx="145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Щ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531880" y="911160"/>
            <a:ext cx="36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еззащит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09080" cy="48974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2050920" y="981000"/>
            <a:ext cx="505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835280" y="1125360"/>
            <a:ext cx="0" cy="475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95960" y="-651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89640" y="615960"/>
            <a:ext cx="395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общ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3762360" cy="33051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835280" y="836640"/>
            <a:ext cx="1008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3157560" y="1841400"/>
            <a:ext cx="5986440" cy="50166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776160" y="587700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бе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29120" y="18900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енави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050920" y="549000"/>
            <a:ext cx="352908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4:19:02Z</dcterms:created>
  <dc:creator>Olga</dc:creator>
  <dc:description/>
  <dc:language>en-US</dc:language>
  <cp:lastModifiedBy>Olga</cp:lastModifiedBy>
  <dcterms:modified xsi:type="dcterms:W3CDTF">2010-10-28T18:43:38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c000000000001024140</vt:lpwstr>
  </property>
  <property fmtid="{D5CDD505-2E9C-101B-9397-08002B2CF9AE}" pid="3" name="Version">
    <vt:r8>6</vt:r8>
  </property>
</Properties>
</file>