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37F-A04B-483E-9737-963F930C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02A-616C-4356-8B31-5C76C36C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7F4-1293-4A11-A48F-F2857753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FD0-5FEF-49DD-B610-2204B3B9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9FA-C012-4455-A54E-AA0ED61D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BCD-2309-4A52-876E-36EE0197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7EB-79C8-4F27-BF38-B3820108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AA5-8DC0-42F3-BF9F-B3BE1478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809-41DB-45C9-97D8-047B76FA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648-713B-49A8-8944-1FA70027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D1C-B1AE-4969-BB56-A75B8179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9D6-AC18-4895-820C-FAA5FC48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EB01-E87A-4B3C-A992-38538117A6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3080" y="0"/>
            <a:ext cx="92502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34320" y="5530680"/>
            <a:ext cx="4897440" cy="13129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зеркале биогра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ранца Каф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4932360" y="404640"/>
            <a:ext cx="408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ерушимое едино; оно — это каждый отдельный человек, и в то же время оно всеобщее, отсюда беспримерно нерасторжимая связь люд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Франц  Каф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3080" y="404640"/>
            <a:ext cx="48308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44960" y="3068640"/>
            <a:ext cx="2138400" cy="364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01760" y="0"/>
            <a:ext cx="3236760" cy="242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146160" y="2097000"/>
            <a:ext cx="3749400" cy="476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2700360" y="38160"/>
            <a:ext cx="6335640" cy="2824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6372360" y="3068640"/>
            <a:ext cx="24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тература – это я сам, это моя плоть и кровь, и быть другим я не мо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нц Каф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43080" y="185760"/>
            <a:ext cx="3311280" cy="4416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368280" y="5095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самого основания Праги евреи жили в гетто – Еврейском квартале. С 1940 г. гетто превратятся в промежуточные станции на пути в лагеря смер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995640" y="185760"/>
            <a:ext cx="4753080" cy="419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2658960" y="3425760"/>
            <a:ext cx="215100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5148360" y="4113360"/>
            <a:ext cx="38797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9280" y="209520"/>
            <a:ext cx="3749760" cy="4587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57120" y="5141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цы сгоняют еврейских женщин и детей в поезд для депортации в лагерь смер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952880" y="3578400"/>
            <a:ext cx="4035600" cy="308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3995640" y="209520"/>
            <a:ext cx="2635200" cy="3795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6630840" y="476280"/>
            <a:ext cx="235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ды войны жертвами Холокоста, замученными и уничтоженными в концентрационных лагерях, ст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млн.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79280" y="163440"/>
            <a:ext cx="2592360" cy="3835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084720" y="2724120"/>
            <a:ext cx="2552760" cy="381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275904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3521160" y="247680"/>
            <a:ext cx="4162320" cy="2301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179280" y="4292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стры Кафки: Валли, Элли, Отла (все три погибли в нацистских концентрационных лагерях в Польш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684360" y="115920"/>
            <a:ext cx="77342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ЕГОР  ЗАМЗА-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комое  или  человек?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413000"/>
          <a:ext cx="8642160" cy="52704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7088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насеко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еш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утрен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61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97000" y="2205000"/>
          <a:ext cx="8567640" cy="4575240"/>
        </p:xfrm>
        <a:graphic>
          <a:graphicData uri="http://schemas.openxmlformats.org/drawingml/2006/table">
            <a:tbl>
              <a:tblPr/>
              <a:tblGrid>
                <a:gridCol w="4284360"/>
                <a:gridCol w="4283280"/>
              </a:tblGrid>
              <a:tr h="45752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нцирно-твердая спин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ричневый, выпуклый, разделенный дугообразными чешуйками живот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ногочисленные, убого тонкие по сравнению с остальным телом ножки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терянный, болезненный писк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него не было зубов, но оказались сильными челю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 рта текла какая-то бурая жи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ползал и всюду оставлял следы (какое-то клейкое веще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мог висеть на потолке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сл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д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ыди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нит себ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мает речь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ует и понимает му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щущает потребность в духовной пище: любви, нежности, понимании, сострад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 пожертвовать жизнью ради друг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31:14Z</dcterms:created>
  <dc:creator>Ольга</dc:creator>
  <dc:description/>
  <dc:language>en-US</dc:language>
  <cp:lastModifiedBy>Admin</cp:lastModifiedBy>
  <dcterms:modified xsi:type="dcterms:W3CDTF">2011-05-01T08:44:52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4140</vt:lpwstr>
  </property>
</Properties>
</file>