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EBC-D927-4708-9F43-71ADD03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00A-7C85-49CE-9AB5-6FC14DDB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663-098F-44AD-8A41-6458332F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369-A2E2-4A4F-9791-57DDB391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AF7-6508-4EB1-96DF-823F0599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2C4-83E1-4A92-861B-22A07B0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732-EF45-4CBC-8E3B-6CC72B4F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510-43E9-410D-BFDD-5B3C61D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C0D-D8D2-4B39-BC04-33F503DB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5BF-9006-4981-ABEF-78B935D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205-DFC5-4782-9B2C-FA14073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853-5B89-457A-BE26-6DD86CB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2AE7-A376-4180-B11A-125C44E2F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7989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Times New Roman"/>
              </a:rPr>
              <a:t>Венок шекспировских сонетов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71476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734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ен Джонсо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74-1637, современник, друг Шекспира, поэт, драмат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00680"/>
            <a:ext cx="378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, что Бен Джонсон и Шекспир знали друг друга, вне сомнения, не только из-за массы ссылок Джонсона на него, но потому что компания Шекспира ставила большое количество пьес Джонсона, по крайней мере, в одной из них («Every Man in his Humour») Шекс-пир был конечно задействован. Однако теперь трудно сказать, насколько тесным было их личное общение, и рассказы об их дружбе не могут быть доказаны имеющимися фа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1664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нри Ризли, 3-й граф Саутгемпто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близкий друг и меценат Шекспира. Как многие аристократы того времени, Саутгемптон увлекался теа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189000"/>
            <a:ext cx="3851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609 году издатель Томас Торп опубликовал сонеты Шекспира, при-бавив к ним посвящение: Тому единст-венному, кому обязаны эти сонеты своим появлением, господину W. H., счастья и вечной жизни, которую обе-щал ему наш бессмертный поэт, жела-ет тот, кто рискнул выпустить их в свет. (Перевод А.А. Аник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которые биографы склонны счи-тать, что посвящение исходит от са-мого Шекспира. Под инициалами W. H., по разным мнениям, спрятано имя либо Уильяма Герберта, графа Пемброка (инициалы совпадают полностью), либо Генри Ризли, графа Саутгемп-тона (инициалы переставлены), либо Уильяма Хетклифа (выпускника Грейз Инн), либо актёра Уилла Хьюза (версия Оскара Уайльда). Сторонники версии Саутгемптона указывают на то, что знакомство с ним Шекспира датирует-ся 1593 или 1594 годами - вероятным временем появления первых сонетов. Сонеты, где старший друг торопит молодого человека с женитьбой, могли быть заказаны Шекспиру родствен-никами графа в ту пору, когда в жёны Саутгемптону прочили Элизабет де Вир, внучку его опек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284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2697120" cy="273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2852640"/>
            <a:ext cx="442908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781360"/>
            <a:ext cx="45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« Так пусть ж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нига говори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 тобой…»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. Шексп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76400"/>
            <a:ext cx="5580000" cy="398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168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3925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86480" y="2060640"/>
            <a:ext cx="355608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59236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200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94400" y="2133720"/>
            <a:ext cx="174960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4289400"/>
            <a:ext cx="3995640" cy="256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5290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95640" y="3500280"/>
            <a:ext cx="236700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364000" y="0"/>
            <a:ext cx="2062440" cy="283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972480" y="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476360" y="0"/>
            <a:ext cx="3887640" cy="28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647712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64160" y="3284640"/>
            <a:ext cx="26798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60676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66100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08520"/>
            <a:ext cx="5702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чард Бербё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567-1619— английский актер эпохи Возр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 и соратник Шексп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429000"/>
            <a:ext cx="3348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вый исполнитель таких ро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к: Гамлет, Ричард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Лир, Генрих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Отелло, Ромео, Макбет. Он был восхитительный Протей, так совершен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воплощав-шийся в своей роли и как бы сбра-сывавший своё тело вместе со своим платьем; он никогд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новился самим собой, пок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чалась пьеса... Он имел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нные превосходного орат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живлявшего каждое слово, про-износимое им, а свою речь – дви-жение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7:05Z</dcterms:created>
  <dc:creator>PETER</dc:creator>
  <dc:description/>
  <dc:language>en-US</dc:language>
  <cp:lastModifiedBy>PETER</cp:lastModifiedBy>
  <dcterms:modified xsi:type="dcterms:W3CDTF">2011-01-16T14:15:17Z</dcterms:modified>
  <cp:revision>33</cp:revision>
  <dc:subject/>
  <dc:title>Венок шекспировских сонетов</dc:title>
</cp:coreProperties>
</file>