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9DF-5787-4A12-A41E-5F7CBAE6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830-5BA5-470E-AAAC-1C2B1648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A2D-0A37-4C4A-966E-E453079E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4F7-099E-4711-8511-F3C20BD0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734-3FF3-494A-8CB9-ADC99558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7BF-644C-4A2E-A2DE-EF41ECED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D1D-52BE-416E-8786-2FE9B421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B45-22D9-4C2C-A97F-81AAD119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A47-8C5B-4118-A523-FB9AEAE0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15E-2EE7-4DC4-A03B-B66A349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6D2-9704-48E0-ADBD-D610518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CDB-2AA4-4C3C-9D8A-F5E0AF22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0E23-60C6-4C70-B744-2096C5B2B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798984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ffff00"/>
                </a:solidFill>
                <a:latin typeface="Times New Roman"/>
              </a:rPr>
              <a:t>Венок шекспировских сонетов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2714760" cy="400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573408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ен Джонсо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74-1637, современник, друг Шекспира, поэт, драмат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4000680"/>
            <a:ext cx="3780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о, что Бен Джонсон и Шекспир знали друг друга, вне сомнения, не только из-за массы ссылок Джонсона на него, но потому что компания Шекспира ставила большое количество пьес Джонсона, по крайней мере, в одной из них («Every Man in his Humour») Шекс-пир был конечно задействован. Однако теперь трудно сказать, насколько тесным было их личное общение, и рассказы об их дружбе не могут быть доказаны имеющимися фак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516640"/>
            <a:ext cx="52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нри Ризли, 3-й граф Саутгемпто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близкий друг и меценат Шекспира. Как многие аристократы того времени, Саутгемптон увлекался теат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189000"/>
            <a:ext cx="38512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1609 году издатель Томас Торп опубликовал сонеты Шекспира, при-бавив к ним посвящение: Тому единст-венному, кому обязаны эти сонеты своим появлением, господину W. H., счастья и вечной жизни, которую обе-щал ему наш бессмертный поэт, жела-ет тот, кто рискнул выпустить их в свет. (Перевод А.А. Аникс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которые биографы склонны счи-тать, что посвящение исходит от са-мого Шекспира. Под инициалами W. H., по разным мнениям, спрятано имя либо Уильяма Герберта, графа Пемброка (инициалы совпадают полностью), либо Генри Ризли, графа Саутгемп-тона (инициалы переставлены), либо Уильяма Хетклифа (выпускника Грейз Инн), либо актёра Уилла Хьюза (версия Оскара Уайльда). Сторонники версии Саутгемптона указывают на то, что знакомство с ним Шекспира датирует-ся 1593 или 1594 годами - вероятным временем появления первых сонетов. Сонеты, где старший друг торопит молодого человека с женитьбой, могли быть заказаны Шекспиру родствен-никами графа в ту пору, когда в жёны Саутгемптону прочили Элизабет де Вир, внучку его опеку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2846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4016520"/>
            <a:ext cx="4572000" cy="28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96000" y="0"/>
            <a:ext cx="2697120" cy="273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72000" y="2852640"/>
            <a:ext cx="442908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781360"/>
            <a:ext cx="45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« Так пусть же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книга говорит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 тобой…»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. Шексп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876400"/>
            <a:ext cx="5580000" cy="398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224784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168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239256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77120" y="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586480" y="2060640"/>
            <a:ext cx="3556080" cy="4797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2592360" cy="179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200320" cy="335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94400" y="2133720"/>
            <a:ext cx="174960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84720" y="4289400"/>
            <a:ext cx="3995640" cy="2568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995640" y="2852640"/>
            <a:ext cx="352908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95640" y="3500280"/>
            <a:ext cx="2367000" cy="335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5364000" y="0"/>
            <a:ext cx="2062440" cy="283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972480" y="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1476360" y="0"/>
            <a:ext cx="3887640" cy="28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546200" cy="206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6477120" cy="220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64160" y="3284640"/>
            <a:ext cx="2679840" cy="3573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071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60676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66100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708520"/>
            <a:ext cx="5702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чард Бербё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567-1619— английский актер эпохи Возр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 и соратник Шексп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3429000"/>
            <a:ext cx="3348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вый исполнитель таких ро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к: Гамлет, Ричард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Лир, Генрих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Отелло, Ромео, Макбет. Он был восхитительный Протей, так совершенн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евоплощав-шийся в своей роли и как бы сбра-сывавший своё тело вместе со своим платьем; он никогд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новился самим собой, пок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чалась пьеса... Он имел в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нные превосходного орато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живлявшего каждое слово, про-износимое им, а свою речь – дви-жение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57:05Z</dcterms:created>
  <dc:creator>PETER</dc:creator>
  <dc:description/>
  <dc:language>en-US</dc:language>
  <cp:lastModifiedBy>PETER</cp:lastModifiedBy>
  <dcterms:modified xsi:type="dcterms:W3CDTF">2011-01-16T14:15:17Z</dcterms:modified>
  <cp:revision>33</cp:revision>
  <dc:subject/>
  <dc:title>Венок шекспировских сонетов</dc:title>
</cp:coreProperties>
</file>