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6.jpeg" ContentType="image/jpeg"/>
  <Override PartName="/ppt/media/image20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D41F-1B4B-485E-8FC6-A762A937A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17C2-137D-468A-A2E5-9484FAA31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7655-D5CF-44AE-A9A0-72CBCAD10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6AE4-6A86-482C-B1C7-70EBACC65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9837-0B94-470B-A0C7-CCFE305C9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A5D0-924E-48D9-BC48-B7785B9CF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12D8-42FB-4D30-8907-935A56B01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0934-781B-4392-A13E-ABF7DD23B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9AB5-5F69-4481-93CA-984424973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1CF1-28B8-4D26-BA9A-967625440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4C69-2F24-4712-8C1E-1FAC93401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7508-A098-4DC0-A1A9-76B27EBB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AD6EE-1077-4A15-A02F-31D9252D1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image" Target="../media/image18.jpe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2781000"/>
            <a:ext cx="798984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700" spc="-1" strike="noStrike">
                <a:solidFill>
                  <a:srgbClr val="ffff00"/>
                </a:solidFill>
                <a:latin typeface="Times New Roman"/>
              </a:rPr>
              <a:t>Венок шекспировских сонетов</a:t>
            </a:r>
            <a:endParaRPr b="0" lang="en-US" sz="7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940360" y="0"/>
            <a:ext cx="2714760" cy="4005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27364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24000" y="5734080"/>
            <a:ext cx="4572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Бен Джонсон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574-1637, современник, друг Шекспира, поэт, драматур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64000" y="4000680"/>
            <a:ext cx="37800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То, что Бен Джонсон и Шекспир знали друг друга, вне сомнения, не только из-за массы ссылок Джонсона на него, но потому что компания Шекспира ставила большое количество пьес Джонсона, по крайней мере, в одной из них («Every Man in his Humour») Шекс-пир был конечно задействован. Однако теперь трудно сказать, насколько тесным было их личное общение, и рассказы об их дружбе не могут быть доказаны имеющимися фактам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0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9272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5516640"/>
            <a:ext cx="52563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Генри Ризли, 3-й граф Саутгемптон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, близкий друг и меценат Шекспира. Как многие аристократы того времени, Саутгемптон увлекался театр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292720" y="189000"/>
            <a:ext cx="3851280" cy="67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 1609 году издатель Томас Торп опубликовал сонеты Шекспира, при-бавив к ним посвящение: Тому единст-венному, кому обязаны эти сонеты своим появлением, господину W. H., счастья и вечной жизни, которую обе-щал ему наш бессмертный поэт, жела-ет тот, кто рискнул выпустить их в свет. (Перевод А.А. Аникст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Некоторые биографы склонны счи-тать, что посвящение исходит от са-мого Шекспира. Под инициалами W. H., по разным мнениям, спрятано имя либо Уильяма Герберта, графа Пемброка (инициалы совпадают полностью), либо Генри Ризли, графа Саутгемп-тона (инициалы переставлены), либо Уильяма Хетклифа (выпускника Грейз Инн), либо актёра Уилла Хьюза (версия Оскара Уайльда). Сторонники версии Саутгемптона указывают на то, что знакомство с ним Шекспира датирует-ся 1593 или 1594 годами - вероятным временем появления первых сонетов. Сонеты, где старший друг торопит молодого человека с женитьбой, могли быть заказаны Шекспиру родствен-никами графа в ту пору, когда в жёны Саутгемптону прочили Элизабет де Вир, внучку его опеку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0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1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1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88000" cy="28465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572000" y="4016520"/>
            <a:ext cx="4572000" cy="28414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5796000" y="0"/>
            <a:ext cx="2697120" cy="27338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4572000" y="2852640"/>
            <a:ext cx="4429080" cy="11779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0" y="2781360"/>
            <a:ext cx="450072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« Так пусть же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книга говорит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с тобой…»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В. Шекспи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2876400"/>
            <a:ext cx="5580000" cy="3981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124000" y="0"/>
            <a:ext cx="2247840" cy="2997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01680" cy="2997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4356000" y="0"/>
            <a:ext cx="2392560" cy="2997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6477120" y="0"/>
            <a:ext cx="2666880" cy="3809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5586480" y="2060640"/>
            <a:ext cx="3556080" cy="47973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835280" y="2060640"/>
            <a:ext cx="2340000" cy="1755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1773360"/>
            <a:ext cx="2592360" cy="1793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0" y="3500280"/>
            <a:ext cx="2200320" cy="3357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7394400" y="2133720"/>
            <a:ext cx="1749600" cy="4724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4284720" y="4289400"/>
            <a:ext cx="3995640" cy="2568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3995640" y="2852640"/>
            <a:ext cx="3529080" cy="1500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7"/>
          <a:stretch/>
        </p:blipFill>
        <p:spPr>
          <a:xfrm>
            <a:off x="2195640" y="3500280"/>
            <a:ext cx="2367000" cy="3357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8"/>
          <a:stretch/>
        </p:blipFill>
        <p:spPr>
          <a:xfrm>
            <a:off x="5364000" y="0"/>
            <a:ext cx="2062440" cy="2838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9"/>
          <a:stretch/>
        </p:blipFill>
        <p:spPr>
          <a:xfrm>
            <a:off x="6972480" y="0"/>
            <a:ext cx="2171520" cy="21718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0"/>
          <a:stretch/>
        </p:blipFill>
        <p:spPr>
          <a:xfrm>
            <a:off x="1476360" y="0"/>
            <a:ext cx="3887640" cy="2871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1"/>
          <a:stretch/>
        </p:blipFill>
        <p:spPr>
          <a:xfrm>
            <a:off x="0" y="0"/>
            <a:ext cx="1546200" cy="20606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641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4653000"/>
            <a:ext cx="6477120" cy="2205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6464160" y="3284640"/>
            <a:ext cx="2679840" cy="35733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450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80716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156360" y="0"/>
            <a:ext cx="2606760" cy="30686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5661000"/>
            <a:ext cx="35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9280" y="5708520"/>
            <a:ext cx="57020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ичард Бербёд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1567-1619— английский актер эпохи Возрожден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друг и соратник Шекспи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3429000"/>
            <a:ext cx="334800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ервый исполнитель таких рол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как: Гамлет, Ричард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, Лир, Генрих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, Отелло, Ромео, Макбет. Он был восхитительный Протей, так совершенно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еревоплощав-шийся в своей роли и как бы сбра-сывавший своё тело вместе со своим платьем; он никогда н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тановился самим собой, пока н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кончалась пьеса... Он имел вс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данные превосходного оратора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оживлявшего каждое слово, про-износимое им, а свою речь – дви-жением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0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9:57:05Z</dcterms:created>
  <dc:creator>PETER</dc:creator>
  <dc:description/>
  <dc:language>en-US</dc:language>
  <cp:lastModifiedBy>PETER</cp:lastModifiedBy>
  <dcterms:modified xsi:type="dcterms:W3CDTF">2011-01-16T14:15:17Z</dcterms:modified>
  <cp:revision>33</cp:revision>
  <dc:subject/>
  <dc:title>Венок шекспировских сонетов</dc:title>
</cp:coreProperties>
</file>