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EA49-AE2D-4239-9897-D9C61C4CA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18C4-3606-4832-A0D8-1EBA4B7D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AE01-8A07-475F-A77D-1B80FC1C5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7B9E-CD3C-47AD-83BB-77E1ED2A4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88A6-1A5C-49A5-9B75-8018762A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3424-6694-4551-A05C-094A4B1C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9286-8A89-498C-8E1C-1CDAB2DF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D9AB-9914-4E57-B4D7-EED2F2B6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7CA2-16C8-4A3D-86D3-2DF8DC6F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AC50-FCBA-47D6-A764-27D824EF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F045-FC21-4247-9688-EA597050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C13C-B3A6-4DA4-B7AC-01370477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F9C6-0B8B-48DE-9184-730D36F88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798984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700" spc="-1" strike="noStrike">
                <a:solidFill>
                  <a:srgbClr val="ffff00"/>
                </a:solidFill>
                <a:latin typeface="Times New Roman"/>
              </a:rPr>
              <a:t>Венок шекспировских сонетов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940360" y="0"/>
            <a:ext cx="2714760" cy="4005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7364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4000" y="5734080"/>
            <a:ext cx="4572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Бен Джонсо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574-1637, современник, друг Шекспира, поэт, драматур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64000" y="4000680"/>
            <a:ext cx="3780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о, что Бен Джонсон и Шекспир знали друг друга, вне сомнения, не только из-за массы ссылок Джонсона на него, но потому что компания Шекспира ставила большое количество пьес Джонсона, по крайней мере, в одной из них («Every Man in his Humour») Шекс-пир был конечно задействован. Однако теперь трудно сказать, насколько тесным было их личное общение, и рассказы об их дружбе не могут быть доказаны имеющимися факт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5516640"/>
            <a:ext cx="52563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енри Ризли, 3-й граф Саутгемптон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, близкий друг и меценат Шекспира. Как многие аристократы того времени, Саутгемптон увлекался театр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92720" y="189000"/>
            <a:ext cx="3851280" cy="67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 1609 году издатель Томас Торп опубликовал сонеты Шекспира, при-бавив к ним посвящение: Тому единст-венному, кому обязаны эти сонеты своим появлением, господину W. H., счастья и вечной жизни, которую обе-щал ему наш бессмертный поэт, жела-ет тот, кто рискнул выпустить их в свет. (Перевод А.А. Аникст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екоторые биографы склонны счи-тать, что посвящение исходит от са-мого Шекспира. Под инициалами W. H., по разным мнениям, спрятано имя либо Уильяма Герберта, графа Пемброка (инициалы совпадают полностью), либо Генри Ризли, графа Саутгемп-тона (инициалы переставлены), либо Уильяма Хетклифа (выпускника Грейз Инн), либо актёра Уилла Хьюза (версия Оскара Уайльда). Сторонники версии Саутгемптона указывают на то, что знакомство с ним Шекспира датирует-ся 1593 или 1594 годами - вероятным временем появления первых сонетов. Сонеты, где старший друг торопит молодого человека с женитьбой, могли быть заказаны Шекспиру родствен-никами графа в ту пору, когда в жёны Саутгемптону прочили Элизабет де Вир, внучку его опеку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0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28465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572000" y="4016520"/>
            <a:ext cx="4572000" cy="2841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796000" y="0"/>
            <a:ext cx="2697120" cy="2733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4572000" y="2852640"/>
            <a:ext cx="4429080" cy="1177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2781360"/>
            <a:ext cx="450072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« Так пусть же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книга говорит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с тобой…»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В. Шексп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876400"/>
            <a:ext cx="5580000" cy="3981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124000" y="0"/>
            <a:ext cx="2247840" cy="2997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01680" cy="2997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356000" y="0"/>
            <a:ext cx="2392560" cy="2997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477120" y="0"/>
            <a:ext cx="2666880" cy="3809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5586480" y="2060640"/>
            <a:ext cx="3556080" cy="4797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2592360" cy="1793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3500280"/>
            <a:ext cx="2200320" cy="3357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394400" y="2133720"/>
            <a:ext cx="1749600" cy="4724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4284720" y="4289400"/>
            <a:ext cx="3995640" cy="2568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3995640" y="2852640"/>
            <a:ext cx="3529080" cy="1500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2195640" y="3500280"/>
            <a:ext cx="2367000" cy="3357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5364000" y="0"/>
            <a:ext cx="2062440" cy="2838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6972480" y="0"/>
            <a:ext cx="2171520" cy="2171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0"/>
          <a:stretch/>
        </p:blipFill>
        <p:spPr>
          <a:xfrm>
            <a:off x="1476360" y="0"/>
            <a:ext cx="3887640" cy="2871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1546200" cy="2060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4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4653000"/>
            <a:ext cx="6477120" cy="2205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464160" y="3284640"/>
            <a:ext cx="2679840" cy="3573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0716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156360" y="0"/>
            <a:ext cx="2606760" cy="3068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5661000"/>
            <a:ext cx="35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5708520"/>
            <a:ext cx="57020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ичард Бербёд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1567-1619— английский актер эпохи Возрожд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друг и соратник Шексп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3429000"/>
            <a:ext cx="33480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ервый исполнитель таких ро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ак: Гамлет, Ричард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, Лир, Генрих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, Отелло, Ромео, Макбет. Он был восхитительный Протей, так совершенно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еревоплощав-шийся в своей роли и как бы сбра-сывавший своё тело вместе со своим платьем; он никогда н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тановился самим собой, пока н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нчалась пьеса... Он имел вс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анные превосходного оратор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живлявшего каждое слово, про-износимое им, а свою речь – дви-жением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9:57:05Z</dcterms:created>
  <dc:creator>PETER</dc:creator>
  <dc:description/>
  <dc:language>en-US</dc:language>
  <cp:lastModifiedBy>PETER</cp:lastModifiedBy>
  <dcterms:modified xsi:type="dcterms:W3CDTF">2011-01-16T14:15:17Z</dcterms:modified>
  <cp:revision>33</cp:revision>
  <dc:subject/>
  <dc:title>Венок шекспировских сонетов</dc:title>
</cp:coreProperties>
</file>