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471-74D7-4818-BE95-F922FA02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297-32CE-4B5C-8E12-43E8E36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5C8-8E52-4E44-8A9A-0E1BC590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A1E-50B6-4D3A-9AE2-7D95C87D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7AA8-D38C-4C09-815C-2F85C9BC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1EBF-1C95-4EDA-98DB-218617F9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3D4-A4D2-4AC1-8B93-3FB8CF0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86F-FE5C-41B6-9CFE-BDDD951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C005-51E3-48B6-8867-C0AA1659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B4E4-2889-4837-8C7F-BAEE2A6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3C7C-D3C7-4B46-8C43-9C0149EF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74E-A928-4BE0-B9BB-4E84949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3333-8DA9-4D1A-A145-5A29014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CA4-11D9-49CE-8F3B-535B867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6AFD-895B-412F-A59B-50DFC6C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B829-677D-4EF3-A80B-EFA4055B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7C93-3BEF-4E29-AD1A-C5917D64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E6F-6845-4AFA-93DC-CAFB0A4E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C60-A5C7-4D9B-A06A-D53C016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6BD-42BC-4611-8A92-9A1A8DE2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7EE-B01B-429F-8169-559FE16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CB5-805D-4130-9407-3C73F1D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3F7-1570-4400-A972-BDDA486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A83-3977-498A-A3C5-C69990C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7E88-0108-4746-922E-6E66370C7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86E-1123-4CB1-A7D5-4DF10F3DD0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404640"/>
            <a:ext cx="8075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Х. К. Андерсе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«Дикие лебед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Борьба добра со злом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H="1" rot="1930200">
            <a:off x="2195280" y="4005000"/>
            <a:ext cx="2808000" cy="79200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30200">
            <a:off x="2185200" y="5079600"/>
            <a:ext cx="2808360" cy="792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biLevel thresh="50000"/>
            <a:lum bright="10000"/>
          </a:blip>
          <a:stretch/>
        </p:blipFill>
        <p:spPr>
          <a:xfrm>
            <a:off x="2195640" y="-316080"/>
            <a:ext cx="4464000" cy="4322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40360" y="1484280"/>
            <a:ext cx="720720" cy="647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21090000">
            <a:off x="4629240" y="5468040"/>
            <a:ext cx="2881080" cy="8654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21191400">
            <a:off x="4643280" y="4494240"/>
            <a:ext cx="2160720" cy="86508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068640"/>
            <a:ext cx="8207280" cy="685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 rot="21191400">
            <a:off x="4651200" y="3642840"/>
            <a:ext cx="2160720" cy="720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141720"/>
            <a:ext cx="0" cy="35272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38960" y="3212280"/>
            <a:ext cx="34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еперь я могу говорить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7840" y="31978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Я невинна!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700000">
            <a:off x="4716360" y="56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ин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900000">
            <a:off x="3062880" y="5516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гну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700000">
            <a:off x="4646880" y="458136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п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900000">
            <a:off x="3709800" y="465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700000">
            <a:off x="4574160" y="371592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говор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 rot="1930200">
            <a:off x="2925720" y="4214880"/>
            <a:ext cx="2016000" cy="79236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1930200">
            <a:off x="2185200" y="5079600"/>
            <a:ext cx="2808360" cy="792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biLevel thresh="50000"/>
            <a:lum bright="10000"/>
          </a:blip>
          <a:stretch/>
        </p:blipFill>
        <p:spPr>
          <a:xfrm>
            <a:off x="2124000" y="-316080"/>
            <a:ext cx="4535640" cy="439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1125360"/>
            <a:ext cx="1295280" cy="1224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 rot="21090000">
            <a:off x="4629240" y="5468040"/>
            <a:ext cx="2881080" cy="8654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21191400">
            <a:off x="4628880" y="4581360"/>
            <a:ext cx="2160360" cy="8636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21191400">
            <a:off x="4651200" y="3642840"/>
            <a:ext cx="2160720" cy="720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3141720"/>
            <a:ext cx="0" cy="35272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700000">
            <a:off x="4716360" y="56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900000">
            <a:off x="3202560" y="5516640"/>
            <a:ext cx="149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тр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оми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0700000">
            <a:off x="4645440" y="45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та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бой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00000">
            <a:off x="3709800" y="465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700000">
            <a:off x="4789080" y="378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л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20920" y="14796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40:19Z</dcterms:created>
  <dc:creator>Admin</dc:creator>
  <dc:description/>
  <dc:language>en-US</dc:language>
  <cp:lastModifiedBy>Оля</cp:lastModifiedBy>
  <dcterms:modified xsi:type="dcterms:W3CDTF">2010-12-29T15:24:35Z</dcterms:modified>
  <cp:revision>10</cp:revision>
  <dc:subject/>
  <dc:title>Слайд 1</dc:title>
</cp:coreProperties>
</file>