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BBC-DA91-4F61-AD32-B77EA557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EC79-9C9D-47A2-B341-DA4CE610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1E5-B38A-4191-AB16-EA0037E1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C8D-7591-4ED3-8A89-9CC9C14E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DBD0-A41D-40CC-B71A-FEB04373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2322-8F57-4E55-8ED3-03DC5D53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97A2-22DF-4019-8450-3EAE9D75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987E-3FFB-43CC-9B2C-1E675A09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978D-DE97-4FB0-901B-BE005613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6D7A-CF6B-4129-A1FC-D980EE8B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1AA5-31DD-496C-8DC7-D489C70D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FC7-418F-4EE6-B739-AA4F3ED5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918B-5E7F-4AAB-9EF2-13C33503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5E82-8DDB-4720-AC30-39B671B4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B123-03F7-4B05-812F-2477CFEB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3FAA-939C-4B2A-B11F-88C9304C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4475-3405-4F0B-9E40-52BFAD19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48C5-952C-4E94-908E-927B607D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3BC-FF63-4253-8082-A0619720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629-24D6-41CB-8721-BE3506D1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A3A-B21D-44DB-BD7D-B45FEDA8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3871-4D81-45D5-8980-BD8621ED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3489-FD4A-4971-8408-BB1FF953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F6B-ECDA-49A5-B07C-AE898D14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8DD1-5959-4EA0-88DF-9859BF7E6F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65A8-9885-4026-BC87-35769425E6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404640"/>
            <a:ext cx="80751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Times New Roman"/>
              </a:rPr>
              <a:t>Х. К. Андерсен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Times New Roman"/>
              </a:rPr>
              <a:t>«Дикие лебеди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Times New Roman"/>
              </a:rPr>
              <a:t>Борьба добра со злом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H="1" rot="1930200">
            <a:off x="2195280" y="4005000"/>
            <a:ext cx="2808000" cy="79200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rot="1930200">
            <a:off x="2185200" y="5079600"/>
            <a:ext cx="2808360" cy="79272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>
            <a:biLevel thresh="50000"/>
            <a:lum bright="10000"/>
          </a:blip>
          <a:stretch/>
        </p:blipFill>
        <p:spPr>
          <a:xfrm>
            <a:off x="2195640" y="-316080"/>
            <a:ext cx="4464000" cy="4322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140360" y="1484280"/>
            <a:ext cx="720720" cy="647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 rot="21090000">
            <a:off x="4629240" y="5468040"/>
            <a:ext cx="2881080" cy="86544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 rot="21191400">
            <a:off x="4643280" y="4494240"/>
            <a:ext cx="2160720" cy="86508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3068640"/>
            <a:ext cx="8207280" cy="685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 rot="21191400">
            <a:off x="4651200" y="3642840"/>
            <a:ext cx="2160720" cy="72072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43280" y="3141720"/>
            <a:ext cx="0" cy="35272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38960" y="3212280"/>
            <a:ext cx="34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Теперь я могу говорить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57840" y="319788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Я невинна!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20700000">
            <a:off x="4716360" y="5660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ин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900000">
            <a:off x="3062880" y="55162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гну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20700000">
            <a:off x="4646880" y="4581360"/>
            <a:ext cx="10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рпи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900000">
            <a:off x="3709800" y="465264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м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20700000">
            <a:off x="4574160" y="371592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говор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 flipH="1" rot="1930200">
            <a:off x="2925720" y="4214880"/>
            <a:ext cx="2016000" cy="79236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rot="1930200">
            <a:off x="2185200" y="5079600"/>
            <a:ext cx="2808360" cy="79272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>
            <a:biLevel thresh="50000"/>
            <a:lum bright="10000"/>
          </a:blip>
          <a:stretch/>
        </p:blipFill>
        <p:spPr>
          <a:xfrm>
            <a:off x="2124000" y="-316080"/>
            <a:ext cx="4535640" cy="4392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924360" y="1125360"/>
            <a:ext cx="1295280" cy="1224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 rot="21090000">
            <a:off x="4629240" y="5468040"/>
            <a:ext cx="2881080" cy="86544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 rot="21191400">
            <a:off x="4628880" y="4581360"/>
            <a:ext cx="2160360" cy="86364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 rot="21191400">
            <a:off x="4651200" y="3642840"/>
            <a:ext cx="2160720" cy="72072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43280" y="3141720"/>
            <a:ext cx="0" cy="35272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20700000">
            <a:off x="4716360" y="5660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900000">
            <a:off x="3202560" y="5516640"/>
            <a:ext cx="149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тр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оспомина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0700000">
            <a:off x="4645440" y="4508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ста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бой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900000">
            <a:off x="3709800" y="465264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м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20700000">
            <a:off x="4789080" y="378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л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20920" y="147960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ер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7:40:19Z</dcterms:created>
  <dc:creator>Admin</dc:creator>
  <dc:description/>
  <dc:language>en-US</dc:language>
  <cp:lastModifiedBy>Оля</cp:lastModifiedBy>
  <dcterms:modified xsi:type="dcterms:W3CDTF">2010-12-29T15:24:35Z</dcterms:modified>
  <cp:revision>10</cp:revision>
  <dc:subject/>
  <dc:title>Слайд 1</dc:title>
</cp:coreProperties>
</file>