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DEA-31F6-4822-A3D2-01A2610E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B1E-BE51-4A6E-A5B3-F281768E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212-8026-4EC3-99B2-E741FD3C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407-15C7-4A29-8A8B-8A8ECF1E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5333-2557-4740-9932-12CF0882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E97D-7EE8-4A8F-8164-023088F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280B-DE9C-4A87-B926-B21111C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681-F6F0-4D78-B940-40D561E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841-D556-49CE-8458-89BB6528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1C4-BDD8-437D-BD0F-1DF022F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808-8DC2-4280-929D-264EFB5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39B-A29F-442E-8BB1-6FBFD43E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F82-4EAC-4709-87CE-BD5EBC0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E49D-4339-4F38-B58D-80602A7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704F-5D64-4AF8-BE60-C483476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78AC-5318-4D8B-B71F-72DCAA9A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F75-7AD6-43B5-A839-0A5697F9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DB-18BD-4AD7-8E31-21880454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7A8-70E8-4674-BF94-69C7457D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960-0B1D-4191-A6EC-D7E47311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A41-5779-49BD-A08A-AA2DA237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03B-CD8D-497E-A417-F8D442B6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019-F67A-4BD1-8F89-E20E2F3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EF6-E848-4B96-906D-3C710C5C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18DD-1AFC-4E68-8BC1-BD6660B94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E13-ADB4-4778-9FD8-1A54C76A9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404640"/>
            <a:ext cx="8075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Х. К. Андерсе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«Дикие лебед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Борьба добра со злом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H="1" rot="1930200">
            <a:off x="2195280" y="4005000"/>
            <a:ext cx="2808000" cy="79200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95640" y="-316080"/>
            <a:ext cx="4464000" cy="4322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40360" y="1484280"/>
            <a:ext cx="720720" cy="647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21191400">
            <a:off x="4643280" y="4494240"/>
            <a:ext cx="2160720" cy="86508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068640"/>
            <a:ext cx="8207280" cy="685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38960" y="3212280"/>
            <a:ext cx="34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еперь я могу говорить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7840" y="31978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Я невинна!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900000">
            <a:off x="3062880" y="5516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гну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700000">
            <a:off x="4646880" y="45813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п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700000">
            <a:off x="4574160" y="371592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говор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rot="1930200">
            <a:off x="2925720" y="4214880"/>
            <a:ext cx="2016000" cy="79236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24000" y="-316080"/>
            <a:ext cx="4535640" cy="439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1125360"/>
            <a:ext cx="1295280" cy="1224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1191400">
            <a:off x="4628880" y="4581360"/>
            <a:ext cx="2160360" cy="8636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900000">
            <a:off x="3202560" y="5516640"/>
            <a:ext cx="149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тр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оми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700000">
            <a:off x="4645440" y="45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та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бой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700000">
            <a:off x="4789080" y="378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л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0920" y="14796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40:19Z</dcterms:created>
  <dc:creator>Admin</dc:creator>
  <dc:description/>
  <dc:language>en-US</dc:language>
  <cp:lastModifiedBy>Оля</cp:lastModifiedBy>
  <dcterms:modified xsi:type="dcterms:W3CDTF">2010-12-29T15:24:35Z</dcterms:modified>
  <cp:revision>10</cp:revision>
  <dc:subject/>
  <dc:title>Слайд 1</dc:title>
</cp:coreProperties>
</file>