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8853-0AA2-42AB-962D-B0D5AF4B96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4D83-B04F-4F45-85EF-6C5A767EDF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B5A0-4C29-40B7-96AA-9677C95AFB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FC66-76E5-42BD-BE08-73C9B1389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C6D8-DCDD-4772-9FDC-1256A09EDF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B562-81EE-4547-9859-E7542E80F8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D2F7-3C3C-4839-A1DB-2B4A747CAA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6F35-E0AB-466B-BF07-D93FDDA41E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CEDC-E541-479F-A8C3-C75A27C79D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32EB-6D3E-492D-8471-F148D9C849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2D34-A4B6-4B1E-AE62-1B7012A392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9217-C1AE-4165-B36B-EF6730DCB4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A61F-2CB2-42A8-864E-95CFBA71CF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282B-BD38-4290-9849-E5C2D638EB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5509-4E3D-48E7-8E67-2A4B6A7916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94ED-85FE-46DB-B773-76AA5D643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FB6C-F616-4A1D-8C46-2DD8B61F1C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4C43-789D-4947-B1C1-A1FE3FF1F7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AF0D-882A-4AAF-B42F-20B23B3DCC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5148-A8A3-4D7F-B016-FF298C41D5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AF6-70A6-4AC6-A370-23532717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791-C8A3-4933-91B8-F1C69691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2C4-CDBA-4672-92D9-E551FAE3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C7B-7314-42B1-9AD5-2D88FB3B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00D9-8A79-4264-BA75-D4401D12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543D-7618-44C4-B6E9-AB436FA1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F534-9F16-4FF6-86A5-F6886191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1E2D-20DB-4FEA-8954-5F147EBE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737C-2ED9-4726-A597-B0026261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6A62-D2E2-47E6-9E0D-74199326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61D3-02B8-408C-A348-F3C3F2EC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3F7-C77A-4C7D-BD1D-523DB997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D075-A2B8-4F77-A17E-FEF036B2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6648-CF03-4F78-A927-39230C3B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A997-E929-4F11-8045-90919082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EA03-4307-4AB1-AAF7-7EF4D6EF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0615-EE97-4169-B531-5944811A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73AE7-C083-40D1-8D4F-D349C0DD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2BE2A-CF2C-4600-BB09-29AA9E59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D9116-397D-4AF2-A55F-D3EF7F2F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0E431-C009-4869-8456-23CC9024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C67E6-4921-479B-900A-F48A040D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F795-65E1-4FD0-AB0D-3F94EF75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7CC43-E63F-470F-A059-340BD175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B5BF6-EAB8-4A47-BFE8-578872E8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86447-91C7-40E5-B935-463078FE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B4E5E-515C-4CEB-B46A-7332EFE7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78362-346D-446A-B381-851E6332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25E39-7FA0-47B8-921F-D5914FCD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88C7C-A040-4F49-B5F9-C73ADE70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31821-66CB-4AD4-82F5-9655C335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3C78F-E7AF-415F-931E-E6E1095D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05261-08C3-47DC-9B1A-AF130C88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ED6C-F9FE-494F-A89A-FD428854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C1690-4102-48F8-BEA2-3BC1743F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EA8B7-E06D-41C2-BA43-39F41534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72748-4ECA-4D6E-BA9A-F118BE31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17A52-0EF3-41FC-8B2C-4216D84A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FEA04-5029-46E3-B5A1-7246E73C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F83B9-EEDC-48A9-8ADF-B718F08D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A9E52-41C5-4E88-910B-EDF18710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24C31-BAB1-4E2D-8EBB-132748D3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B7B9D-98BA-45F1-BEBE-3F6AB38E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181BF-C72C-4177-901F-23D7FA26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2E0-398D-4A8E-8F86-145781E6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62406-1DBD-495E-AC3D-2E92330C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E89FE-08AC-4010-B87A-279451EB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4DF43-E1C3-46BA-BADA-A30468B9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F64C9-EC41-4456-BC8A-51AC66A5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08913-58C1-494D-AB49-9FBE578E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26530-E7DB-45C4-8405-BF0E91B1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BA72D-7FDE-41BD-A49A-59D411E5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76804-8B98-4B88-8115-8AD4BAFA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4788C-BEEC-4A7F-930C-5C5095CA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A7C63-E1E3-4E47-989B-A3B818AE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FC3-DEF2-4C30-B443-67A3F8C8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93B69-D8D8-475F-A39E-60D3B053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C57-92FD-4167-BD82-EAC08E03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AC5-11C7-4708-BE24-ED7E9303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179-5A47-415F-A39C-B46A7AA5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B6B8-EA4F-46CF-8234-0D259A4357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CDE4-A33B-4B4C-9023-DDF37BCFCA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EAEA-1D84-42F4-A60D-3C17D18816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462B-4752-4434-ADC1-49041BD19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418D-E688-42B7-B72B-3A7B62AED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66"/>
                </a:solidFill>
                <a:latin typeface="Arial"/>
              </a:rPr>
              <a:t>Природные зоны Афр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Подготовила учитель географии Рыбалкина Н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Звуки природы - Музыка в красках звуков природы  (audiopoisk.com).mp3" descr=""/>
          <p:cNvPicPr/>
          <p:nvPr/>
        </p:nvPicPr>
        <p:blipFill>
          <a:blip r:embed="rId2"/>
          <a:stretch/>
        </p:blipFill>
        <p:spPr>
          <a:xfrm>
            <a:off x="108000" y="602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71419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м тему сегодняшнего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838080"/>
          <a:ext cx="8001000" cy="601056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7800" y="666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родные зоны Аф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267440" cy="2842920"/>
          </a:xfrm>
          <a:prstGeom prst="rect">
            <a:avLst/>
          </a:prstGeom>
          <a:ln w="0">
            <a:noFill/>
          </a:ln>
        </p:spPr>
      </p:pic>
      <p:pic>
        <p:nvPicPr>
          <p:cNvPr id="246" name="Содержимое 6" descr="Джунгли"/>
          <p:cNvPicPr/>
          <p:nvPr/>
        </p:nvPicPr>
        <p:blipFill>
          <a:blip r:embed="rId2"/>
          <a:stretch/>
        </p:blipFill>
        <p:spPr>
          <a:xfrm>
            <a:off x="4191120" y="3500280"/>
            <a:ext cx="4724280" cy="32436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9" descr="жирафы и акации"/>
          <p:cNvPicPr/>
          <p:nvPr/>
        </p:nvPicPr>
        <p:blipFill>
          <a:blip r:embed="rId3"/>
          <a:srcRect l="0" t="0" r="0" b="37"/>
          <a:stretch/>
        </p:blipFill>
        <p:spPr>
          <a:xfrm>
            <a:off x="4643280" y="692280"/>
            <a:ext cx="4105440" cy="2736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4"/>
          <a:srcRect l="0" t="0" r="-73" b="0"/>
          <a:stretch/>
        </p:blipFill>
        <p:spPr>
          <a:xfrm>
            <a:off x="0" y="3809880"/>
            <a:ext cx="4149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325080" cy="69105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Цели сегодняшнего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47200" y="1192320"/>
            <a:ext cx="841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ие природные зоны есть на материке Афр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стараться понять существующие закономерности между климатическими поясами и природными зон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пределить, какие климатические условия характерны для каждой природной зо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пределить тип почв и разновидности растительного и животного мира природных зо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способленность растений и животных к различным услов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Использование природных зон челове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70c0"/>
                </a:solidFill>
                <a:uFillTx/>
                <a:latin typeface="Arial"/>
              </a:rPr>
              <a:t>Проблемный вопр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Смогут ли растения и животные своей природной зоны и климатического пояса,  приспособится к чужой природной зоны другого климатического поя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ст само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85800" y="1143000"/>
          <a:ext cx="8229600" cy="4809960"/>
        </p:xfrm>
        <a:graphic>
          <a:graphicData uri="http://schemas.openxmlformats.org/drawingml/2006/table">
            <a:tbl>
              <a:tblPr/>
              <a:tblGrid>
                <a:gridCol w="380880"/>
                <a:gridCol w="1828800"/>
                <a:gridCol w="1044720"/>
                <a:gridCol w="801720"/>
                <a:gridCol w="815760"/>
                <a:gridCol w="814680"/>
                <a:gridCol w="801720"/>
                <a:gridCol w="869760"/>
                <a:gridCol w="871560"/>
              </a:tblGrid>
              <a:tr h="90972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ов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домашнего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новым материал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Таблица 1.</a:t>
            </a:r>
            <a:br>
              <a:rPr sz="1800"/>
            </a:b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Характеристика природных зон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484280"/>
          <a:ext cx="9144000" cy="5526000"/>
        </p:xfrm>
        <a:graphic>
          <a:graphicData uri="http://schemas.openxmlformats.org/drawingml/2006/table">
            <a:tbl>
              <a:tblPr/>
              <a:tblGrid>
                <a:gridCol w="2700360"/>
                <a:gridCol w="968400"/>
                <a:gridCol w="1396800"/>
                <a:gridCol w="1124280"/>
                <a:gridCol w="1477800"/>
                <a:gridCol w="147636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иродные з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ФГ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лиматический поя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оч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ти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Животный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Влажные экваториальные леса (гиве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аванны и редколес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Тропические пустыни и полупусты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Зона жестколистных вечнозеленых лесов и кустарни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33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60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по Африке иду (ходьба на месте)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мечаю на ходу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к над морем буйных трав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ею вытянул жира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руки вверх, потягивание)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меня над гол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наклоны в стороны с поднятыми руками)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льма зашуршит листвой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 придется приседать (приседания)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тобы фиников набрать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т вельвичия, тури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руки поочередно вытягивают вперед):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евый лист, правый лист (руки в стороны)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огромный серый слон (круг руками)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сылает нам поклон (наклоны вперед)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ы прогулку завершим (ходьба на месте)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за парты поспешим (садятся на свои мест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6a00d8345269c569e20128761a965d970c-800wi"/>
          <p:cNvPicPr/>
          <p:nvPr/>
        </p:nvPicPr>
        <p:blipFill>
          <a:blip r:embed="rId2"/>
          <a:stretch/>
        </p:blipFill>
        <p:spPr>
          <a:xfrm>
            <a:off x="6732720" y="1049400"/>
            <a:ext cx="22669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ff33"/>
                </a:solidFill>
                <a:latin typeface="Arial"/>
              </a:rPr>
              <a:t>Фрагмент из мультфильма «Айболи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RedSol[1]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33"/>
                </a:solidFill>
                <a:latin typeface="Arial"/>
              </a:rPr>
              <a:t>Гости из Афр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Гост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арченко Кристи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Влажные экваториальных лесов (геле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Гост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патова Марина </a:t>
            </a: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- Саванны и редколес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Гост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илалова Кристина </a:t>
            </a: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- Тропические пустыни и полупусты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Гост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льпер Максим </a:t>
            </a: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- Зона жестколистных вечнозеленых лесов и кустарн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3419640" y="260280"/>
            <a:ext cx="5416560" cy="5640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img4"/>
          <p:cNvPicPr/>
          <p:nvPr/>
        </p:nvPicPr>
        <p:blipFill>
          <a:blip r:embed="rId3"/>
          <a:stretch/>
        </p:blipFill>
        <p:spPr>
          <a:xfrm>
            <a:off x="179280" y="2997360"/>
            <a:ext cx="4932360" cy="3692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8"/>
          <p:cNvSpPr/>
          <p:nvPr/>
        </p:nvSpPr>
        <p:spPr>
          <a:xfrm>
            <a:off x="360" y="1484280"/>
            <a:ext cx="381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Природные зо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Аф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1049400" y="692280"/>
            <a:ext cx="705636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0" y="119844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Задание 1:</a:t>
            </a: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 Для каких природных зон характер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А) баобаб, антилопа, пальма дум, марабу, гепа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Б) масличная пальма, желтое дерево, фикус, окап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В) молочай, алоэ, черепаха, гиена, шак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5"/>
          <p:cNvSpPr/>
          <p:nvPr/>
        </p:nvSpPr>
        <p:spPr>
          <a:xfrm>
            <a:off x="0" y="1254960"/>
            <a:ext cx="9144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ние 2: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е природную зону по опис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 африканских сезонов круглый год один и тот же – зеленый. Только в один период зеленый цвет чист, ярок, а в другой – блеклый, словно выцветший… В сухой сезон земля превращается в камень, трава – в мочалу, деревья трещат от недостатка сока. И вот первый же ливень возвращает природу к жизни. Жадно напившись водой, земля разбухает от влаги, щедро отдает её деревьям, травам, цветам. Они пьют, пьют и напиться не могут… почти каждый день дождь то хлещет мощной струей, то сыплет мелкой водяной пылью. Температура воздуха падает, и местные жители зябко поводят плечами, жалуются: «Холодно!». Когда термометр показывает 18-20 градусов, некоторые африканцы считают, что наступили «морозы». Натягивают на себя все, что имеют из одежды, повязывают головы платками, разжигают на улицах костры, лишь бы унять дрожь». (Л. Почива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5"/>
          <p:cNvSpPr/>
          <p:nvPr/>
        </p:nvSpPr>
        <p:spPr>
          <a:xfrm>
            <a:off x="468360" y="690840"/>
            <a:ext cx="860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3: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Объясните причину малого плодородия почв экваториальных л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4: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на схеме с помощью стрелок покажите связи в природном комплексе пусты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ухой тропический                                 почвы практиче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лимат                                                         отсутств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астительный покров                             много пресмык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250920" y="335664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5: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Как вы думаете на территории, каких природных зон будет создано больше всего национальных парков и заповедников и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66"/>
                </a:solidFill>
                <a:uFillTx/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"/>
          <p:cNvSpPr/>
          <p:nvPr/>
        </p:nvSpPr>
        <p:spPr>
          <a:xfrm>
            <a:off x="250920" y="1125360"/>
            <a:ext cx="856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1.§ 20,21 записи в тетр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2. На контурной  карте – природные зоны Африки, отметить природные зо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3.(по выбору) Мини – сочинение «путешествие по Африке» или сообщение о национальных парках Африки (Серенгети, Неоронгоро, гора Кения, Рувензори и д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8229600" cy="828720"/>
          </a:xfrm>
          <a:prstGeom prst="rect">
            <a:avLst/>
          </a:prstGeom>
          <a:ln w="0">
            <a:noFill/>
          </a:ln>
        </p:spPr>
      </p:pic>
      <p:pic>
        <p:nvPicPr>
          <p:cNvPr id="219" name="Содержимое 10" descr="http://img1.liveinternet.ru/images/attach/c/3/76/988/76988379_e9928d00.jpg"/>
          <p:cNvPicPr/>
          <p:nvPr/>
        </p:nvPicPr>
        <p:blipFill>
          <a:blip r:embed="rId3"/>
          <a:stretch/>
        </p:blipFill>
        <p:spPr>
          <a:xfrm>
            <a:off x="4495680" y="3276720"/>
            <a:ext cx="4648320" cy="3581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4"/>
          <a:stretch/>
        </p:blipFill>
        <p:spPr>
          <a:xfrm>
            <a:off x="-9360" y="2276640"/>
            <a:ext cx="514800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22" name="Содержимое 4"/>
          <p:cNvSpPr/>
          <p:nvPr/>
        </p:nvSpPr>
        <p:spPr>
          <a:xfrm>
            <a:off x="4427640" y="189000"/>
            <a:ext cx="449568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то хоть раз вдохнул пыль его красной земли, услышал бой тамтамов, увидел в отблеске ночных костров мускулистые тела танцоров в завораживающих масках, тому трудно будет возвращаться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инств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р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лай Гумил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Содержимое 6" descr="http://img0.liveinternet.ru/images/attach/c/1/54/55/54055529_atributuy_barabanov.jpg"/>
          <p:cNvPicPr/>
          <p:nvPr/>
        </p:nvPicPr>
        <p:blipFill>
          <a:blip r:embed="rId2"/>
          <a:stretch/>
        </p:blipFill>
        <p:spPr>
          <a:xfrm>
            <a:off x="395280" y="134136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7" descr="http://www.africa-escape.ru/index2.php?option=com_datsogallery&amp;func=wmark&amp;mid=1375"/>
          <p:cNvPicPr/>
          <p:nvPr/>
        </p:nvPicPr>
        <p:blipFill>
          <a:blip r:embed="rId3"/>
          <a:stretch/>
        </p:blipFill>
        <p:spPr>
          <a:xfrm>
            <a:off x="379440" y="4084560"/>
            <a:ext cx="36734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26" name="Заголовок 1"/>
          <p:cNvSpPr/>
          <p:nvPr/>
        </p:nvSpPr>
        <p:spPr>
          <a:xfrm>
            <a:off x="457200" y="230040"/>
            <a:ext cx="82296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им увлекательно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ртуальное путеше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Содержимое 3" descr="http://dengivsetakipahnyt.com/wp-content/uploads/2011/08/%D0%A1%D0%B0%D0%BC%D1%8B%D0%B5-%D0%B1%D0%BE%D0%B3%D0%B0%D1%82%D1%8B%D0%B5-%D0%BB%D1%8E%D0%B4%D0%B8-%D0%90%D1%84%D1%80%D0%B8%D0%BA%D0%B8.png"/>
          <p:cNvPicPr/>
          <p:nvPr/>
        </p:nvPicPr>
        <p:blipFill>
          <a:blip r:embed="rId2"/>
          <a:stretch/>
        </p:blipFill>
        <p:spPr>
          <a:xfrm>
            <a:off x="1619280" y="1371600"/>
            <a:ext cx="5832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29" name="Заголовок 1"/>
          <p:cNvSpPr/>
          <p:nvPr/>
        </p:nvSpPr>
        <p:spPr>
          <a:xfrm>
            <a:off x="457200" y="40464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мы уже зна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1295280" y="1197000"/>
            <a:ext cx="5940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"/>
          <p:cNvSpPr/>
          <p:nvPr/>
        </p:nvSpPr>
        <p:spPr>
          <a:xfrm>
            <a:off x="3068640" y="33336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Задания на карточк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00160" y="728640"/>
          <a:ext cx="8692920" cy="5732640"/>
        </p:xfrm>
        <a:graphic>
          <a:graphicData uri="http://schemas.openxmlformats.org/drawingml/2006/table">
            <a:tbl>
              <a:tblPr/>
              <a:tblGrid>
                <a:gridCol w="4371840"/>
                <a:gridCol w="4321080"/>
              </a:tblGrid>
              <a:tr h="3132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рточка №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одпишите на климатической кар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я климатических поя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рисуйте облако в тех климатических поясах, где много дожд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Подпишите воздушные массы в тех поясах, где их господствует только од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рточка № 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ать на карте крайние точки Афр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ть теплые и холодные теч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на территории Африки переходных климатических поясов, пописа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рточка № 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шите на климатической кар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я климатических поя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Подпишите на карте водные ресурсы которые омывают Африку(проливы, заливы, мор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рточка № 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Укажите на карте, какие изотермы пересекают материк в январе и июле (из рис.59.стр.73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Укажите  на карте: крайние точки и наивысшую точку Афр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468360" y="4869000"/>
            <a:ext cx="2943000" cy="1658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5059440" y="4842000"/>
            <a:ext cx="3247920" cy="1685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539640" y="2084400"/>
            <a:ext cx="2943360" cy="1560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" descr=""/>
          <p:cNvPicPr/>
          <p:nvPr/>
        </p:nvPicPr>
        <p:blipFill>
          <a:blip r:embed="rId5"/>
          <a:stretch/>
        </p:blipFill>
        <p:spPr>
          <a:xfrm>
            <a:off x="5364000" y="1781280"/>
            <a:ext cx="2943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м тему сегодняшнего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838080"/>
          <a:ext cx="8001000" cy="601056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325080" cy="6910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Ы  К КРОССВОРД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далеко от этого города, который является столицей государства Ливия, была зарегистрирована самая  высокая температура + 58 градус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Благодаря тому, что материк расположен между Северным и Южный тропиков, он считается самым …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Этот замечательный исследователь уехал в Африку в качестве врача и миссионера, и провел в непрерывных экспедициях почти 30 лет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Раздел географии, который посвящен описанию различных видов водоемов: рек, озер, болот, водохранилищ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Самая полноводная река мира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Единственный крупный остров у берегов Африк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 Американский журналист, в честь которого был назван водопад на реке Конг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. Один из очень распространенных видов хозяйственной деятельности многих водных районов материк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 Именно в этом поясе находится полюс жары, а также самая большая пустыня мира. 10. Островки зелени в негостеприимном пустынном краю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1. Один из самых красивых водопадов планеты, открытый и названный Ливингстоном в честь тогдашней королевы Великобритан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2. Самая высокая вершина материка. (Килиманджаро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. Постоянные ветры, господствующие над большей территорией Африки, дующие от тропиков на экватор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8:54:33Z</dcterms:created>
  <dc:creator>Елена</dc:creator>
  <dc:description/>
  <dc:language>en-US</dc:language>
  <cp:lastModifiedBy>Ribak</cp:lastModifiedBy>
  <dcterms:modified xsi:type="dcterms:W3CDTF">2014-02-16T18:50:12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1a000000000001024140</vt:lpwstr>
  </property>
</Properties>
</file>