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6DA-D3BB-4A79-9A37-1E537A070A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9B7A-9AB6-4E62-B8D5-A6385A0599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3BD-7197-45AB-9C24-B6B3B57886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7973-BFCD-44DA-8586-97B6654569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361E-FBF0-44DD-AB18-12B4A20C7E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E4F-CFC2-445D-8918-4EE90D7CE0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70C-BC17-43B4-BA96-CA17208065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F720-7D9A-4AE2-BE3D-2379A660D3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A2D-79C3-4ED8-A800-B0405906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466-555D-4EE0-A86C-F55FBE2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1F4-D470-4379-8697-25E5CF6C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406-1491-46C6-A563-1A7871CD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1F4-4A0E-4BB3-BF4B-6E85B439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E7DC-F5CC-4355-AB14-F5569CD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9F7-A3FA-4F04-92B6-43D5DC4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E445-F037-4C48-8D75-C5FD7E7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FF58-406E-4203-8765-0FDFF9D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BE1F-2BF2-449A-92DD-B07F1AB5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807E-7244-41B4-8085-AD86E608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7AC-6ABE-4FD0-8E69-77662E8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E691-AB56-480A-9502-F188890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0A3-D1A5-4C67-B420-1A6F8A1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310A-B549-490D-86B1-7134418F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390-7BB3-442D-952C-9B8D8B6B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5F8-6943-4B9B-8792-AC6EE5E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5F8E-7A74-4C27-9DFF-0F5B1A3E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A9A0-AD28-4FAD-AA85-049F2BB3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9E23-E2D9-4808-928E-ADCA1C4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1A77-D81A-4D01-BCB8-982E492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9217-4E25-4DFD-8CB2-BCBEB884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99B-8D9A-46C2-8083-18CDB0E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147D-660F-4255-AD6E-5D4CBFA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2962-F581-49F4-9575-64C3BF0C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458F-898A-4D23-AEA1-20CB886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0A2B-2CFD-4240-AA4F-6EA24D2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5BFA-2A9B-4C08-B04B-D5CE9AE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340C-EA6D-4C62-9AF4-BAB13C8E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8CF0-B773-4183-87C9-06420291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53F-79DE-49C6-AFD9-FC1788F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A3C-BF5A-49D1-BAD9-4D05C472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A8F-6DAF-4516-B946-576273F0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A94-68E5-4C89-91D8-45A4C41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4F5-C0A5-42BA-9A86-CAD6A41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2D8-AE08-439D-8C48-AFB7C1B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A56-C95E-4494-9594-5FE2699357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9A48-71AC-462A-9497-FAF944133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DE8-F35C-4598-9BFD-1C7F39C252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hyperlink" Target="http://www.google.ru/imgres?imgurl=http://www.ecotourismblog.com/images/gorilla-70_45.jpg&amp;imgrefurl=http://www.ecotourismblog.com/entry/gorilla-safaris-earn-70-revenue-for-uganda/&amp;usg=__P7bowIQY_DI-olS8eO1UuJjjLgQ=&amp;h=600&amp;w=450&amp;sz=56&amp;hl=ru&amp;start=8&amp;zoom=1&amp;um=1&amp;itbs=1&amp;tbnid=TfEOm3UNKCQfQM:&amp;tbnh=135&amp;tbnw=101&amp;prev=/images?q%3D&#1075;&#1086;&#1088;&#1080;&#1083;&#1083;&#1072;%26um%3D1%26hl%3Dru%26newwindow%3D1%26sa%3DG%26gbv%3D2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Афри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58000" cy="16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жные вечнозеленые леса Экваториальной Афри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332000" y="61531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-Б класса Марченко Кр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Рекордсмены животного мира </a:t>
            </a:r>
            <a:br>
              <a:rPr sz="3200"/>
            </a:b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х экваториальных л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goliath2"/>
          <p:cNvPicPr/>
          <p:nvPr/>
        </p:nvPicPr>
        <p:blipFill>
          <a:blip r:embed="rId2"/>
          <a:stretch/>
        </p:blipFill>
        <p:spPr>
          <a:xfrm>
            <a:off x="179280" y="1628640"/>
            <a:ext cx="3124440" cy="319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f51847b27f40"/>
          <p:cNvPicPr/>
          <p:nvPr/>
        </p:nvPicPr>
        <p:blipFill>
          <a:blip r:embed="rId3"/>
          <a:stretch/>
        </p:blipFill>
        <p:spPr>
          <a:xfrm>
            <a:off x="3276720" y="1341360"/>
            <a:ext cx="2776320" cy="403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21400509_1"/>
          <p:cNvPicPr/>
          <p:nvPr/>
        </p:nvPicPr>
        <p:blipFill>
          <a:blip r:embed="rId4"/>
          <a:stretch/>
        </p:blipFill>
        <p:spPr>
          <a:xfrm>
            <a:off x="6000840" y="4076640"/>
            <a:ext cx="314316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2"/>
          <p:cNvSpPr/>
          <p:nvPr/>
        </p:nvSpPr>
        <p:spPr>
          <a:xfrm>
            <a:off x="3710880" y="486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ягушка Голи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879960" y="4221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Улитка Ах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_2d976_900c71af_-1-XL"/>
          <p:cNvPicPr/>
          <p:nvPr/>
        </p:nvPicPr>
        <p:blipFill>
          <a:blip r:embed="rId2"/>
          <a:stretch/>
        </p:blipFill>
        <p:spPr>
          <a:xfrm>
            <a:off x="324000" y="907920"/>
            <a:ext cx="2133360" cy="285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monifa"/>
          <p:cNvPicPr/>
          <p:nvPr/>
        </p:nvPicPr>
        <p:blipFill>
          <a:blip r:embed="rId3"/>
          <a:stretch/>
        </p:blipFill>
        <p:spPr>
          <a:xfrm>
            <a:off x="2627280" y="0"/>
            <a:ext cx="314316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pygmy-hippo-lg"/>
          <p:cNvPicPr/>
          <p:nvPr/>
        </p:nvPicPr>
        <p:blipFill>
          <a:blip r:embed="rId4"/>
          <a:stretch/>
        </p:blipFill>
        <p:spPr>
          <a:xfrm>
            <a:off x="2700360" y="2492280"/>
            <a:ext cx="3143160" cy="24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110"/>
          <p:cNvPicPr/>
          <p:nvPr/>
        </p:nvPicPr>
        <p:blipFill>
          <a:blip r:embed="rId5"/>
          <a:stretch/>
        </p:blipFill>
        <p:spPr>
          <a:xfrm>
            <a:off x="0" y="4067280"/>
            <a:ext cx="3203640" cy="27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Animals_Beasts__002103_1"/>
          <p:cNvPicPr/>
          <p:nvPr/>
        </p:nvPicPr>
        <p:blipFill>
          <a:blip r:embed="rId6"/>
          <a:stretch/>
        </p:blipFill>
        <p:spPr>
          <a:xfrm>
            <a:off x="5759280" y="43243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gorilla-70_4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0"/>
            <a:ext cx="2578320" cy="344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>
            <a:off x="698400" y="240984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614520" y="3333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3113640" y="22240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ый беге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204000" y="522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ок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427640" y="60930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787440" y="3521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гор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e89eb04c7ffe2001d1f20c3fb01ee029"/>
          <p:cNvPicPr/>
          <p:nvPr/>
        </p:nvPicPr>
        <p:blipFill>
          <a:blip r:embed="rId2"/>
          <a:stretch/>
        </p:blipFill>
        <p:spPr>
          <a:xfrm>
            <a:off x="468360" y="189000"/>
            <a:ext cx="3338640" cy="388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1263389105"/>
          <p:cNvPicPr/>
          <p:nvPr/>
        </p:nvPicPr>
        <p:blipFill>
          <a:blip r:embed="rId3"/>
          <a:stretch/>
        </p:blipFill>
        <p:spPr>
          <a:xfrm>
            <a:off x="4716360" y="26028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570"/>
          <p:cNvPicPr/>
          <p:nvPr/>
        </p:nvPicPr>
        <p:blipFill>
          <a:blip r:embed="rId4"/>
          <a:stretch/>
        </p:blipFill>
        <p:spPr>
          <a:xfrm>
            <a:off x="1187280" y="4797360"/>
            <a:ext cx="3143520" cy="16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1265486142_l_147317"/>
          <p:cNvPicPr/>
          <p:nvPr/>
        </p:nvPicPr>
        <p:blipFill>
          <a:blip r:embed="rId5"/>
          <a:stretch/>
        </p:blipFill>
        <p:spPr>
          <a:xfrm>
            <a:off x="4788000" y="4005360"/>
            <a:ext cx="3573360" cy="26953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3"/>
          <p:cNvSpPr/>
          <p:nvPr/>
        </p:nvSpPr>
        <p:spPr>
          <a:xfrm>
            <a:off x="1188720" y="3645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м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034720" y="4384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Муха Ц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8" descr="iап"/>
          <p:cNvPicPr/>
          <p:nvPr/>
        </p:nvPicPr>
        <p:blipFill>
          <a:blip r:embed="rId1"/>
          <a:stretch/>
        </p:blipFill>
        <p:spPr>
          <a:xfrm>
            <a:off x="1619280" y="2060640"/>
            <a:ext cx="2305080" cy="33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CAIXSNON"/>
          <p:cNvPicPr/>
          <p:nvPr/>
        </p:nvPicPr>
        <p:blipFill>
          <a:blip r:embed="rId2"/>
          <a:stretch/>
        </p:blipFill>
        <p:spPr>
          <a:xfrm>
            <a:off x="5292720" y="3933720"/>
            <a:ext cx="251928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i?id=2450353&amp;tov=7"/>
          <p:cNvPicPr/>
          <p:nvPr/>
        </p:nvPicPr>
        <p:blipFill>
          <a:blip r:embed="rId3"/>
          <a:stretch/>
        </p:blipFill>
        <p:spPr>
          <a:xfrm>
            <a:off x="5292720" y="1916280"/>
            <a:ext cx="2879640" cy="181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Африке различают 3 природные зон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сава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Безымянныйо"/>
          <p:cNvPicPr/>
          <p:nvPr/>
        </p:nvPicPr>
        <p:blipFill>
          <a:blip r:embed="rId1"/>
          <a:stretch/>
        </p:blipFill>
        <p:spPr>
          <a:xfrm>
            <a:off x="1450800" y="160020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AZVTHSE"/>
          <p:cNvPicPr/>
          <p:nvPr/>
        </p:nvPicPr>
        <p:blipFill>
          <a:blip r:embed="rId2"/>
          <a:stretch/>
        </p:blipFill>
        <p:spPr>
          <a:xfrm>
            <a:off x="2197080" y="421020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i"/>
          <p:cNvPicPr/>
          <p:nvPr/>
        </p:nvPicPr>
        <p:blipFill>
          <a:blip r:embed="rId3"/>
          <a:stretch/>
        </p:blipFill>
        <p:spPr>
          <a:xfrm>
            <a:off x="5292720" y="361008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лажные вечнозеленые леса      Экваториальной Африки. Гиле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Arial"/>
              </a:rPr>
              <a:t>В поясе экваториального климата постоянно влажные вечнозеленые леса (или по-другому Гилея, что с греческого обозначает лес) покрывают примерно 8 % площади материка. Они распространены в бассейне реки Конго к северу - до 4° с. ш. и к югу от экватора - до 5° ю. ш. Кроме того, эти леса занимают побережье Атлантического океана примерно до 8° с. ш. А в дельтах рек и на побережьях, затопленных во время прилива, особенно на берегах Гвинейского залива, господствуют мангровые заросли. Первичные дождевые леса сохранились только в центральной котловине реки Конго. В других местах, особенно к северу от</a:t>
            </a:r>
            <a:r>
              <a:rPr b="1" lang="ru-RU" sz="1400" spc="-1" strike="noStrike">
                <a:solidFill>
                  <a:srgbClr val="ffffe1"/>
                </a:solidFill>
                <a:latin typeface="Arial"/>
              </a:rPr>
              <a:t> Гвинейского залива, их сменили низкорослые вторичные зарос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click?url=http%3A%2F%2Fdict"/>
          <p:cNvPicPr/>
          <p:nvPr/>
        </p:nvPicPr>
        <p:blipFill>
          <a:blip r:embed="rId1"/>
          <a:stretch/>
        </p:blipFill>
        <p:spPr>
          <a:xfrm>
            <a:off x="5238720" y="1770120"/>
            <a:ext cx="3086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Растительный мир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аркий климат и обилие влаги способствуют развитию густой вечнозеленой древесной растительности. Экваториальные леса растут в несколько яр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хний ярус (высота 35-50 м) составляет сейба. Диаметр ее ствола достигает двух метров, а широкие дисковые корни поднимаются до высоты 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ярусе растут различные па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асличная, из ее плодов получают пальмовое ма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альма рафия, к которой африканцы относятся особенно трогательно. Секрет такого отношения в 10-12 метровых листьях. Пигмеи покрывают ими свои хижины, из их волокон плетут ткани, шляпы, корзины. Секрет их плетения  от тончайших как шпагат до толстостенных, как удав, - передается по наслед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Эбеновое дерево, которое тонет в воде. Цвет его древесины черный, бурый или зеленый. Цвет будет зависеть от особых микробиологических процессов в почве. Древесина его очень прочная и гибкая, из нее делают меб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ижнем ярусе растут фикусы, бананы, различные папоротники, либерийское кофейное дерево.. Фикусы вырастают в высоту 7-8 м всего за 8-10 месяцев. Ствол у них внутри полый как у травы. Солнечный свет не может проникнуть через толщину зелени и в таком лесу почти нет обычной травы и кустар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лажном экваториальном лесу растут не только самые высокие, но и самые длинные растения  это лианы. Их длина достигает более 100 м. Лианы удерживаются на других растениях с помощью цепляющихся побегов, шипов, колючек или усиков. Лианы переплетают стволы деревьев, высоко взбираются на них и оттуда свисают гирляндами, делая лесную чащу непроходимой. Среди лиан особое место занимает каучуконосная древовидная лиана ландоль-фия,  Особая группа - это растения-паразиты, которые высасывают питательные вещества из других растений. Одно из них раффлезия. Оно присасывается к корням деревь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вотный м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жные экваториальные леса Африки имеют своеобразную фауну, но менее богатую, чем фауна, открытых пространств этого континента. В экваториальном африканском лесу мало травоядных, а следовательно, мало и хищников. Из копытных можно встретить лесных антилоп, очень осторожных и пугливых, родственных жирафу, животных - окапи. Есть также кабаны, буйволы, бегемоты. Из хищных животных встречаются дикие кошки, леопарды, шакалы и виверры.Из грызунов распространены кистехвостые дикобразы и шипохвос-тые летяги. Много здесь обезьян - мартышек, павианов, мандрилл, большинство из которых ведет древесный образ жизни. Обитают в этих местах и два рода человекообразных обезьян - шимпанзе и гориллы. Встречаются здесь и лемуры.Птицы влажных тропических лесов Африки - это несколько видов попугаев, бананоеды, красиво оперенные и ярко окрашенные лесные удоды, крошечные нектарницы, африканские павлины.Много ящериц и змей, в реках водится тупорылый крокодил. Из земноводных особенно много разнообразных лягушек.Из крупных хищников можно встретить тигров, львов, пуму, ягуара, пантеру.Джунгли изобилуют различными пресмыкающимися, среди которых много ядовитых змей. Большое разнообразие насекомых и паукообразных, в том числе и ядовит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"/>
              </a:rPr>
              <a:t>Гил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00px-rainforest_fatu_hiva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450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ana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>
            <a:off x="4716360" y="3753000"/>
            <a:ext cx="4427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ерх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86364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фик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Марокко-показать-819"/>
          <p:cNvPicPr/>
          <p:nvPr/>
        </p:nvPicPr>
        <p:blipFill>
          <a:blip r:embed="rId2"/>
          <a:stretch/>
        </p:blipFill>
        <p:spPr>
          <a:xfrm>
            <a:off x="0" y="0"/>
            <a:ext cx="248436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Ficus_udush1"/>
          <p:cNvPicPr/>
          <p:nvPr/>
        </p:nvPicPr>
        <p:blipFill>
          <a:blip r:embed="rId3"/>
          <a:stretch/>
        </p:blipFill>
        <p:spPr>
          <a:xfrm>
            <a:off x="6000840" y="1125360"/>
            <a:ext cx="314316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-2859"/>
          <p:cNvPicPr/>
          <p:nvPr/>
        </p:nvPicPr>
        <p:blipFill>
          <a:blip r:embed="rId4"/>
          <a:stretch/>
        </p:blipFill>
        <p:spPr>
          <a:xfrm>
            <a:off x="2484360" y="1125360"/>
            <a:ext cx="3511800" cy="4537080"/>
          </a:xfrm>
          <a:prstGeom prst="rect">
            <a:avLst/>
          </a:prstGeom>
          <a:ln w="0">
            <a:noFill/>
          </a:ln>
        </p:spPr>
      </p:pic>
      <p:sp>
        <p:nvSpPr>
          <p:cNvPr id="171" name="Oval 12"/>
          <p:cNvSpPr/>
          <p:nvPr/>
        </p:nvSpPr>
        <p:spPr>
          <a:xfrm>
            <a:off x="3203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308720" y="4221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044040" y="364500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Деревь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ходульными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g2010055"/>
          <p:cNvPicPr/>
          <p:nvPr/>
        </p:nvPicPr>
        <p:blipFill>
          <a:blip r:embed="rId5"/>
          <a:stretch/>
        </p:blipFill>
        <p:spPr>
          <a:xfrm>
            <a:off x="0" y="3965400"/>
            <a:ext cx="3863880" cy="2892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070160" y="6237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па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20746c0b6d611edf46cb5c058e"/>
          <p:cNvPicPr/>
          <p:nvPr/>
        </p:nvPicPr>
        <p:blipFill>
          <a:blip r:embed="rId2"/>
          <a:stretch/>
        </p:blipFill>
        <p:spPr>
          <a:xfrm>
            <a:off x="0" y="0"/>
            <a:ext cx="4680000" cy="36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10"/>
          <p:cNvPicPr/>
          <p:nvPr/>
        </p:nvPicPr>
        <p:blipFill>
          <a:blip r:embed="rId3"/>
          <a:stretch/>
        </p:blipFill>
        <p:spPr>
          <a:xfrm>
            <a:off x="4535640" y="0"/>
            <a:ext cx="4608360" cy="3746520"/>
          </a:xfrm>
          <a:prstGeom prst="rect">
            <a:avLst/>
          </a:prstGeom>
          <a:ln w="0">
            <a:noFill/>
          </a:ln>
        </p:spPr>
      </p:pic>
      <p:sp>
        <p:nvSpPr>
          <p:cNvPr id="179" name="Oval 10"/>
          <p:cNvSpPr/>
          <p:nvPr/>
        </p:nvSpPr>
        <p:spPr>
          <a:xfrm>
            <a:off x="6659640" y="184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204360" y="314172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аг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13"/>
          <p:cNvPicPr/>
          <p:nvPr/>
        </p:nvPicPr>
        <p:blipFill>
          <a:blip r:embed="rId4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v19"/>
          <p:cNvPicPr/>
          <p:nvPr/>
        </p:nvPicPr>
        <p:blipFill>
          <a:blip r:embed="rId5"/>
          <a:stretch/>
        </p:blipFill>
        <p:spPr>
          <a:xfrm>
            <a:off x="4643280" y="3678120"/>
            <a:ext cx="450072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Oval 14"/>
          <p:cNvSpPr/>
          <p:nvPr/>
        </p:nvSpPr>
        <p:spPr>
          <a:xfrm>
            <a:off x="442764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8102880" y="31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й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84480" y="-3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Средний и ниж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opTree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188" name="Oval 11"/>
          <p:cNvSpPr/>
          <p:nvPr/>
        </p:nvSpPr>
        <p:spPr>
          <a:xfrm>
            <a:off x="2556000" y="2852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6300720" y="3429000"/>
            <a:ext cx="360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i-1524"/>
          <p:cNvPicPr/>
          <p:nvPr/>
        </p:nvPicPr>
        <p:blipFill>
          <a:blip r:embed="rId3"/>
          <a:stretch/>
        </p:blipFill>
        <p:spPr>
          <a:xfrm>
            <a:off x="6000840" y="1052640"/>
            <a:ext cx="3143160" cy="2592360"/>
          </a:xfrm>
          <a:prstGeom prst="rect">
            <a:avLst/>
          </a:prstGeom>
          <a:ln w="0">
            <a:noFill/>
          </a:ln>
        </p:spPr>
      </p:pic>
      <p:sp>
        <p:nvSpPr>
          <p:cNvPr id="191" name="Oval 23"/>
          <p:cNvSpPr/>
          <p:nvPr/>
        </p:nvSpPr>
        <p:spPr>
          <a:xfrm>
            <a:off x="1547640" y="6742080"/>
            <a:ext cx="71640" cy="11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EbenovoeDerevo"/>
          <p:cNvPicPr/>
          <p:nvPr/>
        </p:nvPicPr>
        <p:blipFill>
          <a:blip r:embed="rId4"/>
          <a:stretch/>
        </p:blipFill>
        <p:spPr>
          <a:xfrm>
            <a:off x="2700360" y="3933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banan"/>
          <p:cNvPicPr/>
          <p:nvPr/>
        </p:nvPicPr>
        <p:blipFill>
          <a:blip r:embed="rId5"/>
          <a:stretch/>
        </p:blipFill>
        <p:spPr>
          <a:xfrm>
            <a:off x="4992840" y="3649680"/>
            <a:ext cx="4151160" cy="3208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7"/>
          <p:cNvSpPr/>
          <p:nvPr/>
        </p:nvSpPr>
        <p:spPr>
          <a:xfrm>
            <a:off x="1875600" y="24922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000000"/>
          <p:cNvPicPr/>
          <p:nvPr/>
        </p:nvPicPr>
        <p:blipFill>
          <a:blip r:embed="rId6"/>
          <a:stretch/>
        </p:blipFill>
        <p:spPr>
          <a:xfrm>
            <a:off x="0" y="3141720"/>
            <a:ext cx="4140360" cy="32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amazonas25"/>
          <p:cNvPicPr/>
          <p:nvPr/>
        </p:nvPicPr>
        <p:blipFill>
          <a:blip r:embed="rId7"/>
          <a:stretch/>
        </p:blipFill>
        <p:spPr>
          <a:xfrm>
            <a:off x="3132000" y="1052640"/>
            <a:ext cx="3527640" cy="2639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9"/>
          <p:cNvSpPr/>
          <p:nvPr/>
        </p:nvSpPr>
        <p:spPr>
          <a:xfrm>
            <a:off x="6088680" y="2997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08360" y="5661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бен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1:06:29Z</dcterms:created>
  <dc:creator>1</dc:creator>
  <dc:description/>
  <dc:language>en-US</dc:language>
  <cp:lastModifiedBy>Ribak</cp:lastModifiedBy>
  <dcterms:modified xsi:type="dcterms:W3CDTF">2014-02-16T17:19:55Z</dcterms:modified>
  <cp:revision>8</cp:revision>
  <dc:subject/>
  <dc:title>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0000000000001024140</vt:lpwstr>
  </property>
</Properties>
</file>