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AD4F-332A-45C3-8332-A2AC1FDF1A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45B5-C57D-485D-A21A-980319E3B30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149C-3538-46E0-9D32-49814C68B0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6DC2-761E-41DB-B197-8FF8ABBFEE7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8CDC-F1FE-4386-BF25-819977CB009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DBB6-3FD5-4D05-90BE-821F3FFFFBB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D868-B262-4CC0-9B4A-909ED88F1F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0181-0F9F-40E5-8743-ACA51E894D2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DF1-63DE-4455-8A9F-D4A32D87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D69-3472-4A21-B2E9-112ECC38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560-0FBD-45FA-B0CF-0C5DD514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83F-3209-4F15-B85E-EDE31DCE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86B8-6FB0-423E-B574-8D71440C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3DD5-7664-4687-8F38-241E4B0D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6D79-E11D-40A0-A683-92092B51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7D64-5270-494C-9916-316E4769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8428-F715-4617-B6B1-F240791A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4E18-94CD-41C0-98D7-E51BCD18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ED59-D99A-479F-81BF-9A9E0871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96E-81C8-4B5B-BD6A-E23688F0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0B4C-B5D5-40D1-BD2B-C4A74C88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C69E-7F55-4F45-B460-7582A9E9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A8B1-0673-4541-AE72-781BB81F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D5D4-C191-4CCE-B5DF-B3F05A20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2ED9-56BD-4892-A417-382974B0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6F40-F11E-4E7E-A0C9-5F4A8089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1FEAF-46F3-40D2-AACA-10583763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3F50-51C0-42CE-B7CA-12A77048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999E-E037-43BB-8EE1-F6B69713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9BF16-91A2-4E51-BC09-D69920C3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C18-4474-4125-AD82-D5927EAB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AB19-1A44-4DBE-B6A8-7FF14E02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A55D-EEE1-4EAB-8D7D-C2BC5036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4BAA-0918-46CC-BAEC-7B2E0D18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E751-2E33-4BF8-A083-A295F5C9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D7D86-DADF-4EC4-9AF5-C460F651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B26A-BC97-4C8A-9052-C2B3A1FC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C2AC-6290-4EF1-A27E-F7A1587F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789-3201-4D27-9F8B-ABF7C59F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767-86EA-4144-8C42-B0EB04B0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DF0-06F1-4C41-B5E9-F3B00826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493-7352-444D-AD5F-A48D9B7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249-2C9A-401A-AE49-182AC34F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0E4-9307-4769-A89B-3074C49D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0D41-9676-42C1-9531-EFA1B9131C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BE29-0CA2-440D-A8A8-D03B56BB07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C143-3586-4A44-B225-13295ED590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hyperlink" Target="http://www.google.ru/imgres?imgurl=http://www.ecotourismblog.com/images/gorilla-70_45.jpg&amp;imgrefurl=http://www.ecotourismblog.com/entry/gorilla-safaris-earn-70-revenue-for-uganda/&amp;usg=__P7bowIQY_DI-olS8eO1UuJjjLgQ=&amp;h=600&amp;w=450&amp;sz=56&amp;hl=ru&amp;start=8&amp;zoom=1&amp;um=1&amp;itbs=1&amp;tbnid=TfEOm3UNKCQfQM:&amp;tbnh=135&amp;tbnw=101&amp;prev=/images?q%3D&#1075;&#1086;&#1088;&#1080;&#1083;&#1083;&#1072;%26um%3D1%26hl%3Dru%26newwindow%3D1%26sa%3DG%26gbv%3D2%26tbs%3Disch:1" TargetMode="External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Афри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858000" cy="16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ажные вечнозеленые леса Экваториальной Афри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332000" y="615312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ученица 7-Б класса Марченко Кр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Рекордсмены животного мира </a:t>
            </a:r>
            <a:br>
              <a:rPr sz="3200"/>
            </a:b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влажных экваториальных л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goliath2"/>
          <p:cNvPicPr/>
          <p:nvPr/>
        </p:nvPicPr>
        <p:blipFill>
          <a:blip r:embed="rId2"/>
          <a:stretch/>
        </p:blipFill>
        <p:spPr>
          <a:xfrm>
            <a:off x="179280" y="1628640"/>
            <a:ext cx="3124440" cy="3194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f51847b27f40"/>
          <p:cNvPicPr/>
          <p:nvPr/>
        </p:nvPicPr>
        <p:blipFill>
          <a:blip r:embed="rId3"/>
          <a:stretch/>
        </p:blipFill>
        <p:spPr>
          <a:xfrm>
            <a:off x="3276720" y="1341360"/>
            <a:ext cx="2776320" cy="403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21400509_1"/>
          <p:cNvPicPr/>
          <p:nvPr/>
        </p:nvPicPr>
        <p:blipFill>
          <a:blip r:embed="rId4"/>
          <a:stretch/>
        </p:blipFill>
        <p:spPr>
          <a:xfrm>
            <a:off x="6000840" y="4076640"/>
            <a:ext cx="3143160" cy="2781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2"/>
          <p:cNvSpPr/>
          <p:nvPr/>
        </p:nvSpPr>
        <p:spPr>
          <a:xfrm>
            <a:off x="3710880" y="48690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Лягушка Голи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6879960" y="42210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Улитка Аха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0_2d976_900c71af_-1-XL"/>
          <p:cNvPicPr/>
          <p:nvPr/>
        </p:nvPicPr>
        <p:blipFill>
          <a:blip r:embed="rId2"/>
          <a:stretch/>
        </p:blipFill>
        <p:spPr>
          <a:xfrm>
            <a:off x="324000" y="907920"/>
            <a:ext cx="2133360" cy="2853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monifa"/>
          <p:cNvPicPr/>
          <p:nvPr/>
        </p:nvPicPr>
        <p:blipFill>
          <a:blip r:embed="rId3"/>
          <a:stretch/>
        </p:blipFill>
        <p:spPr>
          <a:xfrm>
            <a:off x="2627280" y="0"/>
            <a:ext cx="3143160" cy="2374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pygmy-hippo-lg"/>
          <p:cNvPicPr/>
          <p:nvPr/>
        </p:nvPicPr>
        <p:blipFill>
          <a:blip r:embed="rId4"/>
          <a:stretch/>
        </p:blipFill>
        <p:spPr>
          <a:xfrm>
            <a:off x="2700360" y="2492280"/>
            <a:ext cx="3143160" cy="2457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110"/>
          <p:cNvPicPr/>
          <p:nvPr/>
        </p:nvPicPr>
        <p:blipFill>
          <a:blip r:embed="rId5"/>
          <a:stretch/>
        </p:blipFill>
        <p:spPr>
          <a:xfrm>
            <a:off x="0" y="4067280"/>
            <a:ext cx="3203640" cy="2790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Animals_Beasts__002103_1"/>
          <p:cNvPicPr/>
          <p:nvPr/>
        </p:nvPicPr>
        <p:blipFill>
          <a:blip r:embed="rId6"/>
          <a:stretch/>
        </p:blipFill>
        <p:spPr>
          <a:xfrm>
            <a:off x="5759280" y="432432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gorilla-70_4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00720" y="0"/>
            <a:ext cx="2578320" cy="3446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6"/>
          <p:cNvSpPr/>
          <p:nvPr/>
        </p:nvSpPr>
        <p:spPr>
          <a:xfrm>
            <a:off x="698400" y="2409840"/>
            <a:ext cx="18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теу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614520" y="33336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истеу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вин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3113640" y="222408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ый бегем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3204000" y="522936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ока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427640" y="609300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леоп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6787440" y="35211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гори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e89eb04c7ffe2001d1f20c3fb01ee029"/>
          <p:cNvPicPr/>
          <p:nvPr/>
        </p:nvPicPr>
        <p:blipFill>
          <a:blip r:embed="rId2"/>
          <a:stretch/>
        </p:blipFill>
        <p:spPr>
          <a:xfrm>
            <a:off x="468360" y="189000"/>
            <a:ext cx="3338640" cy="388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1263389105"/>
          <p:cNvPicPr/>
          <p:nvPr/>
        </p:nvPicPr>
        <p:blipFill>
          <a:blip r:embed="rId3"/>
          <a:stretch/>
        </p:blipFill>
        <p:spPr>
          <a:xfrm>
            <a:off x="4716360" y="260280"/>
            <a:ext cx="3816360" cy="3052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1570"/>
          <p:cNvPicPr/>
          <p:nvPr/>
        </p:nvPicPr>
        <p:blipFill>
          <a:blip r:embed="rId4"/>
          <a:stretch/>
        </p:blipFill>
        <p:spPr>
          <a:xfrm>
            <a:off x="1187280" y="4797360"/>
            <a:ext cx="3143520" cy="1657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1265486142_l_147317"/>
          <p:cNvPicPr/>
          <p:nvPr/>
        </p:nvPicPr>
        <p:blipFill>
          <a:blip r:embed="rId5"/>
          <a:stretch/>
        </p:blipFill>
        <p:spPr>
          <a:xfrm>
            <a:off x="4788000" y="4005360"/>
            <a:ext cx="3573360" cy="26953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3"/>
          <p:cNvSpPr/>
          <p:nvPr/>
        </p:nvSpPr>
        <p:spPr>
          <a:xfrm>
            <a:off x="1188720" y="364500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рми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034720" y="43848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Муха Це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1" name="Picture 8" descr="iап"/>
          <p:cNvPicPr/>
          <p:nvPr/>
        </p:nvPicPr>
        <p:blipFill>
          <a:blip r:embed="rId1"/>
          <a:stretch/>
        </p:blipFill>
        <p:spPr>
          <a:xfrm>
            <a:off x="1619280" y="2060640"/>
            <a:ext cx="2305080" cy="3384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CAIXSNON"/>
          <p:cNvPicPr/>
          <p:nvPr/>
        </p:nvPicPr>
        <p:blipFill>
          <a:blip r:embed="rId2"/>
          <a:stretch/>
        </p:blipFill>
        <p:spPr>
          <a:xfrm>
            <a:off x="5292720" y="3933720"/>
            <a:ext cx="251928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i?id=2450353&amp;tov=7"/>
          <p:cNvPicPr/>
          <p:nvPr/>
        </p:nvPicPr>
        <p:blipFill>
          <a:blip r:embed="rId3"/>
          <a:stretch/>
        </p:blipFill>
        <p:spPr>
          <a:xfrm>
            <a:off x="5292720" y="1916280"/>
            <a:ext cx="2879640" cy="181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В Африке различают 3 природные зон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влажных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сава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пусты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Безымянныйо"/>
          <p:cNvPicPr/>
          <p:nvPr/>
        </p:nvPicPr>
        <p:blipFill>
          <a:blip r:embed="rId1"/>
          <a:stretch/>
        </p:blipFill>
        <p:spPr>
          <a:xfrm>
            <a:off x="1450800" y="160020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CAZVTHSE"/>
          <p:cNvPicPr/>
          <p:nvPr/>
        </p:nvPicPr>
        <p:blipFill>
          <a:blip r:embed="rId2"/>
          <a:stretch/>
        </p:blipFill>
        <p:spPr>
          <a:xfrm>
            <a:off x="2197080" y="4210200"/>
            <a:ext cx="1244520" cy="1650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i"/>
          <p:cNvPicPr/>
          <p:nvPr/>
        </p:nvPicPr>
        <p:blipFill>
          <a:blip r:embed="rId3"/>
          <a:stretch/>
        </p:blipFill>
        <p:spPr>
          <a:xfrm>
            <a:off x="5292720" y="3610080"/>
            <a:ext cx="2664000" cy="21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лажные вечнозеленые леса      Экваториальной Африки. Гилея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e1"/>
                </a:solidFill>
                <a:latin typeface="Arial"/>
              </a:rPr>
              <a:t>В поясе экваториального климата постоянно влажные вечнозеленые леса (или по-другому Гилея, что с греческого обозначает лес) покрывают примерно 8 % площади материка. Они распространены в бассейне реки Конго к северу - до 4° с. ш. и к югу от экватора - до 5° ю. ш. Кроме того, эти леса занимают побережье Атлантического океана примерно до 8° с. ш. А в дельтах рек и на побережьях, затопленных во время прилива, особенно на берегах Гвинейского залива, господствуют мангровые заросли. Первичные дождевые леса сохранились только в центральной котловине реки Конго. В других местах, особенно к северу от</a:t>
            </a:r>
            <a:r>
              <a:rPr b="1" lang="ru-RU" sz="1400" spc="-1" strike="noStrike">
                <a:solidFill>
                  <a:srgbClr val="ffffe1"/>
                </a:solidFill>
                <a:latin typeface="Arial"/>
              </a:rPr>
              <a:t> Гвинейского залива, их сменили низкорослые вторичные зарос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click?url=http%3A%2F%2Fdict"/>
          <p:cNvPicPr/>
          <p:nvPr/>
        </p:nvPicPr>
        <p:blipFill>
          <a:blip r:embed="rId1"/>
          <a:stretch/>
        </p:blipFill>
        <p:spPr>
          <a:xfrm>
            <a:off x="5238720" y="1770120"/>
            <a:ext cx="30862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              </a:t>
            </a: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Растительный мир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аркий климат и обилие влаги способствуют развитию густой вечнозеленой древесной растительности. Экваториальные леса растут в несколько яру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рхний ярус (высота 35-50 м) составляет сейба. Диаметр ее ствола достигает двух метров, а широкие дисковые корни поднимаются до высоты 4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реднем ярусе растут различные па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Масличная, из ее плодов получают пальмовое мас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Пальма рафия, к которой африканцы относятся особенно трогательно. Секрет такого отношения в 10-12 метровых листьях. Пигмеи покрывают ими свои хижины, из их волокон плетут ткани, шляпы, корзины. Секрет их плетения  от тончайших как шпагат до толстостенных, как удав, - передается по наслед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Эбеновое дерево, которое тонет в воде. Цвет его древесины черный, бурый или зеленый. Цвет будет зависеть от особых микробиологических процессов в почве. Древесина его очень прочная и гибкая, из нее делают меб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ижнем ярусе растут фикусы, бананы, различные папоротники, либерийское кофейное дерево.. Фикусы вырастают в высоту 7-8 м всего за 8-10 месяцев. Ствол у них внутри полый как у травы. Солнечный свет не может проникнуть через толщину зелени и в таком лесу почти нет обычной травы и кустар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лажном экваториальном лесу растут не только самые высокие, но и самые длинные растения  это лианы. Их длина достигает более 100 м. Лианы удерживаются на других растениях с помощью цепляющихся побегов, шипов, колючек или усиков. Лианы переплетают стволы деревьев, высоко взбираются на них и оттуда свисают гирляндами, делая лесную чащу непроходимой. Среди лиан особое место занимает каучуконосная древовидная лиана ландоль-фия,  Особая группа - это растения-паразиты, которые высасывают питательные вещества из других растений. Одно из них раффлезия. Оно присасывается к корням деревье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68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68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Животный м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жные экваториальные леса Африки имеют своеобразную фауну, но менее богатую, чем фауна, открытых пространств этого континента. В экваториальном африканском лесу мало травоядных, а следовательно, мало и хищников. Из копытных можно встретить лесных антилоп, очень осторожных и пугливых, родственных жирафу, животных - окапи. Есть также кабаны, буйволы, бегемоты. Из хищных животных встречаются дикие кошки, леопарды, шакалы и виверры.Из грызунов распространены кистехвостые дикобразы и шипохвос-тые летяги. Много здесь обезьян - мартышек, павианов, мандрилл, большинство из которых ведет древесный образ жизни. Обитают в этих местах и два рода человекообразных обезьян - шимпанзе и гориллы. Встречаются здесь и лемуры.Птицы влажных тропических лесов Африки - это несколько видов попугаев, бананоеды, красиво оперенные и ярко окрашенные лесные удоды, крошечные нектарницы, африканские павлины.Много ящериц и змей, в реках водится тупорылый крокодил. Из земноводных особенно много разнообразных лягушек.Из крупных хищников можно встретить тигров, львов, пуму, ягуара, пантеру.Джунгли изобилуют различными пресмыкающимися, среди которых много ядовитых змей. Большое разнообразие насекомых и паукообразных, в том числе и ядовит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66"/>
                </a:solidFill>
                <a:latin typeface="Arial"/>
              </a:rPr>
              <a:t>Гиле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300px-rainforest_fatu_hiva"/>
          <p:cNvPicPr/>
          <p:nvPr/>
        </p:nvPicPr>
        <p:blipFill>
          <a:blip r:embed="rId2"/>
          <a:stretch/>
        </p:blipFill>
        <p:spPr>
          <a:xfrm>
            <a:off x="0" y="2349360"/>
            <a:ext cx="4932360" cy="4508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liana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374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4"/>
          <a:stretch/>
        </p:blipFill>
        <p:spPr>
          <a:xfrm>
            <a:off x="4716360" y="3753000"/>
            <a:ext cx="4427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Верхний ярус влажных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3645000"/>
            <a:ext cx="863640" cy="35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фик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Марокко-показать-819"/>
          <p:cNvPicPr/>
          <p:nvPr/>
        </p:nvPicPr>
        <p:blipFill>
          <a:blip r:embed="rId2"/>
          <a:stretch/>
        </p:blipFill>
        <p:spPr>
          <a:xfrm>
            <a:off x="0" y="0"/>
            <a:ext cx="2484360" cy="3645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Ficus_udush1"/>
          <p:cNvPicPr/>
          <p:nvPr/>
        </p:nvPicPr>
        <p:blipFill>
          <a:blip r:embed="rId3"/>
          <a:stretch/>
        </p:blipFill>
        <p:spPr>
          <a:xfrm>
            <a:off x="6000840" y="1125360"/>
            <a:ext cx="3143160" cy="2352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-2859"/>
          <p:cNvPicPr/>
          <p:nvPr/>
        </p:nvPicPr>
        <p:blipFill>
          <a:blip r:embed="rId4"/>
          <a:stretch/>
        </p:blipFill>
        <p:spPr>
          <a:xfrm>
            <a:off x="2484360" y="1125360"/>
            <a:ext cx="3511800" cy="4537080"/>
          </a:xfrm>
          <a:prstGeom prst="rect">
            <a:avLst/>
          </a:prstGeom>
          <a:ln w="0">
            <a:noFill/>
          </a:ln>
        </p:spPr>
      </p:pic>
      <p:sp>
        <p:nvSpPr>
          <p:cNvPr id="171" name="Oval 12"/>
          <p:cNvSpPr/>
          <p:nvPr/>
        </p:nvSpPr>
        <p:spPr>
          <a:xfrm>
            <a:off x="3203640" y="4005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7308720" y="42210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6044040" y="3645000"/>
            <a:ext cx="26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Деревья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ходульными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g2010055"/>
          <p:cNvPicPr/>
          <p:nvPr/>
        </p:nvPicPr>
        <p:blipFill>
          <a:blip r:embed="rId5"/>
          <a:stretch/>
        </p:blipFill>
        <p:spPr>
          <a:xfrm>
            <a:off x="0" y="3965400"/>
            <a:ext cx="3863880" cy="2892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5"/>
          <p:cNvSpPr/>
          <p:nvPr/>
        </p:nvSpPr>
        <p:spPr>
          <a:xfrm>
            <a:off x="4070160" y="62373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паль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120746c0b6d611edf46cb5c058e"/>
          <p:cNvPicPr/>
          <p:nvPr/>
        </p:nvPicPr>
        <p:blipFill>
          <a:blip r:embed="rId2"/>
          <a:stretch/>
        </p:blipFill>
        <p:spPr>
          <a:xfrm>
            <a:off x="0" y="0"/>
            <a:ext cx="4680000" cy="369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10"/>
          <p:cNvPicPr/>
          <p:nvPr/>
        </p:nvPicPr>
        <p:blipFill>
          <a:blip r:embed="rId3"/>
          <a:stretch/>
        </p:blipFill>
        <p:spPr>
          <a:xfrm>
            <a:off x="4535640" y="0"/>
            <a:ext cx="4608360" cy="3746520"/>
          </a:xfrm>
          <a:prstGeom prst="rect">
            <a:avLst/>
          </a:prstGeom>
          <a:ln w="0">
            <a:noFill/>
          </a:ln>
        </p:spPr>
      </p:pic>
      <p:sp>
        <p:nvSpPr>
          <p:cNvPr id="179" name="Oval 10"/>
          <p:cNvSpPr/>
          <p:nvPr/>
        </p:nvSpPr>
        <p:spPr>
          <a:xfrm>
            <a:off x="6659640" y="184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3204360" y="314172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аг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13"/>
          <p:cNvPicPr/>
          <p:nvPr/>
        </p:nvPicPr>
        <p:blipFill>
          <a:blip r:embed="rId4"/>
          <a:stretch/>
        </p:blipFill>
        <p:spPr>
          <a:xfrm>
            <a:off x="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v19"/>
          <p:cNvPicPr/>
          <p:nvPr/>
        </p:nvPicPr>
        <p:blipFill>
          <a:blip r:embed="rId5"/>
          <a:stretch/>
        </p:blipFill>
        <p:spPr>
          <a:xfrm>
            <a:off x="4643280" y="3678120"/>
            <a:ext cx="4500720" cy="3179880"/>
          </a:xfrm>
          <a:prstGeom prst="rect">
            <a:avLst/>
          </a:prstGeom>
          <a:ln w="0">
            <a:noFill/>
          </a:ln>
        </p:spPr>
      </p:pic>
      <p:sp>
        <p:nvSpPr>
          <p:cNvPr id="183" name="Oval 14"/>
          <p:cNvSpPr/>
          <p:nvPr/>
        </p:nvSpPr>
        <p:spPr>
          <a:xfrm>
            <a:off x="4427640" y="530064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пиф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8102880" y="31417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ей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84480" y="-36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Средний и нижний ярус влажных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opTree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  <p:sp>
        <p:nvSpPr>
          <p:cNvPr id="188" name="Oval 11"/>
          <p:cNvSpPr/>
          <p:nvPr/>
        </p:nvSpPr>
        <p:spPr>
          <a:xfrm>
            <a:off x="2556000" y="28526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6300720" y="3429000"/>
            <a:ext cx="360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8" descr="i-1524"/>
          <p:cNvPicPr/>
          <p:nvPr/>
        </p:nvPicPr>
        <p:blipFill>
          <a:blip r:embed="rId3"/>
          <a:stretch/>
        </p:blipFill>
        <p:spPr>
          <a:xfrm>
            <a:off x="6000840" y="1052640"/>
            <a:ext cx="3143160" cy="2592360"/>
          </a:xfrm>
          <a:prstGeom prst="rect">
            <a:avLst/>
          </a:prstGeom>
          <a:ln w="0">
            <a:noFill/>
          </a:ln>
        </p:spPr>
      </p:pic>
      <p:sp>
        <p:nvSpPr>
          <p:cNvPr id="191" name="Oval 23"/>
          <p:cNvSpPr/>
          <p:nvPr/>
        </p:nvSpPr>
        <p:spPr>
          <a:xfrm>
            <a:off x="1547640" y="6742080"/>
            <a:ext cx="71640" cy="11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5" descr="EbenovoeDerevo"/>
          <p:cNvPicPr/>
          <p:nvPr/>
        </p:nvPicPr>
        <p:blipFill>
          <a:blip r:embed="rId4"/>
          <a:stretch/>
        </p:blipFill>
        <p:spPr>
          <a:xfrm>
            <a:off x="2700360" y="393372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banan"/>
          <p:cNvPicPr/>
          <p:nvPr/>
        </p:nvPicPr>
        <p:blipFill>
          <a:blip r:embed="rId5"/>
          <a:stretch/>
        </p:blipFill>
        <p:spPr>
          <a:xfrm>
            <a:off x="4992840" y="3649680"/>
            <a:ext cx="4151160" cy="3208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7"/>
          <p:cNvSpPr/>
          <p:nvPr/>
        </p:nvSpPr>
        <p:spPr>
          <a:xfrm>
            <a:off x="1875600" y="24922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сл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0" descr="000000"/>
          <p:cNvPicPr/>
          <p:nvPr/>
        </p:nvPicPr>
        <p:blipFill>
          <a:blip r:embed="rId6"/>
          <a:stretch/>
        </p:blipFill>
        <p:spPr>
          <a:xfrm>
            <a:off x="0" y="3141720"/>
            <a:ext cx="4140360" cy="3225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amazonas25"/>
          <p:cNvPicPr/>
          <p:nvPr/>
        </p:nvPicPr>
        <p:blipFill>
          <a:blip r:embed="rId7"/>
          <a:stretch/>
        </p:blipFill>
        <p:spPr>
          <a:xfrm>
            <a:off x="3132000" y="1052640"/>
            <a:ext cx="3527640" cy="2639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9"/>
          <p:cNvSpPr/>
          <p:nvPr/>
        </p:nvSpPr>
        <p:spPr>
          <a:xfrm>
            <a:off x="6088680" y="2997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8"/>
          <p:cNvSpPr/>
          <p:nvPr/>
        </p:nvSpPr>
        <p:spPr>
          <a:xfrm>
            <a:off x="3708360" y="566100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бено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1:06:29Z</dcterms:created>
  <dc:creator>1</dc:creator>
  <dc:description/>
  <dc:language>en-US</dc:language>
  <cp:lastModifiedBy>Ribak</cp:lastModifiedBy>
  <dcterms:modified xsi:type="dcterms:W3CDTF">2014-02-16T17:19:55Z</dcterms:modified>
  <cp:revision>8</cp:revision>
  <dc:subject/>
  <dc:title>Афр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10000000000001024140</vt:lpwstr>
  </property>
</Properties>
</file>