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2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8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7.jpeg" ContentType="image/jpeg"/>
  <Override PartName="/ppt/media/image18.png" ContentType="image/png"/>
  <Override PartName="/ppt/media/image36.jpeg" ContentType="image/jpeg"/>
  <Override PartName="/ppt/media/image20.png" ContentType="image/png"/>
  <Override PartName="/ppt/media/image28.jpeg" ContentType="image/jpeg"/>
  <Override PartName="/ppt/media/image34.jpeg" ContentType="image/jpeg"/>
  <Override PartName="/ppt/media/image37.png" ContentType="image/png"/>
  <Override PartName="/ppt/media/image11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dt" idx="7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ftr" idx="7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 type="sldNum" idx="7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6529-148C-42B5-9A9E-15CD96D145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D722-651F-4F78-8DC3-320F8EFCC5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2346-1F46-4CC4-9F98-ECAC146BD0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316B-F6BB-44D0-B65D-AE3706661E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51C0-E164-401E-BEA2-292B5FCC0E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95B6-F5D7-43FB-A6FD-4D89FF28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7ADD-3D23-4E49-A822-0FF2D88B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9B475-6940-4CEA-8CD3-BA6B7723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B1F2A-E386-495F-8953-F53A7142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A9B37-E388-4C92-8754-91FD718E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7518C-E37F-470B-AD72-DD7660E8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4A4BC-9137-46A9-A00D-D953C167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7443A-B6A1-499F-AECC-B2FD97D6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3262B-EB94-4B95-AA65-50E997CB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DC94E-052C-4BCC-A18B-B2B15ECE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669B1-CF73-43FE-9C11-85E99F5B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6F901-3210-4311-A750-4B0C0A64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9E65-1E63-43BE-9E0F-8B8FE026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0C138-D566-4BAA-8FF7-0B325340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70E3E-DBAD-4328-A601-DDF20E95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1F083-10ED-4F80-B83F-61FE572B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19EEF-F011-4A63-87F3-138735DB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89D75-9810-4DE2-9C79-03CA3AF2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80BEA-606E-46DA-B435-2260FD43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0E556-0F0B-4AFC-8435-9B0338CE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D0AE1-AFE1-473B-9832-C710D33C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FD366-84C0-4BB1-A5F1-CF894C84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20040-75F2-43F9-81A6-F51F70CE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931-C57B-4887-A231-C5344D7E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7EC8E-483E-43B4-935B-2773B7EF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06894-4C50-4742-AB2A-77D1A912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698FA-97AB-4F6A-8C78-F8DE0C04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A4D8F-C9AC-4CCF-A58E-D27540A2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009FF-D19D-4F5A-B1E3-16E1B571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BEAC5-3286-4070-B3F9-A5EE3E87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9A798-BB22-4164-992C-E57B8AA3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AB57C-CE5D-403D-8F02-E74B649D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1326A-EBF2-43B8-8A78-B2942A86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E53C5-6BCC-4E71-B2D8-11D4556F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8BE9-4165-4E45-A0E4-6EDAA864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00E0E-AF2E-49A1-AF0F-B5EE3A98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6FA87-E93F-42FB-B6B0-7A6B80A4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CA0F1-288D-4154-9C38-93CC7EC5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0EC38-E50C-4566-8435-6CDA8DE5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39C03-59AA-40AF-A95C-DAB180F6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D7B49-1E9E-4E56-910E-A2FD3670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FB699-16F8-41D7-83E7-C850B2F6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8FE4A-47A9-4ADE-B2EE-6C8A3200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DFAFF-6104-4BF4-BCAE-DED6D3B3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FA816-5CD9-4BB0-866E-D64B27FC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A8CF-19FC-4309-B35E-80495DE4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A7817-341E-4CE7-BF02-3EA5745E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CFD87-8B50-437A-BED4-9F767846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55803-0959-47FE-A7F1-33A0072C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337C9-54BC-43C5-BCE0-202B5C73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0F74C-9752-4C21-96F7-48D0B289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AD1FB-5872-4506-ABD9-3289EC26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3A859E-9E0F-43B4-B325-EC4DBAF3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C6DD40-EB11-4636-8415-CC5AEB5F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3520F8-5746-4E83-87E7-02BE229F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F68E4-9F60-4A0A-AC93-9F5B4D38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4289-CDCE-4B9C-8E6C-B581FEFA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57AA36-FF05-4B65-B72E-A10E34AD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08624-42DD-45C6-8219-3769A504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E95120-DED5-4238-8BDE-8A9C3E31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13679-2E1F-4294-B563-52B6A922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579E4A-B328-4F53-BD1B-2A2EE870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604C55-A708-423D-90E5-0D332374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E71963-01FF-4D52-8F73-B88C43B3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47D7A2-1EB6-43AA-BBD9-18312C77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841034-3DC7-4FA2-A84F-09377549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4270F4-C7F5-4BC5-9BFB-BEFB3FE0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D003-DA3A-45E3-89C6-085C43CA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F768D8-E454-4BFB-AC3C-090EA9C6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83F862-5269-40CA-AFE1-B9756236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523293-07CB-438C-81AC-A1867725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B3B240-9CC0-4985-9835-3F4B4440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8380AE-CCE9-4FF7-81AE-08ED79CE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CEBDC6-53CA-45A7-8A67-AC3DF6B2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575FEB-A9B0-4391-8724-97D95D86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6096F8-BB9F-49E9-AB0F-42C81C4F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91907C-6CF3-41B4-B3DE-18105D3B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F8AC6D-3A36-426C-93A6-7860F6F0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34F8-9147-4CA6-ACFD-5A6333BB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AD441D-6443-4020-B026-577D59C3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C7C254-2A40-483A-9E80-BA666FC0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AE204A-7F87-4F31-85A6-0DD3ED55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A6405F-CE1B-4F2A-A063-8E78741D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558F74-E68D-451A-B21E-D0EB0C21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7541EB-7A0A-4891-A452-7DFDBD08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C1A232-D3A7-42FF-8645-2E359322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45A148-DA7C-49B5-8447-C80FFFC4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C19533-A135-4FD5-AF67-6B66529E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814E0E-1B5C-4856-A0FF-306A2242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FC94-0F6A-499F-A3F7-B4F0EC77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0352B6-C271-4E3B-B631-A2D0C520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03B3BD-6A81-4C3F-8A21-E2C26175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1B88B9-C413-4DAE-AAD5-ED39E050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AF6E6B-7EC5-48F9-A2A1-DB292108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1F3E80-0A4F-4F04-B434-5193691A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79E1B-8422-4FA0-AC3D-C55A0544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3577C3-5985-4DB5-B62D-559690FC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01D537-EAB4-4370-A2D4-E7D9DF2C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75A306-AE3D-4426-829F-4D6FD74F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1B81B9-D5F0-43B2-8A57-5B943C0E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3012-F1C0-4BB0-B835-50952B79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48A55D-0CD7-4AEE-98AC-14B14C0A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70F009-4D43-45AD-A133-4B742215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CB9684-0F3F-4469-801E-0B3C1939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585FAD-0AF4-4FD3-9DA1-9342221B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24F13A-6A41-4F69-AFFD-CEEA3687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6FCC98-F722-4A02-ABAA-10864E3F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5805D3-ABC3-46D4-B016-E347E7E4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58DBD9-5231-487E-AEA4-4F135432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67D6B1-BC89-4298-A01A-B9947A49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EE786A-1497-4B4C-8507-20270726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90DD-694C-431E-9BCB-CD3C78C6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3E00-D2A2-43BB-94C5-01545B04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83D9EC-A751-48D6-830C-7683F900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A32B85-318A-41DA-9B15-6C892A22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59BF91-76DD-43A6-A781-056425A8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84BB88-52BB-4B42-8F3F-4FC24829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99786C-9D52-44F6-A269-B7DC1363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1CD056-30FB-4655-A26F-83917F7D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90AFDA-3A0E-4B6C-A513-7EF2BC55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796BED-4EA0-43F8-9BB5-CB6A9710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1DFDEA-5BCC-4C3A-9D9B-3A0CF478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DF3601-6508-45D9-A3AE-3C7A192E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EA96-60CF-4CE1-8320-62DF7779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933FD0-6180-4B28-B5F1-C78D6101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E8A3CC-1D09-4DB7-A898-7429AF76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2C83A9-3D5C-434E-AFBF-8C178310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FB9D2D-993C-4830-A91E-1D7F21D3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0311AA-523F-4C4B-B9E1-7233077A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3AF6E4-8632-4391-A6D8-BEBEC5C3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27DD3F-896E-434E-B6DF-C94AA3ED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89A654-CB2C-4DA8-AF65-74FD3D87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7B5E4B-C81E-4E7F-AD75-BDB104D1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942103-BE7D-4A33-84F2-0AA649AC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D408-6275-4A2B-9B8A-D16B38A2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9C9BCC-C955-4EAB-A05C-35F4E481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D7D457-B0D8-4BEE-AFB9-BC216F88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ED9A8C-A16B-4EE0-BED5-576C2FCF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DB163E-5C41-4C3E-8A2C-B7B9D6CB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113A58-1A1B-41D0-897C-C0CC366A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69C482-7621-4D41-A296-3B122DA7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3A2723-4400-4586-AEDF-125CF389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703FF7-EFAC-41AA-8540-B274B186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52A01A-81D8-44C8-97B8-6C38570E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420428-3F6B-4E0C-8301-E1C923E4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D4CB-768E-4C3B-9CA3-3CFEA768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27E5C5-560C-4346-B58F-54F96EED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30E45E-5E49-408F-9DAF-6AD9E605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046ACA-005E-4EEB-BBD6-EBAFA2D0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3B1588-8C53-444E-A599-E421D67A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6BE72D-8BFB-4A1E-B175-4B00B9F7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71959F-C766-46FE-A3F7-F37FBD5F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C7CDE7-2CDC-47CC-83AB-1C882985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E99C20-2D37-4CCD-AF4C-0D087071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AFB034-CFF2-4DF1-8FFB-EAAFA9BF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E9E348-A6B0-47A2-A242-342C5C53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97D5-4DCA-42EE-AE6E-34B6A86C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34B374-2685-4582-9DD6-ABF63492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AA4041-826C-4D74-AEA3-A97E9F81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2F18AF-5202-47BA-83C0-6A9E44B6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B410F3-C737-4163-8435-847F62EB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550C4F-5C14-4568-9C83-3FD915F7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69A24E-8950-485A-B775-386927B6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B0EB1D-BD77-46A8-80E7-6F9755F0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4AB4EC-E36E-44DE-AEAA-DF484FBA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78A9A3-6DC1-4754-8EE8-1D1A51A7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77BC07-01F0-4CC2-AA37-D5CC5D52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25DD5-40BD-451C-8E70-13F5FBFE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1BC7A1-DCCB-4CBD-84E4-0061EE31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32B32C-FB2C-4322-A659-54ADCA6F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7E5889-8E13-451E-A4A2-6C893EA2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69A612-C0AC-4C78-ABC5-F69824E4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3FC16E-58BE-4C65-B839-BE97D551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78BDBC-E8A7-48E0-B410-3BD561B1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CDAC59-A837-468D-88F7-2ADAE8CA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F98D67-31E0-4DDB-8875-212A34F8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472309-330F-4C87-8A32-54F2DBB9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671B03-8A0E-4D18-A3CC-A6445641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169EE-0F8E-4206-AE83-8E16FF25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FBAADF-BAD2-4FAF-B65A-AC0451F6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D98013-78CC-48F7-A085-0262E095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CF3030-3272-4068-BB0A-F8BA03D8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CDCF09-61B6-4450-A329-B088484A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334A2A-ADF2-444A-8349-87845938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4C838A-BB7C-4500-A1C6-D345A951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7941EA-FFDC-4D2A-8AA9-A3E15907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950725-F6D2-4225-B15F-92BFFE67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E1962D-301E-4609-A862-5C2815EA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CE17D4-E7BE-4C25-8821-F837BFBB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97676-EBA8-4E98-B498-762F1521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33DB54-A8A3-4DF8-9980-5E542CF8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0325F1-317C-4AC0-8113-2266BD6F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1E7ABE-1E1B-4DF1-BE74-9A1A055E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771B32-6EBA-4D57-A0D3-E6B9CCF8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444380-9620-4001-A337-4F2304E5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3A2C24-10BD-4ABA-A524-F78A766F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90EA71-4DE4-438B-9B25-B7806312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7DED2-4E3A-48E3-8CEF-ED673ED4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B4CC8-B0E0-4068-86A8-2BFC5EF8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B48C-DDBE-4658-94DF-D60AA790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BB48E-A6A8-4EFB-A1E1-8E355F1F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46897-9FE3-4BA6-8CE8-F90F2169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B6118-BF38-41F6-A1F4-F7612689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776C7-B142-49A6-BCDA-98484930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37CCD-C4F5-4BC0-95D7-96C5CAD1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2A68F-A9C5-45DD-99CA-0722675B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32344-38EA-467E-9884-0827B99C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71B98-B1A1-46F2-AD04-296BFDD7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72364-4E5D-4A32-8B55-280762C0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1B43B-9915-4835-AA7E-565CEAC3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386E-CF40-407E-908E-E1635959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6191A-8263-49A4-BE6A-332B5EC1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7E735-668F-4EAF-9BC7-01CC51B3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ABAFA-F0E2-4FA2-9A09-27950365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58491-75FE-45BC-B2F6-AA5FEAC4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65027-F627-42AC-9E86-BCD9A0B1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9727A-AFE0-4F44-BA36-8F8DE6E1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A4546-A1C0-4AB9-940A-97E2D748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8768E-4B37-497D-9D3C-C47C7C3E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D0636-69EC-41A2-A16C-0035A7E8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51894-B386-4863-A380-B2A12A37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2726-FF32-44CD-A50D-75C36096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4BDCC-60EF-459E-824D-FF5E4FF0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71A70-3F36-47DA-8A96-CF22E0F3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85B52-E298-4321-B375-819D9A0B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FE45B-0DF3-4A4C-A556-49CA5AA1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F9345-688A-4CBE-8AD8-CB25063E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8073B-CA0D-4150-BC1D-6D9E370B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D97F4-885C-4B80-892E-DF3B69F1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CD7DB-11C9-4227-9A55-B254368A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0ED41-4019-4AD7-854D-3203CD9F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0211D-0F0D-4972-B5F9-AB6B0B3D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8181-5583-4E7A-AF34-5960BF1F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9AFDD-075A-4576-A28C-6EB46685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DCBD6-E8D0-4411-9703-CAC72EAC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D3CD6-161B-4143-BD56-41CDBAD6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0F3E4-CE5B-4D74-8CC0-76C669ED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5258D-F5F6-4973-BFFB-5C3D39B8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1950B-1F97-450C-951E-95891005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DB788-BDB1-413C-A0A1-8C238999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85309-C253-4F8B-A9AC-D28A3B73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131C6-D9D1-4EF5-B162-A7AFB12B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B3AE7-6795-411F-8BEE-245B0666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FFA3-6979-4264-9B88-F69F1BB4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3F133-5A38-41CE-BF37-AFF4A621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BC60F-1FA4-46DA-BF8A-9ABD8640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67E09-5CE1-40E4-BD32-0583B1F5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18582-3223-4C07-9676-A815A9D2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5F7B5-822D-4443-A0CC-12720209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C429A-60A7-461C-86FF-F7199830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7D8D4-4F2E-4EAB-8D4D-97E4A09A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0A2DA-0045-46DB-A815-44F073E3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CC7EA-74D7-4A8C-B314-0F3E23FF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B1345-5A78-42EB-BDBF-F1E5471B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A707-8DB3-4ABE-A028-B42556AF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527EB-C75C-421E-ACFE-DA07A7B3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552F0-486B-42A8-A83A-A83E1A4B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DE24B-5D83-4F7A-96DA-D9E02359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75D24-64DA-46C7-8C1A-446D21BB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B3370-9FF1-4E0D-8E46-F73C683B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4ECEE-95D7-488C-9A85-44290371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121DF-27CB-4428-B828-8AFAE09D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DCAFB-0D06-4164-8B1A-8F7A029E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2D6A0-A600-459A-975A-E52C941A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58602-F0F7-4C4F-A635-4532A41B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686D-FD4F-49EB-AFF6-AD08019E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D7839-48EE-49EA-87D5-DEE6EFC8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C7339-5FD4-46CD-951C-05FA6198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39325-E9A5-4D22-BA0D-197F2EB1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116A8-2319-4CFA-91CE-9393D059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BC985-51AB-477F-AF4C-1CF8721A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91E20-B90E-48D3-8724-154FB693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8D3F7-0E4E-4ED7-B0B8-EBE76478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CC9DB-559E-4C14-9BD0-9E48CCE4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72DFC-506F-4DEA-9CEC-D2FBD9A0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DE27D-1007-47F1-8F41-7689AE66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6859-A4AC-4C17-83E3-D7245604348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0931-0C4D-4CF6-8D2F-8513C65EED0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4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4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4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BF33-9691-419F-A1D9-DF67624E7AE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7BCF-68FD-4CD5-A2A1-75AA4DC9ED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EA28-DB6C-4047-9C69-49E740D452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9CB8-C64A-4878-82B7-49E856485C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D3A4-6EBE-493F-8F81-D0073CA7A7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F119-D28D-4852-AA74-9B1D90EF3B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B22C-634B-4F85-97CB-F132988B74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EA57-FC9E-4CF9-83CD-01E6DC586E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A3C7-9325-4BB7-A5E1-A4ED2C3563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4E09-45C7-42FE-9161-E401EBEE2E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6E1C-5AA1-4525-A8F4-6702A4DA24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873D-394D-4BF2-8971-D237273421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D7E8-555A-4E1C-BF0B-CC4EE41B3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6167-71FA-4B6B-A0CA-4B2C720525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9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4B9F-F859-47DC-901D-5EE23B62AFB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3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3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4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11F8-18B0-4D6E-86AB-ED77FA336BB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8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C3CC-3A19-45EF-B8C7-33778D95AD1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3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9DD8-4E03-4F17-A1A0-386AC364D44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AE97-2AF3-4BE5-AA11-94B1CBD87E5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31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AC63-C7FD-4A12-BE86-DAA4FFC27D0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8604-9969-4009-A78C-CA451760C48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google.ru/imgres?imgurl=http://www.fotoart.org.ua/albums/userpics/namib_desert_namibia.jpg&amp;imgrefurl=http://www.fotoart.org.ua/displayimage.php?album%3D102%26pos%3D7&amp;usg=__7PaDsfjyOg3Ly0oKZBINkDTPpL0=&amp;h=1024&amp;w=1280&amp;sz=365&amp;hl=ru&amp;start=3&amp;zoom=1&amp;um=1&amp;itbs=1&amp;tbnid=BON9fcvdhwU0RM:&amp;tbnh=120&amp;tbnw=150&amp;prev=/images?q%3D&#1085;&#1072;&#1084;&#1080;&#1073;%26um%3D1%26hl%3Dru%26newwindow%3D1%26sa%3DG%26gbv%3D2%26tbs%3Disch:1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www.google.ru/imgres?imgurl=http://www.zastavki.com/pictures/1152x864/2008/World_Africa_Tok_Tokkie___Namib_Desert___Namibia___Africa_008892_.jpg&amp;imgrefurl=http://www.zastavki.com/rus/World/Africa/wallpaper-8892-9.htm&amp;usg=__ybYHJLZcG6MdQbOd_HtU7cbZea4=&amp;h=864&amp;w=1152&amp;sz=305&amp;hl=ru&amp;start=17&amp;zoom=1&amp;um=1&amp;itbs=1&amp;tbnid=cThxgO2TUVG9eM:&amp;tbnh=113&amp;tbnw=150&amp;prev=/images?q%3D&#1085;&#1072;&#1084;&#1080;&#1073;%26um%3D1%26hl%3Dru%26newwindow%3D1%26sa%3DG%26gbv%3D2%26tbs%3Disch:1" TargetMode="External"/><Relationship Id="rId5" Type="http://schemas.openxmlformats.org/officeDocument/2006/relationships/image" Target="../media/image31.jpeg"/><Relationship Id="rId6" Type="http://schemas.openxmlformats.org/officeDocument/2006/relationships/hyperlink" Target="http://www.google.ru/imgres?imgurl=http://www.phototravels.net/namibia/ndv1/namib-desert-v-98.2.jpg&amp;imgrefurl=http://www.phototravels.net/namibia/namib-desert-trees.html&amp;usg=__yLG4MuGEFWt9NqtQo4hkvqjOsis=&amp;h=328&amp;w=497&amp;sz=37&amp;hl=ru&amp;start=2&amp;zoom=1&amp;um=1&amp;itbs=1&amp;tbnid=WblrS-i-0IwLwM:&amp;tbnh=86&amp;tbnw=130&amp;prev=/images?q%3D&#1085;&#1072;&#1084;&#1080;&#1073;%26um%3D1%26hl%3Dru%26newwindow%3D1%26sa%3DG%26gbv%3D2%26tbs%3Disch:1" TargetMode="External"/><Relationship Id="rId7" Type="http://schemas.openxmlformats.org/officeDocument/2006/relationships/image" Target="../media/image32.jpeg"/><Relationship Id="rId8" Type="http://schemas.openxmlformats.org/officeDocument/2006/relationships/hyperlink" Target="http://www.google.ru/imgres?imgurl=http://i1.trekearth.com/photos/17939/huge_welwitschia_mirabilis.jpg&amp;imgrefurl=http://www.trekearth.com/gallery/Africa/Angola/South/Cunene/photo159002.htm&amp;usg=__7lWFTsvx6nabSYQM_Gn_8pAswlA=&amp;h=517&amp;w=800&amp;sz=170&amp;hl=ru&amp;start=16&amp;zoom=1&amp;um=1&amp;itbs=1&amp;tbnid=OhCSBE3b15ozVM:&amp;tbnh=92&amp;tbnw=143&amp;prev=/images?q%3D&#1074;&#1077;&#1083;&#1100;&#1074;&#1080;&#1095;&#1080;&#1103;%26um%3D1%26hl%3Dru%26newwindow%3D1%26sa%3DG%26gbv%3D2%26tbs%3Disch:1" TargetMode="External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slideLayout" Target="../slideLayouts/slideLayout145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Rectangle 2" descr=""/>
          <p:cNvPicPr/>
          <p:nvPr/>
        </p:nvPicPr>
        <p:blipFill>
          <a:blip r:embed="rId1"/>
          <a:stretch/>
        </p:blipFill>
        <p:spPr>
          <a:xfrm>
            <a:off x="73080" y="433440"/>
            <a:ext cx="9077400" cy="5675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4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6" descr="namib_desert_namib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89000"/>
            <a:ext cx="2147760" cy="17175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8" descr="World_Africa_Tok_Tokkie___Namib_Desert___Namibia___Africa_008892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79640" y="148428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0" descr="namib-desert-v-9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227640" y="260280"/>
            <a:ext cx="2606760" cy="17240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2" descr="huge_welwitschia_mirabili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16360" y="1557360"/>
            <a:ext cx="2881440" cy="18540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4" descr="vv02"/>
          <p:cNvPicPr/>
          <p:nvPr/>
        </p:nvPicPr>
        <p:blipFill>
          <a:blip r:embed="rId10"/>
          <a:stretch/>
        </p:blipFill>
        <p:spPr>
          <a:xfrm>
            <a:off x="6516720" y="4581360"/>
            <a:ext cx="2448000" cy="15256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6" descr="velvichiya"/>
          <p:cNvPicPr/>
          <p:nvPr/>
        </p:nvPicPr>
        <p:blipFill>
          <a:blip r:embed="rId11"/>
          <a:stretch/>
        </p:blipFill>
        <p:spPr>
          <a:xfrm>
            <a:off x="250920" y="4292640"/>
            <a:ext cx="2700360" cy="20192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8" descr="06"/>
          <p:cNvPicPr/>
          <p:nvPr/>
        </p:nvPicPr>
        <p:blipFill>
          <a:blip r:embed="rId12"/>
          <a:stretch/>
        </p:blipFill>
        <p:spPr>
          <a:xfrm>
            <a:off x="3492360" y="3500280"/>
            <a:ext cx="2438640" cy="2571840"/>
          </a:xfrm>
          <a:prstGeom prst="rect">
            <a:avLst/>
          </a:prstGeom>
          <a:ln w="0">
            <a:noFill/>
          </a:ln>
        </p:spPr>
      </p:pic>
      <p:sp>
        <p:nvSpPr>
          <p:cNvPr id="1042" name="Text Box 19"/>
          <p:cNvSpPr/>
          <p:nvPr/>
        </p:nvSpPr>
        <p:spPr>
          <a:xfrm>
            <a:off x="3419640" y="54936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Нами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Text Box 21"/>
          <p:cNvSpPr/>
          <p:nvPr/>
        </p:nvSpPr>
        <p:spPr>
          <a:xfrm>
            <a:off x="6732720" y="3860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Вельвич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Text Box 22"/>
          <p:cNvSpPr/>
          <p:nvPr/>
        </p:nvSpPr>
        <p:spPr>
          <a:xfrm>
            <a:off x="4067280" y="602136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Соленый ку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Text Box 23"/>
          <p:cNvSpPr/>
          <p:nvPr/>
        </p:nvSpPr>
        <p:spPr>
          <a:xfrm>
            <a:off x="4067280" y="6021360"/>
            <a:ext cx="97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Rectangle 4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8454960" cy="1212840"/>
          </a:xfrm>
          <a:prstGeom prst="rect">
            <a:avLst/>
          </a:prstGeom>
          <a:ln w="0">
            <a:noFill/>
          </a:ln>
        </p:spPr>
      </p:pic>
      <p:sp>
        <p:nvSpPr>
          <p:cNvPr id="1047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472464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Зона пустыни и полупустыни- это одна из наиболее обширных природных зон мира. Сейчас идёт процесс роста численности населения планеты. Это значит. Что увеличивается потребность в сельскохозяйственных продуктах. Для решения проблем можно предложить два пути: во-первых, увеличить производительность почв и создавать высокоурожайные сорта растений. А во-вторых, найти такие почвы , которые можно будет использовать в сельском хозяйстве сверх существующие пахотных и обрабатываемых земель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48" name="Picture 7" descr=""/>
          <p:cNvPicPr/>
          <p:nvPr/>
        </p:nvPicPr>
        <p:blipFill>
          <a:blip r:embed="rId2"/>
          <a:stretch/>
        </p:blipFill>
        <p:spPr>
          <a:xfrm>
            <a:off x="4761000" y="1731960"/>
            <a:ext cx="4273560" cy="3894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Rectangle 4" descr=""/>
          <p:cNvPicPr/>
          <p:nvPr/>
        </p:nvPicPr>
        <p:blipFill>
          <a:blip r:embed="rId1"/>
          <a:stretch/>
        </p:blipFill>
        <p:spPr>
          <a:xfrm>
            <a:off x="-55440" y="152280"/>
            <a:ext cx="9242280" cy="1401840"/>
          </a:xfrm>
          <a:prstGeom prst="rect">
            <a:avLst/>
          </a:prstGeom>
          <a:ln w="0">
            <a:noFill/>
          </a:ln>
        </p:spPr>
      </p:pic>
      <p:sp>
        <p:nvSpPr>
          <p:cNvPr id="991" name="Rectangle 13"/>
          <p:cNvSpPr/>
          <p:nvPr/>
        </p:nvSpPr>
        <p:spPr>
          <a:xfrm>
            <a:off x="152280" y="1305000"/>
            <a:ext cx="4343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ad1f1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На юго-востоке Восточно-Европейской равнины, по северо-западной окраине Прикаспийской низменности простираются зоны полупустынь и пустынь России. В отличие от тундры и тайги зона не образует сплошной широтной полосы. Ее большая часть осталась на территории Казахстана и Средней Аз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2" name="Picture 15" descr=""/>
          <p:cNvPicPr/>
          <p:nvPr/>
        </p:nvPicPr>
        <p:blipFill>
          <a:blip r:embed="rId2"/>
          <a:stretch/>
        </p:blipFill>
        <p:spPr>
          <a:xfrm>
            <a:off x="4657680" y="1447920"/>
            <a:ext cx="4152960" cy="21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3" name="Picture 16" descr=""/>
          <p:cNvPicPr/>
          <p:nvPr/>
        </p:nvPicPr>
        <p:blipFill>
          <a:blip r:embed="rId3"/>
          <a:stretch/>
        </p:blipFill>
        <p:spPr>
          <a:xfrm>
            <a:off x="4724280" y="3887640"/>
            <a:ext cx="4114800" cy="273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zoom dir="in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Rectangle 4" descr=""/>
          <p:cNvPicPr/>
          <p:nvPr/>
        </p:nvPicPr>
        <p:blipFill>
          <a:blip r:embed="rId1"/>
          <a:stretch/>
        </p:blipFill>
        <p:spPr>
          <a:xfrm>
            <a:off x="122400" y="96840"/>
            <a:ext cx="8564400" cy="1487520"/>
          </a:xfrm>
          <a:prstGeom prst="rect">
            <a:avLst/>
          </a:prstGeom>
          <a:ln w="0">
            <a:noFill/>
          </a:ln>
        </p:spPr>
      </p:pic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49532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В Полупустыни и пустыни сухой, резко континентальный климат. Это связано с тем, что циклоны здесь крайне редкие гости, зато антициклоны приходят постоянно из глубины Евразии. Зимы холодные, лето жаркое. Осадков в этой зоне мало 250мм в год. Испаряемость в 4-7раз превышает количество осадков. Средняя температура июля в полупустынях +24…+26 градусов, а в пустынях +26…+30градусов, а в январе -10-20 градусов. 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6" name="Rectangle 7"/>
          <p:cNvSpPr/>
          <p:nvPr/>
        </p:nvSpPr>
        <p:spPr>
          <a:xfrm>
            <a:off x="838080" y="38862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7" name="Picture 9" descr=""/>
          <p:cNvPicPr/>
          <p:nvPr/>
        </p:nvPicPr>
        <p:blipFill>
          <a:blip r:embed="rId2"/>
          <a:stretch/>
        </p:blipFill>
        <p:spPr>
          <a:xfrm>
            <a:off x="5065560" y="2189160"/>
            <a:ext cx="4042080" cy="2784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Rectangle 4" descr=""/>
          <p:cNvPicPr/>
          <p:nvPr/>
        </p:nvPicPr>
        <p:blipFill>
          <a:blip r:embed="rId1"/>
          <a:stretch/>
        </p:blipFill>
        <p:spPr>
          <a:xfrm>
            <a:off x="122400" y="96840"/>
            <a:ext cx="8564400" cy="1487520"/>
          </a:xfrm>
          <a:prstGeom prst="rect">
            <a:avLst/>
          </a:prstGeom>
          <a:ln w="0">
            <a:noFill/>
          </a:ln>
        </p:spPr>
      </p:pic>
      <p:sp>
        <p:nvSpPr>
          <p:cNvPr id="9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Полупустынях и пустынях есть  растения : верблюжая колючка, лотос, эфемеры, полынь др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00" name="Picture 7" descr=""/>
          <p:cNvPicPr/>
          <p:nvPr/>
        </p:nvPicPr>
        <p:blipFill>
          <a:blip r:embed="rId2"/>
          <a:stretch/>
        </p:blipFill>
        <p:spPr>
          <a:xfrm>
            <a:off x="5213520" y="1295280"/>
            <a:ext cx="377820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1" name="Picture 8" descr=""/>
          <p:cNvPicPr/>
          <p:nvPr/>
        </p:nvPicPr>
        <p:blipFill>
          <a:blip r:embed="rId3"/>
          <a:stretch/>
        </p:blipFill>
        <p:spPr>
          <a:xfrm>
            <a:off x="304920" y="3657600"/>
            <a:ext cx="5238720" cy="28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2" name="Picture 9" descr=""/>
          <p:cNvPicPr/>
          <p:nvPr/>
        </p:nvPicPr>
        <p:blipFill>
          <a:blip r:embed="rId4"/>
          <a:stretch/>
        </p:blipFill>
        <p:spPr>
          <a:xfrm>
            <a:off x="6172200" y="4572000"/>
            <a:ext cx="2705040" cy="2028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Rectangle 4" descr=""/>
          <p:cNvPicPr/>
          <p:nvPr/>
        </p:nvPicPr>
        <p:blipFill>
          <a:blip r:embed="rId1"/>
          <a:stretch/>
        </p:blipFill>
        <p:spPr>
          <a:xfrm>
            <a:off x="122400" y="171360"/>
            <a:ext cx="8564400" cy="149220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очва полупустыни- каштановы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очва пустыни- серозёмы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05" name="Picture 7" descr=""/>
          <p:cNvPicPr/>
          <p:nvPr/>
        </p:nvPicPr>
        <p:blipFill>
          <a:blip r:embed="rId2"/>
          <a:stretch/>
        </p:blipFill>
        <p:spPr>
          <a:xfrm>
            <a:off x="5029200" y="1295280"/>
            <a:ext cx="3809880" cy="2505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06" name="Picture 8" descr=""/>
          <p:cNvPicPr/>
          <p:nvPr/>
        </p:nvPicPr>
        <p:blipFill>
          <a:blip r:embed="rId3"/>
          <a:stretch/>
        </p:blipFill>
        <p:spPr>
          <a:xfrm>
            <a:off x="380880" y="3886200"/>
            <a:ext cx="3429000" cy="257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07" name="Picture 9" descr=""/>
          <p:cNvPicPr/>
          <p:nvPr/>
        </p:nvPicPr>
        <p:blipFill>
          <a:blip r:embed="rId4"/>
          <a:stretch/>
        </p:blipFill>
        <p:spPr>
          <a:xfrm>
            <a:off x="4552920" y="4419720"/>
            <a:ext cx="4133880" cy="3833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Rectangle 4" descr=""/>
          <p:cNvPicPr/>
          <p:nvPr/>
        </p:nvPicPr>
        <p:blipFill>
          <a:blip r:embed="rId1"/>
          <a:stretch/>
        </p:blipFill>
        <p:spPr>
          <a:xfrm>
            <a:off x="122400" y="96840"/>
            <a:ext cx="8564400" cy="148752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3" descr=""/>
          <p:cNvPicPr/>
          <p:nvPr/>
        </p:nvPicPr>
        <p:blipFill>
          <a:blip r:embed="rId2"/>
          <a:stretch/>
        </p:blipFill>
        <p:spPr>
          <a:xfrm>
            <a:off x="4956120" y="1146240"/>
            <a:ext cx="4035600" cy="267660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4" descr=""/>
          <p:cNvPicPr/>
          <p:nvPr/>
        </p:nvPicPr>
        <p:blipFill>
          <a:blip r:embed="rId3"/>
          <a:stretch/>
        </p:blipFill>
        <p:spPr>
          <a:xfrm>
            <a:off x="6705720" y="3962520"/>
            <a:ext cx="2189160" cy="27302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5" descr=""/>
          <p:cNvPicPr/>
          <p:nvPr/>
        </p:nvPicPr>
        <p:blipFill>
          <a:blip r:embed="rId4"/>
          <a:stretch/>
        </p:blipFill>
        <p:spPr>
          <a:xfrm>
            <a:off x="4267080" y="3809880"/>
            <a:ext cx="2389320" cy="1243080"/>
          </a:xfrm>
          <a:prstGeom prst="rect">
            <a:avLst/>
          </a:prstGeom>
          <a:ln w="0">
            <a:noFill/>
          </a:ln>
        </p:spPr>
      </p:pic>
      <p:sp>
        <p:nvSpPr>
          <p:cNvPr id="1012" name="PlaceHolder 1"/>
          <p:cNvSpPr>
            <a:spLocks noGrp="1"/>
          </p:cNvSpPr>
          <p:nvPr>
            <p:ph/>
          </p:nvPr>
        </p:nvSpPr>
        <p:spPr>
          <a:xfrm>
            <a:off x="151920" y="12949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Среди животных полупустыни особенно многочисленны зайцы, грызуны (суслики, тушканчики, песчанки, полевки, хомячки) и пресмыкающиеся; из копытных – антилопы, безоаровый козел, муфлон, кулан и др. Из мелких хищников повсеместно распространены: шакал, полосатая гиена, каракал, степная кошка, лисица-фенек и др. Довольно разнообразны птицы. Много насекомых и паукообразных (каракурт, скорпионы, фаланги)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zoom dir="in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0" descr="1203880865_4_oasis_kolomensky_com"/>
          <p:cNvPicPr/>
          <p:nvPr/>
        </p:nvPicPr>
        <p:blipFill>
          <a:blip r:embed="rId2"/>
          <a:stretch/>
        </p:blipFill>
        <p:spPr>
          <a:xfrm>
            <a:off x="2268360" y="2505240"/>
            <a:ext cx="6875640" cy="43527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1" descr=""/>
          <p:cNvPicPr/>
          <p:nvPr/>
        </p:nvPicPr>
        <p:blipFill>
          <a:blip r:embed="rId3"/>
          <a:stretch/>
        </p:blipFill>
        <p:spPr>
          <a:xfrm>
            <a:off x="0" y="0"/>
            <a:ext cx="4797360" cy="3011400"/>
          </a:xfrm>
          <a:prstGeom prst="rect">
            <a:avLst/>
          </a:prstGeom>
          <a:ln w="0">
            <a:noFill/>
          </a:ln>
        </p:spPr>
      </p:pic>
      <p:sp>
        <p:nvSpPr>
          <p:cNvPr id="1018" name="Text Box 12"/>
          <p:cNvSpPr/>
          <p:nvPr/>
        </p:nvSpPr>
        <p:spPr>
          <a:xfrm>
            <a:off x="5079960" y="476280"/>
            <a:ext cx="357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Тропические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пустын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0" descr="i-1870"/>
          <p:cNvPicPr/>
          <p:nvPr/>
        </p:nvPicPr>
        <p:blipFill>
          <a:blip r:embed="rId2"/>
          <a:stretch/>
        </p:blipFill>
        <p:spPr>
          <a:xfrm>
            <a:off x="5580000" y="208080"/>
            <a:ext cx="3564000" cy="27860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1" descr="Триполи"/>
          <p:cNvPicPr/>
          <p:nvPr/>
        </p:nvPicPr>
        <p:blipFill>
          <a:blip r:embed="rId3"/>
          <a:stretch/>
        </p:blipFill>
        <p:spPr>
          <a:xfrm>
            <a:off x="2050920" y="3427560"/>
            <a:ext cx="5148360" cy="3430440"/>
          </a:xfrm>
          <a:prstGeom prst="rect">
            <a:avLst/>
          </a:prstGeom>
          <a:ln w="431640">
            <a:solidFill>
              <a:srgbClr val="ffffff"/>
            </a:solidFill>
            <a:miter/>
          </a:ln>
        </p:spPr>
      </p:pic>
      <p:sp>
        <p:nvSpPr>
          <p:cNvPr id="1024" name="Rectangle 12"/>
          <p:cNvSpPr/>
          <p:nvPr/>
        </p:nvSpPr>
        <p:spPr>
          <a:xfrm>
            <a:off x="3851280" y="621648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риполи – самое жаркое место на Земл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1" i="1" lang="el-GR" sz="1800" spc="-1" strike="noStrike">
                <a:solidFill>
                  <a:srgbClr val="ff0000"/>
                </a:solidFill>
                <a:latin typeface="Arial"/>
              </a:rPr>
              <a:t>Τ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+58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°C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5" name="Picture 14" descr="Sahara_photo1"/>
          <p:cNvPicPr/>
          <p:nvPr/>
        </p:nvPicPr>
        <p:blipFill>
          <a:blip r:embed="rId4"/>
          <a:stretch/>
        </p:blipFill>
        <p:spPr>
          <a:xfrm>
            <a:off x="1403280" y="260280"/>
            <a:ext cx="4032360" cy="2676600"/>
          </a:xfrm>
          <a:prstGeom prst="rect">
            <a:avLst/>
          </a:prstGeom>
          <a:ln w="0">
            <a:noFill/>
          </a:ln>
        </p:spPr>
      </p:pic>
      <p:sp>
        <p:nvSpPr>
          <p:cNvPr id="1026" name="Text Box 16"/>
          <p:cNvSpPr/>
          <p:nvPr/>
        </p:nvSpPr>
        <p:spPr>
          <a:xfrm>
            <a:off x="1692360" y="2708280"/>
            <a:ext cx="30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Большая пустыня планет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Text Box 17"/>
          <p:cNvSpPr/>
          <p:nvPr/>
        </p:nvSpPr>
        <p:spPr>
          <a:xfrm>
            <a:off x="6516720" y="270828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Песчанная бур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6" descr="EthnAfrica"/>
          <p:cNvPicPr/>
          <p:nvPr/>
        </p:nvPicPr>
        <p:blipFill>
          <a:blip r:embed="rId2"/>
          <a:stretch/>
        </p:blipFill>
        <p:spPr>
          <a:xfrm>
            <a:off x="1692360" y="476280"/>
            <a:ext cx="6048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0:30:35Z</dcterms:created>
  <dc:creator>111</dc:creator>
  <dc:description/>
  <dc:language>en-US</dc:language>
  <cp:lastModifiedBy>Ribak</cp:lastModifiedBy>
  <dcterms:modified xsi:type="dcterms:W3CDTF">2014-02-16T17:22:1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44000000000001024140</vt:lpwstr>
  </property>
  <property fmtid="{D5CDD505-2E9C-101B-9397-08002B2CF9AE}" pid="3" name="Version">
    <vt:r8>1</vt:r8>
  </property>
</Properties>
</file>