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F688-CD1B-4669-83AA-19ED4A37D6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9EA-9A4D-47CB-AB92-85C0A2BA2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C65C-C717-41EF-B90B-5CA308026F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53C-4260-4DCF-A160-D4FE6B3E35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5E9-728D-4060-81FB-55E81F84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A84-19A1-46DB-B300-1E42BDC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A7D-7AC2-4DA2-BE0E-5B37A885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BD6-0DA5-405E-A16A-B63F165C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76E4-D765-44B7-958A-DCE78B01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B4D5-B764-4C6A-981E-FCFFD1F3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988C-7884-4CB3-9088-76ADE5FC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A56-0545-4100-B363-B8C7711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FC71-F889-4E04-B588-51416E56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2A5-8B52-4BFE-A5E1-2566978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9DF-4233-42E6-850B-5EA09EE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C6-4D46-43DB-AA0E-DAA02C2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A337-6A55-4F15-AE30-9969790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B5B8-6B7A-487D-985D-9BD88DC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954-82A0-460C-969B-6AF36732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E11-9222-4684-AC03-9247A1B1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4E1-6945-43AC-BCF2-9A5CFBD9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BA5A-A565-497C-A998-24FEEF5C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9D83-87B7-4229-8F9A-05AE55B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D9D1-0AB2-4E0D-9BA7-DCAE336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7A1F-4BE5-4D53-9497-86195EC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B6C4-808F-4FD5-8889-8320F78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5A8-B403-49FE-95D7-7E39140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B520-B888-43DF-BD0B-70E13178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156B-7622-48B8-9BFC-A21E21B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35AC-826D-4234-9D39-E5F4D00A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1E45-85AC-478E-8297-3275414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D8CA-F6D7-4D5E-8368-DD4632C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0951-D313-4D96-8A5B-52B06F0A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1797-D36E-420B-94E1-A2725247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7A7-20B3-40BF-81A3-9E1F0AB9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EA6-801A-466D-990E-F3640C6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50A-4D30-4A3E-8261-FE1C706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7D8-52FD-49E9-94ED-626605A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137-EEE3-446E-943E-23B4BF6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52A-BEA8-4637-9196-E216CC68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E48-7B7C-4829-8439-10F73516B5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D3AD-DC9A-4430-8FFB-CDE87C172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25C6-0053-4070-8C3C-7408CD083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ru/imgres?imgurl=http://dic.academic.ru/pictures/wiki/files/80/Pelikan_Walvis_Bay.jpg&amp;imgrefurl=http://dic.academic.ru/dic.nsf/ruwiki/45986&amp;usg=__KCepR8D9K8659wQicTcN5Bvm4Kc=&amp;h=2448&amp;w=3264&amp;sz=1279&amp;hl=ru&amp;start=18&amp;zoom=1&amp;um=1&amp;itbs=1&amp;tbnid=tPZdfVl9RR_06M:&amp;tbnh=113&amp;tbnw=150&amp;prev=/images?q%3D&#1087;&#1077;&#1083;&#1080;&#1082;&#1072;&#1085;%26um%3D1%26hl%3Dru%26newwindow%3D1%26sa%3DG%26gbv%3D2%26tbs%3Disch: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ru/imgres?imgurl=http://sigils.ru/symbols/img/pelikan01.jpg&amp;imgrefurl=http://sigils.ru/symbols/pelikan.html&amp;usg=__Uhcv0wnwEINiwfZy3aQ_4M5qYRM=&amp;h=600&amp;w=490&amp;sz=49&amp;hl=ru&amp;start=11&amp;zoom=1&amp;um=1&amp;itbs=1&amp;tbnid=UPzsW_iKlVLQfM:&amp;tbnh=135&amp;tbnw=110&amp;prev=/images?q%3D&#1087;&#1077;&#1083;&#1080;&#1082;&#1072;&#1085;%26um%3D1%26hl%3Dru%26newwindow%3D1%26sa%3DG%26gbv%3D2%26tbs%3Disch:1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6193080" cy="3322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83920" y="260280"/>
            <a:ext cx="78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Жестколист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вечнозеле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еса и кустарники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93600" y="588816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полнил ученик 7-Б класса Альпер Макс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я и 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венный 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60" indent="193680" algn="just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ие гумуса равно 4—7%, преобладают гуминовые кислоты. Следовательно, естественное плодородие почв весьма вы­сокое. Обилие карбонатов ведет, в частности, к развитию богатой фауны наземных раковинных моллюс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тоянно влажных субтропических и умеренных дождевых и лавролистных лесах представлены красно­земы и желтоземы, имеющие промывной режим и накапливающие менее подвижные продукты выветривания — свободные гидроксиды алюминия и железа. Почвы эти малогумусные, кислые, в них выражены также процессы оподзоливания (они приостанавливают­ся на основных материнских породах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жестколистных лесов в среднем достигает 15—20 м, лишь высота эвкалиптовых лесов кэрри соответствующего типа может составлять 40—50 м. Нередки также разреженные древо­стой с кустарниками, а также чисто кустарниковые жестколистные формации (маквис, чапарраль, мали-скраб). Часто представлен единственный древесный ярус, бывают двухъярусные леса. Кроме преобладающей жизненной формы жестколистных деревьев и кус­тарников, которая конвергентно образовалась у видов разных се­мейств и на разных материках, представлены и другие, как прави­ло, более характерные для отдельных регион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термитов этого ви­да составляет 600 экз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биомасс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и явно домини­руют среди гетеротрофов. Правда, это единственный вид, сооружающий заметные термитники. Остальные 11 видов обитают в толще грунта или в стволах упавших деревьев. Самый массовый 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os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тается упавшими стволами деревьев, пнями, сухими сучья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же местах наиболее обыч­ными оказались крупные мокрицы, земляные черви, тараканы и кивсяки, живущие в норках. В склерофилльных сообществах Ав­стралии обычны земляные черви из семейства мегасколецид и глоссосколецид, а также позднее завезенные из Европы дождевые черви-люмбриц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хищный образ жизни ведут взрослые амфибии. В пределах Средиземноморья обычны некоторые жабы, древесные квакши. Многочисленны разнообразные ящерицы, многие из ко­торых быстро бегают по скалам, обрывам и стволам деревьев (группа стенных и скальных ящериц, геккон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ts val="104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43976222_Tyuleni__Monahi2"/>
          <p:cNvPicPr/>
          <p:nvPr/>
        </p:nvPicPr>
        <p:blipFill>
          <a:blip r:embed="rId2"/>
          <a:stretch/>
        </p:blipFill>
        <p:spPr>
          <a:xfrm>
            <a:off x="5508720" y="214200"/>
            <a:ext cx="3311280" cy="233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-3178"/>
          <p:cNvPicPr/>
          <p:nvPr/>
        </p:nvPicPr>
        <p:blipFill>
          <a:blip r:embed="rId3"/>
          <a:stretch/>
        </p:blipFill>
        <p:spPr>
          <a:xfrm>
            <a:off x="1332000" y="260280"/>
            <a:ext cx="3673440" cy="22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G_9145g"/>
          <p:cNvPicPr/>
          <p:nvPr/>
        </p:nvPicPr>
        <p:blipFill>
          <a:blip r:embed="rId4"/>
          <a:stretch/>
        </p:blipFill>
        <p:spPr>
          <a:xfrm>
            <a:off x="5076720" y="2781360"/>
            <a:ext cx="3143520" cy="208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Pelikan_Walvis_Ba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781360"/>
            <a:ext cx="2255760" cy="169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pelikan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781360"/>
            <a:ext cx="187632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rt6799_0"/>
          <p:cNvPicPr/>
          <p:nvPr/>
        </p:nvPicPr>
        <p:blipFill>
          <a:blip r:embed="rId9"/>
          <a:stretch/>
        </p:blipFill>
        <p:spPr>
          <a:xfrm>
            <a:off x="468360" y="4797360"/>
            <a:ext cx="2374920" cy="178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024130_41"/>
          <p:cNvPicPr/>
          <p:nvPr/>
        </p:nvPicPr>
        <p:blipFill>
          <a:blip r:embed="rId10"/>
          <a:stretch/>
        </p:blipFill>
        <p:spPr>
          <a:xfrm>
            <a:off x="6372360" y="4941720"/>
            <a:ext cx="2566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иниковая па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phoenix_dactylifera240"/>
          <p:cNvPicPr/>
          <p:nvPr/>
        </p:nvPicPr>
        <p:blipFill>
          <a:blip r:embed="rId2"/>
          <a:stretch/>
        </p:blipFill>
        <p:spPr>
          <a:xfrm>
            <a:off x="205092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ологическ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области жестколистной растительности в настоящее время сильно видоизменены деятельностью человека. Площадь лесов со­кратилась, а кустарниковых и кустарничковых ксерофитных фор­маций, напротив, увеличилас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лываемые земли весьма сходны и по составу культурных растений. Это цитрусовые, виноград, маслины, инжир (фига), пшеница. Очень сходны декоративные растения в садах и цветни­ках, а также распространившиеся за последние столетия сорные рас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озия поч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41:35Z</dcterms:created>
  <dc:creator>Ribak</dc:creator>
  <dc:description/>
  <dc:language>en-US</dc:language>
  <cp:lastModifiedBy>Ribak</cp:lastModifiedBy>
  <dcterms:modified xsi:type="dcterms:W3CDTF">2014-02-16T17:22:35Z</dcterms:modified>
  <cp:revision>4</cp:revision>
  <dc:subject/>
  <dc:title>Жестколистные леса и кустарники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6000000000001024140</vt:lpwstr>
  </property>
</Properties>
</file>