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41E3-5675-44B8-AE3B-2259F1DF4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EC9D-69B7-442B-91FD-0FA18D153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4113-F10E-4541-8D60-03C5B0061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FCDA-B771-4987-9199-DDD9C5F10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45C0-7F1E-4904-9FED-4D390E3BD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886-7F4D-469A-BA31-555CD7C8A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B0B-378E-4AE5-8341-2C5478DA4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14AE-AF88-48E8-8413-8528BC271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9018-1517-4D48-891C-E16B77E2D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EAD3-F36D-4462-99DA-A6B8A97D7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A08-1666-4E97-9656-691703111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E6A-8041-4FF4-815D-DA4BEC6F9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22EE-CDE6-4F9D-921E-07C49AD6D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450-59CF-4F88-9FA1-FE629E7AA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220-26C7-4FB4-A34D-BE4C4FCB3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1C37-EAD9-4DB6-AF35-9BC384E98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C9A3-C328-4A7F-A363-3B733E40E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6678-F240-4601-ADE7-50502EEF3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8D9-CE15-4B75-9369-8D4CF688C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626-2C33-4211-B195-40ED90282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FF6-7EFC-4F1F-949C-2372026F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862-4468-401B-AE5A-67FA03C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1B7-8E46-4631-A440-228B1104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C90-D53E-474D-B0D5-961A26F6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AD78-A317-400E-B991-E001FF3F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2D2E-2963-4F8F-9481-1D07121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F07-B15E-4AE4-A873-41F55A3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E23D-AFD1-45C4-87CE-660FCEE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911-9CAE-470E-AA73-9D5CD20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E6B8-5BDA-4A08-A78F-AD6525AA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A89A-B7CE-4830-A8E3-DAB8EF1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DEB-E6D9-46E6-978D-415B7F11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93F-FB97-4328-86CB-AA25BC1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AA8B-165A-407B-851C-8914DF8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55C6-3227-4724-99C7-27212ADC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409-7A1E-4F9A-9DA4-4AFC9F3F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08EA-3185-4EB0-96A5-F81C6716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2705-BA93-4657-A758-F9790320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1C97-B0AF-4F0E-A65B-C646B1C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399C-2972-45DB-83E4-A216929D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81CB-9AD4-49A1-A001-90F973CB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7E33-53E1-4717-94EC-198E804E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5DC-5557-4452-912C-68EB0B42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20BA-A2DD-4555-A370-979530E3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C410-52A4-40DD-9327-8F5A978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9702-4EB0-4F36-A146-AA685B5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8BE9-0F25-4186-BC03-00660197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E24B-2B04-4C16-AAD1-0D4F1CFE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7B21-7691-4A69-9B58-47D4610D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148A-D752-40A8-8F87-866AA1CC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7B52-6E61-4727-B0E0-7FFD650F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3090-F9F5-40F2-81D5-6E9D67C2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32B8-EEFE-4E14-871D-61AA09AB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865-4785-4B8C-9F98-9F43A63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AF9C-C0AE-41B5-B632-1841CE7E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0B4C8-5F18-46FC-B6B9-F0A9A841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AC51-ED92-40C7-A27A-A2FB7C78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9B84-1838-4E38-B378-123DD8A0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51B5-5506-4FC6-B1B6-38083D9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3C49-49DE-4967-8F2C-A1311AA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792D-8BD6-4EB8-A10B-1CF0F14A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603A-0FB1-41A1-9E94-4AA0A139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32FC-719C-490C-BD6F-4B2BDD10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BD32-7824-462F-80DD-C7DF38D2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825-AB47-40A8-9AAD-99CBA3A2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1F29-8EEB-4571-BCBB-D53A957D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9663-490A-41B4-9507-0D8D2F4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72F3-5F97-4A77-9FFB-14856291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9081B-9A0E-4128-9FE0-06BF5E67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1CB2C-191C-4419-88E1-347D1D3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AD81B-C6AD-4D78-A6D0-35C2278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1678-3868-409B-81D2-3E0CF24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668D3-8B3C-4220-8260-304B063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2EC3-879F-4A5D-A12A-44C0E26A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66D2-BAC3-4B2D-A399-8D537991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8B4-091F-446B-AC37-AC1C16C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5518-47F3-45F5-A777-C271F47E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4B9-F685-44C4-B095-6F621B9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269-2E31-4F5B-B7C1-7E81859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891-4C65-45AC-80D3-FFF3EB9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F958-922D-42FA-8D41-476A27AD6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BDC-6A48-4A26-A056-292432FB3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A02D-3C5A-4F03-8BE1-C08F84D39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3FE-43F1-4F39-957B-2F0E8E5AE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C47-95FC-499B-BD5D-A3DCE5770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Arial"/>
              </a:rPr>
              <a:t>Природные зоны Аф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готовила учитель географии Рыбалкин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вуки природы - Музыка в красках звуков природы  (audiopoisk.com).mp3" descr=""/>
          <p:cNvPicPr/>
          <p:nvPr/>
        </p:nvPicPr>
        <p:blipFill>
          <a:blip r:embed="rId2"/>
          <a:stretch/>
        </p:blipFill>
        <p:spPr>
          <a:xfrm>
            <a:off x="108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141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7800" y="666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одные зоны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267440" cy="284292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6" descr="Джунгли"/>
          <p:cNvPicPr/>
          <p:nvPr/>
        </p:nvPicPr>
        <p:blipFill>
          <a:blip r:embed="rId2"/>
          <a:stretch/>
        </p:blipFill>
        <p:spPr>
          <a:xfrm>
            <a:off x="4191120" y="3500280"/>
            <a:ext cx="4724280" cy="3243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жирафы и акации"/>
          <p:cNvPicPr/>
          <p:nvPr/>
        </p:nvPicPr>
        <p:blipFill>
          <a:blip r:embed="rId3"/>
          <a:srcRect l="0" t="0" r="0" b="37"/>
          <a:stretch/>
        </p:blipFill>
        <p:spPr>
          <a:xfrm>
            <a:off x="4643280" y="69228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rcRect l="0" t="0" r="-73" b="0"/>
          <a:stretch/>
        </p:blipFill>
        <p:spPr>
          <a:xfrm>
            <a:off x="0" y="3809880"/>
            <a:ext cx="4149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и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47200" y="1192320"/>
            <a:ext cx="841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природные зоны есть на материке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раться понять существующие закономерности между климатическими поясами и природными зон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, какие климатические условия характерны для каждой природной з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 тип почв и разновидности растительного и животного мира природных з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способленность растений и животных к различным усло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ользование природных зон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Arial"/>
              </a:rPr>
              <a:t>Проблемный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Смогут ли растения и животные своей природной зоны и климатического пояса,  приспособится к чужой природной зоны другого климатического поя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143000"/>
          <a:ext cx="8229600" cy="4809960"/>
        </p:xfrm>
        <a:graphic>
          <a:graphicData uri="http://schemas.openxmlformats.org/drawingml/2006/table">
            <a:tbl>
              <a:tblPr/>
              <a:tblGrid>
                <a:gridCol w="380880"/>
                <a:gridCol w="1828800"/>
                <a:gridCol w="1044720"/>
                <a:gridCol w="801720"/>
                <a:gridCol w="815760"/>
                <a:gridCol w="814680"/>
                <a:gridCol w="801720"/>
                <a:gridCol w="869760"/>
                <a:gridCol w="871560"/>
              </a:tblGrid>
              <a:tr h="909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новым матери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Таблица 1.</a:t>
            </a:r>
            <a:br>
              <a:rPr sz="1800"/>
            </a:b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Характеристика природных зон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484280"/>
          <a:ext cx="9144000" cy="5526000"/>
        </p:xfrm>
        <a:graphic>
          <a:graphicData uri="http://schemas.openxmlformats.org/drawingml/2006/table">
            <a:tbl>
              <a:tblPr/>
              <a:tblGrid>
                <a:gridCol w="2700360"/>
                <a:gridCol w="968400"/>
                <a:gridCol w="1396800"/>
                <a:gridCol w="1124280"/>
                <a:gridCol w="1477800"/>
                <a:gridCol w="1476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лиматический поя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лажные экваториальные леса (гиве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аванны и редколес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ропические пустыни и полупусты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она жестколистных вечнозеленых лесов и кустар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 Африке иду (ходьба на месте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мечаю на ход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над морем буйных трав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ю вытянул жира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вверх, потягивание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меня над гол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клоны в стороны с поднятыми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ьма зашуршит листво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придется приседать (приседания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бы фиников набрать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вельвичия, тур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поочередно вытягивают вперед)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вый лист, правый лист (руки в стороны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огромный серый слон (круг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ылает нам поклон (наклоны вперед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прогулку завершим (ходьба на месте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за парты поспешим (садятся на свои мес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6a00d8345269c569e20128761a965d970c-800wi"/>
          <p:cNvPicPr/>
          <p:nvPr/>
        </p:nvPicPr>
        <p:blipFill>
          <a:blip r:embed="rId2"/>
          <a:stretch/>
        </p:blipFill>
        <p:spPr>
          <a:xfrm>
            <a:off x="6732720" y="1049400"/>
            <a:ext cx="22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33"/>
                </a:solidFill>
                <a:latin typeface="Arial"/>
              </a:rPr>
              <a:t>Фрагмент из мультфильма «Айболи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RedSol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Гости из Афр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рченко Крист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е экваториальных лесов (геле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патова Мар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Саванны и редколес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илалова Крист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Тропические пустыни и полу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пер Максим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Зона жестколистных вечнозеленых лесов и кустар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5416560" cy="5640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img4"/>
          <p:cNvPicPr/>
          <p:nvPr/>
        </p:nvPicPr>
        <p:blipFill>
          <a:blip r:embed="rId3"/>
          <a:stretch/>
        </p:blipFill>
        <p:spPr>
          <a:xfrm>
            <a:off x="179280" y="2997360"/>
            <a:ext cx="4932360" cy="369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360" y="1484280"/>
            <a:ext cx="38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риродные з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49400" y="692280"/>
            <a:ext cx="70563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0" y="1198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Задание 1: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 Для каких природных зон характер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А) баобаб, антилопа, пальма дум, марабу, гепа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Б) масличная пальма, желтое дерево, фикус, ока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В) молочай, алоэ, черепаха, гиена, ша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0" y="1254960"/>
            <a:ext cx="9144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2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е природную зону по опис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 африканских сезонов круглый год один и тот же – зеленый. Только в один период зеленый цвет чист, ярок, а в другой – блеклый, словно выцветший… В сухой сезон земля превращается в камень, трава – в мочалу, деревья трещат от недостатка сока. И вот первый же ливень возвращает природу к жизни. Жадно напившись водой, земля разбухает от влаги, щедро отдает её деревьям, травам, цветам. Они пьют, пьют и напиться не могут… почти каждый день дождь то хлещет мощной струей, то сыплет мелкой водяной пылью. Температура воздуха падает, и местные жители зябко поводят плечами, жалуются: «Холодно!». Когда термометр показывает 18-20 градусов, некоторые африканцы считают, что наступили «морозы». Натягивают на себя все, что имеют из одежды, повязывают головы платками, разжигают на улицах костры, лишь бы унять дрожь». (Л. Почива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68360" y="690840"/>
            <a:ext cx="860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3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Объясните причину малого плодородия почв экваториальны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4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а схеме с помощью стрелок покажите связи в природном комплексе пу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ухой тропический                                 почвы прак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имат                                                         отсу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стительный покров                             много пресмык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50920" y="3356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5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Как вы думаете на территории, каких природных зон будет создано больше всего национальных парков и заповедников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"/>
          <p:cNvSpPr/>
          <p:nvPr/>
        </p:nvSpPr>
        <p:spPr>
          <a:xfrm>
            <a:off x="250920" y="112536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§ 20,21 записи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2. На контурной  карте – природные зоны Африки, отметить природные з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3.(по выбору) Мини – сочинение «путешествие по Африке» или сообщение о национальных парках Африки (Серенгети, Неоронгоро, гора Кения, Рувензори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10" descr="http://img1.liveinternet.ru/images/attach/c/3/76/988/76988379_e9928d00.jpg"/>
          <p:cNvPicPr/>
          <p:nvPr/>
        </p:nvPicPr>
        <p:blipFill>
          <a:blip r:embed="rId3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-9360" y="2276640"/>
            <a:ext cx="5148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2" name="Содержимое 4"/>
          <p:cNvSpPr/>
          <p:nvPr/>
        </p:nvSpPr>
        <p:spPr>
          <a:xfrm>
            <a:off x="4427640" y="1890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то хоть раз вдохнул пыль его красной земли, услышал бой тамтамов, увидел в отблеске ночных костров мускулистые тела танцоров в завораживающих масках, тому трудно будет возвращатьс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ин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й Гумил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6" descr="http://img0.liveinternet.ru/images/attach/c/1/54/55/54055529_atributuy_barabanov.jpg"/>
          <p:cNvPicPr/>
          <p:nvPr/>
        </p:nvPicPr>
        <p:blipFill>
          <a:blip r:embed="rId2"/>
          <a:stretch/>
        </p:blipFill>
        <p:spPr>
          <a:xfrm>
            <a:off x="395280" y="1341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http://www.africa-escape.ru/index2.php?option=com_datsogallery&amp;func=wmark&amp;mid=1375"/>
          <p:cNvPicPr/>
          <p:nvPr/>
        </p:nvPicPr>
        <p:blipFill>
          <a:blip r:embed="rId3"/>
          <a:stretch/>
        </p:blipFill>
        <p:spPr>
          <a:xfrm>
            <a:off x="379440" y="4084560"/>
            <a:ext cx="3673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457200" y="230040"/>
            <a:ext cx="8229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им увлекатель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ртуальное 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Содержимое 3" descr="http://dengivsetakipahnyt.com/wp-content/uploads/2011/08/%D0%A1%D0%B0%D0%BC%D1%8B%D0%B5-%D0%B1%D0%BE%D0%B3%D0%B0%D1%82%D1%8B%D0%B5-%D0%BB%D1%8E%D0%B4%D0%B8-%D0%90%D1%84%D1%80%D0%B8%D0%BA%D0%B8.png"/>
          <p:cNvPicPr/>
          <p:nvPr/>
        </p:nvPicPr>
        <p:blipFill>
          <a:blip r:embed="rId2"/>
          <a:stretch/>
        </p:blipFill>
        <p:spPr>
          <a:xfrm>
            <a:off x="1619280" y="1371600"/>
            <a:ext cx="5832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9" name="Заголовок 1"/>
          <p:cNvSpPr/>
          <p:nvPr/>
        </p:nvSpPr>
        <p:spPr>
          <a:xfrm>
            <a:off x="457200" y="40464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уже з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295280" y="1197000"/>
            <a:ext cx="594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"/>
          <p:cNvSpPr/>
          <p:nvPr/>
        </p:nvSpPr>
        <p:spPr>
          <a:xfrm>
            <a:off x="3068640" y="33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Задания на карточк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00160" y="728640"/>
          <a:ext cx="8692920" cy="5732640"/>
        </p:xfrm>
        <a:graphic>
          <a:graphicData uri="http://schemas.openxmlformats.org/drawingml/2006/table">
            <a:tbl>
              <a:tblPr/>
              <a:tblGrid>
                <a:gridCol w="4371840"/>
                <a:gridCol w="4321080"/>
              </a:tblGrid>
              <a:tr h="31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исуйте облако в тех климатических поясах, где много дожд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пишите воздушные массы в тех поясах, где их господствует только од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ть на карте крайние точки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ть теплые и холодные те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на территории Африки переходных климатических поясов, попис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дпишите на карте водные ресурсы которые омывают Африку(проливы, заливы, мор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кажите на карте, какие изотермы пересекают материк в январе и июле (из рис.59.стр.73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кажите  на карте: крайние точки и наивысшую точку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943000" cy="165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5059440" y="4842000"/>
            <a:ext cx="3247920" cy="1685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539640" y="2084400"/>
            <a:ext cx="2943360" cy="1560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"/>
          <p:cNvPicPr/>
          <p:nvPr/>
        </p:nvPicPr>
        <p:blipFill>
          <a:blip r:embed="rId5"/>
          <a:stretch/>
        </p:blipFill>
        <p:spPr>
          <a:xfrm>
            <a:off x="5364000" y="1781280"/>
            <a:ext cx="294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Ы  К КРОССВОР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алеко от этого города, который является столицей государства Ливия, была зарегистрирована самая  высокая температура + 58 градус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Благодаря тому, что материк расположен между Северным и Южный тропиков, он считается самым 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Этот замечательный исследователь уехал в Африку в качестве врача и миссионера, и провел в непрерывных экспедициях почти 30 ле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Раздел географии, который посвящен описанию различных видов водоемов: рек, озер, болот, водохранилищ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Самая полноводная река мира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Единственный крупный остров у берегов Афр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Американский журналист, в честь которого был назван водопад на реке Кон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Один из очень распространенных видов хозяйственной деятельности многих водных районов матери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Именно в этом поясе находится полюс жары, а также самая большая пустыня мира. 10. Островки зелени в негостеприимном пустынном краю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 Один из самых красивых водопадов планеты, открытый и названный Ливингстоном в честь тогдашней королевы Великобритан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 Самая высокая вершина материка. (Килиманджар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 Постоянные ветры, господствующие над большей территорией Африки, дующие от тропиков на эквато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54:33Z</dcterms:created>
  <dc:creator>Елена</dc:creator>
  <dc:description/>
  <dc:language>en-US</dc:language>
  <cp:lastModifiedBy>Ribak</cp:lastModifiedBy>
  <dcterms:modified xsi:type="dcterms:W3CDTF">2014-02-16T18:50:1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a000000000001024140</vt:lpwstr>
  </property>
</Properties>
</file>