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2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C095-7B2F-45C8-A976-5B2E8B0DD4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5609-B0DF-40D1-8955-9AD683CD1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1668-399F-4700-8E61-4E1A527DCE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E79E-DF1E-4469-AAFE-EF93F2737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CCF4-F40C-4D3F-AB47-1705E86A85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E02-F63C-425E-B22C-0B77FE76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C9F-61FC-4526-987A-2515107A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5E59B-EE34-4852-9D86-ACA6B6B1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D050B-37B2-4EED-886C-DD9D88C8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6DA74-9E6F-45B7-B74F-65C43752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EBBE7-ACE8-4691-9D06-72465DC8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37171-F46F-41A0-9C58-40830319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B5EE5-AC1C-495F-BD2A-0C96D3E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9255A-093D-4FC3-B42E-C1EAB4C1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B956F-C394-4084-9C7E-664C192B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CCCCC-E0B0-4021-8ACC-3BFB0FC2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19CF2-F3BC-4824-BC13-36E59851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6AC-8F0D-4F65-8201-94788540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39BB1-0B00-4DE6-8858-880EC9D1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20FC5-31EA-4F3F-9AF4-E12A645D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E80FE-F3D0-4422-81D4-BB6B17E8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E96C1-5CC1-4CD6-B775-53BFD52B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AB84D-C98C-4F8F-B5A2-B48FF59C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D0570-3CD6-4F1A-8481-ECAC3CD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05750-2C64-404B-AEEE-F1B08F78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2C4AA-30CD-4F87-825F-8E73C3D6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4FE90-A299-4EDD-A433-278B1B77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F23A4-2E05-4026-BDFA-A176292A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E01-EAD5-4689-ADFF-801E14B5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ED72A-79F3-4554-B0AD-8EF1ACD5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4E329-A51A-49A2-99AF-8D43195B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8643E-910C-465B-9AAE-E2485EB7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9A1EC-8AB7-400A-B7BF-A075D52E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A54DC-C943-4C34-9CBC-BDFF12C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72E33-B385-4D6D-932E-7204D9FE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BBCF2-5938-43D8-850D-C4B8CCC3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1934F-240A-40AB-92E6-D46ED675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60080-74B0-4AE3-9373-5D77317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488D6-2BF4-4E46-BE84-9CAABF41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080E-A4AF-434A-806C-D22E7C8D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1F648-F320-4DEC-89C6-4BAC1622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0B2FE-CC96-43E9-A1EE-5D8E449C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8603C-59D1-40B0-A578-CD510AC6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D394D-6543-4A89-AF97-40AAF1DD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93AE4-84F7-4589-899A-6476953A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97496-4C89-41C4-9487-33677F5E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3563C-89DD-4C34-8855-9244EA1C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314BE-DAA8-48C4-BD4A-015A5415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561F8-48E8-4E20-9311-B2A59B7A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2B848-06B0-4E2F-AD89-E403EEC3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B693-2631-41CB-843A-23A08EDC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2F9C3-427A-4B32-A330-D13C4E1A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55D49-87BA-40D1-AF11-FBB78C11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61EC7-6C46-467D-9C11-79DEC0B1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2B704-7F66-4AA1-BE3E-63F2EE39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F8CCD-B767-4D07-A77E-8C8555B4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D7F2C-B532-4C0C-B2DF-061A71B9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8813E-F0E4-4369-B81F-FEE9BA56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281DE-877D-4C1F-A209-F7B84485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8488A-CF76-4F29-8ECA-99451A93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89A09-A4D4-4B93-AA97-B2EA8448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1FF1-3953-4B25-B3CA-5EA1732C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C48DC-3A9D-45B1-BC02-CED5A3D7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3DC7A-769D-41F9-9E52-1C7FCE3B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6F4D8-4CFD-44A9-9BFF-12F54EC7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5BE9A-B32A-4666-A7AF-88EB02C2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1BD86-A407-4164-89F4-088982C3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32A15-084A-431D-AFF3-3F31C7AF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DAC40-160F-407E-B4E1-37E9BFC0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8A779-8703-4B3E-95B2-7BDA05AF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F6338-2714-425F-8B00-ADDF7CA2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E7992-9E46-4D19-89EB-8AD32988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104A-035E-4D07-8EAA-89FCDD4F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7D61E-1755-4054-AA82-B397C0B7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05824-0547-4D43-BADF-E1F21DBA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B4B5F-E7BD-4233-A927-261DC294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35D2B-19E6-4BED-AFDD-95711B10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2BEE5-7F64-452B-A5A7-3279D635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6F36B-5FFD-4B31-8E6A-8A9FB24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622D6-C901-40C0-B6AC-C95C6304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6EBCA-7FE5-4E3F-AA56-F67C8B5B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2A1BF-F167-4F99-B6BC-773AEE1F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99AA0-11C3-4D50-8AC3-8412FA3F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BB45-E7CB-489C-A674-8598E594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3CD78-3599-443F-B802-58E36123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6F925-3C98-491D-BD72-F7696278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EC6D1-A15D-4E29-A962-492CEAA0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9D561-956F-4F81-B39C-1C4DBC15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E8000-487D-4220-BBB7-AE3FF98C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50E72-47D2-4BE2-BBC4-1FABCF9C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B8DB2-A3E9-4504-A978-BD4172DC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CC09F-7F2F-4D9C-876E-1892228D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AA049-51D4-487C-B612-57341136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7C5D8-028F-42EB-B3A7-A111FC64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EDB6-F558-47CF-9252-A639C34F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6D2642-61BE-47AC-A515-52083B74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B5D8A-8134-4873-B1FC-0E3D20EF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D223E-AC4D-4EE3-952D-F362A07B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51666-E51A-475F-970D-68527D49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E3AC9-B1B2-483C-9854-669980FC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1C5DD-892B-4602-9714-B7F21804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7C575-BAE1-4C5B-B540-5FCC8667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9D817-DB6F-47A4-80BF-ED4429A3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241F13-7BFE-4C2E-B15B-A316E341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99E92-7E55-47C1-9E05-5EE89AA6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864F-3F2D-4046-B735-EA3F2C5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C1202-EFF3-4C78-880D-8E7F394E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19B3F-A826-42FB-B2F8-11B325CF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A8DCB-A0E8-459D-B46C-23DCA24F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DF311-7833-482B-8A80-ACA09A98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2CBF1-7379-43B2-89D9-3FF4BC99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3A96E-FDF1-47C2-8978-AEBBE84A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E55F4-AA58-4321-8302-0F016A9D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FEEAC3-EDEE-4C0D-9E81-7D3DE7B6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DBE5E-8CC1-4FC9-B191-CE578603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4AFB96-D43F-4CE8-8CD0-6892F71B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B32-75DA-47C8-89AB-ACCB18C3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0C9B-2614-435B-830C-FCBAC428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A440F-BE3A-41EE-8716-A4AC7B34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A92C4-1511-4719-B675-6311D2D0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B3C7E-CEDE-4665-83A6-BABD8B9B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7D230-8DF4-4E09-A04A-DC5F9962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8EC26-B5C0-4669-8F3E-276DE279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7D119-DB9D-4BEB-B6F4-C2C22F9F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C73479-2AD6-4190-9ACA-67664FBA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E44316-CE22-4548-8F0C-AC8DA70C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FA223-92E8-4ADC-9BCF-C73A03AC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49CD29-89E4-4FA4-92F8-51321517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4BAE-6BE8-43FE-B7B2-1DF078F4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E3C7D-C407-4F89-AEED-6C655079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A2809-237F-4097-BE3E-5AEBE93D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AFFE7-179C-45C6-9152-B2357605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8C6A9-1DF8-4292-842C-64037A8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67D959-3503-4E7D-90D4-85DAF6D2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E94185-8D4B-420E-A2CD-2705FB3A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FB7AA-DED8-48D0-B02B-D1F6F8CA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A882DD-3210-4B4B-A64A-7BE5F8FB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A6A3EA-8210-4EDD-B982-5B5F2D9E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9175D-9CED-49B4-A0ED-15D0AC28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63A4-40EC-4A5D-88E3-9EA17A63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30907-D064-4A0E-BF17-A16D1DFE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846C97-BE47-409B-8833-A5753649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4E0C7-8D6D-4D1B-9AB7-5F7E960F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AF973-D8B6-42EE-B5C7-07DE9DA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49447-CEFF-4E2F-9632-3A20DC09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D60746-B211-45CD-AE88-EEACDA44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EF80F-A4A8-4B45-A2F1-DA20D453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FA28D-DC99-4B3F-AAA6-C0B372BA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BC322-77E8-4450-B674-55BB4F25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A3423B-A66F-4368-BF46-7FE3DFDF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03C3-3F92-47B8-92E0-95DC4066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B7E4F0-3B47-44DD-B901-47101551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6DFAD-E3FA-44C9-9E73-CCE3A3F3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858EA0-83EA-4A04-8606-D18908F3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4B7CB6-7A9F-49F6-919A-8FA5FB03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87B890-E81A-43E5-903E-9DFFE0E5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D3AFA-3849-4390-8A50-1E2A3DF7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343681-B310-488F-925E-B7F4787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4548D6-199A-4E29-ADE9-B2988D60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1A1F9-5048-4109-A7CB-ECA856B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5387A-0B56-41F7-9969-99958F9F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4D4E-EFF2-4DF9-8A6F-7C8036DD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AA7EB-1749-483E-ADB9-F866D036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A66482-6344-4BD9-8B90-D3AAF57E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A56A95-0663-4371-9D86-9D678A60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742072-3EDD-4E36-A751-C9DEF360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826026-5C23-427B-BA8D-A592EC04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02289-0907-4027-936D-434F37CC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5A074E-3C36-45D8-8AEE-68A5CF0F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E18AE5-53F9-448C-A4B7-E22E708B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A399BF-F57A-4E99-B4F9-30A89798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84B7C6-6CE9-4DDE-99FA-9439D62B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BA9A3-CF1E-4938-9F05-688194F2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8C25A-A519-4854-8792-7297F604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E681B-2976-46B0-BB03-2B31C874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D1773-DBB9-431F-929B-85169412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F6D956-B7C9-4AFF-A539-7FF8AAE2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FE5E1F-839B-4194-92B7-9D7A05D1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5D3CC0-CB9C-412E-B842-32EDD6AF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C7A832-FB19-4770-83D4-E22430A4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20C872-B912-46A7-8594-C9EC68A9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BA9DB3-ECF3-4522-8207-66D0CEED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0CADD7-BD0C-4BFB-AC7C-CC3CAF3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2C0E-9580-4968-BC0B-12EA284D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8F27F4-C5AB-4BA6-A8E3-1A2DE2A8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3E8EEC-1EB9-4E08-BDD9-F2237A2F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FA430B-A995-4911-8D57-B317B1AF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8FCFA-16CA-4232-A83C-6A772E99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8E690D-B2AB-4478-8B0D-8DFF5C4A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740045-CDB6-4067-8043-2013F2A4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471ABB-E507-42C7-8CB5-D75B0A5B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B7278C-2169-492F-BDAE-FB3DFE5D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04C38A-A708-4456-B5AF-29C16F98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E1BDAE-92DA-4CEA-B7D2-A13A7F28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B0BA-E527-4B8E-AA42-686A44B5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B7DE0D-CD6B-4DD0-8902-722C2B6D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4FC8DB-ABA8-4521-98C2-FC3761E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D1800B-41B2-4ADA-8EFA-E04B69D4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CD3120-3E13-42EE-BD36-1727C09D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5FEB3E-7DD0-4DF2-8E1E-8D348CA6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3A87DF-52E4-4D8E-A96F-37A2B9A9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78E322-69D7-4803-9447-FA42F584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A13F-D6A6-46ED-BB2F-415C78C0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6B1D-C59D-449C-B0EC-EA5964D2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BFE-BC48-4493-A620-CD3AF1FF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81CF-938A-4CC2-A4C1-C9A3965A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B299-AB53-4F20-AB9C-AEBD9D9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A466-C6A1-4E7B-8A4F-9844FFD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79DC-B420-4BE3-ACBD-CDCDE2F4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78D2-FF61-40F3-B437-84E73033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18ED6-19A8-42D8-86E2-AF74E2F0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E622-0C40-4FCE-9620-063A61CB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3092B-54CF-4EEB-B028-5E6A0640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98486-6E0A-4026-BD8E-80E7579D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19CA-13A9-49E8-BBFF-F2748903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686-EC0A-4C3E-814E-D7041A90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710CB-0B13-4B06-8579-AA1AA5CD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AD864-9821-4629-80C1-77836031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9D535-C06F-46B2-BCEE-00B995C8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D47B8-FFA7-4985-96CE-F15271DF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4A7DB-49F5-44AD-A33B-50CADB77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3149-C91F-4DE6-8EC0-DFA17E57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3286-53BA-459A-88BB-5C5F4062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53102-ED74-4AF7-A445-F622337C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BBDFC-5CCA-4EBF-B5C2-3CA1CC38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5A1E-8CEF-4301-821C-A829F9A1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938-AE06-4355-9225-45360E1A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0F377-97A2-49A0-A203-F778F1AC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0E0D2-77AF-4A78-8FFD-4727330B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B6AAB-AF3F-49DB-B970-406C508C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522B0-8F18-4366-9C52-ED668286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347A-287A-43DA-B19C-3EED64F2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912B3-6622-4AA0-91D1-325FF6EF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E8F7A-232E-46EB-88A6-A764DDE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6AB9-A1FF-4C9A-B4B6-30946B0B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7472-0764-41CE-91F8-8C5E72A1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61BFB-1A92-4B5F-904E-9D4A2A10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F26-DC6E-4E21-BE64-42E372F8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9095C-61C8-4E95-88D0-A5C24BA6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B34A4-AD53-48E2-BF55-0EC466CA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77ABD-16F6-4ED0-A4B4-B447EFB1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D05DD-6CB9-4F0B-BB7C-8EF4F251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8DC98-F934-465B-8B13-F81143D6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EBB54-F1A2-49D5-9D1E-5922F194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53F99-892B-4622-9BE1-8E42E05A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49DF2-2015-42F1-8A23-F8E7627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FC810-1FC4-40F0-A3D4-19AB1ADB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FD93-81D9-4E74-BAB2-707D5551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92A-2735-41C0-9EF7-3C6A09D6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1FA0F-38AE-49D0-A894-4A841B64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363C3-A18B-4CD0-A0A5-4854262C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E027E-45EB-4BFD-A65F-71B097EC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0B27C-C45F-4FCF-B8DE-5BB65DF2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FB873-FF49-4C85-A192-FD0B9E86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52098-D38E-4221-BBDE-CF8E4CFF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8E91E-63E8-4DE7-A17C-545CD319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1A604-B988-44AF-A9E9-3FE0CBA0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8E46-1D08-410F-AC26-A09E7F3C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13EA3-8E7A-4C74-884B-845EF511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172-3417-4A59-BE42-3595880A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58A79-1CF9-4E5D-AAB9-1A506722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74D64-392B-49B3-B52A-D9B1F5D1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A92F8-C7C1-4E0D-BC5F-6C9BB083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B8F74-FDB7-49B7-AD00-41614B09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652BC-5288-4452-97AB-3677A91B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92738-5EFF-4FEF-A8B6-AE034705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B63ED-14F2-455D-91C7-B03787DA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EB7F4-09A4-41E2-84AB-EFABBCA2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171F3-BFBA-45AA-B192-2A80EE01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50080-4823-41A9-B553-72BFA9F5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CA8-6543-4058-B386-C6AAF790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7DD43-5E1B-4307-B913-A32079DD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08B76-A639-451B-8800-515C1DD2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1789A-A3DD-4F39-9BE6-701FD31A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7AD05-A2BC-4642-A65E-6904595B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C2B67-27E3-405D-92C6-4D579664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29A44-CE5B-459A-825A-E6D3632C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99679-C2A8-402A-9CF4-015227A9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42632-8086-4244-97E4-94D328BC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9DFA7-F9C2-4011-8637-A356A9D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6E9A1-5A89-4DEA-85E2-FB2F391F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2D80-6ECE-4547-B711-D4A1619157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F02B-54FC-4F44-B126-C015C48DA2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4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D834-4EAA-498F-8FEB-D971C0E9E6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D914-7AB5-4A81-9DEA-CC591D6E7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30B1-3572-4B2B-B890-275EEC2CC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6A94-00E0-4D00-AE9F-11E42F0B81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7912-8058-440C-AA46-8FCEA3181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517D-C734-47E1-ADCC-338B61E19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6B4D-B3F4-4BF0-9315-D449FDBB2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3838-8B50-4307-9D1C-3804AF6B9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D1AF-BC5E-426E-8704-CBB584DBA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4F60-A73B-4F39-9E41-EE626A609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3BDD-2486-484E-BD4C-84B5B2713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D00D-138B-49FB-91EE-DC54D8B81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07E4-4AC2-4171-9BEE-17AE40A1C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6DC5-BF60-49D3-8762-51C33C1AE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80C2-E5A8-477F-ADB6-92A26BFD8EC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DBC2-465D-4A41-A3CD-1052F7A710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57BA-B3C7-4618-B57F-390CDF80FE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302F-BAF7-4ADA-9F97-608128F0A4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17FC-BE8C-4F74-AA90-B477319646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DE1F-C070-4D85-8C0D-4D5384EFF2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453D-359C-4E83-9C18-1D6B12B52F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google.ru/imgres?imgurl=http://www.fotoart.org.ua/albums/userpics/namib_desert_namibia.jpg&amp;imgrefurl=http://www.fotoart.org.ua/displayimage.php?album%3D102%26pos%3D7&amp;usg=__7PaDsfjyOg3Ly0oKZBINkDTPpL0=&amp;h=1024&amp;w=1280&amp;sz=365&amp;hl=ru&amp;start=3&amp;zoom=1&amp;um=1&amp;itbs=1&amp;tbnid=BON9fcvdhwU0RM:&amp;tbnh=120&amp;tbnw=150&amp;prev=/images?q%3D&#1085;&#1072;&#1084;&#1080;&#1073;%26um%3D1%26hl%3Dru%26newwindow%3D1%26sa%3DG%26gbv%3D2%26tbs%3Disch:1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google.ru/imgres?imgurl=http://www.zastavki.com/pictures/1152x864/2008/World_Africa_Tok_Tokkie___Namib_Desert___Namibia___Africa_008892_.jpg&amp;imgrefurl=http://www.zastavki.com/rus/World/Africa/wallpaper-8892-9.htm&amp;usg=__ybYHJLZcG6MdQbOd_HtU7cbZea4=&amp;h=864&amp;w=1152&amp;sz=305&amp;hl=ru&amp;start=17&amp;zoom=1&amp;um=1&amp;itbs=1&amp;tbnid=cThxgO2TUVG9eM:&amp;tbnh=113&amp;tbnw=150&amp;prev=/images?q%3D&#1085;&#1072;&#1084;&#1080;&#1073;%26um%3D1%26hl%3Dru%26newwindow%3D1%26sa%3DG%26gbv%3D2%26tbs%3Disch:1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www.google.ru/imgres?imgurl=http://www.phototravels.net/namibia/ndv1/namib-desert-v-98.2.jpg&amp;imgrefurl=http://www.phototravels.net/namibia/namib-desert-trees.html&amp;usg=__yLG4MuGEFWt9NqtQo4hkvqjOsis=&amp;h=328&amp;w=497&amp;sz=37&amp;hl=ru&amp;start=2&amp;zoom=1&amp;um=1&amp;itbs=1&amp;tbnid=WblrS-i-0IwLwM:&amp;tbnh=86&amp;tbnw=130&amp;prev=/images?q%3D&#1085;&#1072;&#1084;&#1080;&#1073;%26um%3D1%26hl%3Dru%26newwindow%3D1%26sa%3DG%26gbv%3D2%26tbs%3Disch:1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www.google.ru/imgres?imgurl=http://i1.trekearth.com/photos/17939/huge_welwitschia_mirabilis.jpg&amp;imgrefurl=http://www.trekearth.com/gallery/Africa/Angola/South/Cunene/photo159002.htm&amp;usg=__7lWFTsvx6nabSYQM_Gn_8pAswlA=&amp;h=517&amp;w=800&amp;sz=170&amp;hl=ru&amp;start=16&amp;zoom=1&amp;um=1&amp;itbs=1&amp;tbnid=OhCSBE3b15ozVM:&amp;tbnh=92&amp;tbnw=143&amp;prev=/images?q%3D&#1074;&#1077;&#1083;&#1100;&#1074;&#1080;&#1095;&#1080;&#1103;%26um%3D1%26hl%3Dru%26newwindow%3D1%26sa%3DG%26gbv%3D2%26tbs%3Disch:1" TargetMode="External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4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Rectangle 2" descr=""/>
          <p:cNvPicPr/>
          <p:nvPr/>
        </p:nvPicPr>
        <p:blipFill>
          <a:blip r:embed="rId1"/>
          <a:stretch/>
        </p:blipFill>
        <p:spPr>
          <a:xfrm>
            <a:off x="73080" y="433440"/>
            <a:ext cx="9077400" cy="5675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6" descr="namib_desert_namib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2147760" cy="17175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8" descr="World_Africa_Tok_Tokkie___Namib_Desert___Namibia___Africa_008892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148428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0" descr="namib-desert-v-9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260280"/>
            <a:ext cx="2606760" cy="1724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2" descr="huge_welwitschia_mirabili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1557360"/>
            <a:ext cx="2881440" cy="18540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4" descr="vv02"/>
          <p:cNvPicPr/>
          <p:nvPr/>
        </p:nvPicPr>
        <p:blipFill>
          <a:blip r:embed="rId10"/>
          <a:stretch/>
        </p:blipFill>
        <p:spPr>
          <a:xfrm>
            <a:off x="6516720" y="4581360"/>
            <a:ext cx="2448000" cy="1525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6" descr="velvichiya"/>
          <p:cNvPicPr/>
          <p:nvPr/>
        </p:nvPicPr>
        <p:blipFill>
          <a:blip r:embed="rId11"/>
          <a:stretch/>
        </p:blipFill>
        <p:spPr>
          <a:xfrm>
            <a:off x="250920" y="4292640"/>
            <a:ext cx="2700360" cy="20192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8" descr="06"/>
          <p:cNvPicPr/>
          <p:nvPr/>
        </p:nvPicPr>
        <p:blipFill>
          <a:blip r:embed="rId12"/>
          <a:stretch/>
        </p:blipFill>
        <p:spPr>
          <a:xfrm>
            <a:off x="3492360" y="3500280"/>
            <a:ext cx="2438640" cy="2571840"/>
          </a:xfrm>
          <a:prstGeom prst="rect">
            <a:avLst/>
          </a:prstGeom>
          <a:ln w="0">
            <a:noFill/>
          </a:ln>
        </p:spPr>
      </p:pic>
      <p:sp>
        <p:nvSpPr>
          <p:cNvPr id="1042" name="Text Box 19"/>
          <p:cNvSpPr/>
          <p:nvPr/>
        </p:nvSpPr>
        <p:spPr>
          <a:xfrm>
            <a:off x="3419640" y="549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Нами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Text Box 21"/>
          <p:cNvSpPr/>
          <p:nvPr/>
        </p:nvSpPr>
        <p:spPr>
          <a:xfrm>
            <a:off x="6732720" y="386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Вельвич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Text Box 22"/>
          <p:cNvSpPr/>
          <p:nvPr/>
        </p:nvSpPr>
        <p:spPr>
          <a:xfrm>
            <a:off x="4067280" y="602136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Соленый ку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23"/>
          <p:cNvSpPr/>
          <p:nvPr/>
        </p:nvSpPr>
        <p:spPr>
          <a:xfrm>
            <a:off x="4067280" y="6021360"/>
            <a:ext cx="97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Rectangle 4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8454960" cy="1212840"/>
          </a:xfrm>
          <a:prstGeom prst="rect">
            <a:avLst/>
          </a:prstGeom>
          <a:ln w="0">
            <a:noFill/>
          </a:ln>
        </p:spPr>
      </p:pic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472464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Зона пустыни и полупустыни- это одна из наиболее обширных природных зон мира. Сейчас идёт процесс роста численности населения планеты. Это значит. Что увеличивается потребность в сельскохозяйственных продуктах. Для решения проблем можно предложить два пути: во-первых, увеличить производительность почв и создавать высокоурожайные сорта растений. А во-вторых, найти такие почвы , которые можно будет использовать в сельском хозяйстве сверх существующие пахотных и обрабатываемых земел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48" name="Picture 7" descr=""/>
          <p:cNvPicPr/>
          <p:nvPr/>
        </p:nvPicPr>
        <p:blipFill>
          <a:blip r:embed="rId2"/>
          <a:stretch/>
        </p:blipFill>
        <p:spPr>
          <a:xfrm>
            <a:off x="4761000" y="1731960"/>
            <a:ext cx="4273560" cy="3894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Rectangle 4" descr=""/>
          <p:cNvPicPr/>
          <p:nvPr/>
        </p:nvPicPr>
        <p:blipFill>
          <a:blip r:embed="rId1"/>
          <a:stretch/>
        </p:blipFill>
        <p:spPr>
          <a:xfrm>
            <a:off x="-55440" y="152280"/>
            <a:ext cx="9242280" cy="1401840"/>
          </a:xfrm>
          <a:prstGeom prst="rect">
            <a:avLst/>
          </a:prstGeom>
          <a:ln w="0">
            <a:noFill/>
          </a:ln>
        </p:spPr>
      </p:pic>
      <p:sp>
        <p:nvSpPr>
          <p:cNvPr id="991" name="Rectangle 13"/>
          <p:cNvSpPr/>
          <p:nvPr/>
        </p:nvSpPr>
        <p:spPr>
          <a:xfrm>
            <a:off x="152280" y="1305000"/>
            <a:ext cx="4343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ad1f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 юго-востоке Восточно-Европейской равнины, по северо-западной окраине Прикаспийской низменности простираются зоны полупустынь и пустынь России. В отличие от тундры и тайги зона не образует сплошной широтной полосы. Ее большая часть осталась на территории Казахстана и Средней Аз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2" name="Picture 15" descr=""/>
          <p:cNvPicPr/>
          <p:nvPr/>
        </p:nvPicPr>
        <p:blipFill>
          <a:blip r:embed="rId2"/>
          <a:stretch/>
        </p:blipFill>
        <p:spPr>
          <a:xfrm>
            <a:off x="4657680" y="1447920"/>
            <a:ext cx="4152960" cy="21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3" name="Picture 16" descr=""/>
          <p:cNvPicPr/>
          <p:nvPr/>
        </p:nvPicPr>
        <p:blipFill>
          <a:blip r:embed="rId3"/>
          <a:stretch/>
        </p:blipFill>
        <p:spPr>
          <a:xfrm>
            <a:off x="4724280" y="3887640"/>
            <a:ext cx="4114800" cy="27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4953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холодные, лето жаркое. Осадков в этой зоне мало 250мм в год. Испаряемость в 4-7раз превышает количество осадков. Средняя температура июля в полупустынях +24…+26 градусов, а в пустынях +26…+30градусов, а в январе -10-20 градусов. 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838080" y="38862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7" name="Picture 9" descr=""/>
          <p:cNvPicPr/>
          <p:nvPr/>
        </p:nvPicPr>
        <p:blipFill>
          <a:blip r:embed="rId2"/>
          <a:stretch/>
        </p:blipFill>
        <p:spPr>
          <a:xfrm>
            <a:off x="5065560" y="2189160"/>
            <a:ext cx="4042080" cy="2784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лупустынях и пустынях есть  растения : верблюжая колючка, лотос, эфемеры, полынь др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0" name="Picture 7" descr=""/>
          <p:cNvPicPr/>
          <p:nvPr/>
        </p:nvPicPr>
        <p:blipFill>
          <a:blip r:embed="rId2"/>
          <a:stretch/>
        </p:blipFill>
        <p:spPr>
          <a:xfrm>
            <a:off x="5213520" y="1295280"/>
            <a:ext cx="377820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1" name="Picture 8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52387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2" name="Picture 9" descr=""/>
          <p:cNvPicPr/>
          <p:nvPr/>
        </p:nvPicPr>
        <p:blipFill>
          <a:blip r:embed="rId4"/>
          <a:stretch/>
        </p:blipFill>
        <p:spPr>
          <a:xfrm>
            <a:off x="6172200" y="4572000"/>
            <a:ext cx="2705040" cy="2028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Rectangle 4" descr=""/>
          <p:cNvPicPr/>
          <p:nvPr/>
        </p:nvPicPr>
        <p:blipFill>
          <a:blip r:embed="rId1"/>
          <a:stretch/>
        </p:blipFill>
        <p:spPr>
          <a:xfrm>
            <a:off x="122400" y="171360"/>
            <a:ext cx="8564400" cy="149220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чва полупустыни- каштановы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чва пустыни- серозём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5" name="Picture 7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809880" cy="2505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6" name="Picture 8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342900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7" name="Picture 9" descr=""/>
          <p:cNvPicPr/>
          <p:nvPr/>
        </p:nvPicPr>
        <p:blipFill>
          <a:blip r:embed="rId4"/>
          <a:stretch/>
        </p:blipFill>
        <p:spPr>
          <a:xfrm>
            <a:off x="4552920" y="4419720"/>
            <a:ext cx="4133880" cy="3833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3" descr=""/>
          <p:cNvPicPr/>
          <p:nvPr/>
        </p:nvPicPr>
        <p:blipFill>
          <a:blip r:embed="rId2"/>
          <a:stretch/>
        </p:blipFill>
        <p:spPr>
          <a:xfrm>
            <a:off x="4956120" y="1146240"/>
            <a:ext cx="4035600" cy="26766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4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2189160" cy="27302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5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2389320" cy="124308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реди животных полупустыни особенно многочисленны зайцы, грызуны (суслики, тушканчики, песчанки, полевки, хомячки) и пресмыкающиеся; из копытных – антилопы, безоаровый козел, муфлон, кулан и др. Из мелких хищников повсеместно распространены: шакал, полосатая гиена, каракал, степная кошка, лисица-фенек и др. Довольно разнообразны птицы. Много насекомых и паукообразных (каракурт, скорпионы, фаланги)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0" descr="1203880865_4_oasis_kolomensky_com"/>
          <p:cNvPicPr/>
          <p:nvPr/>
        </p:nvPicPr>
        <p:blipFill>
          <a:blip r:embed="rId2"/>
          <a:stretch/>
        </p:blipFill>
        <p:spPr>
          <a:xfrm>
            <a:off x="2268360" y="2505240"/>
            <a:ext cx="6875640" cy="43527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1" descr=""/>
          <p:cNvPicPr/>
          <p:nvPr/>
        </p:nvPicPr>
        <p:blipFill>
          <a:blip r:embed="rId3"/>
          <a:stretch/>
        </p:blipFill>
        <p:spPr>
          <a:xfrm>
            <a:off x="0" y="0"/>
            <a:ext cx="4797360" cy="3011400"/>
          </a:xfrm>
          <a:prstGeom prst="rect">
            <a:avLst/>
          </a:prstGeom>
          <a:ln w="0">
            <a:noFill/>
          </a:ln>
        </p:spPr>
      </p:pic>
      <p:sp>
        <p:nvSpPr>
          <p:cNvPr id="1018" name="Text Box 12"/>
          <p:cNvSpPr/>
          <p:nvPr/>
        </p:nvSpPr>
        <p:spPr>
          <a:xfrm>
            <a:off x="5079960" y="476280"/>
            <a:ext cx="357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Тропически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пустын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0" descr="i-1870"/>
          <p:cNvPicPr/>
          <p:nvPr/>
        </p:nvPicPr>
        <p:blipFill>
          <a:blip r:embed="rId2"/>
          <a:stretch/>
        </p:blipFill>
        <p:spPr>
          <a:xfrm>
            <a:off x="5580000" y="208080"/>
            <a:ext cx="3564000" cy="27860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1" descr="Триполи"/>
          <p:cNvPicPr/>
          <p:nvPr/>
        </p:nvPicPr>
        <p:blipFill>
          <a:blip r:embed="rId3"/>
          <a:stretch/>
        </p:blipFill>
        <p:spPr>
          <a:xfrm>
            <a:off x="2050920" y="3427560"/>
            <a:ext cx="5148360" cy="3430440"/>
          </a:xfrm>
          <a:prstGeom prst="rect">
            <a:avLst/>
          </a:prstGeom>
          <a:ln w="431640">
            <a:solidFill>
              <a:srgbClr val="ffffff"/>
            </a:solidFill>
            <a:miter/>
          </a:ln>
        </p:spPr>
      </p:pic>
      <p:sp>
        <p:nvSpPr>
          <p:cNvPr id="1024" name="Rectangle 12"/>
          <p:cNvSpPr/>
          <p:nvPr/>
        </p:nvSpPr>
        <p:spPr>
          <a:xfrm>
            <a:off x="3851280" y="621648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риполи – самое жаркое место на Земл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i="1" lang="el-GR" sz="1800" spc="-1" strike="noStrike">
                <a:solidFill>
                  <a:srgbClr val="ff0000"/>
                </a:solidFill>
                <a:latin typeface="Arial"/>
              </a:rPr>
              <a:t>Τ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+58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°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5" name="Picture 14" descr="Sahara_photo1"/>
          <p:cNvPicPr/>
          <p:nvPr/>
        </p:nvPicPr>
        <p:blipFill>
          <a:blip r:embed="rId4"/>
          <a:stretch/>
        </p:blipFill>
        <p:spPr>
          <a:xfrm>
            <a:off x="1403280" y="260280"/>
            <a:ext cx="4032360" cy="2676600"/>
          </a:xfrm>
          <a:prstGeom prst="rect">
            <a:avLst/>
          </a:prstGeom>
          <a:ln w="0">
            <a:noFill/>
          </a:ln>
        </p:spPr>
      </p:pic>
      <p:sp>
        <p:nvSpPr>
          <p:cNvPr id="1026" name="Text Box 16"/>
          <p:cNvSpPr/>
          <p:nvPr/>
        </p:nvSpPr>
        <p:spPr>
          <a:xfrm>
            <a:off x="1692360" y="2708280"/>
            <a:ext cx="30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Большая пустыня плане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Text Box 17"/>
          <p:cNvSpPr/>
          <p:nvPr/>
        </p:nvSpPr>
        <p:spPr>
          <a:xfrm>
            <a:off x="6516720" y="2708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Песчанная бур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6" descr="EthnAfrica"/>
          <p:cNvPicPr/>
          <p:nvPr/>
        </p:nvPicPr>
        <p:blipFill>
          <a:blip r:embed="rId2"/>
          <a:stretch/>
        </p:blipFill>
        <p:spPr>
          <a:xfrm>
            <a:off x="1692360" y="476280"/>
            <a:ext cx="6048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0:30:35Z</dcterms:created>
  <dc:creator>111</dc:creator>
  <dc:description/>
  <dc:language>en-US</dc:language>
  <cp:lastModifiedBy>Ribak</cp:lastModifiedBy>
  <dcterms:modified xsi:type="dcterms:W3CDTF">2014-02-16T17:22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44000000000001024140</vt:lpwstr>
  </property>
  <property fmtid="{D5CDD505-2E9C-101B-9397-08002B2CF9AE}" pid="3" name="Version">
    <vt:r8>1</vt:r8>
  </property>
</Properties>
</file>