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8AD4-9690-40E9-AD6E-71C0AEB3B4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C3EA-3110-4F59-A8D6-5C106C0103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3B7E-C7AF-43BF-BBB8-A3FAA9B357F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0DF6-3E9E-4D1A-A5DA-5C2EEAD7B7F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4A3-DD30-4AD5-910A-3F514FE7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352-4837-40C6-AEED-CB7F2683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2FB-BCE5-439E-9AB7-10DC71F0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843-8849-405A-A2C3-73C2DF16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28FE-E88B-4CE0-B043-B94B397C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2673-482A-49D2-9CD0-157D1DFC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8EE7-7F5A-416F-A6BE-1C7BEBE1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C9D6-D70C-461A-8BF1-E99D34D0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3D2C-B083-4971-917D-F7733DB4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2FF3-F3AE-4286-A442-F4868B75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E728-4BED-4F7C-B7BE-1A682E8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C66-7F7D-46EE-9CB6-BDB6BB06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EB28-6859-4254-B79F-C246C347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8312-1BC5-469C-BB07-848D14A2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545F-3F20-414B-8E8C-8EC9B85F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9D62-9046-45E4-B318-5AF95170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622E-CC20-48C9-8D2C-F4644F65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2F4C-B869-4CAA-876C-831C0C28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762A-6E45-4369-9BDE-C4BE3EBD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F94A-69D4-42A0-94D1-D0A57173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287B-6F97-4C08-9674-F8164AEF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261DA-9722-40CB-8276-BCFE067F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0EF-4632-4F79-B0CC-63CACFF5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EB85-879C-4A47-9796-51598BED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0762-1892-4685-8819-E9843C8D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3CA1-8A67-408F-BCD9-377A91CC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4BEA-E90E-408D-B0D7-2884071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9B2D7-DB24-41B1-8F2C-3D306A5B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8F70-DC76-47ED-9C35-A8D86C85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29E4-ECAA-4620-AE61-74AA1DC0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2E5-B3E3-441C-8739-BB30CD97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C63-314D-448B-8672-EB09440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439-8DF4-473A-9686-FA760973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C0B-9D14-4846-B23A-F569450A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103-68CF-4965-A6D8-B7321C3D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433-8CCF-4ED0-8555-D86C2CA7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6FC0-9EE1-4A66-B1B3-A0E8A53A29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97CC-F121-4BAC-AE06-F4C15E0FBF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2466-15BD-40C3-BD25-17F6142B4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google.ru/imgres?imgurl=http://dic.academic.ru/pictures/wiki/files/80/Pelikan_Walvis_Bay.jpg&amp;imgrefurl=http://dic.academic.ru/dic.nsf/ruwiki/45986&amp;usg=__KCepR8D9K8659wQicTcN5Bvm4Kc=&amp;h=2448&amp;w=3264&amp;sz=1279&amp;hl=ru&amp;start=18&amp;zoom=1&amp;um=1&amp;itbs=1&amp;tbnid=tPZdfVl9RR_06M:&amp;tbnh=113&amp;tbnw=150&amp;prev=/images?q%3D&#1087;&#1077;&#1083;&#1080;&#1082;&#1072;&#1085;%26um%3D1%26hl%3Dru%26newwindow%3D1%26sa%3DG%26gbv%3D2%26tbs%3Disch: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google.ru/imgres?imgurl=http://sigils.ru/symbols/img/pelikan01.jpg&amp;imgrefurl=http://sigils.ru/symbols/pelikan.html&amp;usg=__Uhcv0wnwEINiwfZy3aQ_4M5qYRM=&amp;h=600&amp;w=490&amp;sz=49&amp;hl=ru&amp;start=11&amp;zoom=1&amp;um=1&amp;itbs=1&amp;tbnid=UPzsW_iKlVLQfM:&amp;tbnh=135&amp;tbnw=110&amp;prev=/images?q%3D&#1087;&#1077;&#1083;&#1080;&#1082;&#1072;&#1085;%26um%3D1%26hl%3Dru%26newwindow%3D1%26sa%3DG%26gbv%3D2%26tbs%3Disch:1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6193080" cy="3322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83920" y="260280"/>
            <a:ext cx="783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Жестколист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вечнозелены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леса и кустарники Аф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93600" y="5888160"/>
            <a:ext cx="82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полнил ученик 7-Б класса Альпер Макс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ография и 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ше средиземноморский климат переходит с повышением широты (ближе к полюсам) в зоны океанического или приморского климата, для которого характерны обильные летние дожди, а с понижением широты (ближе к экватору) - в засушливые (в летнее время) степи с нечастыми дождями в зимне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пература возду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ше средиземноморский климат переходит с повышением широты (ближе к полюсам) в зоны океанического или приморского климата, для которого характерны обильные летние дожди, а с понижением широты (ближе к экватору) - в засушливые (в летнее время) степи с нечастыми дождями в зимне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чвенный соста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760" indent="193680" algn="just">
              <a:lnSpc>
                <a:spcPct val="8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жание гумуса равно 4—7%, преобладают гуминовые кислоты. Следовательно, естественное плодородие почв весьма вы­сокое. Обилие карбонатов ведет, в частности, к развитию богатой фауны наземных раковинных моллюс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760" indent="193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тоянно влажных субтропических и умеренных дождевых и лавролистных лесах представлены красно­земы и желтоземы, имеющие промывной режим и накапливающие менее подвижные продукты выветривания — свободные гидроксиды алюминия и железа. Почвы эти малогумусные, кислые, в них выражены также процессы оподзоливания (они приостанавливают­ся на основных материнских породах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760" indent="193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тительны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жестколистных лесов в среднем достигает 15—20 м, лишь высота эвкалиптовых лесов кэрри соответствующего типа может составлять 40—50 м. Нередки также разреженные древо­стой с кустарниками, а также чисто кустарниковые жестколистные формации (маквис, чапарраль, мали-скраб). Часто представлен единственный древесный ярус, бывают двухъярусные леса. Кроме преобладающей жизненной формы жестколистных деревьев и кус­тарников, которая конвергентно образовалась у видов разных се­мейств и на разных материках, представлены и другие, как прави­ло, более характерные для отдельных регионо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термитов этого ви­да составляет 600 экз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биомасс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и явно домини­руют среди гетеротрофов. Правда, это единственный вид, сооружающий заметные термитники. Остальные 11 видов обитают в толще грунта или в стволах упавших деревьев. Самый массовый N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iosu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тается упавшими стволами деревьев, пнями, сухими сучья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же местах наиболее обыч­ными оказались крупные мокрицы, земляные черви, тараканы и кивсяки, живущие в норках. В склерофилльных сообществах Ав­стралии обычны земляные черви из семейства мегасколецид и глоссосколецид, а также позднее завезенные из Европы дождевые черви-люмбрици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тельно хищный образ жизни ведут взрослые амфибии. В пределах Средиземноморья обычны некоторые жабы, древесные квакши. Многочисленны разнообразные ящерицы, многие из ко­торых быстро бегают по скалам, обрывам и стволам деревьев (группа стенных и скальных ящериц, геккон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ts val="1049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43976222_Tyuleni__Monahi2"/>
          <p:cNvPicPr/>
          <p:nvPr/>
        </p:nvPicPr>
        <p:blipFill>
          <a:blip r:embed="rId2"/>
          <a:stretch/>
        </p:blipFill>
        <p:spPr>
          <a:xfrm>
            <a:off x="5508720" y="214200"/>
            <a:ext cx="3311280" cy="2338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-3178"/>
          <p:cNvPicPr/>
          <p:nvPr/>
        </p:nvPicPr>
        <p:blipFill>
          <a:blip r:embed="rId3"/>
          <a:stretch/>
        </p:blipFill>
        <p:spPr>
          <a:xfrm>
            <a:off x="1332000" y="260280"/>
            <a:ext cx="3673440" cy="22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MG_9145g"/>
          <p:cNvPicPr/>
          <p:nvPr/>
        </p:nvPicPr>
        <p:blipFill>
          <a:blip r:embed="rId4"/>
          <a:stretch/>
        </p:blipFill>
        <p:spPr>
          <a:xfrm>
            <a:off x="5076720" y="2781360"/>
            <a:ext cx="3143520" cy="2085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Pelikan_Walvis_Ba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781360"/>
            <a:ext cx="2255760" cy="169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pelikan0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87640" y="2781360"/>
            <a:ext cx="1876320" cy="230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rt6799_0"/>
          <p:cNvPicPr/>
          <p:nvPr/>
        </p:nvPicPr>
        <p:blipFill>
          <a:blip r:embed="rId9"/>
          <a:stretch/>
        </p:blipFill>
        <p:spPr>
          <a:xfrm>
            <a:off x="468360" y="4797360"/>
            <a:ext cx="2374920" cy="1784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024130_41"/>
          <p:cNvPicPr/>
          <p:nvPr/>
        </p:nvPicPr>
        <p:blipFill>
          <a:blip r:embed="rId10"/>
          <a:stretch/>
        </p:blipFill>
        <p:spPr>
          <a:xfrm>
            <a:off x="6372360" y="4941720"/>
            <a:ext cx="25668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Финиковая пал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phoenix_dactylifera240"/>
          <p:cNvPicPr/>
          <p:nvPr/>
        </p:nvPicPr>
        <p:blipFill>
          <a:blip r:embed="rId2"/>
          <a:stretch/>
        </p:blipFill>
        <p:spPr>
          <a:xfrm>
            <a:off x="2050920" y="11970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Экологически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области жестколистной растительности в настоящее время сильно видоизменены деятельностью человека. Площадь лесов со­кратилась, а кустарниковых и кустарничковых ксерофитных фор­маций, напротив, увеличилас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лываемые земли весьма сходны и по составу культурных растений. Это цитрусовые, виноград, маслины, инжир (фига), пшеница. Очень сходны декоративные растения в садах и цветни­ках, а также распространившиеся за последние столетия сорные раст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розия поч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3:41:35Z</dcterms:created>
  <dc:creator>Ribak</dc:creator>
  <dc:description/>
  <dc:language>en-US</dc:language>
  <cp:lastModifiedBy>Ribak</cp:lastModifiedBy>
  <dcterms:modified xsi:type="dcterms:W3CDTF">2014-02-16T17:22:35Z</dcterms:modified>
  <cp:revision>4</cp:revision>
  <dc:subject/>
  <dc:title>Жестколистные леса и кустарники Аф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6000000000001024140</vt:lpwstr>
  </property>
</Properties>
</file>