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2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8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DFD1-F7F3-405C-8E7B-094C7BBD53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44BC-324C-4F50-8A41-04AEB66CB1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CB3B-F987-4CC6-B99D-77676A9D2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C0AA-74CB-4255-9F8C-DA10B507ED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B122-2287-404C-B521-2C418139F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4F9-3616-483D-80E7-29E9A269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C61-A0D8-4DFB-A95F-0E705CB8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D3711-AB10-4536-883D-D7AD4AF0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9DA9D-D23B-4D31-A922-786A8CA5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AAF6A-BD67-4379-87BE-044976BD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01AB7-66AC-4442-9B6D-372066E4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7C5F2-4BEC-4872-BAF3-C149ADC0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FBF7C-1A81-47E4-86C6-920A5273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F7F13-5E08-4FA7-A978-9447456D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92270-5A76-435A-945A-A8EB0204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155EE-4856-4798-ADA8-FF2E1E3A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1BBFF-714E-46AE-B84F-EBC8EE1A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635-37A4-4DD2-8734-79FA26E4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1463F-7C44-4ECF-A99D-A9C1DDB0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A0B31-C4D1-40A6-AAD4-4835FECD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950DB-0985-41D6-951F-1A72AE59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66F9F-2549-4D62-83B8-40657082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C31C7-450F-47BD-A188-76A7D6BA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D80D6-0D07-466F-B5A2-E2B6C94F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210B9-569B-4BFD-B5A7-B0954E73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C92D3-4B13-469D-9B0C-0EE3047F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A06EA-05E7-44B3-AB8D-08A9E3A1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EE5D4-C986-4FDA-B32A-01CBD05B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C39-DC93-4E50-961D-252C4CD1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21513-9E48-4614-801A-D3601304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4A754-F57B-49DB-B721-10392E87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7518F-26BB-4D5C-AC04-C4AE3533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E277F-F5F6-442F-B3A7-DDC20992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5F3ED-5FB0-4B25-BB13-01D3567A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4AE28-8841-4FBA-ABF0-2CA22574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1A221-9398-4E28-B2C0-98171A27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94D2F-9B60-4FA1-96EA-79F2FCAA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48598-4736-45F4-89DA-3EA28E47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1F709-A033-45E4-991A-1D193F6E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93C8-57C1-47E2-8464-91284F2D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4938B-65A1-4952-B637-15D4B6B4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1DB4D-C8D4-49EA-8DC9-6CBE1294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55A31-752E-4D63-8056-51B4A198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1E0F0-D784-4EB3-8A52-3F855D7E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6D423-C861-461F-8885-187723E2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73413-7611-46B3-AFA9-898CBEAB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0C770-AB23-4C98-AC9A-2850A629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77F30-2B00-4C96-979D-E6E71E2B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BC2BC-3147-416C-A000-2F524D1E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FBDED-DA09-4D50-B688-0FBDFCB7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A986-DB25-467D-A8F4-A683D275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F2FC3-534D-4619-A1F5-C0FE4683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6D488-6B9B-49B8-8086-80218DBA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A42AF-020D-44A7-BE13-4C490C07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CF7CC-0CD7-4EB3-AAC1-C4101B8E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9E8B3-21EA-406A-9D5C-E8643009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0C56A-9110-4A21-9B8A-35019DF0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E86FF-504E-4755-9572-DB872991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2590D-5A7E-4D47-A8B8-0078F514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A1C74-9513-4717-A977-D7E9E123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6680A-1763-43F4-926E-7F1C5114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F848-203E-4FD3-B5BF-55D10CBA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9E9B0-4AB1-4605-B659-EDF411F9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7407E-8709-4E5B-B916-5B8EB5C9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15D0E-7A59-40CD-A82F-DD9751A9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74E2B-1908-4EF5-979A-1CA8E13F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92F9E-6CA2-47AD-80B0-7BF57B2B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7AFAE-7280-476A-BBE7-529B26D1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F27CC-2308-4978-9335-C867EC98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05FE2-2844-4FD3-8B66-05565813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FA2AE-F666-41EB-917E-ABDC7EC9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1D083-F2C8-4ABF-A1BA-288C4618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B820-18FF-4C90-9046-81ABF23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3D075-F199-47A4-880D-1308DC80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FA1EB-2650-4F28-8E57-BB2AB55F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A2C3A-A966-4FE6-872E-55BB95AD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012EE5-FB96-4819-BA81-54171311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4C07D-7914-483D-9104-717B352A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E1961-BFFB-461F-8E70-89C93507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4E659-ADDF-4EB0-B081-2C0C2A7E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3F9B8-7A24-4EF5-97E7-614C4C8E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3BDEBA-0740-4B5F-91AD-B93873CA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9137EE-4A88-466C-9509-4DE939D1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7A1A-CEC5-49EC-B548-DF118EF1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F9F066-0D70-4016-AB37-F8C552BC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BDF158-6ED2-4E29-A8CE-38AE1345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D00D5-F112-46DA-88DA-A9CAC9C2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A1A12-BA2E-4479-83C9-8439C927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152101-FB3A-478B-92BD-93994D3D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DAC5F3-2574-4A30-AAB4-F274397F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8B3962-5E94-48AB-A57B-3B087D1C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8CEE58-EF3A-4E57-90DA-2A87AADE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FA4EA-6283-4D69-A164-5686F2D0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B452B7-3639-46B7-B072-C36CAA03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8F32-26B4-415F-8DE2-842C7617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78DB0-E5DD-4190-B582-E7132F8C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30DD8-24E9-4238-904C-0EA9A18C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570385-E0A2-4F59-8082-6907BF1D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E03408-C561-4A2F-83C6-9FF574FE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8CB80-BB06-4ECD-8470-F9C7C21E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7A978-EC2E-4DB1-A412-533832FC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5F3D8-CE6D-414C-A4C6-307F47D8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4AF2F2-C31F-4231-B2E4-95F69CE5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CB3E7A-E342-4DE6-AB13-7943263E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0A0FB9-39D8-41A0-83BC-D7F55AE7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7076-0E48-4559-919B-5EE7378E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177ADF-DFB7-4039-88C7-163EE413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31CFB2-3ADE-4F97-8912-B47BD393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5D63F9-660F-46E7-AF90-BDBE486D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ED0819-33D0-44DB-84D4-118630BA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EB4212-97B5-49CD-B543-01CDA73F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9B80E8-31E3-4CC7-8CF1-06FBA4E5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9AC34-6207-4B4A-9952-829F24F5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02D73-2B63-46BD-91FD-182CABF5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CF851B-A6F8-41AF-AE2B-556E41FA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E064CC-EAB0-43CC-A3B9-CBF820EC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872C-66DB-4B38-A1D4-5C455C76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8BB9-57BA-457E-9BD2-79F0E9EC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B91D2-D647-405E-8FB5-EDDADDA5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C4CE8A-80FB-41F5-88B1-B310E71B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77F67-FC31-4AE3-B29D-5E8ABC83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4BF421-244A-4C24-BD5B-404C869D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9721AA-731F-4FC1-ABDC-D9CF4C53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220CCC-3B39-42BA-B8B0-B17CC0A8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05B853-C228-4B27-B1DD-12606C0F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90E803-AC56-4A13-B3DA-363818BC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1BCF25-A05B-482A-AA93-ECB9A7B3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B57A7E-9AC2-43AB-AE7F-9165E411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88E6-BD72-4FA1-AE23-F2B893DB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8FCF96-A1EC-4EB9-8163-6CD0C4D8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3C135E-0205-4A3D-8B81-60D6CD6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A8B8C4-AB8A-4ECD-AA1C-A79CF3FD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6E5E5F-914B-4AD0-BE7B-9BB87B50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A0CB55-7124-4B15-A33F-016E9E03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9EC93A-2C86-4018-A030-AE1F96B4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BAB93B-661A-4B96-A71E-5C082632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99AB5B-FA2C-4789-A0CD-63835EBE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5C159-B2DC-4EF7-96A7-AE4B7F37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E1E5CE-C552-4E49-B8F1-881A2E75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3ED3-2B24-4FEE-8304-1331D367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B4754F-D7C6-4746-8E93-3886F3E7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B45560-6FCC-4363-B9B0-147A29FE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84DA41-9AA8-4921-99FF-562E5236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7BA1C2-01F0-45FD-9484-04F3F79B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700A51-5EE5-4006-A069-A4342A24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3CE6B4-30A8-43EF-90AA-95716054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DF407F-D0EC-47A2-94B1-D699423A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208FE4-584B-422E-A4CA-9A9553CF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5A1187-AC9C-437F-AE8D-3E0CDA56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6D1A78-49E3-4EF0-AB64-C72239B4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363E-EACA-4310-BDC4-43FE10B1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48CFAE-8FC2-428E-B9D9-EA0CD4CC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DA467B-AB35-4587-8A00-30C88611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E4D29C-2A32-4F27-9D16-D99C2D9B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799A09-4CA3-490C-95EE-304A355F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F86CEF-465C-415C-B1DA-85CD38E8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6BABDA-2052-4094-B2F4-A905CB84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5E7C69-ADBA-4E73-A6ED-35754AB0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920599-DB84-4B14-B19A-EF6BE155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98576B-2061-4591-9044-F52FEF68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956596-A634-4AB3-993D-C73D5D4C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D4FF-FF61-4995-A017-15551811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75C0E0-C7AB-4185-8BBD-8481FAEA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153D9C-1AEB-4ECA-8C1B-92ACB066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CDC99F-8BF4-4DC6-9C1A-7BC68D07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B6FCDC-6197-4BED-9105-8C794111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B589FF-7D4F-47C3-AB6F-8FDADB97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450120-540D-45CE-85F7-F4715BFE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40FB38-F2F2-4C47-B5BC-F45C1D15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2977E8-0C48-4402-A776-ECAD3684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05B9B1-7FB9-4B3B-ACC2-7D77F3D7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F36057-7CA3-407F-930C-609D7630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18901-0E3D-4EFD-AE26-0029A799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6FA594-9695-4C1C-B319-82121544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D82CD6-174C-47F4-A538-67F126B0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E871D0-1D14-4655-AD20-C28BDD68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BDED9B-E94F-4C01-90FA-159B8119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76BCF1-3286-402E-B84D-54291325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FE2678-3EAA-4615-B7C5-5868B7E6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D51CC6-ACA0-4923-B43C-DD6C4783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996336-E028-4FA1-870E-E15FB146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DE897C-986E-4665-B682-589F2BAE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5E8AED-EDDC-4114-B581-A37C85E3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22D5-86CC-41AC-89C1-6A1B642C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C3ADF4-C4F4-4BAA-A578-9BFA9099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5E06C9-9EA3-4434-B065-7B6F3E97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A14037-2FFE-416C-82A4-1FF39471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A6EC09-9A19-457E-B54E-ED4539EF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FAA119-7E98-4402-B42E-3993EE10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A80EA6-9684-4C98-9694-6FEA588D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E1A491-8C3B-4F07-8489-F02A1531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12C119-6491-4D21-A1DA-7CAAD752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20EB74-47A5-460E-975D-24EAB5EB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8B8CA5-D936-4E9D-BBE3-41722DE3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DDD1-54FE-4C1F-8E8B-B54F16C7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DCDA20-D0FE-4E10-9639-9E4CC460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BEFFDB-CF9F-4128-A19E-0DB7DDF0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BB6E3D-1FAC-49D2-84B8-969F61D3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987866-3D55-4B12-B268-AD0F9D3B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875440-CDDF-4AC8-B179-35B71FF9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F1E5E2-BE68-4687-A746-D0526E87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5F8CB4-A3EF-4873-AF3E-335A365D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DA76-7073-4912-8D56-415A56B6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46B67-3518-4EF6-9041-8EEC40E0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01E-3F77-4A94-87D1-45439900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8FBC7-4B0B-4EA0-B337-4780F539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27A8-6547-4B66-B058-31E9D514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96C27-19A8-41BE-8DC8-7E4CB22D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F2214-0499-498D-8E67-C0B79D47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A818-D7A4-4616-93A5-0214F10F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956E7-D22E-41A8-A77D-C2480F73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89D41-2538-4935-A2FD-9C514B0D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74FA0-31B0-4D58-9531-E6270A6C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E8FE3-A6A4-4EF0-A697-52C56BE3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4372B-66AA-4854-B35B-BFFD495F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F9E-A46E-4114-8A0D-58BBF172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2D91C-3E51-477F-952F-7DB7F3B3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BA2F3-0D54-4A40-B5D0-D942AC00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51A20-F6EB-415D-B01E-EE176764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C44AF-6271-449C-88E9-1FB21BB0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557D2-9CEA-4CA1-AF3C-6DD2EF83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BBA3F-144D-4AB1-A10B-8A3E0F95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2C4D2-D312-4A4E-8441-3D8DE333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EA257-D1F9-4C54-82FD-AB71FB65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F9CAD-3AF5-4F35-9D96-FE0567C3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B9AE2-5FDF-41E8-83E2-29E1933B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6DB-CAC5-4462-80F7-0A6BDFBB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6AA1B-EDE3-4DD1-A528-B026DB63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FE29C-813D-4CBE-9675-AA37E25A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ACA23-E0A9-4CC4-9755-83AC5355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6621D-611C-4893-B413-FADF4709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426DD-A47B-411F-9509-70A7BAD3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45D82-C7B2-4B62-9A8F-9EFF4580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E4D6A-D14B-44F3-B086-8507074B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32383-3472-4399-A11F-4F133F91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483BE-55F2-474F-AD2E-3A6EA4D4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B8F68-7E5A-4F40-BD7A-DEB561CC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58B-F469-404B-8500-AB7A3339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874A9-56AD-40A6-AE3F-E2861E79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2AE0-5832-4A7C-88F3-3528D90E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58143-53B5-4832-B198-3490C878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01E17-2416-4673-8FB9-601673C9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A96EC-7634-4B71-BA59-B096B256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77BAB-CA2D-4418-9B92-D3F16351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5019B-4874-44DA-A1CD-1E8D4E4D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D935A-E42A-425F-85ED-E74B70DB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9ED7D-A1FA-4D06-AFC2-878E99B7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FFA0C-A579-42D7-BA78-8BFD06F1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2C72-B148-4CD1-9F33-BC259857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A3332-4DEC-45D6-85E0-795D62C4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D0EF9-E78C-4FE2-BF7E-C9D23DB2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D4A58-A51A-40DE-8CDD-6BC0A9D0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60FE6-C9A4-432F-B3A6-F6E5BFEE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4EA9A-5C80-43AC-9C2C-D6E4CF5B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727F8-BF5B-4D46-BE34-FF66B7EA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44080-A899-4D2D-8BA5-E58ED446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6644D-B208-4ABB-A5BC-8469C5ED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7C5E6-D647-4373-BF82-BDBC1AE4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84AFC-A067-4FD1-A561-0B1E4F6A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B27-E3C9-4B1C-B728-BABC346A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67DEF-D2CB-45AE-B5ED-0B28CC5A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ECD84-EF90-4BB6-A79C-D36C1C5C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14D70-660C-4822-90DA-9588022A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E63D1-BA09-4D64-B8F3-CE44C36A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FDDE9-6C00-4177-954A-74E48329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5CC9A-9E66-41F0-9D12-8AC58BDA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BE04F-B9BD-42C3-8CD6-2F109456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366BB-A890-4F43-9BE7-13D233C1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FD78A-87B8-4C6E-8E8F-8AB8892A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FE577-DEFF-448F-A0CC-706F8037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EE0-204E-4DBF-B133-7D46BA4D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BD48F-A6D1-4696-B4EB-F413CE9F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BC5FF-FEA9-4767-A3AD-F6BCEFEB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C4CE7-DFAF-4F31-B49C-716B3236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C794C-7B4C-4C50-85D3-F89395C8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6F176-631F-400F-9CDA-C751B711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8FF53-C1FE-46D6-9C7F-9F08AA58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C2F31-9EE1-49B8-B28D-47C03EE6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261D8-C22A-47B8-83A4-6FC16B2A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ED72C-0EE2-433C-945F-FE6C3049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79413-497E-482C-97CC-0E532311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0015-EAC0-41A5-ACC5-767EBEC8E78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1DEF-ED5D-46CB-9C5B-A6F2DD6297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4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4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4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36A4-9B73-4D15-B85A-7C0A495305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40D1-A84B-4EAE-AF72-8EB8E76D4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B4D2-9DC3-4866-A333-C201F4CC3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6FE9-E000-475C-B806-E0C36F6A71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692B-5CFB-4DBA-9638-67AA42BD5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69F4-BC5E-4291-9928-EB58015C5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EDF7-B2D8-41CF-A68D-D26BB40BC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8FE1-FBD4-4153-B165-66FEFD7F44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AF43-7425-4234-A533-97BB817B7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170A-C37C-4BB4-BCCF-95918DA35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F7AB-2E4D-4BC2-9282-3A1FE8720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6C19-1C85-4F9C-8E99-11E24B593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01B6-6B9B-430F-B129-447FE1F90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E0BE-81DC-4DCD-A6FB-54F43B4F30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9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5990-A6A4-466F-81B2-3F0C441623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6E23-0CB0-49B9-82A1-705A5B8CB36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8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4CEF-CABD-44C8-874F-67ECB62A38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1E94-FE16-4D02-BBC6-16393AFB257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CE16-B7E7-4F0C-A974-149FD43F228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1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6297-5D79-4024-8A95-559A5FCD99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44A3-B02C-4780-90DD-FE5F7774D98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google.ru/imgres?imgurl=http://www.fotoart.org.ua/albums/userpics/namib_desert_namibia.jpg&amp;imgrefurl=http://www.fotoart.org.ua/displayimage.php?album%3D102%26pos%3D7&amp;usg=__7PaDsfjyOg3Ly0oKZBINkDTPpL0=&amp;h=1024&amp;w=1280&amp;sz=365&amp;hl=ru&amp;start=3&amp;zoom=1&amp;um=1&amp;itbs=1&amp;tbnid=BON9fcvdhwU0RM:&amp;tbnh=120&amp;tbnw=150&amp;prev=/images?q%3D&#1085;&#1072;&#1084;&#1080;&#1073;%26um%3D1%26hl%3Dru%26newwindow%3D1%26sa%3DG%26gbv%3D2%26tbs%3Disch:1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www.google.ru/imgres?imgurl=http://www.zastavki.com/pictures/1152x864/2008/World_Africa_Tok_Tokkie___Namib_Desert___Namibia___Africa_008892_.jpg&amp;imgrefurl=http://www.zastavki.com/rus/World/Africa/wallpaper-8892-9.htm&amp;usg=__ybYHJLZcG6MdQbOd_HtU7cbZea4=&amp;h=864&amp;w=1152&amp;sz=305&amp;hl=ru&amp;start=17&amp;zoom=1&amp;um=1&amp;itbs=1&amp;tbnid=cThxgO2TUVG9eM:&amp;tbnh=113&amp;tbnw=150&amp;prev=/images?q%3D&#1085;&#1072;&#1084;&#1080;&#1073;%26um%3D1%26hl%3Dru%26newwindow%3D1%26sa%3DG%26gbv%3D2%26tbs%3Disch:1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www.google.ru/imgres?imgurl=http://www.phototravels.net/namibia/ndv1/namib-desert-v-98.2.jpg&amp;imgrefurl=http://www.phototravels.net/namibia/namib-desert-trees.html&amp;usg=__yLG4MuGEFWt9NqtQo4hkvqjOsis=&amp;h=328&amp;w=497&amp;sz=37&amp;hl=ru&amp;start=2&amp;zoom=1&amp;um=1&amp;itbs=1&amp;tbnid=WblrS-i-0IwLwM:&amp;tbnh=86&amp;tbnw=130&amp;prev=/images?q%3D&#1085;&#1072;&#1084;&#1080;&#1073;%26um%3D1%26hl%3Dru%26newwindow%3D1%26sa%3DG%26gbv%3D2%26tbs%3Disch:1" TargetMode="External"/><Relationship Id="rId7" Type="http://schemas.openxmlformats.org/officeDocument/2006/relationships/image" Target="../media/image32.jpeg"/><Relationship Id="rId8" Type="http://schemas.openxmlformats.org/officeDocument/2006/relationships/hyperlink" Target="http://www.google.ru/imgres?imgurl=http://i1.trekearth.com/photos/17939/huge_welwitschia_mirabilis.jpg&amp;imgrefurl=http://www.trekearth.com/gallery/Africa/Angola/South/Cunene/photo159002.htm&amp;usg=__7lWFTsvx6nabSYQM_Gn_8pAswlA=&amp;h=517&amp;w=800&amp;sz=170&amp;hl=ru&amp;start=16&amp;zoom=1&amp;um=1&amp;itbs=1&amp;tbnid=OhCSBE3b15ozVM:&amp;tbnh=92&amp;tbnw=143&amp;prev=/images?q%3D&#1074;&#1077;&#1083;&#1100;&#1074;&#1080;&#1095;&#1080;&#1103;%26um%3D1%26hl%3Dru%26newwindow%3D1%26sa%3DG%26gbv%3D2%26tbs%3Disch:1" TargetMode="External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slideLayout" Target="../slideLayouts/slideLayout14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Rectangle 2" descr=""/>
          <p:cNvPicPr/>
          <p:nvPr/>
        </p:nvPicPr>
        <p:blipFill>
          <a:blip r:embed="rId1"/>
          <a:stretch/>
        </p:blipFill>
        <p:spPr>
          <a:xfrm>
            <a:off x="73080" y="433440"/>
            <a:ext cx="9077400" cy="5675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6" descr="namib_desert_namib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89000"/>
            <a:ext cx="2147760" cy="17175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8" descr="World_Africa_Tok_Tokkie___Namib_Desert___Namibia___Africa_008892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79640" y="148428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0" descr="namib-desert-v-9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27640" y="260280"/>
            <a:ext cx="2606760" cy="1724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2" descr="huge_welwitschia_mirabili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1557360"/>
            <a:ext cx="2881440" cy="18540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4" descr="vv02"/>
          <p:cNvPicPr/>
          <p:nvPr/>
        </p:nvPicPr>
        <p:blipFill>
          <a:blip r:embed="rId10"/>
          <a:stretch/>
        </p:blipFill>
        <p:spPr>
          <a:xfrm>
            <a:off x="6516720" y="4581360"/>
            <a:ext cx="2448000" cy="15256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6" descr="velvichiya"/>
          <p:cNvPicPr/>
          <p:nvPr/>
        </p:nvPicPr>
        <p:blipFill>
          <a:blip r:embed="rId11"/>
          <a:stretch/>
        </p:blipFill>
        <p:spPr>
          <a:xfrm>
            <a:off x="250920" y="4292640"/>
            <a:ext cx="2700360" cy="20192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8" descr="06"/>
          <p:cNvPicPr/>
          <p:nvPr/>
        </p:nvPicPr>
        <p:blipFill>
          <a:blip r:embed="rId12"/>
          <a:stretch/>
        </p:blipFill>
        <p:spPr>
          <a:xfrm>
            <a:off x="3492360" y="3500280"/>
            <a:ext cx="2438640" cy="2571840"/>
          </a:xfrm>
          <a:prstGeom prst="rect">
            <a:avLst/>
          </a:prstGeom>
          <a:ln w="0">
            <a:noFill/>
          </a:ln>
        </p:spPr>
      </p:pic>
      <p:sp>
        <p:nvSpPr>
          <p:cNvPr id="1042" name="Text Box 19"/>
          <p:cNvSpPr/>
          <p:nvPr/>
        </p:nvSpPr>
        <p:spPr>
          <a:xfrm>
            <a:off x="3419640" y="54936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Нами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Text Box 21"/>
          <p:cNvSpPr/>
          <p:nvPr/>
        </p:nvSpPr>
        <p:spPr>
          <a:xfrm>
            <a:off x="6732720" y="386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Вельвич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Text Box 22"/>
          <p:cNvSpPr/>
          <p:nvPr/>
        </p:nvSpPr>
        <p:spPr>
          <a:xfrm>
            <a:off x="4067280" y="602136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Соленый ку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Text Box 23"/>
          <p:cNvSpPr/>
          <p:nvPr/>
        </p:nvSpPr>
        <p:spPr>
          <a:xfrm>
            <a:off x="4067280" y="6021360"/>
            <a:ext cx="97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Rectangle 4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8454960" cy="1212840"/>
          </a:xfrm>
          <a:prstGeom prst="rect">
            <a:avLst/>
          </a:prstGeom>
          <a:ln w="0">
            <a:noFill/>
          </a:ln>
        </p:spPr>
      </p:pic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472464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Зона пустыни и полупустыни- это одна из наиболее обширных природных зон мира. Сейчас идёт процесс роста численности населения планеты. Это значит. Что увеличивается потребность в сельскохозяйственных продуктах. Для решения проблем можно предложить два пути: во-первых, увеличить производительность почв и создавать высокоурожайные сорта растений. А во-вторых, найти такие почвы , которые можно будет использовать в сельском хозяйстве сверх существующие пахотных и обрабатываемых земель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48" name="Picture 7" descr=""/>
          <p:cNvPicPr/>
          <p:nvPr/>
        </p:nvPicPr>
        <p:blipFill>
          <a:blip r:embed="rId2"/>
          <a:stretch/>
        </p:blipFill>
        <p:spPr>
          <a:xfrm>
            <a:off x="4761000" y="1731960"/>
            <a:ext cx="4273560" cy="3894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Rectangle 4" descr=""/>
          <p:cNvPicPr/>
          <p:nvPr/>
        </p:nvPicPr>
        <p:blipFill>
          <a:blip r:embed="rId1"/>
          <a:stretch/>
        </p:blipFill>
        <p:spPr>
          <a:xfrm>
            <a:off x="-55440" y="152280"/>
            <a:ext cx="9242280" cy="1401840"/>
          </a:xfrm>
          <a:prstGeom prst="rect">
            <a:avLst/>
          </a:prstGeom>
          <a:ln w="0">
            <a:noFill/>
          </a:ln>
        </p:spPr>
      </p:pic>
      <p:sp>
        <p:nvSpPr>
          <p:cNvPr id="991" name="Rectangle 13"/>
          <p:cNvSpPr/>
          <p:nvPr/>
        </p:nvSpPr>
        <p:spPr>
          <a:xfrm>
            <a:off x="152280" y="1305000"/>
            <a:ext cx="4343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ad1f1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На юго-востоке Восточно-Европейской равнины, по северо-западной окраине Прикаспийской низменности простираются зоны полупустынь и пустынь России. В отличие от тундры и тайги зона не образует сплошной широтной полосы. Ее большая часть осталась на территории Казахстана и Средней Аз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2" name="Picture 15" descr=""/>
          <p:cNvPicPr/>
          <p:nvPr/>
        </p:nvPicPr>
        <p:blipFill>
          <a:blip r:embed="rId2"/>
          <a:stretch/>
        </p:blipFill>
        <p:spPr>
          <a:xfrm>
            <a:off x="4657680" y="1447920"/>
            <a:ext cx="4152960" cy="21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3" name="Picture 16" descr=""/>
          <p:cNvPicPr/>
          <p:nvPr/>
        </p:nvPicPr>
        <p:blipFill>
          <a:blip r:embed="rId3"/>
          <a:stretch/>
        </p:blipFill>
        <p:spPr>
          <a:xfrm>
            <a:off x="4724280" y="3887640"/>
            <a:ext cx="4114800" cy="27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zoom dir="in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Rectangle 4" descr=""/>
          <p:cNvPicPr/>
          <p:nvPr/>
        </p:nvPicPr>
        <p:blipFill>
          <a:blip r:embed="rId1"/>
          <a:stretch/>
        </p:blipFill>
        <p:spPr>
          <a:xfrm>
            <a:off x="122400" y="96840"/>
            <a:ext cx="8564400" cy="1487520"/>
          </a:xfrm>
          <a:prstGeom prst="rect">
            <a:avLst/>
          </a:prstGeom>
          <a:ln w="0">
            <a:noFill/>
          </a:ln>
        </p:spPr>
      </p:pic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4953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 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холодные, лето жаркое. Осадков в этой зоне мало 250мм в год. Испаряемость в 4-7раз превышает количество осадков. Средняя температура июля в полупустынях +24…+26 градусов, а в пустынях +26…+30градусов, а в январе -10-20 градусов. 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6" name="Rectangle 7"/>
          <p:cNvSpPr/>
          <p:nvPr/>
        </p:nvSpPr>
        <p:spPr>
          <a:xfrm>
            <a:off x="838080" y="38862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7" name="Picture 9" descr=""/>
          <p:cNvPicPr/>
          <p:nvPr/>
        </p:nvPicPr>
        <p:blipFill>
          <a:blip r:embed="rId2"/>
          <a:stretch/>
        </p:blipFill>
        <p:spPr>
          <a:xfrm>
            <a:off x="5065560" y="2189160"/>
            <a:ext cx="4042080" cy="2784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Rectangle 4" descr=""/>
          <p:cNvPicPr/>
          <p:nvPr/>
        </p:nvPicPr>
        <p:blipFill>
          <a:blip r:embed="rId1"/>
          <a:stretch/>
        </p:blipFill>
        <p:spPr>
          <a:xfrm>
            <a:off x="122400" y="96840"/>
            <a:ext cx="8564400" cy="148752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лупустынях и пустынях есть  растения : верблюжая колючка, лотос, эфемеры, полынь др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00" name="Picture 7" descr=""/>
          <p:cNvPicPr/>
          <p:nvPr/>
        </p:nvPicPr>
        <p:blipFill>
          <a:blip r:embed="rId2"/>
          <a:stretch/>
        </p:blipFill>
        <p:spPr>
          <a:xfrm>
            <a:off x="5213520" y="1295280"/>
            <a:ext cx="377820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1" name="Picture 8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5238720" cy="28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2" name="Picture 9" descr=""/>
          <p:cNvPicPr/>
          <p:nvPr/>
        </p:nvPicPr>
        <p:blipFill>
          <a:blip r:embed="rId4"/>
          <a:stretch/>
        </p:blipFill>
        <p:spPr>
          <a:xfrm>
            <a:off x="6172200" y="4572000"/>
            <a:ext cx="2705040" cy="2028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Rectangle 4" descr=""/>
          <p:cNvPicPr/>
          <p:nvPr/>
        </p:nvPicPr>
        <p:blipFill>
          <a:blip r:embed="rId1"/>
          <a:stretch/>
        </p:blipFill>
        <p:spPr>
          <a:xfrm>
            <a:off x="122400" y="171360"/>
            <a:ext cx="8564400" cy="149220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очва полупустыни- каштановы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очва пустыни- серозём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05" name="Picture 7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3809880" cy="2505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06" name="Picture 8" descr=""/>
          <p:cNvPicPr/>
          <p:nvPr/>
        </p:nvPicPr>
        <p:blipFill>
          <a:blip r:embed="rId3"/>
          <a:stretch/>
        </p:blipFill>
        <p:spPr>
          <a:xfrm>
            <a:off x="380880" y="3886200"/>
            <a:ext cx="3429000" cy="257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07" name="Picture 9" descr=""/>
          <p:cNvPicPr/>
          <p:nvPr/>
        </p:nvPicPr>
        <p:blipFill>
          <a:blip r:embed="rId4"/>
          <a:stretch/>
        </p:blipFill>
        <p:spPr>
          <a:xfrm>
            <a:off x="4552920" y="4419720"/>
            <a:ext cx="4133880" cy="3833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Rectangle 4" descr=""/>
          <p:cNvPicPr/>
          <p:nvPr/>
        </p:nvPicPr>
        <p:blipFill>
          <a:blip r:embed="rId1"/>
          <a:stretch/>
        </p:blipFill>
        <p:spPr>
          <a:xfrm>
            <a:off x="122400" y="96840"/>
            <a:ext cx="8564400" cy="14875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3" descr=""/>
          <p:cNvPicPr/>
          <p:nvPr/>
        </p:nvPicPr>
        <p:blipFill>
          <a:blip r:embed="rId2"/>
          <a:stretch/>
        </p:blipFill>
        <p:spPr>
          <a:xfrm>
            <a:off x="4956120" y="1146240"/>
            <a:ext cx="4035600" cy="26766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4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2189160" cy="27302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5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2389320" cy="1243080"/>
          </a:xfrm>
          <a:prstGeom prst="rect">
            <a:avLst/>
          </a:prstGeom>
          <a:ln w="0">
            <a:noFill/>
          </a:ln>
        </p:spPr>
      </p:pic>
      <p:sp>
        <p:nvSpPr>
          <p:cNvPr id="1012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Среди животных полупустыни особенно многочисленны зайцы, грызуны (суслики, тушканчики, песчанки, полевки, хомячки) и пресмыкающиеся; из копытных – антилопы, безоаровый козел, муфлон, кулан и др. Из мелких хищников повсеместно распространены: шакал, полосатая гиена, каракал, степная кошка, лисица-фенек и др. Довольно разнообразны птицы. Много насекомых и паукообразных (каракурт, скорпионы, фаланги)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0" descr="1203880865_4_oasis_kolomensky_com"/>
          <p:cNvPicPr/>
          <p:nvPr/>
        </p:nvPicPr>
        <p:blipFill>
          <a:blip r:embed="rId2"/>
          <a:stretch/>
        </p:blipFill>
        <p:spPr>
          <a:xfrm>
            <a:off x="2268360" y="2505240"/>
            <a:ext cx="6875640" cy="43527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1" descr=""/>
          <p:cNvPicPr/>
          <p:nvPr/>
        </p:nvPicPr>
        <p:blipFill>
          <a:blip r:embed="rId3"/>
          <a:stretch/>
        </p:blipFill>
        <p:spPr>
          <a:xfrm>
            <a:off x="0" y="0"/>
            <a:ext cx="4797360" cy="3011400"/>
          </a:xfrm>
          <a:prstGeom prst="rect">
            <a:avLst/>
          </a:prstGeom>
          <a:ln w="0">
            <a:noFill/>
          </a:ln>
        </p:spPr>
      </p:pic>
      <p:sp>
        <p:nvSpPr>
          <p:cNvPr id="1018" name="Text Box 12"/>
          <p:cNvSpPr/>
          <p:nvPr/>
        </p:nvSpPr>
        <p:spPr>
          <a:xfrm>
            <a:off x="5079960" y="476280"/>
            <a:ext cx="357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Тропические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пустын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0" descr="i-1870"/>
          <p:cNvPicPr/>
          <p:nvPr/>
        </p:nvPicPr>
        <p:blipFill>
          <a:blip r:embed="rId2"/>
          <a:stretch/>
        </p:blipFill>
        <p:spPr>
          <a:xfrm>
            <a:off x="5580000" y="208080"/>
            <a:ext cx="3564000" cy="27860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1" descr="Триполи"/>
          <p:cNvPicPr/>
          <p:nvPr/>
        </p:nvPicPr>
        <p:blipFill>
          <a:blip r:embed="rId3"/>
          <a:stretch/>
        </p:blipFill>
        <p:spPr>
          <a:xfrm>
            <a:off x="2050920" y="3427560"/>
            <a:ext cx="5148360" cy="3430440"/>
          </a:xfrm>
          <a:prstGeom prst="rect">
            <a:avLst/>
          </a:prstGeom>
          <a:ln w="431640">
            <a:solidFill>
              <a:srgbClr val="ffffff"/>
            </a:solidFill>
            <a:miter/>
          </a:ln>
        </p:spPr>
      </p:pic>
      <p:sp>
        <p:nvSpPr>
          <p:cNvPr id="1024" name="Rectangle 12"/>
          <p:cNvSpPr/>
          <p:nvPr/>
        </p:nvSpPr>
        <p:spPr>
          <a:xfrm>
            <a:off x="3851280" y="621648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риполи – самое жаркое место на Земл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i="1" lang="el-GR" sz="1800" spc="-1" strike="noStrike">
                <a:solidFill>
                  <a:srgbClr val="ff0000"/>
                </a:solidFill>
                <a:latin typeface="Arial"/>
              </a:rPr>
              <a:t>Τ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+58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°C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5" name="Picture 14" descr="Sahara_photo1"/>
          <p:cNvPicPr/>
          <p:nvPr/>
        </p:nvPicPr>
        <p:blipFill>
          <a:blip r:embed="rId4"/>
          <a:stretch/>
        </p:blipFill>
        <p:spPr>
          <a:xfrm>
            <a:off x="1403280" y="260280"/>
            <a:ext cx="4032360" cy="2676600"/>
          </a:xfrm>
          <a:prstGeom prst="rect">
            <a:avLst/>
          </a:prstGeom>
          <a:ln w="0">
            <a:noFill/>
          </a:ln>
        </p:spPr>
      </p:pic>
      <p:sp>
        <p:nvSpPr>
          <p:cNvPr id="1026" name="Text Box 16"/>
          <p:cNvSpPr/>
          <p:nvPr/>
        </p:nvSpPr>
        <p:spPr>
          <a:xfrm>
            <a:off x="1692360" y="2708280"/>
            <a:ext cx="30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Большая пустыня планет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Text Box 17"/>
          <p:cNvSpPr/>
          <p:nvPr/>
        </p:nvSpPr>
        <p:spPr>
          <a:xfrm>
            <a:off x="6516720" y="27082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Песчанная бур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6" descr="EthnAfrica"/>
          <p:cNvPicPr/>
          <p:nvPr/>
        </p:nvPicPr>
        <p:blipFill>
          <a:blip r:embed="rId2"/>
          <a:stretch/>
        </p:blipFill>
        <p:spPr>
          <a:xfrm>
            <a:off x="1692360" y="476280"/>
            <a:ext cx="6048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0:30:35Z</dcterms:created>
  <dc:creator>111</dc:creator>
  <dc:description/>
  <dc:language>en-US</dc:language>
  <cp:lastModifiedBy>Ribak</cp:lastModifiedBy>
  <dcterms:modified xsi:type="dcterms:W3CDTF">2014-02-16T17:22:1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44000000000001024140</vt:lpwstr>
  </property>
  <property fmtid="{D5CDD505-2E9C-101B-9397-08002B2CF9AE}" pid="3" name="Version">
    <vt:r8>1</vt:r8>
  </property>
</Properties>
</file>