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DDE0-4D53-480A-8FDC-70AC87D12F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1060560" y="4349880"/>
            <a:ext cx="47419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1060560" y="4349880"/>
            <a:ext cx="47419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83CB-C39A-4C70-9506-CE111CCBB97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5A9E-0185-4FAA-88C2-907E641A6E7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7A95-C263-48D0-BFB0-A1D76B0534E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EAEF-D4FA-4728-9B93-E7E463558C2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C3F1-BE74-4DB4-A773-B1D0583B04E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5659-B352-414F-939B-51DE2C15B30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69CE-B9E0-4884-9CD9-DE24E1F3E83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5F0E-5220-4F6D-90F3-A7D7FFDE130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A923-BA6F-401E-B6E7-813828CBC1E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1060560" y="4349880"/>
            <a:ext cx="47419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8A3C-5895-4A42-8D81-AFFCEE0F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16DE-C0A6-4C5D-BD8F-D0F99789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7367-9D77-40A0-982F-718C5E61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3F24-5527-41BF-8A0B-0AA6BACA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0353-CC98-4668-937B-98FBCB64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0081-DFF0-4F41-B20F-97BD8A53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8FB5-386D-463F-9D58-D2A03438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9263-0AC8-4574-AEBD-61F18FBE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8660-7286-4440-9E9C-A5EC2267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59EC-2AA4-431A-8C5C-9C137B96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3C6B-82BE-426B-9B42-7B8CCD8E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0C60-29CA-4BCA-A1E2-420C6CBE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C966-1E67-481B-8817-A0969E91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A61B-B44E-4173-A951-20985D3B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3B83-A481-4678-B965-97A6E794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BC1D-0197-4D16-AB6D-7008DAA4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CF9D-4E77-45B7-8485-9671F0F5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69A7-D7AF-4B52-ACAB-ABA6712A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BEC0-D097-4A57-9F88-6B8D33B2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CAA8-47AB-4D91-B402-A90BAC5A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F272-826E-4DCD-B7BB-D224355B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5E70-85BD-45D6-A204-16F6DD74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067E-0342-4548-9C1B-C6119686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5295-22AD-482C-8D43-DF01DACF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82A2-414B-4CE0-B0D3-6EA02D9657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0598-B601-40D4-A0B7-4088E7026D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Саванны и редколесья Афр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Работу выполнила ученица 7-Б Ипатова Мар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Object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597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461280" y="439560"/>
            <a:ext cx="22255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457200" y="7477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095880" y="333360"/>
            <a:ext cx="304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Жирафы защищаются от врагов бегством, а иногда им помогает скрыться пятнистая окраска. Несмотря на неуклюжий вид они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егают быстрее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лош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а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324000" y="333360"/>
            <a:ext cx="280008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Они питаются листьями и побегами деревьев, которые легко достают благодаря высокому рост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о чтобы взять корм с земли, им приходится либо становиться на колени, либо сильно расставлять ног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амый крупный представитель материка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- с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лон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0" y="189000"/>
            <a:ext cx="2438280" cy="9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фриканский слон- самое крупное наземное животное, его масса 5 тон, высота 3,5м. И длина туловища 4,5м.  Раньше африканские слоны жили на всём материке. Теперь их осталось мало. Они истреблены из-за ценной слоновой кости –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бивней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 Сейчас для сохранения слонов созданы заповедники. Но восстановить поголовье слонов трудно, так как только к 10-15 годам молодые слоны становятся взросл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212760" y="26676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3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Calibri"/>
              </a:rPr>
              <a:t>Быстроногие гепарды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развивают скорость до 115 км/ч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539640" y="1619280"/>
            <a:ext cx="8136000" cy="5038560"/>
            <a:chOff x="539640" y="1619280"/>
            <a:chExt cx="8136000" cy="5038560"/>
          </a:xfrm>
        </p:grpSpPr>
        <p:pic>
          <p:nvPicPr>
            <p:cNvPr id="173" name="Picture 3" descr=""/>
            <p:cNvPicPr/>
            <p:nvPr/>
          </p:nvPicPr>
          <p:blipFill>
            <a:blip r:embed="rId1"/>
            <a:stretch/>
          </p:blipFill>
          <p:spPr>
            <a:xfrm>
              <a:off x="539640" y="1619280"/>
              <a:ext cx="8136000" cy="50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4"/>
            <p:cNvSpPr/>
            <p:nvPr/>
          </p:nvSpPr>
          <p:spPr>
            <a:xfrm>
              <a:off x="539640" y="1619280"/>
              <a:ext cx="8136000" cy="50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World_Africa_African_savanna_019014_"/>
          <p:cNvPicPr/>
          <p:nvPr/>
        </p:nvPicPr>
        <p:blipFill>
          <a:blip r:embed="rId2"/>
          <a:stretch/>
        </p:blipFill>
        <p:spPr>
          <a:xfrm>
            <a:off x="2124000" y="1887480"/>
            <a:ext cx="6840720" cy="47847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3"/>
          <p:cNvSpPr/>
          <p:nvPr/>
        </p:nvSpPr>
        <p:spPr>
          <a:xfrm>
            <a:off x="4932360" y="609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514836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15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4797360" cy="30114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6"/>
          <p:cNvSpPr/>
          <p:nvPr/>
        </p:nvSpPr>
        <p:spPr>
          <a:xfrm>
            <a:off x="5996160" y="441360"/>
            <a:ext cx="23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"/>
              </a:rPr>
              <a:t>Саван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190-5-2"/>
          <p:cNvPicPr/>
          <p:nvPr/>
        </p:nvPicPr>
        <p:blipFill>
          <a:blip r:embed="rId2"/>
          <a:stretch/>
        </p:blipFill>
        <p:spPr>
          <a:xfrm>
            <a:off x="900000" y="765000"/>
            <a:ext cx="3479760" cy="5185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i-1572"/>
          <p:cNvPicPr/>
          <p:nvPr/>
        </p:nvPicPr>
        <p:blipFill>
          <a:blip r:embed="rId3"/>
          <a:stretch/>
        </p:blipFill>
        <p:spPr>
          <a:xfrm>
            <a:off x="5219640" y="2205000"/>
            <a:ext cx="3232080" cy="43210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7"/>
          <p:cNvSpPr/>
          <p:nvPr/>
        </p:nvSpPr>
        <p:spPr>
          <a:xfrm>
            <a:off x="4691880" y="476280"/>
            <a:ext cx="281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"/>
              </a:rPr>
              <a:t>Слонова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"/>
              </a:rPr>
              <a:t>тра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1229573065_baobab01"/>
          <p:cNvPicPr/>
          <p:nvPr/>
        </p:nvPicPr>
        <p:blipFill>
          <a:blip r:embed="rId2"/>
          <a:stretch/>
        </p:blipFill>
        <p:spPr>
          <a:xfrm>
            <a:off x="6000840" y="4005360"/>
            <a:ext cx="3143160" cy="2852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1229572770_baobab"/>
          <p:cNvPicPr/>
          <p:nvPr/>
        </p:nvPicPr>
        <p:blipFill>
          <a:blip r:embed="rId3"/>
          <a:stretch/>
        </p:blipFill>
        <p:spPr>
          <a:xfrm>
            <a:off x="2843280" y="0"/>
            <a:ext cx="36828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1254299970_baobab_logo"/>
          <p:cNvPicPr/>
          <p:nvPr/>
        </p:nvPicPr>
        <p:blipFill>
          <a:blip r:embed="rId4"/>
          <a:stretch/>
        </p:blipFill>
        <p:spPr>
          <a:xfrm>
            <a:off x="0" y="0"/>
            <a:ext cx="2867040" cy="2562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2" descr="baobab"/>
          <p:cNvPicPr/>
          <p:nvPr/>
        </p:nvPicPr>
        <p:blipFill>
          <a:blip r:embed="rId5"/>
          <a:stretch/>
        </p:blipFill>
        <p:spPr>
          <a:xfrm>
            <a:off x="0" y="2492280"/>
            <a:ext cx="2987640" cy="2225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22-115417-baobab-1"/>
          <p:cNvPicPr/>
          <p:nvPr/>
        </p:nvPicPr>
        <p:blipFill>
          <a:blip r:embed="rId6"/>
          <a:stretch/>
        </p:blipFill>
        <p:spPr>
          <a:xfrm>
            <a:off x="0" y="4552920"/>
            <a:ext cx="2771640" cy="2305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" descr="1198435612_8"/>
          <p:cNvPicPr/>
          <p:nvPr/>
        </p:nvPicPr>
        <p:blipFill>
          <a:blip r:embed="rId7"/>
          <a:stretch/>
        </p:blipFill>
        <p:spPr>
          <a:xfrm>
            <a:off x="6300720" y="0"/>
            <a:ext cx="2843280" cy="40496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7"/>
          <p:cNvSpPr/>
          <p:nvPr/>
        </p:nvSpPr>
        <p:spPr>
          <a:xfrm>
            <a:off x="4500720" y="33336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4286520" y="3333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Баоба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58837j_2001120554344"/>
          <p:cNvPicPr/>
          <p:nvPr/>
        </p:nvPicPr>
        <p:blipFill>
          <a:blip r:embed="rId2"/>
          <a:stretch/>
        </p:blipFill>
        <p:spPr>
          <a:xfrm>
            <a:off x="250920" y="189000"/>
            <a:ext cx="2301840" cy="30765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06_15_new"/>
          <p:cNvPicPr/>
          <p:nvPr/>
        </p:nvPicPr>
        <p:blipFill>
          <a:blip r:embed="rId3"/>
          <a:stretch/>
        </p:blipFill>
        <p:spPr>
          <a:xfrm>
            <a:off x="2771640" y="333360"/>
            <a:ext cx="3067200" cy="2438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FB01-3488"/>
          <p:cNvPicPr/>
          <p:nvPr/>
        </p:nvPicPr>
        <p:blipFill>
          <a:blip r:embed="rId4"/>
          <a:stretch/>
        </p:blipFill>
        <p:spPr>
          <a:xfrm>
            <a:off x="395280" y="3789360"/>
            <a:ext cx="3887640" cy="2733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" descr="World_Africa_Sand_dunes_and_Acacia_Tree___Namib_Desert___Namibia___Africa_008881_"/>
          <p:cNvPicPr/>
          <p:nvPr/>
        </p:nvPicPr>
        <p:blipFill>
          <a:blip r:embed="rId5"/>
          <a:stretch/>
        </p:blipFill>
        <p:spPr>
          <a:xfrm>
            <a:off x="4788000" y="3789360"/>
            <a:ext cx="3743280" cy="2801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7" descr="molochay2"/>
          <p:cNvPicPr/>
          <p:nvPr/>
        </p:nvPicPr>
        <p:blipFill>
          <a:blip r:embed="rId6"/>
          <a:stretch/>
        </p:blipFill>
        <p:spPr>
          <a:xfrm>
            <a:off x="6516720" y="260280"/>
            <a:ext cx="2173320" cy="29052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8"/>
          <p:cNvSpPr/>
          <p:nvPr/>
        </p:nvSpPr>
        <p:spPr>
          <a:xfrm>
            <a:off x="3120120" y="2779560"/>
            <a:ext cx="20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Пальма Ду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3853800" y="393372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Ак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21"/>
          <p:cNvSpPr/>
          <p:nvPr/>
        </p:nvSpPr>
        <p:spPr>
          <a:xfrm>
            <a:off x="7072560" y="308772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Молоча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antilope"/>
          <p:cNvPicPr/>
          <p:nvPr/>
        </p:nvPicPr>
        <p:blipFill>
          <a:blip r:embed="rId2"/>
          <a:stretch/>
        </p:blipFill>
        <p:spPr>
          <a:xfrm>
            <a:off x="179280" y="0"/>
            <a:ext cx="3529080" cy="3208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zebra%20facts"/>
          <p:cNvPicPr/>
          <p:nvPr/>
        </p:nvPicPr>
        <p:blipFill>
          <a:blip r:embed="rId3"/>
          <a:stretch/>
        </p:blipFill>
        <p:spPr>
          <a:xfrm>
            <a:off x="179280" y="3716280"/>
            <a:ext cx="4176720" cy="2772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post318368_img3"/>
          <p:cNvPicPr/>
          <p:nvPr/>
        </p:nvPicPr>
        <p:blipFill>
          <a:blip r:embed="rId4"/>
          <a:stretch/>
        </p:blipFill>
        <p:spPr>
          <a:xfrm>
            <a:off x="3995640" y="0"/>
            <a:ext cx="4321440" cy="331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112"/>
          <p:cNvPicPr/>
          <p:nvPr/>
        </p:nvPicPr>
        <p:blipFill>
          <a:blip r:embed="rId5"/>
          <a:stretch/>
        </p:blipFill>
        <p:spPr>
          <a:xfrm>
            <a:off x="4572000" y="3789360"/>
            <a:ext cx="4176720" cy="27846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0"/>
          <p:cNvSpPr/>
          <p:nvPr/>
        </p:nvSpPr>
        <p:spPr>
          <a:xfrm>
            <a:off x="1697040" y="3068640"/>
            <a:ext cx="611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"/>
              </a:rPr>
              <a:t>Животный мир саван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ph03765"/>
          <p:cNvPicPr/>
          <p:nvPr/>
        </p:nvPicPr>
        <p:blipFill>
          <a:blip r:embed="rId2"/>
          <a:stretch/>
        </p:blipFill>
        <p:spPr>
          <a:xfrm>
            <a:off x="0" y="0"/>
            <a:ext cx="3313080" cy="3073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images%5Czoo%5Crhino"/>
          <p:cNvPicPr/>
          <p:nvPr/>
        </p:nvPicPr>
        <p:blipFill>
          <a:blip r:embed="rId3"/>
          <a:stretch/>
        </p:blipFill>
        <p:spPr>
          <a:xfrm>
            <a:off x="5508720" y="4137120"/>
            <a:ext cx="3635280" cy="2720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art7010_0"/>
          <p:cNvPicPr/>
          <p:nvPr/>
        </p:nvPicPr>
        <p:blipFill>
          <a:blip r:embed="rId4"/>
          <a:stretch/>
        </p:blipFill>
        <p:spPr>
          <a:xfrm>
            <a:off x="0" y="3860640"/>
            <a:ext cx="3898800" cy="29181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1227878276_2"/>
          <p:cNvPicPr/>
          <p:nvPr/>
        </p:nvPicPr>
        <p:blipFill>
          <a:blip r:embed="rId5"/>
          <a:stretch/>
        </p:blipFill>
        <p:spPr>
          <a:xfrm>
            <a:off x="6562800" y="0"/>
            <a:ext cx="258120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kelimutu-water-buffalo"/>
          <p:cNvPicPr/>
          <p:nvPr/>
        </p:nvPicPr>
        <p:blipFill>
          <a:blip r:embed="rId6"/>
          <a:stretch/>
        </p:blipFill>
        <p:spPr>
          <a:xfrm>
            <a:off x="3059280" y="1916280"/>
            <a:ext cx="3960720" cy="29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аванна - тропическая лесостепь, располагается между тропическими пустынями и зоной вечнозеленых тропических лесов. Для саванн характерно преобладание травянистого покрова в сочетании с отдельными деревьями или группами деревь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http://geographyofrussia.ru/wp-content/uploads/2010/02/10d6774ac038_trop.savanna.1.jpg"/>
          <p:cNvPicPr/>
          <p:nvPr/>
        </p:nvPicPr>
        <p:blipFill>
          <a:blip r:embed="rId1"/>
          <a:stretch/>
        </p:blipFill>
        <p:spPr>
          <a:xfrm>
            <a:off x="755640" y="2276640"/>
            <a:ext cx="7632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anonymous-african-lion-5001218"/>
          <p:cNvPicPr/>
          <p:nvPr/>
        </p:nvPicPr>
        <p:blipFill>
          <a:blip r:embed="rId2"/>
          <a:stretch/>
        </p:blipFill>
        <p:spPr>
          <a:xfrm>
            <a:off x="1547640" y="260280"/>
            <a:ext cx="3211560" cy="3645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265"/>
          <p:cNvPicPr/>
          <p:nvPr/>
        </p:nvPicPr>
        <p:blipFill>
          <a:blip r:embed="rId3"/>
          <a:stretch/>
        </p:blipFill>
        <p:spPr>
          <a:xfrm>
            <a:off x="5003640" y="260280"/>
            <a:ext cx="3816360" cy="3517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065"/>
          <p:cNvPicPr/>
          <p:nvPr/>
        </p:nvPicPr>
        <p:blipFill>
          <a:blip r:embed="rId4"/>
          <a:stretch/>
        </p:blipFill>
        <p:spPr>
          <a:xfrm>
            <a:off x="1476360" y="4060800"/>
            <a:ext cx="3311640" cy="2492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21137"/>
          <p:cNvPicPr/>
          <p:nvPr/>
        </p:nvPicPr>
        <p:blipFill>
          <a:blip r:embed="rId5"/>
          <a:stretch/>
        </p:blipFill>
        <p:spPr>
          <a:xfrm>
            <a:off x="5076720" y="4005360"/>
            <a:ext cx="381636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5107"/>
          <p:cNvPicPr/>
          <p:nvPr/>
        </p:nvPicPr>
        <p:blipFill>
          <a:blip r:embed="rId2"/>
          <a:stretch/>
        </p:blipFill>
        <p:spPr>
          <a:xfrm>
            <a:off x="2556000" y="333360"/>
            <a:ext cx="2503440" cy="3363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007"/>
          <p:cNvPicPr/>
          <p:nvPr/>
        </p:nvPicPr>
        <p:blipFill>
          <a:blip r:embed="rId3"/>
          <a:stretch/>
        </p:blipFill>
        <p:spPr>
          <a:xfrm>
            <a:off x="5398920" y="260280"/>
            <a:ext cx="3745080" cy="2768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0_3897a_6253e0ef_L"/>
          <p:cNvPicPr/>
          <p:nvPr/>
        </p:nvPicPr>
        <p:blipFill>
          <a:blip r:embed="rId4"/>
          <a:stretch/>
        </p:blipFill>
        <p:spPr>
          <a:xfrm>
            <a:off x="179280" y="1341360"/>
            <a:ext cx="2202120" cy="3003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Secretary_Bird_with_open_beak"/>
          <p:cNvPicPr/>
          <p:nvPr/>
        </p:nvPicPr>
        <p:blipFill>
          <a:blip r:embed="rId5"/>
          <a:stretch/>
        </p:blipFill>
        <p:spPr>
          <a:xfrm>
            <a:off x="1476360" y="4381560"/>
            <a:ext cx="3143160" cy="24764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4" descr="secretarybird"/>
          <p:cNvPicPr/>
          <p:nvPr/>
        </p:nvPicPr>
        <p:blipFill>
          <a:blip r:embed="rId6"/>
          <a:stretch/>
        </p:blipFill>
        <p:spPr>
          <a:xfrm>
            <a:off x="5867280" y="4286160"/>
            <a:ext cx="2781360" cy="25718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7"/>
          <p:cNvSpPr/>
          <p:nvPr/>
        </p:nvSpPr>
        <p:spPr>
          <a:xfrm>
            <a:off x="3363840" y="3851280"/>
            <a:ext cx="113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3132000" y="3789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Некратн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324000" y="1197000"/>
            <a:ext cx="18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0" y="981000"/>
            <a:ext cx="158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 Box 22"/>
          <p:cNvSpPr/>
          <p:nvPr/>
        </p:nvSpPr>
        <p:spPr>
          <a:xfrm>
            <a:off x="395280" y="1052640"/>
            <a:ext cx="128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24"/>
          <p:cNvSpPr/>
          <p:nvPr/>
        </p:nvSpPr>
        <p:spPr>
          <a:xfrm>
            <a:off x="324000" y="981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тица Мараб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25"/>
          <p:cNvSpPr/>
          <p:nvPr/>
        </p:nvSpPr>
        <p:spPr>
          <a:xfrm>
            <a:off x="507672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26"/>
          <p:cNvSpPr/>
          <p:nvPr/>
        </p:nvSpPr>
        <p:spPr>
          <a:xfrm>
            <a:off x="4143240" y="5877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Птица Секретар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RedSol[1]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Фламин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b1744b56de52"/>
          <p:cNvPicPr/>
          <p:nvPr/>
        </p:nvPicPr>
        <p:blipFill>
          <a:blip r:embed="rId2"/>
          <a:stretch/>
        </p:blipFill>
        <p:spPr>
          <a:xfrm>
            <a:off x="0" y="1484280"/>
            <a:ext cx="3249720" cy="3552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Flamingo%20flock%201%20m"/>
          <p:cNvPicPr/>
          <p:nvPr/>
        </p:nvPicPr>
        <p:blipFill>
          <a:blip r:embed="rId3"/>
          <a:stretch/>
        </p:blipFill>
        <p:spPr>
          <a:xfrm>
            <a:off x="2987640" y="2421000"/>
            <a:ext cx="4464000" cy="3663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911"/>
          <p:cNvPicPr/>
          <p:nvPr/>
        </p:nvPicPr>
        <p:blipFill>
          <a:blip r:embed="rId4"/>
          <a:stretch/>
        </p:blipFill>
        <p:spPr>
          <a:xfrm>
            <a:off x="6937200" y="3789360"/>
            <a:ext cx="22068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nat2"/>
          <p:cNvPicPr/>
          <p:nvPr/>
        </p:nvPicPr>
        <p:blipFill>
          <a:blip r:embed="rId1"/>
          <a:stretch/>
        </p:blipFill>
        <p:spPr>
          <a:xfrm>
            <a:off x="395280" y="1916280"/>
            <a:ext cx="3745080" cy="4684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park1"/>
          <p:cNvPicPr/>
          <p:nvPr/>
        </p:nvPicPr>
        <p:blipFill>
          <a:blip r:embed="rId2"/>
          <a:stretch/>
        </p:blipFill>
        <p:spPr>
          <a:xfrm>
            <a:off x="4859280" y="1989000"/>
            <a:ext cx="3729240" cy="4500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5480" y="285480"/>
            <a:ext cx="80010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аванны и редколесья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ЗАНИМАЮТ САМУЮ БОЛЬШУЮ ПЛОЩАДЬ МАТЕРИКА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905120" y="38088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9966"/>
                </a:solidFill>
                <a:latin typeface="Times New Roman"/>
                <a:ea typeface="Arial"/>
              </a:rPr>
              <a:t>Растительный ми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266760" y="1371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 саваннах произрастают высокие до 3 метров травы. Деревья, например акации, баобабы здесь растут в одиночку или отдельными группа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ject 4" descr=""/>
          <p:cNvPicPr/>
          <p:nvPr/>
        </p:nvPicPr>
        <p:blipFill>
          <a:blip r:embed="rId1"/>
          <a:stretch/>
        </p:blipFill>
        <p:spPr>
          <a:xfrm>
            <a:off x="4067280" y="2565360"/>
            <a:ext cx="4495680" cy="30481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3048120" y="34290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seren.avi" descr=""/>
          <p:cNvPicPr/>
          <p:nvPr/>
        </p:nvPicPr>
        <p:blipFill>
          <a:blip r:embed="rId2"/>
          <a:stretch/>
        </p:blipFill>
        <p:spPr>
          <a:xfrm>
            <a:off x="179280" y="3525840"/>
            <a:ext cx="352908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572000" y="0"/>
            <a:ext cx="441972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Баобаб по праву считается одним из символов Африки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Это дерево живёт 4-5 тыс.лет, высота его редко превышает 25 м, зато в обхвате – до 40 м. Баобабы не боятся пожаров, но их врагами являются слоны. Они объедают влажную кору. Плодами дерева лакомятся обезья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4105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000400" y="1906200"/>
            <a:ext cx="34779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 стволе, толщиной до 10 м, баобаб запасает воду: его мягкая древесина, как губка, может накопить до 120 тонн воды. Дерево умеет худеть и полнеть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Баобабы - огромные деревья. фото 4"/>
          <p:cNvPicPr/>
          <p:nvPr/>
        </p:nvPicPr>
        <p:blipFill>
          <a:blip r:embed="rId1"/>
          <a:stretch/>
        </p:blipFill>
        <p:spPr>
          <a:xfrm>
            <a:off x="395280" y="260280"/>
            <a:ext cx="424800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rcRect l="0" t="0" r="-115" b="0"/>
          <a:stretch/>
        </p:blipFill>
        <p:spPr>
          <a:xfrm>
            <a:off x="395280" y="620640"/>
            <a:ext cx="5113440" cy="5400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5651640" y="836640"/>
            <a:ext cx="32637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Зонтичная акаци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 Словно огромные зонтики  среди высоких трав поднимаются ветвистые акации. Но под этим зонтиком не найти тени. Мелкие листочки акации, расположенные ребром к солнцу, пропускают отвесно падающие лучи. Если встать под зонтик акации и посмотреть вверх, то зелёная крона на фоне ярко-синего неба покажется кружевно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0"/>
            <a:ext cx="756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Животный мир саванн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" descr="int15"/>
          <p:cNvPicPr/>
          <p:nvPr/>
        </p:nvPicPr>
        <p:blipFill>
          <a:blip r:embed="rId1"/>
          <a:stretch/>
        </p:blipFill>
        <p:spPr>
          <a:xfrm>
            <a:off x="685800" y="1143000"/>
            <a:ext cx="4386240" cy="2895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a_541i"/>
          <p:cNvPicPr/>
          <p:nvPr/>
        </p:nvPicPr>
        <p:blipFill>
          <a:blip r:embed="rId2"/>
          <a:stretch/>
        </p:blipFill>
        <p:spPr>
          <a:xfrm>
            <a:off x="838080" y="4191120"/>
            <a:ext cx="401976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b6867i"/>
          <p:cNvPicPr/>
          <p:nvPr/>
        </p:nvPicPr>
        <p:blipFill>
          <a:blip r:embed="rId3"/>
          <a:stretch/>
        </p:blipFill>
        <p:spPr>
          <a:xfrm>
            <a:off x="5286240" y="1155600"/>
            <a:ext cx="3629160" cy="2811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Park_Kruger"/>
          <p:cNvPicPr/>
          <p:nvPr/>
        </p:nvPicPr>
        <p:blipFill>
          <a:blip r:embed="rId4"/>
          <a:stretch/>
        </p:blipFill>
        <p:spPr>
          <a:xfrm>
            <a:off x="5286240" y="4121280"/>
            <a:ext cx="3857760" cy="27367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719280" y="3546360"/>
            <a:ext cx="17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гепар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393840" y="613728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антило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5548320" y="3470400"/>
            <a:ext cx="21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буйво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5867280" y="44607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л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985080" cy="42494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В Африке обитает самое высокое на свете животное — жираф. Его рос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 около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6 м. Очень острое зрение позволя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жирафу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замечать опасность на расстоянии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1 к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42560" y="1844640"/>
            <a:ext cx="6985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8:08:03Z</dcterms:created>
  <dc:creator>География</dc:creator>
  <dc:description/>
  <dc:language>en-US</dc:language>
  <cp:lastModifiedBy>Ribak</cp:lastModifiedBy>
  <dcterms:modified xsi:type="dcterms:W3CDTF">2014-02-16T17:21:00Z</dcterms:modified>
  <cp:revision>1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19000000000001024140</vt:lpwstr>
  </property>
</Properties>
</file>