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C3D6-0DC5-4052-A2D1-568DBBF26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A034-A7BA-4932-A5AD-3A70E82B1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46EB-A6E9-433D-B654-2475AE9FE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A7F8-FF82-4053-A401-D8EFDBD0C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BFD-5B9E-476B-A0F1-5A17A8D04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175C-B0EC-4ADE-A74F-E3735F722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C950-EB37-4BF8-B1E2-489D0D523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D57F-A88E-422D-AEDB-1BAAFB8D3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4E13-B8C2-4A27-B671-723124FB7F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3FBA-8815-425A-93D1-ECB077004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EBDA-13AA-4F0F-9023-D8A3748F7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18EA-D305-4663-81AF-5A5ADD99F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0299-02FA-4378-915D-C0D195999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989D-F167-4305-A6AC-80C6FFC8F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51AC-702F-4F38-8544-1850A15AB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153A-6A09-4D41-BB95-7D400BA59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3E1B-3B88-47F4-91FB-FBAB71491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5BDB-BE84-44BB-B70D-948AFFF86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F2A5-4FAD-4ABC-AAF6-3F98CBBE4D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A675-1C0C-469C-BB6E-68DFBCB1B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85C-FFC4-4EC5-80A5-EB93D4C0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69A-080F-4F8F-BB0E-798B9FC9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400-00BC-4013-A510-D4236F2D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EEF-39EC-45C2-ADD8-D00CD4AA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F485-0FC8-4637-8376-039047C5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7D8D-C886-455F-96DD-1EB00DCB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332D-7812-4318-A110-A840F538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F669-5C2F-4655-8C87-19ABB29F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1D38-2ACF-4D43-B7A4-A4A4DF89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87B5-7332-4BB9-B4E5-31299947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DE0D-307B-4024-A549-BD27CAC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242-0DEA-4168-9CFF-47A77668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1BD4-DF30-488E-80DB-71CDB209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4FDC-9B4F-4321-9865-BA03577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ABA9-3919-40B8-9DD4-7B7181CC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F399-35CE-42CD-9CF5-186E99C2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C787-69DE-4A6F-B375-0308C991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D8D4-C562-413A-A50D-FF824A59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863D-D9AB-478E-9951-B7C0894D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B17B-9D10-444B-8584-36E604BC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8DE9-7F00-4618-A43D-BF992955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A0E8-2E4A-401A-9D8D-965A817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043-018D-4AC4-9B2E-05EB4597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4DC1-D871-427E-A5EA-17D4E195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AC3C-1858-4881-A2B8-8790BB77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163C-096C-4C8A-974A-1929288A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5EB1-0EBD-497A-AED3-B1365724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B38D-7550-429C-913C-BACE1421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2756-4EF6-4518-9F1F-95830A4F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1F5D-9743-4609-87FA-B21B8DDA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0BF28-45D0-4DCB-B509-4B589A6B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DF93-FD13-4B27-BED6-DF5879A8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0D4E-A611-47BE-BA6E-DA76D5DE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883-9C39-4C0A-AC6E-07C408BD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07F8-37DC-43A1-B333-559CBD70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41C70-AD27-41EF-9E33-7CFC2748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C81BB-114E-42E8-8CAF-A6186EE1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CAC6-3D00-4B7C-863E-23E6D77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3621F-C43F-4FAF-B165-FC22EBF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64B5-C353-4E5D-9C00-B852BFC7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64A6-26E1-4245-A681-9CB20C86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8089-DC6F-42DE-B181-BE476515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B33B3-9255-4192-B390-AA73379C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80BA-AC69-4C49-9C20-634E78D9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579-6AE4-4E46-B3C9-476E7126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9EC41-9C28-495B-AD6D-E62EB333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6C727-1EFB-4EA5-AA1E-3529D803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1E6D-A3E2-4069-9F9E-8B0A6BDF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259F5-9B50-485A-8EC5-BD852AB7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9B617-921A-40D8-A53F-F7049DF5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203B-1D46-4D1F-876C-6E50A6F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9B4DA-082B-4FA5-B0B4-C66D43D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7BA17-AD8B-44B8-919D-379A4763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54CA-2F7F-493B-9A80-19CD563F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0EF04-CD8A-4232-9C3D-9688EC05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E7E-B2A5-48A5-9B34-9CB96009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04E9-71F5-4E88-9F72-6C1E0235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B74-D13D-40C0-B894-3F2C2FDE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5DB-1860-4270-86F6-367FFE68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603-36F1-45BF-9B29-A285893A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4A0B-26E2-4571-8F5B-DAFEBA7D9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B98F-2073-462D-AB87-94C4B3741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9C8F-BBD0-4F8F-96AB-F9588E48D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6497-80E2-407A-9228-8F72A602A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A92-759C-4A65-9154-1660D9E63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66"/>
                </a:solidFill>
                <a:latin typeface="Arial"/>
              </a:rPr>
              <a:t>Природные зоны Афр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дготовила учитель географии Рыбалкин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вуки природы - Музыка в красках звуков природы  (audiopoisk.com).mp3" descr=""/>
          <p:cNvPicPr/>
          <p:nvPr/>
        </p:nvPicPr>
        <p:blipFill>
          <a:blip r:embed="rId2"/>
          <a:stretch/>
        </p:blipFill>
        <p:spPr>
          <a:xfrm>
            <a:off x="10800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141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м тему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838080"/>
          <a:ext cx="8001000" cy="60105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7800" y="666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родные зоны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267440" cy="284292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6" descr="Джунгли"/>
          <p:cNvPicPr/>
          <p:nvPr/>
        </p:nvPicPr>
        <p:blipFill>
          <a:blip r:embed="rId2"/>
          <a:stretch/>
        </p:blipFill>
        <p:spPr>
          <a:xfrm>
            <a:off x="4191120" y="3500280"/>
            <a:ext cx="4724280" cy="32436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9" descr="жирафы и акации"/>
          <p:cNvPicPr/>
          <p:nvPr/>
        </p:nvPicPr>
        <p:blipFill>
          <a:blip r:embed="rId3"/>
          <a:srcRect l="0" t="0" r="0" b="37"/>
          <a:stretch/>
        </p:blipFill>
        <p:spPr>
          <a:xfrm>
            <a:off x="4643280" y="69228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4"/>
          <a:srcRect l="0" t="0" r="-73" b="0"/>
          <a:stretch/>
        </p:blipFill>
        <p:spPr>
          <a:xfrm>
            <a:off x="0" y="3809880"/>
            <a:ext cx="4149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10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ели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47200" y="1192320"/>
            <a:ext cx="841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ие природные зоны есть на материке 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араться понять существующие закономерности между климатическими поясами и природными зон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пределить, какие климатические условия характерны для каждой природной з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пределить тип почв и разновидности растительного и животного мира природных з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способленность растений и животных к различным услов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пользование природных зон челов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70c0"/>
                </a:solidFill>
                <a:uFillTx/>
                <a:latin typeface="Arial"/>
              </a:rPr>
              <a:t>Проблемный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Смогут ли растения и животные своей природной зоны и климатического пояса,  приспособится к чужой природной зоны другого климатического поя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1143000"/>
          <a:ext cx="8229600" cy="4809960"/>
        </p:xfrm>
        <a:graphic>
          <a:graphicData uri="http://schemas.openxmlformats.org/drawingml/2006/table">
            <a:tbl>
              <a:tblPr/>
              <a:tblGrid>
                <a:gridCol w="380880"/>
                <a:gridCol w="1828800"/>
                <a:gridCol w="1044720"/>
                <a:gridCol w="801720"/>
                <a:gridCol w="815760"/>
                <a:gridCol w="814680"/>
                <a:gridCol w="801720"/>
                <a:gridCol w="869760"/>
                <a:gridCol w="871560"/>
              </a:tblGrid>
              <a:tr h="909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новым матери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Таблица 1.</a:t>
            </a:r>
            <a:br>
              <a:rPr sz="1800"/>
            </a:b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Характеристика природных зон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484280"/>
          <a:ext cx="9144000" cy="5526000"/>
        </p:xfrm>
        <a:graphic>
          <a:graphicData uri="http://schemas.openxmlformats.org/drawingml/2006/table">
            <a:tbl>
              <a:tblPr/>
              <a:tblGrid>
                <a:gridCol w="2700360"/>
                <a:gridCol w="968400"/>
                <a:gridCol w="1396800"/>
                <a:gridCol w="1124280"/>
                <a:gridCol w="1477800"/>
                <a:gridCol w="14763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иродные з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лиматический поя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лажные экваториальные леса (гиве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аванны и редколес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ропические пустыни и полупусты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она жестколистных вечнозеленых лесов и кустар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33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по Африке иду (ходьба на месте)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мечаю на ход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над морем буйных трав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ю вытянул жира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руки вверх, потягивание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меня над гол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клоны в стороны с поднятыми руками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льма зашуршит листвой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 придется приседать (приседания)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бы фиников набрать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т вельвичия, тур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руки поочередно вытягивают вперед)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вый лист, правый лист (руки в стороны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огромный серый слон (круг руками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ылает нам поклон (наклоны вперед)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прогулку завершим (ходьба на месте)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за парты поспешим (садятся на свои мес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6a00d8345269c569e20128761a965d970c-800wi"/>
          <p:cNvPicPr/>
          <p:nvPr/>
        </p:nvPicPr>
        <p:blipFill>
          <a:blip r:embed="rId2"/>
          <a:stretch/>
        </p:blipFill>
        <p:spPr>
          <a:xfrm>
            <a:off x="6732720" y="1049400"/>
            <a:ext cx="22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33"/>
                </a:solidFill>
                <a:latin typeface="Arial"/>
              </a:rPr>
              <a:t>Фрагмент из мультфильма «Айболи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RedSol[1]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33"/>
                </a:solidFill>
                <a:latin typeface="Arial"/>
              </a:rPr>
              <a:t>Гости из Афр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рченко Крист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Влажные экваториальных лесов (геле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патова Марина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Саванны и редколес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илалова Кристина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Тропические пустыни и полупусты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Гост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льпер Максим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- Зона жестколистных вечнозеленых лесов и кустар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5416560" cy="5640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img4"/>
          <p:cNvPicPr/>
          <p:nvPr/>
        </p:nvPicPr>
        <p:blipFill>
          <a:blip r:embed="rId3"/>
          <a:stretch/>
        </p:blipFill>
        <p:spPr>
          <a:xfrm>
            <a:off x="179280" y="2997360"/>
            <a:ext cx="4932360" cy="3692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"/>
          <p:cNvSpPr/>
          <p:nvPr/>
        </p:nvSpPr>
        <p:spPr>
          <a:xfrm>
            <a:off x="360" y="1484280"/>
            <a:ext cx="381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Природные з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Аф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49400" y="692280"/>
            <a:ext cx="70563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0" y="11984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Задание 1:</a:t>
            </a: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 Для каких природных зон характер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А) баобаб, антилопа, пальма дум, марабу, гепа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Б) масличная пальма, желтое дерево, фикус, ока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В) молочай, алоэ, черепаха, гиена, ша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0" y="1254960"/>
            <a:ext cx="9144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2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е природную зону по опис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 африканских сезонов круглый год один и тот же – зеленый. Только в один период зеленый цвет чист, ярок, а в другой – блеклый, словно выцветший… В сухой сезон земля превращается в камень, трава – в мочалу, деревья трещат от недостатка сока. И вот первый же ливень возвращает природу к жизни. Жадно напившись водой, земля разбухает от влаги, щедро отдает её деревьям, травам, цветам. Они пьют, пьют и напиться не могут… почти каждый день дождь то хлещет мощной струей, то сыплет мелкой водяной пылью. Температура воздуха падает, и местные жители зябко поводят плечами, жалуются: «Холодно!». Когда термометр показывает 18-20 градусов, некоторые африканцы считают, что наступили «морозы». Натягивают на себя все, что имеют из одежды, повязывают головы платками, разжигают на улицах костры, лишь бы унять дрожь». (Л. Почива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468360" y="690840"/>
            <a:ext cx="860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3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Объясните причину малого плодородия почв экваториальных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4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а схеме с помощью стрелок покажите связи в природном комплексе пусты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ухой тропический                                 почвы практ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лимат                                                         отсут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стительный покров                             много пресмык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250920" y="335664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5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Как вы думаете на территории, каких природных зон будет создано больше всего национальных парков и заповедников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66"/>
                </a:solidFill>
                <a:uFillTx/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"/>
          <p:cNvSpPr/>
          <p:nvPr/>
        </p:nvSpPr>
        <p:spPr>
          <a:xfrm>
            <a:off x="250920" y="112536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§ 20,21 записи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2. На контурной  карте – природные зоны Африки, отметить природные зо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3.(по выбору) Мини – сочинение «путешествие по Африке» или сообщение о национальных парках Африки (Серенгети, Неоронгоро, гора Кения, Рувензори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10" descr="http://img1.liveinternet.ru/images/attach/c/3/76/988/76988379_e9928d00.jpg"/>
          <p:cNvPicPr/>
          <p:nvPr/>
        </p:nvPicPr>
        <p:blipFill>
          <a:blip r:embed="rId3"/>
          <a:stretch/>
        </p:blipFill>
        <p:spPr>
          <a:xfrm>
            <a:off x="4495680" y="327672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4"/>
          <a:stretch/>
        </p:blipFill>
        <p:spPr>
          <a:xfrm>
            <a:off x="-9360" y="2276640"/>
            <a:ext cx="51480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2" name="Содержимое 4"/>
          <p:cNvSpPr/>
          <p:nvPr/>
        </p:nvSpPr>
        <p:spPr>
          <a:xfrm>
            <a:off x="4427640" y="1890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то хоть раз вдохнул пыль его красной земли, услышал бой тамтамов, увидел в отблеске ночных костров мускулистые тела танцоров в завораживающих масках, тому трудно будет возвращаться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инств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й Гумил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6" descr="http://img0.liveinternet.ru/images/attach/c/1/54/55/54055529_atributuy_barabanov.jpg"/>
          <p:cNvPicPr/>
          <p:nvPr/>
        </p:nvPicPr>
        <p:blipFill>
          <a:blip r:embed="rId2"/>
          <a:stretch/>
        </p:blipFill>
        <p:spPr>
          <a:xfrm>
            <a:off x="395280" y="1341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http://www.africa-escape.ru/index2.php?option=com_datsogallery&amp;func=wmark&amp;mid=1375"/>
          <p:cNvPicPr/>
          <p:nvPr/>
        </p:nvPicPr>
        <p:blipFill>
          <a:blip r:embed="rId3"/>
          <a:stretch/>
        </p:blipFill>
        <p:spPr>
          <a:xfrm>
            <a:off x="379440" y="4084560"/>
            <a:ext cx="3673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6" name="Заголовок 1"/>
          <p:cNvSpPr/>
          <p:nvPr/>
        </p:nvSpPr>
        <p:spPr>
          <a:xfrm>
            <a:off x="457200" y="230040"/>
            <a:ext cx="8229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им увлекатель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ртуальное 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Содержимое 3" descr="http://dengivsetakipahnyt.com/wp-content/uploads/2011/08/%D0%A1%D0%B0%D0%BC%D1%8B%D0%B5-%D0%B1%D0%BE%D0%B3%D0%B0%D1%82%D1%8B%D0%B5-%D0%BB%D1%8E%D0%B4%D0%B8-%D0%90%D1%84%D1%80%D0%B8%D0%BA%D0%B8.png"/>
          <p:cNvPicPr/>
          <p:nvPr/>
        </p:nvPicPr>
        <p:blipFill>
          <a:blip r:embed="rId2"/>
          <a:stretch/>
        </p:blipFill>
        <p:spPr>
          <a:xfrm>
            <a:off x="1619280" y="1371600"/>
            <a:ext cx="5832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29" name="Заголовок 1"/>
          <p:cNvSpPr/>
          <p:nvPr/>
        </p:nvSpPr>
        <p:spPr>
          <a:xfrm>
            <a:off x="457200" y="40464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мы уже зн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295280" y="1197000"/>
            <a:ext cx="5940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"/>
          <p:cNvSpPr/>
          <p:nvPr/>
        </p:nvSpPr>
        <p:spPr>
          <a:xfrm>
            <a:off x="3068640" y="333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Задания на карточк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00160" y="728640"/>
          <a:ext cx="8692920" cy="5732640"/>
        </p:xfrm>
        <a:graphic>
          <a:graphicData uri="http://schemas.openxmlformats.org/drawingml/2006/table">
            <a:tbl>
              <a:tblPr/>
              <a:tblGrid>
                <a:gridCol w="4371840"/>
                <a:gridCol w="4321080"/>
              </a:tblGrid>
              <a:tr h="313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дпишите на климатической к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климатических поя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исуйте облако в тех климатических поясах, где много дожд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дпишите воздушные массы в тех поясах, где их господствует только од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ать на карте крайние точки Афр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ть теплые и холодные теч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на территории Африки переходных климатических поясов, пописа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шите на климатической кар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климатических поя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одпишите на карте водные ресурсы которые омывают Африку(проливы, заливы, мор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точка №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кажите на карте, какие изотермы пересекают материк в январе и июле (из рис.59.стр.73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кажите  на карте: крайние точки и наивысшую точку Афр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943000" cy="1658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5059440" y="4842000"/>
            <a:ext cx="3247920" cy="1685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539640" y="2084400"/>
            <a:ext cx="2943360" cy="1560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"/>
          <p:cNvPicPr/>
          <p:nvPr/>
        </p:nvPicPr>
        <p:blipFill>
          <a:blip r:embed="rId5"/>
          <a:stretch/>
        </p:blipFill>
        <p:spPr>
          <a:xfrm>
            <a:off x="5364000" y="1781280"/>
            <a:ext cx="2943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м тему сегодняшне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838080"/>
          <a:ext cx="8001000" cy="60105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325080" cy="6910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Ы  К КРОССВОРД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далеко от этого города, который является столицей государства Ливия, была зарегистрирована самая  высокая температура + 58 градус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Благодаря тому, что материк расположен между Северным и Южный тропиков, он считается самым 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Этот замечательный исследователь уехал в Африку в качестве врача и миссионера, и провел в непрерывных экспедициях почти 30 ле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Раздел географии, который посвящен описанию различных видов водоемов: рек, озер, болот, водохранилищ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Самая полноводная река мира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Единственный крупный остров у берегов Афр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Американский журналист, в честь которого был назван водопад на реке Кон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Один из очень распространенных видов хозяйственной деятельности многих водных районов материк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Именно в этом поясе находится полюс жары, а также самая большая пустыня мира. 10. Островки зелени в негостеприимном пустынном краю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. Один из самых красивых водопадов планеты, открытый и названный Ливингстоном в честь тогдашней королевы Великобритан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. Самая высокая вершина материка. (Килиманджар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. Постоянные ветры, господствующие над большей территорией Африки, дующие от тропиков на экватор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8:54:33Z</dcterms:created>
  <dc:creator>Елена</dc:creator>
  <dc:description/>
  <dc:language>en-US</dc:language>
  <cp:lastModifiedBy>Ribak</cp:lastModifiedBy>
  <dcterms:modified xsi:type="dcterms:W3CDTF">2014-02-16T18:50:12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1a000000000001024140</vt:lpwstr>
  </property>
</Properties>
</file>