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6EC2-D3CE-4026-80A6-CBADCD666B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6525-2DAC-430D-8C89-936EA11B94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0E15-FCA0-4B7A-8D18-E0C1990BE7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422C-B29C-4578-AD65-35621B5C8B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D372-01CF-4558-9550-EE2FA34671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3C37-8E94-4A1D-840A-A25140DDFE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E00D-77E8-475D-9CD6-C897990152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7319-29AD-4E5F-959D-6058461E0D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4E53-A24A-4951-A2DF-A915C4F0E1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1895-A2C3-4CAB-AA67-F332377320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7FA1-33AE-40E3-9FEF-7B2E3B8D35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E307-9435-4C55-87DE-861A86416E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B70D-A6A4-44A7-B245-F0F07A2354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28C9-947A-41B0-8D03-84B643F5F8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D5FE-628B-4B9E-8FD7-B900F2FA5A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F9AC-92B6-45FA-954D-6B8A97ED40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578E-BDA1-4CDC-8285-5BB12571BE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16B6-6677-4AD1-8CA8-52CCD70F09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BDCD-ED8D-41C7-A25A-7B1E8F0F56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7C5C-349B-4465-AAF8-56A2691ACA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19E-BF21-4A46-AC44-51232049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D4C-E4F8-4AAA-8748-39F17D40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7B2-8FB4-4D49-9D87-3275598B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F23A-639F-4DB2-83E5-12456CD1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9E95-D5A5-4A99-9579-D9AB2746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3A7A-B3BB-42B2-99DF-CD485061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3BEB-BF0E-4B3B-A994-22EC941E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FB6F-1F8C-455F-954A-CCF8E2D9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9E59-39B2-4FA9-B919-0B40C27F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9003-855F-409B-BA1A-7725D2D7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6DDF-FF47-47A0-8EDA-1366919D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3E31-FACA-4FC4-8E01-42E90E90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BA47-B41B-4592-8340-D98C8E15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AD68-39FC-470D-B17B-027D8EDB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31AC-DC03-439B-8067-B7B96A71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C127-1A5B-4E64-AAC0-700FF186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7F70-76BB-4268-B2C7-FF319015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74654-87F3-414F-B983-7C92E072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F8396-A753-434E-8185-5279AE0B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3AE1F-A68B-4E2A-BDF2-E28BFC10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13055-F65A-4B74-B4A2-4D771270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10531-C60F-4FA4-B8DF-0307B39D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5991-AD4D-41FB-A550-C2130958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DC3B-71C3-49D6-BB17-BEF91CE2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EDBE7-8E93-47FA-B956-10286ADD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C7B0C-8EC8-42D0-94B3-35F4C6FA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8127A-CBF1-44CC-99B2-6A8F5284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55B81-78D4-44D3-9AB6-8763CF9F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D0D68-99AD-4375-A7C9-B3D6E25E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3C150-9126-47FC-8520-89ACCEB4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A888A-124E-42B5-B798-683FDD91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44E3D-987D-44A6-959B-59347CFA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C1542-CD7C-4B02-875D-B08ED3EF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D68-3C73-405F-BB3C-279325E3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30384-735E-41E8-BBC1-E63DCCD0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3011E-BD7C-4E52-8CCA-58AE8CBD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3B4ED-8FF2-4881-8481-E2617E88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FDB4F-33D3-4F4A-BA07-66DE8C66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69B16-D0B1-48E9-AF71-CF5E964E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4E4FB-E012-482F-9475-C72A7AB3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181B1-E34F-4F0A-8410-2C8ABF1F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A1C5D-6C47-4289-8E99-3448090A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E726A-2821-47FD-ACA2-2DB493F2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E47E1-F06D-408C-A26B-8F0E01A5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26E-CE9C-4656-B369-1CB70732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7A27B-89CA-4DAB-BD33-95B7DC0B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CBBAD-63F9-41D5-85BB-1A716DA1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90257-8025-4E73-8C2A-1A5FE22C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E69FB-4728-4A59-9793-DED2C390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E553F-1F48-45A9-ABD9-CE70E745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F645F-F4FA-4117-819E-A980286D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9F33A-509D-4FD7-AA76-B9C8DCE7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016B5-EE84-4268-84EC-842DDDD7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55E8A-9C0D-44ED-AD9C-096D242A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ADBE9-C6CE-4480-B778-87D221E3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7BEE-A938-44E6-AF8F-4258AEE9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4A9C8-383B-4C79-A362-033BA83D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3B07-CD3D-4F27-89AA-372FED61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EBB-C4E8-4260-BBA8-C931A335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FF1-349D-4569-8566-5CD370D0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49E9-8DDC-4219-97FD-7CC0141263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72C5-609A-4B31-BAF6-EBF8E4886A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171B-C9CD-47C2-9845-0388C5778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C329-3E77-4494-A19E-06EBD4251C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572D-602B-4785-B7A9-347649CF0A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66"/>
                </a:solidFill>
                <a:latin typeface="Arial"/>
              </a:rPr>
              <a:t>Природные зоны Афр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Подготовила учитель географии Рыбалкина Н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Звуки природы - Музыка в красках звуков природы  (audiopoisk.com).mp3" descr=""/>
          <p:cNvPicPr/>
          <p:nvPr/>
        </p:nvPicPr>
        <p:blipFill>
          <a:blip r:embed="rId2"/>
          <a:stretch/>
        </p:blipFill>
        <p:spPr>
          <a:xfrm>
            <a:off x="108000" y="602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71419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м тему сегодняшнего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838080"/>
          <a:ext cx="8001000" cy="601056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7800" y="666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родные зоны Аф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4267440" cy="2842920"/>
          </a:xfrm>
          <a:prstGeom prst="rect">
            <a:avLst/>
          </a:prstGeom>
          <a:ln w="0">
            <a:noFill/>
          </a:ln>
        </p:spPr>
      </p:pic>
      <p:pic>
        <p:nvPicPr>
          <p:cNvPr id="246" name="Содержимое 6" descr="Джунгли"/>
          <p:cNvPicPr/>
          <p:nvPr/>
        </p:nvPicPr>
        <p:blipFill>
          <a:blip r:embed="rId2"/>
          <a:stretch/>
        </p:blipFill>
        <p:spPr>
          <a:xfrm>
            <a:off x="4191120" y="3500280"/>
            <a:ext cx="4724280" cy="32436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9" descr="жирафы и акации"/>
          <p:cNvPicPr/>
          <p:nvPr/>
        </p:nvPicPr>
        <p:blipFill>
          <a:blip r:embed="rId3"/>
          <a:srcRect l="0" t="0" r="0" b="37"/>
          <a:stretch/>
        </p:blipFill>
        <p:spPr>
          <a:xfrm>
            <a:off x="4643280" y="692280"/>
            <a:ext cx="4105440" cy="2736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4"/>
          <a:srcRect l="0" t="0" r="-73" b="0"/>
          <a:stretch/>
        </p:blipFill>
        <p:spPr>
          <a:xfrm>
            <a:off x="0" y="3809880"/>
            <a:ext cx="4149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325080" cy="69105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Цели сегодняшнего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47200" y="1192320"/>
            <a:ext cx="841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ие природные зоны есть на материке Афр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стараться понять существующие закономерности между климатическими поясами и природными зон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пределить, какие климатические условия характерны для каждой природной зо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пределить тип почв и разновидности растительного и животного мира природных зо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способленность растений и животных к различным услов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Использование природных зон челове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70c0"/>
                </a:solidFill>
                <a:uFillTx/>
                <a:latin typeface="Arial"/>
              </a:rPr>
              <a:t>Проблемный вопр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Смогут ли растения и животные своей природной зоны и климатического пояса,  приспособится к чужой природной зоны другого климатического поя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ст само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85800" y="1143000"/>
          <a:ext cx="8229600" cy="4809960"/>
        </p:xfrm>
        <a:graphic>
          <a:graphicData uri="http://schemas.openxmlformats.org/drawingml/2006/table">
            <a:tbl>
              <a:tblPr/>
              <a:tblGrid>
                <a:gridCol w="380880"/>
                <a:gridCol w="1828800"/>
                <a:gridCol w="1044720"/>
                <a:gridCol w="801720"/>
                <a:gridCol w="815760"/>
                <a:gridCol w="814680"/>
                <a:gridCol w="801720"/>
                <a:gridCol w="869760"/>
                <a:gridCol w="871560"/>
              </a:tblGrid>
              <a:tr h="909720">
                <a:tc row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ов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домашнего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новым материал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Таблица 1.</a:t>
            </a:r>
            <a:br>
              <a:rPr sz="1800"/>
            </a:b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Характеристика природных зон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484280"/>
          <a:ext cx="9144000" cy="5526000"/>
        </p:xfrm>
        <a:graphic>
          <a:graphicData uri="http://schemas.openxmlformats.org/drawingml/2006/table">
            <a:tbl>
              <a:tblPr/>
              <a:tblGrid>
                <a:gridCol w="2700360"/>
                <a:gridCol w="968400"/>
                <a:gridCol w="1396800"/>
                <a:gridCol w="1124280"/>
                <a:gridCol w="1477800"/>
                <a:gridCol w="147636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иродные зо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ФГ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лиматический поя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оч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сти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Животный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Влажные экваториальные леса (гиве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аванны и редколес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Тропические пустыни и полупусты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Зона жестколистных вечнозеленых лесов и кустарни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33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60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по Африке иду (ходьба на месте)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мечаю на ходу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к над морем буйных трав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ею вытянул жира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руки вверх, потягивание)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меня над гол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наклоны в стороны с поднятыми руками)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альма зашуршит листвой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о придется приседать (приседания)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тобы фиников набрать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т вельвичия, тури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руки поочередно вытягивают вперед):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евый лист, правый лист (руки в стороны)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огромный серый слон (круг руками)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сылает нам поклон (наклоны вперед)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ы прогулку завершим (ходьба на месте)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за парты поспешим (садятся на свои мест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6a00d8345269c569e20128761a965d970c-800wi"/>
          <p:cNvPicPr/>
          <p:nvPr/>
        </p:nvPicPr>
        <p:blipFill>
          <a:blip r:embed="rId2"/>
          <a:stretch/>
        </p:blipFill>
        <p:spPr>
          <a:xfrm>
            <a:off x="6732720" y="1049400"/>
            <a:ext cx="226692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ff33"/>
                </a:solidFill>
                <a:latin typeface="Arial"/>
              </a:rPr>
              <a:t>Фрагмент из мультфильма «Айболи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RedSol[1]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33"/>
                </a:solidFill>
                <a:latin typeface="Arial"/>
              </a:rPr>
              <a:t>Гости из Афр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Гость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арченко Кристи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Влажные экваториальных лесов (геле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Гость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патова Марина </a:t>
            </a: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- Саванны и редколес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Гость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илалова Кристина </a:t>
            </a: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- Тропические пустыни и полупусты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Гость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льпер Максим </a:t>
            </a: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- Зона жестколистных вечнозеленых лесов и кустарни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"/>
          <p:cNvPicPr/>
          <p:nvPr/>
        </p:nvPicPr>
        <p:blipFill>
          <a:blip r:embed="rId2"/>
          <a:stretch/>
        </p:blipFill>
        <p:spPr>
          <a:xfrm>
            <a:off x="3419640" y="260280"/>
            <a:ext cx="5416560" cy="5640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img4"/>
          <p:cNvPicPr/>
          <p:nvPr/>
        </p:nvPicPr>
        <p:blipFill>
          <a:blip r:embed="rId3"/>
          <a:stretch/>
        </p:blipFill>
        <p:spPr>
          <a:xfrm>
            <a:off x="179280" y="2997360"/>
            <a:ext cx="4932360" cy="3692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8"/>
          <p:cNvSpPr/>
          <p:nvPr/>
        </p:nvSpPr>
        <p:spPr>
          <a:xfrm>
            <a:off x="360" y="1484280"/>
            <a:ext cx="381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Природные зо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Аф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1049400" y="692280"/>
            <a:ext cx="705636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0" y="119844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Задание 1:</a:t>
            </a: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 Для каких природных зон характер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А) баобаб, антилопа, пальма дум, марабу, гепа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Б) масличная пальма, желтое дерево, фикус, окап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В) молочай, алоэ, черепаха, гиена, шак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5"/>
          <p:cNvSpPr/>
          <p:nvPr/>
        </p:nvSpPr>
        <p:spPr>
          <a:xfrm>
            <a:off x="0" y="1254960"/>
            <a:ext cx="9144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ние 2: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е природную зону по опис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 африканских сезонов круглый год один и тот же – зеленый. Только в один период зеленый цвет чист, ярок, а в другой – блеклый, словно выцветший… В сухой сезон земля превращается в камень, трава – в мочалу, деревья трещат от недостатка сока. И вот первый же ливень возвращает природу к жизни. Жадно напившись водой, земля разбухает от влаги, щедро отдает её деревьям, травам, цветам. Они пьют, пьют и напиться не могут… почти каждый день дождь то хлещет мощной струей, то сыплет мелкой водяной пылью. Температура воздуха падает, и местные жители зябко поводят плечами, жалуются: «Холодно!». Когда термометр показывает 18-20 градусов, некоторые африканцы считают, что наступили «морозы». Натягивают на себя все, что имеют из одежды, повязывают головы платками, разжигают на улицах костры, лишь бы унять дрожь». (Л. Почива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5"/>
          <p:cNvSpPr/>
          <p:nvPr/>
        </p:nvSpPr>
        <p:spPr>
          <a:xfrm>
            <a:off x="468360" y="690840"/>
            <a:ext cx="8604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3: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Объясните причину малого плодородия почв экваториальных л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4: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на схеме с помощью стрелок покажите связи в природном комплексе пусты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ухой тропический                                 почвы практиче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лимат                                                         отсутств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астительный покров                             много пресмык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250920" y="335664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5: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Как вы думаете на территории, каких природных зон будет создано больше всего национальных парков и заповедников и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66"/>
                </a:solidFill>
                <a:uFillTx/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"/>
          <p:cNvSpPr/>
          <p:nvPr/>
        </p:nvSpPr>
        <p:spPr>
          <a:xfrm>
            <a:off x="250920" y="1125360"/>
            <a:ext cx="856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1.§ 20,21 записи в тетра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2. На контурной  карте – природные зоны Африки, отметить природные зо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3.(по выбору) Мини – сочинение «путешествие по Африке» или сообщение о национальных парках Африки (Серенгети, Неоронгоро, гора Кения, Рувензори и д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8229600" cy="828720"/>
          </a:xfrm>
          <a:prstGeom prst="rect">
            <a:avLst/>
          </a:prstGeom>
          <a:ln w="0">
            <a:noFill/>
          </a:ln>
        </p:spPr>
      </p:pic>
      <p:pic>
        <p:nvPicPr>
          <p:cNvPr id="219" name="Содержимое 10" descr="http://img1.liveinternet.ru/images/attach/c/3/76/988/76988379_e9928d00.jpg"/>
          <p:cNvPicPr/>
          <p:nvPr/>
        </p:nvPicPr>
        <p:blipFill>
          <a:blip r:embed="rId3"/>
          <a:stretch/>
        </p:blipFill>
        <p:spPr>
          <a:xfrm>
            <a:off x="4495680" y="3276720"/>
            <a:ext cx="4648320" cy="3581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4"/>
          <a:stretch/>
        </p:blipFill>
        <p:spPr>
          <a:xfrm>
            <a:off x="-9360" y="2276640"/>
            <a:ext cx="514800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22" name="Содержимое 4"/>
          <p:cNvSpPr/>
          <p:nvPr/>
        </p:nvSpPr>
        <p:spPr>
          <a:xfrm>
            <a:off x="4427640" y="189000"/>
            <a:ext cx="449568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то хоть раз вдохнул пыль его красной земли, услышал бой тамтамов, увидел в отблеске ночных костров мускулистые тела танцоров в завораживающих масках, тому трудно будет возвращаться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инств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р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олай Гумил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Содержимое 6" descr="http://img0.liveinternet.ru/images/attach/c/1/54/55/54055529_atributuy_barabanov.jpg"/>
          <p:cNvPicPr/>
          <p:nvPr/>
        </p:nvPicPr>
        <p:blipFill>
          <a:blip r:embed="rId2"/>
          <a:stretch/>
        </p:blipFill>
        <p:spPr>
          <a:xfrm>
            <a:off x="395280" y="134136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7" descr="http://www.africa-escape.ru/index2.php?option=com_datsogallery&amp;func=wmark&amp;mid=1375"/>
          <p:cNvPicPr/>
          <p:nvPr/>
        </p:nvPicPr>
        <p:blipFill>
          <a:blip r:embed="rId3"/>
          <a:stretch/>
        </p:blipFill>
        <p:spPr>
          <a:xfrm>
            <a:off x="379440" y="4084560"/>
            <a:ext cx="36734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26" name="Заголовок 1"/>
          <p:cNvSpPr/>
          <p:nvPr/>
        </p:nvSpPr>
        <p:spPr>
          <a:xfrm>
            <a:off x="457200" y="230040"/>
            <a:ext cx="82296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им увлекательно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ртуальное путеше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Содержимое 3" descr="http://dengivsetakipahnyt.com/wp-content/uploads/2011/08/%D0%A1%D0%B0%D0%BC%D1%8B%D0%B5-%D0%B1%D0%BE%D0%B3%D0%B0%D1%82%D1%8B%D0%B5-%D0%BB%D1%8E%D0%B4%D0%B8-%D0%90%D1%84%D1%80%D0%B8%D0%BA%D0%B8.png"/>
          <p:cNvPicPr/>
          <p:nvPr/>
        </p:nvPicPr>
        <p:blipFill>
          <a:blip r:embed="rId2"/>
          <a:stretch/>
        </p:blipFill>
        <p:spPr>
          <a:xfrm>
            <a:off x="1619280" y="1371600"/>
            <a:ext cx="5832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29" name="Заголовок 1"/>
          <p:cNvSpPr/>
          <p:nvPr/>
        </p:nvSpPr>
        <p:spPr>
          <a:xfrm>
            <a:off x="457200" y="40464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мы уже зна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1295280" y="1197000"/>
            <a:ext cx="5940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1"/>
          <p:cNvSpPr/>
          <p:nvPr/>
        </p:nvSpPr>
        <p:spPr>
          <a:xfrm>
            <a:off x="3068640" y="33336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Задания на карточк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00160" y="728640"/>
          <a:ext cx="8692920" cy="5732640"/>
        </p:xfrm>
        <a:graphic>
          <a:graphicData uri="http://schemas.openxmlformats.org/drawingml/2006/table">
            <a:tbl>
              <a:tblPr/>
              <a:tblGrid>
                <a:gridCol w="4371840"/>
                <a:gridCol w="4321080"/>
              </a:tblGrid>
              <a:tr h="3132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рточка №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одпишите на климатической кар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я климатических пояс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арисуйте облако в тех климатических поясах, где много дожд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Подпишите воздушные массы в тех поясах, где их господствует только од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рточка № 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сать на карте крайние точки Афри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ть теплые и холодные теч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на территории Африки переходных климатических поясов, пописа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рточка № 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шите на климатической кар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я климатических пояс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Подпишите на карте водные ресурсы которые омывают Африку(проливы, заливы, мор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рточка № 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Укажите на карте, какие изотермы пересекают материк в январе и июле (из рис.59.стр.73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Укажите  на карте: крайние точки и наивысшую точку Афри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468360" y="4869000"/>
            <a:ext cx="2943000" cy="1658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3"/>
          <a:stretch/>
        </p:blipFill>
        <p:spPr>
          <a:xfrm>
            <a:off x="5059440" y="4842000"/>
            <a:ext cx="3247920" cy="1685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tretch/>
        </p:blipFill>
        <p:spPr>
          <a:xfrm>
            <a:off x="539640" y="2084400"/>
            <a:ext cx="2943360" cy="1560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" descr=""/>
          <p:cNvPicPr/>
          <p:nvPr/>
        </p:nvPicPr>
        <p:blipFill>
          <a:blip r:embed="rId5"/>
          <a:stretch/>
        </p:blipFill>
        <p:spPr>
          <a:xfrm>
            <a:off x="5364000" y="1781280"/>
            <a:ext cx="2943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м тему сегодняшнего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838080"/>
          <a:ext cx="8001000" cy="601056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325080" cy="6910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Ы  К КРОССВОРД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далеко от этого города, который является столицей государства Ливия, была зарегистрирована самая  высокая температура + 58 градус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Благодаря тому, что материк расположен между Северным и Южный тропиков, он считается самым …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Этот замечательный исследователь уехал в Африку в качестве врача и миссионера, и провел в непрерывных экспедициях почти 30 лет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Раздел географии, который посвящен описанию различных видов водоемов: рек, озер, болот, водохранилищ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Самая полноводная река мира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 Единственный крупный остров у берегов Африк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. Американский журналист, в честь которого был назван водопад на реке Конг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. Один из очень распространенных видов хозяйственной деятельности многих водных районов материк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. Именно в этом поясе находится полюс жары, а также самая большая пустыня мира. 10. Островки зелени в негостеприимном пустынном краю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1. Один из самых красивых водопадов планеты, открытый и названный Ливингстоном в честь тогдашней королевы Великобритан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2. Самая высокая вершина материка. (Килиманджаро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. Постоянные ветры, господствующие над большей территорией Африки, дующие от тропиков на экватор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8:54:33Z</dcterms:created>
  <dc:creator>Елена</dc:creator>
  <dc:description/>
  <dc:language>en-US</dc:language>
  <cp:lastModifiedBy>Ribak</cp:lastModifiedBy>
  <dcterms:modified xsi:type="dcterms:W3CDTF">2014-02-16T18:50:12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1a000000000001024140</vt:lpwstr>
  </property>
</Properties>
</file>