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FEEA8-B758-4EEF-900C-07E8B5075D3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15D34-FD49-4034-B087-CC5DE1F5FEB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65A76-BA81-4294-9FC7-F832021A4BF8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53699-76CD-41E6-84A6-B9CA5A1D6EBA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4ED2-0271-49A3-BF8B-181B32304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1EA6-814A-4F8B-A356-7EE57DA5F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117F-81D3-4B93-8C37-C6AE661D4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ECA4-0150-4F27-8A12-EB9F6EE4D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4C659-6B41-49C4-844F-7C344BA9D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EDE95-9799-4649-A2CF-D1F6F7DBE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26B87-3A90-4E69-AE00-EC0A69FEA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8B3FF-7A6F-4B43-A21A-E75C13BEF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8FA79-A83A-4F81-9986-AEFCB66F5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6D4A9-4F96-4266-9DFD-E47EDEE2F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46D25-A707-4473-8BF0-45B5953B6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61DC-8E6E-43C8-BB3B-37A7CEAA1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D4937-6B67-4DCB-AAB0-281D22209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EB318-B6F1-4E4E-9FD3-55B23C957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6B79C-8F61-48AC-B588-934F06FF2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594B1-35C8-4ACB-BF18-255BC8CF1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638F5-6214-48C6-AC31-C26F1287E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B3C796-F820-4A98-AC51-13073AE29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31C9F2-F7AF-40A2-ABDD-F26E0AE1D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BCCBF1-8875-496B-9687-21869AE89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75B9E6-A189-4E05-B156-6B2A159C0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2D8843-D99C-451E-97C1-F4764D23B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5E67-1162-44CD-97FD-10170898E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89D1BD-32BB-460D-8BC4-2D459DE64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7DE1B4-91A7-4880-A858-5D666AC34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9FD7AA-BAA1-46F2-85AD-5CF2555E5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27D99C-1B1E-4ED8-AD5F-0B8281DBC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181DA8-5EB5-438F-8F9E-F1FBBF98F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C3C403-4445-412C-B1DA-61A9F1F5B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6D2023-BD4C-43C7-BB56-E06C940D6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FB39-F454-4D68-8F39-DA527A4D7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97E2-E287-4233-A652-A88A321F1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5269-E72A-4E1C-B3A3-89EC80FEB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0430-F4F5-4F15-89D7-F3A213B3B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0F29-0E50-4467-BAD4-F42582A28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D5A3-1AA3-41DA-99A5-1E0AADEAD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D3D5F-4957-4238-8414-803314A66D8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B7625-3F27-437B-B31E-EE6E9E543D5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3546A-86F0-41EF-95A7-D70E60A04C5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hyperlink" Target="http://www.google.ru/imgres?imgurl=http://dic.academic.ru/pictures/wiki/files/80/Pelikan_Walvis_Bay.jpg&amp;imgrefurl=http://dic.academic.ru/dic.nsf/ruwiki/45986&amp;usg=__KCepR8D9K8659wQicTcN5Bvm4Kc=&amp;h=2448&amp;w=3264&amp;sz=1279&amp;hl=ru&amp;start=18&amp;zoom=1&amp;um=1&amp;itbs=1&amp;tbnid=tPZdfVl9RR_06M:&amp;tbnh=113&amp;tbnw=150&amp;prev=/images?q%3D&#1087;&#1077;&#1083;&#1080;&#1082;&#1072;&#1085;%26um%3D1%26hl%3Dru%26newwindow%3D1%26sa%3DG%26gbv%3D2%26tbs%3Disch:1" TargetMode="External"/><Relationship Id="rId6" Type="http://schemas.openxmlformats.org/officeDocument/2006/relationships/image" Target="../media/image6.jpeg"/><Relationship Id="rId7" Type="http://schemas.openxmlformats.org/officeDocument/2006/relationships/hyperlink" Target="http://www.google.ru/imgres?imgurl=http://sigils.ru/symbols/img/pelikan01.jpg&amp;imgrefurl=http://sigils.ru/symbols/pelikan.html&amp;usg=__Uhcv0wnwEINiwfZy3aQ_4M5qYRM=&amp;h=600&amp;w=490&amp;sz=49&amp;hl=ru&amp;start=11&amp;zoom=1&amp;um=1&amp;itbs=1&amp;tbnid=UPzsW_iKlVLQfM:&amp;tbnh=135&amp;tbnw=110&amp;prev=/images?q%3D&#1087;&#1077;&#1083;&#1080;&#1082;&#1072;&#1085;%26um%3D1%26hl%3Dru%26newwindow%3D1%26sa%3DG%26gbv%3D2%26tbs%3Disch:1" TargetMode="External"/><Relationship Id="rId8" Type="http://schemas.openxmlformats.org/officeDocument/2006/relationships/image" Target="../media/image7.jpeg"/><Relationship Id="rId9" Type="http://schemas.openxmlformats.org/officeDocument/2006/relationships/image" Target="../media/image8.jpeg"/><Relationship Id="rId10" Type="http://schemas.openxmlformats.org/officeDocument/2006/relationships/image" Target="../media/image9.jpeg"/><Relationship Id="rId11" Type="http://schemas.openxmlformats.org/officeDocument/2006/relationships/slideLayout" Target="../slideLayouts/slideLayout25.xml"/><Relationship Id="rId1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RedSol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421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"/>
          <p:cNvPicPr/>
          <p:nvPr/>
        </p:nvPicPr>
        <p:blipFill>
          <a:blip r:embed="rId2"/>
          <a:stretch/>
        </p:blipFill>
        <p:spPr>
          <a:xfrm>
            <a:off x="1547640" y="2565360"/>
            <a:ext cx="6193080" cy="332280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6"/>
          <p:cNvSpPr/>
          <p:nvPr/>
        </p:nvSpPr>
        <p:spPr>
          <a:xfrm>
            <a:off x="583920" y="260280"/>
            <a:ext cx="78343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66"/>
                </a:solidFill>
                <a:latin typeface="Arial"/>
              </a:rPr>
              <a:t>Жестколистны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i="1" lang="ru-RU" sz="4400" spc="-1" strike="noStrike">
                <a:solidFill>
                  <a:srgbClr val="ffff66"/>
                </a:solidFill>
                <a:latin typeface="Arial"/>
              </a:rPr>
              <a:t>вечнозеленые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66"/>
                </a:solidFill>
                <a:latin typeface="Arial"/>
              </a:rPr>
              <a:t>леса и кустарники Афри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Прямоугольник 1"/>
          <p:cNvSpPr/>
          <p:nvPr/>
        </p:nvSpPr>
        <p:spPr>
          <a:xfrm>
            <a:off x="93600" y="5888160"/>
            <a:ext cx="822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Выполнил ученик 7-Б класса Альпер Макси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0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География и клима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уше средиземноморский климат переходит с повышением широты (ближе к полюсам) в зоны океанического или приморского климата, для которого характерны обильные летние дожди, а с понижением широты (ближе к экватору) - в засушливые (в летнее время) степи с нечастыми дождями в зимнее врем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8480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Температура воздух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уше средиземноморский климат переходит с повышением широты (ближе к полюсам) в зоны океанического или приморского климата, для которого характерны обильные летние дожди, а с понижением широты (ближе к экватору) - в засушливые (в летнее время) степи с нечастыми дождями в зимнее врем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93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очвенный соста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760" indent="193680" algn="just">
              <a:lnSpc>
                <a:spcPct val="80000"/>
              </a:lnSpc>
              <a:spcBef>
                <a:spcPts val="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ержание гумуса равно 4—7%, преобладают гуминовые кислоты. Следовательно, естественное плодородие почв весьма вы­сокое. Обилие карбонатов ведет, в частности, к развитию богатой фауны наземных раковинных моллюсков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23760" indent="1936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остоянно влажных субтропических и умеренных дождевых и лавролистных лесах представлены красно­земы и желтоземы, имеющие промывной режим и накапливающие менее подвижные продукты выветривания — свободные гидроксиды алюминия и железа. Почвы эти малогумусные, кислые, в них выражены также процессы оподзоливания (они приостанавливают­ся на основных материнских породах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23760" indent="1936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Растительный ми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ота жестколистных лесов в среднем достигает 15—20 м, лишь высота эвкалиптовых лесов кэрри соответствующего типа может составлять 40—50 м. Нередки также разреженные древо­стой с кустарниками, а также чисто кустарниковые жестколистные формации (маквис, чапарраль, мали-скраб). Часто представлен единственный древесный ярус, бывают двухъярусные леса. Кроме преобладающей жизненной формы жестколистных деревьев и кус­тарников, которая конвергентно образовалась у видов разных се­мейств и на разных материках, представлены и другие, как прави­ло, более характерные для отдельных регионов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a2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Животный ми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2030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енность термитов этого ви­да составляет 600 экз/м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 биомассе 3 г/м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они явно домини­руют среди гетеротрофов. Правда, это единственный вид, сооружающий заметные термитники. Остальные 11 видов обитают в толще грунта или в стволах упавших деревьев. Самый массовый N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itiosus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итается упавшими стволами деревьев, пнями, сухими сучьями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2030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этих же местах наиболее обыч­ными оказались крупные мокрицы, земляные черви, тараканы и кивсяки, живущие в норках. В склерофилльных сообществах Ав­стралии обычны земляные черви из семейства мегасколецид и глоссосколецид, а также позднее завезенные из Европы дождевые черви-люмбрицид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2030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ключительно хищный образ жизни ведут взрослые амфибии. В пределах Средиземноморья обычны некоторые жабы, древесные квакши. Многочисленны разнообразные ящерицы, многие из ко­торых быстро бегают по скалам, обрывам и стволам деревьев (группа стенных и скальных ящериц, гекконы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203040" algn="just">
              <a:lnSpc>
                <a:spcPts val="1049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2030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" descr="RedSol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421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6" descr="43976222_Tyuleni__Monahi2"/>
          <p:cNvPicPr/>
          <p:nvPr/>
        </p:nvPicPr>
        <p:blipFill>
          <a:blip r:embed="rId2"/>
          <a:stretch/>
        </p:blipFill>
        <p:spPr>
          <a:xfrm>
            <a:off x="5508720" y="214200"/>
            <a:ext cx="3311280" cy="23385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8" descr="i-3178"/>
          <p:cNvPicPr/>
          <p:nvPr/>
        </p:nvPicPr>
        <p:blipFill>
          <a:blip r:embed="rId3"/>
          <a:stretch/>
        </p:blipFill>
        <p:spPr>
          <a:xfrm>
            <a:off x="1332000" y="260280"/>
            <a:ext cx="3673440" cy="22813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0" descr="IMG_9145g"/>
          <p:cNvPicPr/>
          <p:nvPr/>
        </p:nvPicPr>
        <p:blipFill>
          <a:blip r:embed="rId4"/>
          <a:stretch/>
        </p:blipFill>
        <p:spPr>
          <a:xfrm>
            <a:off x="5076720" y="2781360"/>
            <a:ext cx="3143520" cy="20858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2" descr="Pelikan_Walvis_Bay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5280" y="2781360"/>
            <a:ext cx="2255760" cy="16984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4" descr="pelikan01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987640" y="2781360"/>
            <a:ext cx="1876320" cy="23032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6" descr="art6799_0"/>
          <p:cNvPicPr/>
          <p:nvPr/>
        </p:nvPicPr>
        <p:blipFill>
          <a:blip r:embed="rId9"/>
          <a:stretch/>
        </p:blipFill>
        <p:spPr>
          <a:xfrm>
            <a:off x="468360" y="4797360"/>
            <a:ext cx="2374920" cy="17845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7" descr="024130_41"/>
          <p:cNvPicPr/>
          <p:nvPr/>
        </p:nvPicPr>
        <p:blipFill>
          <a:blip r:embed="rId10"/>
          <a:stretch/>
        </p:blipFill>
        <p:spPr>
          <a:xfrm>
            <a:off x="6372360" y="4941720"/>
            <a:ext cx="256680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4" descr="RedSol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66"/>
                </a:solidFill>
                <a:latin typeface="Arial"/>
              </a:rPr>
              <a:t>Финиковая паль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8" descr="phoenix_dactylifera240"/>
          <p:cNvPicPr/>
          <p:nvPr/>
        </p:nvPicPr>
        <p:blipFill>
          <a:blip r:embed="rId2"/>
          <a:stretch/>
        </p:blipFill>
        <p:spPr>
          <a:xfrm>
            <a:off x="2050920" y="1197000"/>
            <a:ext cx="54007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185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alibri"/>
              </a:rPr>
              <a:t>Экологические проблемы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4400" indent="206280" algn="just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се области жестколистной растительности в настоящее время сильно видоизменены деятельностью человека. Площадь лесов со­кратилась, а кустарниковых и кустарничковых ксерофитных фор­маций, напротив, увеличилась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14400" indent="206280" algn="just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зделываемые земли весьма сходны и по составу культурных растений. Это цитрусовые, виноград, маслины, инжир (фига), пшеница. Очень сходны декоративные растения в садах и цветни­ках, а также распространившиеся за последние столетия сорные растения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14400" indent="206280" algn="just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розия почв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6T13:41:35Z</dcterms:created>
  <dc:creator>Ribak</dc:creator>
  <dc:description/>
  <dc:language>en-US</dc:language>
  <cp:lastModifiedBy>Ribak</cp:lastModifiedBy>
  <dcterms:modified xsi:type="dcterms:W3CDTF">2014-02-16T17:22:35Z</dcterms:modified>
  <cp:revision>4</cp:revision>
  <dc:subject/>
  <dc:title>Жестколистные леса и кустарники Африк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c06000000000001024140</vt:lpwstr>
  </property>
</Properties>
</file>