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2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E425-EB74-4D86-AAED-DA9A1E67B4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5B34-AF90-4738-A600-6FA741157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AB61-1D53-4C08-9CA8-36023FD53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F8C4-6C43-4D1F-8466-AF9C08820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32D2-652F-4D4F-9529-6DB603E822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88D-6F2F-4931-B89D-573539BE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6BB-6F81-4602-80BC-91B4C829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83C7F-551D-4828-AE3B-97E969FE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19635-65D9-4966-924A-F76D769F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A7E37-CE1C-437C-90BD-A6D40B50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B98D0-3BE9-4193-B14B-9B5EA536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3A09C-7CFC-4D67-A42E-89BE4989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46D35-44B0-400A-925B-5A5EEF10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80999-1A75-4B17-BE67-BD696743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21FED-8739-4864-B746-D777275F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8E850-4A1B-40F0-8240-06C92C93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11AC7-33DD-4A72-B341-0BCC16D3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790-4F0A-44F6-B29A-6CCE3CA1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D7848-3113-42EC-B6C6-B1D0D0BB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B0F3C-9289-4602-9E5C-E7895DB6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A0D8F-DC4F-4A94-87CB-0C07ED9C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E7184-E58B-4100-B938-0BD805E2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E0A6A-C1C7-4C11-ACD8-DB68A0BA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0792E-3A96-4F80-B9C6-B17083F8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031B7-E88B-45E7-9143-EC7358C6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D86C2-79C5-4962-A4AA-140D3803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142AE-1092-4039-A922-E90B145C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3D395-FDCA-4274-8A66-4FE0D0FE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A25-538E-4BC6-8129-CDA6C83E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7EDAD-6C3D-4949-A935-6097482C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66466-972D-4F54-9927-13BDB7D4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CD3AA-936F-4348-B2D7-D71ABDF5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BC794-B385-4AA8-8BF6-47F31329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81A2A-8D35-4CA5-9A58-84FBB883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127F3-2F69-4941-ACA2-5DF103A4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945A9-7140-4A13-A891-4CE2F06E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2A2E0-3ACA-484E-BFEC-0DB5477B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E8760-5F31-41A3-9E42-55D47A91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A041F-79E1-48ED-89CC-04AF51C6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EBD7-31F7-4352-B2B8-38038FFB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95033-E535-4C4A-B47E-CF1984BF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E5B32-4293-4591-9C88-FDB71E75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680AC-C983-47E7-884F-A58F6DC4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D4B8B-2F5D-406D-87C3-065535F4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2C85E-3F2E-457A-8EB1-197FF53E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15122-DA3F-41FB-8334-96551F8E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52AA9-D55A-4541-9947-718BD3E4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182DB-41DA-4F1A-92FE-2EFBD620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6D088-63C3-4646-88DD-46E6343C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CAEF2-C656-4F6F-9AAE-9FC5558C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F5A2-02AE-4CB4-9A9C-76526742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47ACD-AD49-41A4-8FC2-2D82784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75325-CAD6-4260-92E3-A7E85E4B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05F37-9AB5-403D-936E-64D835AF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E3604-5D77-48D3-B8CE-67F9FB4D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899B3-2AC5-4A4D-9CCA-9F4B0BB0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42D9B-9C05-49EE-9FA5-1FF98BA3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92092-235D-4823-BC52-62EC71DB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B9612-561C-438D-9B37-5CB69774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27BE3-EA5F-49A8-B5B4-A5AE3CF1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2D479-6B76-42C3-8F55-FD28DD02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3C01-CB76-497C-87BE-DDA18D65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1FFFF-8C56-47E4-ABD9-04908F71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701CC-B581-4BB6-8C78-AB8778B8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28039-F4B4-4EAD-A37C-F0F47792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FBF2E-5F86-40BB-BB4D-C98E822C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90ECF-9B12-4E31-85E2-E697E6AC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A84AA-BF80-4F97-8AB1-2138F300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6FC9A-3BA3-4691-A990-2C44987E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542E9-0213-420A-99F8-96931D11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52375D-7852-4B00-B3AC-0CE2431C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700C8-C587-49AB-B658-F315F4EF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0783-871A-4120-9E0D-66E35B9D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A6E92-2F49-4433-8A25-5B4CB188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3EB2D-B3CF-417C-9273-C05A37EB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9F0AF-E980-454B-87F8-9F7809E3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1EFF7-077C-4F05-912B-9F163E27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65C7C-3A86-4ED2-B575-A9086379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C7D69-8FE9-4FB2-B787-E17ACCD5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CD05D-0F8B-48D6-9586-A85F28CC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C6A25-D9BF-47CA-918A-41399A2A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3625D-2EC2-42E7-B0BA-A1671D32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5FFE3-055C-455B-89E0-FD57927A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42D5-4666-4810-B7DE-BB03F272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5713B-04F0-4DAA-A18C-9C43960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2EBA7-0576-4FE6-B522-BDA9A537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973BF-1001-4C7A-8E40-2BF80548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9D732-65DB-42CC-BD6B-7F002770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9B07A-F433-4701-B5F2-2CB6699C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9B9402-10CF-4459-9B26-7795A333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1FD70-D0EC-44FA-A956-A3C45696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9EF0D-4965-4D77-A5AC-349D8F2B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9FFC4-5F20-4FBC-8767-DA69F9D0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4B374-009D-4FD0-A63D-0383915E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4730-AFB8-448F-8C49-269E90B6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DE860-03F3-4396-B1CF-1BE22DC4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B6AD6-A736-4E87-8827-754F2B8F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D460A0-8FC2-44FF-94BF-F638A5F2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A1EB6E-1C89-47C0-8B14-3FB6534A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2337D-C64F-4D78-B61D-EBBA6F99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230C5-3475-45D8-8770-68C3A90A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A8CEFE-D225-44FF-BD74-83A9D92D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3DCCD-4028-476F-AA52-86A7F69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722C07-C248-44D7-B35D-AE3E85B3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380420-7580-4E1F-A357-D2B1864A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F4D4-ACF7-435A-B4C0-4B1FD0CA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ED40D-4D04-485C-8044-970A63E7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45C86-446B-4D83-9E64-617A2270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012A6D-C7B9-47FC-838E-0BE91421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7B743-DFA0-4297-9559-4DC4E2FD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34B2AE-BFB9-4B1C-BD91-3158CB53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C58C0-4138-4D58-A58C-2517CA55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46D24-8B41-4995-AAB9-F090A432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9B52E-02B2-4E2B-A210-4637804C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973B2-47A4-468E-9740-27FEF0FF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DB03CC-9D64-4DA1-BDC6-7803455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3D8-2D5D-4BD6-AB0C-01CE5F9F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0E20-869B-42FF-A03C-E52E4017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FC48F2-D8C3-479E-8D67-30D7A8B1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06C8C-6FE1-4701-B452-AA2FCE71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4496EA-A128-4131-8709-06980594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4BC4D-4F1F-458E-8EC9-A190DCAD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DC475-9E07-4915-83F9-FD88E74A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E73B5-DC49-46C7-8C5B-EB6BF848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4EC35-52D9-4A44-A135-EE2488FD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23F88-6119-49ED-9E37-ADB292C8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64FE7-B174-41BF-A5EB-FA1517F8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84A182-1347-4911-A10B-4BC706C8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E44A-3562-4489-BB21-130BD35F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98144-5E2E-4AD5-84DC-62B924A6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B39897-2DDE-406A-8097-8DF4C5C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35E215-7323-4B8F-8C46-B66FC860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46F44-C173-4953-AE3A-A3B1DB72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3F526-D663-4A08-8F1F-17D2BC73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8FB67-7338-49BE-93B5-1617CFB2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E19ED0-2F20-4369-B791-9784BDB8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9A15E-17DB-4B09-9A10-65ABEC36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93A2E5-1D3E-47EC-98F6-906FC177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45F59C-7C08-4183-BD9B-780F3C01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2E83-4F4F-4A2B-B0DF-E802370B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8F8A13-A30D-4346-A307-FA687011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F39CE1-8C93-46ED-BAEF-9D754796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22180-93AD-4A72-AB3B-4731A8B6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76AC3C-1573-4049-905A-69A1D428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9AFC2D-89A8-49B3-A7CD-8FA204F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5F4049-0921-4A2C-B63F-75689830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B3827-6E78-4D6A-9DAD-60C56126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D9F7F-5BBA-4A4E-9B78-967EEABC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F06CE-4723-441D-B3F7-0B21D813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0899BC-6A5D-4017-81D3-A50D759F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84F9-458B-46FB-BE26-94F7129D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18067B-7803-47D7-ADED-0443FF34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346403-3A34-4E6B-81B1-EE9990FF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620FB7-7965-44A2-B7BA-2712BF63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CB647-A377-4498-9E5D-81ECEE37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D35B54-79E2-4276-A835-131FDFB1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D6DE21-0415-47B1-997C-B0E730B3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209F49-45DC-4D7A-B5F9-C5B1F885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D112EF-655E-4A22-A7C2-B644B384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6B0A4-5CF9-42B9-B4C1-580AF7C2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23C9F-9850-4BD4-8BFE-8DDC0A19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F8C0-B062-4EBF-A092-2263776F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7F01EE-7637-4F00-A753-3F8F5D98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361C9A-C2CD-4653-BAB6-A65D27AD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040A8F-1E8B-4D9F-86AA-E561C15B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989FB3-F1F2-4D04-86D0-119DB513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1652D3-C3E1-45FC-A6D1-A93D78AD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1CCD8B-B6DB-4088-A5CE-32848BC8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A98AC-209A-4BF1-9464-4EBD563C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2862E1-9715-42AF-93CE-18977A6A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087794-B378-4853-A57D-131F4CDA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0CEE59-F533-430F-98EC-C4C2FE12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DC82C-26BC-452B-B1C2-42AA2C60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7F5C6-119B-44DB-B637-5579DF3E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F0A0B-CB3D-47C7-BE0B-B972B0C4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FA0B9D-3E6C-47EA-8ED3-43C12B94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3BD0C8-5FCC-4299-B487-50ECD139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2B6BEC-F12A-45CE-9E5E-87F1B924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C5526D-4FAF-4AF8-8A6F-7D81DB46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298044-272E-4CAD-B230-0E34CF5E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3B1FC9-4326-4348-A12A-1511A93D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45A0E3-78EF-47FB-92C2-0E05A5E7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260B46-1D72-4956-A6AB-5E2283AA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33E5-9C91-410A-9E09-6C3D83DD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19B4FA-58FB-471E-AC45-8BBB3BA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2B24AB-7400-442F-8108-42B86321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4D3E05-4941-49FA-B784-8101E9DB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930BDA-E127-4A34-A4D6-AC3B0274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279FCB-B3C8-4CF9-99F5-785CC09E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6AE2C7-8DF0-457C-B84D-F0F50E4E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6A0F76-1F01-45F0-A0E3-C830C560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FC3018-2850-4A5D-AA57-66F118D2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BF57C9-A89D-46AE-A382-B3BDE6D4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662F6D-F536-4D53-BF7E-C19620F5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41562-A0BD-4644-A1E3-FB90B05F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754C14-4FE8-4654-942E-DBE9C0E2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8E65E1-D513-4544-B7D8-D79C8F2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294579-03ED-42E0-9E17-8ABF4ED0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603E69-EEEC-448B-9DE2-54800F39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724714-0516-42EB-B32B-CC04005F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673BCE-34DA-406E-866D-8C794383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587524-540D-4DF0-A465-DFA4A192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0085A-29D8-4289-B1CD-9FCB8776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4C5C-3BC9-4825-8330-74045F0C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61E-C94F-455A-B4EA-95DB2850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2E174-5038-4AAF-952E-03EBDB93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735A-69FA-47C4-8881-0F47DE2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C17A-5D05-4BF7-8444-D15AFED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B2B4-7991-417F-8AC5-10C0065A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0EA04-2223-47CD-A648-2B4DE352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90BCA-9B11-4533-8431-0F412BA8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20E2-69B9-4941-9926-240B230E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C0A1F-6811-4143-B5D6-84D2F784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56426-FE42-4A6B-B595-171118C7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0F282-B7CD-43B8-BC1C-03F931DA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86B-115D-4C3F-989A-9B1E2818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07DE5-2F52-433A-9140-D9A3FD79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B9B3C-C41F-4E4E-9347-5A1E2A1F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2E404-9887-40C6-9F62-38AF407D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198D6-9E96-45B8-91D9-C8FBA15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E411-25D8-45D9-A913-498C7B62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06954-9CEF-4C99-96B9-8166899B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435FE-31BB-4BC3-BD5F-7516FB15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5120A-1B06-41E5-91AF-C213A0C3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6B02D-E931-46A4-902C-1B0BF804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79521-78CC-468B-9EB3-EBC5AA28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772-A38E-4802-8580-C1A5C969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C03E4-1736-409A-AE0F-C8D48A45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93E83-3B6D-4238-A948-0B486065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619BB-7994-49D0-B553-6F099760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1B2CB-FE98-4E51-AAB0-EA8593A4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F324C-0E47-4441-A2AB-6297B6D3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41AFA-906E-44B2-8F13-F052A7C5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0EBB2-E285-4A0E-A3FE-079B9189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72E72-7E72-4D95-89C7-B8E914C8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DED4E-403E-4BCE-9A35-CC1FDC56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F2D07-684C-4739-9EBA-F915DC30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23F-A9F2-498F-96B5-93CCAB6F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70DA8-DC27-414B-A805-560B9A4C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FF3BD-669E-4DBD-8C47-04E1FF09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6D09B-7EC1-4C98-B56F-6826034E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3E9E5-D419-4823-9422-23D062DE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CFEB7-EBC7-4F60-865D-9113545B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283F4-7DC9-4698-A4F8-54256CB1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EB45-96A3-4141-BB6E-302006B6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5D120-8C83-4BF4-B9BA-0929CC06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75508-3C8A-47E9-AC03-C7366902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2BA99-6A10-4FA3-8183-B1F67CFA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849-E9CA-4DE5-AEAC-9BEDD12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D014F-B69C-4279-83C2-749C1743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1AF1E-F889-42B4-A839-040A830F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ECDA5-27FD-4CA0-B6C6-343FF8DD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8F205-B173-4F40-81AD-7EAB68FD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1E55A-1CF9-4BE8-8F25-1531837D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47BF2-E7F9-4DA3-9C21-88CB3EE1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FB1CF-6C27-468B-8D95-2B50712C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56068-94AE-4FAE-8741-9EABEBF8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7E65B-FB0C-4B1C-95A9-9E46D7D0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E3860-A315-4D43-BDF0-37F1FDFF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4E0-2B6D-448E-82A2-670CF27B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5FB9D-B19A-4D76-A3D1-90EFC903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B4AD8-6827-40F5-863C-B105B98E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AA632-AFCD-40E0-A1FD-69FA7534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C57B6-C701-49F0-A9CF-818DC9DF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C7D15-729D-4171-8DFE-EB28268A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12F5D-17F8-4C69-A8BC-C2ACFF5E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233ED-0238-4A83-A312-30305F79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D97E1-1686-40FB-A3E9-F3F5C548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133ED-EB14-4797-A01F-3EF00AE9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9A1E7-E13B-48E4-9D7A-36ABBF60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401-9C6D-4D0C-B285-91D4FFE5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BCC9E-75C1-463E-8BAF-827FB575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E1415-D9EB-4104-962C-EB5E8769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1F867-E070-407E-8B2A-D89D1AD5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62558-E9E0-44C6-B037-C2A2F63B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FB7E6-6CD5-48D3-B71D-A59379C0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A5A9B-B6ED-4E04-9565-18C4AE07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0783D-4C47-41A1-B208-74169C56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71999-F181-4358-B1E5-999AB2AF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E8BBE-65D3-4AE1-A5A8-B3E67070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17E64-3BC6-4365-8DDE-7F2A6638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82D0-61E6-44BC-B734-CEEB32FE4E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CEAE-AE93-499D-A0B0-F71D5CDFCB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4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4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4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4EED-F66D-44C0-A1EB-3448826DCF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96B2-4770-4EF6-B260-534FCA726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31BE-0B10-4CA1-8697-E956E9006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183D-3680-4824-94D9-841CC77871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9D18-EB9A-408D-BA1E-0E0C689C3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1796-891C-45C0-ABD2-C8CF7EF8E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C4E7-9948-46EE-9A1C-71D087C41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5896-1B64-43C3-AA00-38F8C4AAE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73DD-C2E7-45C8-AA33-A71806B7E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6009-33B8-49E7-BA60-220053F8A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9F99-3C49-405D-AF0F-269B3B7C9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FFA4-967E-4B57-BB7E-7829C717E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C025-80DD-44AB-A2E6-400ADBBEB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07CF-3B80-4068-B036-AC01139EA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0EF3-5104-4D61-A87B-C397DA18639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9A6A-597B-4567-8427-517AF46381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FFC8-F721-4EE8-AFC0-841432D6E3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CAC3-0B32-4C8A-9184-A64F9CD6D1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81A-C169-4E17-8E49-CE2C0E64CF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554E-CF96-4D36-A346-CA574B565C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4AD0-145C-4031-827D-F8464FD77C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google.ru/imgres?imgurl=http://www.fotoart.org.ua/albums/userpics/namib_desert_namibia.jpg&amp;imgrefurl=http://www.fotoart.org.ua/displayimage.php?album%3D102%26pos%3D7&amp;usg=__7PaDsfjyOg3Ly0oKZBINkDTPpL0=&amp;h=1024&amp;w=1280&amp;sz=365&amp;hl=ru&amp;start=3&amp;zoom=1&amp;um=1&amp;itbs=1&amp;tbnid=BON9fcvdhwU0RM:&amp;tbnh=120&amp;tbnw=150&amp;prev=/images?q%3D&#1085;&#1072;&#1084;&#1080;&#1073;%26um%3D1%26hl%3Dru%26newwindow%3D1%26sa%3DG%26gbv%3D2%26tbs%3Disch:1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google.ru/imgres?imgurl=http://www.zastavki.com/pictures/1152x864/2008/World_Africa_Tok_Tokkie___Namib_Desert___Namibia___Africa_008892_.jpg&amp;imgrefurl=http://www.zastavki.com/rus/World/Africa/wallpaper-8892-9.htm&amp;usg=__ybYHJLZcG6MdQbOd_HtU7cbZea4=&amp;h=864&amp;w=1152&amp;sz=305&amp;hl=ru&amp;start=17&amp;zoom=1&amp;um=1&amp;itbs=1&amp;tbnid=cThxgO2TUVG9eM:&amp;tbnh=113&amp;tbnw=150&amp;prev=/images?q%3D&#1085;&#1072;&#1084;&#1080;&#1073;%26um%3D1%26hl%3Dru%26newwindow%3D1%26sa%3DG%26gbv%3D2%26tbs%3Disch:1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www.google.ru/imgres?imgurl=http://www.phototravels.net/namibia/ndv1/namib-desert-v-98.2.jpg&amp;imgrefurl=http://www.phototravels.net/namibia/namib-desert-trees.html&amp;usg=__yLG4MuGEFWt9NqtQo4hkvqjOsis=&amp;h=328&amp;w=497&amp;sz=37&amp;hl=ru&amp;start=2&amp;zoom=1&amp;um=1&amp;itbs=1&amp;tbnid=WblrS-i-0IwLwM:&amp;tbnh=86&amp;tbnw=130&amp;prev=/images?q%3D&#1085;&#1072;&#1084;&#1080;&#1073;%26um%3D1%26hl%3Dru%26newwindow%3D1%26sa%3DG%26gbv%3D2%26tbs%3Disch:1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www.google.ru/imgres?imgurl=http://i1.trekearth.com/photos/17939/huge_welwitschia_mirabilis.jpg&amp;imgrefurl=http://www.trekearth.com/gallery/Africa/Angola/South/Cunene/photo159002.htm&amp;usg=__7lWFTsvx6nabSYQM_Gn_8pAswlA=&amp;h=517&amp;w=800&amp;sz=170&amp;hl=ru&amp;start=16&amp;zoom=1&amp;um=1&amp;itbs=1&amp;tbnid=OhCSBE3b15ozVM:&amp;tbnh=92&amp;tbnw=143&amp;prev=/images?q%3D&#1074;&#1077;&#1083;&#1100;&#1074;&#1080;&#1095;&#1080;&#1103;%26um%3D1%26hl%3Dru%26newwindow%3D1%26sa%3DG%26gbv%3D2%26tbs%3Disch:1" TargetMode="External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4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Rectangle 2" descr=""/>
          <p:cNvPicPr/>
          <p:nvPr/>
        </p:nvPicPr>
        <p:blipFill>
          <a:blip r:embed="rId1"/>
          <a:stretch/>
        </p:blipFill>
        <p:spPr>
          <a:xfrm>
            <a:off x="73080" y="433440"/>
            <a:ext cx="9077400" cy="5675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6" descr="namib_desert_namib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2147760" cy="17175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8" descr="World_Africa_Tok_Tokkie___Namib_Desert___Namibia___Africa_008892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148428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0" descr="namib-desert-v-9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260280"/>
            <a:ext cx="2606760" cy="1724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2" descr="huge_welwitschia_mirabili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1557360"/>
            <a:ext cx="2881440" cy="18540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4" descr="vv02"/>
          <p:cNvPicPr/>
          <p:nvPr/>
        </p:nvPicPr>
        <p:blipFill>
          <a:blip r:embed="rId10"/>
          <a:stretch/>
        </p:blipFill>
        <p:spPr>
          <a:xfrm>
            <a:off x="6516720" y="4581360"/>
            <a:ext cx="2448000" cy="1525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6" descr="velvichiya"/>
          <p:cNvPicPr/>
          <p:nvPr/>
        </p:nvPicPr>
        <p:blipFill>
          <a:blip r:embed="rId11"/>
          <a:stretch/>
        </p:blipFill>
        <p:spPr>
          <a:xfrm>
            <a:off x="250920" y="4292640"/>
            <a:ext cx="2700360" cy="20192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8" descr="06"/>
          <p:cNvPicPr/>
          <p:nvPr/>
        </p:nvPicPr>
        <p:blipFill>
          <a:blip r:embed="rId12"/>
          <a:stretch/>
        </p:blipFill>
        <p:spPr>
          <a:xfrm>
            <a:off x="3492360" y="3500280"/>
            <a:ext cx="2438640" cy="2571840"/>
          </a:xfrm>
          <a:prstGeom prst="rect">
            <a:avLst/>
          </a:prstGeom>
          <a:ln w="0">
            <a:noFill/>
          </a:ln>
        </p:spPr>
      </p:pic>
      <p:sp>
        <p:nvSpPr>
          <p:cNvPr id="1042" name="Text Box 19"/>
          <p:cNvSpPr/>
          <p:nvPr/>
        </p:nvSpPr>
        <p:spPr>
          <a:xfrm>
            <a:off x="3419640" y="549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Нами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Text Box 21"/>
          <p:cNvSpPr/>
          <p:nvPr/>
        </p:nvSpPr>
        <p:spPr>
          <a:xfrm>
            <a:off x="6732720" y="386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Вельвич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Text Box 22"/>
          <p:cNvSpPr/>
          <p:nvPr/>
        </p:nvSpPr>
        <p:spPr>
          <a:xfrm>
            <a:off x="4067280" y="602136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Соленый ку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23"/>
          <p:cNvSpPr/>
          <p:nvPr/>
        </p:nvSpPr>
        <p:spPr>
          <a:xfrm>
            <a:off x="4067280" y="6021360"/>
            <a:ext cx="97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Rectangle 4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8454960" cy="1212840"/>
          </a:xfrm>
          <a:prstGeom prst="rect">
            <a:avLst/>
          </a:prstGeom>
          <a:ln w="0">
            <a:noFill/>
          </a:ln>
        </p:spPr>
      </p:pic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472464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Зона пустыни и полупустыни- это одна из наиболее обширных природных зон мира. Сейчас идёт процесс роста численности населения планеты. Это значит. Что увеличивается потребность в сельскохозяйственных продуктах. Для решения проблем можно предложить два пути: во-первых, увеличить производительность почв и создавать высокоурожайные сорта растений. А во-вторых, найти такие почвы , которые можно будет использовать в сельском хозяйстве сверх существующие пахотных и обрабатываемых земел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48" name="Picture 7" descr=""/>
          <p:cNvPicPr/>
          <p:nvPr/>
        </p:nvPicPr>
        <p:blipFill>
          <a:blip r:embed="rId2"/>
          <a:stretch/>
        </p:blipFill>
        <p:spPr>
          <a:xfrm>
            <a:off x="4761000" y="1731960"/>
            <a:ext cx="4273560" cy="3894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Rectangle 4" descr=""/>
          <p:cNvPicPr/>
          <p:nvPr/>
        </p:nvPicPr>
        <p:blipFill>
          <a:blip r:embed="rId1"/>
          <a:stretch/>
        </p:blipFill>
        <p:spPr>
          <a:xfrm>
            <a:off x="-55440" y="152280"/>
            <a:ext cx="9242280" cy="1401840"/>
          </a:xfrm>
          <a:prstGeom prst="rect">
            <a:avLst/>
          </a:prstGeom>
          <a:ln w="0">
            <a:noFill/>
          </a:ln>
        </p:spPr>
      </p:pic>
      <p:sp>
        <p:nvSpPr>
          <p:cNvPr id="991" name="Rectangle 13"/>
          <p:cNvSpPr/>
          <p:nvPr/>
        </p:nvSpPr>
        <p:spPr>
          <a:xfrm>
            <a:off x="152280" y="1305000"/>
            <a:ext cx="4343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ad1f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 юго-востоке Восточно-Европейской равнины, по северо-западной окраине Прикаспийской низменности простираются зоны полупустынь и пустынь России. В отличие от тундры и тайги зона не образует сплошной широтной полосы. Ее большая часть осталась на территории Казахстана и Средней Аз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2" name="Picture 15" descr=""/>
          <p:cNvPicPr/>
          <p:nvPr/>
        </p:nvPicPr>
        <p:blipFill>
          <a:blip r:embed="rId2"/>
          <a:stretch/>
        </p:blipFill>
        <p:spPr>
          <a:xfrm>
            <a:off x="4657680" y="1447920"/>
            <a:ext cx="4152960" cy="21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3" name="Picture 16" descr=""/>
          <p:cNvPicPr/>
          <p:nvPr/>
        </p:nvPicPr>
        <p:blipFill>
          <a:blip r:embed="rId3"/>
          <a:stretch/>
        </p:blipFill>
        <p:spPr>
          <a:xfrm>
            <a:off x="4724280" y="3887640"/>
            <a:ext cx="4114800" cy="27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Rectangle 4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8564400" cy="1487520"/>
          </a:xfrm>
          <a:prstGeom prst="rect">
            <a:avLst/>
          </a:prstGeom>
          <a:ln w="0">
            <a:noFill/>
          </a:ln>
        </p:spPr>
      </p:pic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4953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 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холодные, лето жаркое. Осадков в этой зоне мало 250мм в год. Испаряемость в 4-7раз превышает количество осадков. Средняя температура июля в полупустынях +24…+26 градусов, а в пустынях +26…+30градусов, а в январе -10-20 градусов. 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838080" y="38862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7" name="Picture 9" descr=""/>
          <p:cNvPicPr/>
          <p:nvPr/>
        </p:nvPicPr>
        <p:blipFill>
          <a:blip r:embed="rId2"/>
          <a:stretch/>
        </p:blipFill>
        <p:spPr>
          <a:xfrm>
            <a:off x="5065560" y="2189160"/>
            <a:ext cx="4042080" cy="2784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Rectangle 4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8564400" cy="148752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лупустынях и пустынях есть  растения : верблюжая колючка, лотос, эфемеры, полынь др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0" name="Picture 7" descr=""/>
          <p:cNvPicPr/>
          <p:nvPr/>
        </p:nvPicPr>
        <p:blipFill>
          <a:blip r:embed="rId2"/>
          <a:stretch/>
        </p:blipFill>
        <p:spPr>
          <a:xfrm>
            <a:off x="5213520" y="1295280"/>
            <a:ext cx="377820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1" name="Picture 8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52387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2" name="Picture 9" descr=""/>
          <p:cNvPicPr/>
          <p:nvPr/>
        </p:nvPicPr>
        <p:blipFill>
          <a:blip r:embed="rId4"/>
          <a:stretch/>
        </p:blipFill>
        <p:spPr>
          <a:xfrm>
            <a:off x="6172200" y="4572000"/>
            <a:ext cx="2705040" cy="2028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Rectangle 4" descr=""/>
          <p:cNvPicPr/>
          <p:nvPr/>
        </p:nvPicPr>
        <p:blipFill>
          <a:blip r:embed="rId1"/>
          <a:stretch/>
        </p:blipFill>
        <p:spPr>
          <a:xfrm>
            <a:off x="122400" y="171360"/>
            <a:ext cx="8564400" cy="149220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чва полупустыни- каштановы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чва пустыни- серозём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5" name="Picture 7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809880" cy="2505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06" name="Picture 8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342900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07" name="Picture 9" descr=""/>
          <p:cNvPicPr/>
          <p:nvPr/>
        </p:nvPicPr>
        <p:blipFill>
          <a:blip r:embed="rId4"/>
          <a:stretch/>
        </p:blipFill>
        <p:spPr>
          <a:xfrm>
            <a:off x="4552920" y="4419720"/>
            <a:ext cx="4133880" cy="3833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Rectangle 4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8564400" cy="14875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3" descr=""/>
          <p:cNvPicPr/>
          <p:nvPr/>
        </p:nvPicPr>
        <p:blipFill>
          <a:blip r:embed="rId2"/>
          <a:stretch/>
        </p:blipFill>
        <p:spPr>
          <a:xfrm>
            <a:off x="4956120" y="1146240"/>
            <a:ext cx="4035600" cy="26766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4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2189160" cy="27302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5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2389320" cy="124308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реди животных полупустыни особенно многочисленны зайцы, грызуны (суслики, тушканчики, песчанки, полевки, хомячки) и пресмыкающиеся; из копытных – антилопы, безоаровый козел, муфлон, кулан и др. Из мелких хищников повсеместно распространены: шакал, полосатая гиена, каракал, степная кошка, лисица-фенек и др. Довольно разнообразны птицы. Много насекомых и паукообразных (каракурт, скорпионы, фаланги)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0" descr="1203880865_4_oasis_kolomensky_com"/>
          <p:cNvPicPr/>
          <p:nvPr/>
        </p:nvPicPr>
        <p:blipFill>
          <a:blip r:embed="rId2"/>
          <a:stretch/>
        </p:blipFill>
        <p:spPr>
          <a:xfrm>
            <a:off x="2268360" y="2505240"/>
            <a:ext cx="6875640" cy="43527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1" descr=""/>
          <p:cNvPicPr/>
          <p:nvPr/>
        </p:nvPicPr>
        <p:blipFill>
          <a:blip r:embed="rId3"/>
          <a:stretch/>
        </p:blipFill>
        <p:spPr>
          <a:xfrm>
            <a:off x="0" y="0"/>
            <a:ext cx="4797360" cy="3011400"/>
          </a:xfrm>
          <a:prstGeom prst="rect">
            <a:avLst/>
          </a:prstGeom>
          <a:ln w="0">
            <a:noFill/>
          </a:ln>
        </p:spPr>
      </p:pic>
      <p:sp>
        <p:nvSpPr>
          <p:cNvPr id="1018" name="Text Box 12"/>
          <p:cNvSpPr/>
          <p:nvPr/>
        </p:nvSpPr>
        <p:spPr>
          <a:xfrm>
            <a:off x="5079960" y="476280"/>
            <a:ext cx="357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Тропические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пустын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0" descr="i-1870"/>
          <p:cNvPicPr/>
          <p:nvPr/>
        </p:nvPicPr>
        <p:blipFill>
          <a:blip r:embed="rId2"/>
          <a:stretch/>
        </p:blipFill>
        <p:spPr>
          <a:xfrm>
            <a:off x="5580000" y="208080"/>
            <a:ext cx="3564000" cy="27860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1" descr="Триполи"/>
          <p:cNvPicPr/>
          <p:nvPr/>
        </p:nvPicPr>
        <p:blipFill>
          <a:blip r:embed="rId3"/>
          <a:stretch/>
        </p:blipFill>
        <p:spPr>
          <a:xfrm>
            <a:off x="2050920" y="3427560"/>
            <a:ext cx="5148360" cy="3430440"/>
          </a:xfrm>
          <a:prstGeom prst="rect">
            <a:avLst/>
          </a:prstGeom>
          <a:ln w="431640">
            <a:solidFill>
              <a:srgbClr val="ffffff"/>
            </a:solidFill>
            <a:miter/>
          </a:ln>
        </p:spPr>
      </p:pic>
      <p:sp>
        <p:nvSpPr>
          <p:cNvPr id="1024" name="Rectangle 12"/>
          <p:cNvSpPr/>
          <p:nvPr/>
        </p:nvSpPr>
        <p:spPr>
          <a:xfrm>
            <a:off x="3851280" y="621648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риполи – самое жаркое место на Земл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i="1" lang="el-GR" sz="1800" spc="-1" strike="noStrike">
                <a:solidFill>
                  <a:srgbClr val="ff0000"/>
                </a:solidFill>
                <a:latin typeface="Arial"/>
              </a:rPr>
              <a:t>Τ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+58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°C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5" name="Picture 14" descr="Sahara_photo1"/>
          <p:cNvPicPr/>
          <p:nvPr/>
        </p:nvPicPr>
        <p:blipFill>
          <a:blip r:embed="rId4"/>
          <a:stretch/>
        </p:blipFill>
        <p:spPr>
          <a:xfrm>
            <a:off x="1403280" y="260280"/>
            <a:ext cx="4032360" cy="2676600"/>
          </a:xfrm>
          <a:prstGeom prst="rect">
            <a:avLst/>
          </a:prstGeom>
          <a:ln w="0">
            <a:noFill/>
          </a:ln>
        </p:spPr>
      </p:pic>
      <p:sp>
        <p:nvSpPr>
          <p:cNvPr id="1026" name="Text Box 16"/>
          <p:cNvSpPr/>
          <p:nvPr/>
        </p:nvSpPr>
        <p:spPr>
          <a:xfrm>
            <a:off x="1692360" y="2708280"/>
            <a:ext cx="30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Большая пустыня плане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Text Box 17"/>
          <p:cNvSpPr/>
          <p:nvPr/>
        </p:nvSpPr>
        <p:spPr>
          <a:xfrm>
            <a:off x="6516720" y="27082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Песчанная бур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6" descr="EthnAfrica"/>
          <p:cNvPicPr/>
          <p:nvPr/>
        </p:nvPicPr>
        <p:blipFill>
          <a:blip r:embed="rId2"/>
          <a:stretch/>
        </p:blipFill>
        <p:spPr>
          <a:xfrm>
            <a:off x="1692360" y="476280"/>
            <a:ext cx="6048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0:30:35Z</dcterms:created>
  <dc:creator>111</dc:creator>
  <dc:description/>
  <dc:language>en-US</dc:language>
  <cp:lastModifiedBy>Ribak</cp:lastModifiedBy>
  <dcterms:modified xsi:type="dcterms:W3CDTF">2014-02-16T17:22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44000000000001024140</vt:lpwstr>
  </property>
  <property fmtid="{D5CDD505-2E9C-101B-9397-08002B2CF9AE}" pid="3" name="Version">
    <vt:r8>1</vt:r8>
  </property>
</Properties>
</file>