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EDEE-664F-40E7-8097-FD3F5CAF78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1944-DDCB-42A5-BBB0-1B4D9CD7E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E2E8-4331-4134-B25B-29EE4F38FA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726-A205-4977-846B-D02954F216B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850-62F7-411B-AA6D-B703FB06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F19-EF1C-4721-8805-C89F002B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13C-72C7-460C-826A-196A3716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AEA-3D7F-4536-9504-13777247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1A9-9F37-444E-95D4-0D494ABC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F3BD-7C18-4D3B-80F7-224ECB7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15C7-674F-4DC5-B08E-5AC9CD4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7059-D517-42CD-B9C9-648E09C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EA3-6ACD-440A-88A7-585D0216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8488-9A59-43FF-AD19-B0129ED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583F-CB41-40AE-A2A8-4810827A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F92-E1BE-49C1-ABC8-AB20E6B3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303-917F-4E6A-8922-8F56185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8B5-40B2-4EB5-8D15-19EF192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11B3-295D-4436-B8FE-14935251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2FCE-5A77-43D2-8E7A-78EFA5D8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2240-0FB8-4330-B3D9-100CC095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765E-E631-4C80-B515-E36DA26C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7D3B-24AB-417E-BCF7-BBF1EB3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E6E7-1253-401C-B5A8-10148AC0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4B2B-6B8F-4557-A579-07B1610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A47B-30FF-48F2-9667-81CE0596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320-91C8-4022-8D38-941D0F52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9F36-48BA-47AA-BAFF-F38A810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A27A-B6B3-43FD-88A4-116D223C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30F1-D01B-4B32-96B1-F393B1C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A96B-41DE-40BB-89AD-1F023A3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F1BD-5A89-4ACC-846A-9F4ECEDC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C9C9-24C3-41D7-AE78-EC9115A9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0F0D-CF82-4BB7-9C40-8380F194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968-ECB0-4CFA-B48E-16B413B2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BA4-48A9-4380-BF6B-ED3077D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820-27F4-463B-A612-1DEAA6C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199-1E39-4812-B197-3797CE22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737-93C5-498C-8928-167B1B68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42F-3D37-472F-9F3F-6EF0625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565C-584E-49ED-A077-996B915C97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FE62-537E-4EBB-947A-16FF76FF0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690-F122-450D-A97D-E3BE709C5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oogle.ru/imgres?imgurl=http://dic.academic.ru/pictures/wiki/files/80/Pelikan_Walvis_Bay.jpg&amp;imgrefurl=http://dic.academic.ru/dic.nsf/ruwiki/45986&amp;usg=__KCepR8D9K8659wQicTcN5Bvm4Kc=&amp;h=2448&amp;w=3264&amp;sz=1279&amp;hl=ru&amp;start=18&amp;zoom=1&amp;um=1&amp;itbs=1&amp;tbnid=tPZdfVl9RR_06M:&amp;tbnh=113&amp;tbnw=150&amp;prev=/images?q%3D&#1087;&#1077;&#1083;&#1080;&#1082;&#1072;&#1085;%26um%3D1%26hl%3Dru%26newwindow%3D1%26sa%3DG%26gbv%3D2%26tbs%3Disch: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google.ru/imgres?imgurl=http://sigils.ru/symbols/img/pelikan01.jpg&amp;imgrefurl=http://sigils.ru/symbols/pelikan.html&amp;usg=__Uhcv0wnwEINiwfZy3aQ_4M5qYRM=&amp;h=600&amp;w=490&amp;sz=49&amp;hl=ru&amp;start=11&amp;zoom=1&amp;um=1&amp;itbs=1&amp;tbnid=UPzsW_iKlVLQfM:&amp;tbnh=135&amp;tbnw=110&amp;prev=/images?q%3D&#1087;&#1077;&#1083;&#1080;&#1082;&#1072;&#1085;%26um%3D1%26hl%3Dru%26newwindow%3D1%26sa%3DG%26gbv%3D2%26tbs%3Disch:1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6193080" cy="3322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83920" y="260280"/>
            <a:ext cx="78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Жестколист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вечнозелены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еса и кустарники Аф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93600" y="5888160"/>
            <a:ext cx="82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полнил ученик 7-Б класса Альпер Макс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ография и 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уше средиземноморский климат переходит с повышением широты (ближе к полюсам) в зоны океанического или приморского климата, для которого характерны обильные летние дожди, а с понижением широты (ближе к экватору) - в засушливые (в летнее время) степи с нечастыми дождями в зимне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венный соста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760" indent="193680" algn="just">
              <a:lnSpc>
                <a:spcPct val="8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жание гумуса равно 4—7%, преобладают гуминовые кислоты. Следовательно, естественное плодородие почв весьма вы­сокое. Обилие карбонатов ведет, в частности, к развитию богатой фауны наземных раковинных моллюс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тоянно влажных субтропических и умеренных дождевых и лавролистных лесах представлены красно­земы и желтоземы, имеющие промывной режим и накапливающие менее подвижные продукты выветривания — свободные гидроксиды алюминия и железа. Почвы эти малогумусные, кислые, в них выражены также процессы оподзоливания (они приостанавливают­ся на основных материнских породах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3760" indent="193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жестколистных лесов в среднем достигает 15—20 м, лишь высота эвкалиптовых лесов кэрри соответствующего типа может составлять 40—50 м. Нередки также разреженные древо­стой с кустарниками, а также чисто кустарниковые жестколистные формации (маквис, чапарраль, мали-скраб). Часто представлен единственный древесный ярус, бывают двухъярусные леса. Кроме преобладающей жизненной формы жестколистных деревьев и кус­тарников, которая конвергентно образовалась у видов разных се­мейств и на разных материках, представлены и другие, как прави­ло, более характерные для отдельных регионо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термитов этого ви­да составляет 600 экз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биомасс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и явно домини­руют среди гетеротрофов. Правда, это единственный вид, сооружающий заметные термитники. Остальные 11 видов обитают в толще грунта или в стволах упавших деревьев. Самый массовый N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ios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тается упавшими стволами деревьев, пнями, сухими сучья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же местах наиболее обыч­ными оказались крупные мокрицы, земляные черви, тараканы и кивсяки, живущие в норках. В склерофилльных сообществах Ав­стралии обычны земляные черви из семейства мегасколецид и глоссосколецид, а также позднее завезенные из Европы дождевые черви-люмбрици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хищный образ жизни ведут взрослые амфибии. В пределах Средиземноморья обычны некоторые жабы, древесные квакши. Многочисленны разнообразные ящерицы, многие из ко­торых быстро бегают по скалам, обрывам и стволам деревьев (группа стенных и скальных ящериц, геккон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 algn="just">
              <a:lnSpc>
                <a:spcPts val="1049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203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43976222_Tyuleni__Monahi2"/>
          <p:cNvPicPr/>
          <p:nvPr/>
        </p:nvPicPr>
        <p:blipFill>
          <a:blip r:embed="rId2"/>
          <a:stretch/>
        </p:blipFill>
        <p:spPr>
          <a:xfrm>
            <a:off x="5508720" y="214200"/>
            <a:ext cx="3311280" cy="2338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-3178"/>
          <p:cNvPicPr/>
          <p:nvPr/>
        </p:nvPicPr>
        <p:blipFill>
          <a:blip r:embed="rId3"/>
          <a:stretch/>
        </p:blipFill>
        <p:spPr>
          <a:xfrm>
            <a:off x="1332000" y="260280"/>
            <a:ext cx="3673440" cy="22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G_9145g"/>
          <p:cNvPicPr/>
          <p:nvPr/>
        </p:nvPicPr>
        <p:blipFill>
          <a:blip r:embed="rId4"/>
          <a:stretch/>
        </p:blipFill>
        <p:spPr>
          <a:xfrm>
            <a:off x="5076720" y="2781360"/>
            <a:ext cx="3143520" cy="208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Pelikan_Walvis_Ba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2781360"/>
            <a:ext cx="2255760" cy="169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pelikan0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781360"/>
            <a:ext cx="1876320" cy="23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rt6799_0"/>
          <p:cNvPicPr/>
          <p:nvPr/>
        </p:nvPicPr>
        <p:blipFill>
          <a:blip r:embed="rId9"/>
          <a:stretch/>
        </p:blipFill>
        <p:spPr>
          <a:xfrm>
            <a:off x="468360" y="4797360"/>
            <a:ext cx="2374920" cy="1784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024130_41"/>
          <p:cNvPicPr/>
          <p:nvPr/>
        </p:nvPicPr>
        <p:blipFill>
          <a:blip r:embed="rId10"/>
          <a:stretch/>
        </p:blipFill>
        <p:spPr>
          <a:xfrm>
            <a:off x="6372360" y="4941720"/>
            <a:ext cx="25668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RedSo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Финиковая па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phoenix_dactylifera240"/>
          <p:cNvPicPr/>
          <p:nvPr/>
        </p:nvPicPr>
        <p:blipFill>
          <a:blip r:embed="rId2"/>
          <a:stretch/>
        </p:blipFill>
        <p:spPr>
          <a:xfrm>
            <a:off x="205092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кологически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области жестколистной растительности в настоящее время сильно видоизменены деятельностью человека. Площадь лесов со­кратилась, а кустарниковых и кустарничковых ксерофитных фор­маций, напротив, увеличилас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лываемые земли весьма сходны и по составу культурных растений. Это цитрусовые, виноград, маслины, инжир (фига), пшеница. Очень сходны декоративные растения в садах и цветни­ках, а также распространившиеся за последние столетия сорные раст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4400" indent="206280" algn="just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розия поч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3:41:35Z</dcterms:created>
  <dc:creator>Ribak</dc:creator>
  <dc:description/>
  <dc:language>en-US</dc:language>
  <cp:lastModifiedBy>Ribak</cp:lastModifiedBy>
  <dcterms:modified xsi:type="dcterms:W3CDTF">2014-02-16T17:22:35Z</dcterms:modified>
  <cp:revision>4</cp:revision>
  <dc:subject/>
  <dc:title>Жестколистные леса и кустарники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6000000000001024140</vt:lpwstr>
  </property>
</Properties>
</file>