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62A1-C895-48C5-A6AF-D81F1E4ED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1F26-AE89-4E9E-B97D-1098B6C23C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2CBC-2F1B-4AEF-8E1D-1281F6885E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B14-860D-4C3F-92E6-4039C59151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4643-2F15-4281-AA69-6C6648CAC5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90D-6FF4-40D8-8112-8D1C94255D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0776-5B57-4250-A81B-E5C32336BF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EFD-50FB-4A2E-99C2-FADA25F15F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EEC-7F74-42A0-AB94-E7C8EEF9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074-9FC8-47EC-97F5-AC1C6D4A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984-0958-446C-AF69-AAB01AF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792-6F76-4B59-AA76-1CB8B122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EEA0-54B1-46F3-A142-72245471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EBC-E12F-4223-A895-5A62F01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8D4-323B-42BC-8C0B-FCDB07F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C023-BBFA-4E13-8E5A-5DC4E2B2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0499-CBD9-43E4-B11C-742E273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313A-4CD0-4BE6-9A3E-2201BD05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90F0-BD1C-40EC-8B5A-41AF64E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959-A865-4325-A1AB-A2ADD6B0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C0EA-6798-4ED3-8EBA-745A6667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928D-E9A5-4FC2-A9A7-BA4B731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F6B2-9711-4747-A5A2-22538A7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0B91-FC0C-4D0B-80DE-13746E65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8BAD-777B-4411-8ED1-1218A343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3D62-8F9F-4215-89A0-C490CABB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A42A-A2BE-4DEC-A385-0A1C591C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0265-230B-43DB-948A-583FB3FE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9FD2-82DB-41AC-B10D-77A9A71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2F80-3EC6-4AA2-93D1-3A8E42D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29E-65FE-4D69-921E-9EEFDCE8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6B12-CE7C-4BCE-9584-71364172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78FC-6BB0-47A3-B0D4-2C01D0B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846E-B523-416F-B047-3A36B4D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1388-F5D3-4B90-9736-E04EAC1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D828A-410F-40B4-BE65-A3CB28D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830E-EADE-4ECD-A0E1-594C3D2B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BA16-8FE1-46BC-AE1D-0ECEC35A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75C-6149-49C8-8839-C84DBAB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21B-87DE-456A-B6DD-A12C9436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F3F-DFB3-48AC-B44E-022D7978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2BC-8173-4DE3-91CB-42E0A4F1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5F5-449F-4F4F-AB9E-195A3F8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693-02B3-4DF8-A7F5-A749EDC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D7D5-FCEF-482E-AE3D-C3F2F01664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3934-F07C-42D8-AF28-473D91488E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31B4-1CEA-435F-8013-01E9B384F9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hyperlink" Target="http://www.google.ru/imgres?imgurl=http://www.ecotourismblog.com/images/gorilla-70_45.jpg&amp;imgrefurl=http://www.ecotourismblog.com/entry/gorilla-safaris-earn-70-revenue-for-uganda/&amp;usg=__P7bowIQY_DI-olS8eO1UuJjjLgQ=&amp;h=600&amp;w=450&amp;sz=56&amp;hl=ru&amp;start=8&amp;zoom=1&amp;um=1&amp;itbs=1&amp;tbnid=TfEOm3UNKCQfQM:&amp;tbnh=135&amp;tbnw=101&amp;prev=/images?q%3D&#1075;&#1086;&#1088;&#1080;&#1083;&#1083;&#1072;%26um%3D1%26hl%3Dru%26newwindow%3D1%26sa%3DG%26gbv%3D2%26tbs%3Disch:1" TargetMode="Externa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Афри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858000" cy="162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ажные вечнозеленые леса Экваториальной Афри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332000" y="615312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7-Б класса Марченко Кр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Рекордсмены животного мира </a:t>
            </a:r>
            <a:br>
              <a:rPr sz="3200"/>
            </a:b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влажных экваториальных л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goliath2"/>
          <p:cNvPicPr/>
          <p:nvPr/>
        </p:nvPicPr>
        <p:blipFill>
          <a:blip r:embed="rId2"/>
          <a:stretch/>
        </p:blipFill>
        <p:spPr>
          <a:xfrm>
            <a:off x="179280" y="1628640"/>
            <a:ext cx="3124440" cy="319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f51847b27f40"/>
          <p:cNvPicPr/>
          <p:nvPr/>
        </p:nvPicPr>
        <p:blipFill>
          <a:blip r:embed="rId3"/>
          <a:stretch/>
        </p:blipFill>
        <p:spPr>
          <a:xfrm>
            <a:off x="3276720" y="1341360"/>
            <a:ext cx="2776320" cy="403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21400509_1"/>
          <p:cNvPicPr/>
          <p:nvPr/>
        </p:nvPicPr>
        <p:blipFill>
          <a:blip r:embed="rId4"/>
          <a:stretch/>
        </p:blipFill>
        <p:spPr>
          <a:xfrm>
            <a:off x="6000840" y="4076640"/>
            <a:ext cx="3143160" cy="2781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2"/>
          <p:cNvSpPr/>
          <p:nvPr/>
        </p:nvSpPr>
        <p:spPr>
          <a:xfrm>
            <a:off x="3710880" y="4869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ягушка Голи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6879960" y="42210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Улитка Аха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_2d976_900c71af_-1-XL"/>
          <p:cNvPicPr/>
          <p:nvPr/>
        </p:nvPicPr>
        <p:blipFill>
          <a:blip r:embed="rId2"/>
          <a:stretch/>
        </p:blipFill>
        <p:spPr>
          <a:xfrm>
            <a:off x="324000" y="907920"/>
            <a:ext cx="2133360" cy="2853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monifa"/>
          <p:cNvPicPr/>
          <p:nvPr/>
        </p:nvPicPr>
        <p:blipFill>
          <a:blip r:embed="rId3"/>
          <a:stretch/>
        </p:blipFill>
        <p:spPr>
          <a:xfrm>
            <a:off x="2627280" y="0"/>
            <a:ext cx="314316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pygmy-hippo-lg"/>
          <p:cNvPicPr/>
          <p:nvPr/>
        </p:nvPicPr>
        <p:blipFill>
          <a:blip r:embed="rId4"/>
          <a:stretch/>
        </p:blipFill>
        <p:spPr>
          <a:xfrm>
            <a:off x="2700360" y="2492280"/>
            <a:ext cx="3143160" cy="2457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110"/>
          <p:cNvPicPr/>
          <p:nvPr/>
        </p:nvPicPr>
        <p:blipFill>
          <a:blip r:embed="rId5"/>
          <a:stretch/>
        </p:blipFill>
        <p:spPr>
          <a:xfrm>
            <a:off x="0" y="4067280"/>
            <a:ext cx="3203640" cy="279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Animals_Beasts__002103_1"/>
          <p:cNvPicPr/>
          <p:nvPr/>
        </p:nvPicPr>
        <p:blipFill>
          <a:blip r:embed="rId6"/>
          <a:stretch/>
        </p:blipFill>
        <p:spPr>
          <a:xfrm>
            <a:off x="5759280" y="43243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gorilla-70_4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00720" y="0"/>
            <a:ext cx="2578320" cy="3446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6"/>
          <p:cNvSpPr/>
          <p:nvPr/>
        </p:nvSpPr>
        <p:spPr>
          <a:xfrm>
            <a:off x="698400" y="240984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614520" y="33336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те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3113640" y="22240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ый бегем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204000" y="522936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ока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427640" y="609300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леоп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787440" y="35211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гор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e89eb04c7ffe2001d1f20c3fb01ee029"/>
          <p:cNvPicPr/>
          <p:nvPr/>
        </p:nvPicPr>
        <p:blipFill>
          <a:blip r:embed="rId2"/>
          <a:stretch/>
        </p:blipFill>
        <p:spPr>
          <a:xfrm>
            <a:off x="468360" y="189000"/>
            <a:ext cx="3338640" cy="388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1263389105"/>
          <p:cNvPicPr/>
          <p:nvPr/>
        </p:nvPicPr>
        <p:blipFill>
          <a:blip r:embed="rId3"/>
          <a:stretch/>
        </p:blipFill>
        <p:spPr>
          <a:xfrm>
            <a:off x="4716360" y="26028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570"/>
          <p:cNvPicPr/>
          <p:nvPr/>
        </p:nvPicPr>
        <p:blipFill>
          <a:blip r:embed="rId4"/>
          <a:stretch/>
        </p:blipFill>
        <p:spPr>
          <a:xfrm>
            <a:off x="1187280" y="4797360"/>
            <a:ext cx="3143520" cy="1657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1265486142_l_147317"/>
          <p:cNvPicPr/>
          <p:nvPr/>
        </p:nvPicPr>
        <p:blipFill>
          <a:blip r:embed="rId5"/>
          <a:stretch/>
        </p:blipFill>
        <p:spPr>
          <a:xfrm>
            <a:off x="4788000" y="4005360"/>
            <a:ext cx="3573360" cy="26953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3"/>
          <p:cNvSpPr/>
          <p:nvPr/>
        </p:nvSpPr>
        <p:spPr>
          <a:xfrm>
            <a:off x="1188720" y="3645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ми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034720" y="43848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Муха Це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8" descr="iап"/>
          <p:cNvPicPr/>
          <p:nvPr/>
        </p:nvPicPr>
        <p:blipFill>
          <a:blip r:embed="rId1"/>
          <a:stretch/>
        </p:blipFill>
        <p:spPr>
          <a:xfrm>
            <a:off x="1619280" y="2060640"/>
            <a:ext cx="2305080" cy="33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CAIXSNON"/>
          <p:cNvPicPr/>
          <p:nvPr/>
        </p:nvPicPr>
        <p:blipFill>
          <a:blip r:embed="rId2"/>
          <a:stretch/>
        </p:blipFill>
        <p:spPr>
          <a:xfrm>
            <a:off x="5292720" y="3933720"/>
            <a:ext cx="251928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i?id=2450353&amp;tov=7"/>
          <p:cNvPicPr/>
          <p:nvPr/>
        </p:nvPicPr>
        <p:blipFill>
          <a:blip r:embed="rId3"/>
          <a:stretch/>
        </p:blipFill>
        <p:spPr>
          <a:xfrm>
            <a:off x="5292720" y="1916280"/>
            <a:ext cx="2879640" cy="181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 Африке различают 3 природные зон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сава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пусты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Безымянныйо"/>
          <p:cNvPicPr/>
          <p:nvPr/>
        </p:nvPicPr>
        <p:blipFill>
          <a:blip r:embed="rId1"/>
          <a:stretch/>
        </p:blipFill>
        <p:spPr>
          <a:xfrm>
            <a:off x="1450800" y="160020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AZVTHSE"/>
          <p:cNvPicPr/>
          <p:nvPr/>
        </p:nvPicPr>
        <p:blipFill>
          <a:blip r:embed="rId2"/>
          <a:stretch/>
        </p:blipFill>
        <p:spPr>
          <a:xfrm>
            <a:off x="2197080" y="4210200"/>
            <a:ext cx="1244520" cy="165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i"/>
          <p:cNvPicPr/>
          <p:nvPr/>
        </p:nvPicPr>
        <p:blipFill>
          <a:blip r:embed="rId3"/>
          <a:stretch/>
        </p:blipFill>
        <p:spPr>
          <a:xfrm>
            <a:off x="5292720" y="3610080"/>
            <a:ext cx="266400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лажные вечнозеленые леса      Экваториальной Африки. Гилея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e1"/>
                </a:solidFill>
                <a:latin typeface="Arial"/>
              </a:rPr>
              <a:t>В поясе экваториального климата постоянно влажные вечнозеленые леса (или по-другому Гилея, что с греческого обозначает лес) покрывают примерно 8 % площади материка. Они распространены в бассейне реки Конго к северу - до 4° с. ш. и к югу от экватора - до 5° ю. ш. Кроме того, эти леса занимают побережье Атлантического океана примерно до 8° с. ш. А в дельтах рек и на побережьях, затопленных во время прилива, особенно на берегах Гвинейского залива, господствуют мангровые заросли. Первичные дождевые леса сохранились только в центральной котловине реки Конго. В других местах, особенно к северу от</a:t>
            </a:r>
            <a:r>
              <a:rPr b="1" lang="ru-RU" sz="1400" spc="-1" strike="noStrike">
                <a:solidFill>
                  <a:srgbClr val="ffffe1"/>
                </a:solidFill>
                <a:latin typeface="Arial"/>
              </a:rPr>
              <a:t> Гвинейского залива, их сменили низкорослые вторичные зарос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click?url=http%3A%2F%2Fdict"/>
          <p:cNvPicPr/>
          <p:nvPr/>
        </p:nvPicPr>
        <p:blipFill>
          <a:blip r:embed="rId1"/>
          <a:stretch/>
        </p:blipFill>
        <p:spPr>
          <a:xfrm>
            <a:off x="5238720" y="1770120"/>
            <a:ext cx="3086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Растительный мир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аркий климат и обилие влаги способствуют развитию густой вечнозеленой древесной растительности. Экваториальные леса растут в несколько яру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хний ярус (высота 35-50 м) составляет сейба. Диаметр ее ствола достигает двух метров, а широкие дисковые корни поднимаются до высоты 4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нем ярусе растут различные па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Масличная, из ее плодов получают пальмовое ма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альма рафия, к которой африканцы относятся особенно трогательно. Секрет такого отношения в 10-12 метровых листьях. Пигмеи покрывают ими свои хижины, из их волокон плетут ткани, шляпы, корзины. Секрет их плетения  от тончайших как шпагат до толстостенных, как удав, - передается по наслед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Эбеновое дерево, которое тонет в воде. Цвет его древесины черный, бурый или зеленый. Цвет будет зависеть от особых микробиологических процессов в почве. Древесина его очень прочная и гибкая, из нее делают меб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ижнем ярусе растут фикусы, бананы, различные папоротники, либерийское кофейное дерево.. Фикусы вырастают в высоту 7-8 м всего за 8-10 месяцев. Ствол у них внутри полый как у травы. Солнечный свет не может проникнуть через толщину зелени и в таком лесу почти нет обычной травы и кустар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лажном экваториальном лесу растут не только самые высокие, но и самые длинные растения  это лианы. Их длина достигает более 100 м. Лианы удерживаются на других растениях с помощью цепляющихся побегов, шипов, колючек или усиков. Лианы переплетают стволы деревьев, высоко взбираются на них и оттуда свисают гирляндами, делая лесную чащу непроходимой. Среди лиан особое место занимает каучуконосная древовидная лиана ландоль-фия,  Особая группа - это растения-паразиты, которые высасывают питательные вещества из других растений. Одно из них раффлезия. Оно присасывается к корням деревь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вотный ми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жные экваториальные леса Африки имеют своеобразную фауну, но менее богатую, чем фауна, открытых пространств этого континента. В экваториальном африканском лесу мало травоядных, а следовательно, мало и хищников. Из копытных можно встретить лесных антилоп, очень осторожных и пугливых, родственных жирафу, животных - окапи. Есть также кабаны, буйволы, бегемоты. Из хищных животных встречаются дикие кошки, леопарды, шакалы и виверры.Из грызунов распространены кистехвостые дикобразы и шипохвос-тые летяги. Много здесь обезьян - мартышек, павианов, мандрилл, большинство из которых ведет древесный образ жизни. Обитают в этих местах и два рода человекообразных обезьян - шимпанзе и гориллы. Встречаются здесь и лемуры.Птицы влажных тропических лесов Африки - это несколько видов попугаев, бананоеды, красиво оперенные и ярко окрашенные лесные удоды, крошечные нектарницы, африканские павлины.Много ящериц и змей, в реках водится тупорылый крокодил. Из земноводных особенно много разнообразных лягушек.Из крупных хищников можно встретить тигров, львов, пуму, ягуара, пантеру.Джунгли изобилуют различными пресмыкающимися, среди которых много ядовитых змей. Большое разнообразие насекомых и паукообразных, в том числе и ядовит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Arial"/>
              </a:rPr>
              <a:t>Гиле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300px-rainforest_fatu_hiva"/>
          <p:cNvPicPr/>
          <p:nvPr/>
        </p:nvPicPr>
        <p:blipFill>
          <a:blip r:embed="rId2"/>
          <a:stretch/>
        </p:blipFill>
        <p:spPr>
          <a:xfrm>
            <a:off x="0" y="2349360"/>
            <a:ext cx="4932360" cy="4508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liana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4"/>
          <a:stretch/>
        </p:blipFill>
        <p:spPr>
          <a:xfrm>
            <a:off x="4716360" y="3753000"/>
            <a:ext cx="4427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ерх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3645000"/>
            <a:ext cx="86364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фик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Марокко-показать-819"/>
          <p:cNvPicPr/>
          <p:nvPr/>
        </p:nvPicPr>
        <p:blipFill>
          <a:blip r:embed="rId2"/>
          <a:stretch/>
        </p:blipFill>
        <p:spPr>
          <a:xfrm>
            <a:off x="0" y="0"/>
            <a:ext cx="2484360" cy="364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Ficus_udush1"/>
          <p:cNvPicPr/>
          <p:nvPr/>
        </p:nvPicPr>
        <p:blipFill>
          <a:blip r:embed="rId3"/>
          <a:stretch/>
        </p:blipFill>
        <p:spPr>
          <a:xfrm>
            <a:off x="6000840" y="1125360"/>
            <a:ext cx="3143160" cy="235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-2859"/>
          <p:cNvPicPr/>
          <p:nvPr/>
        </p:nvPicPr>
        <p:blipFill>
          <a:blip r:embed="rId4"/>
          <a:stretch/>
        </p:blipFill>
        <p:spPr>
          <a:xfrm>
            <a:off x="2484360" y="1125360"/>
            <a:ext cx="3511800" cy="4537080"/>
          </a:xfrm>
          <a:prstGeom prst="rect">
            <a:avLst/>
          </a:prstGeom>
          <a:ln w="0">
            <a:noFill/>
          </a:ln>
        </p:spPr>
      </p:pic>
      <p:sp>
        <p:nvSpPr>
          <p:cNvPr id="171" name="Oval 12"/>
          <p:cNvSpPr/>
          <p:nvPr/>
        </p:nvSpPr>
        <p:spPr>
          <a:xfrm>
            <a:off x="3203640" y="4005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308720" y="4221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044040" y="3645000"/>
            <a:ext cx="26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Деревь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ходульными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g2010055"/>
          <p:cNvPicPr/>
          <p:nvPr/>
        </p:nvPicPr>
        <p:blipFill>
          <a:blip r:embed="rId5"/>
          <a:stretch/>
        </p:blipFill>
        <p:spPr>
          <a:xfrm>
            <a:off x="0" y="3965400"/>
            <a:ext cx="3863880" cy="2892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4070160" y="62373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  <a:ea typeface="Arial"/>
              </a:rPr>
              <a:t>паль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120746c0b6d611edf46cb5c058e"/>
          <p:cNvPicPr/>
          <p:nvPr/>
        </p:nvPicPr>
        <p:blipFill>
          <a:blip r:embed="rId2"/>
          <a:stretch/>
        </p:blipFill>
        <p:spPr>
          <a:xfrm>
            <a:off x="0" y="0"/>
            <a:ext cx="4680000" cy="369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10"/>
          <p:cNvPicPr/>
          <p:nvPr/>
        </p:nvPicPr>
        <p:blipFill>
          <a:blip r:embed="rId3"/>
          <a:stretch/>
        </p:blipFill>
        <p:spPr>
          <a:xfrm>
            <a:off x="4535640" y="0"/>
            <a:ext cx="4608360" cy="3746520"/>
          </a:xfrm>
          <a:prstGeom prst="rect">
            <a:avLst/>
          </a:prstGeom>
          <a:ln w="0">
            <a:noFill/>
          </a:ln>
        </p:spPr>
      </p:pic>
      <p:sp>
        <p:nvSpPr>
          <p:cNvPr id="179" name="Oval 10"/>
          <p:cNvSpPr/>
          <p:nvPr/>
        </p:nvSpPr>
        <p:spPr>
          <a:xfrm>
            <a:off x="6659640" y="184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204360" y="314172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аг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13"/>
          <p:cNvPicPr/>
          <p:nvPr/>
        </p:nvPicPr>
        <p:blipFill>
          <a:blip r:embed="rId4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v19"/>
          <p:cNvPicPr/>
          <p:nvPr/>
        </p:nvPicPr>
        <p:blipFill>
          <a:blip r:embed="rId5"/>
          <a:stretch/>
        </p:blipFill>
        <p:spPr>
          <a:xfrm>
            <a:off x="4643280" y="3678120"/>
            <a:ext cx="4500720" cy="3179880"/>
          </a:xfrm>
          <a:prstGeom prst="rect">
            <a:avLst/>
          </a:prstGeom>
          <a:ln w="0">
            <a:noFill/>
          </a:ln>
        </p:spPr>
      </p:pic>
      <p:sp>
        <p:nvSpPr>
          <p:cNvPr id="183" name="Oval 14"/>
          <p:cNvSpPr/>
          <p:nvPr/>
        </p:nvSpPr>
        <p:spPr>
          <a:xfrm>
            <a:off x="442764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пи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8102880" y="31417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ей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84480" y="-3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Средний и нижний ярус влажных экваториальных л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opTree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188" name="Oval 11"/>
          <p:cNvSpPr/>
          <p:nvPr/>
        </p:nvSpPr>
        <p:spPr>
          <a:xfrm>
            <a:off x="2556000" y="2852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6300720" y="3429000"/>
            <a:ext cx="360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i-1524"/>
          <p:cNvPicPr/>
          <p:nvPr/>
        </p:nvPicPr>
        <p:blipFill>
          <a:blip r:embed="rId3"/>
          <a:stretch/>
        </p:blipFill>
        <p:spPr>
          <a:xfrm>
            <a:off x="6000840" y="1052640"/>
            <a:ext cx="3143160" cy="2592360"/>
          </a:xfrm>
          <a:prstGeom prst="rect">
            <a:avLst/>
          </a:prstGeom>
          <a:ln w="0">
            <a:noFill/>
          </a:ln>
        </p:spPr>
      </p:pic>
      <p:sp>
        <p:nvSpPr>
          <p:cNvPr id="191" name="Oval 23"/>
          <p:cNvSpPr/>
          <p:nvPr/>
        </p:nvSpPr>
        <p:spPr>
          <a:xfrm>
            <a:off x="1547640" y="6742080"/>
            <a:ext cx="71640" cy="11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5" descr="EbenovoeDerevo"/>
          <p:cNvPicPr/>
          <p:nvPr/>
        </p:nvPicPr>
        <p:blipFill>
          <a:blip r:embed="rId4"/>
          <a:stretch/>
        </p:blipFill>
        <p:spPr>
          <a:xfrm>
            <a:off x="2700360" y="393372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banan"/>
          <p:cNvPicPr/>
          <p:nvPr/>
        </p:nvPicPr>
        <p:blipFill>
          <a:blip r:embed="rId5"/>
          <a:stretch/>
        </p:blipFill>
        <p:spPr>
          <a:xfrm>
            <a:off x="4992840" y="3649680"/>
            <a:ext cx="4151160" cy="3208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7"/>
          <p:cNvSpPr/>
          <p:nvPr/>
        </p:nvSpPr>
        <p:spPr>
          <a:xfrm>
            <a:off x="1875600" y="24922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л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0" descr="000000"/>
          <p:cNvPicPr/>
          <p:nvPr/>
        </p:nvPicPr>
        <p:blipFill>
          <a:blip r:embed="rId6"/>
          <a:stretch/>
        </p:blipFill>
        <p:spPr>
          <a:xfrm>
            <a:off x="0" y="3141720"/>
            <a:ext cx="4140360" cy="32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amazonas25"/>
          <p:cNvPicPr/>
          <p:nvPr/>
        </p:nvPicPr>
        <p:blipFill>
          <a:blip r:embed="rId7"/>
          <a:stretch/>
        </p:blipFill>
        <p:spPr>
          <a:xfrm>
            <a:off x="3132000" y="1052640"/>
            <a:ext cx="3527640" cy="2639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9"/>
          <p:cNvSpPr/>
          <p:nvPr/>
        </p:nvSpPr>
        <p:spPr>
          <a:xfrm>
            <a:off x="6088680" y="2997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3708360" y="56610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бен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1:06:29Z</dcterms:created>
  <dc:creator>1</dc:creator>
  <dc:description/>
  <dc:language>en-US</dc:language>
  <cp:lastModifiedBy>Ribak</cp:lastModifiedBy>
  <dcterms:modified xsi:type="dcterms:W3CDTF">2014-02-16T17:19:55Z</dcterms:modified>
  <cp:revision>8</cp:revision>
  <dc:subject/>
  <dc:title>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10000000000001024140</vt:lpwstr>
  </property>
</Properties>
</file>