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B62-CD5E-4302-859F-EBF836106E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D870-3702-4559-A946-006D82FB0A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B39F-FEEB-4888-BB37-AFCBA238BD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123A-7850-4389-89A8-75497B9A23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DEC-0F5B-4AA3-8D3E-F10D7331918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357D-D3A0-4BF4-B4A5-FDD9363214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4976-7172-45E1-BFE7-93EFB9FF60E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D07C-6E7B-4DBE-992E-B243E5147A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FDC2-A5B3-4867-836E-F74E38170E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18ED-3A3E-4288-8693-9C8411294D2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B08-BDE4-4486-9751-98D28F79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D77-602D-4892-974F-41A9EFB2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88C-74A7-42C5-B044-135CC0B8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13F-F702-4D4A-9EE0-7A7A821E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DE84-50A2-49D2-B5D1-0A814E6C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E5C2-2C3A-44CF-8FDA-5EDAB872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6FE5-AD9E-4697-8F87-9CF65616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175F-8278-4F9F-9B0E-1634E3BD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671A-9058-4E14-BD85-F3166E9F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8503-A277-4520-9C32-368F99B7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0631-BD4E-46C9-9553-5CDEFFDC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9D1-692E-43C9-907C-EC75BDA0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9C0D-0522-4A7B-B676-E3C1361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2AFD-3AAF-40C6-B80A-8B15C8CF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CD60-169F-458C-A2B1-DF75AC54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F046-AED3-460E-A71B-21BA07D6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49ED-F4A5-4BCE-89B2-782E55CB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EDC-4FD3-44ED-AD92-EE577C95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B9E-C8FC-4F60-9941-4128E51C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70A-DAF6-4577-AEA7-B1D37E2E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B7A-33CF-4A65-B9AB-408C6CEF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3E3-AE24-42BD-877D-118C71DF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BED-5267-4FE0-B8E4-5A3B1E1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C32-BEC9-4CF3-88DA-3440556D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A4B1-0A68-4EBB-817B-4D3E39EEBB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6081-D507-40F5-A360-B6DB19D3A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ванны и редколесья Аф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боту выполнила ученица 7-Б Ипатова Ма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ject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597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461280" y="439560"/>
            <a:ext cx="2225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57200" y="7477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095880" y="333360"/>
            <a:ext cx="304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рафы защищаются от врагов бегством, а иногда им помогает скрыться пятнистая окраска. Несмотря на неуклюжий вид он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гают быстрее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лош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4000" y="333360"/>
            <a:ext cx="2800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ни питаются листьями и побегами деревьев, которые легко достают благодаря высокому рос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о чтобы взять корм с земли, им приходится либо становиться на колени, либо сильно расставлять ног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амый крупный представитель материка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- с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ло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0" y="189000"/>
            <a:ext cx="2438280" cy="9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фриканский слон- самое крупное наземное животное, его масса 5 тон, высота 3,5м. И длина туловища 4,5м.  Раньше африканские слоны жили на всём материке. Теперь их осталось мало. Они истреблены из-за ценной слоновой кости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бивне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Сейчас для сохранения слонов созданы заповедники. Но восстановить поголовье слонов трудно, так как только к 10-15 годам молодые слоны становятся взросл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12760" y="26676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Calibri"/>
              </a:rPr>
              <a:t>Быстроногие гепарды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развивают скорость до 115 км/ч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539640" y="1619280"/>
            <a:ext cx="8136000" cy="5038560"/>
            <a:chOff x="539640" y="1619280"/>
            <a:chExt cx="8136000" cy="503856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1619280"/>
              <a:ext cx="8136000" cy="50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4"/>
            <p:cNvSpPr/>
            <p:nvPr/>
          </p:nvSpPr>
          <p:spPr>
            <a:xfrm>
              <a:off x="539640" y="1619280"/>
              <a:ext cx="8136000" cy="50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World_Africa_African_savanna_019014_"/>
          <p:cNvPicPr/>
          <p:nvPr/>
        </p:nvPicPr>
        <p:blipFill>
          <a:blip r:embed="rId2"/>
          <a:stretch/>
        </p:blipFill>
        <p:spPr>
          <a:xfrm>
            <a:off x="2124000" y="1887480"/>
            <a:ext cx="6840720" cy="4784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493236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14836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5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797360" cy="3011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6"/>
          <p:cNvSpPr/>
          <p:nvPr/>
        </p:nvSpPr>
        <p:spPr>
          <a:xfrm>
            <a:off x="5996160" y="44136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Саван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190-5-2"/>
          <p:cNvPicPr/>
          <p:nvPr/>
        </p:nvPicPr>
        <p:blipFill>
          <a:blip r:embed="rId2"/>
          <a:stretch/>
        </p:blipFill>
        <p:spPr>
          <a:xfrm>
            <a:off x="900000" y="765000"/>
            <a:ext cx="3479760" cy="5185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i-1572"/>
          <p:cNvPicPr/>
          <p:nvPr/>
        </p:nvPicPr>
        <p:blipFill>
          <a:blip r:embed="rId3"/>
          <a:stretch/>
        </p:blipFill>
        <p:spPr>
          <a:xfrm>
            <a:off x="5219640" y="2205000"/>
            <a:ext cx="3232080" cy="4321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4691880" y="476280"/>
            <a:ext cx="28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Слонова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ра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1229573065_baobab01"/>
          <p:cNvPicPr/>
          <p:nvPr/>
        </p:nvPicPr>
        <p:blipFill>
          <a:blip r:embed="rId2"/>
          <a:stretch/>
        </p:blipFill>
        <p:spPr>
          <a:xfrm>
            <a:off x="6000840" y="4005360"/>
            <a:ext cx="3143160" cy="2852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229572770_baobab"/>
          <p:cNvPicPr/>
          <p:nvPr/>
        </p:nvPicPr>
        <p:blipFill>
          <a:blip r:embed="rId3"/>
          <a:stretch/>
        </p:blipFill>
        <p:spPr>
          <a:xfrm>
            <a:off x="2843280" y="0"/>
            <a:ext cx="36828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1254299970_baobab_logo"/>
          <p:cNvPicPr/>
          <p:nvPr/>
        </p:nvPicPr>
        <p:blipFill>
          <a:blip r:embed="rId4"/>
          <a:stretch/>
        </p:blipFill>
        <p:spPr>
          <a:xfrm>
            <a:off x="0" y="0"/>
            <a:ext cx="2867040" cy="2562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baobab"/>
          <p:cNvPicPr/>
          <p:nvPr/>
        </p:nvPicPr>
        <p:blipFill>
          <a:blip r:embed="rId5"/>
          <a:stretch/>
        </p:blipFill>
        <p:spPr>
          <a:xfrm>
            <a:off x="0" y="2492280"/>
            <a:ext cx="2987640" cy="2225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2-115417-baobab-1"/>
          <p:cNvPicPr/>
          <p:nvPr/>
        </p:nvPicPr>
        <p:blipFill>
          <a:blip r:embed="rId6"/>
          <a:stretch/>
        </p:blipFill>
        <p:spPr>
          <a:xfrm>
            <a:off x="0" y="4552920"/>
            <a:ext cx="2771640" cy="2305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1198435612_8"/>
          <p:cNvPicPr/>
          <p:nvPr/>
        </p:nvPicPr>
        <p:blipFill>
          <a:blip r:embed="rId7"/>
          <a:stretch/>
        </p:blipFill>
        <p:spPr>
          <a:xfrm>
            <a:off x="6300720" y="0"/>
            <a:ext cx="2843280" cy="40496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"/>
          <p:cNvSpPr/>
          <p:nvPr/>
        </p:nvSpPr>
        <p:spPr>
          <a:xfrm>
            <a:off x="4500720" y="33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286520" y="333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Баоб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58837j_2001120554344"/>
          <p:cNvPicPr/>
          <p:nvPr/>
        </p:nvPicPr>
        <p:blipFill>
          <a:blip r:embed="rId2"/>
          <a:stretch/>
        </p:blipFill>
        <p:spPr>
          <a:xfrm>
            <a:off x="250920" y="189000"/>
            <a:ext cx="2301840" cy="3076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6_15_new"/>
          <p:cNvPicPr/>
          <p:nvPr/>
        </p:nvPicPr>
        <p:blipFill>
          <a:blip r:embed="rId3"/>
          <a:stretch/>
        </p:blipFill>
        <p:spPr>
          <a:xfrm>
            <a:off x="2771640" y="333360"/>
            <a:ext cx="3067200" cy="243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FB01-3488"/>
          <p:cNvPicPr/>
          <p:nvPr/>
        </p:nvPicPr>
        <p:blipFill>
          <a:blip r:embed="rId4"/>
          <a:stretch/>
        </p:blipFill>
        <p:spPr>
          <a:xfrm>
            <a:off x="395280" y="3789360"/>
            <a:ext cx="3887640" cy="2733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World_Africa_Sand_dunes_and_Acacia_Tree___Namib_Desert___Namibia___Africa_008881_"/>
          <p:cNvPicPr/>
          <p:nvPr/>
        </p:nvPicPr>
        <p:blipFill>
          <a:blip r:embed="rId5"/>
          <a:stretch/>
        </p:blipFill>
        <p:spPr>
          <a:xfrm>
            <a:off x="4788000" y="3789360"/>
            <a:ext cx="3743280" cy="280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" descr="molochay2"/>
          <p:cNvPicPr/>
          <p:nvPr/>
        </p:nvPicPr>
        <p:blipFill>
          <a:blip r:embed="rId6"/>
          <a:stretch/>
        </p:blipFill>
        <p:spPr>
          <a:xfrm>
            <a:off x="6516720" y="260280"/>
            <a:ext cx="2173320" cy="290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8"/>
          <p:cNvSpPr/>
          <p:nvPr/>
        </p:nvSpPr>
        <p:spPr>
          <a:xfrm>
            <a:off x="3120120" y="277956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альма Д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3853800" y="39337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Ак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7072560" y="30877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Молоча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antilope"/>
          <p:cNvPicPr/>
          <p:nvPr/>
        </p:nvPicPr>
        <p:blipFill>
          <a:blip r:embed="rId2"/>
          <a:stretch/>
        </p:blipFill>
        <p:spPr>
          <a:xfrm>
            <a:off x="179280" y="0"/>
            <a:ext cx="3529080" cy="3208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zebra%20facts"/>
          <p:cNvPicPr/>
          <p:nvPr/>
        </p:nvPicPr>
        <p:blipFill>
          <a:blip r:embed="rId3"/>
          <a:stretch/>
        </p:blipFill>
        <p:spPr>
          <a:xfrm>
            <a:off x="179280" y="3716280"/>
            <a:ext cx="4176720" cy="277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post318368_img3"/>
          <p:cNvPicPr/>
          <p:nvPr/>
        </p:nvPicPr>
        <p:blipFill>
          <a:blip r:embed="rId4"/>
          <a:stretch/>
        </p:blipFill>
        <p:spPr>
          <a:xfrm>
            <a:off x="3995640" y="0"/>
            <a:ext cx="4321440" cy="331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12"/>
          <p:cNvPicPr/>
          <p:nvPr/>
        </p:nvPicPr>
        <p:blipFill>
          <a:blip r:embed="rId5"/>
          <a:stretch/>
        </p:blipFill>
        <p:spPr>
          <a:xfrm>
            <a:off x="4572000" y="3789360"/>
            <a:ext cx="4176720" cy="2784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1697040" y="306864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Животный мир сава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ph03765"/>
          <p:cNvPicPr/>
          <p:nvPr/>
        </p:nvPicPr>
        <p:blipFill>
          <a:blip r:embed="rId2"/>
          <a:stretch/>
        </p:blipFill>
        <p:spPr>
          <a:xfrm>
            <a:off x="0" y="0"/>
            <a:ext cx="3313080" cy="307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images%5Czoo%5Crhino"/>
          <p:cNvPicPr/>
          <p:nvPr/>
        </p:nvPicPr>
        <p:blipFill>
          <a:blip r:embed="rId3"/>
          <a:stretch/>
        </p:blipFill>
        <p:spPr>
          <a:xfrm>
            <a:off x="5508720" y="4137120"/>
            <a:ext cx="3635280" cy="272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art7010_0"/>
          <p:cNvPicPr/>
          <p:nvPr/>
        </p:nvPicPr>
        <p:blipFill>
          <a:blip r:embed="rId4"/>
          <a:stretch/>
        </p:blipFill>
        <p:spPr>
          <a:xfrm>
            <a:off x="0" y="3860640"/>
            <a:ext cx="3898800" cy="2918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1227878276_2"/>
          <p:cNvPicPr/>
          <p:nvPr/>
        </p:nvPicPr>
        <p:blipFill>
          <a:blip r:embed="rId5"/>
          <a:stretch/>
        </p:blipFill>
        <p:spPr>
          <a:xfrm>
            <a:off x="6562800" y="0"/>
            <a:ext cx="258120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kelimutu-water-buffalo"/>
          <p:cNvPicPr/>
          <p:nvPr/>
        </p:nvPicPr>
        <p:blipFill>
          <a:blip r:embed="rId6"/>
          <a:stretch/>
        </p:blipFill>
        <p:spPr>
          <a:xfrm>
            <a:off x="3059280" y="1916280"/>
            <a:ext cx="3960720" cy="29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ванна - тропическая лесостепь, располагается между тропическими пустынями и зоной вечнозеленых тропических лесов. Для саванн характерно преобладание травянистого покрова в сочетании с отдельными деревьями или группами деревь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geographyofrussia.ru/wp-content/uploads/2010/02/10d6774ac038_trop.savanna.1.jpg"/>
          <p:cNvPicPr/>
          <p:nvPr/>
        </p:nvPicPr>
        <p:blipFill>
          <a:blip r:embed="rId1"/>
          <a:stretch/>
        </p:blipFill>
        <p:spPr>
          <a:xfrm>
            <a:off x="755640" y="2276640"/>
            <a:ext cx="7632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nonymous-african-lion-5001218"/>
          <p:cNvPicPr/>
          <p:nvPr/>
        </p:nvPicPr>
        <p:blipFill>
          <a:blip r:embed="rId2"/>
          <a:stretch/>
        </p:blipFill>
        <p:spPr>
          <a:xfrm>
            <a:off x="1547640" y="260280"/>
            <a:ext cx="3211560" cy="364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265"/>
          <p:cNvPicPr/>
          <p:nvPr/>
        </p:nvPicPr>
        <p:blipFill>
          <a:blip r:embed="rId3"/>
          <a:stretch/>
        </p:blipFill>
        <p:spPr>
          <a:xfrm>
            <a:off x="5003640" y="260280"/>
            <a:ext cx="3816360" cy="3517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065"/>
          <p:cNvPicPr/>
          <p:nvPr/>
        </p:nvPicPr>
        <p:blipFill>
          <a:blip r:embed="rId4"/>
          <a:stretch/>
        </p:blipFill>
        <p:spPr>
          <a:xfrm>
            <a:off x="1476360" y="4060800"/>
            <a:ext cx="3311640" cy="2492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21137"/>
          <p:cNvPicPr/>
          <p:nvPr/>
        </p:nvPicPr>
        <p:blipFill>
          <a:blip r:embed="rId5"/>
          <a:stretch/>
        </p:blipFill>
        <p:spPr>
          <a:xfrm>
            <a:off x="5076720" y="4005360"/>
            <a:ext cx="3816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5107"/>
          <p:cNvPicPr/>
          <p:nvPr/>
        </p:nvPicPr>
        <p:blipFill>
          <a:blip r:embed="rId2"/>
          <a:stretch/>
        </p:blipFill>
        <p:spPr>
          <a:xfrm>
            <a:off x="2556000" y="333360"/>
            <a:ext cx="2503440" cy="3363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007"/>
          <p:cNvPicPr/>
          <p:nvPr/>
        </p:nvPicPr>
        <p:blipFill>
          <a:blip r:embed="rId3"/>
          <a:stretch/>
        </p:blipFill>
        <p:spPr>
          <a:xfrm>
            <a:off x="5398920" y="260280"/>
            <a:ext cx="3745080" cy="2768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0_3897a_6253e0ef_L"/>
          <p:cNvPicPr/>
          <p:nvPr/>
        </p:nvPicPr>
        <p:blipFill>
          <a:blip r:embed="rId4"/>
          <a:stretch/>
        </p:blipFill>
        <p:spPr>
          <a:xfrm>
            <a:off x="179280" y="1341360"/>
            <a:ext cx="2202120" cy="3003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Secretary_Bird_with_open_beak"/>
          <p:cNvPicPr/>
          <p:nvPr/>
        </p:nvPicPr>
        <p:blipFill>
          <a:blip r:embed="rId5"/>
          <a:stretch/>
        </p:blipFill>
        <p:spPr>
          <a:xfrm>
            <a:off x="1476360" y="4381560"/>
            <a:ext cx="3143160" cy="2476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" descr="secretarybird"/>
          <p:cNvPicPr/>
          <p:nvPr/>
        </p:nvPicPr>
        <p:blipFill>
          <a:blip r:embed="rId6"/>
          <a:stretch/>
        </p:blipFill>
        <p:spPr>
          <a:xfrm>
            <a:off x="5867280" y="4286160"/>
            <a:ext cx="2781360" cy="2571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7"/>
          <p:cNvSpPr/>
          <p:nvPr/>
        </p:nvSpPr>
        <p:spPr>
          <a:xfrm>
            <a:off x="3363840" y="3851280"/>
            <a:ext cx="11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132000" y="378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Некрат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324000" y="119700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0" y="981000"/>
            <a:ext cx="158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395280" y="1052640"/>
            <a:ext cx="12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324000" y="98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тица Мараб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507672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4143240" y="587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Птица Секрета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Фламин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b1744b56de52"/>
          <p:cNvPicPr/>
          <p:nvPr/>
        </p:nvPicPr>
        <p:blipFill>
          <a:blip r:embed="rId2"/>
          <a:stretch/>
        </p:blipFill>
        <p:spPr>
          <a:xfrm>
            <a:off x="0" y="1484280"/>
            <a:ext cx="3249720" cy="3552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Flamingo%20flock%201%20m"/>
          <p:cNvPicPr/>
          <p:nvPr/>
        </p:nvPicPr>
        <p:blipFill>
          <a:blip r:embed="rId3"/>
          <a:stretch/>
        </p:blipFill>
        <p:spPr>
          <a:xfrm>
            <a:off x="2987640" y="2421000"/>
            <a:ext cx="4464000" cy="3663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911"/>
          <p:cNvPicPr/>
          <p:nvPr/>
        </p:nvPicPr>
        <p:blipFill>
          <a:blip r:embed="rId4"/>
          <a:stretch/>
        </p:blipFill>
        <p:spPr>
          <a:xfrm>
            <a:off x="6937200" y="3789360"/>
            <a:ext cx="2206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nat2"/>
          <p:cNvPicPr/>
          <p:nvPr/>
        </p:nvPicPr>
        <p:blipFill>
          <a:blip r:embed="rId1"/>
          <a:stretch/>
        </p:blipFill>
        <p:spPr>
          <a:xfrm>
            <a:off x="395280" y="1916280"/>
            <a:ext cx="3745080" cy="4684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ark1"/>
          <p:cNvPicPr/>
          <p:nvPr/>
        </p:nvPicPr>
        <p:blipFill>
          <a:blip r:embed="rId2"/>
          <a:stretch/>
        </p:blipFill>
        <p:spPr>
          <a:xfrm>
            <a:off x="4859280" y="1989000"/>
            <a:ext cx="3729240" cy="4500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001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аванны и редколесья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АНИМАЮТ САМУЮ БОЛЬШУЮ ПЛОЩАДЬ МАТЕРИКА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905120" y="3808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66"/>
                </a:solidFill>
                <a:latin typeface="Times New Roman"/>
                <a:ea typeface="Arial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66760" y="1371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аваннах произрастают высокие до 3 метров травы. Деревья, например акации, баобабы здесь растут в одиночку или отдельными групп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4067280" y="2565360"/>
            <a:ext cx="4495680" cy="3048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048120" y="34290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eren.avi" descr=""/>
          <p:cNvPicPr/>
          <p:nvPr/>
        </p:nvPicPr>
        <p:blipFill>
          <a:blip r:embed="rId2"/>
          <a:stretch/>
        </p:blipFill>
        <p:spPr>
          <a:xfrm>
            <a:off x="179280" y="3525840"/>
            <a:ext cx="35290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0" y="0"/>
            <a:ext cx="44197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Баобаб по праву считается одним из символов Африки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Это дерево живёт 4-5 тыс.лет, высота его редко превышает 25 м, зато в обхвате – до 40 м. Баобабы не боятся пожаров, но их врагами являются слоны. Они объедают влажную кору. Плодами дерева лакомятся обезья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105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000400" y="1906200"/>
            <a:ext cx="3477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стволе, толщиной до 10 м, баобаб запасает воду: его мягкая древесина, как губка, может накопить до 120 тонн воды. Дерево умеет худеть и полнет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Баобабы - огромные деревья. фото 4"/>
          <p:cNvPicPr/>
          <p:nvPr/>
        </p:nvPicPr>
        <p:blipFill>
          <a:blip r:embed="rId1"/>
          <a:stretch/>
        </p:blipFill>
        <p:spPr>
          <a:xfrm>
            <a:off x="395280" y="260280"/>
            <a:ext cx="42480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-115" b="0"/>
          <a:stretch/>
        </p:blipFill>
        <p:spPr>
          <a:xfrm>
            <a:off x="395280" y="620640"/>
            <a:ext cx="511344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651640" y="836640"/>
            <a:ext cx="3263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Зонтичная акац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Словно огромные зонтики  среди высоких трав поднимаются ветвистые акации. Но под этим зонтиком не найти тени. Мелкие листочки акации, расположенные ребром к солнцу, пропускают отвесно падающие лучи. Если встать под зонтик акации и посмотреть вверх, то зелёная крона на фоне ярко-синего неба покажется кружевн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0"/>
            <a:ext cx="756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отный мир саван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int15"/>
          <p:cNvPicPr/>
          <p:nvPr/>
        </p:nvPicPr>
        <p:blipFill>
          <a:blip r:embed="rId1"/>
          <a:stretch/>
        </p:blipFill>
        <p:spPr>
          <a:xfrm>
            <a:off x="685800" y="1143000"/>
            <a:ext cx="438624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a_541i"/>
          <p:cNvPicPr/>
          <p:nvPr/>
        </p:nvPicPr>
        <p:blipFill>
          <a:blip r:embed="rId2"/>
          <a:stretch/>
        </p:blipFill>
        <p:spPr>
          <a:xfrm>
            <a:off x="838080" y="4191120"/>
            <a:ext cx="401976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6867i"/>
          <p:cNvPicPr/>
          <p:nvPr/>
        </p:nvPicPr>
        <p:blipFill>
          <a:blip r:embed="rId3"/>
          <a:stretch/>
        </p:blipFill>
        <p:spPr>
          <a:xfrm>
            <a:off x="5286240" y="1155600"/>
            <a:ext cx="3629160" cy="281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ark_Kruger"/>
          <p:cNvPicPr/>
          <p:nvPr/>
        </p:nvPicPr>
        <p:blipFill>
          <a:blip r:embed="rId4"/>
          <a:stretch/>
        </p:blipFill>
        <p:spPr>
          <a:xfrm>
            <a:off x="5286240" y="4121280"/>
            <a:ext cx="3857760" cy="2736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719280" y="3546360"/>
            <a:ext cx="17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гепар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93840" y="6137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антило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548320" y="347040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уйв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867280" y="4460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424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В Африке обитает самое высокое на свете животное — жираф. Его ро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 окол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6 м. Очень острое зрение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жирафу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замечать опасность на расстояни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1 к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42560" y="184464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8:08:03Z</dcterms:created>
  <dc:creator>География</dc:creator>
  <dc:description/>
  <dc:language>en-US</dc:language>
  <cp:lastModifiedBy>Ribak</cp:lastModifiedBy>
  <dcterms:modified xsi:type="dcterms:W3CDTF">2014-02-16T17:21:00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9000000000001024140</vt:lpwstr>
  </property>
</Properties>
</file>