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02F5-DF69-4438-B7B3-509E84B913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4B1B-A273-4946-93C5-50250E15DA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A6A0-3DA5-4485-8B2E-005245BA04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5667-8EE3-4A36-8134-AD09C72E72A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AC0-A1F3-4D05-9F23-1CBD63D84A6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6DFC-AFDE-470B-B5F8-AD54A5F792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FF6A-9727-4263-8271-133CC4EBB4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EE87-BCC8-435E-A2DE-F2022AF3A8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3C8-0A86-414A-9996-DDF7CFC9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894-1367-43CD-BDBC-AC6988F4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D66-6BC1-4CCA-959C-D1806EF3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FFD-30C0-44AE-BB4D-07101526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F71-897F-45BD-A581-88761192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E04A-2130-4D60-8AC9-07B15F2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12AC-4F82-4C89-9872-B0CF512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4839-E22F-4FB2-8804-338C5DA5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EFC3-42F4-44DB-8145-83C3A8D0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200B-CACB-4C15-B6CD-7721A55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5D38-2313-40B0-971A-346EC05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6AA-ED08-4CCB-9AB2-20C8103B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BE43-031B-4177-A221-89EFF88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7CFF-977C-489B-B6C7-4EA3C157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FCD7-900B-4867-BECE-834F4739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CDB-ABBB-4706-A947-1B82C8B9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BB4-C83C-4B71-83BA-C1783CC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8D12-7E0C-49E3-A114-7A86B78E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BD1C-0092-4119-A14F-AA591376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19DE-8326-47B7-B73F-7A4590B2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2B5C-E66D-4269-A5B6-A3F0F6A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0FB0-BD92-4666-8E07-8F36E61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ABE-C6B0-4575-9B81-8B48EE3B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3B0A-5791-43AF-B156-6E8C8298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440C-2020-4365-B1AB-FF798A6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3EA3-52EB-41E6-9ECE-AF29A91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6183-4C73-46A8-A0C6-B16FAF5A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BB18-E866-4738-A05D-9C17C13A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5E23-5F36-4BA6-BA04-19E0F54A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51A4-B259-4F04-A2FB-FAFF28E9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5EC-2537-428D-9234-6886964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945-676A-4E29-A2CE-7A327A64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0C1-20F2-4573-B12B-64672840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B87-4025-423E-87A9-949DF38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697-CDCF-4AAD-8F9D-C94161F7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88C-ECB1-4ED2-AAF2-40EF0BE7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B5A6-7C69-4DCD-B069-5ECEF794AA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6A40-AAA0-40F4-B3D6-BE6DCBDAB9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3E3F-05C1-4DF5-ACED-B27D65D030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hyperlink" Target="http://www.google.ru/imgres?imgurl=http://www.ecotourismblog.com/images/gorilla-70_45.jpg&amp;imgrefurl=http://www.ecotourismblog.com/entry/gorilla-safaris-earn-70-revenue-for-uganda/&amp;usg=__P7bowIQY_DI-olS8eO1UuJjjLgQ=&amp;h=600&amp;w=450&amp;sz=56&amp;hl=ru&amp;start=8&amp;zoom=1&amp;um=1&amp;itbs=1&amp;tbnid=TfEOm3UNKCQfQM:&amp;tbnh=135&amp;tbnw=101&amp;prev=/images?q%3D&#1075;&#1086;&#1088;&#1080;&#1083;&#1083;&#1072;%26um%3D1%26hl%3Dru%26newwindow%3D1%26sa%3DG%26gbv%3D2%26tbs%3Disch:1" TargetMode="Externa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Афри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858000" cy="16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жные вечнозеленые леса Экваториальной Афри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332000" y="615312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еница 7-Б класса Марченко Кр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Рекордсмены животного мира </a:t>
            </a:r>
            <a:br>
              <a:rPr sz="3200"/>
            </a:b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х экваториальных л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goliath2"/>
          <p:cNvPicPr/>
          <p:nvPr/>
        </p:nvPicPr>
        <p:blipFill>
          <a:blip r:embed="rId2"/>
          <a:stretch/>
        </p:blipFill>
        <p:spPr>
          <a:xfrm>
            <a:off x="179280" y="1628640"/>
            <a:ext cx="3124440" cy="319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f51847b27f40"/>
          <p:cNvPicPr/>
          <p:nvPr/>
        </p:nvPicPr>
        <p:blipFill>
          <a:blip r:embed="rId3"/>
          <a:stretch/>
        </p:blipFill>
        <p:spPr>
          <a:xfrm>
            <a:off x="3276720" y="1341360"/>
            <a:ext cx="2776320" cy="403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21400509_1"/>
          <p:cNvPicPr/>
          <p:nvPr/>
        </p:nvPicPr>
        <p:blipFill>
          <a:blip r:embed="rId4"/>
          <a:stretch/>
        </p:blipFill>
        <p:spPr>
          <a:xfrm>
            <a:off x="6000840" y="4076640"/>
            <a:ext cx="3143160" cy="2781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2"/>
          <p:cNvSpPr/>
          <p:nvPr/>
        </p:nvSpPr>
        <p:spPr>
          <a:xfrm>
            <a:off x="3710880" y="4869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ягушка Голи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6879960" y="42210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Улитка Ах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_2d976_900c71af_-1-XL"/>
          <p:cNvPicPr/>
          <p:nvPr/>
        </p:nvPicPr>
        <p:blipFill>
          <a:blip r:embed="rId2"/>
          <a:stretch/>
        </p:blipFill>
        <p:spPr>
          <a:xfrm>
            <a:off x="324000" y="907920"/>
            <a:ext cx="2133360" cy="2853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monifa"/>
          <p:cNvPicPr/>
          <p:nvPr/>
        </p:nvPicPr>
        <p:blipFill>
          <a:blip r:embed="rId3"/>
          <a:stretch/>
        </p:blipFill>
        <p:spPr>
          <a:xfrm>
            <a:off x="2627280" y="0"/>
            <a:ext cx="3143160" cy="237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pygmy-hippo-lg"/>
          <p:cNvPicPr/>
          <p:nvPr/>
        </p:nvPicPr>
        <p:blipFill>
          <a:blip r:embed="rId4"/>
          <a:stretch/>
        </p:blipFill>
        <p:spPr>
          <a:xfrm>
            <a:off x="2700360" y="2492280"/>
            <a:ext cx="3143160" cy="2457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110"/>
          <p:cNvPicPr/>
          <p:nvPr/>
        </p:nvPicPr>
        <p:blipFill>
          <a:blip r:embed="rId5"/>
          <a:stretch/>
        </p:blipFill>
        <p:spPr>
          <a:xfrm>
            <a:off x="0" y="4067280"/>
            <a:ext cx="3203640" cy="279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Animals_Beasts__002103_1"/>
          <p:cNvPicPr/>
          <p:nvPr/>
        </p:nvPicPr>
        <p:blipFill>
          <a:blip r:embed="rId6"/>
          <a:stretch/>
        </p:blipFill>
        <p:spPr>
          <a:xfrm>
            <a:off x="5759280" y="43243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gorilla-70_4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0720" y="0"/>
            <a:ext cx="2578320" cy="3446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6"/>
          <p:cNvSpPr/>
          <p:nvPr/>
        </p:nvSpPr>
        <p:spPr>
          <a:xfrm>
            <a:off x="698400" y="2409840"/>
            <a:ext cx="1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614520" y="33336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вин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3113640" y="22240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ый бегем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204000" y="522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ока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427640" y="609300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ео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787440" y="35211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гор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e89eb04c7ffe2001d1f20c3fb01ee029"/>
          <p:cNvPicPr/>
          <p:nvPr/>
        </p:nvPicPr>
        <p:blipFill>
          <a:blip r:embed="rId2"/>
          <a:stretch/>
        </p:blipFill>
        <p:spPr>
          <a:xfrm>
            <a:off x="468360" y="189000"/>
            <a:ext cx="3338640" cy="388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1263389105"/>
          <p:cNvPicPr/>
          <p:nvPr/>
        </p:nvPicPr>
        <p:blipFill>
          <a:blip r:embed="rId3"/>
          <a:stretch/>
        </p:blipFill>
        <p:spPr>
          <a:xfrm>
            <a:off x="4716360" y="26028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570"/>
          <p:cNvPicPr/>
          <p:nvPr/>
        </p:nvPicPr>
        <p:blipFill>
          <a:blip r:embed="rId4"/>
          <a:stretch/>
        </p:blipFill>
        <p:spPr>
          <a:xfrm>
            <a:off x="1187280" y="4797360"/>
            <a:ext cx="3143520" cy="1657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1265486142_l_147317"/>
          <p:cNvPicPr/>
          <p:nvPr/>
        </p:nvPicPr>
        <p:blipFill>
          <a:blip r:embed="rId5"/>
          <a:stretch/>
        </p:blipFill>
        <p:spPr>
          <a:xfrm>
            <a:off x="4788000" y="4005360"/>
            <a:ext cx="3573360" cy="26953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3"/>
          <p:cNvSpPr/>
          <p:nvPr/>
        </p:nvSpPr>
        <p:spPr>
          <a:xfrm>
            <a:off x="1188720" y="3645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м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034720" y="43848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Муха Ц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8" descr="iап"/>
          <p:cNvPicPr/>
          <p:nvPr/>
        </p:nvPicPr>
        <p:blipFill>
          <a:blip r:embed="rId1"/>
          <a:stretch/>
        </p:blipFill>
        <p:spPr>
          <a:xfrm>
            <a:off x="1619280" y="2060640"/>
            <a:ext cx="2305080" cy="33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CAIXSNON"/>
          <p:cNvPicPr/>
          <p:nvPr/>
        </p:nvPicPr>
        <p:blipFill>
          <a:blip r:embed="rId2"/>
          <a:stretch/>
        </p:blipFill>
        <p:spPr>
          <a:xfrm>
            <a:off x="5292720" y="3933720"/>
            <a:ext cx="251928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i?id=2450353&amp;tov=7"/>
          <p:cNvPicPr/>
          <p:nvPr/>
        </p:nvPicPr>
        <p:blipFill>
          <a:blip r:embed="rId3"/>
          <a:stretch/>
        </p:blipFill>
        <p:spPr>
          <a:xfrm>
            <a:off x="5292720" y="1916280"/>
            <a:ext cx="2879640" cy="181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 Африке различают 3 природные зон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сава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Безымянныйо"/>
          <p:cNvPicPr/>
          <p:nvPr/>
        </p:nvPicPr>
        <p:blipFill>
          <a:blip r:embed="rId1"/>
          <a:stretch/>
        </p:blipFill>
        <p:spPr>
          <a:xfrm>
            <a:off x="1450800" y="160020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AZVTHSE"/>
          <p:cNvPicPr/>
          <p:nvPr/>
        </p:nvPicPr>
        <p:blipFill>
          <a:blip r:embed="rId2"/>
          <a:stretch/>
        </p:blipFill>
        <p:spPr>
          <a:xfrm>
            <a:off x="2197080" y="4210200"/>
            <a:ext cx="1244520" cy="165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i"/>
          <p:cNvPicPr/>
          <p:nvPr/>
        </p:nvPicPr>
        <p:blipFill>
          <a:blip r:embed="rId3"/>
          <a:stretch/>
        </p:blipFill>
        <p:spPr>
          <a:xfrm>
            <a:off x="5292720" y="3610080"/>
            <a:ext cx="266400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лажные вечнозеленые леса      Экваториальной Африки. Гилея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e1"/>
                </a:solidFill>
                <a:latin typeface="Arial"/>
              </a:rPr>
              <a:t>В поясе экваториального климата постоянно влажные вечнозеленые леса (или по-другому Гилея, что с греческого обозначает лес) покрывают примерно 8 % площади материка. Они распространены в бассейне реки Конго к северу - до 4° с. ш. и к югу от экватора - до 5° ю. ш. Кроме того, эти леса занимают побережье Атлантического океана примерно до 8° с. ш. А в дельтах рек и на побережьях, затопленных во время прилива, особенно на берегах Гвинейского залива, господствуют мангровые заросли. Первичные дождевые леса сохранились только в центральной котловине реки Конго. В других местах, особенно к северу от</a:t>
            </a:r>
            <a:r>
              <a:rPr b="1" lang="ru-RU" sz="1400" spc="-1" strike="noStrike">
                <a:solidFill>
                  <a:srgbClr val="ffffe1"/>
                </a:solidFill>
                <a:latin typeface="Arial"/>
              </a:rPr>
              <a:t> Гвинейского залива, их сменили низкорослые вторичные зарос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click?url=http%3A%2F%2Fdict"/>
          <p:cNvPicPr/>
          <p:nvPr/>
        </p:nvPicPr>
        <p:blipFill>
          <a:blip r:embed="rId1"/>
          <a:stretch/>
        </p:blipFill>
        <p:spPr>
          <a:xfrm>
            <a:off x="5238720" y="1770120"/>
            <a:ext cx="3086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Растительный мир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аркий климат и обилие влаги способствуют развитию густой вечнозеленой древесной растительности. Экваториальные леса растут в несколько яр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хний ярус (высота 35-50 м) составляет сейба. Диаметр ее ствола достигает двух метров, а широкие дисковые корни поднимаются до высоты 4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нем ярусе растут различные па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Масличная, из ее плодов получают пальмовое ма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альма рафия, к которой африканцы относятся особенно трогательно. Секрет такого отношения в 10-12 метровых листьях. Пигмеи покрывают ими свои хижины, из их волокон плетут ткани, шляпы, корзины. Секрет их плетения  от тончайших как шпагат до толстостенных, как удав, - передается по наслед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Эбеновое дерево, которое тонет в воде. Цвет его древесины черный, бурый или зеленый. Цвет будет зависеть от особых микробиологических процессов в почве. Древесина его очень прочная и гибкая, из нее делают меб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ижнем ярусе растут фикусы, бананы, различные папоротники, либерийское кофейное дерево.. Фикусы вырастают в высоту 7-8 м всего за 8-10 месяцев. Ствол у них внутри полый как у травы. Солнечный свет не может проникнуть через толщину зелени и в таком лесу почти нет обычной травы и кустар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лажном экваториальном лесу растут не только самые высокие, но и самые длинные растения  это лианы. Их длина достигает более 100 м. Лианы удерживаются на других растениях с помощью цепляющихся побегов, шипов, колючек или усиков. Лианы переплетают стволы деревьев, высоко взбираются на них и оттуда свисают гирляндами, делая лесную чащу непроходимой. Среди лиан особое место занимает каучуконосная древовидная лиана ландоль-фия,  Особая группа - это растения-паразиты, которые высасывают питательные вещества из других растений. Одно из них раффлезия. Оно присасывается к корням деревь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ивотный м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жные экваториальные леса Африки имеют своеобразную фауну, но менее богатую, чем фауна, открытых пространств этого континента. В экваториальном африканском лесу мало травоядных, а следовательно, мало и хищников. Из копытных можно встретить лесных антилоп, очень осторожных и пугливых, родственных жирафу, животных - окапи. Есть также кабаны, буйволы, бегемоты. Из хищных животных встречаются дикие кошки, леопарды, шакалы и виверры.Из грызунов распространены кистехвостые дикобразы и шипохвос-тые летяги. Много здесь обезьян - мартышек, павианов, мандрилл, большинство из которых ведет древесный образ жизни. Обитают в этих местах и два рода человекообразных обезьян - шимпанзе и гориллы. Встречаются здесь и лемуры.Птицы влажных тропических лесов Африки - это несколько видов попугаев, бананоеды, красиво оперенные и ярко окрашенные лесные удоды, крошечные нектарницы, африканские павлины.Много ящериц и змей, в реках водится тупорылый крокодил. Из земноводных особенно много разнообразных лягушек.Из крупных хищников можно встретить тигров, львов, пуму, ягуара, пантеру.Джунгли изобилуют различными пресмыкающимися, среди которых много ядовитых змей. Большое разнообразие насекомых и паукообразных, в том числе и ядовит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Arial"/>
              </a:rPr>
              <a:t>Гиле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300px-rainforest_fatu_hiva"/>
          <p:cNvPicPr/>
          <p:nvPr/>
        </p:nvPicPr>
        <p:blipFill>
          <a:blip r:embed="rId2"/>
          <a:stretch/>
        </p:blipFill>
        <p:spPr>
          <a:xfrm>
            <a:off x="0" y="2349360"/>
            <a:ext cx="4932360" cy="4508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liana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4"/>
          <a:stretch/>
        </p:blipFill>
        <p:spPr>
          <a:xfrm>
            <a:off x="4716360" y="3753000"/>
            <a:ext cx="4427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ерх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3645000"/>
            <a:ext cx="863640" cy="3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фик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Марокко-показать-819"/>
          <p:cNvPicPr/>
          <p:nvPr/>
        </p:nvPicPr>
        <p:blipFill>
          <a:blip r:embed="rId2"/>
          <a:stretch/>
        </p:blipFill>
        <p:spPr>
          <a:xfrm>
            <a:off x="0" y="0"/>
            <a:ext cx="2484360" cy="364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Ficus_udush1"/>
          <p:cNvPicPr/>
          <p:nvPr/>
        </p:nvPicPr>
        <p:blipFill>
          <a:blip r:embed="rId3"/>
          <a:stretch/>
        </p:blipFill>
        <p:spPr>
          <a:xfrm>
            <a:off x="6000840" y="1125360"/>
            <a:ext cx="314316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-2859"/>
          <p:cNvPicPr/>
          <p:nvPr/>
        </p:nvPicPr>
        <p:blipFill>
          <a:blip r:embed="rId4"/>
          <a:stretch/>
        </p:blipFill>
        <p:spPr>
          <a:xfrm>
            <a:off x="2484360" y="1125360"/>
            <a:ext cx="3511800" cy="4537080"/>
          </a:xfrm>
          <a:prstGeom prst="rect">
            <a:avLst/>
          </a:prstGeom>
          <a:ln w="0">
            <a:noFill/>
          </a:ln>
        </p:spPr>
      </p:pic>
      <p:sp>
        <p:nvSpPr>
          <p:cNvPr id="171" name="Oval 12"/>
          <p:cNvSpPr/>
          <p:nvPr/>
        </p:nvSpPr>
        <p:spPr>
          <a:xfrm>
            <a:off x="3203640" y="4005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308720" y="4221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044040" y="3645000"/>
            <a:ext cx="26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Деревь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ходульными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g2010055"/>
          <p:cNvPicPr/>
          <p:nvPr/>
        </p:nvPicPr>
        <p:blipFill>
          <a:blip r:embed="rId5"/>
          <a:stretch/>
        </p:blipFill>
        <p:spPr>
          <a:xfrm>
            <a:off x="0" y="3965400"/>
            <a:ext cx="3863880" cy="2892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4070160" y="62373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паль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120746c0b6d611edf46cb5c058e"/>
          <p:cNvPicPr/>
          <p:nvPr/>
        </p:nvPicPr>
        <p:blipFill>
          <a:blip r:embed="rId2"/>
          <a:stretch/>
        </p:blipFill>
        <p:spPr>
          <a:xfrm>
            <a:off x="0" y="0"/>
            <a:ext cx="4680000" cy="369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10"/>
          <p:cNvPicPr/>
          <p:nvPr/>
        </p:nvPicPr>
        <p:blipFill>
          <a:blip r:embed="rId3"/>
          <a:stretch/>
        </p:blipFill>
        <p:spPr>
          <a:xfrm>
            <a:off x="4535640" y="0"/>
            <a:ext cx="4608360" cy="3746520"/>
          </a:xfrm>
          <a:prstGeom prst="rect">
            <a:avLst/>
          </a:prstGeom>
          <a:ln w="0">
            <a:noFill/>
          </a:ln>
        </p:spPr>
      </p:pic>
      <p:sp>
        <p:nvSpPr>
          <p:cNvPr id="179" name="Oval 10"/>
          <p:cNvSpPr/>
          <p:nvPr/>
        </p:nvSpPr>
        <p:spPr>
          <a:xfrm>
            <a:off x="6659640" y="184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204360" y="314172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аг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13"/>
          <p:cNvPicPr/>
          <p:nvPr/>
        </p:nvPicPr>
        <p:blipFill>
          <a:blip r:embed="rId4"/>
          <a:stretch/>
        </p:blipFill>
        <p:spPr>
          <a:xfrm>
            <a:off x="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v19"/>
          <p:cNvPicPr/>
          <p:nvPr/>
        </p:nvPicPr>
        <p:blipFill>
          <a:blip r:embed="rId5"/>
          <a:stretch/>
        </p:blipFill>
        <p:spPr>
          <a:xfrm>
            <a:off x="4643280" y="3678120"/>
            <a:ext cx="4500720" cy="3179880"/>
          </a:xfrm>
          <a:prstGeom prst="rect">
            <a:avLst/>
          </a:prstGeom>
          <a:ln w="0">
            <a:noFill/>
          </a:ln>
        </p:spPr>
      </p:pic>
      <p:sp>
        <p:nvSpPr>
          <p:cNvPr id="183" name="Oval 14"/>
          <p:cNvSpPr/>
          <p:nvPr/>
        </p:nvSpPr>
        <p:spPr>
          <a:xfrm>
            <a:off x="4427640" y="53006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пи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8102880" y="31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ей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84480" y="-36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Средний и ниж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opTree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  <p:sp>
        <p:nvSpPr>
          <p:cNvPr id="188" name="Oval 11"/>
          <p:cNvSpPr/>
          <p:nvPr/>
        </p:nvSpPr>
        <p:spPr>
          <a:xfrm>
            <a:off x="2556000" y="2852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6300720" y="3429000"/>
            <a:ext cx="360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i-1524"/>
          <p:cNvPicPr/>
          <p:nvPr/>
        </p:nvPicPr>
        <p:blipFill>
          <a:blip r:embed="rId3"/>
          <a:stretch/>
        </p:blipFill>
        <p:spPr>
          <a:xfrm>
            <a:off x="6000840" y="1052640"/>
            <a:ext cx="3143160" cy="2592360"/>
          </a:xfrm>
          <a:prstGeom prst="rect">
            <a:avLst/>
          </a:prstGeom>
          <a:ln w="0">
            <a:noFill/>
          </a:ln>
        </p:spPr>
      </p:pic>
      <p:sp>
        <p:nvSpPr>
          <p:cNvPr id="191" name="Oval 23"/>
          <p:cNvSpPr/>
          <p:nvPr/>
        </p:nvSpPr>
        <p:spPr>
          <a:xfrm>
            <a:off x="1547640" y="6742080"/>
            <a:ext cx="71640" cy="11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5" descr="EbenovoeDerevo"/>
          <p:cNvPicPr/>
          <p:nvPr/>
        </p:nvPicPr>
        <p:blipFill>
          <a:blip r:embed="rId4"/>
          <a:stretch/>
        </p:blipFill>
        <p:spPr>
          <a:xfrm>
            <a:off x="2700360" y="3933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banan"/>
          <p:cNvPicPr/>
          <p:nvPr/>
        </p:nvPicPr>
        <p:blipFill>
          <a:blip r:embed="rId5"/>
          <a:stretch/>
        </p:blipFill>
        <p:spPr>
          <a:xfrm>
            <a:off x="4992840" y="3649680"/>
            <a:ext cx="4151160" cy="3208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7"/>
          <p:cNvSpPr/>
          <p:nvPr/>
        </p:nvSpPr>
        <p:spPr>
          <a:xfrm>
            <a:off x="1875600" y="24922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л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000000"/>
          <p:cNvPicPr/>
          <p:nvPr/>
        </p:nvPicPr>
        <p:blipFill>
          <a:blip r:embed="rId6"/>
          <a:stretch/>
        </p:blipFill>
        <p:spPr>
          <a:xfrm>
            <a:off x="0" y="3141720"/>
            <a:ext cx="4140360" cy="3225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amazonas25"/>
          <p:cNvPicPr/>
          <p:nvPr/>
        </p:nvPicPr>
        <p:blipFill>
          <a:blip r:embed="rId7"/>
          <a:stretch/>
        </p:blipFill>
        <p:spPr>
          <a:xfrm>
            <a:off x="3132000" y="1052640"/>
            <a:ext cx="3527640" cy="2639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9"/>
          <p:cNvSpPr/>
          <p:nvPr/>
        </p:nvSpPr>
        <p:spPr>
          <a:xfrm>
            <a:off x="6088680" y="2997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3708360" y="566100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бено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1:06:29Z</dcterms:created>
  <dc:creator>1</dc:creator>
  <dc:description/>
  <dc:language>en-US</dc:language>
  <cp:lastModifiedBy>Ribak</cp:lastModifiedBy>
  <dcterms:modified xsi:type="dcterms:W3CDTF">2014-02-16T17:19:55Z</dcterms:modified>
  <cp:revision>8</cp:revision>
  <dc:subject/>
  <dc:title>Афр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10000000000001024140</vt:lpwstr>
  </property>
</Properties>
</file>