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288-B7A6-4C94-B13E-38307F28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5A1-2060-4EB6-9BCE-8F53613C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59C-7568-4258-99E8-8903A2ED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D23-0458-4BD1-BAA5-4BB894BC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AF8-43A4-46DA-91D8-09E12D66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A36-63D9-418D-8E80-1446F72F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89C-9D5D-4861-B370-B702EEC9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D85-915B-4ADC-A2EB-8A892E93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453-A063-4858-B8BC-40086AF7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C46-FB4E-41D9-A3CB-43E5E01A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929-3DB9-46DB-AF2C-DC63E25C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E11-93EF-4119-A099-9AE0DB29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1CB4-BDDA-45D6-A7AC-E1AA99FB7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208080" y="66600"/>
            <a:ext cx="8856720" cy="1658880"/>
          </a:xfrm>
          <a:prstGeom prst="rect">
            <a:avLst/>
          </a:prstGeom>
          <a:ln w="0">
            <a:noFill/>
          </a:ln>
        </p:spPr>
      </p:pic>
      <p:pic>
        <p:nvPicPr>
          <p:cNvPr id="43" name="Подзаголовок 2" descr=""/>
          <p:cNvPicPr/>
          <p:nvPr/>
        </p:nvPicPr>
        <p:blipFill>
          <a:blip r:embed="rId3"/>
          <a:stretch/>
        </p:blipFill>
        <p:spPr>
          <a:xfrm>
            <a:off x="2627280" y="5065560"/>
            <a:ext cx="639432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52280" y="-36360"/>
            <a:ext cx="8852040" cy="2163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785880" y="2057400"/>
            <a:ext cx="78580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152280" y="-12600"/>
            <a:ext cx="8906040" cy="1512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857760" y="1514520"/>
            <a:ext cx="4857480" cy="5343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142920" y="1928880"/>
            <a:ext cx="35877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133200" y="-128520"/>
            <a:ext cx="9077400" cy="215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928800" y="1928880"/>
            <a:ext cx="71434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79200" y="-66600"/>
            <a:ext cx="9156960" cy="215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42960" y="2071800"/>
            <a:ext cx="7929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66600" y="-92160"/>
            <a:ext cx="9199800" cy="2202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928800" y="2071800"/>
            <a:ext cx="72864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4:27:04Z</dcterms:created>
  <dc:creator>Катя</dc:creator>
  <dc:description/>
  <dc:language>en-US</dc:language>
  <cp:lastModifiedBy>Катя</cp:lastModifiedBy>
  <dcterms:modified xsi:type="dcterms:W3CDTF">2010-12-08T05:21:51Z</dcterms:modified>
  <cp:revision>14</cp:revision>
  <dc:subject/>
  <dc:title>Викторина «Австралия- материк тайн и загадок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12000000000001024140</vt:lpwstr>
  </property>
</Properties>
</file>