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51.jpeg" ContentType="image/jpeg"/>
  <Override PartName="/ppt/media/image6.jpeg" ContentType="image/jpeg"/>
  <Override PartName="/ppt/media/image50.jpeg" ContentType="image/jpeg"/>
  <Override PartName="/ppt/media/image13.jpeg" ContentType="image/jpeg"/>
  <Override PartName="/ppt/media/image40.jpeg" ContentType="image/jpeg"/>
  <Override PartName="/ppt/media/image3.png" ContentType="image/png"/>
  <Override PartName="/ppt/media/image56.jpeg" ContentType="image/jpeg"/>
  <Override PartName="/ppt/media/image17.jpeg" ContentType="image/jpeg"/>
  <Override PartName="/ppt/media/image28.jpeg" ContentType="image/jpeg"/>
  <Override PartName="/ppt/media/image11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9.png" ContentType="image/png"/>
  <Override PartName="/ppt/media/image22.jpeg" ContentType="image/jpeg"/>
  <Override PartName="/ppt/media/image26.jpeg" ContentType="image/jpeg"/>
  <Override PartName="/ppt/media/image25.jpeg" ContentType="image/jpeg"/>
  <Override PartName="/ppt/media/image41.jpeg" ContentType="image/jpeg"/>
  <Override PartName="/ppt/media/image14.jpeg" ContentType="image/jpeg"/>
  <Override PartName="/ppt/media/image24.jpeg" ContentType="image/jpeg"/>
  <Override PartName="/ppt/media/image19.jpeg" ContentType="image/jpeg"/>
  <Override PartName="/ppt/media/image59.jpeg" ContentType="image/jpeg"/>
  <Override PartName="/ppt/media/image42.jpeg" ContentType="image/jpeg"/>
  <Override PartName="/ppt/media/image21.jpeg" ContentType="image/jpeg"/>
  <Override PartName="/ppt/media/image60.jpeg" ContentType="image/jpeg"/>
  <Override PartName="/ppt/media/image37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4.png" ContentType="image/png"/>
  <Override PartName="/ppt/media/image7.jpeg" ContentType="image/jpeg"/>
  <Override PartName="/ppt/media/image38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43.jpeg" ContentType="image/jpeg"/>
  <Override PartName="/ppt/media/image8.jpeg" ContentType="image/jpeg"/>
  <Override PartName="/ppt/media/image5.png" ContentType="image/png"/>
  <Override PartName="/ppt/media/image39.jpeg" ContentType="image/jpeg"/>
  <Override PartName="/ppt/media/image27.jpeg" ContentType="image/jpeg"/>
  <Override PartName="/ppt/media/image1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media/image57.jpeg" ContentType="image/jpeg"/>
  <Override PartName="/ppt/media/image58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280" y="1197000"/>
            <a:ext cx="79311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55280" y="4017960"/>
            <a:ext cx="79311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55280" y="1197000"/>
            <a:ext cx="38703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9680" y="1197000"/>
            <a:ext cx="38703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55280" y="4017960"/>
            <a:ext cx="38703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9680" y="4017960"/>
            <a:ext cx="38703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55280" y="1197000"/>
            <a:ext cx="25534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36920" y="1197000"/>
            <a:ext cx="25534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18200" y="1197000"/>
            <a:ext cx="25534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55280" y="4017960"/>
            <a:ext cx="25534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36920" y="4017960"/>
            <a:ext cx="25534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18200" y="4017960"/>
            <a:ext cx="25534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55280" y="1197000"/>
            <a:ext cx="79311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55280" y="1197000"/>
            <a:ext cx="79311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55280" y="1197000"/>
            <a:ext cx="387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19680" y="1197000"/>
            <a:ext cx="387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4360" y="0"/>
            <a:ext cx="597528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55280" y="1197000"/>
            <a:ext cx="38703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19680" y="1197000"/>
            <a:ext cx="387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755280" y="4017960"/>
            <a:ext cx="38703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55280" y="1197000"/>
            <a:ext cx="79311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5280" y="1197000"/>
            <a:ext cx="387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9680" y="1197000"/>
            <a:ext cx="38703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819680" y="4017960"/>
            <a:ext cx="38703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5280" y="1197000"/>
            <a:ext cx="38703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9680" y="1197000"/>
            <a:ext cx="38703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5280" y="4017960"/>
            <a:ext cx="79311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5280" y="1197000"/>
            <a:ext cx="79311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755280" y="4017960"/>
            <a:ext cx="79311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55280" y="1197000"/>
            <a:ext cx="38703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19680" y="1197000"/>
            <a:ext cx="38703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55280" y="4017960"/>
            <a:ext cx="38703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819680" y="4017960"/>
            <a:ext cx="38703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5280" y="1197000"/>
            <a:ext cx="25534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436920" y="1197000"/>
            <a:ext cx="25534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18200" y="1197000"/>
            <a:ext cx="25534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755280" y="4017960"/>
            <a:ext cx="25534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436920" y="4017960"/>
            <a:ext cx="25534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118200" y="4017960"/>
            <a:ext cx="25534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010C-CFF4-449C-B7B4-21987E2F7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755280" y="1197000"/>
            <a:ext cx="79311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8122-9CDC-45A2-AEFD-805657C98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55280" y="1197000"/>
            <a:ext cx="79311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C097-0F30-4F85-B1DE-1275659E5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55280" y="1197000"/>
            <a:ext cx="387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19680" y="1197000"/>
            <a:ext cx="387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89C2-F676-4D73-938F-D19992026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32A4-2C28-4C0D-B4BA-178506502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55280" y="1197000"/>
            <a:ext cx="79311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684360" y="0"/>
            <a:ext cx="597528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A3C1-D5B0-4DE2-A639-193B0AAAD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55280" y="1197000"/>
            <a:ext cx="38703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19680" y="1197000"/>
            <a:ext cx="387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755280" y="4017960"/>
            <a:ext cx="38703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CC31-1715-4978-9B85-80C23D7D4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55280" y="1197000"/>
            <a:ext cx="387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19680" y="1197000"/>
            <a:ext cx="38703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819680" y="4017960"/>
            <a:ext cx="38703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78F4-10DE-476D-9A6B-90D96F36C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197000"/>
            <a:ext cx="38703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19680" y="1197000"/>
            <a:ext cx="38703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755280" y="4017960"/>
            <a:ext cx="79311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54C7-97A2-4FE4-95F5-4BA27AF10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55280" y="1197000"/>
            <a:ext cx="79311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755280" y="4017960"/>
            <a:ext cx="79311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35BB-EB6C-4873-A5EE-6AD57ABB8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55280" y="1197000"/>
            <a:ext cx="38703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19680" y="1197000"/>
            <a:ext cx="38703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755280" y="4017960"/>
            <a:ext cx="38703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819680" y="4017960"/>
            <a:ext cx="38703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8A6B-7FD3-47DD-9782-6E749053E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5280" y="1197000"/>
            <a:ext cx="25534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436920" y="1197000"/>
            <a:ext cx="25534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118200" y="1197000"/>
            <a:ext cx="25534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755280" y="4017960"/>
            <a:ext cx="25534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436920" y="4017960"/>
            <a:ext cx="25534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118200" y="4017960"/>
            <a:ext cx="25534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6182-34A1-4329-BBAC-B06100814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5280" y="1197000"/>
            <a:ext cx="387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9680" y="1197000"/>
            <a:ext cx="387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4360" y="0"/>
            <a:ext cx="597528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55280" y="1197000"/>
            <a:ext cx="38703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9680" y="1197000"/>
            <a:ext cx="387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55280" y="4017960"/>
            <a:ext cx="38703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280" y="1197000"/>
            <a:ext cx="387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9680" y="1197000"/>
            <a:ext cx="38703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9680" y="4017960"/>
            <a:ext cx="38703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280" y="1197000"/>
            <a:ext cx="38703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9680" y="1197000"/>
            <a:ext cx="38703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55280" y="4017960"/>
            <a:ext cx="79311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IndiaSlai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55280" y="1197000"/>
            <a:ext cx="79311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8" descr="IndiaMaster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755280" y="1197000"/>
            <a:ext cx="79311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804C3-B988-4EAD-8E4E-4E59F94ECE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6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2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26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2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2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27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27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27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"/>
              </a:rPr>
              <a:t>Индия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19280" y="98100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Индия – аграрно – </a:t>
            </a: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индустриальная стра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9280" y="2708280"/>
            <a:ext cx="793116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В результате модернизации и либерализации экономики она имеет многоотраслевой промышленный комплекс, продуктивное сельское хозяйство и современный научно – технический потенциал. Индия располагает крупнейшими в мире запасами железной руды, богатыми месторождениями бокситов, марганцевой руды , листовой слюды, хрома, графита, берилла, титана. Из энергетических ископаемых наибольшее значение имеет каменный уголь. Собственной нефтью Индия обеспечивает себя лишь наполовину. За последнее время были открыты новые нефтяные  месторождения в Ассаме, Гуджарате и в зоне континентального шельфа Аравийского моря к северу от Мумбая.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931680" y="3429000"/>
            <a:ext cx="7669080" cy="26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ffccff"/>
                </a:solidFill>
                <a:latin typeface="Times New Roman"/>
              </a:rPr>
              <a:t>Обилие тепла и искусственное орошение позволяют снимать несколько урожаев в год. Индия не только обеспечивает себя продуктами питания, но и экспортирует их за границу. Самый известный продукт индийского экспорта – ча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ff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ffccff"/>
                </a:solidFill>
                <a:latin typeface="Times New Roman"/>
              </a:rPr>
              <a:t>Страна занимает первое место в мире по производству арахиса (7,4 млн. т.), сахара сырца (14,6 млн. т.) и проса (10,6 млн. т.), второе место - по производству пшеницы, риса и джута и третье – по производству хлопка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ff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fcc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20" y="189000"/>
            <a:ext cx="346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сновное занятие населения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916360" y="692280"/>
            <a:ext cx="5581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3300"/>
                </a:solidFill>
                <a:latin typeface="Arial"/>
              </a:rPr>
              <a:t>C</a:t>
            </a:r>
            <a:r>
              <a:rPr b="1" lang="ru-RU" sz="6600" spc="-1" strike="noStrike">
                <a:solidFill>
                  <a:srgbClr val="cc3300"/>
                </a:solidFill>
                <a:latin typeface="Arial"/>
              </a:rPr>
              <a:t>ельское хозяйств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Arial"/>
              </a:rPr>
              <a:t>Чайные плантации Инд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cc33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42560" y="764640"/>
            <a:ext cx="432108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3600" spc="-1" strike="noStrike">
                <a:solidFill>
                  <a:srgbClr val="003300"/>
                </a:solidFill>
                <a:latin typeface="Times New Roman"/>
              </a:rPr>
              <a:t>Чай</a:t>
            </a:r>
            <a:r>
              <a:rPr b="1" lang="ru-RU" sz="1800" spc="-1" strike="noStrike">
                <a:solidFill>
                  <a:srgbClr val="003300"/>
                </a:solidFill>
                <a:latin typeface="Times New Roman"/>
              </a:rPr>
              <a:t> – это визитная карточка Индии. Самые большие чайные плантации находятся на северо – востоке страны, в штате Ассам, а особенно ароматные и тонкие сорта чая – в предгорьях Гималаев. Ежегодно собирают свыше 800 тыс. тон чайного листа. Сорт чая </a:t>
            </a:r>
            <a:r>
              <a:rPr b="1" lang="en-US" sz="1800" spc="-1" strike="noStrike">
                <a:solidFill>
                  <a:srgbClr val="003300"/>
                </a:solidFill>
                <a:latin typeface="Times New Roman"/>
              </a:rPr>
              <a:t>“</a:t>
            </a:r>
            <a:r>
              <a:rPr b="1" lang="ru-RU" sz="1800" spc="-1" strike="noStrike">
                <a:solidFill>
                  <a:srgbClr val="003300"/>
                </a:solidFill>
                <a:latin typeface="Times New Roman"/>
              </a:rPr>
              <a:t>Дарджилинг</a:t>
            </a:r>
            <a:r>
              <a:rPr b="1" lang="en-US" sz="1800" spc="-1" strike="noStrike">
                <a:solidFill>
                  <a:srgbClr val="003300"/>
                </a:solidFill>
                <a:latin typeface="Times New Roman"/>
              </a:rPr>
              <a:t>” </a:t>
            </a:r>
            <a:r>
              <a:rPr b="1" lang="ru-RU" sz="1800" spc="-1" strike="noStrike">
                <a:solidFill>
                  <a:srgbClr val="003300"/>
                </a:solidFill>
                <a:latin typeface="Times New Roman"/>
              </a:rPr>
              <a:t>снискал славу самого ароматног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imes New Roman"/>
              </a:rPr>
              <a:t>      </a:t>
            </a:r>
            <a:r>
              <a:rPr b="1" lang="ru-RU" sz="1800" spc="-1" strike="noStrike">
                <a:solidFill>
                  <a:srgbClr val="003300"/>
                </a:solidFill>
                <a:latin typeface="Times New Roman"/>
              </a:rPr>
              <a:t>Чайные плантации в Индии называют садами. Чтобы защитить нежные листья чая от палящего солнца, кусты высаживают между деревьями манго, поэтому темно – зелёные шатры садов – самый обычный пейзаж штата Асса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651640" y="1484280"/>
            <a:ext cx="3106440" cy="37432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59640" y="4653000"/>
            <a:ext cx="2303280" cy="17161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Растениеводств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672000" y="836640"/>
            <a:ext cx="5472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Ведущая отрасль сельск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хозяйства Индии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растениевод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Индии выращиваю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ерновые культуры: рис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шеницу, кукурузу, прос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Главные техническ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культуры: хлопчатник, джу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чай, сахарный тростник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табак, маслич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(арахис, рапс и д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акже выращива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косовую пальму, банан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нанасы, манг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цитрусовые, пряности и спе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971640" y="981000"/>
            <a:ext cx="3240000" cy="29401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2"/>
          <p:cNvPicPr/>
          <p:nvPr/>
        </p:nvPicPr>
        <p:blipFill>
          <a:blip r:embed="rId2"/>
          <a:stretch/>
        </p:blipFill>
        <p:spPr>
          <a:xfrm>
            <a:off x="1116000" y="4076640"/>
            <a:ext cx="3095640" cy="2313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6560" y="836640"/>
            <a:ext cx="597564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В Индии насчитывается 45 тыс. видов различных раст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03640" y="2060640"/>
            <a:ext cx="349272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Баньян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 – огромное дерево с сотнями воздушных корней. Под сенью баньяна могут разместится 6 тыс. челов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042920" y="2276640"/>
            <a:ext cx="3673440" cy="424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Животновод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23640" y="3715920"/>
            <a:ext cx="844524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8585db"/>
                </a:solidFill>
                <a:latin typeface="Arial"/>
              </a:rPr>
              <a:t>Животноводство является второй по значению отраслью сельского хозяйства Индии, сильно уступая растениеводств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585db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8585db"/>
                </a:solidFill>
                <a:latin typeface="Arial"/>
              </a:rPr>
              <a:t>Индия занимает первое место в мире по поголовью крупного рогатого скота ( 200 млн. коров и 80млн. Буйволов ) и одно из последних по потреблению мясных продуктов, так как религиозные воззрения индуизма поддерживают вегетарианство, запрещают употреблять в пищу говядину и убивать коров (в древней Индии они были символом плодородия и благоденствия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585db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8585db"/>
                </a:solidFill>
                <a:latin typeface="Arial"/>
              </a:rPr>
              <a:t>В приморских районах большое значение имеет рыболовств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59752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Разнообразен в Индии и животный мир, объединяющий 75 тыс. различных ви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364000" y="1916280"/>
            <a:ext cx="3048120" cy="38890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1332000" y="1916280"/>
            <a:ext cx="2950920" cy="38890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5292720" y="5805360"/>
            <a:ext cx="317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Национальная птица – павл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258920" y="5734080"/>
            <a:ext cx="35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Национальное животное – тиг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2620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4"/>
          <p:cNvSpPr/>
          <p:nvPr/>
        </p:nvSpPr>
        <p:spPr>
          <a:xfrm>
            <a:off x="3060360" y="6400800"/>
            <a:ext cx="30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Священная кор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Хозяйство Инд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55280" y="1197000"/>
            <a:ext cx="7931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Промышлен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 годы независимости Индия добилась больших успехов в экономическом и социальном развитии. Она успешно проводит индустриализацию, аграрные преобразования, осуществляет космическую програм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В промышленности Индии преобладает металлоёмкое производство. Развита чёрная и цветная металлург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дия производит станки, тепловозы, автомобили; а также новейшую электронную технику, оборудование для АЭС и космических исследов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900000" y="1052640"/>
            <a:ext cx="3600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Индия, или Бхарат, - одно из крупнейших государств мира, страна древней цивилизации и сокровищница удивительной культуры и искусства. Индийцы первыми научились выращивать рис, хлопчатник и сахарный тростник, подарили миру шахматы и десятичную систему счисления. Страна является родиной нескольких религий и известных философских систе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826560" y="333360"/>
            <a:ext cx="568836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В химической промышленности 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выделяется производство минеральных удобрений. Развивается фармацевт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ндия - мировой экспортер хрома. Она занимает ведущее место по запасам графита, берилла, тория, циркония, и второе место в мире по добыче титана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Лёгкая промышленность 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– традиционная отрасль экономики Индии, особенно хлопчатобумажная и джутов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Пищевая промышленность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изводит товары и для внутреннего потребления и на экспорт. По экспорту чая Индия занимает 1 место в ми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516720" y="1844640"/>
            <a:ext cx="2249280" cy="35892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250920" y="5373360"/>
            <a:ext cx="8229600" cy="14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На долю Индии приходится около половины мирового рынка огранённых алмазов. Её специализация – недорогие камни. Это единственная страна в мире, которая производит пользующиеся широким спросом мелкие бриллиан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Транспор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889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Бомбей, Калькутта, Дели, Ченнаи - это четыре главных промышленных центра, распространяющие своё влияние на всю страну. Они связаны между собою важнейшими транспортными магистралями, которые играют роль главных «осей (коридоров) развити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5" descr=""/>
          <p:cNvPicPr/>
          <p:nvPr/>
        </p:nvPicPr>
        <p:blipFill>
          <a:blip r:embed="rId1"/>
          <a:stretch/>
        </p:blipFill>
        <p:spPr>
          <a:xfrm>
            <a:off x="4643280" y="1125360"/>
            <a:ext cx="4178520" cy="27831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0" descr=""/>
          <p:cNvPicPr/>
          <p:nvPr/>
        </p:nvPicPr>
        <p:blipFill>
          <a:blip r:embed="rId2"/>
          <a:stretch/>
        </p:blipFill>
        <p:spPr>
          <a:xfrm>
            <a:off x="4859280" y="4005360"/>
            <a:ext cx="3818160" cy="26715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-360" y="259920"/>
            <a:ext cx="72723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 протяженности железных дорог страна занимает второе место в мире, они обеспечивают перевозку 4 млрд. пассажиров ежегодно, не смотря что но они сильно устаревш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23640" y="765000"/>
            <a:ext cx="4105080" cy="22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ольшую роль в     экономике играет             морской и воздушный   транспорт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4643280" y="0"/>
            <a:ext cx="4500720" cy="299088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7"/>
          <p:cNvSpPr/>
          <p:nvPr/>
        </p:nvSpPr>
        <p:spPr>
          <a:xfrm>
            <a:off x="4649400" y="3067920"/>
            <a:ext cx="431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дийский автомобиль «Tata Nano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8" descr=""/>
          <p:cNvPicPr/>
          <p:nvPr/>
        </p:nvPicPr>
        <p:blipFill>
          <a:blip r:embed="rId2"/>
          <a:stretch/>
        </p:blipFill>
        <p:spPr>
          <a:xfrm>
            <a:off x="0" y="3573360"/>
            <a:ext cx="4500720" cy="260028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12"/>
          <p:cNvSpPr/>
          <p:nvPr/>
        </p:nvSpPr>
        <p:spPr>
          <a:xfrm>
            <a:off x="1189800" y="6307920"/>
            <a:ext cx="23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н-32.  ВВС Инди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4" descr=""/>
          <p:cNvPicPr/>
          <p:nvPr/>
        </p:nvPicPr>
        <p:blipFill>
          <a:blip r:embed="rId3"/>
          <a:stretch/>
        </p:blipFill>
        <p:spPr>
          <a:xfrm>
            <a:off x="4643280" y="3573360"/>
            <a:ext cx="4356360" cy="258444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15"/>
          <p:cNvSpPr/>
          <p:nvPr/>
        </p:nvSpPr>
        <p:spPr>
          <a:xfrm>
            <a:off x="4719600" y="6216120"/>
            <a:ext cx="44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дийский военный корабль "Табар"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4" descr="IndiaPrint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59752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Насе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55640" y="1052640"/>
            <a:ext cx="4176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Индия - многонациональное государств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Ее населяют крупные народы, представители которых отличаются друг от друга и внешним обликом, и языком, и обычаям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755640" y="1197000"/>
            <a:ext cx="3889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 численности населения Индия занимает второе место в мире, после Кит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Народы Индии говорят на 17 основных языках и 844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диалект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сударственным языком считается хинди (язык хиндустанцев, самой крупной индийской нации) и английский. Широко распространено двуязычь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"/>
          <p:cNvPicPr/>
          <p:nvPr/>
        </p:nvPicPr>
        <p:blipFill>
          <a:blip r:embed="rId1"/>
          <a:stretch/>
        </p:blipFill>
        <p:spPr>
          <a:xfrm>
            <a:off x="4994280" y="1278000"/>
            <a:ext cx="3495600" cy="5238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932360" y="981000"/>
            <a:ext cx="3889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Наиболее плотно заселены плодородные низменности, равнины в долинах и дельтах рек и морское побереж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ровень урбанизации (рост городов) в Индии сравнительно невелик (30 – 40%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рупные города Индии: Дели, Калькутта, Бомпей, Ченна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Преобладающая часть населения живёт в деревнях  (их более 600тысяч) больших и многолюд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чти ¼ жителей Индии имеет достаток ниже официального уровня бедности.</a:t>
            </a: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4" descr=""/>
          <p:cNvPicPr/>
          <p:nvPr/>
        </p:nvPicPr>
        <p:blipFill>
          <a:blip r:embed="rId1"/>
          <a:stretch/>
        </p:blipFill>
        <p:spPr>
          <a:xfrm>
            <a:off x="1116000" y="3716280"/>
            <a:ext cx="3492360" cy="29797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7" descr=""/>
          <p:cNvPicPr/>
          <p:nvPr/>
        </p:nvPicPr>
        <p:blipFill>
          <a:blip r:embed="rId2"/>
          <a:stretch/>
        </p:blipFill>
        <p:spPr>
          <a:xfrm>
            <a:off x="1116000" y="836640"/>
            <a:ext cx="3498840" cy="26240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755640" y="115560"/>
            <a:ext cx="5472000" cy="64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600" spc="-1" strike="noStrike">
                <a:solidFill>
                  <a:srgbClr val="800000"/>
                </a:solidFill>
                <a:latin typeface="Times New Roman"/>
              </a:rPr>
              <a:t>Каждый индус с момента рождения принадлежит общине, касте, наследует профессию родителей и ведёт образ жизни, религиозно – нравственным кодексом. Несмотря на официально провозглашенное равенство, межкастовые браки заключаются крайне редко. Человек из вышей касты скорее умрет с голоду, чем возьмёт в руки метлу, потому что работу мусорщика должны выполнять бывшие </a:t>
            </a:r>
            <a:r>
              <a:rPr b="0" lang="en-US" sz="1600" spc="-1" strike="noStrike">
                <a:solidFill>
                  <a:srgbClr val="800000"/>
                </a:solidFill>
                <a:latin typeface="Times New Roman"/>
              </a:rPr>
              <a:t>“ </a:t>
            </a:r>
            <a:r>
              <a:rPr b="0" lang="ru-RU" sz="1600" spc="-1" strike="noStrike">
                <a:solidFill>
                  <a:srgbClr val="800000"/>
                </a:solidFill>
                <a:latin typeface="Times New Roman"/>
              </a:rPr>
              <a:t>неприкасаемые</a:t>
            </a:r>
            <a:r>
              <a:rPr b="0" lang="en-US" sz="1600" spc="-1" strike="noStrike">
                <a:solidFill>
                  <a:srgbClr val="800000"/>
                </a:solidFill>
                <a:latin typeface="Times New Roman"/>
              </a:rPr>
              <a:t>”</a:t>
            </a:r>
            <a:r>
              <a:rPr b="0" lang="ru-RU" sz="1600" spc="-1" strike="noStrike">
                <a:solidFill>
                  <a:srgbClr val="800000"/>
                </a:solidFill>
                <a:latin typeface="Times New Roman"/>
              </a:rPr>
              <a:t>. Последователи джайнизма верят в спасение через уважение к всему живому. Они даже не занимаются земледелием, чтобы не причинить вреда червям. Они прикрывают рот платком. Этические предписания джайнов включают обет правдивости, сдержанности и запрещают воровство. В современном обществе многие джайны являются банкирами и крупными бизнесменами. В силу традиции в деревнях ( 75% жителей ) сохранилась сельская община. Индийские крестьяне отличаются трудолюбием. Они работают на полях с раннего утра, а когда полуденное солнце становится нещадным, активная жизнь в деревне замирает до вечера. Большинство крестьян имеют настолько малые, что едва сводят концы с концами. Приходится уходить на заработки в города. В штатах Уттар </a:t>
            </a:r>
            <a:r>
              <a:rPr b="0" lang="en-US" sz="1600" spc="-1" strike="noStrike">
                <a:solidFill>
                  <a:srgbClr val="800000"/>
                </a:solidFill>
                <a:latin typeface="Times New Roman"/>
              </a:rPr>
              <a:t>– </a:t>
            </a:r>
            <a:r>
              <a:rPr b="0" lang="ru-RU" sz="1600" spc="-1" strike="noStrike">
                <a:solidFill>
                  <a:srgbClr val="800000"/>
                </a:solidFill>
                <a:latin typeface="Times New Roman"/>
              </a:rPr>
              <a:t>Прадеш. Города перестраиваются и растут. Молодеет их население. В последние годы жители городов заметно европеизировались, но сила традиции напоминает о себе традиции напоминает о себе и мегаполисах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6300720" y="1484280"/>
            <a:ext cx="2671920" cy="46814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10920" y="189000"/>
            <a:ext cx="62658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Свадебные обря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26920" y="1052280"/>
            <a:ext cx="583272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Молодые люди женятся на девушках из своей касты. У членов высоких и средних каст свадебная церемония, сложная и торжественная, проходит в доме невесты, родители которые украшают дом, оплачивают услуги жрецов, принимают гост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      </a:t>
            </a: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В семьях низких каст за невесту дают выкуп, а свадебные расходы несут родители жених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      </a:t>
            </a: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Молодые супруги в городах все чаще живут отдельно от родителей, но все семейные события, и радостные, и печальные, отмечают обязательно все вместе, большой семьё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      </a:t>
            </a: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Семейные связи в Индии очень прочны.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в стране разводы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запрещены. Многоженство, принятое во многих мусульманских странах Востока, в Индии запрещено. Вдова не имеет права второй раз выйти замуж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      </a:t>
            </a: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Все женщины в Индии, кроме вдов, обязательно носят украшения. Кольца, серьги, браслеты – это не только украшения, но и символы благосостояния семь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659640" y="1989000"/>
            <a:ext cx="2076480" cy="30290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Государственные символы Инд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India"/>
          <p:cNvPicPr/>
          <p:nvPr/>
        </p:nvPicPr>
        <p:blipFill>
          <a:blip r:embed="rId1"/>
          <a:stretch/>
        </p:blipFill>
        <p:spPr>
          <a:xfrm>
            <a:off x="900000" y="2135160"/>
            <a:ext cx="4537080" cy="30225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India"/>
          <p:cNvPicPr/>
          <p:nvPr/>
        </p:nvPicPr>
        <p:blipFill>
          <a:blip r:embed="rId2"/>
          <a:stretch/>
        </p:blipFill>
        <p:spPr>
          <a:xfrm>
            <a:off x="5867280" y="1341360"/>
            <a:ext cx="2952720" cy="45720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0"/>
          <p:cNvSpPr/>
          <p:nvPr/>
        </p:nvSpPr>
        <p:spPr>
          <a:xfrm>
            <a:off x="2611080" y="6040440"/>
            <a:ext cx="153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Флаг Инд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1"/>
          <p:cNvSpPr/>
          <p:nvPr/>
        </p:nvSpPr>
        <p:spPr>
          <a:xfrm>
            <a:off x="6734880" y="6021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Герб Инд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94920" y="4076280"/>
            <a:ext cx="8064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Богиня красоты и удач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26920" y="189000"/>
            <a:ext cx="770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Лакшм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split dir="out" orient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66"/>
                </a:solidFill>
                <a:latin typeface="Arial"/>
              </a:rPr>
              <a:t>Города Инди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71280" y="259920"/>
            <a:ext cx="101916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ДЕЛИ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908000" y="980640"/>
            <a:ext cx="6912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1800" spc="-1" strike="noStrike">
                <a:solidFill>
                  <a:srgbClr val="cc3300"/>
                </a:solidFill>
                <a:latin typeface="Times New Roman"/>
              </a:rPr>
              <a:t>Дели – крупнейший мегаполис и один из древних городов Южной Азии, на его территории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cc3300"/>
                </a:solidFill>
                <a:latin typeface="Times New Roman"/>
              </a:rPr>
              <a:t>находится следы не менее 7 древнейших городищ. В тринадцатом веке с северо – запада в Индию проникли мусульманские завоеватели, и Дели становится столицей многих поколений мусульманских императоров. Дели украшают больше тысячи архитектурных памятников прошлог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Times New Roman"/>
              </a:rPr>
              <a:t>        </a:t>
            </a:r>
            <a:r>
              <a:rPr b="0" lang="ru-RU" sz="1800" spc="-1" strike="noStrike">
                <a:solidFill>
                  <a:srgbClr val="cc3300"/>
                </a:solidFill>
                <a:latin typeface="Times New Roman"/>
              </a:rPr>
              <a:t>Самый высокий в индии минарет, называемый Кутаб – Минар (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“</a:t>
            </a:r>
            <a:r>
              <a:rPr b="0" lang="ru-RU" sz="1800" spc="-1" strike="noStrike">
                <a:solidFill>
                  <a:srgbClr val="cc3300"/>
                </a:solidFill>
                <a:latin typeface="Times New Roman"/>
              </a:rPr>
              <a:t>башня победы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”</a:t>
            </a:r>
            <a:r>
              <a:rPr b="0" lang="ru-RU" sz="1800" spc="-1" strike="noStrike">
                <a:solidFill>
                  <a:srgbClr val="cc3300"/>
                </a:solidFill>
                <a:latin typeface="Times New Roman"/>
              </a:rPr>
              <a:t>), был построен мусульманами в честь завоевания Индии в 12 – 13 веках. Минарет украшен великолепным орнаментом, на его стенах выгравированы изречения из Короны. Неподалёку стоит колонна из нержавеющей стали, отлитая индийскими мастерами ёщё в 5 ве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Times New Roman"/>
              </a:rPr>
              <a:t>       </a:t>
            </a:r>
            <a:r>
              <a:rPr b="0" lang="ru-RU" sz="1800" spc="-1" strike="noStrike">
                <a:solidFill>
                  <a:srgbClr val="cc3300"/>
                </a:solidFill>
                <a:latin typeface="Times New Roman"/>
              </a:rPr>
              <a:t>центр Старого Дели – средневековая крепость 17 века Лал – Кила (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“</a:t>
            </a:r>
            <a:r>
              <a:rPr b="0" lang="ru-RU" sz="1800" spc="-1" strike="noStrike">
                <a:solidFill>
                  <a:srgbClr val="cc3300"/>
                </a:solidFill>
                <a:latin typeface="Times New Roman"/>
              </a:rPr>
              <a:t>красный форт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”</a:t>
            </a:r>
            <a:r>
              <a:rPr b="0" lang="ru-RU" sz="1800" spc="-1" strike="noStrike">
                <a:solidFill>
                  <a:srgbClr val="cc3300"/>
                </a:solidFill>
                <a:latin typeface="Times New Roman"/>
              </a:rPr>
              <a:t>). Её мощные стены, нарядные ворота, изящные павильоны и дворцовые залы с уникальной резьбой по камню и драгоценными инкрустациями. За воротами крепости – узкие улочки, заполненные нескончаемой толпой. Вдоль улицы тянутся многочисленные лавки торговцев. Там покупателя непременно усадят на почетное место и радушный хозяин станет раскладывать перед ним товар. Того, кто стремится поживее купить и уйти, не уважают: нужно долго выбирать, торговаться и между делом беседовать о погоде и полити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split dir="out" orient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916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Храм Лото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split dir="out" orient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split dir="out" orient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179280" y="47628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Кубат – Мина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олонна Чандрагупт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8" descr=""/>
          <p:cNvPicPr/>
          <p:nvPr/>
        </p:nvPicPr>
        <p:blipFill>
          <a:blip r:embed="rId1"/>
          <a:stretch/>
        </p:blipFill>
        <p:spPr>
          <a:xfrm>
            <a:off x="826920" y="1027080"/>
            <a:ext cx="7777440" cy="58309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Визитная карточ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55640" y="1386000"/>
            <a:ext cx="7416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лощадь страны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3 млн.   288 тыс. км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исленность населения:  1миллиард  10 миллионов челов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толица:  г.  Дели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осударственные языки – хинди, английский (временн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орма правления: республ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енежная единица – руп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ндия - одно из древнейших государств мира. В прошлом была колонией Великобритании, после Второй Мировой войны добилась независимост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47280" y="907920"/>
            <a:ext cx="597564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00"/>
                </a:solidFill>
                <a:latin typeface="Arial"/>
              </a:rPr>
              <a:t>Калькутт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68000" y="4437000"/>
            <a:ext cx="793116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алькутта – самый большой город Индии, расположенный в дельте Ганга. На берегу реки находится Майдан – огромный парк, где устраивал праздники. К нему примыкают кварталы административных зданий, среди них появились небоскрёбы. В Калькутте действует единственный в стране – метрополите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алькутта – родина индийского писателя гуманиста, философа, общественного деятеля, лауреата Нобелевской премии   Р. Тагора ( 1861 – 1941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99ff"/>
                </a:solidFill>
                <a:latin typeface="Arial"/>
              </a:rPr>
              <a:t>Тадж – Махал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95280" y="3789360"/>
            <a:ext cx="8229600" cy="25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дно из семи чудес света. Мавзолей был построен в Агре в 17 веке по приказу императора Шах – Джахана в память его любимой жены Мумтаз Бегум. Беломраморный дворец, как символ красоты, изящества и совершенства, расположен на высокой платформе в обрамлении стрельчатых минаре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99640" y="189000"/>
            <a:ext cx="597564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Бомбей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5688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Бомбей, в сравнении с другими приморскими городами Индии, вырос относительно недавно. По одной из версий, название города связано с именем почитаемой в этих местах индуской богини Мумбадев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Бомбей традиционно считается центром индийской кинопромышленности. Здесь ежегодно производит кинофильмов больше, чем в любом другом городе мира. Культурная жизнь города отличается большим многообразием и характерным для этого города космополитизм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овременный Бомбей сохранил многочисленные следы прошлого, в частности, весьма разнообразной является его архитектура. Южная часть города застроена эффектными высотными здания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есмотря на то, что Бомбей является столицей Махараштры, население которой – маратхи – говорит на языке маратхи, в городе главное место занимает английский язык – язык торговли, бизнесменов, чиновников, клерк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6659640" y="1916280"/>
            <a:ext cx="1752480" cy="3456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split dir="out" orient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split dir="out" orient="ver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split dir="out" orient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split dir="out" orient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split dir="out" orient="ver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4" descr="IndiaPrint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780000" y="1197000"/>
            <a:ext cx="4906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Индию с полным правом можно назвать музеем под открытым небом: в стране тысячи прекрасных храмов, дворцов, мавзолеев, мечетей, фор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Индия – родина шахмат, здесь возникла десятичная система исчисления, учение йог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3564000" y="189000"/>
            <a:ext cx="525456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Культура Инд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5254560" y="1268280"/>
            <a:ext cx="3889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Богатейшая духовная культура Индии – древний эпос, изобразительное и театральное искусство, классическое пение и танцы, женская одежда сари, культ змеи кобры и многое другое привлекает людей в эту стран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4" descr=""/>
          <p:cNvPicPr/>
          <p:nvPr/>
        </p:nvPicPr>
        <p:blipFill>
          <a:blip r:embed="rId1"/>
          <a:stretch/>
        </p:blipFill>
        <p:spPr>
          <a:xfrm>
            <a:off x="0" y="1341360"/>
            <a:ext cx="5651640" cy="44308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6516720" y="1052640"/>
            <a:ext cx="26272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Расположена в        Южной Азии на полуострове    Индостан.          Граничит на северо – западе с Пакистаном и Афганистаном, на севере – с Китаем, Непалом, Бутаном, на востоке – с Бангладеш и Мьянмой. На западе омывается водами Аравийского моря, на востоке –  Бенгальского залива, на юге 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Индийского океа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5"/>
          <p:cNvPicPr/>
          <p:nvPr/>
        </p:nvPicPr>
        <p:blipFill>
          <a:blip r:embed="rId1"/>
          <a:stretch/>
        </p:blipFill>
        <p:spPr>
          <a:xfrm>
            <a:off x="0" y="0"/>
            <a:ext cx="645336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Индийский тане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4" descr=""/>
          <p:cNvPicPr/>
          <p:nvPr/>
        </p:nvPicPr>
        <p:blipFill>
          <a:blip r:embed="rId1"/>
          <a:stretch/>
        </p:blipFill>
        <p:spPr>
          <a:xfrm>
            <a:off x="1187280" y="836640"/>
            <a:ext cx="6804360" cy="510372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7"/>
          <p:cNvSpPr/>
          <p:nvPr/>
        </p:nvSpPr>
        <p:spPr>
          <a:xfrm>
            <a:off x="790560" y="610020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Индийская культура – это культура звука.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Индийский классический танец являет собой как бы зримую музы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Индийское сар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547280" y="1197000"/>
            <a:ext cx="5185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“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Сари родилось на ткацком станке причудливого ткача, который мечтал о совершенной Женщине! Блеск ее слёз. Щелк её гладких волос. Цвета её постоянных капризов. Мягкость её прикосновения. Всё это объединил в едино. Он продолжал ткать и не мог остановиться. А когда закончил, обнаружил на своих коленях ткань длиной в несколько ярдов. После этого, как гласит легенда, он откинулся на спинку кресла со счастливой блаженной улыбкой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”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Слово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сари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”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 происходит с санскритского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“sati”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, что в переводе как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полоска ткани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”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Существует также мнение, что в Северной Индии долгое время сари    носили только в качестве юбки, оставляя грудь совершенно обнаженной.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6877080" y="1052640"/>
            <a:ext cx="2076480" cy="49672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78920" y="3141360"/>
            <a:ext cx="57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Праздники</a:t>
            </a: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55280" y="5805360"/>
            <a:ext cx="7993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. </a:t>
            </a:r>
            <a:r>
              <a:rPr b="1" lang="en-US" sz="1800" spc="-1" strike="noStrike">
                <a:solidFill>
                  <a:srgbClr val="f94c07"/>
                </a:solidFill>
                <a:latin typeface="Times New Roman"/>
              </a:rPr>
              <a:t>Люди обливают друг друга покрашенной водой и осыпают разноцветными порош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619280" y="1844640"/>
            <a:ext cx="6661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3300"/>
                </a:solidFill>
                <a:latin typeface="Arial"/>
              </a:rPr>
              <a:t>Холи</a:t>
            </a:r>
            <a:r>
              <a:rPr b="1" lang="en-US" sz="7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7200" spc="-1" strike="noStrike">
                <a:solidFill>
                  <a:srgbClr val="008000"/>
                </a:solidFill>
                <a:latin typeface="Arial"/>
              </a:rPr>
              <a:t>- </a:t>
            </a: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Праздник наступления весн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11280" y="537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f2621"/>
                </a:solidFill>
                <a:latin typeface="Arial"/>
              </a:rPr>
              <a:t>“</a:t>
            </a:r>
            <a:r>
              <a:rPr b="1" lang="ru-RU" sz="6000" spc="-1" strike="noStrike">
                <a:solidFill>
                  <a:srgbClr val="df2621"/>
                </a:solidFill>
                <a:latin typeface="Arial"/>
              </a:rPr>
              <a:t>Праздник огней</a:t>
            </a:r>
            <a:r>
              <a:rPr b="1" lang="en-US" sz="6000" spc="-1" strike="noStrike">
                <a:solidFill>
                  <a:srgbClr val="df2621"/>
                </a:solidFill>
                <a:latin typeface="Arial"/>
              </a:rPr>
              <a:t>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400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00"/>
                </a:solidFill>
                <a:latin typeface="Arial"/>
              </a:rPr>
              <a:t>Праздник змей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1280" y="3573360"/>
            <a:ext cx="8229600" cy="30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деревне отмечаю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нагапанчам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праздник змей . Главных виновниц торжества приносят из леса , выпускают во дворы и угощают молоком и маслом. Индусы похрабрее берут пресмыкающихся в руки и даже набрасывают их на шею. Змеи в такой день почему – то не кусаются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7528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Религ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3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6193080" cy="477972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4"/>
          <p:cNvSpPr/>
          <p:nvPr/>
        </p:nvSpPr>
        <p:spPr>
          <a:xfrm>
            <a:off x="7093080" y="1060560"/>
            <a:ext cx="20509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80% населения - </a:t>
            </a: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индуисты,</a:t>
            </a: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мусульмане </a:t>
            </a: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составляют самое значительное религиозное меньшинство - 11%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2,2% - </a:t>
            </a: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сикхи</a:t>
            </a: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буддисты</a:t>
            </a: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 всего 0,7%, большая часть которых перешла в буддизм совсем недав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755640" y="594216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Индия - светское государство, и любая дискриминация по религиозному признаку преследуется закон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4" descr=""/>
          <p:cNvPicPr/>
          <p:nvPr/>
        </p:nvPicPr>
        <p:blipFill>
          <a:blip r:embed="rId1"/>
          <a:stretch/>
        </p:blipFill>
        <p:spPr>
          <a:xfrm>
            <a:off x="1258920" y="981000"/>
            <a:ext cx="6697800" cy="5742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-360" y="3789360"/>
            <a:ext cx="831708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Расположенная по обеим сторонам Северного тропика. Индия имеет три природных района : Гималаи, плоскогорье Декан и Индо – Ганская низменность, к которой на западе примыкает пустыня Тар. В Гималаях берут начало три самые большие реки страны – Ганг, Инд и Бахмапутра. Главной рекой считается Ганг: он поит и кормит более четверти населения Индии. Согласно преданию, Ганг очищает души людей от грехов и сквер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74167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Истори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63640" y="1197000"/>
            <a:ext cx="5113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История насчитывает 5 тыс. лет и ведет начало от Хараппской цивилизации в долине Инда. В начале 11 тыс. до нашей эры в Индию пришли индоарии. Впоследствии несметные богатства прекрасной страны манили к себе многих завоевателей (греков, гуннов, тюрков – мусульман, моголов). Некоторые из них основали здесь свои империи – Делийский султан (1206 – 1526), Могольская империя (1526 – 1707). В 1498 г. Васко да Гама проложил в Индию морской путь из Европы. После битвы при Плесси в 1757 г. Установилось господство британских колонизаторов. В 1947 г. В результате многолетней освободительной борьбы индийский народ добился политической независимости. В 1950 г. Вступила в силу конституция и была провозглашена республ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020000" y="2205000"/>
            <a:ext cx="1871640" cy="25923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1187280" y="1214280"/>
            <a:ext cx="7272360" cy="42307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10920" y="-360"/>
            <a:ext cx="6048360" cy="102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Природные условия и ресур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1042920" y="5589720"/>
            <a:ext cx="77770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Индия очень богата минеральными, почвенными, водными и биологическими ресурс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99640" y="3645000"/>
            <a:ext cx="793116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лимат – экваториальный на юге и субтропический на севере. Средняя температура мая +38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, а на северо – западе - +48*С. В жаркое время многие водоёмы и колодцы пересыхают. Бывают смертельные случаи от солнечного удара. В  июле Индию охватывает муссон. Годовое количество осадков колеблется от 100 мм в Раджастхане до 12 тыс. мм в Чарапунджи – самом дождливом месте на планете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56000" y="549360"/>
            <a:ext cx="561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ff"/>
                </a:solidFill>
                <a:latin typeface="Arial"/>
              </a:rPr>
              <a:t>Климат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4:35:34Z</dcterms:created>
  <dc:creator>Elena</dc:creator>
  <dc:description/>
  <dc:language>en-US</dc:language>
  <cp:lastModifiedBy>Admin</cp:lastModifiedBy>
  <dcterms:modified xsi:type="dcterms:W3CDTF">2011-03-03T13:44:44Z</dcterms:modified>
  <cp:revision>52</cp:revision>
  <dc:subject/>
  <dc:title>Многоликая  ИНД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621000000000001024140</vt:lpwstr>
  </property>
</Properties>
</file>