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6.jpeg" ContentType="image/jpeg"/>
  <Override PartName="/ppt/media/image50.jpeg" ContentType="image/jpeg"/>
  <Override PartName="/ppt/media/image13.jpeg" ContentType="image/jpeg"/>
  <Override PartName="/ppt/media/image4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4F4-84F4-4F2B-8DAB-CE701917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F7A-0881-4BC5-A0A5-2B50E1CA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769-B353-4D10-A961-FE08C070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D72-BB81-47EA-B928-7984D3E1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1CF-AB90-40E4-92AF-9200CE3F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F43-8A89-432D-A569-C542F40E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4AC-D381-47DB-B2DA-A31499E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ADD-71F9-4227-98FA-88F207EF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7C7-9895-4844-81C6-8F84DA34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56D-2847-4A81-8AE2-7C6A78E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9E1-4A8F-4F99-9D69-A78A82C1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1D1-E64C-43E7-A3F2-DFF98C44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ndi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Indi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7BF3-7D61-409A-8FA4-166311EBE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ндия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98100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ндия – аграрно –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ндустриальная ст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7931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результате модернизации и либерализации экономики она имеет многоотраслевой промышленный комплекс, продуктивное сельское хозяйство и современный научно – технический потенциал. Индия располагает крупнейшими в мире запасами железной руды, богатыми месторождениями бокситов, марганцевой руды , листовой слюды, хрома, графита, берилла, титана. Из энергетических ископаемых наибольшее значение имеет каменный уголь. Собственной нефтью Индия обеспечивает себя лишь наполовину. За последнее время были открыты новые нефтяные  месторождения в Ассаме, Гуджарате и в зоне континентального шельфа Аравийского моря к северу от Мумба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31680" y="3429000"/>
            <a:ext cx="766908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Обилие тепла и искусственное орошение позволяют снимать несколько урожаев в год. Индия не только обеспечивает себя продуктами питания, но и экспортирует их за границу. Самый известный продукт индийского экспорта – ч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Страна занимает первое место в мире по производству арахиса (7,4 млн. т.), сахара сырца (14,6 млн. т.) и проса (10,6 млн. т.), второе место - по производству пшеницы, риса и джута и третье – по производству хлоп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20" y="18900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е занятие нас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692280"/>
            <a:ext cx="558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ельское хозяй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Чайные плантаци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764640"/>
            <a:ext cx="432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Чай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 – это визитная карточка Индии. Самые большие чайные плантации находятся на северо – востоке страны, в штате Ассам, а особенно ароматные и тонкие сорта чая – в предгорьях Гималаев. Ежегодно собирают свыше 800 тыс. тон чайного листа. Сорт чая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Дарджилинг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”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нискал славу самого арома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Чайные плантации в Индии называют садами. Чтобы защитить нежные листья чая от палящего солнца, кусты высаживают между деревьями манго, поэтому темно – зелёные шатры садов – самый обычный пейзаж штата Ас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106440" cy="374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2303280" cy="171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Растениевод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72000" y="836640"/>
            <a:ext cx="547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Ведущая отрасль сель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хозяйства Инд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астениево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Индии выращи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рновые культуры: ри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у, кукурузу, прос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Главные тех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культуры: хлопчатник, дж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чай, сахарный трост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табак, масл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арахис, рапс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выращ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осовую пальму, бана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насы, ман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русовые, пряности и сп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3240000" cy="294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2"/>
          <p:cNvPicPr/>
          <p:nvPr/>
        </p:nvPicPr>
        <p:blipFill>
          <a:blip r:embed="rId2"/>
          <a:stretch/>
        </p:blipFill>
        <p:spPr>
          <a:xfrm>
            <a:off x="1116000" y="4076640"/>
            <a:ext cx="3095640" cy="231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В Индии насчитывается 45 тыс. видов различн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03640" y="2060640"/>
            <a:ext cx="3492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Баньян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– огромное дерево с сотнями воздушных корней. Под сенью баньяна могут разместится 6 тыс.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673440" cy="424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Живот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3715920"/>
            <a:ext cx="8445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Животноводство является второй по значению отраслью сельского хозяйства Индии, сильно уступая растениевод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Индия занимает первое место в мире по поголовью крупного рогатого скота ( 200 млн. коров и 80млн. Буйволов ) и одно из последних по потреблению мясных продуктов, так как религиозные воззрения индуизма поддерживают вегетарианство, запрещают употреблять в пищу говядину и убивать коров (в древней Индии они были символом плодородия и благоденств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В приморских районах большое значение имеет рыболов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597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Разнообразен в Индии и животный мир, объединяющий 75 тыс. различных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048120" cy="388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2950920" cy="3889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92720" y="5805360"/>
            <a:ext cx="31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Национальная птица – пав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5734080"/>
            <a:ext cx="35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Национальное животное –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262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3060360" y="6400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вященная к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Хозяйство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годы независимости Индия добилась больших успехов в экономическом и социальном развитии. Она успешно проводит индустриализацию, аграрные преобразования, осуществляет космическую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В промышленности Индии преобладает металлоёмкое производство. Развита чёрная и цветная металл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я производит станки, тепловозы, автомобили; а также новейшую электронную технику, оборудование для АЭС и космически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Индия, или Бхарат, - одно из крупнейших государств мира, страна древней цивилизации и сокровищница удивительной культуры и искусства. Индийцы первыми научились выращивать рис, хлопчатник и сахарный тростник, подарили миру шахматы и десятичную систему счисления. Страна является родиной нескольких религий и известных философских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5688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 химической промышленности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ыделяется производство минеральных удобрений. Развивается фармацев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я - мировой экспортер хрома. Она занимает ведущее место по запасам графита, берилла, тория, циркония, и второе место в мире по добыче тита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Лёгкая промышленность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– традиционная отрасль экономики Индии, особенно хлопчатобумажная и джут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ищевая промышлен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дит товары и для внутреннего потребления и на экспорт. По экспорту чая Индия занимает 1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16720" y="1844640"/>
            <a:ext cx="2249280" cy="358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На долю Индии приходится около половины мирового рынка огранённых алмазов. Её специализация – недорогие камни. Это единственная страна в мире, которая производит пользующиеся широким спросом мелкие бриллиа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Бомбей, Калькутта, Дели, Ченнаи - это четыре главных промышленных центра, распространяющие своё влияние на всю страну. Они связаны между собою важнейшими транспортными магистралями, которые играют роль главных «осей (коридоров) развит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178520" cy="2783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818160" cy="2671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протяженности железных дорог страна занимает второе место в мире, они обеспечивают перевозку 4 млрд. пассажиров ежегодно, не смотря что но они сильно устаревш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41050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ую роль в     экономике играет             морской и воздушный   транспор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299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4649400" y="306792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автомобиль «Tata Nano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>
            <a:off x="0" y="3573360"/>
            <a:ext cx="4500720" cy="2600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1189800" y="630792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-32.  ВВС Инд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4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356360" cy="25844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4719600" y="62161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военный корабль "Табар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IndiaPri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597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ндия - многонациональное государ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Ее населяют крупные народы, представители которых отличаются друг от друга и внешним обликом, и языком, и обыча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численности населения Индия занимает второе место в мире, после Ки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Народы Индии говорят на 17 основных языках и 844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иале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ым языком считается хинди (язык хиндустанцев, самой крупной индийской нации) и английский. Широко распространено двуязыч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994280" y="1278000"/>
            <a:ext cx="3495600" cy="523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932360" y="981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Наиболее плотно заселены плодородные низменности, равнины в долинах и дельтах рек и морское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 урбанизации (рост городов) в Индии сравнительно невелик (30 – 4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ые города Индии: Дели, Калькутта, Бомпей, Ченна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обладающая часть населения живёт в деревнях  (их более 600тысяч) больших и многолю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ти ¼ жителей Индии имеет достаток ниже официального уровня бедности.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1116000" y="3716280"/>
            <a:ext cx="3492360" cy="2979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55640" y="115560"/>
            <a:ext cx="5472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Каждый индус с момента рождения принадлежит общине, касте, наследует профессию родителей и ведёт образ жизни, религиозно – нравственным кодексом. Несмотря на официально провозглашенное равенство, межкастовые браки заключаются крайне редко. Человек из вышей касты скорее умрет с голоду, чем возьмёт в руки метлу, потому что работу мусорщика должны выполнять бывшие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“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неприкасаемые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. Последователи джайнизма верят в спасение через уважение к всему живому. Они даже не занимаются земледелием, чтобы не причинить вреда червям. Они прикрывают рот платком. Этические предписания джайнов включают обет правдивости, сдержанности и запрещают воровство. В современном обществе многие джайны являются банкирами и крупными бизнесменами. В силу традиции в деревнях ( 75% жителей ) сохранилась сельская община. Индийские крестьяне отличаются трудолюбием. Они работают на полях с раннего утра, а когда полуденное солнце становится нещадным, активная жизнь в деревне замирает до вечера. Большинство крестьян имеют настолько малые, что едва сводят концы с концами. Приходится уходить на заработки в города. В штатах Уттар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Прадеш. Города перестраиваются и растут. Молодеет их население. В последние годы жители городов заметно европеизировались, но сила традиции напоминает о себе традиции напоминает о себе и мегаполисах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300720" y="1484280"/>
            <a:ext cx="2671920" cy="468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265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вадебные обря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5832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олодые люди женятся на девушках из своей касты. У членов высоких и средних каст свадебная церемония, сложная и торжественная, проходит в доме невесты, родители которые украшают дом, оплачивают услуги жрецов, принимают г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 семьях низких каст за невесту дают выкуп, а свадебные расходы несут родители жени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олодые супруги в городах все чаще живут отдельно от родителей, но все семейные события, и радостные, и печальные, отмечают обязательно все вместе, большой семь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емейные связи в Индии очень прочны.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 стране разводы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запрещены. Многоженство, принятое во многих мусульманских странах Востока, в Индии запрещено. Вдова не имеет права второй раз выйти заму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се женщины в Индии, кроме вдов, обязательно носят украшения. Кольца, серьги, браслеты – это не только украшения, но и символы благосостояния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59640" y="1989000"/>
            <a:ext cx="2076480" cy="302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Государственные символы Ин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India"/>
          <p:cNvPicPr/>
          <p:nvPr/>
        </p:nvPicPr>
        <p:blipFill>
          <a:blip r:embed="rId1"/>
          <a:stretch/>
        </p:blipFill>
        <p:spPr>
          <a:xfrm>
            <a:off x="900000" y="2135160"/>
            <a:ext cx="4537080" cy="302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ndia"/>
          <p:cNvPicPr/>
          <p:nvPr/>
        </p:nvPicPr>
        <p:blipFill>
          <a:blip r:embed="rId2"/>
          <a:stretch/>
        </p:blipFill>
        <p:spPr>
          <a:xfrm>
            <a:off x="5867280" y="1341360"/>
            <a:ext cx="2952720" cy="4572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2611080" y="6040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Флаг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73488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Герб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4076280"/>
            <a:ext cx="8064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огиня красоты и у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189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акш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Города Инд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1019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ДЕЛ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6912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Дели – крупнейший мегаполис и один из древних городов Южной Азии, на его территории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находится следы не менее 7 древнейших городищ. В тринадцатом веке с северо – запада в Индию проникли мусульманские завоеватели, и Дели становится столицей многих поколений мусульманских императоров. Дели украшают больше тысячи архитектурных памятников прошл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Самый высокий в индии минарет, называемый Кутаб – Минар (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башня победы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), был построен мусульманами в честь завоевания Индии в 12 – 13 веках. Минарет украшен великолепным орнаментом, на его стенах выгравированы изречения из Короны. Неподалёку стоит колонна из нержавеющей стали, отлитая индийскими мастерами ёщё в 5 в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центр Старого Дели – средневековая крепость 17 века Лал – Кила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красный фор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). Её мощные стены, нарядные ворота, изящные павильоны и дворцовые залы с уникальной резьбой по камню и драгоценными инкрустациями. За воротами крепости – узкие улочки, заполненные нескончаемой толпой. Вдоль улицы тянутся многочисленные лавки торговцев. Там покупателя непременно усадят на почетное место и радушный хозяин станет раскладывать перед ним товар. Того, кто стремится поживее купить и уйти, не уважают: нужно долго выбирать, торговаться и между делом беседовать о погоде и поли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16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Храм Лот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убат – Мина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онна Чандрагуп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826920" y="1027080"/>
            <a:ext cx="7777440" cy="5830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Визитная кар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38600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страны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 млн.   288 тыс.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ленность населения:  1миллиард  10 миллионов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лица:  г.  Дел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ые языки – хинди, английский (времен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а правления: республ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ежная единица – руп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я - одно из древнейших государств мира. В прошлом была колонией Великобритании, после Второй Мировой войны добилась независим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Калькут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4437000"/>
            <a:ext cx="7931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ькутта – самый большой город Индии, расположенный в дельте Ганга. На берегу реки находится Майдан – огромный парк, где устраивал праздники. К нему примыкают кварталы административных зданий, среди них появились небоскрёбы. В Калькутте действует единственный в стране – метрополи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ькутта – родина индийского писателя гуманиста, философа, общественного деятеля, лауреата Нобелевской премии   Р. Тагора ( 1861 – 1941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ff"/>
                </a:solidFill>
                <a:latin typeface="Arial"/>
              </a:rPr>
              <a:t>Тадж – Маха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3789360"/>
            <a:ext cx="82296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о из семи чудес света. Мавзолей был построен в Агре в 17 веке по приказу императора Шах – Джахана в память его любимой жены Мумтаз Бегум. Беломраморный дворец, как символ красоты, изящества и совершенства, расположен на высокой платформе в обрамлении стрельчатых минар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Бомбе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56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мбей, в сравнении с другими приморскими городами Индии, вырос относительно недавно. По одной из версий, название города связано с именем почитаемой в этих местах индуской богини Мумбаде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мбей традиционно считается центром индийской кинопромышленности. Здесь ежегодно производит кинофильмов больше, чем в любом другом городе мира. Культурная жизнь города отличается большим многообразием и характерным для этого города космополитизм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ременный Бомбей сохранил многочисленные следы прошлого, в частности, весьма разнообразной является его архитектура. Южная часть города застроена эффектными высотными зда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смотря на то, что Бомбей является столицей Махараштры, население которой – маратхи – говорит на языке маратхи, в городе главное место занимает английский язык – язык торговли, бизнесменов, чиновников, клер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659640" y="1916280"/>
            <a:ext cx="1752480" cy="345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ndiaPrin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780000" y="1197000"/>
            <a:ext cx="490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ию с полным правом можно назвать музеем под открытым небом: в стране тысячи прекрасных храмов, дворцов, мавзолеев, мечетей, фор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ия – родина шахмат, здесь возникла десятичная система исчисления, учение й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564000" y="189000"/>
            <a:ext cx="52545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ультура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254560" y="126828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Богатейшая духовная культура Индии – древний эпос, изобразительное и театральное искусство, классическое пение и танцы, женская одежда сари, культ змеи кобры и многое другое привлекает людей в эту ст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5651640" cy="443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516720" y="1052640"/>
            <a:ext cx="2627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Расположена в        Южной Азии на полуострове    Индостан.          Граничит на северо – западе с Пакистаном и Афганистаном, на севере – с Китаем, Непалом, Бутаном, на востоке – с Бангладеш и Мьянмой. На западе омывается водами Аравийского моря, на востоке –  Бенгальского залива, на юг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Индийского оке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64533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ндийский та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04360" cy="5103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90560" y="6100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ндийская культура – это культура звука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ндийский классический танец являет собой как бы зримую музы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ндийское са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47280" y="1197000"/>
            <a:ext cx="51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ри родилось на ткацком станке причудливого ткача, который мечтал о совершенной Женщине! Блеск ее слёз. Щелк её гладких волос. Цвета её постоянных капризов. Мягкость её прикосновения. Всё это объединил в едино. Он продолжал ткать и не мог остановиться. А когда закончил, обнаружил на своих коленях ткань длиной в несколько ярдов. После этого, как гласит легенда, он откинулся на спинку кресла со счастливой блаженной улыбкой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лово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р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происходит с санскритского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sati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что в переводе как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лоска ткан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уществует также мнение, что в Северной Индии долгое время сари    носили только в качестве юбки, оставляя грудь совершенно обнаженной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2076480" cy="496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5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аздники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280" y="580536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f94c07"/>
                </a:solidFill>
                <a:latin typeface="Times New Roman"/>
              </a:rPr>
              <a:t>Люди обливают друг друга покрашенной водой и осыпают разноцветными поро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19280" y="1844640"/>
            <a:ext cx="66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00"/>
                </a:solidFill>
                <a:latin typeface="Arial"/>
              </a:rPr>
              <a:t>Холи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Праздник наступления вес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2621"/>
                </a:solidFill>
                <a:latin typeface="Arial"/>
              </a:rPr>
              <a:t>“</a:t>
            </a:r>
            <a:r>
              <a:rPr b="1" lang="ru-RU" sz="6000" spc="-1" strike="noStrike">
                <a:solidFill>
                  <a:srgbClr val="df2621"/>
                </a:solidFill>
                <a:latin typeface="Arial"/>
              </a:rPr>
              <a:t>Праздник огней</a:t>
            </a:r>
            <a:r>
              <a:rPr b="1" lang="en-US" sz="6000" spc="-1" strike="noStrike">
                <a:solidFill>
                  <a:srgbClr val="df2621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Праздник зм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357336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еревне отмеч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нагапанч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праздник змей . Главных виновниц торжества приносят из леса , выпускают во дворы и угощают молоком и маслом. Индусы похрабрее берут пресмыкающихся в руки и даже набрасывают их на шею. Змеи в такой день почему – то не кусаютс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193080" cy="47797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7093080" y="1060560"/>
            <a:ext cx="205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80% населения -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ндуисты,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усульмане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оставляют самое значительное религиозное меньшинство - 11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,2% -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икхи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буддисты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всего 0,7%, большая часть которых перешла в буддизм совсем недав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755640" y="5942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ндия - светское государство, и любая дискриминация по религиозному признаку преследуется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97800" cy="574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3789360"/>
            <a:ext cx="8317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положенная по обеим сторонам Северного тропика. Индия имеет три природных района : Гималаи, плоскогорье Декан и Индо – Ганская низменность, к которой на западе примыкает пустыня Тар. В Гималаях берут начало три самые большие реки страны – Ганг, Инд и Бахмапутра. Главной рекой считается Ганг: он поит и кормит более четверти населения Индии. Согласно преданию, Ганг очищает души людей от грехов и скве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640" y="1197000"/>
            <a:ext cx="511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тория насчитывает 5 тыс. лет и ведет начало от Хараппской цивилизации в долине Инда. В начале 11 тыс. до нашей эры в Индию пришли индоарии. Впоследствии несметные богатства прекрасной страны манили к себе многих завоевателей (греков, гуннов, тюрков – мусульман, моголов). Некоторые из них основали здесь свои империи – Делийский султан (1206 – 1526), Могольская империя (1526 – 1707). В 1498 г. Васко да Гама проложил в Индию морской путь из Европы. После битвы при Плесси в 1757 г. Установилось господство британских колонизаторов. В 1947 г. В результате многолетней освободительной борьбы индийский народ добился политической независимости. В 1950 г. Вступила в силу конституция и была провозглашена респуб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20000" y="2205000"/>
            <a:ext cx="1871640" cy="259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187280" y="1214280"/>
            <a:ext cx="7272360" cy="4230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04836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риродные условия и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042920" y="5589720"/>
            <a:ext cx="777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Индия очень богата минеральными, почвенными, водными и биологическими ресу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3645000"/>
            <a:ext cx="7931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имат – экваториальный на юге и субтропический на севере. Средняя температура мая +38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, а на северо – западе - +48*С. В жаркое время многие водоёмы и колодцы пересыхают. Бывают смертельные случаи от солнечного удара. В  июле Индию охватывает муссон. Годовое количество осадков колеблется от 100 мм в Раджастхане до 12 тыс. мм в Чарапунджи – самом дождливом месте на планет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54936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Клима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35:34Z</dcterms:created>
  <dc:creator>Elena</dc:creator>
  <dc:description/>
  <dc:language>en-US</dc:language>
  <cp:lastModifiedBy>Admin</cp:lastModifiedBy>
  <dcterms:modified xsi:type="dcterms:W3CDTF">2011-03-03T13:44:44Z</dcterms:modified>
  <cp:revision>52</cp:revision>
  <dc:subject/>
  <dc:title>Многоликая  ИНД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4140</vt:lpwstr>
  </property>
</Properties>
</file>