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B923-1F85-41ED-B0DD-9A636712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FA3-9C7F-4400-B3F8-E213A08E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7F3-EF65-4C02-BBCC-CDCD47DA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91C-A385-4B14-818D-123DA468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7FC9-DDC2-441A-B223-56B2AD0B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74DB-B6F3-48B1-BBDA-A84F9D6E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0547-E5F2-403E-A139-AC523569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975C-B09D-41D1-BF76-65F29DEC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C65F-D876-4C8C-A844-6A7AD088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EF8F-A7E1-48A4-BB6E-B6755965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E229-5A36-41B7-B8D7-360381DD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4FD-8AF9-4A37-9E87-97E7573F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F5BC-9D5F-4977-A673-0745F4F5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70CC-ED4D-4364-93C6-F800DC62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A354-770A-4392-8B6C-C57B51A4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82F3-5A8B-4C11-9A9C-7036D50D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9361-9C67-41D3-B967-E0DAE217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46FB-8319-446D-BBE6-25BE2301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FE0-F2AF-4A99-BF40-EB7929FF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FE9-49AF-4C19-815A-74AAF150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195-C1D1-4D50-A35E-B2ADE9A1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983-3365-4360-BA72-8A50A5D6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9FD4-89D4-4D2F-8EDB-BF783328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2721-736A-4D4B-B8F1-48DED0BA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A7EB-1495-4BFA-99F5-F851BFDAC3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788C-2A94-4D02-9D1C-44E53055FD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вадратичная функция и  ее граф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5840" y="4076280"/>
            <a:ext cx="6040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Материалы к уро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gt;0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етви параболы направлен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верх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график имеет две точ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5565"/>
          <p:cNvPicPr/>
          <p:nvPr/>
        </p:nvPicPr>
        <p:blipFill>
          <a:blip r:embed="rId1"/>
          <a:stretch/>
        </p:blipFill>
        <p:spPr>
          <a:xfrm>
            <a:off x="6300720" y="1844640"/>
            <a:ext cx="16639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=0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параболы направлены вверх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имеет одну точк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сли Д=0, 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 параболы направлены вниз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имеет одну точк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777"/>
          <p:cNvPicPr/>
          <p:nvPr/>
        </p:nvPicPr>
        <p:blipFill>
          <a:blip r:embed="rId1"/>
          <a:stretch/>
        </p:blipFill>
        <p:spPr>
          <a:xfrm>
            <a:off x="5219640" y="1752480"/>
            <a:ext cx="30974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2800440" cy="42483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50920" y="1989000"/>
            <a:ext cx="55656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lt;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( график расположен в 1 и 2 четвертях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етви параболы направлены ввер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 не име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точек 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сли Д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, 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( график расположен в 3 и 4 четвертях)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етви параболы направлены вниз, график не имеет точек 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b0f0"/>
                </a:solidFill>
                <a:latin typeface="Comic Sans MS"/>
              </a:rPr>
              <a:t>  </a:t>
            </a:r>
            <a:r>
              <a:rPr b="0" lang="uk-UA" sz="4800" spc="-1" strike="noStrike">
                <a:solidFill>
                  <a:srgbClr val="ff0000"/>
                </a:solidFill>
                <a:latin typeface="Comic Sans MS"/>
              </a:rPr>
              <a:t>Материал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ы к уроку подготовила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92d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omic Sans MS"/>
              </a:rPr>
              <a:t>учитель УВК № 137 г.Днепропетровс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92d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omic Sans MS"/>
              </a:rPr>
              <a:t>Рослюк Н.Е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ведения о функци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Функция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это соответствие  между переменными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 котором каждому значению переменной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оответствует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единственное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переменной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703dff"/>
                </a:solidFill>
                <a:uFillTx/>
                <a:latin typeface="Comic Sans MS"/>
              </a:rPr>
              <a:t>Область определения</a:t>
            </a:r>
            <a:r>
              <a:rPr b="0" lang="ru-RU" sz="4000" spc="-1" strike="noStrike" u="sng">
                <a:solidFill>
                  <a:srgbClr val="ffb800"/>
                </a:solidFill>
                <a:uFillTx/>
                <a:latin typeface="Comic Sans MS"/>
              </a:rPr>
              <a:t> и область значения функ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312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Множество значений переменной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х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               ( аргумента) называют областью определения функции –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Д(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Множество значений переменной </a:t>
            </a: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у 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                ( функции ) называют областью значения функции – </a:t>
            </a: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Е(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152280"/>
            <a:ext cx="658476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Квадратичная функция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692280"/>
            <a:ext cx="74818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Функция, которая задана формуло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y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= ах</a:t>
            </a:r>
            <a:r>
              <a:rPr b="0" lang="ru-RU" sz="2000" spc="-1" strike="noStrike" baseline="30000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+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х +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гд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 не  равно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0, в и с –числа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х-аргумент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называю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квадратичной ( квадратной ) функци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Примеры</a:t>
            </a:r>
            <a:r>
              <a:rPr b="1" lang="en-US" sz="1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квадратичной функции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-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+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-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–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– 3х +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- 2х -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Сведения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Графиком функции называют фигуру, состоящую из всех точек координатной плоскости, абсциссы которых равны значениям аргумента, а ординаты- соответствующим значениям функц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Графиком квадратичной функци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парабо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Д(у)=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раболу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построи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при помощи  графика функц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= ах</a:t>
            </a:r>
            <a:r>
              <a:rPr b="1" lang="ru-RU" sz="18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утем двух параллельных переносов ( смещения вдоль оси ОХ  и вдоль оси ОУ) , выделяя  квадрат двучлена из квадратного трехчлена 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)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1) вычислить координату вершины параболы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( m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n)  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m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= - в/2а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        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n= f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2) Найти точки пересечения графика функции с ося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ОХ ( нули функции   у =0 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и ОУ( х=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800"/>
                </a:solidFill>
                <a:latin typeface="Comic Sans MS"/>
              </a:rPr>
              <a:t>3) Найти дополнительные точки ( учитывая ось симметрии парабол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4) Построить парабол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График квадратичной функци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Осью симметри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араболы является прямая, проходящая через вершину параболы , параллельно оси О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ВНИМАНИЕ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при а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&gt;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етви направлены вверх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при  а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&lt;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ветви параболы направлены вниз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800"/>
            </a:b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9120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gt; 0  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 a&l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параболы направлены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низ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 имеет две  точ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6" descr="222"/>
          <p:cNvPicPr/>
          <p:nvPr/>
        </p:nvPicPr>
        <p:blipFill>
          <a:blip r:embed="rId1"/>
          <a:stretch/>
        </p:blipFill>
        <p:spPr>
          <a:xfrm>
            <a:off x="5219640" y="1916280"/>
            <a:ext cx="3457800" cy="393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8:59:49Z</dcterms:created>
  <dc:creator>Gene</dc:creator>
  <dc:description/>
  <dc:language>en-US</dc:language>
  <cp:lastModifiedBy>Евгений</cp:lastModifiedBy>
  <dcterms:modified xsi:type="dcterms:W3CDTF">2014-03-13T08:39:53Z</dcterms:modified>
  <cp:revision>16</cp:revision>
  <dc:subject/>
  <dc:title>Квадратичная функция , ее график</dc:title>
</cp:coreProperties>
</file>