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F77-C56E-47C9-985E-2050CC79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A30-B5B8-4932-99B0-6801BED5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3AF-1111-4333-BCA1-15A39DD3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807-EB8D-44A7-855E-1D560789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6E17-2BD8-480C-956E-99A6E975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62A0-FE46-4146-85DE-2B37B198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F1A3-1207-4115-9CCA-AADBB1D5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11AF-4E9D-48A4-90BB-17F2C9A6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225E-0BDB-4BE0-91B3-5338FCC0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6238-5516-4053-812E-170CC7C9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1493-F047-4AE4-98D4-A22084C1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E38-399B-42DD-A274-D4FE9602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19A0-9BC0-43D9-A547-F187B345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DBE4-76F0-4841-8357-CE79C941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91B7-A02D-46E3-8A94-0E1F5173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E9F5-F076-44C3-887F-48F0CF0D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3E7E-8ABE-439A-9622-B46FF917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3D5-0313-460A-A9BE-FEF6D1E1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C95-C470-4078-A387-7AE6BADB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E8C-6521-449F-BEBF-49450944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4E8-06E4-408F-9B50-AE1C3184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4A8-C501-4724-A364-48118091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F87-F301-4E39-BF0B-6B982E81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42C-9D1C-49D8-88DC-F3D0B6D9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1550-D743-4D68-9FA7-AAD4834F4F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D671-1205-4BC6-A2C4-A381B34BEF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вадратичная функция и  ее 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5840" y="4076280"/>
            <a:ext cx="6040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атериалы к ур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0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етви параболы направле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график имеет две т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5565"/>
          <p:cNvPicPr/>
          <p:nvPr/>
        </p:nvPicPr>
        <p:blipFill>
          <a:blip r:embed="rId1"/>
          <a:stretch/>
        </p:blipFill>
        <p:spPr>
          <a:xfrm>
            <a:off x="6300720" y="1844640"/>
            <a:ext cx="166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=0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 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=0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 параболы направлены вни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777"/>
          <p:cNvPicPr/>
          <p:nvPr/>
        </p:nvPicPr>
        <p:blipFill>
          <a:blip r:embed="rId1"/>
          <a:stretch/>
        </p:blipFill>
        <p:spPr>
          <a:xfrm>
            <a:off x="5219640" y="1752480"/>
            <a:ext cx="30974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800440" cy="4248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0920" y="1989000"/>
            <a:ext cx="5565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l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( график расположен в 1 и 2 четвертя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вер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 не име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( график расположен в 3 и 4 четвертях)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низ, график не имеет 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0f0"/>
                </a:solidFill>
                <a:latin typeface="Comic Sans MS"/>
              </a:rPr>
              <a:t>  </a:t>
            </a:r>
            <a:r>
              <a:rPr b="0" lang="uk-UA" sz="4800" spc="-1" strike="noStrike">
                <a:solidFill>
                  <a:srgbClr val="ff0000"/>
                </a:solidFill>
                <a:latin typeface="Comic Sans MS"/>
              </a:rPr>
              <a:t>Материал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ы к уроку подготови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учитель УВК № 137 г.Днепропетровс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Рослюк Н.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ведения о функ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Функция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соответствие  между переменным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котором каждому значению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ответствует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единственное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Область определения</a:t>
            </a: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 и область значения фун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312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х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         ( аргумента) называют областью определения функции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Д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у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              ( функции ) называют областью значения функции –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Е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5847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вадратичная функция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692280"/>
            <a:ext cx="74818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Функция, которая задана формул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y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ах</a:t>
            </a:r>
            <a:r>
              <a:rPr b="0" lang="ru-RU" sz="20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х +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гд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не  равн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0, в и с –числа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х-аргумен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назыв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вадратичной ( квадратной ) функ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Примеры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вадратичной функци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–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– 3х +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- 2х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Сведения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рафиком функции называют фигуру, состоящую из всех точек координатной плоскости, абсциссы которых равны значениям аргумента, а ординаты- соответствующим значениям функ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рафиком квадратичной функц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арабо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(у)=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раболу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остро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при помощи  графика функц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= ах</a:t>
            </a:r>
            <a:r>
              <a:rPr b="1" lang="ru-RU" sz="18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тем двух параллельных переносов ( смещения вдоль оси ОХ  и вдоль оси ОУ) , выделяя  квадрат двучлена из квадратного трехчлена 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1) вычислить координату вершины параболы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( 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)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- в/2а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= f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) Найти точки пересечения графика функции с ос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Х ( нули функции   у =0 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и ОУ( х=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800"/>
                </a:solidFill>
                <a:latin typeface="Comic Sans MS"/>
              </a:rPr>
              <a:t>3) Найти дополнительные точки ( учитывая ось симметрии парабол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4) Построить парабол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График квадратичной функ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сью симметр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раболы является прямая, проходящая через вершину параболы , параллельно оси О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НИМАНИ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g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тви направлены ввер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l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етви параболы направлены вниз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12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 0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a&l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 имеет две  точ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222"/>
          <p:cNvPicPr/>
          <p:nvPr/>
        </p:nvPicPr>
        <p:blipFill>
          <a:blip r:embed="rId1"/>
          <a:stretch/>
        </p:blipFill>
        <p:spPr>
          <a:xfrm>
            <a:off x="5219640" y="1916280"/>
            <a:ext cx="3457800" cy="39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8:59:49Z</dcterms:created>
  <dc:creator>Gene</dc:creator>
  <dc:description/>
  <dc:language>en-US</dc:language>
  <cp:lastModifiedBy>Евгений</cp:lastModifiedBy>
  <dcterms:modified xsi:type="dcterms:W3CDTF">2014-03-13T08:39:53Z</dcterms:modified>
  <cp:revision>16</cp:revision>
  <dc:subject/>
  <dc:title>Квадратичная функция , ее график</dc:title>
</cp:coreProperties>
</file>