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E9C7-C1FE-4AD2-B23C-31871B8C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DD92-32E9-4430-95B3-4F160ECC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1F66-0872-44E6-93FF-6D8A1F19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8398-3551-47A4-B375-8BA845D6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B28B-09E6-417B-ACFA-10251730B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7A76-8C68-4A2D-9F44-9BC89CB8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7866-BC38-4592-9DAA-A32D7639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883D-E306-4BEC-9AD5-7C6D1880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EE31-8FDD-4A8F-862E-44301C0C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0057-E491-4B52-8EA1-C3517E75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F59A-2E16-448C-A0CC-2DE8B85B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EB3A-96ED-4CDC-ABA0-32A2F779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3777-18FC-486A-8E84-3AE1EB91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BC85-240A-4891-B1B3-6DC8E7FD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164F-9086-4B5A-8462-026A7E8E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22CD-78DD-4F95-8E29-F8914811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E498-3C47-44B8-9903-ADA67F8D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9749-FAF1-4F55-817F-C4D1BA89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D07A-9160-42A9-8D71-14AA268A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3CB7-9D9A-4C3B-A048-D6EB2A38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6038-DFF5-4648-8DC6-B75A1EEF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CB28-B3B9-473C-A328-A3DBE8FE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D225-95EE-494C-8E05-7E1D5FCA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871F-3621-4D53-906F-2BC7CFF4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BF66-A6C9-4323-8DB5-93F0D32A8B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711B-04CE-47C2-B793-C15A092FB3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вадратичная функция и  ее граф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5840" y="4076280"/>
            <a:ext cx="604044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Материалы к урок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gt;0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ветви параболы направлен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вверх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график имеет две точ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5565"/>
          <p:cNvPicPr/>
          <p:nvPr/>
        </p:nvPicPr>
        <p:blipFill>
          <a:blip r:embed="rId1"/>
          <a:stretch/>
        </p:blipFill>
        <p:spPr>
          <a:xfrm>
            <a:off x="6300720" y="1844640"/>
            <a:ext cx="16639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=0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параболы направлены вверх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имеет одну точк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Если Д=0, а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 параболы направлены вниз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имеет одну точк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6" descr="777"/>
          <p:cNvPicPr/>
          <p:nvPr/>
        </p:nvPicPr>
        <p:blipFill>
          <a:blip r:embed="rId1"/>
          <a:stretch/>
        </p:blipFill>
        <p:spPr>
          <a:xfrm>
            <a:off x="5219640" y="1752480"/>
            <a:ext cx="30974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2800440" cy="42483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250920" y="1989000"/>
            <a:ext cx="55656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lt;0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( график расположен в 1 и 2 четвертях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етви параболы направлены ввер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 не имее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точек 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Если Д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, а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( график расположен в 3 и 4 четвертях)</a:t>
            </a: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етви параболы направлены вниз, график не имеет точек 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b0f0"/>
                </a:solidFill>
                <a:latin typeface="Comic Sans MS"/>
              </a:rPr>
              <a:t>  </a:t>
            </a:r>
            <a:r>
              <a:rPr b="0" lang="uk-UA" sz="4800" spc="-1" strike="noStrike">
                <a:solidFill>
                  <a:srgbClr val="ff0000"/>
                </a:solidFill>
                <a:latin typeface="Comic Sans MS"/>
              </a:rPr>
              <a:t>Материал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ы к уроку подготовила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buClr>
                <a:srgbClr val="92d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Comic Sans MS"/>
              </a:rPr>
              <a:t>учитель УВК № 137 г.Днепропетровс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buClr>
                <a:srgbClr val="92d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Comic Sans MS"/>
              </a:rPr>
              <a:t>Рослюк Н.Е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Сведения о функци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b200"/>
                </a:solidFill>
                <a:uFillTx/>
                <a:latin typeface="Comic Sans MS"/>
              </a:rPr>
              <a:t>Функция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это соответствие  между переменными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,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 котором каждому значению переменной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оответствует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единственное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чение переменной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703dff"/>
                </a:solidFill>
                <a:uFillTx/>
                <a:latin typeface="Comic Sans MS"/>
              </a:rPr>
              <a:t>Область определения</a:t>
            </a:r>
            <a:r>
              <a:rPr b="0" lang="ru-RU" sz="4000" spc="-1" strike="noStrike" u="sng">
                <a:solidFill>
                  <a:srgbClr val="ffb800"/>
                </a:solidFill>
                <a:uFillTx/>
                <a:latin typeface="Comic Sans MS"/>
              </a:rPr>
              <a:t> и область значения функ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3128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Множество значений переменной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х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               ( аргумента) называют областью определения функции –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Д(у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Множество значений переменной </a:t>
            </a:r>
            <a:r>
              <a:rPr b="1" lang="ru-RU" sz="3200" spc="-1" strike="noStrike">
                <a:solidFill>
                  <a:srgbClr val="ffb800"/>
                </a:solidFill>
                <a:latin typeface="Comic Sans MS"/>
              </a:rPr>
              <a:t>у </a:t>
            </a: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                ( функции ) называют областью значения функции – </a:t>
            </a:r>
            <a:r>
              <a:rPr b="1" lang="ru-RU" sz="3200" spc="-1" strike="noStrike">
                <a:solidFill>
                  <a:srgbClr val="ffb800"/>
                </a:solidFill>
                <a:latin typeface="Comic Sans MS"/>
              </a:rPr>
              <a:t>Е(у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152280"/>
            <a:ext cx="658476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Квадратичная функция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99640" y="692280"/>
            <a:ext cx="748188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Функция, которая задана формуло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y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= ах</a:t>
            </a:r>
            <a:r>
              <a:rPr b="0" lang="ru-RU" sz="2000" spc="-1" strike="noStrike" baseline="30000">
                <a:solidFill>
                  <a:srgbClr val="00b200"/>
                </a:solidFill>
                <a:latin typeface="Comic Sans MS"/>
              </a:rPr>
              <a:t>2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+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х + с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где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 не  равно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0, в и с –числа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х-аргумент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называю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квадратичной ( квадратной ) функци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Примеры</a:t>
            </a:r>
            <a:r>
              <a:rPr b="1" lang="en-US" sz="1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квадратичной функции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-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+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-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–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– 3х +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- 2х -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Comic Sans MS"/>
              </a:rPr>
              <a:t>Сведения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Графиком функции называют фигуру, состоящую из всех точек координатной плоскости, абсциссы которых равны значениям аргумента, а ординаты- соответствующим значениям функц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Графиком квадратичной функци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парабол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Д(у)=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араболу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построит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 при помощи  графика функци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= ах</a:t>
            </a:r>
            <a:r>
              <a:rPr b="1" lang="ru-RU" sz="18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утем двух параллельных переносов ( смещения вдоль оси ОХ  и вдоль оси ОУ) , выделяя  квадрат двучлена из квадратного трехчлена 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)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1) вычислить координату вершины параболы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     ( m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n)  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m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= - в/2а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             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n= f(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2) Найти точки пересечения графика функции с ося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ОХ ( нули функции   у =0 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и ОУ( х=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800"/>
                </a:solidFill>
                <a:latin typeface="Comic Sans MS"/>
              </a:rPr>
              <a:t>3) Найти дополнительные точки ( учитывая ось симметрии параболы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4) Построить парабол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График квадратичной функци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Осью симметри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араболы является прямая, проходящая через вершину параболы , параллельно оси О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ВНИМАНИЕ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при а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&gt;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етви направлены вверх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при  а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&lt;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ветви параболы направлены вниз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800"/>
            </a:b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9120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gt; 0  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 a&l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параболы направлены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низ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 имеет две  точ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6" descr="222"/>
          <p:cNvPicPr/>
          <p:nvPr/>
        </p:nvPicPr>
        <p:blipFill>
          <a:blip r:embed="rId1"/>
          <a:stretch/>
        </p:blipFill>
        <p:spPr>
          <a:xfrm>
            <a:off x="5219640" y="1916280"/>
            <a:ext cx="3457800" cy="393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8:59:49Z</dcterms:created>
  <dc:creator>Gene</dc:creator>
  <dc:description/>
  <dc:language>en-US</dc:language>
  <cp:lastModifiedBy>Евгений</cp:lastModifiedBy>
  <dcterms:modified xsi:type="dcterms:W3CDTF">2014-03-13T08:39:53Z</dcterms:modified>
  <cp:revision>16</cp:revision>
  <dc:subject/>
  <dc:title>Квадратичная функция , ее график</dc:title>
</cp:coreProperties>
</file>