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D0CF-76B8-4D2D-9AA8-27C115F9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B2CC-9CF8-4E54-9B1A-DB515B7C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64B9-0A36-419E-B449-945A6C7BB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B431-EEB7-4B91-8109-E201AB505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9E3D-E9D7-4F14-8B07-608E0BDB8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1603-343A-48BC-91CF-D9842E33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2B19-A0D1-4BBD-8B80-47C94EF8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EE2F-B9FD-4329-8C0D-ED4255D7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FEF1-3DE6-45C6-9729-4E3795DF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4E93-9E8A-4532-AAB6-3D8DC6C2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E8FD-8286-4081-9839-39B8B9E6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4238-D446-4EA7-80B1-39EEB69E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F9E6-5334-4A1C-9C7B-5B3028DD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CF61-91BB-4EE3-BA66-6578CF92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51AB-258A-4A51-B5F8-E3C5B361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9FD9-4060-4CAE-8FDF-1E0B25E89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5D85-F870-441B-84AB-5BFE5C4CC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D8D3-0887-4F6F-81B5-279CF2BD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A081-0BDC-46CB-9271-AF5202D0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CA73-A25E-462E-B350-7B867371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6B3F-4548-4C21-A911-6697C903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F321-8410-4BE0-A9A5-457CC846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1B9E-82DF-4C5B-A55F-65FEE56B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B2EA-C18B-4E02-AAE6-CEAA2C84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72D7-3AE1-41C4-B8CA-D1B64E387A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4676-A628-4FA1-9270-CA87BAA091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Квадратичная функция и  ее графи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5840" y="4076280"/>
            <a:ext cx="604044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Материалы к урок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Зависимость графика квадратичной функции от коэффициента </a:t>
            </a:r>
            <a:br>
              <a:rPr sz="2400"/>
            </a:b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и дискрименанта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Если Д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&gt;0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&gt;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ветви параболы направлен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вверх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график имеет две точ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4" descr="5565"/>
          <p:cNvPicPr/>
          <p:nvPr/>
        </p:nvPicPr>
        <p:blipFill>
          <a:blip r:embed="rId1"/>
          <a:stretch/>
        </p:blipFill>
        <p:spPr>
          <a:xfrm>
            <a:off x="6300720" y="1844640"/>
            <a:ext cx="166392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Зависимость графика квадратичной функции от коэффициента </a:t>
            </a:r>
            <a:br>
              <a:rPr sz="2400"/>
            </a:b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и дискрименанта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Если Д=0,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&gt;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етви параболы направлены вверх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рафик имеет одну точк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Если Д=0, а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&lt; 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етви  параболы направлены вниз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рафик имеет одну точку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6" descr="777"/>
          <p:cNvPicPr/>
          <p:nvPr/>
        </p:nvPicPr>
        <p:blipFill>
          <a:blip r:embed="rId1"/>
          <a:stretch/>
        </p:blipFill>
        <p:spPr>
          <a:xfrm>
            <a:off x="5219640" y="1752480"/>
            <a:ext cx="309744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5940360" y="1844640"/>
            <a:ext cx="2800440" cy="424836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Зависимость графика квадратичной функции от коэффициента </a:t>
            </a:r>
            <a:br>
              <a:rPr sz="2400"/>
            </a:b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и дискрименанта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250920" y="1989000"/>
            <a:ext cx="55656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Если Д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&lt;0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&gt;0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( график расположен в 1 и 2 четвертях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Ветви параболы направлены ввер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График квадратичной функции не имее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точек 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Если Д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&lt; 0</a:t>
            </a: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, а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&lt; 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( график расположен в 3 и 4 четвертях)</a:t>
            </a: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Ветви параболы направлены вниз, график не имеет точек 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b0f0"/>
                </a:solidFill>
                <a:latin typeface="Comic Sans MS"/>
              </a:rPr>
              <a:t>  </a:t>
            </a:r>
            <a:r>
              <a:rPr b="0" lang="uk-UA" sz="4800" spc="-1" strike="noStrike">
                <a:solidFill>
                  <a:srgbClr val="ff0000"/>
                </a:solidFill>
                <a:latin typeface="Comic Sans MS"/>
              </a:rPr>
              <a:t>Материал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ы к уроку подготовила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99"/>
              </a:spcBef>
              <a:buClr>
                <a:srgbClr val="92d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2d050"/>
                </a:solidFill>
                <a:latin typeface="Comic Sans MS"/>
              </a:rPr>
              <a:t>учитель УВК № 137 г.Днепропетровск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99"/>
              </a:spcBef>
              <a:buClr>
                <a:srgbClr val="92d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2d050"/>
                </a:solidFill>
                <a:latin typeface="Comic Sans MS"/>
              </a:rPr>
              <a:t>Рослюк Н.Е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Сведения о функции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b200"/>
                </a:solidFill>
                <a:uFillTx/>
                <a:latin typeface="Comic Sans MS"/>
              </a:rPr>
              <a:t>Функция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это соответствие  между переменными </a:t>
            </a: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,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 котором каждому значению переменной </a:t>
            </a: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соответствует 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единственное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начение переменной </a:t>
            </a: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703dff"/>
                </a:solidFill>
                <a:uFillTx/>
                <a:latin typeface="Comic Sans MS"/>
              </a:rPr>
              <a:t>Область определения</a:t>
            </a:r>
            <a:r>
              <a:rPr b="0" lang="ru-RU" sz="4000" spc="-1" strike="noStrike" u="sng">
                <a:solidFill>
                  <a:srgbClr val="ffb800"/>
                </a:solidFill>
                <a:uFillTx/>
                <a:latin typeface="Comic Sans MS"/>
              </a:rPr>
              <a:t> и область значения функци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3128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Множество значений переменной </a:t>
            </a: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х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                ( аргумента) называют областью определения функции – </a:t>
            </a: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Д(у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Множество значений переменной </a:t>
            </a:r>
            <a:r>
              <a:rPr b="1" lang="ru-RU" sz="3200" spc="-1" strike="noStrike">
                <a:solidFill>
                  <a:srgbClr val="ffb800"/>
                </a:solidFill>
                <a:latin typeface="Comic Sans MS"/>
              </a:rPr>
              <a:t>у </a:t>
            </a: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                ( функции ) называют областью значения функции – </a:t>
            </a:r>
            <a:r>
              <a:rPr b="1" lang="ru-RU" sz="3200" spc="-1" strike="noStrike">
                <a:solidFill>
                  <a:srgbClr val="ffb800"/>
                </a:solidFill>
                <a:latin typeface="Comic Sans MS"/>
              </a:rPr>
              <a:t>Е(у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1280" y="152280"/>
            <a:ext cx="658476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Квадратичная функция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99640" y="692280"/>
            <a:ext cx="748188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Функция, которая задана формулой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y 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= ах</a:t>
            </a:r>
            <a:r>
              <a:rPr b="0" lang="ru-RU" sz="2000" spc="-1" strike="noStrike" baseline="30000">
                <a:solidFill>
                  <a:srgbClr val="00b200"/>
                </a:solidFill>
                <a:latin typeface="Comic Sans MS"/>
              </a:rPr>
              <a:t>2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 +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b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х + с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где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1" lang="uk-UA" sz="2800" spc="-1" strike="noStrike">
                <a:solidFill>
                  <a:srgbClr val="ff0000"/>
                </a:solidFill>
                <a:latin typeface="Comic Sans MS"/>
              </a:rPr>
              <a:t> не  равно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0, в и с –числа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х-аргумент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     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называю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i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квадратичной ( квадратной ) функци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Примеры</a:t>
            </a:r>
            <a:r>
              <a:rPr b="1" lang="en-US" sz="1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квадратичной функции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-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+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 -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–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 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– 3х + 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 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- 2х -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График квадратичной функ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200"/>
                </a:solidFill>
                <a:latin typeface="Comic Sans MS"/>
              </a:rPr>
              <a:t>Сведения: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Графиком функции называют фигуру, состоящую из всех точек координатной плоскости, абсциссы которых равны значениям аргумента, а ординаты- соответствующим значениям функци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Графиком квадратичной функции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является 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парабола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Д(у)=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араболу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жно построит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) при помощи  графика функци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 = ах</a:t>
            </a:r>
            <a:r>
              <a:rPr b="1" lang="ru-RU" sz="18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утем двух параллельных переносов ( смещения вдоль оси ОХ  и вдоль оси ОУ) , выделяя  квадрат двучлена из квадратного трехчлена  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График квадратичной функ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)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1) вычислить координату вершины параболы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     ( m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n)   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m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= - в/2а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              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n= f(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2) Найти точки пересечения графика функции с осям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ОХ ( нули функции   у =0 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и ОУ( х=0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800"/>
                </a:solidFill>
                <a:latin typeface="Comic Sans MS"/>
              </a:rPr>
              <a:t>3) Найти дополнительные точки ( учитывая ось симметрии параболы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4) Построить парабол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График квадратичной функци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Осью симметри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параболы является прямая, проходящая через вершину параболы , параллельно оси О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ВНИМАНИЕ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при а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&gt;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етви направлены вверх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при  а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&lt;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ветви параболы направлены вниз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Зависимость графика квадратичной функции от коэффициента </a:t>
            </a:r>
            <a:br>
              <a:rPr sz="2800"/>
            </a:b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 и дискрименанта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9120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Если  Д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&gt; 0  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  a&lt;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етви параболы направлены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низ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рафик  имеет две  точк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6" descr="222"/>
          <p:cNvPicPr/>
          <p:nvPr/>
        </p:nvPicPr>
        <p:blipFill>
          <a:blip r:embed="rId1"/>
          <a:stretch/>
        </p:blipFill>
        <p:spPr>
          <a:xfrm>
            <a:off x="5219640" y="1916280"/>
            <a:ext cx="3457800" cy="3931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8:59:49Z</dcterms:created>
  <dc:creator>Gene</dc:creator>
  <dc:description/>
  <dc:language>en-US</dc:language>
  <cp:lastModifiedBy>Евгений</cp:lastModifiedBy>
  <dcterms:modified xsi:type="dcterms:W3CDTF">2014-03-13T08:39:53Z</dcterms:modified>
  <cp:revision>16</cp:revision>
  <dc:subject/>
  <dc:title>Квадратичная функция , ее график</dc:title>
</cp:coreProperties>
</file>