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E5F-9E2F-4BF0-A4C2-F4B2EB7D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EB74-BC90-40D0-ACF1-F4C2D31F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804-ED52-46AE-A3EA-86A0CEA5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5BDC-AC30-449F-906F-BE30C5CD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D2A1-597D-4330-BA78-E16754F2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AF47-D18B-4164-B2A0-3397530F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A79F-02C7-4785-B815-5431F52F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56C6-7FCB-43D2-8209-B45A11E9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C812-1C89-4A79-A1F6-0BAC0A79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D563-F7A3-4EF2-A6FF-9AAB0D29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5076-9D98-416C-933B-410978D9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59E-D814-4C39-AEED-81D0E9FB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6FC3-4728-4E73-BC9A-75869D23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6B2D-370D-407C-9969-D4BA5A2B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1761-355A-4B46-8A13-8B49A7BD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F4D0-0660-42A1-BA26-8428E4B0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1800-D284-4653-924B-61A43A70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CF7-C58E-4E9B-A0E2-691BA664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942-55EF-4460-BAD3-9C57C4F1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8B7-20F4-4681-8F7B-D1260C27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42F-59BF-4AC7-BCED-0FDDCADB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A11-45D2-4CE2-BC38-22F7BCE2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62D-2EF1-4881-AA09-43AE20B2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8F2-062E-4463-A853-D8B305B9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157C-6EEC-441A-A75D-C33707D342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884A-998C-4D00-831A-F5BCE7564E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вадратичная функция и  ее граф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5840" y="4076280"/>
            <a:ext cx="6040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Материалы к ур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0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етви параболы направлен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график имеет две точ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5565"/>
          <p:cNvPicPr/>
          <p:nvPr/>
        </p:nvPicPr>
        <p:blipFill>
          <a:blip r:embed="rId1"/>
          <a:stretch/>
        </p:blipFill>
        <p:spPr>
          <a:xfrm>
            <a:off x="6300720" y="1844640"/>
            <a:ext cx="16639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=0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 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=0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 параболы направлены вниз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777"/>
          <p:cNvPicPr/>
          <p:nvPr/>
        </p:nvPicPr>
        <p:blipFill>
          <a:blip r:embed="rId1"/>
          <a:stretch/>
        </p:blipFill>
        <p:spPr>
          <a:xfrm>
            <a:off x="5219640" y="1752480"/>
            <a:ext cx="30974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800440" cy="4248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50920" y="1989000"/>
            <a:ext cx="55656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l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( график расположен в 1 и 2 четвертях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вер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 не име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( график расположен в 3 и 4 четвертях)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низ, график не имеет 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b0f0"/>
                </a:solidFill>
                <a:latin typeface="Comic Sans MS"/>
              </a:rPr>
              <a:t>  </a:t>
            </a:r>
            <a:r>
              <a:rPr b="0" lang="uk-UA" sz="4800" spc="-1" strike="noStrike">
                <a:solidFill>
                  <a:srgbClr val="ff0000"/>
                </a:solidFill>
                <a:latin typeface="Comic Sans MS"/>
              </a:rPr>
              <a:t>Материал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ы к уроку подготовил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учитель УВК № 137 г.Днепропетровс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Рослюк Н.Е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ведения о функци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Функция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соответствие  между переменным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котором каждому значению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оответствует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единственное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703dff"/>
                </a:solidFill>
                <a:uFillTx/>
                <a:latin typeface="Comic Sans MS"/>
              </a:rPr>
              <a:t>Область определения</a:t>
            </a:r>
            <a:r>
              <a:rPr b="0" lang="ru-RU" sz="4000" spc="-1" strike="noStrike" u="sng">
                <a:solidFill>
                  <a:srgbClr val="ffb800"/>
                </a:solidFill>
                <a:uFillTx/>
                <a:latin typeface="Comic Sans MS"/>
              </a:rPr>
              <a:t> и область значения функ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312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х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               ( аргумента) называют областью определения функции –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Д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у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                ( функции ) называют областью значения функции –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Е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152280"/>
            <a:ext cx="658476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Квадратичная функция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692280"/>
            <a:ext cx="74818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Функция, которая задана формуло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y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ах</a:t>
            </a:r>
            <a:r>
              <a:rPr b="0" lang="ru-RU" sz="2000" spc="-1" strike="noStrike" baseline="30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+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х +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гд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не  равно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0, в и с –числа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х-аргумент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называ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квадратичной ( квадратной ) функци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Примеры</a:t>
            </a:r>
            <a:r>
              <a:rPr b="1" lang="en-US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квадратичной функции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+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–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– 3х +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- 2х -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Сведения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Графиком функции называют фигуру, состоящую из всех точек координатной плоскости, абсциссы которых равны значениям аргумента, а ординаты- соответствующим значениям функц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Графиком квадратичной функци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парабо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Д(у)=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раболу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острои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при помощи  графика функц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= ах</a:t>
            </a:r>
            <a:r>
              <a:rPr b="1" lang="ru-RU" sz="18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тем двух параллельных переносов ( смещения вдоль оси ОХ  и вдоль оси ОУ) , выделяя  квадрат двучлена из квадратного трехчлена 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)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1) вычислить координату вершины параболы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( 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)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- в/2а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      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= f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2) Найти точки пересечения графика функции с ося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ОХ ( нули функции   у =0 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и ОУ( х=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800"/>
                </a:solidFill>
                <a:latin typeface="Comic Sans MS"/>
              </a:rPr>
              <a:t>3) Найти дополнительные точки ( учитывая ось симметрии парабол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4) Построить парабол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График квадратичной функц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Осью симметри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араболы является прямая, проходящая через вершину параболы , параллельно оси О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ВНИМАНИЕ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g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етви направлены вверх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l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ветви параболы направлены вниз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800"/>
            </a:b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120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 0  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a&l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ни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 имеет две  точ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222"/>
          <p:cNvPicPr/>
          <p:nvPr/>
        </p:nvPicPr>
        <p:blipFill>
          <a:blip r:embed="rId1"/>
          <a:stretch/>
        </p:blipFill>
        <p:spPr>
          <a:xfrm>
            <a:off x="5219640" y="1916280"/>
            <a:ext cx="3457800" cy="39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8:59:49Z</dcterms:created>
  <dc:creator>Gene</dc:creator>
  <dc:description/>
  <dc:language>en-US</dc:language>
  <cp:lastModifiedBy>Евгений</cp:lastModifiedBy>
  <dcterms:modified xsi:type="dcterms:W3CDTF">2014-03-13T08:39:53Z</dcterms:modified>
  <cp:revision>16</cp:revision>
  <dc:subject/>
  <dc:title>Квадратичная функция , ее график</dc:title>
</cp:coreProperties>
</file>