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FAD1-5557-45C3-8A43-2F78F82A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53D4-E467-48F2-AA0D-718EDDD2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03A5-D0C8-42D8-9F65-5200E1349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BA6A-48F9-45DE-BCBE-57A702B3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8A04-1E03-405B-A622-BD2178400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45BB-C1C6-4426-95A1-180BF5B0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D4F0-040A-4C36-87A7-93325F11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D9D4-3E81-4AB9-A470-1D97A5B7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3F1C-6A48-4F5A-828D-030CC737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BEDE-2260-4F35-BFBE-A9D08CEC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53A1-B700-4DBB-9B4E-4A165180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4AC6-4526-4172-AB4D-453D8B2C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4276-2991-4ED5-953D-1799832E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5929-233F-4AFA-9563-FB0ECB5A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7683-1C81-4A92-B263-8F3EF704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9B30-55EB-42FF-853E-9FC9CC232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D77D-6510-4019-9039-E45F20429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928B-182D-4649-8D1D-094EFDBB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C91A-CADF-4466-A463-25142D4E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0E2B-F4C4-405F-AE17-C1BBC894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CE73-8A4F-47CC-9E71-B087CF68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08BA-CF22-4C7C-817E-FCEFD10D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C8DB-3D52-447A-B609-9588DEE8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CA4B-5EF1-4BD7-8C78-7BA3B651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DAF9-72D1-4C0B-8481-B1880CAA30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727A-5257-4414-A278-2F6EE6A644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Квадратичная функция и  ее графи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5840" y="4076280"/>
            <a:ext cx="604044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Материалы к урок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Зависимость графика квадратичной функции от коэффициента </a:t>
            </a:r>
            <a:br>
              <a:rPr sz="2400"/>
            </a:b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и дискрименанта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Если Д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&gt;0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&gt;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ветви параболы направлен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вверх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график имеет две точ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4" descr="5565"/>
          <p:cNvPicPr/>
          <p:nvPr/>
        </p:nvPicPr>
        <p:blipFill>
          <a:blip r:embed="rId1"/>
          <a:stretch/>
        </p:blipFill>
        <p:spPr>
          <a:xfrm>
            <a:off x="6300720" y="1844640"/>
            <a:ext cx="166392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Зависимость графика квадратичной функции от коэффициента </a:t>
            </a:r>
            <a:br>
              <a:rPr sz="2400"/>
            </a:b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и дискрименанта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Если Д=0,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&gt;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етви параболы направлены вверх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рафик имеет одну точк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Если Д=0, а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&lt; 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етви  параболы направлены вниз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рафик имеет одну точку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6" descr="777"/>
          <p:cNvPicPr/>
          <p:nvPr/>
        </p:nvPicPr>
        <p:blipFill>
          <a:blip r:embed="rId1"/>
          <a:stretch/>
        </p:blipFill>
        <p:spPr>
          <a:xfrm>
            <a:off x="5219640" y="1752480"/>
            <a:ext cx="309744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5940360" y="1844640"/>
            <a:ext cx="2800440" cy="424836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Зависимость графика квадратичной функции от коэффициента </a:t>
            </a:r>
            <a:br>
              <a:rPr sz="2400"/>
            </a:b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и дискрименанта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250920" y="1989000"/>
            <a:ext cx="55656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Если Д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&lt;0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&gt;0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( график расположен в 1 и 2 четвертях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Ветви параболы направлены ввер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График квадратичной функции не имее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точек 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Если Д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&lt; 0</a:t>
            </a: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, а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&lt; 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( график расположен в 3 и 4 четвертях)</a:t>
            </a: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Ветви параболы направлены вниз, график не имеет точек 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b0f0"/>
                </a:solidFill>
                <a:latin typeface="Comic Sans MS"/>
              </a:rPr>
              <a:t>  </a:t>
            </a:r>
            <a:r>
              <a:rPr b="0" lang="uk-UA" sz="4800" spc="-1" strike="noStrike">
                <a:solidFill>
                  <a:srgbClr val="ff0000"/>
                </a:solidFill>
                <a:latin typeface="Comic Sans MS"/>
              </a:rPr>
              <a:t>Материал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ы к уроку подготовила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99"/>
              </a:spcBef>
              <a:buClr>
                <a:srgbClr val="92d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2d050"/>
                </a:solidFill>
                <a:latin typeface="Comic Sans MS"/>
              </a:rPr>
              <a:t>учитель УВК № 137 г.Днепропетровск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99"/>
              </a:spcBef>
              <a:buClr>
                <a:srgbClr val="92d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2d050"/>
                </a:solidFill>
                <a:latin typeface="Comic Sans MS"/>
              </a:rPr>
              <a:t>Рослюк Н.Е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Сведения о функции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b200"/>
                </a:solidFill>
                <a:uFillTx/>
                <a:latin typeface="Comic Sans MS"/>
              </a:rPr>
              <a:t>Функция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это соответствие  между переменными </a:t>
            </a: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,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 котором каждому значению переменной </a:t>
            </a: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соответствует 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единственное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начение переменной </a:t>
            </a: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703dff"/>
                </a:solidFill>
                <a:uFillTx/>
                <a:latin typeface="Comic Sans MS"/>
              </a:rPr>
              <a:t>Область определения</a:t>
            </a:r>
            <a:r>
              <a:rPr b="0" lang="ru-RU" sz="4000" spc="-1" strike="noStrike" u="sng">
                <a:solidFill>
                  <a:srgbClr val="ffb800"/>
                </a:solidFill>
                <a:uFillTx/>
                <a:latin typeface="Comic Sans MS"/>
              </a:rPr>
              <a:t> и область значения функци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3128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Множество значений переменной </a:t>
            </a: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х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                ( аргумента) называют областью определения функции – </a:t>
            </a: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Д(у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Множество значений переменной </a:t>
            </a:r>
            <a:r>
              <a:rPr b="1" lang="ru-RU" sz="3200" spc="-1" strike="noStrike">
                <a:solidFill>
                  <a:srgbClr val="ffb800"/>
                </a:solidFill>
                <a:latin typeface="Comic Sans MS"/>
              </a:rPr>
              <a:t>у </a:t>
            </a: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                ( функции ) называют областью значения функции – </a:t>
            </a:r>
            <a:r>
              <a:rPr b="1" lang="ru-RU" sz="3200" spc="-1" strike="noStrike">
                <a:solidFill>
                  <a:srgbClr val="ffb800"/>
                </a:solidFill>
                <a:latin typeface="Comic Sans MS"/>
              </a:rPr>
              <a:t>Е(у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1280" y="152280"/>
            <a:ext cx="658476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Квадратичная функция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99640" y="692280"/>
            <a:ext cx="748188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Функция, которая задана формулой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y 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= ах</a:t>
            </a:r>
            <a:r>
              <a:rPr b="0" lang="ru-RU" sz="2000" spc="-1" strike="noStrike" baseline="30000">
                <a:solidFill>
                  <a:srgbClr val="00b200"/>
                </a:solidFill>
                <a:latin typeface="Comic Sans MS"/>
              </a:rPr>
              <a:t>2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 +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b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х + с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где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1" lang="uk-UA" sz="2800" spc="-1" strike="noStrike">
                <a:solidFill>
                  <a:srgbClr val="ff0000"/>
                </a:solidFill>
                <a:latin typeface="Comic Sans MS"/>
              </a:rPr>
              <a:t> не  равно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0, в и с –числа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х-аргумент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     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называю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i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квадратичной ( квадратной ) функци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Примеры</a:t>
            </a:r>
            <a:r>
              <a:rPr b="1" lang="en-US" sz="1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квадратичной функции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-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+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 -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–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 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– 3х + 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 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- 2х -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График квадратичной функ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200"/>
                </a:solidFill>
                <a:latin typeface="Comic Sans MS"/>
              </a:rPr>
              <a:t>Сведения: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Графиком функции называют фигуру, состоящую из всех точек координатной плоскости, абсциссы которых равны значениям аргумента, а ординаты- соответствующим значениям функци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Графиком квадратичной функции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является 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парабола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Д(у)=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араболу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жно построит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) при помощи  графика функци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 = ах</a:t>
            </a:r>
            <a:r>
              <a:rPr b="1" lang="ru-RU" sz="18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утем двух параллельных переносов ( смещения вдоль оси ОХ  и вдоль оси ОУ) , выделяя  квадрат двучлена из квадратного трехчлена  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График квадратичной функ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)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1) вычислить координату вершины параболы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     ( m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n)   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m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= - в/2а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              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n= f(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2) Найти точки пересечения графика функции с осям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ОХ ( нули функции   у =0 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и ОУ( х=0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800"/>
                </a:solidFill>
                <a:latin typeface="Comic Sans MS"/>
              </a:rPr>
              <a:t>3) Найти дополнительные точки ( учитывая ось симметрии параболы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4) Построить парабол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График квадратичной функци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Осью симметри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параболы является прямая, проходящая через вершину параболы , параллельно оси О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ВНИМАНИЕ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при а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&gt;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етви направлены вверх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при  а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&lt;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ветви параболы направлены вниз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Зависимость графика квадратичной функции от коэффициента </a:t>
            </a:r>
            <a:br>
              <a:rPr sz="2800"/>
            </a:b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 и дискрименанта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9120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Если  Д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&gt; 0  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  a&lt;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етви параболы направлены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низ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рафик  имеет две  точк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6" descr="222"/>
          <p:cNvPicPr/>
          <p:nvPr/>
        </p:nvPicPr>
        <p:blipFill>
          <a:blip r:embed="rId1"/>
          <a:stretch/>
        </p:blipFill>
        <p:spPr>
          <a:xfrm>
            <a:off x="5219640" y="1916280"/>
            <a:ext cx="3457800" cy="3931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8:59:49Z</dcterms:created>
  <dc:creator>Gene</dc:creator>
  <dc:description/>
  <dc:language>en-US</dc:language>
  <cp:lastModifiedBy>Евгений</cp:lastModifiedBy>
  <dcterms:modified xsi:type="dcterms:W3CDTF">2014-03-13T08:39:53Z</dcterms:modified>
  <cp:revision>16</cp:revision>
  <dc:subject/>
  <dc:title>Квадратичная функция , ее график</dc:title>
</cp:coreProperties>
</file>