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4AB5-1214-49F9-B0A1-D319415135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3CA9-0A1C-4C58-96E8-8C9A12A619F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71E-0684-4439-8F5A-B0D0F2202DB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262-2682-4886-8624-1428AAB9205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66A-B6AD-4047-9805-11F82923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12B-6E5D-4090-A585-3C3B106E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E32-C9D6-4C4C-9878-5F162711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B42-DB37-41B4-A73C-24C7179D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FE6B-D5AD-4C86-95CA-CE89D5D0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D522-544A-4BEA-9989-2FD09DC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3918-C8ED-4454-94C0-CFAEA14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E01A-E95A-491F-B803-5487ECDE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1D65-0296-463F-9FB3-EC0997DA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5771-2566-4071-A505-9E313FD9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6D0-C789-4353-AF0B-0CF6AFD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C70-CAD8-4ACF-9409-4424471C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6612-32B7-4667-9E70-FA5B1C9B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45B-803A-4557-B877-E2FDCF6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ABC2-4A9E-48EA-8B9A-944D40E9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A04E-5ED8-4084-A32C-570113B1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9FDA-0700-4C46-AA55-44042034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A9D-D577-4696-9CFE-B9BBB0B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3E0-FDA9-4B5F-9FAF-C9D73AC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B70-2AD7-43B1-BE2F-33335925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728-F42C-46DD-827E-847904B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839-4069-4AF0-B04C-35D5E946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50C-BAE6-4E6B-94BD-D7B97D7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346-0F8B-4AD4-92A9-726D07E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007B-76C2-4A4C-9D66-306CC2DCFF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380-E257-457D-849F-5F7CC554C025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Тригонометрические уравнения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43923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835280" y="2781360"/>
            <a:ext cx="2736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лгебра-1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4427640" y="5157720"/>
            <a:ext cx="424800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Учитель математики Середа А.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521-3A3E-4C48-A045-ADAF1D4D26D4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Как работать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1773360"/>
            <a:ext cx="720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егодня Ты сможешь обобщить и систематизировать знания по решению тригонометрических уравнений . В ходе урока ты сможешь проверить степень своей готовности к предстоящей контрольной работе. К концу урока постарайся зафиксировать свои ошибки  (сколько, какие). В дальнейшем  вместе с учителем ты сможешь разобрать эти ошибк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843280" y="479736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ff">
                    <a:alpha val="71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ff">
                  <a:alpha val="71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A62-7718-4CC3-B961-E9160EF55E48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тная размин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базов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повышенн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заданий ГИ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905120"/>
            <a:ext cx="69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(sin a – 1) (sin a + 1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– 1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+ tg a ctg a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)  √1- 2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х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FD8D-B045-4B6F-87C5-2B51CFB1B95D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593-5DB8-48E5-BFE2-9298D37050DE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500120"/>
          <a:ext cx="6262920" cy="4929120"/>
        </p:xfrm>
        <a:graphic>
          <a:graphicData uri="http://schemas.openxmlformats.org/drawingml/2006/table">
            <a:tbl>
              <a:tblPr/>
              <a:tblGrid>
                <a:gridCol w="3116520"/>
                <a:gridCol w="3146400"/>
              </a:tblGrid>
              <a:tr h="4929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1/2 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1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/3 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0609-383E-45CC-B3D2-254F66259C3B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5" name="Group 34"/>
          <p:cNvGrpSpPr/>
          <p:nvPr/>
        </p:nvGrpSpPr>
        <p:grpSpPr>
          <a:xfrm>
            <a:off x="1042920" y="2349360"/>
            <a:ext cx="3957480" cy="2980440"/>
            <a:chOff x="1042920" y="2349360"/>
            <a:chExt cx="3957480" cy="2980440"/>
          </a:xfrm>
        </p:grpSpPr>
        <p:pic>
          <p:nvPicPr>
            <p:cNvPr id="136" name="Object 8" descr=""/>
            <p:cNvPicPr/>
            <p:nvPr/>
          </p:nvPicPr>
          <p:blipFill>
            <a:blip r:embed="rId1"/>
            <a:stretch/>
          </p:blipFill>
          <p:spPr>
            <a:xfrm>
              <a:off x="2324880" y="2349360"/>
              <a:ext cx="4269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11" descr=""/>
            <p:cNvPicPr/>
            <p:nvPr/>
          </p:nvPicPr>
          <p:blipFill>
            <a:blip r:embed="rId2"/>
            <a:stretch/>
          </p:blipFill>
          <p:spPr>
            <a:xfrm>
              <a:off x="2467800" y="2854080"/>
              <a:ext cx="4993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14" descr=""/>
            <p:cNvPicPr/>
            <p:nvPr/>
          </p:nvPicPr>
          <p:blipFill>
            <a:blip r:embed="rId3"/>
            <a:stretch/>
          </p:blipFill>
          <p:spPr>
            <a:xfrm>
              <a:off x="2397240" y="3501720"/>
              <a:ext cx="497880" cy="6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Group 33"/>
            <p:cNvGrpSpPr/>
            <p:nvPr/>
          </p:nvGrpSpPr>
          <p:grpSpPr>
            <a:xfrm>
              <a:off x="1042920" y="2349360"/>
              <a:ext cx="3957480" cy="2980440"/>
              <a:chOff x="1042920" y="2349360"/>
              <a:chExt cx="3957480" cy="2980440"/>
            </a:xfrm>
          </p:grpSpPr>
          <p:sp>
            <p:nvSpPr>
              <p:cNvPr id="140" name="Text Box 7"/>
              <p:cNvSpPr/>
              <p:nvPr/>
            </p:nvSpPr>
            <p:spPr>
              <a:xfrm>
                <a:off x="1042920" y="2349360"/>
                <a:ext cx="39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1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x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=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0 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    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1" name="Text Box 10"/>
              <p:cNvSpPr/>
              <p:nvPr/>
            </p:nvSpPr>
            <p:spPr>
              <a:xfrm>
                <a:off x="1042920" y="2925360"/>
                <a:ext cx="38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2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in2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=-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1042920" y="3501720"/>
                <a:ext cx="388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3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      ) 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</a:rPr>
                  <a:t>=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1</a:t>
                </a:r>
                <a:r>
                  <a:rPr b="0" lang="ru-RU" sz="1800" spc="-1" strike="noStrike">
                    <a:solidFill>
                      <a:srgbClr val="660066"/>
                    </a:solidFill>
                    <a:latin typeface="Times New Roman"/>
                  </a:rPr>
                  <a:t>  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1113480" y="4222440"/>
                <a:ext cx="38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4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tg²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- 6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tg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х+5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Text Box 18"/>
              <p:cNvSpPr/>
              <p:nvPr/>
            </p:nvSpPr>
            <p:spPr>
              <a:xfrm>
                <a:off x="1113480" y="4870080"/>
                <a:ext cx="38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5) (2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in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– 1)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х-1)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78D-C2B2-4B66-808C-943185D9B2B5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71760" y="1700280"/>
            <a:ext cx="157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Ь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4500720" y="2276640"/>
            <a:ext cx="4643280" cy="3115440"/>
            <a:chOff x="4500720" y="2276640"/>
            <a:chExt cx="4643280" cy="3115440"/>
          </a:xfrm>
        </p:grpSpPr>
        <p:sp>
          <p:nvSpPr>
            <p:cNvPr id="152" name="Text Box 23"/>
            <p:cNvSpPr/>
            <p:nvPr/>
          </p:nvSpPr>
          <p:spPr>
            <a:xfrm>
              <a:off x="4500720" y="2276640"/>
              <a:ext cx="464328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х=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±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6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(-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) 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/2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3)   х=     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 -    +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4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rctg5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 +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, х=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53" name="Object 26" descr=""/>
            <p:cNvPicPr/>
            <p:nvPr/>
          </p:nvPicPr>
          <p:blipFill>
            <a:blip r:embed="rId1"/>
            <a:stretch/>
          </p:blipFill>
          <p:spPr>
            <a:xfrm>
              <a:off x="6012000" y="2924280"/>
              <a:ext cx="1332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28" descr=""/>
            <p:cNvPicPr/>
            <p:nvPr/>
          </p:nvPicPr>
          <p:blipFill>
            <a:blip r:embed="rId2"/>
            <a:stretch/>
          </p:blipFill>
          <p:spPr>
            <a:xfrm>
              <a:off x="5580000" y="3573360"/>
              <a:ext cx="360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30" descr=""/>
            <p:cNvPicPr/>
            <p:nvPr/>
          </p:nvPicPr>
          <p:blipFill>
            <a:blip r:embed="rId3"/>
            <a:stretch/>
          </p:blipFill>
          <p:spPr>
            <a:xfrm>
              <a:off x="7502400" y="3645000"/>
              <a:ext cx="40500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31" descr=""/>
            <p:cNvPicPr/>
            <p:nvPr/>
          </p:nvPicPr>
          <p:blipFill>
            <a:blip r:embed="rId4"/>
            <a:stretch/>
          </p:blipFill>
          <p:spPr>
            <a:xfrm>
              <a:off x="6012000" y="4869000"/>
              <a:ext cx="133200" cy="14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764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496000" cy="32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1.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 = 16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+ 3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- 4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3.  2 (  с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)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2 х  + 1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F151-F748-4798-8A5A-216D2338E6FA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4259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 Black"/>
              </a:rPr>
              <a:t>Итоги урока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5640" y="2205000"/>
            <a:ext cx="7201080" cy="39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спомним основные моменты уро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ценки за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cff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1E07-7F2B-48C5-A225-82BDDF51EF37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18:11Z</dcterms:created>
  <dc:creator>Шабанова</dc:creator>
  <dc:description/>
  <dc:language>en-US</dc:language>
  <cp:lastModifiedBy>Карнач Ирина</cp:lastModifiedBy>
  <dcterms:modified xsi:type="dcterms:W3CDTF">2014-04-18T12:23:13Z</dcterms:modified>
  <cp:revision>47</cp:revision>
  <dc:subject/>
  <dc:title>Тригонометрические 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ba03000000000001024140</vt:lpwstr>
  </property>
  <property fmtid="{D5CDD505-2E9C-101B-9397-08002B2CF9AE}" pid="4" name="Version">
    <vt:r8>3</vt:r8>
  </property>
</Properties>
</file>