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9336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96216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0AFA-7FB3-49F1-AFFE-65957426A15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EB27-83FF-43B0-8916-16EBA8565BC7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98BA-3E3D-40C1-98D2-46BDEE84BC77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C88C-6496-40D2-98E7-2660D9C7876D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BA6F-96B3-4182-80E0-A15639DCA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2C25-F3D7-430D-8CD6-68DC7D04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43E6-9E6E-4D04-AFCA-5F295496A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FA91-D076-4651-8065-E389EA27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F0E5-CB79-4D37-8906-3872F05CE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3829-0E0C-4ACC-A4E6-9E7D584A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A87F-05DD-4856-9301-19AF3E12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B20F-0F8C-468C-A445-61B607EB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7D8C-D8A6-44F7-B234-83E64553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23C4-768F-48B9-A604-DCC12C94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E232-4E1E-43CC-B758-E1213161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BAE2-A45A-49C7-847B-2FD9A59B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888A-0491-4276-884A-1A05A823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B8B2-59EB-451A-B312-56C12DCA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EFBD-B7FF-481A-AF74-90F5D5EF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30719-1E6C-4087-BA8D-FE261D485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4BF1-139D-44CF-804E-B3939C17D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FE47-754A-486F-8487-E5EA021E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7CF8-F800-4880-91B7-CA4B983F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5E86-F609-42C5-BB1F-F408D6F3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3188-B7AA-4E68-9D62-E2D8F35C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7809-BBED-4952-90A1-3354F3F3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7C2A-8D65-467B-B8F5-BC7D384C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22F5-F4A4-4682-BD85-5790FDE3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cc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4FF0-79E2-45E6-B78B-2A4011D536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1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Group 15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8" name="Rectangle 7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9" name="Rectangle 8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cc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0" name="Rectangle 9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ffcc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1" name="Rectangle 10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ff99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2" name="Rectangle 11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3" name="Rectangle 12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" name="Rectangle 13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" name="Arc 14"/>
              <p:cNvSpPr/>
              <p:nvPr/>
            </p:nvSpPr>
            <p:spPr>
              <a:xfrm>
                <a:off x="752400" y="3587760"/>
                <a:ext cx="198360" cy="1832040"/>
              </a:xfrm>
              <a:custGeom>
                <a:avLst/>
                <a:gdLst/>
                <a:ahLst/>
                <a:rect l="l" t="t" r="r" b="b"/>
                <a:pathLst>
                  <a:path fill="none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</a:path>
                  <a:path stroke="0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  <a:lnTo>
                      <a:pt x="754" y="2160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cc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16" name="Oval 16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7" name="Rectangle 17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7a7c93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8" name="Rectangle 19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cc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4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Group 12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Group 10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AutoShape 2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7a7c93"/>
                    </a:gs>
                    <a:gs pos="100000">
                      <a:srgbClr val="eaeae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AutoShape 3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4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ffcc6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5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cc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Rectangle 6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cc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Rectangle 7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cc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Arc 8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custGeom>
                  <a:avLst/>
                  <a:gdLst/>
                  <a:ahLst/>
                  <a:rect l="l" t="t" r="r" b="b"/>
                  <a:pathLst>
                    <a:path fill="none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</a:path>
                    <a:path stroke="0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  <a:lnTo>
                        <a:pt x="21518" y="2258"/>
                      </a:lnTo>
                      <a:lnTo>
                        <a:pt x="-22537" y="0"/>
                      </a:lnTo>
                      <a:close/>
                    </a:path>
                  </a:pathLst>
                </a:custGeom>
                <a:solidFill>
                  <a:srgbClr val="ffcc6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9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ff996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Freeform 11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67" name="Rectangle 13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cc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7D34-7204-4306-9662-3AFD4EC128BE}" type="slidenum"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cc"/>
                </a:solidFill>
                <a:latin typeface="Arial Black"/>
              </a:rPr>
              <a:t>Тригонометрические уравнения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10920" y="4357800"/>
            <a:ext cx="4392360" cy="101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Обобщающий урок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1835280" y="2781360"/>
            <a:ext cx="27367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Алгебра-10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9" name="Прямоугольник 4"/>
          <p:cNvSpPr/>
          <p:nvPr/>
        </p:nvSpPr>
        <p:spPr>
          <a:xfrm>
            <a:off x="4427640" y="5157720"/>
            <a:ext cx="4248000" cy="86364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Учитель математики Середа А.А.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2014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5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7F13-D8D5-4654-A54D-698B2742D5E8}" type="slidenum"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cc"/>
                </a:solidFill>
                <a:latin typeface="Arial Black"/>
              </a:rPr>
              <a:t>Как работать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619280" y="1773360"/>
            <a:ext cx="7202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Сегодня Ты сможешь обобщить и систематизировать знания по решению тригонометрических уравнений . В ходе урока ты сможешь проверить степень своей готовности к предстоящей контрольной работе. К концу урока постарайся зафиксировать свои ошибки  (сколько, какие). В дальнейшем  вместе с учителем ты сможешь разобрать эти ошибки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3" name="WordArt 5"/>
          <p:cNvSpPr txBox="1"/>
          <p:nvPr/>
        </p:nvSpPr>
        <p:spPr>
          <a:xfrm>
            <a:off x="2843280" y="4797360"/>
            <a:ext cx="3960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ff"/>
                  </a:solidFill>
                  <a:miter/>
                </a:ln>
                <a:solidFill>
                  <a:srgbClr val="ff99ff">
                    <a:alpha val="71000"/>
                  </a:srgbClr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дачи!</a:t>
            </a:r>
            <a:endParaRPr b="0" lang="en-US" sz="1800" spc="1" strike="noStrike">
              <a:ln w="22320">
                <a:solidFill>
                  <a:srgbClr val="0000ff"/>
                </a:solidFill>
                <a:miter/>
              </a:ln>
              <a:solidFill>
                <a:srgbClr val="ff99ff">
                  <a:alpha val="71000"/>
                </a:srgbClr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5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9BB2-FCB1-42D8-81ED-DC23EDB329DB}" type="slidenum"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cc"/>
                </a:solidFill>
                <a:latin typeface="Arial Black"/>
              </a:rPr>
              <a:t>План урока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Устная разминка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Решение уравнений базового уровня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Решение уравнений повышенного уровня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Решение заданий ГИА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Подведение итогов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cc"/>
                </a:solidFill>
                <a:latin typeface="Arial Black"/>
              </a:rPr>
              <a:t>Разминка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295280" y="1905120"/>
            <a:ext cx="6919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) (sin a – 1) (sin a + 1)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Б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) sin</a:t>
            </a:r>
            <a:r>
              <a:rPr b="1" lang="en-US" sz="3200" spc="-1" strike="noStrike" baseline="30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a – 1 +  cos</a:t>
            </a:r>
            <a:r>
              <a:rPr b="1" lang="en-US" sz="3200" spc="-1" strike="noStrike" baseline="30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a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В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) sin</a:t>
            </a:r>
            <a:r>
              <a:rPr b="1" lang="en-US" sz="3200" spc="-1" strike="noStrike" baseline="30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a + tg a ctg a +  cos</a:t>
            </a:r>
            <a:r>
              <a:rPr b="1" lang="en-US" sz="3200" spc="-1" strike="noStrike" baseline="30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a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Г)  √1- 2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tg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х +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tg</a:t>
            </a:r>
            <a:r>
              <a:rPr b="1" lang="en-US" sz="3200" spc="-1" strike="noStrike" baseline="30000">
                <a:solidFill>
                  <a:srgbClr val="660066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 х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D5F6-3701-400B-B3E2-73A20ADD9A9E}" type="slidenum"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1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3E6F-411B-4441-969B-876474985A9D}" type="slidenum"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523880" y="1500120"/>
          <a:ext cx="6262920" cy="4929120"/>
        </p:xfrm>
        <a:graphic>
          <a:graphicData uri="http://schemas.openxmlformats.org/drawingml/2006/table">
            <a:tbl>
              <a:tblPr/>
              <a:tblGrid>
                <a:gridCol w="3116520"/>
                <a:gridCol w="3146400"/>
              </a:tblGrid>
              <a:tr h="492912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Calibri"/>
                          <a:ea typeface="Times New Roman"/>
                        </a:rPr>
                        <a:t>arcsin   √2/2</a:t>
                      </a: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Calibri"/>
                          <a:ea typeface="Times New Roman"/>
                        </a:rPr>
                        <a:t>arccos  1</a:t>
                      </a: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Calibri"/>
                          <a:ea typeface="Times New Roman"/>
                        </a:rPr>
                        <a:t>arcsin (- 1/2 )</a:t>
                      </a: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Calibri"/>
                          <a:ea typeface="Times New Roman"/>
                        </a:rPr>
                        <a:t>arccos (- √3/2)</a:t>
                      </a: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Calibri"/>
                          <a:ea typeface="Times New Roman"/>
                        </a:rPr>
                        <a:t>arctg  √3</a:t>
                      </a: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Calibri"/>
                          <a:ea typeface="Times New Roman"/>
                        </a:rPr>
                        <a:t>arccos   √2/2</a:t>
                      </a: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Calibri"/>
                          <a:ea typeface="Times New Roman"/>
                        </a:rPr>
                        <a:t>arcsin 1</a:t>
                      </a: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Calibri"/>
                          <a:ea typeface="Times New Roman"/>
                        </a:rPr>
                        <a:t>arccos (- 1/2)</a:t>
                      </a: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Calibri"/>
                          <a:ea typeface="Times New Roman"/>
                        </a:rPr>
                        <a:t>arcsin (- √3/2)</a:t>
                      </a: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Calibri"/>
                          <a:ea typeface="Times New Roman"/>
                        </a:rPr>
                        <a:t>arctg  √3/3 </a:t>
                      </a:r>
                      <a:endParaRPr b="0" lang="en-US" sz="32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8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A648-0B5F-4B6D-A2A7-F26627F47E24}" type="slidenum"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cc"/>
                </a:solidFill>
                <a:latin typeface="Arial Black"/>
              </a:rPr>
              <a:t>Реши уравнения базового уровня</a:t>
            </a:r>
            <a:r>
              <a:rPr b="0" lang="ru-RU" sz="4400" spc="-1" strike="noStrike">
                <a:solidFill>
                  <a:srgbClr val="3366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1835280" y="486900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135" name="Group 34"/>
          <p:cNvGrpSpPr/>
          <p:nvPr/>
        </p:nvGrpSpPr>
        <p:grpSpPr>
          <a:xfrm>
            <a:off x="1042920" y="2349360"/>
            <a:ext cx="3957480" cy="2980440"/>
            <a:chOff x="1042920" y="2349360"/>
            <a:chExt cx="3957480" cy="2980440"/>
          </a:xfrm>
        </p:grpSpPr>
        <p:pic>
          <p:nvPicPr>
            <p:cNvPr id="136" name="Object 8" descr=""/>
            <p:cNvPicPr/>
            <p:nvPr/>
          </p:nvPicPr>
          <p:blipFill>
            <a:blip r:embed="rId1"/>
            <a:stretch/>
          </p:blipFill>
          <p:spPr>
            <a:xfrm>
              <a:off x="2324880" y="2349360"/>
              <a:ext cx="42696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Object 11" descr=""/>
            <p:cNvPicPr/>
            <p:nvPr/>
          </p:nvPicPr>
          <p:blipFill>
            <a:blip r:embed="rId2"/>
            <a:stretch/>
          </p:blipFill>
          <p:spPr>
            <a:xfrm>
              <a:off x="2467800" y="2854080"/>
              <a:ext cx="49932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Object 14" descr=""/>
            <p:cNvPicPr/>
            <p:nvPr/>
          </p:nvPicPr>
          <p:blipFill>
            <a:blip r:embed="rId3"/>
            <a:stretch/>
          </p:blipFill>
          <p:spPr>
            <a:xfrm>
              <a:off x="2397240" y="3501720"/>
              <a:ext cx="497880" cy="620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9" name="Group 33"/>
            <p:cNvGrpSpPr/>
            <p:nvPr/>
          </p:nvGrpSpPr>
          <p:grpSpPr>
            <a:xfrm>
              <a:off x="1042920" y="2349360"/>
              <a:ext cx="3957480" cy="2980440"/>
              <a:chOff x="1042920" y="2349360"/>
              <a:chExt cx="3957480" cy="2980440"/>
            </a:xfrm>
          </p:grpSpPr>
          <p:sp>
            <p:nvSpPr>
              <p:cNvPr id="140" name="Text Box 7"/>
              <p:cNvSpPr/>
              <p:nvPr/>
            </p:nvSpPr>
            <p:spPr>
              <a:xfrm>
                <a:off x="1042920" y="2349360"/>
                <a:ext cx="391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</a:rPr>
                  <a:t>1) 2со</a:t>
                </a:r>
                <a:r>
                  <a:rPr b="1" lang="en-US" sz="24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sx</a:t>
                </a:r>
                <a:r>
                  <a:rPr b="0" lang="ru-RU" sz="20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ru-RU" sz="20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-</a:t>
                </a:r>
                <a:r>
                  <a:rPr b="0" lang="ru-RU" sz="20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        = </a:t>
                </a:r>
                <a:r>
                  <a:rPr b="1" lang="ru-RU" sz="20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0 </a:t>
                </a:r>
                <a:r>
                  <a:rPr b="0" lang="ru-RU" sz="20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            </a:t>
                </a:r>
                <a:endParaRPr b="0" lang="en-US" sz="20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1" name="Text Box 10"/>
              <p:cNvSpPr/>
              <p:nvPr/>
            </p:nvSpPr>
            <p:spPr>
              <a:xfrm>
                <a:off x="1042920" y="2925360"/>
                <a:ext cx="388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</a:rPr>
                  <a:t>2) </a:t>
                </a:r>
                <a:r>
                  <a:rPr b="1" lang="en-US" sz="24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sin2x</a:t>
                </a: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ru-RU" sz="24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=-</a:t>
                </a: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2" name="Text Box 13"/>
              <p:cNvSpPr/>
              <p:nvPr/>
            </p:nvSpPr>
            <p:spPr>
              <a:xfrm>
                <a:off x="1042920" y="3501720"/>
                <a:ext cx="3889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</a:rPr>
                  <a:t>3) 2со</a:t>
                </a:r>
                <a:r>
                  <a:rPr b="1" lang="en-US" sz="2400" spc="-1" strike="noStrike">
                    <a:solidFill>
                      <a:srgbClr val="660066"/>
                    </a:solidFill>
                    <a:latin typeface="Times New Roman"/>
                  </a:rPr>
                  <a:t>s</a:t>
                </a: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660066"/>
                    </a:solidFill>
                    <a:latin typeface="Times New Roman"/>
                  </a:rPr>
                  <a:t>x</a:t>
                </a: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</a:rPr>
                  <a:t> -      )  </a:t>
                </a:r>
                <a:r>
                  <a:rPr b="0" lang="ru-RU" sz="2400" spc="-1" strike="noStrike">
                    <a:solidFill>
                      <a:srgbClr val="660066"/>
                    </a:solidFill>
                    <a:latin typeface="Times New Roman"/>
                  </a:rPr>
                  <a:t>=</a:t>
                </a: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</a:rPr>
                  <a:t> -1</a:t>
                </a:r>
                <a:r>
                  <a:rPr b="0" lang="ru-RU" sz="1800" spc="-1" strike="noStrike">
                    <a:solidFill>
                      <a:srgbClr val="660066"/>
                    </a:solidFill>
                    <a:latin typeface="Times New Roman"/>
                  </a:rPr>
                  <a:t>  </a:t>
                </a:r>
                <a:endParaRPr b="0" lang="en-US" sz="18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3" name="Text Box 16"/>
              <p:cNvSpPr/>
              <p:nvPr/>
            </p:nvSpPr>
            <p:spPr>
              <a:xfrm>
                <a:off x="1113480" y="4222440"/>
                <a:ext cx="388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</a:rPr>
                  <a:t>4) </a:t>
                </a:r>
                <a:r>
                  <a:rPr b="1" lang="en-US" sz="24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tg²x</a:t>
                </a: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 - 6</a:t>
                </a:r>
                <a:r>
                  <a:rPr b="1" lang="en-US" sz="2400" spc="-1" strike="noStrike">
                    <a:solidFill>
                      <a:srgbClr val="660066"/>
                    </a:solidFill>
                    <a:latin typeface="Times New Roman"/>
                  </a:rPr>
                  <a:t>tg</a:t>
                </a: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</a:rPr>
                  <a:t>х+5=0</a:t>
                </a: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44" name="Text Box 18"/>
              <p:cNvSpPr/>
              <p:nvPr/>
            </p:nvSpPr>
            <p:spPr>
              <a:xfrm>
                <a:off x="1113480" y="4870080"/>
                <a:ext cx="3886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</a:rPr>
                  <a:t>5) (2</a:t>
                </a:r>
                <a:r>
                  <a:rPr b="1" lang="en-US" sz="2400" spc="-1" strike="noStrike">
                    <a:solidFill>
                      <a:srgbClr val="660066"/>
                    </a:solidFill>
                    <a:latin typeface="Times New Roman"/>
                  </a:rPr>
                  <a:t>sinx</a:t>
                </a: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</a:rPr>
                  <a:t> – 1)(</a:t>
                </a:r>
                <a:r>
                  <a:rPr b="1" lang="en-US" sz="24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cos</a:t>
                </a: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  <a:ea typeface="Times New Roman"/>
                  </a:rPr>
                  <a:t>х-1)</a:t>
                </a:r>
                <a:r>
                  <a:rPr b="1" lang="ru-RU" sz="2400" spc="-1" strike="noStrike">
                    <a:solidFill>
                      <a:srgbClr val="660066"/>
                    </a:solidFill>
                    <a:latin typeface="Times New Roman"/>
                  </a:rPr>
                  <a:t>=0</a:t>
                </a: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5" name="Text Box 21"/>
          <p:cNvSpPr/>
          <p:nvPr/>
        </p:nvSpPr>
        <p:spPr>
          <a:xfrm>
            <a:off x="5651640" y="1700280"/>
            <a:ext cx="28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8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BB41-3F44-495B-899A-8B500C1888DD}" type="slidenum"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cc"/>
                </a:solidFill>
                <a:latin typeface="Arial Black"/>
              </a:rPr>
              <a:t>Реши уравнения базового уровня</a:t>
            </a:r>
            <a:r>
              <a:rPr b="0" lang="ru-RU" sz="4400" spc="-1" strike="noStrike">
                <a:solidFill>
                  <a:srgbClr val="3366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1835280" y="486900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5651640" y="1700280"/>
            <a:ext cx="28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0" name="Text Box 22"/>
          <p:cNvSpPr/>
          <p:nvPr/>
        </p:nvSpPr>
        <p:spPr>
          <a:xfrm>
            <a:off x="1571760" y="1700280"/>
            <a:ext cx="15714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П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Р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О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В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Р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Ь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ответы: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151" name="Group 35"/>
          <p:cNvGrpSpPr/>
          <p:nvPr/>
        </p:nvGrpSpPr>
        <p:grpSpPr>
          <a:xfrm>
            <a:off x="4500720" y="2276640"/>
            <a:ext cx="4643280" cy="3115440"/>
            <a:chOff x="4500720" y="2276640"/>
            <a:chExt cx="4643280" cy="3115440"/>
          </a:xfrm>
        </p:grpSpPr>
        <p:sp>
          <p:nvSpPr>
            <p:cNvPr id="152" name="Text Box 23"/>
            <p:cNvSpPr/>
            <p:nvPr/>
          </p:nvSpPr>
          <p:spPr>
            <a:xfrm>
              <a:off x="4500720" y="2276640"/>
              <a:ext cx="4643280" cy="31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749"/>
                </a:spcBef>
                <a:buClr>
                  <a:srgbClr val="660066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</a:rPr>
                <a:t>х= 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±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/6+2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k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.</a:t>
              </a:r>
              <a:endParaRPr b="0" lang="en-US" sz="2800" spc="-1" strike="noStrike">
                <a:solidFill>
                  <a:srgbClr val="660066"/>
                </a:solidFill>
                <a:latin typeface="Times New Roman"/>
              </a:endParaRPr>
            </a:p>
            <a:p>
              <a:pPr marL="457200" indent="-457200">
                <a:spcBef>
                  <a:spcPts val="1749"/>
                </a:spcBef>
                <a:buClr>
                  <a:srgbClr val="660066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х= (-1) 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·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 (-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</a:rPr>
                <a:t>/6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</a:rPr>
                <a:t>) +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n/2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.</a:t>
              </a:r>
              <a:endParaRPr b="0" lang="en-US" sz="2800" spc="-1" strike="noStrike">
                <a:solidFill>
                  <a:srgbClr val="660066"/>
                </a:solidFill>
                <a:latin typeface="Times New Roman"/>
              </a:endParaRPr>
            </a:p>
            <a:p>
              <a:pPr marL="457200" indent="-45720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3)   х=     +2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k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, х= -    + 2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k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.</a:t>
              </a:r>
              <a:endParaRPr b="0" lang="en-US" sz="2800" spc="-1" strike="noStrike">
                <a:solidFill>
                  <a:srgbClr val="660066"/>
                </a:solidFill>
                <a:latin typeface="Times New Roman"/>
              </a:endParaRPr>
            </a:p>
            <a:p>
              <a:pPr marL="457200" indent="-457200">
                <a:spcBef>
                  <a:spcPts val="1749"/>
                </a:spcBef>
                <a:buClr>
                  <a:srgbClr val="660066"/>
                </a:buClr>
                <a:buFont typeface="Times New Roman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х= 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/4+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n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, х=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arctg5+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k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. </a:t>
              </a:r>
              <a:endParaRPr b="0" lang="en-US" sz="2800" spc="-1" strike="noStrike">
                <a:solidFill>
                  <a:srgbClr val="660066"/>
                </a:solidFill>
                <a:latin typeface="Times New Roman"/>
              </a:endParaRPr>
            </a:p>
            <a:p>
              <a:pPr marL="457200" indent="-457200">
                <a:spcBef>
                  <a:spcPts val="1749"/>
                </a:spcBef>
                <a:buClr>
                  <a:srgbClr val="660066"/>
                </a:buClr>
                <a:buFont typeface="Times New Roman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х= (-1) 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·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 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</a:rPr>
                <a:t>/6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</a:rPr>
                <a:t> +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 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n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</a:rPr>
                <a:t>, х= 2</a:t>
              </a:r>
              <a:r>
                <a:rPr b="1" lang="el-GR" sz="2800" spc="-1" strike="noStrike">
                  <a:solidFill>
                    <a:srgbClr val="660066"/>
                  </a:solidFill>
                  <a:latin typeface="Times New Roman"/>
                </a:rPr>
                <a:t>π</a:t>
              </a: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</a:rPr>
                <a:t>k</a:t>
              </a: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pic>
          <p:nvPicPr>
            <p:cNvPr id="153" name="Object 26" descr=""/>
            <p:cNvPicPr/>
            <p:nvPr/>
          </p:nvPicPr>
          <p:blipFill>
            <a:blip r:embed="rId1"/>
            <a:stretch/>
          </p:blipFill>
          <p:spPr>
            <a:xfrm>
              <a:off x="6012000" y="2924280"/>
              <a:ext cx="133200" cy="14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Object 28" descr=""/>
            <p:cNvPicPr/>
            <p:nvPr/>
          </p:nvPicPr>
          <p:blipFill>
            <a:blip r:embed="rId2"/>
            <a:stretch/>
          </p:blipFill>
          <p:spPr>
            <a:xfrm>
              <a:off x="5580000" y="3573360"/>
              <a:ext cx="360360" cy="5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Object 30" descr=""/>
            <p:cNvPicPr/>
            <p:nvPr/>
          </p:nvPicPr>
          <p:blipFill>
            <a:blip r:embed="rId3"/>
            <a:stretch/>
          </p:blipFill>
          <p:spPr>
            <a:xfrm>
              <a:off x="7502400" y="3645000"/>
              <a:ext cx="405000" cy="4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Object 31" descr=""/>
            <p:cNvPicPr/>
            <p:nvPr/>
          </p:nvPicPr>
          <p:blipFill>
            <a:blip r:embed="rId4"/>
            <a:stretch/>
          </p:blipFill>
          <p:spPr>
            <a:xfrm>
              <a:off x="6012000" y="4869000"/>
              <a:ext cx="133200" cy="145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plit dir="out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22160" y="764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cc"/>
                </a:solidFill>
                <a:latin typeface="Arial Black"/>
              </a:rPr>
              <a:t>ДОМАШНЕЕ ЗАДАНИЕ</a:t>
            </a:r>
            <a:endParaRPr b="0" lang="en-US" sz="40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2924280"/>
            <a:ext cx="8496000" cy="324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1. 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s</a:t>
            </a:r>
            <a:r>
              <a:rPr b="1" lang="ru-RU" sz="3600" spc="-1" strike="noStrike" baseline="30000">
                <a:solidFill>
                  <a:srgbClr val="660066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х  +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in</a:t>
            </a:r>
            <a:r>
              <a:rPr b="1" lang="ru-RU" sz="3600" spc="-1" strike="noStrike" baseline="30000">
                <a:solidFill>
                  <a:srgbClr val="660066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 х   = 16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in</a:t>
            </a:r>
            <a:r>
              <a:rPr b="1" lang="ru-RU" sz="3600" spc="-1" strike="noStrike" baseline="30000">
                <a:solidFill>
                  <a:srgbClr val="660066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 х 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s</a:t>
            </a:r>
            <a:r>
              <a:rPr b="1" lang="ru-RU" sz="3600" spc="-1" strike="noStrike" baseline="30000">
                <a:solidFill>
                  <a:srgbClr val="660066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х 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2.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in</a:t>
            </a:r>
            <a:r>
              <a:rPr b="1" lang="ru-RU" sz="3600" spc="-1" strike="noStrike" baseline="30000">
                <a:solidFill>
                  <a:srgbClr val="660066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 х  + 3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in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 х  - 4 = 0 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3.  2 (  с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s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х  +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in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 х )  +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in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 2 х  + 1 = 0 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8A5A-296E-4FB2-B213-4CA8A5AD685C}" type="slidenum"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42591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cc"/>
                </a:solidFill>
                <a:latin typeface="Arial Black"/>
              </a:rPr>
              <a:t>Итоги урока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15640" y="2205000"/>
            <a:ext cx="7201080" cy="392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Вспомним основные моменты урока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Оценки за урок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5cff"/>
                </a:solidFill>
                <a:latin typeface="Arial"/>
              </a:rPr>
              <a:t>Спасибо за урок!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2" name="Номер слайда 4"/>
          <p:cNvSpPr/>
          <p:nvPr/>
        </p:nvSpPr>
        <p:spPr>
          <a:xfrm>
            <a:off x="7162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1467-E673-4AD9-A2B5-BFB87E20CD12}" type="slidenum"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8T04:18:11Z</dcterms:created>
  <dc:creator>Шабанова</dc:creator>
  <dc:description/>
  <dc:language>en-US</dc:language>
  <cp:lastModifiedBy>Карнач Ирина</cp:lastModifiedBy>
  <dcterms:modified xsi:type="dcterms:W3CDTF">2014-04-18T12:23:13Z</dcterms:modified>
  <cp:revision>47</cp:revision>
  <dc:subject/>
  <dc:title>Тригонометрические уравн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NXTAG2">
    <vt:lpwstr>000800ba03000000000001024140</vt:lpwstr>
  </property>
  <property fmtid="{D5CDD505-2E9C-101B-9397-08002B2CF9AE}" pid="4" name="Version">
    <vt:r8>3</vt:r8>
  </property>
</Properties>
</file>