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F1A7-80A3-4193-A17F-F8A6B23082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DB1F-26BA-4E4D-8E24-8AD66ABB9C1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0B5F-965B-4B58-BB4E-035BB05D3D1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80A7-8C23-40B0-A1FD-E683BC7D1635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B02-E114-4D67-8922-26A0CD04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BFD-62CE-42DA-B47E-33E5309D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92F-F6E1-4B95-832A-3C14F47F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1BE-5F4C-4A8C-9BD3-A57CEFF8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E780-1EF2-42E1-99DB-0FA5146B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FD58-F379-40B9-A3AA-DA7F9929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0A57-19A8-44ED-BECF-449D7C46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8D5F-1793-475C-A520-D630FA97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9552-92D6-4D12-A92E-5B65E75C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270C-5DBA-4EB7-B244-4F5AF30C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BE54-B7FF-4004-83FB-05B45601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279-693B-4580-97AF-8A8A2F7E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EE66-C399-4A03-B812-32A52EA8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1F97-BFD7-495D-B466-364B9790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2FB3-4A79-4BF4-8DF5-79C1360E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D807-A601-4577-9CB4-E9CABBF6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F9F5-216D-4406-B2A2-6CBBE030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648-85D0-4ABC-BE0C-8F151F7B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BB8-7972-457A-87ED-9BD7359C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8C2-95C8-4E1D-ABF9-18DE33AD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0D3-D8AE-4F65-AE09-2056F9D2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F29-3AE9-4097-B6F3-65C9DC64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D82-36BF-4979-B27E-06CE0ACD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CEA-7F38-4438-999E-8005B1E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1C6F-9448-492E-8B33-7D6DB5F87A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12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10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2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eaeae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3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4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5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6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7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8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9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1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3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6882-F925-4151-B786-41CEB6709F59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Тригонометрические уравнения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10920" y="4357800"/>
            <a:ext cx="43923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бобщающий урок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835280" y="2781360"/>
            <a:ext cx="2736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лгебра-10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4427640" y="5157720"/>
            <a:ext cx="4248000" cy="8636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Учитель математики Середа А.А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2014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BED7-4E44-47CA-811F-B09D8F2059E6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Как работать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19280" y="1773360"/>
            <a:ext cx="720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егодня Ты сможешь обобщить и систематизировать знания по решению тригонометрических уравнений . В ходе урока ты сможешь проверить степень своей готовности к предстоящей контрольной работе. К концу урока постарайся зафиксировать свои ошибки  (сколько, какие). В дальнейшем  вместе с учителем ты сможешь разобрать эти ошибки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2843280" y="4797360"/>
            <a:ext cx="396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99ff">
                    <a:alpha val="71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0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99ff">
                  <a:alpha val="71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FFAA-1113-4FBE-B575-D1580A3BF929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План урок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стная разминк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уравнений базового уровня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уравнений повышенного уровня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заданий ГИ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дведение итогов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905120"/>
            <a:ext cx="69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(sin a – 1) (sin a + 1)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sin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 – 1 +  cos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sin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 + tg a ctg a +  cos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)  √1- 2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х +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х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2880-F744-4AD6-B53C-AAC64AD897D6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1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6B18-92D0-4D78-B261-5C5A846D955F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500120"/>
          <a:ext cx="6262920" cy="4929120"/>
        </p:xfrm>
        <a:graphic>
          <a:graphicData uri="http://schemas.openxmlformats.org/drawingml/2006/table">
            <a:tbl>
              <a:tblPr/>
              <a:tblGrid>
                <a:gridCol w="3116520"/>
                <a:gridCol w="3146400"/>
              </a:tblGrid>
              <a:tr h="49291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  √2/2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 1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(- 1/2 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(- √3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tg  √3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  √2/2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1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(- 1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(- √3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tg  √3/3 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8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36EC-DA21-461C-99FE-D856830919DA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Arial Black"/>
              </a:rPr>
              <a:t>Реши уравнения базового уровня</a:t>
            </a: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835280" y="486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35" name="Group 34"/>
          <p:cNvGrpSpPr/>
          <p:nvPr/>
        </p:nvGrpSpPr>
        <p:grpSpPr>
          <a:xfrm>
            <a:off x="1042920" y="2349360"/>
            <a:ext cx="3957480" cy="2980440"/>
            <a:chOff x="1042920" y="2349360"/>
            <a:chExt cx="3957480" cy="2980440"/>
          </a:xfrm>
        </p:grpSpPr>
        <p:pic>
          <p:nvPicPr>
            <p:cNvPr id="136" name="Object 8" descr=""/>
            <p:cNvPicPr/>
            <p:nvPr/>
          </p:nvPicPr>
          <p:blipFill>
            <a:blip r:embed="rId1"/>
            <a:stretch/>
          </p:blipFill>
          <p:spPr>
            <a:xfrm>
              <a:off x="2324880" y="2349360"/>
              <a:ext cx="4269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Object 11" descr=""/>
            <p:cNvPicPr/>
            <p:nvPr/>
          </p:nvPicPr>
          <p:blipFill>
            <a:blip r:embed="rId2"/>
            <a:stretch/>
          </p:blipFill>
          <p:spPr>
            <a:xfrm>
              <a:off x="2467800" y="2854080"/>
              <a:ext cx="4993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14" descr=""/>
            <p:cNvPicPr/>
            <p:nvPr/>
          </p:nvPicPr>
          <p:blipFill>
            <a:blip r:embed="rId3"/>
            <a:stretch/>
          </p:blipFill>
          <p:spPr>
            <a:xfrm>
              <a:off x="2397240" y="3501720"/>
              <a:ext cx="497880" cy="62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" name="Group 33"/>
            <p:cNvGrpSpPr/>
            <p:nvPr/>
          </p:nvGrpSpPr>
          <p:grpSpPr>
            <a:xfrm>
              <a:off x="1042920" y="2349360"/>
              <a:ext cx="3957480" cy="2980440"/>
              <a:chOff x="1042920" y="2349360"/>
              <a:chExt cx="3957480" cy="2980440"/>
            </a:xfrm>
          </p:grpSpPr>
          <p:sp>
            <p:nvSpPr>
              <p:cNvPr id="140" name="Text Box 7"/>
              <p:cNvSpPr/>
              <p:nvPr/>
            </p:nvSpPr>
            <p:spPr>
              <a:xfrm>
                <a:off x="1042920" y="2349360"/>
                <a:ext cx="39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1) 2со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x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-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       = </a:t>
                </a:r>
                <a:r>
                  <a:rPr b="1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0 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           </a:t>
                </a: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1" name="Text Box 10"/>
              <p:cNvSpPr/>
              <p:nvPr/>
            </p:nvSpPr>
            <p:spPr>
              <a:xfrm>
                <a:off x="1042920" y="2925360"/>
                <a:ext cx="38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2)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in2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=-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2" name="Text Box 13"/>
              <p:cNvSpPr/>
              <p:nvPr/>
            </p:nvSpPr>
            <p:spPr>
              <a:xfrm>
                <a:off x="1042920" y="3501720"/>
                <a:ext cx="388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3) 2со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s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-      )  </a:t>
                </a:r>
                <a:r>
                  <a:rPr b="0" lang="ru-RU" sz="2400" spc="-1" strike="noStrike">
                    <a:solidFill>
                      <a:srgbClr val="660066"/>
                    </a:solidFill>
                    <a:latin typeface="Times New Roman"/>
                  </a:rPr>
                  <a:t>=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-1</a:t>
                </a:r>
                <a:r>
                  <a:rPr b="0" lang="ru-RU" sz="1800" spc="-1" strike="noStrike">
                    <a:solidFill>
                      <a:srgbClr val="660066"/>
                    </a:solidFill>
                    <a:latin typeface="Times New Roman"/>
                  </a:rPr>
                  <a:t>  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3" name="Text Box 16"/>
              <p:cNvSpPr/>
              <p:nvPr/>
            </p:nvSpPr>
            <p:spPr>
              <a:xfrm>
                <a:off x="1113480" y="4222440"/>
                <a:ext cx="388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4)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tg²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- 6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tg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х+5=0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Text Box 18"/>
              <p:cNvSpPr/>
              <p:nvPr/>
            </p:nvSpPr>
            <p:spPr>
              <a:xfrm>
                <a:off x="1113480" y="4870080"/>
                <a:ext cx="38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5) (2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sin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– 1)(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cos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х-1)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=0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Text Box 21"/>
          <p:cNvSpPr/>
          <p:nvPr/>
        </p:nvSpPr>
        <p:spPr>
          <a:xfrm>
            <a:off x="5651640" y="170028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8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B4D7-907F-4C80-93BC-82A983CB8CDC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Arial Black"/>
              </a:rPr>
              <a:t>Реши уравнения базового уровня</a:t>
            </a: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1835280" y="486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651640" y="170028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1571760" y="1700280"/>
            <a:ext cx="1571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О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Ь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ответы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1" name="Group 35"/>
          <p:cNvGrpSpPr/>
          <p:nvPr/>
        </p:nvGrpSpPr>
        <p:grpSpPr>
          <a:xfrm>
            <a:off x="4500720" y="2276640"/>
            <a:ext cx="4643280" cy="3115440"/>
            <a:chOff x="4500720" y="2276640"/>
            <a:chExt cx="4643280" cy="3115440"/>
          </a:xfrm>
        </p:grpSpPr>
        <p:sp>
          <p:nvSpPr>
            <p:cNvPr id="152" name="Text Box 23"/>
            <p:cNvSpPr/>
            <p:nvPr/>
          </p:nvSpPr>
          <p:spPr>
            <a:xfrm>
              <a:off x="4500720" y="2276640"/>
              <a:ext cx="4643280" cy="31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х=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±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/6+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(-1)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·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(-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/6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) 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/2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3)   х=     +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, х= -    + 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/4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, х=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rctg5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(-1)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·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/6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 +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, х= 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pic>
          <p:nvPicPr>
            <p:cNvPr id="153" name="Object 26" descr=""/>
            <p:cNvPicPr/>
            <p:nvPr/>
          </p:nvPicPr>
          <p:blipFill>
            <a:blip r:embed="rId1"/>
            <a:stretch/>
          </p:blipFill>
          <p:spPr>
            <a:xfrm>
              <a:off x="6012000" y="2924280"/>
              <a:ext cx="1332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28" descr=""/>
            <p:cNvPicPr/>
            <p:nvPr/>
          </p:nvPicPr>
          <p:blipFill>
            <a:blip r:embed="rId2"/>
            <a:stretch/>
          </p:blipFill>
          <p:spPr>
            <a:xfrm>
              <a:off x="5580000" y="3573360"/>
              <a:ext cx="36036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30" descr=""/>
            <p:cNvPicPr/>
            <p:nvPr/>
          </p:nvPicPr>
          <p:blipFill>
            <a:blip r:embed="rId3"/>
            <a:stretch/>
          </p:blipFill>
          <p:spPr>
            <a:xfrm>
              <a:off x="7502400" y="3645000"/>
              <a:ext cx="40500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Object 31" descr=""/>
            <p:cNvPicPr/>
            <p:nvPr/>
          </p:nvPicPr>
          <p:blipFill>
            <a:blip r:embed="rId4"/>
            <a:stretch/>
          </p:blipFill>
          <p:spPr>
            <a:xfrm>
              <a:off x="6012000" y="4869000"/>
              <a:ext cx="133200" cy="14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764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Arial Black"/>
              </a:rPr>
              <a:t>ДОМАШНЕЕ ЗАДАНИЕ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496000" cy="32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1.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s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 = 16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s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+ 3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- 4 = 0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3.  2 (  с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s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)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2 х  + 1 = 0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075D-79A1-410F-B0E1-308E797CC1AE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4259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cc"/>
                </a:solidFill>
                <a:latin typeface="Arial Black"/>
              </a:rPr>
              <a:t>Итоги урока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5640" y="2205000"/>
            <a:ext cx="7201080" cy="392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спомним основные моменты урок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Оценки за урок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5cff"/>
                </a:solidFill>
                <a:latin typeface="Arial"/>
              </a:rPr>
              <a:t>Спасибо за урок!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B6ED-F1B1-4AC1-BB17-AF3A6097D4FC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4:18:11Z</dcterms:created>
  <dc:creator>Шабанова</dc:creator>
  <dc:description/>
  <dc:language>en-US</dc:language>
  <cp:lastModifiedBy>Карнач Ирина</cp:lastModifiedBy>
  <dcterms:modified xsi:type="dcterms:W3CDTF">2014-04-18T12:23:13Z</dcterms:modified>
  <cp:revision>47</cp:revision>
  <dc:subject/>
  <dc:title>Тригонометрические урав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ba03000000000001024140</vt:lpwstr>
  </property>
  <property fmtid="{D5CDD505-2E9C-101B-9397-08002B2CF9AE}" pid="4" name="Version">
    <vt:r8>3</vt:r8>
  </property>
</Properties>
</file>