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682F-23B8-48F2-B850-CB8DB59A19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4DE1-790F-459D-B0D0-74E7AFDF35F2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8CC9-1FC2-4D15-832E-1D7BF43A0799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1BA5-81E0-44BC-AE48-BF960BD21D42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2B96-62A4-48A5-926A-39CFA2A6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A42-C1C1-4AF6-B20B-092AB20D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BA91-D5C8-429D-8C46-CA5B9DA9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183-AB07-4D9A-8E9F-0286FBEE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FB9C-2DD0-4CB1-8A4B-905759C5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AAD5-3A97-40A1-AE68-FF78560D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81C9-8798-4623-BA0D-332B364C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E1D5-1BD5-4A90-A9E7-ACD4E959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C64A-3F58-4757-B577-10EAF1EE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51B8-E88A-4F18-8654-80D68708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E2DF-F91D-4F57-A7CA-A53725A4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BD5-2D7B-4B94-8A5D-E2929EF2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4D13-E658-4D72-ADA4-8DEFABE0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B769-BA90-4121-A142-FC06FD25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F270-CFCB-4FA4-9B47-AD7D5C8E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9008-76BE-4D3F-8D17-4066D547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05AE-97EE-4245-BA9A-73A41744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932B-0FBC-4CFE-B96E-5146A668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9AE-244D-4E91-8EDA-FDBFEC2F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C5DD-E22F-4FD0-8823-0B2BFEFC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000-49B8-4D04-A741-D2360577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6A0-198A-40BC-B3CF-64E3AB2E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4EB5-97EC-4177-86A7-334C9219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E1F-1E4C-48A4-BBFC-C0ADBACB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3423-3747-4FFA-9672-3D50C5C103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1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15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7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" name="Rectangle 8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cc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" name="Rectangle 9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" name="Rectangle 10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2" name="Rectangle 11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3" name="Rectangle 12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" name="Rectangle 13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" name="Arc 14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6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" name="Rectangle 17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7a7c93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8" name="Rectangle 19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4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12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10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2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eaeae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3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4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5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6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7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8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9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ff99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1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3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cc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DC74-D75B-48F2-9487-0C03A68C4B8A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cc"/>
                </a:solidFill>
                <a:latin typeface="Arial Black"/>
              </a:rPr>
              <a:t>Тригонометрические уравнения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10920" y="4357800"/>
            <a:ext cx="4392360" cy="10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Обобщающий урок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835280" y="2781360"/>
            <a:ext cx="2736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Алгебра-10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4427640" y="5157720"/>
            <a:ext cx="4248000" cy="86364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Учитель математики Середа А.А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2014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D4FA-E135-4AF7-83B7-1BFD5A167043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Как работать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619280" y="1773360"/>
            <a:ext cx="7202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егодня Ты сможешь обобщить и систематизировать знания по решению тригонометрических уравнений . В ходе урока ты сможешь проверить степень своей готовности к предстоящей контрольной работе. К концу урока постарайся зафиксировать свои ошибки  (сколько, какие). В дальнейшем  вместе с учителем ты сможешь разобрать эти ошибки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WordArt 5"/>
          <p:cNvSpPr txBox="1"/>
          <p:nvPr/>
        </p:nvSpPr>
        <p:spPr>
          <a:xfrm>
            <a:off x="2843280" y="4797360"/>
            <a:ext cx="396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ff99ff">
                    <a:alpha val="71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дачи!</a:t>
            </a:r>
            <a:endParaRPr b="0" lang="en-US" sz="1800" spc="1" strike="noStrike">
              <a:ln w="22320">
                <a:solidFill>
                  <a:srgbClr val="0000ff"/>
                </a:solidFill>
                <a:miter/>
              </a:ln>
              <a:solidFill>
                <a:srgbClr val="ff99ff">
                  <a:alpha val="71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88C5-31F8-4405-8D9B-12A6222AA53A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План урока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Устная разминка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Решение уравнений базового уровня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Решение уравнений повышенного уровня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Решение заданий ГИА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одведение итогов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95280" y="1905120"/>
            <a:ext cx="6919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) (sin a – 1) (sin a + 1)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) sin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a – 1 +  cos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) sin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a + tg a ctg a +  cos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Г)  √1- 2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х +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 х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EAE3-9CBE-4E10-8E1F-36C05FC01CBA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1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1AF4-5BE0-4B60-9AB1-33A0FFE22966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1500120"/>
          <a:ext cx="6262920" cy="4929120"/>
        </p:xfrm>
        <a:graphic>
          <a:graphicData uri="http://schemas.openxmlformats.org/drawingml/2006/table">
            <a:tbl>
              <a:tblPr/>
              <a:tblGrid>
                <a:gridCol w="3116520"/>
                <a:gridCol w="3146400"/>
              </a:tblGrid>
              <a:tr h="492912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sin   √2/2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cos  1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sin (- 1/2 )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cos (- √3/2)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tg  √3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cos   √2/2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sin 1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cos (- 1/2)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sin (- √3/2)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tg  √3/3 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8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F24E-0659-44E3-9814-B0FC8D543FF7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Arial Black"/>
              </a:rPr>
              <a:t>Реши уравнения базового уровня</a:t>
            </a: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1835280" y="4869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35" name="Group 34"/>
          <p:cNvGrpSpPr/>
          <p:nvPr/>
        </p:nvGrpSpPr>
        <p:grpSpPr>
          <a:xfrm>
            <a:off x="1042920" y="2349360"/>
            <a:ext cx="3957480" cy="2980440"/>
            <a:chOff x="1042920" y="2349360"/>
            <a:chExt cx="3957480" cy="2980440"/>
          </a:xfrm>
        </p:grpSpPr>
        <p:pic>
          <p:nvPicPr>
            <p:cNvPr id="136" name="Object 8" descr=""/>
            <p:cNvPicPr/>
            <p:nvPr/>
          </p:nvPicPr>
          <p:blipFill>
            <a:blip r:embed="rId1"/>
            <a:stretch/>
          </p:blipFill>
          <p:spPr>
            <a:xfrm>
              <a:off x="2324880" y="2349360"/>
              <a:ext cx="4269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Object 11" descr=""/>
            <p:cNvPicPr/>
            <p:nvPr/>
          </p:nvPicPr>
          <p:blipFill>
            <a:blip r:embed="rId2"/>
            <a:stretch/>
          </p:blipFill>
          <p:spPr>
            <a:xfrm>
              <a:off x="2467800" y="2854080"/>
              <a:ext cx="4993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Object 14" descr=""/>
            <p:cNvPicPr/>
            <p:nvPr/>
          </p:nvPicPr>
          <p:blipFill>
            <a:blip r:embed="rId3"/>
            <a:stretch/>
          </p:blipFill>
          <p:spPr>
            <a:xfrm>
              <a:off x="2397240" y="3501720"/>
              <a:ext cx="497880" cy="62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9" name="Group 33"/>
            <p:cNvGrpSpPr/>
            <p:nvPr/>
          </p:nvGrpSpPr>
          <p:grpSpPr>
            <a:xfrm>
              <a:off x="1042920" y="2349360"/>
              <a:ext cx="3957480" cy="2980440"/>
              <a:chOff x="1042920" y="2349360"/>
              <a:chExt cx="3957480" cy="2980440"/>
            </a:xfrm>
          </p:grpSpPr>
          <p:sp>
            <p:nvSpPr>
              <p:cNvPr id="140" name="Text Box 7"/>
              <p:cNvSpPr/>
              <p:nvPr/>
            </p:nvSpPr>
            <p:spPr>
              <a:xfrm>
                <a:off x="1042920" y="2349360"/>
                <a:ext cx="391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1) 2со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sx</a:t>
                </a:r>
                <a:r>
                  <a:rPr b="0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-</a:t>
                </a:r>
                <a:r>
                  <a:rPr b="0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       = </a:t>
                </a:r>
                <a:r>
                  <a:rPr b="1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0 </a:t>
                </a:r>
                <a:r>
                  <a:rPr b="0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           </a:t>
                </a:r>
                <a:endParaRPr b="0" lang="en-US" sz="20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1" name="Text Box 10"/>
              <p:cNvSpPr/>
              <p:nvPr/>
            </p:nvSpPr>
            <p:spPr>
              <a:xfrm>
                <a:off x="1042920" y="2925360"/>
                <a:ext cx="38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2) 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sin2x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=-</a:t>
                </a: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2" name="Text Box 13"/>
              <p:cNvSpPr/>
              <p:nvPr/>
            </p:nvSpPr>
            <p:spPr>
              <a:xfrm>
                <a:off x="1042920" y="3501720"/>
                <a:ext cx="388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3) 2со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s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x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 -      )  </a:t>
                </a:r>
                <a:r>
                  <a:rPr b="0" lang="ru-RU" sz="2400" spc="-1" strike="noStrike">
                    <a:solidFill>
                      <a:srgbClr val="660066"/>
                    </a:solidFill>
                    <a:latin typeface="Times New Roman"/>
                  </a:rPr>
                  <a:t>=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 -1</a:t>
                </a:r>
                <a:r>
                  <a:rPr b="0" lang="ru-RU" sz="1800" spc="-1" strike="noStrike">
                    <a:solidFill>
                      <a:srgbClr val="660066"/>
                    </a:solidFill>
                    <a:latin typeface="Times New Roman"/>
                  </a:rPr>
                  <a:t>  </a:t>
                </a: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3" name="Text Box 16"/>
              <p:cNvSpPr/>
              <p:nvPr/>
            </p:nvSpPr>
            <p:spPr>
              <a:xfrm>
                <a:off x="1113480" y="4222440"/>
                <a:ext cx="388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4) 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tg²x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- 6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tg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х+5=0</a:t>
                </a: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4" name="Text Box 18"/>
              <p:cNvSpPr/>
              <p:nvPr/>
            </p:nvSpPr>
            <p:spPr>
              <a:xfrm>
                <a:off x="1113480" y="4870080"/>
                <a:ext cx="388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5) (2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sinx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 – 1)(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cos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х-1)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=0</a:t>
                </a: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Text Box 21"/>
          <p:cNvSpPr/>
          <p:nvPr/>
        </p:nvSpPr>
        <p:spPr>
          <a:xfrm>
            <a:off x="5651640" y="1700280"/>
            <a:ext cx="28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8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56AD-EED0-4F5B-8295-767E3B29D32D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Arial Black"/>
              </a:rPr>
              <a:t>Реши уравнения базового уровня</a:t>
            </a: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1835280" y="4869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5651640" y="1700280"/>
            <a:ext cx="28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1571760" y="1700280"/>
            <a:ext cx="1571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П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О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Ь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ответы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51" name="Group 35"/>
          <p:cNvGrpSpPr/>
          <p:nvPr/>
        </p:nvGrpSpPr>
        <p:grpSpPr>
          <a:xfrm>
            <a:off x="4500720" y="2276640"/>
            <a:ext cx="4643280" cy="3115440"/>
            <a:chOff x="4500720" y="2276640"/>
            <a:chExt cx="4643280" cy="3115440"/>
          </a:xfrm>
        </p:grpSpPr>
        <p:sp>
          <p:nvSpPr>
            <p:cNvPr id="152" name="Text Box 23"/>
            <p:cNvSpPr/>
            <p:nvPr/>
          </p:nvSpPr>
          <p:spPr>
            <a:xfrm>
              <a:off x="4500720" y="2276640"/>
              <a:ext cx="4643280" cy="31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749"/>
                </a:spcBef>
                <a:buClr>
                  <a:srgbClr val="66006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х= 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±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/6+2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marL="457200" indent="-457200">
                <a:spcBef>
                  <a:spcPts val="1749"/>
                </a:spcBef>
                <a:buClr>
                  <a:srgbClr val="66006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х= (-1) 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·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(-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/6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) +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n/2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marL="457200" indent="-45720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3)   х=     +2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, х= -    + 2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marL="457200" indent="-457200">
                <a:spcBef>
                  <a:spcPts val="1749"/>
                </a:spcBef>
                <a:buClr>
                  <a:srgbClr val="660066"/>
                </a:buClr>
                <a:buFont typeface="Times New Roman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х= 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/4+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n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, х=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arctg5+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. 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marL="457200" indent="-457200">
                <a:spcBef>
                  <a:spcPts val="1749"/>
                </a:spcBef>
                <a:buClr>
                  <a:srgbClr val="660066"/>
                </a:buClr>
                <a:buFont typeface="Times New Roman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х= (-1) 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·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/6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 +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n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, х= 2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pic>
          <p:nvPicPr>
            <p:cNvPr id="153" name="Object 26" descr=""/>
            <p:cNvPicPr/>
            <p:nvPr/>
          </p:nvPicPr>
          <p:blipFill>
            <a:blip r:embed="rId1"/>
            <a:stretch/>
          </p:blipFill>
          <p:spPr>
            <a:xfrm>
              <a:off x="6012000" y="2924280"/>
              <a:ext cx="13320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Object 28" descr=""/>
            <p:cNvPicPr/>
            <p:nvPr/>
          </p:nvPicPr>
          <p:blipFill>
            <a:blip r:embed="rId2"/>
            <a:stretch/>
          </p:blipFill>
          <p:spPr>
            <a:xfrm>
              <a:off x="5580000" y="3573360"/>
              <a:ext cx="36036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Object 30" descr=""/>
            <p:cNvPicPr/>
            <p:nvPr/>
          </p:nvPicPr>
          <p:blipFill>
            <a:blip r:embed="rId3"/>
            <a:stretch/>
          </p:blipFill>
          <p:spPr>
            <a:xfrm>
              <a:off x="7502400" y="3645000"/>
              <a:ext cx="40500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Object 31" descr=""/>
            <p:cNvPicPr/>
            <p:nvPr/>
          </p:nvPicPr>
          <p:blipFill>
            <a:blip r:embed="rId4"/>
            <a:stretch/>
          </p:blipFill>
          <p:spPr>
            <a:xfrm>
              <a:off x="6012000" y="4869000"/>
              <a:ext cx="133200" cy="14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2160" y="764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Arial Black"/>
              </a:rPr>
              <a:t>ДОМАШНЕЕ ЗАДАНИЕ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496000" cy="32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1. 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s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х  +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  = 16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s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х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 + 3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 - 4 = 0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3.  2 (  с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s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х  +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)  +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2 х  + 1 = 0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A01E-9559-4B07-80B5-9B3F78B87F3A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42591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cc"/>
                </a:solidFill>
                <a:latin typeface="Arial Black"/>
              </a:rPr>
              <a:t>Итоги урока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5640" y="2205000"/>
            <a:ext cx="7201080" cy="392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Вспомним основные моменты урока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Оценки за урок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5cff"/>
                </a:solidFill>
                <a:latin typeface="Arial"/>
              </a:rPr>
              <a:t>Спасибо за урок!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2" name="Номер слайда 4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EBA7-3DD6-4C8B-B71A-0F59E9BE7590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04:18:11Z</dcterms:created>
  <dc:creator>Шабанова</dc:creator>
  <dc:description/>
  <dc:language>en-US</dc:language>
  <cp:lastModifiedBy>Карнач Ирина</cp:lastModifiedBy>
  <dcterms:modified xsi:type="dcterms:W3CDTF">2014-04-18T12:23:13Z</dcterms:modified>
  <cp:revision>47</cp:revision>
  <dc:subject/>
  <dc:title>Тригонометрические уравн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NXTAG2">
    <vt:lpwstr>000800ba03000000000001024140</vt:lpwstr>
  </property>
  <property fmtid="{D5CDD505-2E9C-101B-9397-08002B2CF9AE}" pid="4" name="Version">
    <vt:r8>3</vt:r8>
  </property>
</Properties>
</file>