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DAFF-B4A0-4EBD-81F3-370853CDE3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C811-C07F-470A-8972-198272D24225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DEFD-555F-4F42-8035-C9635440C64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B13B-3395-414B-85D0-462518A24661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5BA-7BDB-4B7E-ABDA-77FC0247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00F-2869-448D-85C1-32E01439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0C0-7B73-4EF1-A627-F6602F85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B4F-410F-48B2-9829-C89C2DD1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9C2D-F5A4-4259-8493-7F040258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5107-AD61-4F87-9A0A-E363E544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A4E8-D378-47D5-A9A0-E45C3FAC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56A0-36AD-418B-B99C-7C324117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A634-ED26-41D2-BFCC-B5AC5B61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3D8C-C493-4687-A028-C0888E3D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1355-D5FA-4E9D-AFAC-EAC02835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513-92DF-4121-BB09-62183BEE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53D2-CA92-40FC-849E-1CFC8D7A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FFCF-4B74-404F-A18D-CD5A701D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179F-6BE5-40BD-BA20-863640CE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9B1D-EDD2-40B5-96F9-27542727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EE7E-66B2-4ED2-8C20-8892B1D8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B08-E649-4530-92C9-CF75745F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7C7-20CC-4160-8E8B-BB3F1933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8EE-E0E1-4625-B3DF-71654A66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32F-0DE5-472E-A41D-DA872143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B1B-B847-4403-B712-809B3BF2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7E9-0F2B-4697-903E-6CE78264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3E4-2041-4172-81B9-F0A5A70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01B9-4B99-4022-970D-0C53818D8B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4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12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10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2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eaeae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3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4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5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6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7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8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9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ff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1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3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1730-E73A-472A-8652-2E7F9AFC722C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Тригонометрические уравнения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10920" y="4357800"/>
            <a:ext cx="43923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бобщающий урок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835280" y="2781360"/>
            <a:ext cx="2736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лгебра-10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4427640" y="5157720"/>
            <a:ext cx="4248000" cy="8636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Учитель математики Середа А.А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2014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D4CE-F71C-48ED-9471-3E0CF8E5013D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Как работать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619280" y="1773360"/>
            <a:ext cx="720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егодня Ты сможешь обобщить и систематизировать знания по решению тригонометрических уравнений . В ходе урока ты сможешь проверить степень своей готовности к предстоящей контрольной работе. К концу урока постарайся зафиксировать свои ошибки  (сколько, какие). В дальнейшем  вместе с учителем ты сможешь разобрать эти ошибки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2843280" y="4797360"/>
            <a:ext cx="396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99ff">
                    <a:alpha val="71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0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99ff">
                  <a:alpha val="71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2459-9846-480B-BFC9-0D3E9C9798AD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План урока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стная разминк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уравнений базового уровня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уравнений повышенного уровня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заданий ГИ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дведение итогов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905120"/>
            <a:ext cx="691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(sin a – 1) (sin a + 1)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sin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 – 1 +  cos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sin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 + tg a ctg a +  cos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)  √1- 2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х +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х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6B00-D0F7-4263-B345-C31B315EC40F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1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157E-8928-46D9-892A-E2BD0C6AA93A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500120"/>
          <a:ext cx="6262920" cy="4929120"/>
        </p:xfrm>
        <a:graphic>
          <a:graphicData uri="http://schemas.openxmlformats.org/drawingml/2006/table">
            <a:tbl>
              <a:tblPr/>
              <a:tblGrid>
                <a:gridCol w="3116520"/>
                <a:gridCol w="3146400"/>
              </a:tblGrid>
              <a:tr h="49291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  √2/2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 1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(- 1/2 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(- √3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tg  √3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  √2/2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1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(- 1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(- √3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tg  √3/3 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8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A8AF-7E44-4B6B-85EA-9ED5DA976A57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Arial Black"/>
              </a:rPr>
              <a:t>Реши уравнения базового уровня</a:t>
            </a: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1835280" y="486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35" name="Group 34"/>
          <p:cNvGrpSpPr/>
          <p:nvPr/>
        </p:nvGrpSpPr>
        <p:grpSpPr>
          <a:xfrm>
            <a:off x="1042920" y="2349360"/>
            <a:ext cx="3957480" cy="2980440"/>
            <a:chOff x="1042920" y="2349360"/>
            <a:chExt cx="3957480" cy="2980440"/>
          </a:xfrm>
        </p:grpSpPr>
        <p:pic>
          <p:nvPicPr>
            <p:cNvPr id="136" name="Object 8" descr=""/>
            <p:cNvPicPr/>
            <p:nvPr/>
          </p:nvPicPr>
          <p:blipFill>
            <a:blip r:embed="rId1"/>
            <a:stretch/>
          </p:blipFill>
          <p:spPr>
            <a:xfrm>
              <a:off x="2324880" y="2349360"/>
              <a:ext cx="4269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Object 11" descr=""/>
            <p:cNvPicPr/>
            <p:nvPr/>
          </p:nvPicPr>
          <p:blipFill>
            <a:blip r:embed="rId2"/>
            <a:stretch/>
          </p:blipFill>
          <p:spPr>
            <a:xfrm>
              <a:off x="2467800" y="2854080"/>
              <a:ext cx="4993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14" descr=""/>
            <p:cNvPicPr/>
            <p:nvPr/>
          </p:nvPicPr>
          <p:blipFill>
            <a:blip r:embed="rId3"/>
            <a:stretch/>
          </p:blipFill>
          <p:spPr>
            <a:xfrm>
              <a:off x="2397240" y="3501720"/>
              <a:ext cx="497880" cy="62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" name="Group 33"/>
            <p:cNvGrpSpPr/>
            <p:nvPr/>
          </p:nvGrpSpPr>
          <p:grpSpPr>
            <a:xfrm>
              <a:off x="1042920" y="2349360"/>
              <a:ext cx="3957480" cy="2980440"/>
              <a:chOff x="1042920" y="2349360"/>
              <a:chExt cx="3957480" cy="2980440"/>
            </a:xfrm>
          </p:grpSpPr>
          <p:sp>
            <p:nvSpPr>
              <p:cNvPr id="140" name="Text Box 7"/>
              <p:cNvSpPr/>
              <p:nvPr/>
            </p:nvSpPr>
            <p:spPr>
              <a:xfrm>
                <a:off x="1042920" y="2349360"/>
                <a:ext cx="39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1) 2со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x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-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       = </a:t>
                </a:r>
                <a:r>
                  <a:rPr b="1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0 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           </a:t>
                </a: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1" name="Text Box 10"/>
              <p:cNvSpPr/>
              <p:nvPr/>
            </p:nvSpPr>
            <p:spPr>
              <a:xfrm>
                <a:off x="1042920" y="2925360"/>
                <a:ext cx="38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2)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in2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=-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2" name="Text Box 13"/>
              <p:cNvSpPr/>
              <p:nvPr/>
            </p:nvSpPr>
            <p:spPr>
              <a:xfrm>
                <a:off x="1042920" y="3501720"/>
                <a:ext cx="388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3) 2со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s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-      )  </a:t>
                </a:r>
                <a:r>
                  <a:rPr b="0" lang="ru-RU" sz="2400" spc="-1" strike="noStrike">
                    <a:solidFill>
                      <a:srgbClr val="660066"/>
                    </a:solidFill>
                    <a:latin typeface="Times New Roman"/>
                  </a:rPr>
                  <a:t>=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-1</a:t>
                </a:r>
                <a:r>
                  <a:rPr b="0" lang="ru-RU" sz="1800" spc="-1" strike="noStrike">
                    <a:solidFill>
                      <a:srgbClr val="660066"/>
                    </a:solidFill>
                    <a:latin typeface="Times New Roman"/>
                  </a:rPr>
                  <a:t>  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3" name="Text Box 16"/>
              <p:cNvSpPr/>
              <p:nvPr/>
            </p:nvSpPr>
            <p:spPr>
              <a:xfrm>
                <a:off x="1113480" y="4222440"/>
                <a:ext cx="388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4)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tg²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- 6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tg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х+5=0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Text Box 18"/>
              <p:cNvSpPr/>
              <p:nvPr/>
            </p:nvSpPr>
            <p:spPr>
              <a:xfrm>
                <a:off x="1113480" y="4870080"/>
                <a:ext cx="38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5) (2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sin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– 1)(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cos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х-1)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=0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Text Box 21"/>
          <p:cNvSpPr/>
          <p:nvPr/>
        </p:nvSpPr>
        <p:spPr>
          <a:xfrm>
            <a:off x="5651640" y="170028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8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2BB5-32BF-4CA9-AA9C-CC98A29465B1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Arial Black"/>
              </a:rPr>
              <a:t>Реши уравнения базового уровня</a:t>
            </a: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1835280" y="486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651640" y="170028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1571760" y="1700280"/>
            <a:ext cx="1571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О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Ь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ответы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51" name="Group 35"/>
          <p:cNvGrpSpPr/>
          <p:nvPr/>
        </p:nvGrpSpPr>
        <p:grpSpPr>
          <a:xfrm>
            <a:off x="4500720" y="2276640"/>
            <a:ext cx="4643280" cy="3115440"/>
            <a:chOff x="4500720" y="2276640"/>
            <a:chExt cx="4643280" cy="3115440"/>
          </a:xfrm>
        </p:grpSpPr>
        <p:sp>
          <p:nvSpPr>
            <p:cNvPr id="152" name="Text Box 23"/>
            <p:cNvSpPr/>
            <p:nvPr/>
          </p:nvSpPr>
          <p:spPr>
            <a:xfrm>
              <a:off x="4500720" y="2276640"/>
              <a:ext cx="4643280" cy="31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х=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±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/6+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(-1)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·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(-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/6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) 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/2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3)   х=     +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, х= -    + 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/4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, х=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rctg5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(-1)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·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/6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 +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, х= 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pic>
          <p:nvPicPr>
            <p:cNvPr id="153" name="Object 26" descr=""/>
            <p:cNvPicPr/>
            <p:nvPr/>
          </p:nvPicPr>
          <p:blipFill>
            <a:blip r:embed="rId1"/>
            <a:stretch/>
          </p:blipFill>
          <p:spPr>
            <a:xfrm>
              <a:off x="6012000" y="2924280"/>
              <a:ext cx="1332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28" descr=""/>
            <p:cNvPicPr/>
            <p:nvPr/>
          </p:nvPicPr>
          <p:blipFill>
            <a:blip r:embed="rId2"/>
            <a:stretch/>
          </p:blipFill>
          <p:spPr>
            <a:xfrm>
              <a:off x="5580000" y="3573360"/>
              <a:ext cx="36036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30" descr=""/>
            <p:cNvPicPr/>
            <p:nvPr/>
          </p:nvPicPr>
          <p:blipFill>
            <a:blip r:embed="rId3"/>
            <a:stretch/>
          </p:blipFill>
          <p:spPr>
            <a:xfrm>
              <a:off x="7502400" y="3645000"/>
              <a:ext cx="40500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Object 31" descr=""/>
            <p:cNvPicPr/>
            <p:nvPr/>
          </p:nvPicPr>
          <p:blipFill>
            <a:blip r:embed="rId4"/>
            <a:stretch/>
          </p:blipFill>
          <p:spPr>
            <a:xfrm>
              <a:off x="6012000" y="4869000"/>
              <a:ext cx="133200" cy="14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764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Arial Black"/>
              </a:rPr>
              <a:t>ДОМАШНЕЕ ЗАДАНИЕ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496000" cy="32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1.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s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 = 16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s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+ 3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- 4 = 0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3.  2 (  с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s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)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2 х  + 1 = 0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2530-11F7-4194-8E5E-BD1CF9A9548A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4259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cc"/>
                </a:solidFill>
                <a:latin typeface="Arial Black"/>
              </a:rPr>
              <a:t>Итоги урока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5640" y="2205000"/>
            <a:ext cx="7201080" cy="392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спомним основные моменты урок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Оценки за урок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5cff"/>
                </a:solidFill>
                <a:latin typeface="Arial"/>
              </a:rPr>
              <a:t>Спасибо за урок!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8DEC-CD73-4949-A0E0-8B9A36CE0BE8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4:18:11Z</dcterms:created>
  <dc:creator>Шабанова</dc:creator>
  <dc:description/>
  <dc:language>en-US</dc:language>
  <cp:lastModifiedBy>Карнач Ирина</cp:lastModifiedBy>
  <dcterms:modified xsi:type="dcterms:W3CDTF">2014-04-18T12:23:13Z</dcterms:modified>
  <cp:revision>47</cp:revision>
  <dc:subject/>
  <dc:title>Тригонометрические урав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XTAG2">
    <vt:lpwstr>000800ba03000000000001024140</vt:lpwstr>
  </property>
  <property fmtid="{D5CDD505-2E9C-101B-9397-08002B2CF9AE}" pid="4" name="Version">
    <vt:r8>3</vt:r8>
  </property>
</Properties>
</file>