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EDF-7E83-4E77-8751-F4CF6221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56C-34E5-4FA2-827F-905C6A8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957-8633-46CD-A9D5-2DC49D0B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FB6-A945-49FF-84F8-21856D42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2AE6-52CC-4447-9FB0-CA96C6AF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B7A7-5836-40EE-BC31-2BD36D3D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F428-FE04-471F-8AEC-A4D0ACAF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EB3B-E90F-44AE-BD54-3ACD89F6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8C98-5EC9-4F8C-A3F4-A799FFDE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C966-CB62-4B95-8BC7-78EAD78B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7CA9-DB19-43A6-920A-CA093916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7AA-BFCA-4F04-BE80-EFFB85E9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09A1-F18D-4F18-823D-55F56194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8DED-CBD7-4B79-B425-C72A7225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017-331F-4AD8-BD16-AB8BC625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6CF5-D004-48A3-9B89-1F941F3F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7CDA-F5D7-4E9B-B0F7-87D6DE9A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F0AEB-7639-4D8A-A911-3680CDD8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68088-77C7-4CF5-B1EE-F04F81C6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17921-BD6C-42B2-B5ED-B45F19E8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46B09-3B10-4CAD-A39B-617CEB4F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7BC02-4BED-4A82-AAE8-AAA417E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B37-3D16-43CF-ADBF-9362F670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31D55-CAF1-4D0E-BE82-716EDDD0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7D372-3F2D-41DB-8AC1-8C696A11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5EFAC-1235-4C3C-94EA-564CEC1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40465-34C7-4B34-96BA-E1F58DE4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080C7-7DE5-473B-BA5A-C7FBD0BC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DB6F6-7430-4D08-9786-8BC566FD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62287-A864-4F87-AEEB-6B495AF6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F4BE-A4AF-44C8-8790-6CF03E4A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1DCC9-C592-41EE-A71E-98956D42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BBFB-45CC-4BD0-A6EA-1460B169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813-3E3E-46ED-894B-265DE006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C6A64-7860-4F51-B3DD-4BCCF160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56CD-EEFD-4955-8BEB-427211C2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C043-AED5-4DE7-9C9A-288D0304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931E-46F0-4628-ACC1-4781C416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7A849-A4EF-4018-A0F1-BB4A49B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B205-8E1D-47D4-9EA9-4F04C32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60F35-74F1-4FB9-8C28-E94341E3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F29CA-B100-43E9-B31A-35AC30DF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B77C-5415-47C2-B9CE-AF5B1787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ED5-8F21-4F92-8416-0CCB421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AE3-5BFB-4206-99DC-4FF830BF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5AC-4A6F-430F-9A1F-8739D60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6D6-8ADA-4152-98AF-8048A427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A3F-AC0B-48CF-8E58-0D5E91D8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96B2-4578-498A-A921-67A790D3BE9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E3FC-69E9-4A47-8034-7A8E270F8C4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C9D3-C16F-4189-ABC9-69C936448C6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CDFF-26D2-439D-BE92-54D2220FDF5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Тема: </a:t>
            </a:r>
            <a:r>
              <a:rPr b="0" i="1" lang="ru-RU" sz="4000" spc="-1" strike="noStrike">
                <a:solidFill>
                  <a:srgbClr val="326064"/>
                </a:solidFill>
                <a:latin typeface="Trebuchet MS"/>
              </a:rPr>
              <a:t>«Футбол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428760" y="100008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Цель: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ормирование стойких интересов учащихся к занятиям физической культу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428760" y="3143160"/>
            <a:ext cx="871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Задачи:</a:t>
            </a:r>
            <a:r>
              <a:rPr b="0" lang="ru-RU" sz="4000" spc="-1" strike="noStrike">
                <a:solidFill>
                  <a:srgbClr val="326064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1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истории украинского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утб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2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правил игры в мини-фу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3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Тактические действия игры в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на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4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Воспитание олимпийского 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знать:</a:t>
            </a:r>
            <a:br>
              <a:rPr sz="40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историю развития украинского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технику и тактику игры в футбол.</a:t>
            </a:r>
            <a:br>
              <a:rPr sz="3200"/>
            </a:b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уметь: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характеризовать историю развития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соблюдать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владеть техникой и тактикой игры.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00:43Z</dcterms:created>
  <dc:creator>Admin</dc:creator>
  <dc:description/>
  <dc:language>en-US</dc:language>
  <cp:lastModifiedBy>Admin</cp:lastModifiedBy>
  <dcterms:modified xsi:type="dcterms:W3CDTF">2011-03-02T19:08:52Z</dcterms:modified>
  <cp:revision>2</cp:revision>
  <dc:subject/>
  <dc:title>Тема: «Футбол»</dc:title>
</cp:coreProperties>
</file>