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A67-8C1F-4BBC-A6E6-47D6C821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BFC-0082-4B7B-AB79-332ADB22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D97-ECEC-42A0-8116-C737B3C4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355-D452-4657-A2F4-A4AF4EDA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C25F-39D3-4242-B438-25A8D2A4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15B8-1947-4048-B51D-00572981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6176-6106-4020-ADD0-108B209F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ACB9-E7A9-407E-8B21-5504F409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DBA0-31D9-4A1F-9509-10E62669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B1B1-0AB1-4055-A95C-15337C1A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2552-435C-451A-AF06-BE7F8CC1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655-D610-4DFC-8441-2622858A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AF81-8941-484E-A493-C9F7285A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CB0A-E005-409D-A834-1631763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937B-D502-4072-8C29-4A6C1FCD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DF49-FE7D-4BFA-9D8A-1E814B22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4701-AEDC-438D-AF37-0457D09B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F70B0-E858-47DE-98C7-5D0C78F8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4791-2826-43CF-9740-4FFE8478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2DA2C-0A17-4070-8A2D-164FD7D3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8C40-7FDB-41DA-BDC8-D6D294BF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A841-D63A-4D89-BC7D-76BA3BBA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4E5-3EE0-4C0F-9CA1-2C00577E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85FF-8733-486F-A589-B01303A3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FDCB9-116A-46DE-957F-1E955675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36C2-A812-4BF0-9774-6BEDC78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7DBF-F6BF-4786-8304-9D56F8A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A172-B59B-48BA-A62C-A4C499AC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ED11-21B4-461F-89AD-FED9A323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36CB-A80E-4955-A7D4-EB2672EA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A19D-F70E-4BEE-A8B7-7795FFF9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6398-7796-46C4-8367-A5E6A561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080B-0F45-4ED7-9D76-37FFBA08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4B8-E8C7-446C-A7DB-2DECEB9D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BA401-26EE-4C19-B418-5A1D4D85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A40C-FDA0-45E1-AD68-BBB4C7F5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971F-28D6-4690-AB7E-EFC4E42E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2434C-6A32-4492-BEA9-DF93EB88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1BF9D-0F5C-4ACA-AEC6-4CCB765F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86FAD-1B4D-4C23-84CE-2DB17DB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A4FD-8F6F-41D0-AC2D-22BDAEB3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55D62-AB00-41F1-B7E1-992BF21D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2D78-D310-4DCB-898C-A12EF11D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A7D33-A397-4D05-B2C1-B8E47D8B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100-D580-40F4-93CB-58B5EE92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977BF-6744-4E96-BE6A-84F619A7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52796-7490-47CD-9F9A-B6A140C7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2E12A-AB89-45E7-9E5F-2B0FA674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334B8-E035-43E6-950D-A3D3B470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6B338-EC78-4B4D-BA5E-8961B88D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7F7DE-4EAA-4B86-86A6-E1915011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8B7EE-E4C6-4FAB-A9F7-AB3AF1F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2DCF-BDE1-4569-B31C-6CF79545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F34D9-3B49-405C-9338-48F74118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74144-636B-4DDF-A467-E5CED3EA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741-AF10-4A6C-902D-2529E725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5E89E-30F1-40DD-BD3D-9CE660AC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E00-27C4-4D67-BD65-FEDD5005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95F-35A9-4C3B-858B-58647E11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5EB-2948-48C3-B7A3-211CEE0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0D6A-B0B6-4243-9194-15CAFFCB319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F0CF-0BE6-4B79-9B34-D495B5335DE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7616-EBB0-4182-8DDA-EAE73A3F8AE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DB04-B3AA-474A-B1C4-2D3D247056C4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B4D8-8C5A-4031-A737-B9C1C594510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gimn_shakhter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761592_7029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shahte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4d3982f22c_204349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16392__max_gal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16388__max_g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538c31c672072ad4be35c990c1e9b3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38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3" descr="350x250_4d56874acf9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2010_08_18_14_14_49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0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95801ca83d5d8bed019b767d953534c9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2___1055_446xFT.jpg"/>
          <p:cNvPicPr/>
          <p:nvPr/>
        </p:nvPicPr>
        <p:blipFill>
          <a:blip r:embed="rId1"/>
          <a:stretch/>
        </p:blipFill>
        <p:spPr>
          <a:xfrm>
            <a:off x="826920" y="0"/>
            <a:ext cx="65167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2005_C_2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shahter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113939_shahter-chemp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9:19Z</dcterms:created>
  <dc:creator>Admin</dc:creator>
  <dc:description/>
  <dc:language>en-US</dc:language>
  <cp:lastModifiedBy>школа</cp:lastModifiedBy>
  <dcterms:modified xsi:type="dcterms:W3CDTF">2011-11-24T10:25:2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3000000000001024140</vt:lpwstr>
  </property>
</Properties>
</file>