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BFF-20DD-4765-A50F-B1617EB0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F65-006E-456A-8BD2-AFC7C3D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FB8-FC0D-4817-B9B2-275E5420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751-83EB-4BCD-985C-3F154D6C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BA58-2998-4A7A-A836-A2AB268E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1CD-EE06-453E-B3A6-007401E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207-2902-4534-B094-3C8DF6D8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DE64-EB09-48AD-A662-57D50868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116E-5B66-47E5-8B26-061EBF8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BDF-997C-4886-9B0C-6D2845F8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9F1-7187-4926-AC62-6E92AEB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C0E-2F52-4799-8B0D-4421E164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C883-3C69-475F-B995-AC5C3BB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03F2-0C8B-4A43-ABAA-3A678D0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D317-4C11-4CFD-87DC-8FB439C7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EC32-8F02-4988-9A2B-95EEAD7E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DF97-090F-4ACD-9A09-4E6EC28F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C232-10C9-452B-A041-BE7DE2AF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1809-211F-44C1-9E15-4CBDAE08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0068-BDC2-45B8-824F-64CDC41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3937-4B9B-455C-809E-6E7216EC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1CE9-8FF1-4D51-B713-AB6190A8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354-06D5-4D18-9D03-558E767E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1480-1271-475E-B221-3ACE3C8B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2257-ED82-4EBA-B786-4137CB8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8ECE-445E-4290-BA93-7AF0A862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6CA7-3258-4708-860D-C9D659D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5F75-C0E2-4E8C-AD3E-885F8566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4FF8-E281-450B-B2D8-E4D22F33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F5A8-16EA-4A99-A0E2-56E595FA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C67C-1147-4043-99FA-FCCA742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D575-205A-4A01-BA60-647D77D7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20AD-140B-4B48-A713-E264016B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078-D841-47C5-A6A4-704ACFED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E907-FB80-46E5-9656-0F072DD1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57F5-453B-4083-B866-234335C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24DE-E1A3-479D-800A-98B8EF4D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F0773-FFAD-4BFE-9A9B-0BEAB8B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0056-AE43-4F11-B819-494C8CB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7EA2-BC98-419E-9DFE-9894CCD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84BD-5122-40E1-B993-B3C10778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9AF8-E551-4791-8485-A38A6466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A0B2-CFA9-4AEB-83D7-3D5BC3CB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29D0-7685-4433-A43C-8366471C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4FC-12F4-41BF-B590-B1A6EF99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7253-141C-4282-9C1C-409D1CA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1731A-FC7F-4C0E-95B7-58B171B5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6A00-7FFA-4E14-BA69-8299A16C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D6804-B225-4C6B-921F-39121666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C910-B571-40F5-8A50-A7B743CA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2AD7-663B-4C79-B034-FDABD7F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1739-7749-4819-AAF5-700712F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38AB7-C243-4CF8-BC3D-4EE9D85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1176C-C821-4F4C-A979-0381F9A9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1FEB2-4937-42E8-9033-DC1B4802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0AB-41B6-436E-A8E6-8D2606E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3D3BF-1FBB-419C-B93A-15396114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A22-5296-4005-A26A-245BFDA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8C8-D4F3-49C7-84AD-D79F9577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EF3-C4C1-43BA-8E4A-E76DEF6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B78-125B-465B-B9E1-661DADF361B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597-4C8D-4566-80FD-B15A50EB292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6B22-5D84-4919-A5B4-965DA2104E8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4A6-FCAE-43BB-A501-BDC011B8306F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8E3-A249-4A23-AD4F-B4EF1D22970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gimn_shakhter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761592_7029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shahte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4d3982f22c_204349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16392__max_gal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16388__max_g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538c31c672072ad4be35c990c1e9b3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38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3" descr="350x250_4d56874acf9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2010_08_18_14_14_49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95801ca83d5d8bed019b767d953534c9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2___1055_446xFT.jpg"/>
          <p:cNvPicPr/>
          <p:nvPr/>
        </p:nvPicPr>
        <p:blipFill>
          <a:blip r:embed="rId1"/>
          <a:stretch/>
        </p:blipFill>
        <p:spPr>
          <a:xfrm>
            <a:off x="826920" y="0"/>
            <a:ext cx="65167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2005_C_2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shahter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113939_shahter-chemp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9:19Z</dcterms:created>
  <dc:creator>Admin</dc:creator>
  <dc:description/>
  <dc:language>en-US</dc:language>
  <cp:lastModifiedBy>школа</cp:lastModifiedBy>
  <dcterms:modified xsi:type="dcterms:W3CDTF">2011-11-24T10:25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3000000000001024140</vt:lpwstr>
  </property>
</Properties>
</file>