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F8C7-E463-4F42-BF1A-1E8A689F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37A-3111-48D1-983A-17CF8803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01B-E515-47F5-AE07-D77F8EC9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756-47F3-4B69-8020-CCFB04F7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5DA3-BC97-4E5A-AD9D-3B5E109A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CC94-AD47-4255-9F60-B5F831E6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14E8-B86F-465A-9337-A6C0161D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A835-635F-4041-B59C-5034214B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BF6D-2917-49BF-8A81-AC6F2206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2ED7-1CD2-475E-8029-5198BDE5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EE0B-D779-49B0-8E8B-3356654B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5BC1-6697-48B5-90FA-515DEA6B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0B10-127C-483B-AF93-3DD17D50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9FEC-40F6-4BE3-8B57-A23C7071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ED07-41A6-4900-B038-C7E31F78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4BCB-BB2A-4782-B183-BBE0DEBD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F430-03ED-4784-9C9E-4BC1B772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1D2A2-55D3-48BF-8B0F-A3EB5FD0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9E930-E500-4AB0-B116-93ABB2FA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FA6E2-1ECD-4DD9-A55B-43AAED7D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E2C7C-B32E-4A60-8585-7B53A660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18C32-BEEF-41B6-BFB3-77E55F55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7A5-A982-40FA-8C28-F3F7911A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5B4F9-E306-48D1-A48E-590DEE98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EBFC1-1780-4656-B544-36CFBAE5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630EB-8AFE-49F4-8D94-4399E7BE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98C972-BEEE-4E0A-BE7D-0B6D6B3C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2DF73-7B65-45E8-B5A2-FD620794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15C41B-6A90-4551-9E0E-77135322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37690-892B-4F5B-9F34-55EC5F2D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AFCB6-D8E6-445C-91A0-125E4ABF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ECCE1-0856-468B-92A6-0149D823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98018-9D5E-4BD8-BEBD-3523A19D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441C-676C-45C0-BCEF-78E21BDC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7CFF2-6BB2-4C38-B3C8-2F2FC4AF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84B0F-A86E-4AD1-829A-5E98968A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EA292-21A6-4285-9C63-434E188F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2042A-1CB4-45BB-9034-ED5E59D0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EB214-7398-4C94-A3A6-D84DFD93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A4F81-CF46-4081-ABC7-93187650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90AE2-0C26-409D-93A2-FA8D2E0C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69380-28C9-447B-A345-2E4AF2C2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E3160-D62B-44D0-9104-A3B72AED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79B2-4C29-42E5-B3DA-3B44D550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384E-E557-48FB-9488-6F8DE81A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16A-F09C-4670-BF10-8C2C5B9F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35F-E4C9-49A7-A104-0B4E50E7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C750-D668-45DE-A36D-6A7F44F8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74C7-A8B4-4D0D-ABA2-E2E152F0259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C973-EEBB-4447-B9A1-859E364EA31A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742D-5240-4112-9F94-B8D5E5B2873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C533-09CC-4A04-AAA6-06731058226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Тема: </a:t>
            </a:r>
            <a:r>
              <a:rPr b="0" i="1" lang="ru-RU" sz="4000" spc="-1" strike="noStrike">
                <a:solidFill>
                  <a:srgbClr val="326064"/>
                </a:solidFill>
                <a:latin typeface="Trebuchet MS"/>
              </a:rPr>
              <a:t>«Футбол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Заголовок 1"/>
          <p:cNvSpPr/>
          <p:nvPr/>
        </p:nvSpPr>
        <p:spPr>
          <a:xfrm>
            <a:off x="428760" y="1000080"/>
            <a:ext cx="87152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Цель: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Формирование стойких интересов учащихся к занятиям физической культур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Заголовок 1"/>
          <p:cNvSpPr/>
          <p:nvPr/>
        </p:nvSpPr>
        <p:spPr>
          <a:xfrm>
            <a:off x="428760" y="3143160"/>
            <a:ext cx="8715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Задачи:</a:t>
            </a:r>
            <a:r>
              <a:rPr b="0" lang="ru-RU" sz="4000" spc="-1" strike="noStrike">
                <a:solidFill>
                  <a:srgbClr val="326064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1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Изучение истории украинского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футб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2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Изучение правил игры в мини-футб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3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Тактические действия игры в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на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4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Воспитание олимпийского д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892980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Учащиеся должны знать:</a:t>
            </a:r>
            <a:br>
              <a:rPr sz="40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историю развития украинского футбола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правила игры в футбол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технику и тактику игры в футбол.</a:t>
            </a:r>
            <a:br>
              <a:rPr sz="3200"/>
            </a:b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Учащиеся должны уметь: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характеризовать историю развития футбола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соблюдать правила игры в футбол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владеть техникой и тактикой игры.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00:43Z</dcterms:created>
  <dc:creator>Admin</dc:creator>
  <dc:description/>
  <dc:language>en-US</dc:language>
  <cp:lastModifiedBy>Admin</cp:lastModifiedBy>
  <dcterms:modified xsi:type="dcterms:W3CDTF">2011-03-02T19:08:52Z</dcterms:modified>
  <cp:revision>2</cp:revision>
  <dc:subject/>
  <dc:title>Тема: «Футбол»</dc:title>
</cp:coreProperties>
</file>