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3F126-CA24-4722-A45F-99784E70B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1347-42B9-40D2-A2A1-D87171CB7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91846-036C-4B54-96BB-49B960023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E650E-34E8-462F-BEF0-778EF3C62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55CF6-76CE-4B0E-AC1A-D53669EAD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1CD0-9E61-4A3D-9417-28C83D358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203AB-F38A-4FFF-9869-5EA9CBB49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4ECA7-9EE2-4C8D-BDC1-963BAD005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4AF51-D0A1-47D1-B2EC-9CCF9384E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877CF-B26A-4565-BD79-4567F43F1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5FF61-FDFD-40C7-9687-EA597730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14FF8-0DEA-4842-B866-914CEDBD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61B66-17FD-452E-A892-EFD0ED40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A9782-C494-4C84-BA62-69848F93F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593F3-8863-48CB-90A3-22D5A7A40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968D3-686F-443B-ABB9-3275E235B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F7492-887A-4804-8A65-64CC66259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78279A1-819E-4251-8415-27D4B682B0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265A0A-3BA1-4D51-A4BF-C73EEB037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08F172-B86D-4AF2-BB00-6D2DEE238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03F952-B2FD-4BAD-9872-BE2857AE6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79E93A-1C3C-4608-91C7-839383939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B157-6F81-4678-A271-34597A796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5C2BC0-37CA-4443-AD6B-83388D566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B95082-D240-4AF5-9403-642440D49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9AA6AB-E41B-4080-89FE-AB0A5AB34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5DEBF8-C80F-4A6C-9B23-C593F4369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B99917-79AA-49A6-A0F9-3B64B2BD8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E30A5E1-2FC2-4A84-8F69-E19F6031BE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EC6EDC-7A92-4F7A-83F8-8C28F8C08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F3287C-52F0-466C-A0EB-4BE161A2E6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E1B0E-ED78-44D4-B2C8-1D406E4BD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9CBF5-F2D2-46E9-B615-35C5ECBA9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70E4-6C55-4D84-904A-F1455C5D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8D09E-5FA4-4446-AFFD-5A0313972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15D82-613C-4C01-8EEE-F0851133F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C4ED3-26F6-4A43-B736-B67D8B38E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1F233-7AC8-4B37-8AD5-F1CF8D7BC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C5D68-7186-4013-81A4-00DED1008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D709E-0D70-4DF6-A28F-42D16B59A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5FFEB-6521-440C-8598-C38F6AF89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3FFEC9-85D8-472F-A14A-F71EBA4E73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D66B9B-774F-4037-B4C7-19110C4ACA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83ADC-6195-49F4-81CE-C7343CF1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3FB93-E094-48B1-8EDC-7BFA0FB1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E196-474A-4FDA-8521-1758C9319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C2BAD-5A29-470C-9BB1-FEB2EF2D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A0472-E5FF-42CB-A071-5B5330AD5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EACD-365B-4AE2-84F8-011C0D2E7FF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45CD-D0A3-4B89-BE06-68FEC6F7E971}"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6E1E-FE0F-4295-8F89-D43820CC8C38}"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15AE-79C1-472E-BE67-8A6FA3E51DEC}"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9720" y="642960"/>
            <a:ext cx="7115400" cy="56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Arial"/>
              </a:rPr>
              <a:t>    </a:t>
            </a:r>
            <a:r>
              <a:rPr b="0" lang="ru-RU" sz="3600" spc="-1" strike="noStrike">
                <a:solidFill>
                  <a:srgbClr val="424456"/>
                </a:solidFill>
                <a:latin typeface="Trebuchet MS"/>
              </a:rPr>
              <a:t>Правила мини-футбола</a:t>
            </a:r>
            <a:endParaRPr b="0" lang="en-US" sz="3600" spc="-1" strike="noStrike">
              <a:solidFill>
                <a:srgbClr val="424456"/>
              </a:solidFill>
              <a:latin typeface="Trebuchet MS"/>
            </a:endParaRPr>
          </a:p>
        </p:txBody>
      </p:sp>
      <p:sp>
        <p:nvSpPr>
          <p:cNvPr id="215" name=""/>
          <p:cNvSpPr txBox="1"/>
          <p:nvPr/>
        </p:nvSpPr>
        <p:spPr>
          <a:xfrm>
            <a:off x="2642760" y="1142640"/>
            <a:ext cx="3614760" cy="608040"/>
          </a:xfrm>
          <a:prstGeom prst="rect">
            <a:avLst/>
          </a:prstGeom>
          <a:noFill/>
          <a:ln w="0">
            <a:noFill/>
          </a:ln>
        </p:spPr>
        <p:txBody>
          <a:bodyPr anchor="t">
            <a:normAutofit fontScale="80000"/>
          </a:bodyPr>
          <a:p>
            <a:pPr marL="291960" indent="-20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Площадка для игры</a:t>
            </a:r>
            <a:endParaRPr b="0" lang="en-US" sz="2600" spc="-1" strike="noStrike">
              <a:solidFill>
                <a:srgbClr val="000000"/>
              </a:solidFill>
              <a:latin typeface="Georgia"/>
            </a:endParaRPr>
          </a:p>
        </p:txBody>
      </p:sp>
      <p:pic>
        <p:nvPicPr>
          <p:cNvPr id="216" name="Рисунок 3" descr="Изображение.jpg"/>
          <p:cNvPicPr/>
          <p:nvPr/>
        </p:nvPicPr>
        <p:blipFill>
          <a:blip r:embed="rId1"/>
          <a:stretch/>
        </p:blipFill>
        <p:spPr>
          <a:xfrm>
            <a:off x="500040" y="1571760"/>
            <a:ext cx="8286840" cy="50720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285840" y="571320"/>
            <a:ext cx="8572320" cy="58575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8:</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правил.</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ой удар:</a:t>
            </a:r>
            <a:r>
              <a:rPr b="0" lang="en-US" sz="1800" spc="-1" strike="noStrike">
                <a:solidFill>
                  <a:srgbClr val="000000"/>
                </a:solidFill>
                <a:latin typeface="Times New Roman"/>
                <a:ea typeface="Times New Roman"/>
              </a:rPr>
              <a:t> штрафной удар назначается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ударит или попытается ударить соперника рукой, ног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еребросит или попробует перебросить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ыгнет на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такует соперника, даже плечом;</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олкнет соперни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Штрафной удар также назначается команде, чей игрок совершит одно из таких нарушени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т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люнет в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ет в подкате в попытке сыграть в мяч</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пециально сыграет в мяч рукой, за исключением вратаря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нальти:</a:t>
            </a:r>
            <a:r>
              <a:rPr b="0" lang="en-US" sz="1800" spc="-1" strike="noStrike">
                <a:solidFill>
                  <a:srgbClr val="000000"/>
                </a:solidFill>
                <a:latin typeface="Times New Roman"/>
                <a:ea typeface="Times New Roman"/>
              </a:rPr>
              <a:t> пенальти назначается если игрок совершит каждое из перечисленных выше нарушение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5840" y="714240"/>
            <a:ext cx="8572320" cy="58579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вободный удар: </a:t>
            </a:r>
            <a:r>
              <a:rPr b="0" lang="en-US" sz="1800" spc="-1" strike="noStrike">
                <a:solidFill>
                  <a:srgbClr val="000000"/>
                </a:solidFill>
                <a:latin typeface="Times New Roman"/>
                <a:ea typeface="Times New Roman"/>
              </a:rPr>
              <a:t>свободный удар назначается противоположной команде, чей вратарь совершит такие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вратарь получит мяч от партнера по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тронется или будет контролировать мяч руками после того, как получит пас ногой от партнера своей команды;</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ольный удар так же выполняется противоположной командой с места, где выполнилось нарушение, если игрок:</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л опасно;</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е играя мячом будет препятствовать продвижению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ятствует вратарю ввести мяч в игру, когда мяч в руках у вратаря</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дар мяча с боковой линии: </a:t>
            </a:r>
            <a:r>
              <a:rPr b="0" lang="en-US" sz="1800" spc="-1" strike="noStrike">
                <a:solidFill>
                  <a:srgbClr val="000000"/>
                </a:solidFill>
                <a:latin typeface="Times New Roman"/>
                <a:ea typeface="Times New Roman"/>
              </a:rPr>
              <a:t>удар мяча с боковой линии назначается ,когда мяч полностью пересек боковую линию по земле или в воздухе, или коснулся потол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Бросок от ворот: </a:t>
            </a:r>
            <a:r>
              <a:rPr b="0" lang="en-US" sz="1800" spc="-1" strike="noStrike">
                <a:solidFill>
                  <a:srgbClr val="000000"/>
                </a:solidFill>
                <a:latin typeface="Times New Roman"/>
                <a:ea typeface="Times New Roman"/>
              </a:rPr>
              <a:t>бросок от ворот выполняется когда мяч полностью пересечет линию ворот по земле или по воздуху, последним его коснется игрок противоположной команды и если гол не засчитанный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285840" y="642960"/>
            <a:ext cx="8572320" cy="5929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предупреждение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предупреждается желтой карточкой если выполн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иноват в неспорт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ражает несогласие словами или действиям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атически нарушает правила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вает возобновление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йдет или вернется на площадку без разрешения судьи или нарушит правило замен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удалением с площадки:</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может быть выведен с площадки красной карточкой, если он соверш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серьезном нарушении правил;</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агресс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ишит команду соперника возможности забить гол, сыграв в мяч рук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овершит нарушение, которое наказывается штрафным ударом или пенальт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спользует обидные или не цензурные слов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лучает повторные предупреждения на протяжении одного мат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се нарушения, которые наказываются штрафными ударами,  пенальти, предупреждениями и удалениями фиксируются в протокол матча.</a:t>
            </a:r>
            <a:endParaRPr b="0" lang="en-US" sz="1800" spc="-1" strike="noStrike">
              <a:solidFill>
                <a:srgbClr val="000000"/>
              </a:solidFill>
              <a:latin typeface="Georgia"/>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1:</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ры: </a:t>
            </a:r>
            <a:r>
              <a:rPr b="0" lang="en-US" sz="1800" spc="-1" strike="noStrike">
                <a:solidFill>
                  <a:srgbClr val="000000"/>
                </a:solidFill>
                <a:latin typeface="Times New Roman"/>
                <a:ea typeface="Times New Roman"/>
              </a:rPr>
              <a:t>площадка должна быть прямоугольной; длинна боковой линии должна быть минимально 25 м., максимально – 42 м.; ширина площадки должна быть минимально 15 м., максимально – 25 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тка</a:t>
            </a:r>
            <a:r>
              <a:rPr b="0" lang="en-US" sz="1800" spc="-1" strike="noStrike">
                <a:solidFill>
                  <a:srgbClr val="000000"/>
                </a:solidFill>
                <a:latin typeface="Times New Roman"/>
                <a:ea typeface="Times New Roman"/>
              </a:rPr>
              <a:t>: площадки размечается линиями 2 длинные линии площадки называются боковыми линиями, 2 короткие – линии ворот. Ширина линий – 8 см. Площадка разделена пополам средней линией. Центральная отметка разделяет среднюю линию пополам, вокруг неё проводится круг, радиусом 3 метр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ая площадь: </a:t>
            </a:r>
            <a:r>
              <a:rPr b="0" lang="en-US" sz="1800" spc="-1" strike="noStrike">
                <a:solidFill>
                  <a:srgbClr val="000000"/>
                </a:solidFill>
                <a:latin typeface="Times New Roman"/>
                <a:ea typeface="Times New Roman"/>
              </a:rPr>
              <a:t>штрафная площадь размещается на 2-х половинах площадки . Четверть круга, радиусом 6 метров, проводится  из внешней стороны стоек ворот до воображаемой линии, что проведена под прямым углом от линии ворот со стоек ворот.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Отметка для пробивания пенальти:</a:t>
            </a:r>
            <a:r>
              <a:rPr b="0" lang="en-US" sz="1800" spc="-1" strike="noStrike">
                <a:solidFill>
                  <a:srgbClr val="000000"/>
                </a:solidFill>
                <a:latin typeface="Times New Roman"/>
                <a:ea typeface="Times New Roman"/>
              </a:rPr>
              <a:t> отметка для пробивания пенальти находится на расстояние 6 м. от средней точки ворот</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гловой сектор: </a:t>
            </a:r>
            <a:r>
              <a:rPr b="0" lang="en-US" sz="1800" spc="-1" strike="noStrike">
                <a:solidFill>
                  <a:srgbClr val="000000"/>
                </a:solidFill>
                <a:latin typeface="Times New Roman"/>
                <a:ea typeface="Times New Roman"/>
              </a:rPr>
              <a:t>в каждом углу площадки в середине его проводится четверть круга, радиусом 25 см..</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она замены: </a:t>
            </a:r>
            <a:r>
              <a:rPr b="0" lang="en-US" sz="1800" spc="-1" strike="noStrike">
                <a:solidFill>
                  <a:srgbClr val="000000"/>
                </a:solidFill>
                <a:latin typeface="Times New Roman"/>
                <a:ea typeface="Times New Roman"/>
              </a:rPr>
              <a:t>зона замены располагается на той же стороне, где располагаются скамейки запасных игроков, непосредственно перед ними, на протяжении 5 метров.</a:t>
            </a:r>
            <a:endParaRPr b="0" lang="en-US" sz="1800" spc="-1" strike="noStrike">
              <a:solidFill>
                <a:srgbClr val="000000"/>
              </a:solidFill>
              <a:latin typeface="Georgia"/>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 dur="5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12" dur="500"/>
                                        <p:tgtEl>
                                          <p:spTgt spid="21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17" dur="500"/>
                                        <p:tgtEl>
                                          <p:spTgt spid="21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22" dur="500"/>
                                        <p:tgtEl>
                                          <p:spTgt spid="2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27" dur="500"/>
                                        <p:tgtEl>
                                          <p:spTgt spid="21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32" dur="500"/>
                                        <p:tgtEl>
                                          <p:spTgt spid="21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37"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Ворота: </a:t>
            </a:r>
            <a:r>
              <a:rPr b="0" lang="en-US" sz="1800" spc="-1" strike="noStrike">
                <a:solidFill>
                  <a:srgbClr val="000000"/>
                </a:solidFill>
                <a:latin typeface="Times New Roman"/>
                <a:ea typeface="Times New Roman"/>
              </a:rPr>
              <a:t>ворота располагаются в середине каждой линии ворот. Расстояние между стойками 3 м., высота – 2 м. , глубина – не менее чем 80 см. На воротах находится сетк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крытия площадки: </a:t>
            </a:r>
            <a:r>
              <a:rPr b="0" lang="en-US" sz="1800" spc="-1" strike="noStrike">
                <a:solidFill>
                  <a:srgbClr val="000000"/>
                </a:solidFill>
                <a:latin typeface="Times New Roman"/>
                <a:ea typeface="Times New Roman"/>
              </a:rPr>
              <a:t>покрытие площадки должно быть гладкое. Рекомендуется травяное или искусственное покрытие, или деревянно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a:t>
            </a:r>
            <a:r>
              <a:rPr b="0" lang="en-US" sz="1800" spc="-1" strike="noStrike">
                <a:solidFill>
                  <a:srgbClr val="000000"/>
                </a:solidFill>
                <a:latin typeface="Times New Roman"/>
                <a:ea typeface="Times New Roman"/>
              </a:rPr>
              <a:t>мяч должен быть изготовлен из кожи или другого материала. Имеет круг не меньше чем 62 см. и  не более –64 см. Масса мяча не менее 400 г. и не более 440 г. Если мяч утратил форму, то его необходимо заменить</a:t>
            </a:r>
            <a:endParaRPr b="0" lang="en-US" sz="1800" spc="-1" strike="noStrike">
              <a:solidFill>
                <a:srgbClr val="000000"/>
              </a:solidFill>
              <a:latin typeface="Georgia"/>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2:</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 игре принимают участие 2 команды, каждая из которых состоит  из не более 5 игроков, вместе с вратарё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мена игрока: </a:t>
            </a:r>
            <a:r>
              <a:rPr b="0" lang="en-US" sz="1800" spc="-1" strike="noStrike">
                <a:solidFill>
                  <a:srgbClr val="000000"/>
                </a:solidFill>
                <a:latin typeface="Times New Roman"/>
                <a:ea typeface="Times New Roman"/>
              </a:rPr>
              <a:t>максимальное количество запасных игроков – 7, количество замен не ограничено. Игрок, которого заменили, может вернуться на площадку, заменив другого игрока. Замена полностью контролируется судьями, согласно правил. Замена является выполненной, если запасной игрок выйдет на площадку. Вратарь может поменяться местом с любым игроко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во время замены игрок, который выходит на площадку, выйдет раньше того, как другой игрок полностью покинет площадку, то игра должна быть остановлена. Запасной игрок должен покинуть площадку и он предупреждается желтой карточкой. </a:t>
            </a:r>
            <a:endParaRPr b="0" lang="en-US" sz="1800" spc="-1" strike="noStrike">
              <a:solidFill>
                <a:srgbClr val="000000"/>
              </a:solidFill>
              <a:latin typeface="Georgia"/>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3:</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полномочия судьи: </a:t>
            </a:r>
            <a:r>
              <a:rPr b="0" lang="en-US" sz="1800" spc="-1" strike="noStrike">
                <a:solidFill>
                  <a:srgbClr val="000000"/>
                </a:solidFill>
                <a:latin typeface="Times New Roman"/>
                <a:ea typeface="Times New Roman"/>
              </a:rPr>
              <a:t>каждый матч судится судьей, который наделен всеми правами для строгого выполнения привил игры.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дья заносит в протокол матча все внесенные санкции, которые содержат информацию про любые дисциплинарные нарушения игроками или официальными лицам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едет хронометраж матч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прерывает матч во время нарушений правил.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носит дисциплинарные санкции игрокам, какие нарушили правил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едит за тем, что бы посторонние не выходили на площадку без разрешения судь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игру, если игрок получил серьезную травму.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еспечивает соответствие используемого мя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торой судья располагается на противоположной стороне и помогает судье контролировать ход игры, согласно правил. Имеет право останавливать игру в случае нарушения. Следит за тем, что бы замена игроков выполнялась независимым образом.</a:t>
            </a:r>
            <a:endParaRPr b="0" lang="en-US" sz="1800" spc="-1" strike="noStrike">
              <a:solidFill>
                <a:srgbClr val="000000"/>
              </a:solidFill>
              <a:latin typeface="Georgia"/>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4: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лительность матча: </a:t>
            </a:r>
            <a:r>
              <a:rPr b="0" lang="en-US" sz="1800" spc="-1" strike="noStrike">
                <a:solidFill>
                  <a:srgbClr val="000000"/>
                </a:solidFill>
                <a:latin typeface="Times New Roman"/>
                <a:ea typeface="Times New Roman"/>
              </a:rPr>
              <a:t>матч состоит из 2-х периодов по 20 минут. Команды могут взять тайм-аут, длительностью 1 минута. Команда, которая не использовала тайм-аут в первой половине матча имеет право только на 1 тайм-аут во второй полови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рерыв между периодами: </a:t>
            </a:r>
            <a:r>
              <a:rPr b="0" lang="en-US" sz="1800" spc="-1" strike="noStrike">
                <a:solidFill>
                  <a:srgbClr val="000000"/>
                </a:solidFill>
                <a:latin typeface="Times New Roman"/>
                <a:ea typeface="Times New Roman"/>
              </a:rPr>
              <a:t>перерыв между периодами не должен превышать 15 минут. Если регламент соревнований предвидит дополнительное время для определения победителей, то на протяжении дополнительного времени команды не могут использовать тайм-аут. </a:t>
            </a:r>
            <a:endParaRPr b="0" lang="en-US" sz="1800" spc="-1" strike="noStrike">
              <a:solidFill>
                <a:srgbClr val="000000"/>
              </a:solidFill>
              <a:latin typeface="Georgia"/>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285840" y="571320"/>
            <a:ext cx="8572320" cy="60022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5:</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ало и возобновление игры: </a:t>
            </a:r>
            <a:r>
              <a:rPr b="0" lang="en-US" sz="1800" spc="-1" strike="noStrike">
                <a:solidFill>
                  <a:srgbClr val="000000"/>
                </a:solidFill>
                <a:latin typeface="Times New Roman"/>
                <a:ea typeface="Times New Roman"/>
              </a:rPr>
              <a:t>выбор сторон площадки осуществляется жеребьевкой.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инающий удар:</a:t>
            </a:r>
            <a:r>
              <a:rPr b="0" lang="en-US" sz="1800" spc="-1" strike="noStrike">
                <a:solidFill>
                  <a:srgbClr val="000000"/>
                </a:solidFill>
                <a:latin typeface="Times New Roman"/>
                <a:ea typeface="Times New Roman"/>
              </a:rPr>
              <a:t> начинающий удар выполн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 сигналу судьи;</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сле того, как был забит гол;</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2-й половины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каждого периода если оно назначено.</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ол засчитывается, если мяч забит непосредственно с начального удара, в ворота соперника.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игрок, который выполняет начальный удар, дотронется мяча повторно до того, как до него дотронется другой игрок, то вольный удар выполняется противоположной командой с места, где было нарушение.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порный мяч: </a:t>
            </a:r>
            <a:r>
              <a:rPr b="0" lang="en-US" sz="1800" spc="-1" strike="noStrike">
                <a:solidFill>
                  <a:srgbClr val="000000"/>
                </a:solidFill>
                <a:latin typeface="Times New Roman"/>
                <a:ea typeface="Times New Roman"/>
              </a:rPr>
              <a:t>сорный мяч – это способ возобновления игры после длительной остановки. Судья выполняет вбрасывание спорного мяча в месте, где находился мяч, в момент остановки игры.</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a:t>
            </a:r>
            <a:r>
              <a:rPr b="0" lang="en-US" sz="1800" spc="-1" strike="noStrike">
                <a:solidFill>
                  <a:srgbClr val="000000"/>
                </a:solidFill>
                <a:latin typeface="Times New Roman"/>
                <a:ea typeface="Times New Roman"/>
              </a:rPr>
              <a:t>вбрасывание спорного мяча повтор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дотронется  мяча до того, как мяч коснется пол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мяч оставит пределы площадки после того, как он дотронулся поверхности площадки и не один из игроков не дотронулся мяча</a:t>
            </a:r>
            <a:endParaRPr b="0" lang="en-US" sz="1800" spc="-1" strike="noStrike">
              <a:solidFill>
                <a:srgbClr val="000000"/>
              </a:solidFill>
              <a:latin typeface="Georgia"/>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Содержимое 6"/>
          <p:cNvSpPr/>
          <p:nvPr/>
        </p:nvSpPr>
        <p:spPr>
          <a:xfrm>
            <a:off x="438120" y="500040"/>
            <a:ext cx="8572680" cy="622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6:</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не в игре: </a:t>
            </a:r>
            <a:r>
              <a:rPr b="0" lang="en-US" sz="1800" spc="-1" strike="noStrike">
                <a:solidFill>
                  <a:srgbClr val="000000"/>
                </a:solidFill>
                <a:latin typeface="Times New Roman"/>
                <a:ea typeface="Times New Roman"/>
              </a:rPr>
              <a:t>мяч считается в не игры,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н полностью пересечет линию ворот или боковую линию по земле или в воздухе</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гра остановлена судьей;</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яч коснется потолка.</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яч считается в игре на продолжении всего остального времени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перекладины или стойки ворот на середину площадк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судьи или другого судьи, когда они были на средине площадки.</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7:</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считанный гол: </a:t>
            </a:r>
            <a:r>
              <a:rPr b="0" lang="en-US" sz="1800" spc="-1" strike="noStrike">
                <a:solidFill>
                  <a:srgbClr val="000000"/>
                </a:solidFill>
                <a:latin typeface="Times New Roman"/>
                <a:ea typeface="Times New Roman"/>
              </a:rPr>
              <a:t>гол засчитывается если мяч полностью пересечет линию ворот между стойками и под перекладиной, кроме случаев, когда игрок команды, которая атакует, включая вратаря, забросит рукой, внесет или специально протолкнет мяч в ворота соперника . Команда у которой количество засчитанных голов в конце матча больше, считается победителем. Если у обеих команд равное количество засчитанных голов или засчитанные голы отсутствуют, то матч считается таким, что закончился в ничью. Для матчей, которые закончились в ничью, дается дополнительное время, для определения победителя матча.</a:t>
            </a:r>
            <a:endParaRPr b="0" lang="en-US" sz="1800" spc="-1" strike="noStrike">
              <a:solidFill>
                <a:srgbClr val="000000"/>
              </a:solidFill>
              <a:latin typeface="Georgia"/>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11-11-24T10:24:07Z</dcterms:modified>
  <cp:revision>24</cp:revision>
  <dc:subject/>
  <dc:title>Правила игры мини-футбол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06000000000001024140</vt:lpwstr>
  </property>
</Properties>
</file>