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13260-7412-454D-BB9E-C0461ADD7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D0375-78DB-432E-8676-24062625E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1CD25-F080-4671-9F2F-03D94385B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9793E-7950-4F2F-82D1-40549012D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CC5C6B-755A-4D1D-B9AC-AB2387B460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7B76A-9934-4C40-BC7F-A52AF2AE2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8F4C2-C363-4E4C-B23D-13DB8B844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7AD23-F595-4268-812B-A48C819D9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7B916-BBA7-470E-9E36-6E8D85A26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FF5AE-2A26-44E5-B0A7-764E54760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5A830-D2FA-41D3-970E-DEE58A170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CEE21-8FF0-4B8C-B154-A1DD6B59F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20AB2-091F-4975-B5EC-AB5309C8B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535D2-9723-48C2-8094-381EC2D00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4DEEB-34E3-4BF0-BC65-B000A8CD7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3C88B7-181F-4C24-9B1B-48E094D77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6B06D-D0FB-448D-AE0A-EE7DE07FA0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9A775B7-92D8-4914-91C9-1EB531E449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E0D5828-4878-46FF-A01B-BBCABD7BAB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50B5FC4-8F8E-4290-BD97-47D5C8F49D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DCC9A49-3F3D-4499-B852-FB291C392B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6C234F5-5148-451D-981A-295B038AE3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B6E09-7F51-4368-806E-59D42E39D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B326951-2653-4655-96F2-F9C78D3D54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1A06B0-9E35-4B44-99E9-A6AC7D2A52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AEC529F-203D-4064-92A9-AE9500B4E7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8D582E7-3091-4CBC-802B-89AC081031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5B8211A-1882-4AF6-A212-6EC01AB61B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AB2E00B-F149-497C-8863-BDCFF06C40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D39A7CA-6B44-4F59-8C65-A062EB93D1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DDE718-0908-4D4A-AA0E-CFFC3A1DF1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F2D28D-D171-4C4D-8361-2E75BD4960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35CE6F-6080-44AD-8EC1-C9841BE6D8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4F4D5-5B91-4A15-BD95-29B39C04D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FC5D17-1ED6-4B45-868C-FDE39870ED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2B3678-3B01-45EE-A4D5-6D146CE6EE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62F92B-F551-43CF-B8DF-153E8E8F29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B2E51E-A0B0-46F5-9569-57A009F21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509649-8F4E-4E21-AAB1-B60C5449DE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6C2E35-309C-4EFD-BBDF-1F45CD4336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077BC7-3E24-4771-AA6B-CDC3639588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5BAA64-7DC3-4CDE-97CB-89C00E451D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1F0D80-B50B-4FE2-BCED-22B12689B0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4AECC-12EA-48C6-9FB5-96A7B6266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0A4C4-7CC9-46E9-9AD7-D26B8DF34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D93F0-3695-4FDA-AFBF-0BB60ED64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F1372-533E-45CD-9F2F-F3008C77E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AF69E-ABE8-4EE8-9953-AACBEA62D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A8793-6922-420B-9EF1-85A03E71F679}"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4D5C-0AD4-4181-9C03-30354B55BE44}"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F0DB-8AEC-43AD-AB16-8BA09E49F32F}" type="slidenum">
              <a:rPr b="0" lang="ru-RU" sz="1800" spc="-1" strike="noStrike">
                <a:solidFill>
                  <a:srgbClr val="ffffff"/>
                </a:solidFill>
                <a:latin typeface="Georgia"/>
              </a:rPr>
              <a:t>&lt;number&gt;</a:t>
            </a:fld>
            <a:endParaRPr b="0" lang="en-US" sz="1800" spc="-1" strike="noStrike">
              <a:solidFill>
                <a:srgbClr val="000000"/>
              </a:solidFill>
              <a:latin typeface="Arial"/>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651F8-9DAD-4A34-AD0F-0C98DA65FC7E}" type="slidenum">
              <a:rPr b="0" lang="ru-RU" sz="1800" spc="-1" strike="noStrike">
                <a:solidFill>
                  <a:srgbClr val="ffffff"/>
                </a:solidFill>
                <a:latin typeface="Georgi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9720" y="642960"/>
            <a:ext cx="7115400" cy="56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24456"/>
                </a:solidFill>
                <a:latin typeface="Arial"/>
              </a:rPr>
              <a:t>    </a:t>
            </a:r>
            <a:r>
              <a:rPr b="0" lang="ru-RU" sz="3600" spc="-1" strike="noStrike">
                <a:solidFill>
                  <a:srgbClr val="424456"/>
                </a:solidFill>
                <a:latin typeface="Trebuchet MS"/>
              </a:rPr>
              <a:t>Правила мини-футбола</a:t>
            </a:r>
            <a:endParaRPr b="0" lang="en-US" sz="3600" spc="-1" strike="noStrike">
              <a:solidFill>
                <a:srgbClr val="424456"/>
              </a:solidFill>
              <a:latin typeface="Trebuchet MS"/>
            </a:endParaRPr>
          </a:p>
        </p:txBody>
      </p:sp>
      <p:sp>
        <p:nvSpPr>
          <p:cNvPr id="215" name=""/>
          <p:cNvSpPr txBox="1"/>
          <p:nvPr/>
        </p:nvSpPr>
        <p:spPr>
          <a:xfrm>
            <a:off x="2642760" y="1142640"/>
            <a:ext cx="3614760" cy="608040"/>
          </a:xfrm>
          <a:prstGeom prst="rect">
            <a:avLst/>
          </a:prstGeom>
          <a:noFill/>
          <a:ln w="0">
            <a:noFill/>
          </a:ln>
        </p:spPr>
        <p:txBody>
          <a:bodyPr anchor="t">
            <a:normAutofit fontScale="80000"/>
          </a:bodyPr>
          <a:p>
            <a:pPr marL="291960" indent="-204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Площадка для игры</a:t>
            </a:r>
            <a:endParaRPr b="0" lang="en-US" sz="2600" spc="-1" strike="noStrike">
              <a:solidFill>
                <a:srgbClr val="000000"/>
              </a:solidFill>
              <a:latin typeface="Georgia"/>
            </a:endParaRPr>
          </a:p>
        </p:txBody>
      </p:sp>
      <p:pic>
        <p:nvPicPr>
          <p:cNvPr id="216" name="Рисунок 3" descr="Изображение.jpg"/>
          <p:cNvPicPr/>
          <p:nvPr/>
        </p:nvPicPr>
        <p:blipFill>
          <a:blip r:embed="rId1"/>
          <a:stretch/>
        </p:blipFill>
        <p:spPr>
          <a:xfrm>
            <a:off x="500040" y="1571760"/>
            <a:ext cx="8286840" cy="507204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285840" y="571320"/>
            <a:ext cx="8572320" cy="585756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8:</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е правил.</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Штрафной удар:</a:t>
            </a:r>
            <a:r>
              <a:rPr b="0" lang="en-US" sz="1800" spc="-1" strike="noStrike">
                <a:solidFill>
                  <a:srgbClr val="000000"/>
                </a:solidFill>
                <a:latin typeface="Times New Roman"/>
                <a:ea typeface="Times New Roman"/>
              </a:rPr>
              <a:t> штрафной удар назначается команде:</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игрок ударит или попытается ударить соперника рукой, ногой;</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еребросит или попробует перебросить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ыгнет на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атакует соперника, даже плечом;</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толкнет соперник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Штрафной удар также назначается команде, чей игрок совершит одно из таких нарушений:</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задержит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люнет в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ыграет в подкате в попытке сыграть в мяч</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пециально сыграет в мяч рукой, за исключением вратаря в своей штрафной зон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енальти:</a:t>
            </a:r>
            <a:r>
              <a:rPr b="0" lang="en-US" sz="1800" spc="-1" strike="noStrike">
                <a:solidFill>
                  <a:srgbClr val="000000"/>
                </a:solidFill>
                <a:latin typeface="Times New Roman"/>
                <a:ea typeface="Times New Roman"/>
              </a:rPr>
              <a:t> пенальти назначается если игрок совершит каждое из перечисленных выше нарушение в своей штрафной зон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285840" y="714240"/>
            <a:ext cx="8572320" cy="585792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Свободный удар: </a:t>
            </a:r>
            <a:r>
              <a:rPr b="0" lang="en-US" sz="1800" spc="-1" strike="noStrike">
                <a:solidFill>
                  <a:srgbClr val="000000"/>
                </a:solidFill>
                <a:latin typeface="Times New Roman"/>
                <a:ea typeface="Times New Roman"/>
              </a:rPr>
              <a:t>свободный удар назначается противоположной команде, чей вратарь совершит такие нарушения:</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вратарь получит мяч от партнера по команде;</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дотронется или будет контролировать мяч руками после того, как получит пас ногой от партнера своей команды;</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ольный удар так же выполняется противоположной командой с места, где выполнилось нарушение, если игрок:</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ыграл опасно;</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не играя мячом будет препятствовать продвижению соперник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епятствует вратарю ввести мяч в игру, когда мяч в руках у вратаря</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Удар мяча с боковой линии: </a:t>
            </a:r>
            <a:r>
              <a:rPr b="0" lang="en-US" sz="1800" spc="-1" strike="noStrike">
                <a:solidFill>
                  <a:srgbClr val="000000"/>
                </a:solidFill>
                <a:latin typeface="Times New Roman"/>
                <a:ea typeface="Times New Roman"/>
              </a:rPr>
              <a:t>удар мяча с боковой линии назначается ,когда мяч полностью пересек боковую линию по земле или в воздухе, или коснулся потолк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Бросок от ворот: </a:t>
            </a:r>
            <a:r>
              <a:rPr b="0" lang="en-US" sz="1800" spc="-1" strike="noStrike">
                <a:solidFill>
                  <a:srgbClr val="000000"/>
                </a:solidFill>
                <a:latin typeface="Times New Roman"/>
                <a:ea typeface="Times New Roman"/>
              </a:rPr>
              <a:t>бросок от ворот выполняется когда мяч полностью пересечет линию ворот по земле или по воздуху, последним его коснется игрок противоположной команды и если гол не засчитанный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Georgia"/>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285840" y="642960"/>
            <a:ext cx="8572320" cy="59292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которые наказываются предупреждение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грок предупреждается желтой карточкой если выполнил нарушения:</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иноват в неспортивном поведени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ыражает несогласие словами или действиям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истематически нарушает правила игры;</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задерживает возобновление игры;</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ыйдет или вернется на площадку без разрешения судьи или нарушит правило замен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которые наказываются удалением с площадки:</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Игрок может быть выведен с площадки красной карточкой, если он совершил нарушения:</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будет виновен в серьезном нарушении правил;</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будет виновен в агрессивном поведени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лишит команду соперника возможности забить гол, сыграв в мяч рукой,;</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овершит нарушение, которое наказывается штрафным ударом или пенальти;</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спользует обидные или не цензурные слова;</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олучает повторные предупреждения на протяжении одного матч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се нарушения, которые наказываются штрафными ударами,  пенальти, предупреждениями и удалениями фиксируются в протокол матча.</a:t>
            </a:r>
            <a:endParaRPr b="0" lang="en-US" sz="1800" spc="-1" strike="noStrike">
              <a:solidFill>
                <a:srgbClr val="000000"/>
              </a:solidFill>
              <a:latin typeface="Georgia"/>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1:</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Размеры: </a:t>
            </a:r>
            <a:r>
              <a:rPr b="0" lang="en-US" sz="1800" spc="-1" strike="noStrike">
                <a:solidFill>
                  <a:srgbClr val="000000"/>
                </a:solidFill>
                <a:latin typeface="Times New Roman"/>
                <a:ea typeface="Times New Roman"/>
              </a:rPr>
              <a:t>площадка должна быть прямоугольной; длинна боковой линии должна быть минимально 25 м., максимально – 42 м.; ширина площадки должна быть минимально 15 м., максимально – 25 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Разметка</a:t>
            </a:r>
            <a:r>
              <a:rPr b="0" lang="en-US" sz="1800" spc="-1" strike="noStrike">
                <a:solidFill>
                  <a:srgbClr val="000000"/>
                </a:solidFill>
                <a:latin typeface="Times New Roman"/>
                <a:ea typeface="Times New Roman"/>
              </a:rPr>
              <a:t>: площадки размечается линиями 2 длинные линии площадки называются боковыми линиями, 2 короткие – линии ворот. Ширина линий – 8 см. Площадка разделена пополам средней линией. Центральная отметка разделяет среднюю линию пополам, вокруг неё проводится круг, радиусом 3 метра.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Штрафная площадь: </a:t>
            </a:r>
            <a:r>
              <a:rPr b="0" lang="en-US" sz="1800" spc="-1" strike="noStrike">
                <a:solidFill>
                  <a:srgbClr val="000000"/>
                </a:solidFill>
                <a:latin typeface="Times New Roman"/>
                <a:ea typeface="Times New Roman"/>
              </a:rPr>
              <a:t>штрафная площадь размещается на 2-х половинах площадки . Четверть круга, радиусом 6 метров, проводится  из внешней стороны стоек ворот до воображаемой линии, что проведена под прямым углом от линии ворот со стоек ворот.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Отметка для пробивания пенальти:</a:t>
            </a:r>
            <a:r>
              <a:rPr b="0" lang="en-US" sz="1800" spc="-1" strike="noStrike">
                <a:solidFill>
                  <a:srgbClr val="000000"/>
                </a:solidFill>
                <a:latin typeface="Times New Roman"/>
                <a:ea typeface="Times New Roman"/>
              </a:rPr>
              <a:t> отметка для пробивания пенальти находится на расстояние 6 м. от средней точки ворот</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Угловой сектор: </a:t>
            </a:r>
            <a:r>
              <a:rPr b="0" lang="en-US" sz="1800" spc="-1" strike="noStrike">
                <a:solidFill>
                  <a:srgbClr val="000000"/>
                </a:solidFill>
                <a:latin typeface="Times New Roman"/>
                <a:ea typeface="Times New Roman"/>
              </a:rPr>
              <a:t>в каждом углу площадки в середине его проводится четверть круга, радиусом 25 см..</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Зона замены: </a:t>
            </a:r>
            <a:r>
              <a:rPr b="0" lang="en-US" sz="1800" spc="-1" strike="noStrike">
                <a:solidFill>
                  <a:srgbClr val="000000"/>
                </a:solidFill>
                <a:latin typeface="Times New Roman"/>
                <a:ea typeface="Times New Roman"/>
              </a:rPr>
              <a:t>зона замены располагается на той же стороне, где располагаются скамейки запасных игроков, непосредственно перед ними, на протяжении 5 метров.</a:t>
            </a:r>
            <a:endParaRPr b="0" lang="en-US" sz="1800" spc="-1" strike="noStrike">
              <a:solidFill>
                <a:srgbClr val="000000"/>
              </a:solidFill>
              <a:latin typeface="Georgia"/>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7" dur="500"/>
                                        <p:tgtEl>
                                          <p:spTgt spid="21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7">
                                            <p:txEl>
                                              <p:pRg st="2" end="2"/>
                                            </p:txEl>
                                          </p:spTgt>
                                        </p:tgtEl>
                                        <p:attrNameLst>
                                          <p:attrName>style.visibility</p:attrName>
                                        </p:attrNameLst>
                                      </p:cBhvr>
                                      <p:to>
                                        <p:strVal val="visible"/>
                                      </p:to>
                                    </p:set>
                                    <p:animEffect filter="blinds(horizontal)" transition="in">
                                      <p:cBhvr additive="repl">
                                        <p:cTn id="12" dur="500"/>
                                        <p:tgtEl>
                                          <p:spTgt spid="21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17">
                                            <p:txEl>
                                              <p:pRg st="3" end="3"/>
                                            </p:txEl>
                                          </p:spTgt>
                                        </p:tgtEl>
                                        <p:attrNameLst>
                                          <p:attrName>style.visibility</p:attrName>
                                        </p:attrNameLst>
                                      </p:cBhvr>
                                      <p:to>
                                        <p:strVal val="visible"/>
                                      </p:to>
                                    </p:set>
                                    <p:animEffect filter="blinds(horizontal)" transition="in">
                                      <p:cBhvr additive="repl">
                                        <p:cTn id="17" dur="500"/>
                                        <p:tgtEl>
                                          <p:spTgt spid="21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17">
                                            <p:txEl>
                                              <p:pRg st="4" end="4"/>
                                            </p:txEl>
                                          </p:spTgt>
                                        </p:tgtEl>
                                        <p:attrNameLst>
                                          <p:attrName>style.visibility</p:attrName>
                                        </p:attrNameLst>
                                      </p:cBhvr>
                                      <p:to>
                                        <p:strVal val="visible"/>
                                      </p:to>
                                    </p:set>
                                    <p:animEffect filter="blinds(horizontal)" transition="in">
                                      <p:cBhvr additive="repl">
                                        <p:cTn id="22" dur="500"/>
                                        <p:tgtEl>
                                          <p:spTgt spid="21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17">
                                            <p:txEl>
                                              <p:pRg st="5" end="5"/>
                                            </p:txEl>
                                          </p:spTgt>
                                        </p:tgtEl>
                                        <p:attrNameLst>
                                          <p:attrName>style.visibility</p:attrName>
                                        </p:attrNameLst>
                                      </p:cBhvr>
                                      <p:to>
                                        <p:strVal val="visible"/>
                                      </p:to>
                                    </p:set>
                                    <p:animEffect filter="blinds(horizontal)" transition="in">
                                      <p:cBhvr additive="repl">
                                        <p:cTn id="27" dur="500"/>
                                        <p:tgtEl>
                                          <p:spTgt spid="217">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217">
                                            <p:txEl>
                                              <p:pRg st="6" end="6"/>
                                            </p:txEl>
                                          </p:spTgt>
                                        </p:tgtEl>
                                        <p:attrNameLst>
                                          <p:attrName>style.visibility</p:attrName>
                                        </p:attrNameLst>
                                      </p:cBhvr>
                                      <p:to>
                                        <p:strVal val="visible"/>
                                      </p:to>
                                    </p:set>
                                    <p:animEffect filter="blinds(horizontal)" transition="in">
                                      <p:cBhvr additive="repl">
                                        <p:cTn id="32" dur="500"/>
                                        <p:tgtEl>
                                          <p:spTgt spid="217">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217">
                                            <p:txEl>
                                              <p:pRg st="7" end="7"/>
                                            </p:txEl>
                                          </p:spTgt>
                                        </p:tgtEl>
                                        <p:attrNameLst>
                                          <p:attrName>style.visibility</p:attrName>
                                        </p:attrNameLst>
                                      </p:cBhvr>
                                      <p:to>
                                        <p:strVal val="visible"/>
                                      </p:to>
                                    </p:set>
                                    <p:animEffect filter="blinds(horizontal)" transition="in">
                                      <p:cBhvr additive="repl">
                                        <p:cTn id="37" dur="500"/>
                                        <p:tgtEl>
                                          <p:spTgt spid="2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Ворота: </a:t>
            </a:r>
            <a:r>
              <a:rPr b="0" lang="en-US" sz="1800" spc="-1" strike="noStrike">
                <a:solidFill>
                  <a:srgbClr val="000000"/>
                </a:solidFill>
                <a:latin typeface="Times New Roman"/>
                <a:ea typeface="Times New Roman"/>
              </a:rPr>
              <a:t>ворота располагаются в середине каждой линии ворот. Расстояние между стойками 3 м., высота – 2 м. , глубина – не менее чем 80 см. На воротах находится сетка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окрытия площадки: </a:t>
            </a:r>
            <a:r>
              <a:rPr b="0" lang="en-US" sz="1800" spc="-1" strike="noStrike">
                <a:solidFill>
                  <a:srgbClr val="000000"/>
                </a:solidFill>
                <a:latin typeface="Times New Roman"/>
                <a:ea typeface="Times New Roman"/>
              </a:rPr>
              <a:t>покрытие площадки должно быть гладкое. Рекомендуется травяное или искусственное покрытие, или деревянно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Мяч: </a:t>
            </a:r>
            <a:r>
              <a:rPr b="0" lang="en-US" sz="1800" spc="-1" strike="noStrike">
                <a:solidFill>
                  <a:srgbClr val="000000"/>
                </a:solidFill>
                <a:latin typeface="Times New Roman"/>
                <a:ea typeface="Times New Roman"/>
              </a:rPr>
              <a:t>мяч должен быть изготовлен из кожи или другого материала. Имеет круг не меньше чем 62 см. и  не более –64 см. Масса мяча не менее 400 г. и не более 440 г. Если мяч утратил форму, то его необходимо заменить</a:t>
            </a:r>
            <a:endParaRPr b="0" lang="en-US" sz="1800" spc="-1" strike="noStrike">
              <a:solidFill>
                <a:srgbClr val="000000"/>
              </a:solidFill>
              <a:latin typeface="Georgia"/>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2:</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 игре принимают участие 2 команды, каждая из которых состоит  из не более 5 игроков, вместе с вратарё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Замена игрока: </a:t>
            </a:r>
            <a:r>
              <a:rPr b="0" lang="en-US" sz="1800" spc="-1" strike="noStrike">
                <a:solidFill>
                  <a:srgbClr val="000000"/>
                </a:solidFill>
                <a:latin typeface="Times New Roman"/>
                <a:ea typeface="Times New Roman"/>
              </a:rPr>
              <a:t>максимальное количество запасных игроков – 7, количество замен не ограничено. Игрок, которого заменили, может вернуться на площадку, заменив другого игрока. Замена полностью контролируется судьями, согласно правил. Замена является выполненной, если запасной игрок выйдет на площадку. Вратарь может поменяться местом с любым игроком.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a:t>
            </a:r>
            <a:r>
              <a:rPr b="0" lang="en-US" sz="1800" spc="-1" strike="noStrike">
                <a:solidFill>
                  <a:srgbClr val="000000"/>
                </a:solidFill>
                <a:latin typeface="Times New Roman"/>
                <a:ea typeface="Times New Roman"/>
              </a:rPr>
              <a:t>если во время замены игрок, который выходит на площадку, выйдет раньше того, как другой игрок полностью покинет площадку, то игра должна быть остановлена. Запасной игрок должен покинуть площадку и он предупреждается желтой карточкой. </a:t>
            </a:r>
            <a:endParaRPr b="0" lang="en-US" sz="1800" spc="-1" strike="noStrike">
              <a:solidFill>
                <a:srgbClr val="000000"/>
              </a:solidFill>
              <a:latin typeface="Georgia"/>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3:</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Уполномочия судьи: </a:t>
            </a:r>
            <a:r>
              <a:rPr b="0" lang="en-US" sz="1800" spc="-1" strike="noStrike">
                <a:solidFill>
                  <a:srgbClr val="000000"/>
                </a:solidFill>
                <a:latin typeface="Times New Roman"/>
                <a:ea typeface="Times New Roman"/>
              </a:rPr>
              <a:t>каждый матч судится судьей, который наделен всеми правами для строгого выполнения привил игры.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удья заносит в протокол матча все внесенные санкции, которые содержат информацию про любые дисциплинарные нарушения игроками или официальными лицами.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едет хронометраж матча.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станавливает, прерывает матч во время нарушений правил.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носит дисциплинарные санкции игрокам, какие нарушили правила.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ледит за тем, что бы посторонние не выходили на площадку без разрешения судьи.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станавливает игру, если игрок получил серьезную травму. </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беспечивает соответствие используемого мяча.</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Второй судья располагается на противоположной стороне и помогает судье контролировать ход игры, согласно правил. Имеет право останавливать игру в случае нарушения. Следит за тем, что бы замена игроков выполнялась независимым образом.</a:t>
            </a:r>
            <a:endParaRPr b="0" lang="en-US" sz="1800" spc="-1" strike="noStrike">
              <a:solidFill>
                <a:srgbClr val="000000"/>
              </a:solidFill>
              <a:latin typeface="Georgia"/>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4: </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Длительность матча: </a:t>
            </a:r>
            <a:r>
              <a:rPr b="0" lang="en-US" sz="1800" spc="-1" strike="noStrike">
                <a:solidFill>
                  <a:srgbClr val="000000"/>
                </a:solidFill>
                <a:latin typeface="Times New Roman"/>
                <a:ea typeface="Times New Roman"/>
              </a:rPr>
              <a:t>матч состоит из 2-х периодов по 20 минут. Команды могут взять тайм-аут, длительностью 1 минута. Команда, которая не использовала тайм-аут в первой половине матча имеет право только на 1 тайм-аут во второй половине.</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Перерыв между периодами: </a:t>
            </a:r>
            <a:r>
              <a:rPr b="0" lang="en-US" sz="1800" spc="-1" strike="noStrike">
                <a:solidFill>
                  <a:srgbClr val="000000"/>
                </a:solidFill>
                <a:latin typeface="Times New Roman"/>
                <a:ea typeface="Times New Roman"/>
              </a:rPr>
              <a:t>перерыв между периодами не должен превышать 15 минут. Если регламент соревнований предвидит дополнительное время для определения победителей, то на протяжении дополнительного времени команды не могут использовать тайм-аут. </a:t>
            </a:r>
            <a:endParaRPr b="0" lang="en-US" sz="1800" spc="-1" strike="noStrike">
              <a:solidFill>
                <a:srgbClr val="000000"/>
              </a:solidFill>
              <a:latin typeface="Georgia"/>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285840" y="571320"/>
            <a:ext cx="8572320" cy="600228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5:</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чало и возобновление игры: </a:t>
            </a:r>
            <a:r>
              <a:rPr b="0" lang="en-US" sz="1800" spc="-1" strike="noStrike">
                <a:solidFill>
                  <a:srgbClr val="000000"/>
                </a:solidFill>
                <a:latin typeface="Times New Roman"/>
                <a:ea typeface="Times New Roman"/>
              </a:rPr>
              <a:t>выбор сторон площадки осуществляется жеребьевкой. </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чинающий удар:</a:t>
            </a:r>
            <a:r>
              <a:rPr b="0" lang="en-US" sz="1800" spc="-1" strike="noStrike">
                <a:solidFill>
                  <a:srgbClr val="000000"/>
                </a:solidFill>
                <a:latin typeface="Times New Roman"/>
                <a:ea typeface="Times New Roman"/>
              </a:rPr>
              <a:t> начинающий удар выполняется:</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о сигналу судьи;</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 начале матча;</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осле того, как был забит гол;</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 начале 2-й половины матча;</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 начале каждого периода если оно назначено.</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Гол засчитывается, если мяч забит непосредственно с начального удара, в ворота соперника. </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я: </a:t>
            </a:r>
            <a:r>
              <a:rPr b="0" lang="en-US" sz="1800" spc="-1" strike="noStrike">
                <a:solidFill>
                  <a:srgbClr val="000000"/>
                </a:solidFill>
                <a:latin typeface="Times New Roman"/>
                <a:ea typeface="Times New Roman"/>
              </a:rPr>
              <a:t>если игрок, который выполняет начальный удар, дотронется мяча повторно до того, как до него дотронется другой игрок, то вольный удар выполняется противоположной командой с места, где было нарушение. </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Спорный мяч: </a:t>
            </a:r>
            <a:r>
              <a:rPr b="0" lang="en-US" sz="1800" spc="-1" strike="noStrike">
                <a:solidFill>
                  <a:srgbClr val="000000"/>
                </a:solidFill>
                <a:latin typeface="Times New Roman"/>
                <a:ea typeface="Times New Roman"/>
              </a:rPr>
              <a:t>сорный мяч – это способ возобновления игры после длительной остановки. Судья выполняет вбрасывание спорного мяча в месте, где находился мяч, в момент остановки игры.</a:t>
            </a:r>
            <a:endParaRPr b="0" lang="en-US" sz="1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Нарушение: </a:t>
            </a:r>
            <a:r>
              <a:rPr b="0" lang="en-US" sz="1800" spc="-1" strike="noStrike">
                <a:solidFill>
                  <a:srgbClr val="000000"/>
                </a:solidFill>
                <a:latin typeface="Times New Roman"/>
                <a:ea typeface="Times New Roman"/>
              </a:rPr>
              <a:t>вбрасывание спорного мяча повторяется:</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игрок дотронется  мяча до того, как мяч коснется поля</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сли мяч оставит пределы площадки после того, как он дотронулся поверхности площадки и не один из игроков не дотронулся мяча</a:t>
            </a:r>
            <a:endParaRPr b="0" lang="en-US" sz="1800" spc="-1" strike="noStrike">
              <a:solidFill>
                <a:srgbClr val="000000"/>
              </a:solidFill>
              <a:latin typeface="Georgia"/>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Содержимое 6"/>
          <p:cNvSpPr/>
          <p:nvPr/>
        </p:nvSpPr>
        <p:spPr>
          <a:xfrm>
            <a:off x="438120" y="500040"/>
            <a:ext cx="8572680" cy="62262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6:</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Мяч не в игре: </a:t>
            </a:r>
            <a:r>
              <a:rPr b="0" lang="en-US" sz="1800" spc="-1" strike="noStrike">
                <a:solidFill>
                  <a:srgbClr val="000000"/>
                </a:solidFill>
                <a:latin typeface="Times New Roman"/>
                <a:ea typeface="Times New Roman"/>
              </a:rPr>
              <a:t>мяч считается в не игры, если:</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н полностью пересечет линию ворот или боковую линию по земле или в воздухе</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гра остановлена судьей;</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мяч коснется потолка.</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Мяч считается в игре на продолжении всего остального времени если:</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тскачет от перекладины или стойки ворот на середину площадки;</a:t>
            </a:r>
            <a:endParaRPr b="0" lang="en-US" sz="18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тскачет от судьи или другого судьи, когда они были на средине площадки.</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285840" y="571320"/>
            <a:ext cx="8572320" cy="6002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u="sng">
                <a:solidFill>
                  <a:srgbClr val="000000"/>
                </a:solidFill>
                <a:uFillTx/>
                <a:latin typeface="Times New Roman"/>
                <a:ea typeface="Times New Roman"/>
              </a:rPr>
              <a:t>Правило 7:</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Засчитанный гол: </a:t>
            </a:r>
            <a:r>
              <a:rPr b="0" lang="en-US" sz="1800" spc="-1" strike="noStrike">
                <a:solidFill>
                  <a:srgbClr val="000000"/>
                </a:solidFill>
                <a:latin typeface="Times New Roman"/>
                <a:ea typeface="Times New Roman"/>
              </a:rPr>
              <a:t>гол засчитывается если мяч полностью пересечет линию ворот между стойками и под перекладиной, кроме случаев, когда игрок команды, которая атакует, включая вратаря, забросит рукой, внесет или специально протолкнет мяч в ворота соперника . Команда у которой количество засчитанных голов в конце матча больше, считается победителем. Если у обеих команд равное количество засчитанных голов или засчитанные голы отсутствуют, то матч считается таким, что закончился в ничью. Для матчей, которые закончились в ничью, дается дополнительное время, для определения победителя матча.</a:t>
            </a:r>
            <a:endParaRPr b="0" lang="en-US" sz="1800" spc="-1" strike="noStrike">
              <a:solidFill>
                <a:srgbClr val="000000"/>
              </a:solidFill>
              <a:latin typeface="Georgia"/>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школа</cp:lastModifiedBy>
  <dcterms:modified xsi:type="dcterms:W3CDTF">2011-11-24T10:24:07Z</dcterms:modified>
  <cp:revision>24</cp:revision>
  <dc:subject/>
  <dc:title>Правила игры мини-футбол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006000000000001024140</vt:lpwstr>
  </property>
</Properties>
</file>