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158-2B91-4C0A-8E35-0A4C7F8E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96A-C26F-4D80-AD85-2068FE9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61C-88D6-48F6-9430-70657AF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288-63EB-46E4-8272-C7DDC122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EB1C-6164-4E4B-BF79-2E5B7C4B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6FCF-087C-45E1-893E-DE99FD0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3A98-47C6-4418-B64E-852E9CD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72D-8E02-43F1-ABAB-41DF290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0384-E34C-4717-AC72-BF9D34E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F42-CC57-4393-8BA2-423368B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0CD-C144-4394-A16A-9D292EB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35E-0138-4E1C-A249-74E6C25D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CB3-CA1A-440E-BD10-6D2D91D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F76F-99F6-45CC-85E3-D61B671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2C40-212B-4CD8-BE40-FC9BDA1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B0A-E972-4D2B-B093-CF1781B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6452-B203-4874-AF14-A821F20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941E-17BA-4B6E-AC92-0FC835A7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84DF-DD90-49B8-BFB6-2E56A76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94C1-EBF6-4CDA-AF3D-38A203B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DEBB-39AC-40FB-B9DD-CA591DD3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8DC0-AC14-4C14-B320-E207066E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06F-11D2-4BF6-AD6D-1C8C1E65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0636-5E37-4857-B72F-4C80588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B6B5-5520-418B-82E9-D93AF6A0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01F5-94D7-4F1B-8596-08DE21A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1CA4-F9A9-4F4D-9FED-766BEF7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0598-A38B-40CD-B9D6-7671E33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944C-314C-4319-ADD8-EBD463C4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923A-6AC4-469A-8777-03DBC388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79A3-5D86-43FA-8847-16A7ED88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4099-1D09-478B-B086-0D61C01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ACEE-577E-47AF-BBC5-18B87CC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9E6-4A8E-424C-A95E-252AE6BC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A464-4870-48CE-84AE-2C4BBCA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A460-7ED0-40D1-ADE0-43AF20D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7267-DF0B-4661-8B8B-ED7B3C54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94E2-5362-4DEF-B581-5557282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0979-8165-4662-8F5A-DF3577D2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490D-7AF5-4DB8-99FE-FA776B7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FDEC7-AB91-4CE7-996F-5E136D6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307F-DCFF-4C09-813D-C91398A5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DF7A-790A-42D6-91F3-E8D4731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DB46-D2C4-4623-9E10-1A717C1C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79D-4496-4366-9036-C5B662F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09DE-7C83-438F-B2D2-F11CCB3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A61A-E4DD-48B6-81E2-4BDB63D6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5B52-3644-4830-8D60-3F81BD8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FE43-326D-46C2-BC9D-6D953BC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8E58-5B6A-4471-A12A-D60A5C3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DB99B-4A0D-470C-99AA-27F01DB8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15CA-BECC-45D4-8561-6304941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10D1-1413-4921-ACBE-4EC133D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ACB0-7B20-410A-B331-597E8E2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855D-BF82-44CD-9112-214FFEE2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285-4BD7-4C77-ADBB-4F8ECE8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BF518-CA19-4C03-9A60-F37DF4F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96F-D275-4D40-97E3-70A7392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75D-C401-4D02-987C-97F17A6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913-8BEB-4D04-B602-8CB40CE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B555-619C-41E3-BDDA-98E633EC1B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08D4-20EE-435D-80E5-0D55CDC965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A8E2-8645-4891-860B-B09BE60E9CF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2BF-000A-4FE5-8E13-E4F330D8BA4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2C2-3023-4466-9772-38F47DFE7DF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нахождения игрока «вне 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ы» нарушением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а рассмотрение судь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00040" y="37148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ое наказание должен назначить 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рбитр, за удар рукой сопер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2000160" y="478620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предуп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штрафной уда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свободный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Матч закончился. Исполнение 11 метрового удара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оизошло в дополнительное время. Может ли судья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ать гол?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57168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 какого времени начинают действовать прав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удь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857240" y="19285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Гол не засчитыва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гол засчит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1857240" y="4857840"/>
            <a:ext cx="60724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с момента выхода на площад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с момента проведения жеребье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щитник прервал передачу мяча рукой. Какое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ешение должен принять арбитр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500040" y="3786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считается ли гол, который забит непосредственно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сле удара от ворот, в ворота противни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28800" y="1714320"/>
            <a:ext cx="7572240" cy="19285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защитник получает желтую карточку,   назначается штрафной удар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защитник получает предупреждение и назначается вольный уда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000160" y="5072040"/>
            <a:ext cx="55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зависимости от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7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какое время игры может проводиться замена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игрока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500040" y="392904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8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в момент выбрасывания мяча из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ута наступать на боковую линию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когда игра остановле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когда команда владеет мяч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в любо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одзаголовок 2"/>
          <p:cNvSpPr/>
          <p:nvPr/>
        </p:nvSpPr>
        <p:spPr>
          <a:xfrm>
            <a:off x="2071800" y="5214960"/>
            <a:ext cx="550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9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азрешается ли игроку, который выполнил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ыбрасывание мяча из-за боковой линии, первому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отрагиваться до него</a:t>
            </a: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0004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0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Является ли ширина линий футбольного поля частью размеров площадки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857240" y="2000160"/>
            <a:ext cx="5500800" cy="1214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2071800" y="5143680"/>
            <a:ext cx="5500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1.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и помощи какого предмета судья проводит 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еребьевку перед началом игры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1680" y="385776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2. 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	</a:t>
            </a:r>
            <a:r>
              <a:rPr b="1" lang="ru-RU" sz="23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акие размеры футбольных ворот</a:t>
            </a: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57240" y="1714320"/>
            <a:ext cx="5500800" cy="1214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монетк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жето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фиш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2071800" y="5143680"/>
            <a:ext cx="6143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а) Длинной 2м., шириной 4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б) Длинной 2,5 м., шириной 5,5 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) Длинной 2,44м., шириной 7,32 м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19:02Z</dcterms:created>
  <dc:creator>Admin</dc:creator>
  <dc:description/>
  <dc:language>en-US</dc:language>
  <cp:lastModifiedBy>Admin</cp:lastModifiedBy>
  <dcterms:modified xsi:type="dcterms:W3CDTF">2011-03-02T19:22:43Z</dcterms:modified>
  <cp:revision>7</cp:revision>
  <dc:subject/>
  <dc:title>1.  Является ли нахождения  игрока «вне  игры» нарушением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6000000000001024140</vt:lpwstr>
  </property>
</Properties>
</file>