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7DCE-34DB-4FEC-8406-0509D0D8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2B3-C5A7-4BFE-90F2-E2F592F5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F9A3-A473-4CD8-8E34-E1246B7D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1E2-5838-445C-A337-D9951256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ADFA-8733-40FE-8D22-4765B92B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24E7-0D13-450A-A3CC-DEA621BA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112F-E2A0-49D8-B0B8-EDB84489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E926-DF83-4488-AAF3-84F73810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03B4-245C-4F23-938D-4002CEE2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0225-70F6-4351-9371-C250D35C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997D-69BA-48EC-8E53-36F7351E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931-EA2D-4DFD-B7E0-017901C0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CDB6-04D5-4F1C-96C6-50284099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B5AC-43EC-462D-9151-CFC109DA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6FEC-BDD7-4CB4-97B3-75346714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0D37-69C0-4086-AE2E-7D6B5B55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B829-ED8B-4BE4-B5DA-EF6AAF31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EA504-F6E9-431F-8E69-73EC5B67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79484-4501-4BCA-83C5-9F48FC08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A4341-206A-4AE0-A45B-7FC957CD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30407-3037-41DA-A141-71D49B41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827F74-4301-4570-884D-2DC6725B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BBD-766A-4E52-BFF6-1A2F86D8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975967-78EE-42A1-80EC-69A5548D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D947C-0119-4F69-894A-77FD6CD3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5EDE9-1791-40D6-A5F2-469A044A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39B5A-9F80-4D47-A209-D0C5448D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89EEE-F450-43FC-B6F5-72D6BBE2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A56E3-C155-41CF-B8E7-96F91C74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76E9B-0DBB-4045-AB6F-BA1CC97A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C15B8-59FD-4B5C-A402-84D9479E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5CF87-CF88-4FEC-9E85-E4842E83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09943-BE7A-4131-9E25-95C08286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0CC-D978-4CAB-B40A-6B97452F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8FAAB-A662-4137-A2C5-2D7034EA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FFCCD-E65B-4812-B872-800D9311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32337-BB21-405D-B2F8-55C2D22E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15920-113C-4CE6-8F44-78B07CD7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A58EA-BD99-40A4-8F6D-C512CB68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C0DBF-11A9-4EC9-94E0-C8A185A2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9ABFD-B034-4478-A4B4-2E46D542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B32CD-D688-42E3-B029-85160902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6587B-F7F9-4F50-B80A-2B5CB651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FCF-5E84-4B70-9512-58307E97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A22-C09E-45E6-99A7-D6562F8B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BFE-8330-48D6-A5E9-08309442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1CAE-19D3-4191-BA79-A45EDEF1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B40-5BA4-4408-9942-8A851B95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E99B-CBA5-4430-9296-8F1742AC6059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CAE1-676D-43D9-981D-2DBC1CD8EBA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8BCF-FF8A-49D8-8907-4F72F754600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1F20-835B-43FD-BF6C-018208D1395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Тема: </a:t>
            </a:r>
            <a:r>
              <a:rPr b="0" i="1" lang="ru-RU" sz="4000" spc="-1" strike="noStrike">
                <a:solidFill>
                  <a:srgbClr val="326064"/>
                </a:solidFill>
                <a:latin typeface="Trebuchet MS"/>
              </a:rPr>
              <a:t>«Футбол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Заголовок 1"/>
          <p:cNvSpPr/>
          <p:nvPr/>
        </p:nvSpPr>
        <p:spPr>
          <a:xfrm>
            <a:off x="428760" y="1000080"/>
            <a:ext cx="87152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Цель: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Формирование стойких интересов учащихся к занятиям физической культур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Заголовок 1"/>
          <p:cNvSpPr/>
          <p:nvPr/>
        </p:nvSpPr>
        <p:spPr>
          <a:xfrm>
            <a:off x="428760" y="3143160"/>
            <a:ext cx="8715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Задачи:</a:t>
            </a:r>
            <a:r>
              <a:rPr b="0" lang="ru-RU" sz="4000" spc="-1" strike="noStrike">
                <a:solidFill>
                  <a:srgbClr val="326064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1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Изучение истории украинского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футб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2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Изучение правил игры в мини-футб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3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Тактические действия игры в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на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  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4.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	</a:t>
            </a: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Воспитание олимпийского 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92980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Учащиеся должны знать:</a:t>
            </a:r>
            <a:br>
              <a:rPr sz="40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историю развития украинского футбола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правила игры в футбол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технику и тактику игры в футбол.</a:t>
            </a:r>
            <a:br>
              <a:rPr sz="3200"/>
            </a:br>
            <a:r>
              <a:rPr b="1" i="1" lang="ru-RU" sz="4000" spc="-1" strike="noStrike" u="sng">
                <a:solidFill>
                  <a:srgbClr val="326064"/>
                </a:solidFill>
                <a:uFillTx/>
                <a:latin typeface="Trebuchet MS"/>
              </a:rPr>
              <a:t>Учащиеся должны уметь: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характеризовать историю развития футбола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соблюдать правила игры в футбол;</a:t>
            </a:r>
            <a:br>
              <a:rPr sz="3200"/>
            </a:br>
            <a:r>
              <a:rPr b="0" i="1" lang="ru-RU" sz="3200" spc="-1" strike="noStrike">
                <a:solidFill>
                  <a:srgbClr val="326064"/>
                </a:solidFill>
                <a:latin typeface="Trebuchet MS"/>
              </a:rPr>
              <a:t> - владеть техникой и тактикой игры.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00:43Z</dcterms:created>
  <dc:creator>Admin</dc:creator>
  <dc:description/>
  <dc:language>en-US</dc:language>
  <cp:lastModifiedBy>Admin</cp:lastModifiedBy>
  <dcterms:modified xsi:type="dcterms:W3CDTF">2011-03-02T19:08:52Z</dcterms:modified>
  <cp:revision>2</cp:revision>
  <dc:subject/>
  <dc:title>Тема: «Футбол»</dc:title>
</cp:coreProperties>
</file>