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FCC-719C-4D5D-8968-8A0B2D3A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1E3-61CC-48AC-88EB-96E4BCCE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3DE-BBF7-4B68-8FF1-006619AC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BBB-AED8-45E0-A2BB-E6AE65DB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A1D4-5846-4A8C-8DCD-5F87F3CF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2813-B80F-47E4-8FF0-2AA47733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5E92-497D-45A3-A450-5195E43C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4394-0B17-484B-9647-DF7FE99F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63E8-088F-44F8-93DE-CC0F3099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F085-0B7C-4997-B359-83812256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050D-FC01-476B-BA22-1F57CC42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C4D-9D8B-4122-ABD8-20111F31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9F09-0C98-4884-B639-9A1CE95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A191-F195-4987-B6BD-D34BB0B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1276-2539-4D69-BE00-05BE6118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A61C-4857-4431-869F-8D7A0595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1E51-B7BC-4DB3-8C02-73F14647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F2D35-58F3-4BC1-8A28-4DE56F4E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7BBA6-0180-4E02-9A32-91811BF0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4AA03-7DC9-45F0-B47C-F4BEBA51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B8672-5180-4D44-8766-6C4E60FC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346DD-5258-4BC0-8CA6-43EE5C6B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6B0-4956-49AF-AA8F-308E9FB2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7F19B-48FE-40E1-93BF-9E6998B9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572DB-4DBF-4C4A-8B93-BA1F0B5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538FC-1C3C-4025-98F4-577208B3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B7939-8DFA-43D3-B410-C38C359D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C280E-3983-41CC-9552-B985D6CC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95910-BF9F-423E-B9D9-AFDD1F28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7BC59-29F6-47A7-BCB6-D25EF134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2DA0-44BC-48C0-83A8-E16E1DF5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2561-2771-4834-BF82-CED9E2A1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346A0-8438-433B-AD4D-EC1283A6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3E5-A6A1-4215-8CDF-29B0848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A859-D182-460A-A789-16CDF4EF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3985-F663-4272-A010-1F598B03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AF24-CB59-4C6C-9925-582C658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CCD6B-33F4-451D-B280-4C8DD127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1625-9E85-4806-A8C0-AA51552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D19A-EBE9-4187-BEA3-C0C61DAB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F2C3F-A6F9-4804-80C6-D61AFB4D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3ACEB-5E3C-4D56-BD41-C413C828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48AF-1D92-4340-B7A8-2A9E0BE0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D76-2D1B-471F-8820-001B3682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EDA-E5DE-418B-93BB-BF5DC5F8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D55-E818-47B0-B999-64ED026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505-BC80-4234-B9EB-8F50518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F0F-A9D0-4894-8247-FB47CAD5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AC27-7459-4B30-B176-0A80DDAB05D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455-79E5-42B3-A35F-C1FE6C63DDE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CE95-8F4D-43E7-A746-09AE5A78DCE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D69C-2502-4455-A3C9-A80FB6B27DD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Тема: </a:t>
            </a:r>
            <a:r>
              <a:rPr b="0" i="1" lang="ru-RU" sz="4000" spc="-1" strike="noStrike">
                <a:solidFill>
                  <a:srgbClr val="326064"/>
                </a:solidFill>
                <a:latin typeface="Trebuchet MS"/>
              </a:rPr>
              <a:t>«Футбол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428760" y="100008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Цель: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ормирование стойких интересов учащихся к занятиям физической культу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428760" y="3143160"/>
            <a:ext cx="871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Задачи:</a:t>
            </a:r>
            <a:r>
              <a:rPr b="0" lang="ru-RU" sz="4000" spc="-1" strike="noStrike">
                <a:solidFill>
                  <a:srgbClr val="326064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1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истории украинского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утб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2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правил игры в мини-фу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3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Тактические действия игры в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на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4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Воспитание олимпийского 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знать:</a:t>
            </a:r>
            <a:br>
              <a:rPr sz="40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историю развития украинского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технику и тактику игры в футбол.</a:t>
            </a:r>
            <a:br>
              <a:rPr sz="3200"/>
            </a:b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уметь: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характеризовать историю развития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соблюдать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владеть техникой и тактикой игры.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00:43Z</dcterms:created>
  <dc:creator>Admin</dc:creator>
  <dc:description/>
  <dc:language>en-US</dc:language>
  <cp:lastModifiedBy>Admin</cp:lastModifiedBy>
  <dcterms:modified xsi:type="dcterms:W3CDTF">2011-03-02T19:08:52Z</dcterms:modified>
  <cp:revision>2</cp:revision>
  <dc:subject/>
  <dc:title>Тема: «Футбол»</dc:title>
</cp:coreProperties>
</file>