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511-16CA-4CDD-920D-C764B9B9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0CD-830E-4B7D-BDF9-B33A3ED0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5F6-7499-4AA3-9BE2-8696A7A3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CE4-8E9D-4AB0-8A1E-CC2F5F28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36C5-AFBA-47C0-85D6-C00F2B93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5DBD-C9A9-44A3-A1B6-05CB177A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9319-31AF-4D7D-8ACE-3CE3F80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89E6-30A0-493C-B527-C3B86819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A13-0FCE-41C9-AA94-17DB272F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F7A2-B03D-417B-BD66-CA3F6CD1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11E6-0C54-42EC-9D18-574E7A9C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5AC-FCB9-40D1-8CB2-21B5F21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E564-5052-46BC-AA28-2590238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103-3A4E-49D6-A186-68ED6FF5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6515-9921-4AFF-85A8-3F66E8D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EA8C-1C61-4D54-92DF-AFE68ADA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23C-6531-4991-925C-0B712334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76934-9D89-4916-8442-CA653539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91242-2012-4644-9698-F6ECE4E5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4A009-B2F8-4F9C-830C-AB68BB9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FCD12-23E4-4BF3-AF2B-B60DBC52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C415-9613-430C-AA85-DBAE3FE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96B-0BF2-4F72-AE8C-8A6E104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88ED1-2AC4-46CB-9CDA-78FE7A9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897DB-3A71-45E7-9E6B-30EEE8F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CD29B-8058-47D9-A61E-7453BCC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EEEBF-82AC-4C74-9A27-92C3CA5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78BA4-C2D5-408A-BDD9-D22C7AB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F6339-F76B-42B2-920D-A4A6622B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B11BA-FCF0-4057-96C1-8E2AF5C8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BC63-43B5-4D1F-94C3-D73C9A02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57C9-5AFC-4694-9DE6-A17FABB6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CEC3-98F6-469B-A251-0333977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2ED-7A23-429D-B363-018080F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3407-A37E-46E9-88D3-FC9F746C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A827-0FCF-4319-8757-BE41831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28BB-41EA-42D3-B1DF-5B05B534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03F8-A4BB-46E7-AAD8-9B0A950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4B71-4136-47A9-BDCA-D54256A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E0EA-DAE6-4591-97B4-9A7E923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78DE-8463-4C86-8C0C-B69C5139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BE86-4D28-4D35-A4F0-B91EA197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EE78-73AB-44E6-B3E1-F13774B6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E82-8EC0-4348-B002-3EE6568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400-49AA-4BB0-AD9F-D486D183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F75-C772-4E4B-9F04-29CDFA5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F06-AB21-4E2A-A558-F9DD4C7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7FA-F44A-4317-B24B-F6D09D9B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D70-D924-475D-A673-A5108CC7403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4274-CE61-4FB5-A2AB-6CAD328584F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FC1-13FB-449C-8841-1502F87EB75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9310-6562-4A74-BA29-0AE90F66355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Тема: </a:t>
            </a: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«Футбол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428760" y="100008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Цель: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ормирование стойких интересов учащихся к занятиям физической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428760" y="3143160"/>
            <a:ext cx="871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Задачи:</a:t>
            </a: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1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истории украинского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утб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2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правил игры в мини-фу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3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Тактические действия игры в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4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Воспитание олимпийского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знать:</a:t>
            </a:r>
            <a:br>
              <a:rPr sz="40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историю развития украинского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технику и тактику игры в футбол.</a:t>
            </a:r>
            <a:br>
              <a:rPr sz="3200"/>
            </a:b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уметь: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характеризовать историю развития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соблюдать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владеть техникой и тактикой игры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0:43Z</dcterms:created>
  <dc:creator>Admin</dc:creator>
  <dc:description/>
  <dc:language>en-US</dc:language>
  <cp:lastModifiedBy>Admin</cp:lastModifiedBy>
  <dcterms:modified xsi:type="dcterms:W3CDTF">2011-03-02T19:08:52Z</dcterms:modified>
  <cp:revision>2</cp:revision>
  <dc:subject/>
  <dc:title>Тема: «Футбол»</dc:title>
</cp:coreProperties>
</file>