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8E5-529C-4B1E-8413-212D78F7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BE2-EDE0-47AB-A38B-8B915697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38E-E362-43E5-B396-9C91DC44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4A2-04CC-43F0-9156-87007BBC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1C3D-E3A8-4833-82F8-F692A1F3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ABA9-015C-4C3A-8E7C-D0B53A7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6957-8796-464F-8FCB-A7050C2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3EE1-0CE8-4E8A-8DE5-EA484A03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E4E4-A525-45B6-9661-D6FE806F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4B57-8E9E-4300-B292-C0798D55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E35-1C0B-43F9-A443-C314A8F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2F3-DB3C-43A8-A08E-57ED18D4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7C1E-97B9-4904-A18D-B5D001A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DD83-1B95-469E-8E69-3A17E20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042A-4F34-44E8-AF38-628C884F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B641-7F65-4EE0-AD0E-7CAF7FBB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A42A-0D3C-4A4F-98EA-A6EA28ED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4B94-818C-47E1-9DAC-8CAB8155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4F79-52B9-4FAD-89BE-F526FAC0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0D58-1546-429E-8B7E-8A576506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2D6D-9B68-43DF-B4D2-12ABAD0F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8F7B-EC6F-474E-BC0A-9D6D2CB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2EA-BFA4-4824-A5DC-0BB207C6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C558-1222-4B11-A33D-F5A60FA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B3BC-FE49-498C-BED4-06B3C7C1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6510-36B0-4270-9868-B28248F3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36AF-3D37-45DD-94CB-E8955761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C606-D832-4358-AF8F-265C6B1B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7A85-52A4-4C21-B114-B110C19F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4E13-2E0F-415D-A141-26E61413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38EE-8463-4BA4-B8FB-3769BE76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3470-2A5A-4D2C-8BC1-E3F466B7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D5C02-65D7-4B9C-8229-379786ED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DBA-0362-44EE-881A-AF92F564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C68D-E829-473B-96F3-0A9D9966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5C4F-C866-49F7-886C-34545D32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3FA5-9FE2-4BF0-8EEE-BA6C2AE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383E-21E1-4C70-AA40-1A41282A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0F7F-0889-4B60-8354-9D2216DE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DED29-BAB4-4B46-B903-8BAC0E4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BA25-EF44-4397-B36D-177A4B5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C005-098A-45D7-8D8F-A59B5C4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0A3F-6205-402A-A59D-12AE9DD3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F719-92DB-4E97-B7B1-77E20739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7A1-B6F3-4743-99E9-55246F4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2F211-083E-4E50-B227-EF836FB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8AC9-0A75-4BE8-BF4D-2D0E7A87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8057-C800-46C2-A905-AEFFA682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3145-0AA2-4A57-9602-F9DA2A22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F9D3-0F9E-48B6-B11F-8ADE35A2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D4E2-3D8E-4537-9E64-948AC4A9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041B0-4187-4E79-95EB-BEA96175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185C-AE53-4444-933A-11C72BC5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BE5CD-F895-4E53-9636-F95C2AAE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A688-1353-4F0E-A9F3-BCD3D5C7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C65-B9FC-4FAD-B320-23D4AD61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ED785-5288-4E09-8E2D-C2F45887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472-E79F-4EBE-9E14-79D5385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13B-78FA-4307-9E3C-4B4498F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2D6-7353-40AD-ADD1-306DD5F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7A03-09AF-47BB-95C4-EC4538DE0C9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767-5134-4F35-9AE4-E3AE1EB388E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58B9-2652-48FC-9123-B1AAE2B17B3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7C53-B764-4534-A5B6-C1492B472C6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BBE3-0651-4EDE-A979-2ED3426CC66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нахождения игрока «вне 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ы» нарушением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а рассмотрение судь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00040" y="3714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ое наказание должен назначить 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рбитр, за удар рукой сопер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2000160" y="478620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предуп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штрафной уда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свободный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Матч закончился. Исполнение 11 метрового удара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оизошло в дополнительное время. Может ли судья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ать гол?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57168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 какого времени начинают действовать прав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удь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857240" y="19285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Гол не засчитыва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гол засчит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одзаголовок 2"/>
          <p:cNvSpPr/>
          <p:nvPr/>
        </p:nvSpPr>
        <p:spPr>
          <a:xfrm>
            <a:off x="1857240" y="4857840"/>
            <a:ext cx="60724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с момента выхода на площад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с момента проведения жеребье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ник прервал передачу мяча рукой. Какое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ешение должен принять арбитр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считается ли гол, который забит непосредственно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сле удара от ворот, в ворота противни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28800" y="1714320"/>
            <a:ext cx="75722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защитник получает желтую карточку,   назначается штрафной удар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защитник получает предупреждение и назначается вольный уда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2000160" y="507204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зависимости от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7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какое время игры может проводиться замен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о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500040" y="39290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8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в момент выбрасывания мяча из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ута наступать на боковую линию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когда игра остановле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когда команда владеет мяч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любо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одзаголовок 2"/>
          <p:cNvSpPr/>
          <p:nvPr/>
        </p:nvSpPr>
        <p:spPr>
          <a:xfrm>
            <a:off x="2071800" y="5214960"/>
            <a:ext cx="550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9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игроку, который выполнил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ыбрасывание мяча из-за боковой линии, первому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отрагиваться до него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0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ширина линий футбольного поля частью размеров площадк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857240" y="2000160"/>
            <a:ext cx="5500800" cy="1214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2071800" y="5143680"/>
            <a:ext cx="5500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и помощи какого предмета судья проводит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еребьевку перед началом игры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168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ие размеры футбольных ворот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монет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жето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фиш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2071800" y="5143680"/>
            <a:ext cx="6143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линной 2м., шириной 4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Длинной 2,5 м., шириной 5,5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Длинной 2,44м., шириной 7,32 м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7:19:02Z</dcterms:created>
  <dc:creator>Admin</dc:creator>
  <dc:description/>
  <dc:language>en-US</dc:language>
  <cp:lastModifiedBy>Admin</cp:lastModifiedBy>
  <dcterms:modified xsi:type="dcterms:W3CDTF">2011-03-02T19:22:43Z</dcterms:modified>
  <cp:revision>7</cp:revision>
  <dc:subject/>
  <dc:title>1.  Является ли нахождения  игрока «вне  игры» нарушением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6000000000001024140</vt:lpwstr>
  </property>
</Properties>
</file>