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2928-7B93-4BC9-A9AA-1AEF42F9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1749-94CA-449F-80B9-E43DD347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E51D-5EA5-44B7-87B2-4DD9BA60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B0D-BBAE-44C2-8EE4-348C345C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6671-F022-41AA-9351-4C40AE08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8844-7C96-4E26-A67C-C5A8DD99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2007-12E9-4A21-BF09-3D8EE942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0D3E-13A8-42A9-A191-EC711CCE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3AF8-0225-4094-AB15-2A9F1C71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D675-2295-4A43-851A-92F5F3DA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4F75-EA49-4188-820D-B09ABA7F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4EE-7E65-4DDD-A41C-C95E7D99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08A1-991C-4A43-A3CA-AB741429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AA64-ED97-4EC0-A410-070AE522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2F39-06AA-478B-94D0-FF755A4F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7F1B-34D3-4E54-90FB-D120CB6B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C6B2-3050-4E13-B04E-37C7676D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23230-E9EF-478E-AB2D-316219ED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E4C98-84A3-473B-950B-355D92B9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FFDCC-14C4-4879-BD38-8619439C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A921-1031-4F5F-B170-2118F3D8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73B2D-87AD-408A-B18C-B897C0B1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3A16-522A-4271-AC2A-E20A07EB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262A-9BC5-49EE-A29B-03229CCF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6DD50-D884-4941-9325-0E3F13B2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47D9D-06C3-4B42-8BDF-B293E996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EDBC2-F56F-467F-A8F8-62092516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BA1A6-A57F-4A50-A443-6E84F7C9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3E4E3-F4ED-4F4A-986B-C27C9749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32BD9-4481-43CB-86FF-9CB978AC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2DF16-4F0E-48FC-978B-CB775E06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CF79D-4486-44C4-AADB-C083E40A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FEFF6-D749-4026-8E0B-C096A331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ED8-7FB0-48BC-98E2-96BE7D16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77D81-8B59-4622-BD28-17312C81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7FFD6-635D-49BD-B0D2-F0589AA5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25AEA-D151-40BC-BABA-3EE84EE2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22984-B706-4657-B0D8-7D0A83E2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AE4C0-4110-4CDE-B1D6-D7901A03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1A899-B799-4DF0-8FF2-D6CCEF32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3CB55-8B51-49B3-9BD2-336D8BB7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0C1AF-23C5-4E0C-9289-44832097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94009-3211-4DA3-A13F-FDB76F4B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D9B99-1F4B-48A0-BA53-E0214C8F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04A-F966-4267-92B9-75ACE2DE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875F8-CDBA-4BF8-A4EE-0294B8C2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C4E9E-A955-4810-841C-7955C59C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92230-89D2-44E5-A1A6-47655D25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349DF-0304-462F-95E3-2381CD49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8845F-930A-4511-B07D-EA325AE0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BA5CF-42D5-4333-A21A-1180D05B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B6930-A86E-4964-A6EB-05360638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8DA43-7703-49A3-90DE-948BFDA9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D3845-98B7-4F0D-A434-778EE712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0ECDD-5F1D-4E1D-AA9F-E54D73E2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02D-92D9-48CD-A240-A52879BA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DCC35-D566-4441-91B0-9ABBF6AC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54C-2669-4797-B412-759D0204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F7D-A326-429D-BEFD-9E971B22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4CA7-5D53-4CB6-B224-0B8B922A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629F-3FEF-420F-B575-9F52FEB58D5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FFAE-1647-4440-A981-FE3787F0245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E2B0-41E3-48D4-AFB3-2451E1AFB05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3942-F7E2-4AC6-8749-B51F2B70A3A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44E8-7484-4F9A-9996-71394EB9D03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Является ли нахождения игрока «вне 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игры» нарушением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857240" y="17143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а рассмотрение судь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500040" y="371484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2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акое наказание должен назначить 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арбитр, за удар рукой соперни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одзаголовок 2"/>
          <p:cNvSpPr/>
          <p:nvPr/>
        </p:nvSpPr>
        <p:spPr>
          <a:xfrm>
            <a:off x="2000160" y="4786200"/>
            <a:ext cx="5500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предупреж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штрафной уда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свободный уд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3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Матч закончился. Исполнение 11 метрового удара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роизошло в дополнительное время. Может ли судья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защитать гол?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Заголовок 1"/>
          <p:cNvSpPr/>
          <p:nvPr/>
        </p:nvSpPr>
        <p:spPr>
          <a:xfrm>
            <a:off x="571680" y="378612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4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 какого времени начинают действовать права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удьи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857240" y="19285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Гол не засчитываетс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гол засчита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Подзаголовок 2"/>
          <p:cNvSpPr/>
          <p:nvPr/>
        </p:nvSpPr>
        <p:spPr>
          <a:xfrm>
            <a:off x="1857240" y="4857840"/>
            <a:ext cx="60724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с момента выхода на площад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с момента проведения жеребьев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5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Защитник прервал передачу мяча рукой. Какое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ешение должен принять арбитр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500040" y="378612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6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Засчитается ли гол, который забит непосредственно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осле удара от ворот, в ворота противника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928800" y="1714320"/>
            <a:ext cx="7572240" cy="19285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защитник получает желтую карточку,   назначается штрафной удар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защитник получает предупреждение и назначается вольный уда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Подзаголовок 2"/>
          <p:cNvSpPr/>
          <p:nvPr/>
        </p:nvSpPr>
        <p:spPr>
          <a:xfrm>
            <a:off x="2000160" y="5072040"/>
            <a:ext cx="5500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в зависимости от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7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 какое время игры может проводиться замена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игрока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Заголовок 1"/>
          <p:cNvSpPr/>
          <p:nvPr/>
        </p:nvSpPr>
        <p:spPr>
          <a:xfrm>
            <a:off x="500040" y="392904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8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решается ли в момент выбрасывания мяча из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аута наступать на боковую линию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857240" y="17143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когда игра остановле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когда команда владеет мяч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в любое врем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Подзаголовок 2"/>
          <p:cNvSpPr/>
          <p:nvPr/>
        </p:nvSpPr>
        <p:spPr>
          <a:xfrm>
            <a:off x="2071800" y="5214960"/>
            <a:ext cx="550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9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решается ли игроку, который выполнил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ыбрасывание мяча из-за боковой линии, первому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дотрагиваться до него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Заголовок 1"/>
          <p:cNvSpPr/>
          <p:nvPr/>
        </p:nvSpPr>
        <p:spPr>
          <a:xfrm>
            <a:off x="500040" y="385776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0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Является ли ширина линий футбольного поля частью размеров площадки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857240" y="2000160"/>
            <a:ext cx="5500800" cy="12146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Подзаголовок 2"/>
          <p:cNvSpPr/>
          <p:nvPr/>
        </p:nvSpPr>
        <p:spPr>
          <a:xfrm>
            <a:off x="2071800" y="5143680"/>
            <a:ext cx="5500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1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ри помощи какого предмета судья проводит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жеребьевку перед началом игры?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Заголовок 1"/>
          <p:cNvSpPr/>
          <p:nvPr/>
        </p:nvSpPr>
        <p:spPr>
          <a:xfrm>
            <a:off x="571680" y="385776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2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акие размеры футбольных ворот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57240" y="17143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монет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жетон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фиш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Подзаголовок 2"/>
          <p:cNvSpPr/>
          <p:nvPr/>
        </p:nvSpPr>
        <p:spPr>
          <a:xfrm>
            <a:off x="2071800" y="5143680"/>
            <a:ext cx="61434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линной 2м., шириной 4 м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Длинной 2,5 м., шириной 5,5 м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Длинной 2,44м., шириной 7,32 м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7:19:02Z</dcterms:created>
  <dc:creator>Admin</dc:creator>
  <dc:description/>
  <dc:language>en-US</dc:language>
  <cp:lastModifiedBy>Admin</cp:lastModifiedBy>
  <dcterms:modified xsi:type="dcterms:W3CDTF">2011-03-02T19:22:43Z</dcterms:modified>
  <cp:revision>7</cp:revision>
  <dc:subject/>
  <dc:title>1.  Является ли нахождения  игрока «вне  игры» нарушением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6000000000001024140</vt:lpwstr>
  </property>
</Properties>
</file>