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F237-67E1-45D7-B133-015C9DB6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1FD-83C2-451E-BBB3-A7FD7631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587F-794B-4199-9B39-5DECD951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01E-D0A9-4EBB-8E39-03E576FE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791E-B5DC-41D9-B151-3CDDFE85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B853-8C9A-40DD-9D04-50ABD98F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0A77-83BF-4FA6-AD93-9FBE89DE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C219-BDF2-497E-80DB-621908F6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24BC-CF76-4862-8CBC-C1990475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B2CF-22D5-4A2D-A5EE-AA8C5A0B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19E4-43C9-45E5-8924-06EF5105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CF0-6BA1-42C6-A534-375A5438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4FD6-ABE0-4E47-BC2A-D9B41984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635E-DCCC-40CB-A71D-621EBDC0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71D3-D08B-4621-ACDA-839EE4CC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5ADD-94F7-40AC-BCD5-944D2E7D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D646-AAD9-427D-83BE-46B691B1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794E3-A889-45F0-B2DF-7E079B86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2BA1B-E9DF-49D6-AB51-3AC1DC92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32AA8-2C04-41F1-B2D7-FC622CE9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D1EFB-A796-452A-A5C8-BF934A01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F6F81-30CF-49BD-92D6-09C8EC76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96A8-CCF4-4D93-AB20-8C591527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24431-292A-4186-9B7F-CA5F1120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1D35F-2191-4575-B241-E9F02B9D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EC49D-E006-4789-B5EB-B213B8D1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279D3-66E6-4E32-9E48-4E451D3C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ECB58-65F9-45A4-AD46-9295B035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8723D-BF6B-4643-8923-230B8F9A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473BB-2267-4807-A5C4-6FAB5C48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82C7A-83A5-465F-9829-C469450A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B1D56-7F21-4DDC-A826-89FCA50B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39B22-E0DC-4B96-B299-48F159AC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8DF-4216-4456-8A81-36AFFEF5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80B27-E4D2-43FA-89B2-E3EAD8F3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1332A-C0D0-4EFC-8D38-1A1A1829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D3724-8A70-4CE4-A257-69678C50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6F69F-04C7-44CD-B78F-522B3FB7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29284-0C34-4A78-963D-866A425E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A6496-CC74-4E80-831A-D6B598FF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40DEC-FA9C-432B-A93C-E3C30D1B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E0F98-F0CC-4821-BA55-DAB0F72E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62995-AFC5-4DF9-8365-FCD5F366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685AE-1304-4B1D-A703-3EBA6824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990-5F39-4B92-9AF8-834BEC48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93DBD-2DCE-4B9D-BE01-A3637D8E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69975-071A-49B8-A0A8-6A157F1E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06DC2-B7F5-4665-8D67-9B496D8F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4ED43-480B-4925-B303-80B33ECB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1C0B6-4702-401D-8D3B-9B3633FA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33D27-BE97-44F9-AFBC-263DA5AE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6A959-AAFD-49AD-B76E-0DC2A80A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6F52D-1CFC-432C-9AD2-60A7F062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9D950-7750-42A5-82B3-7B6BBA47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D6BF0-B836-4C72-A5A9-55D28762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2239-6BFE-4126-A1F6-E899C595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866E7-8362-4E81-A0C8-218295CF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4D0-B7D1-4EA1-BA01-9E34F068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FC1F-FD37-400F-AC0D-4A47C949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C3BC-2BAA-4238-A156-5AF2D557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A0DD-FA9B-49B7-A82E-443BA3715C1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16BC-52FE-4093-9D2D-85290B9206F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4CA0-274C-4228-929F-5A3A2CF7BFB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F45E-D50C-4690-ABDE-8242B3D66E8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43CF-71E3-40C7-9CC1-8192070837A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Является ли нахождения игрока «вне 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игры» нарушением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857240" y="17143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а рассмотрение судь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500040" y="371484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2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акое наказание должен назначить 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арбитр, за удар рукой соперни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одзаголовок 2"/>
          <p:cNvSpPr/>
          <p:nvPr/>
        </p:nvSpPr>
        <p:spPr>
          <a:xfrm>
            <a:off x="2000160" y="4786200"/>
            <a:ext cx="5500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предупреж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штрафной уда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свободный уд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3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Матч закончился. Исполнение 11 метрового удара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роизошло в дополнительное время. Может ли судья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защитать гол?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Заголовок 1"/>
          <p:cNvSpPr/>
          <p:nvPr/>
        </p:nvSpPr>
        <p:spPr>
          <a:xfrm>
            <a:off x="571680" y="378612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4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 какого времени начинают действовать права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удьи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857240" y="19285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Гол не засчитываетс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гол засчита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Подзаголовок 2"/>
          <p:cNvSpPr/>
          <p:nvPr/>
        </p:nvSpPr>
        <p:spPr>
          <a:xfrm>
            <a:off x="1857240" y="4857840"/>
            <a:ext cx="60724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с момента выхода на площад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с момента проведения жеребьев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5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Защитник прервал передачу мяча рукой. Какое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ешение должен принять арбитр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500040" y="378612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6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Засчитается ли гол, который забит непосредственно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осле удара от ворот, в ворота противника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928800" y="1714320"/>
            <a:ext cx="7572240" cy="19285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защитник получает желтую карточку,   назначается штрафной удар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защитник получает предупреждение и назначается вольный уда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Подзаголовок 2"/>
          <p:cNvSpPr/>
          <p:nvPr/>
        </p:nvSpPr>
        <p:spPr>
          <a:xfrm>
            <a:off x="2000160" y="5072040"/>
            <a:ext cx="5500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в зависимости от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7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 какое время игры может проводиться замена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игрока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Заголовок 1"/>
          <p:cNvSpPr/>
          <p:nvPr/>
        </p:nvSpPr>
        <p:spPr>
          <a:xfrm>
            <a:off x="500040" y="392904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8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решается ли в момент выбрасывания мяча из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аута наступать на боковую линию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857240" y="17143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когда игра остановле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когда команда владеет мяч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в любое врем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Подзаголовок 2"/>
          <p:cNvSpPr/>
          <p:nvPr/>
        </p:nvSpPr>
        <p:spPr>
          <a:xfrm>
            <a:off x="2071800" y="5214960"/>
            <a:ext cx="550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9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решается ли игроку, который выполнил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ыбрасывание мяча из-за боковой линии, первому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дотрагиваться до него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Заголовок 1"/>
          <p:cNvSpPr/>
          <p:nvPr/>
        </p:nvSpPr>
        <p:spPr>
          <a:xfrm>
            <a:off x="500040" y="385776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0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Является ли ширина линий футбольного поля частью размеров площадки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857240" y="2000160"/>
            <a:ext cx="5500800" cy="12146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Подзаголовок 2"/>
          <p:cNvSpPr/>
          <p:nvPr/>
        </p:nvSpPr>
        <p:spPr>
          <a:xfrm>
            <a:off x="2071800" y="5143680"/>
            <a:ext cx="5500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1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ри помощи какого предмета судья проводит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жеребьевку перед началом игры?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Заголовок 1"/>
          <p:cNvSpPr/>
          <p:nvPr/>
        </p:nvSpPr>
        <p:spPr>
          <a:xfrm>
            <a:off x="571680" y="385776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2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акие размеры футбольных ворот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57240" y="17143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монет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жетон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фиш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Подзаголовок 2"/>
          <p:cNvSpPr/>
          <p:nvPr/>
        </p:nvSpPr>
        <p:spPr>
          <a:xfrm>
            <a:off x="2071800" y="5143680"/>
            <a:ext cx="61434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линной 2м., шириной 4 м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Длинной 2,5 м., шириной 5,5 м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Длинной 2,44м., шириной 7,32 м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7:19:02Z</dcterms:created>
  <dc:creator>Admin</dc:creator>
  <dc:description/>
  <dc:language>en-US</dc:language>
  <cp:lastModifiedBy>Admin</cp:lastModifiedBy>
  <dcterms:modified xsi:type="dcterms:W3CDTF">2011-03-02T19:22:43Z</dcterms:modified>
  <cp:revision>7</cp:revision>
  <dc:subject/>
  <dc:title>1.  Является ли нахождения  игрока «вне  игры» нарушением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6000000000001024140</vt:lpwstr>
  </property>
</Properties>
</file>