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3104-A4F5-44E4-9B50-107845AF4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FDEA-B17A-48CF-AC2D-1E8974A08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0330-2BFE-4DD4-AADC-64CF38AA1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023B-88A5-43B1-BE25-267CA7680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3EF40-21AD-43B2-B893-3CE72B592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5915E-1B04-4243-9526-DEEA28AAE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A9CE8-324C-496A-83C7-2CE603F61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BFBE3-C8C0-42D2-A7BA-EDCB5AA5E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F0C58-BB96-4002-8C14-FEAC7BBD9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9FF66-0459-45A4-9391-B6554CCC6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767B7-2F4A-4943-A6D6-080EDAB6D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C26B-C6D4-454C-9790-01552475E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9771A-2014-4058-92BB-8A7B22E98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6DF91-1A54-4736-8819-CE33AC903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0DFAC-5B12-4C71-B9ED-4C63BD05A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A22AF-39FD-46C4-8B31-FFFD3E98E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8A73A-0E01-41B0-96EB-506C002B4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79912-4671-4D37-B0EC-661E98B80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0E522-2B65-44FB-A2C2-2BBBAD66F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52575-20AF-4103-9675-4D548FCE5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A633B-E6C4-4626-A0C4-801BDC016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D2D2A-AF75-4746-84CE-F50F46039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76A2-EFE7-42CA-9CBE-CD1F8225A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983B9-7364-4923-A6D3-86FF4FB9B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5B242-AAD0-49D7-A8B4-F5D80D00C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3A18F-19B6-4124-ABFB-9B58E9C73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80FB2-56ED-4F26-A797-2FF39C898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9D221-7813-47F2-AA76-09C8194DA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6BDE0-49F2-43C8-B47D-5FD1CB7E2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D6723-31D1-42E3-81B8-FB1623B4F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036CA-7E16-4152-A962-554DEBBB1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7241C-2360-4C3F-B3DE-B5EBBA64B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C5EDB-4055-42B4-81F5-337C016FD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289B-D184-49D5-AA47-085FCF075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C9446-FCB8-4F81-87CF-662A0454D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8950A-AC36-4DF7-865D-CB9F5F081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4ADD7-89D1-4FCD-8333-B10AFFCF5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ED958-778F-4BA3-9D99-20D4A58A2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A30D1-76EF-40CC-8DFE-FB1E682A8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041DB-A919-40A4-9F8C-0891EA829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CD3871-E58B-4B71-A159-61A58648C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67BD3-CB5C-46BF-9418-876BFF0B4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87BB2-7D0A-49D2-9DB2-59A00C391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D626A9-DC33-4AE6-88EA-0D6617988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A06C-15DF-419C-9D29-AA2035CB1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34C3C5-2127-42A1-9675-25878CF28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82E4E-C215-4AB0-B54B-82F3398DC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F57FC9-BCF6-4EB9-A7FE-512E10E15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B42B92-FB1D-4220-A4F7-3D4BC5177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4D54A-F4B2-4FBB-9403-72D38C59B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8278BB-E626-4E8B-A57E-EA894FCB9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1FDD90-8CBA-4B5D-B8C0-3D1CFBC16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9189D2-AAD9-4366-8668-444C20122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547933-4A18-465A-8DB4-728063B5A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93AD1E-0C51-4889-B057-F3434AACC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23C8-7176-4708-9F48-B326C0836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B14D8A-5DF4-4C8A-A9A3-76902ED18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4D3D-0FA5-4D19-A032-E221F7EC3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8124-814C-4AD6-ABA2-C17EA7681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03DB-9538-472F-AA3A-521A2B9B3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FBFCA-6ABC-4F3F-A761-6985E98164F3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FD9B4-5435-4EFF-B477-65839B30AFB0}" type="slidenum">
              <a:rPr b="0" lang="en-US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F4106-72B3-4D32-8B4A-46310567185F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95358-E8AC-4853-AABC-675628527959}" type="slidenum">
              <a:rPr b="0" lang="en-US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ED766-469D-46D9-B7BB-5B44655E1883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gimn_shakhter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1" descr="761592_70298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Рисунок 1" descr="shahter_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Рисунок 1" descr="4d3982f22c_204349.jpg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Рисунок 1" descr="images.jpg"/>
          <p:cNvPicPr/>
          <p:nvPr/>
        </p:nvPicPr>
        <p:blipFill>
          <a:blip r:embed="rId1"/>
          <a:stretch/>
        </p:blipFill>
        <p:spPr>
          <a:xfrm>
            <a:off x="0" y="0"/>
            <a:ext cx="915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Рисунок 1" descr="16392__max_gal.jpg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Рисунок 1" descr="16388__max_ga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Рисунок 1" descr="8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Рисунок 1" descr="538c31c672072ad4be35c990c1e9b3d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Рисунок 1" descr="38.jpg"/>
          <p:cNvPicPr/>
          <p:nvPr/>
        </p:nvPicPr>
        <p:blipFill>
          <a:blip r:embed="rId1"/>
          <a:stretch/>
        </p:blipFill>
        <p:spPr>
          <a:xfrm>
            <a:off x="0" y="0"/>
            <a:ext cx="9202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Рисунок 3" descr="350x250_4d56874acf93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Рисунок 1" descr="2010_08_18_14_14_49.jpg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Рисунок 1" descr="images (1).jpg"/>
          <p:cNvPicPr/>
          <p:nvPr/>
        </p:nvPicPr>
        <p:blipFill>
          <a:blip r:embed="rId1"/>
          <a:stretch/>
        </p:blipFill>
        <p:spPr>
          <a:xfrm>
            <a:off x="0" y="0"/>
            <a:ext cx="9028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Рисунок 1" descr="95801ca83d5d8bed019b767d953534c9.jpg"/>
          <p:cNvPicPr/>
          <p:nvPr/>
        </p:nvPicPr>
        <p:blipFill>
          <a:blip r:embed="rId1"/>
          <a:stretch/>
        </p:blipFill>
        <p:spPr>
          <a:xfrm>
            <a:off x="0" y="0"/>
            <a:ext cx="9123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Рисунок 1" descr="2___1055_446xFT.jpg"/>
          <p:cNvPicPr/>
          <p:nvPr/>
        </p:nvPicPr>
        <p:blipFill>
          <a:blip r:embed="rId1"/>
          <a:stretch/>
        </p:blipFill>
        <p:spPr>
          <a:xfrm>
            <a:off x="826920" y="0"/>
            <a:ext cx="6516720" cy="68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Рисунок 2" descr="2005_C_2.jpg"/>
          <p:cNvPicPr/>
          <p:nvPr/>
        </p:nvPicPr>
        <p:blipFill>
          <a:blip r:embed="rId1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Рисунок 1" descr="shahter.jpg"/>
          <p:cNvPicPr/>
          <p:nvPr/>
        </p:nvPicPr>
        <p:blipFill>
          <a:blip r:embed="rId1"/>
          <a:stretch/>
        </p:blipFill>
        <p:spPr>
          <a:xfrm>
            <a:off x="0" y="0"/>
            <a:ext cx="911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Рисунок 1" descr="113939_shahter-chempio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1T16:39:19Z</dcterms:created>
  <dc:creator>Admin</dc:creator>
  <dc:description/>
  <dc:language>en-US</dc:language>
  <cp:lastModifiedBy>школа</cp:lastModifiedBy>
  <dcterms:modified xsi:type="dcterms:W3CDTF">2011-11-24T10:25:23Z</dcterms:modified>
  <cp:revision>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e13000000000001024140</vt:lpwstr>
  </property>
</Properties>
</file>