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78E3-BB6B-4F69-A18D-6B4465F5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8267-FFA0-4A2F-8105-C662C446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161D-F217-48DD-B1CF-09104BADD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132F-9A30-4202-ABEF-97C17428B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8261-6AD7-45A8-ADAE-FECC1B46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883F-6F41-4B60-96E7-C51E5D88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5FAF-2316-47FA-894C-BCE412EE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5EF0-ED23-4F08-B018-3E3422BA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823D-E4BB-4669-8444-62C8A830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1E33-5349-4420-AD83-7D0C0F03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D531-466A-4811-AC3E-C732E446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C0F9-21FE-49AC-BE5E-B24E706F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07A2-6849-485A-BCCA-9AAC5F10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DA3E-8330-4E50-B0C2-4BB31540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1AA8-E723-43A2-BB83-67ED269A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AFEF-1338-4F1B-B011-980E8C6F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FD69-4413-47CA-B730-567B08BA0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95166-2771-45FF-B836-045D786E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0C4D7-DB1C-412C-9A03-04034644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B757B-8A0C-4931-A6AD-EDFA3864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34C5B-4113-4845-8D92-95F1C2C8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A6615-2518-494E-A3C8-0E458918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2795-ACA0-4F5A-A9B3-44D5D977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3E99B-297D-437A-8663-FBC0CB4C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D7F49-1667-4592-A0D5-AFF535BF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AF0DF-DC68-4B92-B481-8B58A006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87FDB-FA26-48EF-B67F-8699AAB1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2E6B6-461B-487C-A9A1-C274715D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FB34A-5F20-4B85-81FE-537AD23C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C6658-D009-47AD-8DE4-2CD7D53DC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CD079-C8FD-4697-9806-AEE73EC58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68DCC-C151-4505-9174-A4EB87F6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AC937-E021-4DF4-B4F2-2B780CFB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4436-CB5B-4266-AC68-1ED2B61C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50766-B2E8-4104-A604-37AB22FC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D3915-9C26-4D0A-84A6-F0E3EB95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09B04-CE65-412C-94F6-2412E10D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FC232-1C26-48BC-B9DB-F1EA2A9C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4F557-A127-480F-869B-6D57E26D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278B8-284C-43DC-BE6B-16518FDE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312DC-F7FB-435D-9D97-AA1C056A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B69FA-428D-44ED-BE14-F0599296F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88C10-0654-4C65-BAF2-2CE31FC6D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CE507-BB80-4A65-BED4-F53F05AB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7A77-4BEA-4CF9-9FB1-5E35B4E3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93BAA-11F2-4ED4-8AC6-14649C0B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D9D9E-C611-49E5-A6DB-F3F8E204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F87F4-F360-4C51-A9DD-68778FE5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301BA-330C-4839-BEDC-2867953B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2369E-46A2-4977-8F06-DD33F583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01CF0-47AE-4FC6-946E-C73F04EE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75CC0-1B00-4367-B7AF-C292FB61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B2416-F1E9-4C91-9F67-D4D3DC2C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C7D73-84FD-442E-8D43-2A26737D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90C45-4134-428F-A7CA-38099FC2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0B90-70AF-4447-B48D-4346DC72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B4041-C1B5-4E08-824F-BF671092E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3A3C-567F-491C-A6A6-7974571B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5B62-E970-4B1C-AA56-465F81CB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7C33-4865-4313-8E7F-05C378DB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B4B8-6CBA-419E-91B3-05529C4BBA0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DC07-D56A-410B-BEFA-67C19D7E393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3172-A2D7-4836-BBDE-CD843E3251C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851D-DA71-439A-8137-63BCBC6DD6A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40B9-B204-45C4-BE06-648E0819472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1.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Является ли нахождения игрока «вне 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игры» нарушением?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857240" y="1714320"/>
            <a:ext cx="5500800" cy="1214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Д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на рассмотрение судь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в) Н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Заголовок 1"/>
          <p:cNvSpPr/>
          <p:nvPr/>
        </p:nvSpPr>
        <p:spPr>
          <a:xfrm>
            <a:off x="500040" y="371484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2.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3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Какое наказание должен назначить </a:t>
            </a:r>
            <a:r>
              <a:rPr b="1" lang="ru-RU" sz="3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3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арбитр, за удар рукой соперник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одзаголовок 2"/>
          <p:cNvSpPr/>
          <p:nvPr/>
        </p:nvSpPr>
        <p:spPr>
          <a:xfrm>
            <a:off x="2000160" y="4786200"/>
            <a:ext cx="5500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предупрежд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штрафной уда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в) свободный уд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3.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Матч закончился. Исполнение 11 метрового удара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произошло в дополнительное время. Может ли судья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защитать гол?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Заголовок 1"/>
          <p:cNvSpPr/>
          <p:nvPr/>
        </p:nvSpPr>
        <p:spPr>
          <a:xfrm>
            <a:off x="571680" y="378612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4.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С какого времени начинают действовать права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судьи</a:t>
            </a:r>
            <a:r>
              <a:rPr b="1" lang="ru-RU" sz="3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857240" y="1928520"/>
            <a:ext cx="5500800" cy="1214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Гол не засчитываетс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гол засчита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Подзаголовок 2"/>
          <p:cNvSpPr/>
          <p:nvPr/>
        </p:nvSpPr>
        <p:spPr>
          <a:xfrm>
            <a:off x="1857240" y="4857840"/>
            <a:ext cx="60724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с момента выхода на площад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с момента проведения жеребьев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5.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Защитник прервал передачу мяча рукой. Какое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ешение должен принять арбитр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Заголовок 1"/>
          <p:cNvSpPr/>
          <p:nvPr/>
        </p:nvSpPr>
        <p:spPr>
          <a:xfrm>
            <a:off x="500040" y="378612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6.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Засчитается ли гол, который забит непосредственно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после удара от ворот, в ворота противника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928800" y="1714320"/>
            <a:ext cx="7572240" cy="19285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защитник получает желтую карточку,   назначается штрафной удар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защитник получает предупреждение и назначается вольный уда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Подзаголовок 2"/>
          <p:cNvSpPr/>
          <p:nvPr/>
        </p:nvSpPr>
        <p:spPr>
          <a:xfrm>
            <a:off x="2000160" y="5072040"/>
            <a:ext cx="5500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Н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в) в зависимости от сит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7.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 какое время игры может проводиться замена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игрока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Заголовок 1"/>
          <p:cNvSpPr/>
          <p:nvPr/>
        </p:nvSpPr>
        <p:spPr>
          <a:xfrm>
            <a:off x="500040" y="392904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8.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азрешается ли в момент выбрасывания мяча из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аута наступать на боковую линию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857240" y="1714320"/>
            <a:ext cx="5500800" cy="1214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когда игра остановлен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когда команда владеет мячом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в) в любое врем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Подзаголовок 2"/>
          <p:cNvSpPr/>
          <p:nvPr/>
        </p:nvSpPr>
        <p:spPr>
          <a:xfrm>
            <a:off x="2071800" y="5214960"/>
            <a:ext cx="5500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9.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азрешается ли игроку, который выполнил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ыбрасывание мяча из-за боковой линии, первому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дотрагиваться до него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Заголовок 1"/>
          <p:cNvSpPr/>
          <p:nvPr/>
        </p:nvSpPr>
        <p:spPr>
          <a:xfrm>
            <a:off x="500040" y="385776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10.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Является ли ширина линий футбольного поля частью размеров площадки</a:t>
            </a:r>
            <a:r>
              <a:rPr b="1" lang="ru-RU" sz="3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857240" y="2000160"/>
            <a:ext cx="5500800" cy="121464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Д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Н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Подзаголовок 2"/>
          <p:cNvSpPr/>
          <p:nvPr/>
        </p:nvSpPr>
        <p:spPr>
          <a:xfrm>
            <a:off x="2071800" y="5143680"/>
            <a:ext cx="55004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11.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При помощи какого предмета судья проводит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жеребьевку перед началом игры?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Заголовок 1"/>
          <p:cNvSpPr/>
          <p:nvPr/>
        </p:nvSpPr>
        <p:spPr>
          <a:xfrm>
            <a:off x="571680" y="385776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12.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Какие размеры футбольных ворот</a:t>
            </a:r>
            <a:r>
              <a:rPr b="1" lang="ru-RU" sz="3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857240" y="1714320"/>
            <a:ext cx="5500800" cy="1214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монетк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жетон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в) фиш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Подзаголовок 2"/>
          <p:cNvSpPr/>
          <p:nvPr/>
        </p:nvSpPr>
        <p:spPr>
          <a:xfrm>
            <a:off x="2071800" y="5143680"/>
            <a:ext cx="614340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Длинной 2м., шириной 4 м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Длинной 2,5 м., шириной 5,5 м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в) Длинной 2,44м., шириной 7,32 м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7:19:02Z</dcterms:created>
  <dc:creator>Admin</dc:creator>
  <dc:description/>
  <dc:language>en-US</dc:language>
  <cp:lastModifiedBy>Admin</cp:lastModifiedBy>
  <dcterms:modified xsi:type="dcterms:W3CDTF">2011-03-02T19:22:43Z</dcterms:modified>
  <cp:revision>7</cp:revision>
  <dc:subject/>
  <dc:title>1.  Является ли нахождения  игрока «вне  игры» нарушением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6000000000001024140</vt:lpwstr>
  </property>
</Properties>
</file>