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6DA-A5F7-473F-B118-754DF732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47A-942E-4580-B5E8-526F059A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D54-F162-4598-8A97-0BAC5BED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0C1-69E2-415C-B637-328FA822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2B0E-4FCA-499D-9A71-798ABB31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5B81-DE3E-4BB5-9973-195301AD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AD69-C4F0-4E29-A19D-17AF6C8D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3033-DE1D-4AFA-B104-3B4F129A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A0A2-CC05-4C06-A30B-C4221F91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926C-EBEC-4348-83E2-36C19789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FC4C-6110-45BE-B54F-3E52D4E2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4A2-FF03-4376-BC16-B56BF7FA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E94A-696B-430B-8BA0-E6BEEBA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B7F9-A560-494E-BA75-57426D0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0988-F50A-46A0-8CA6-E9985717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7A9D-26A6-43CC-8D8F-A2CB358D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8701-41B9-47AD-A648-330EB078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BDF6-CD53-47E4-A949-8200C066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B3BA0-DE15-4CFA-879B-C05CC30F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3493A-31A0-4B22-8DA6-0AD66741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A838-3E67-4867-8C2A-E91558BA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0964-ABCC-497A-A9AD-F60C66B3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58D-AF79-4914-9F61-4AFE95CE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01647-BBB8-4D25-B9B5-4C8B0218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E433-9F46-47DE-AFE1-091B6677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D53C-5F82-4AC3-AB4D-DD9D67FE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D3C8-6691-4883-B09F-17FC655E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7C95-2C17-4F6C-9465-E1373973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4DE6-FBC2-4CA0-A8B9-71543DA6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CE7B-F8E5-49F0-B334-F1FDE1CF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57844-06A5-441A-8E4B-B6428FC0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7519C-A8ED-4898-8E5B-03114E01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0C2B-BA62-4E63-945B-4495703A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C0B-C49F-4357-83DD-690002A0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AA2A-25CD-43CD-AB3C-5EC9118F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1709B-010A-432C-8E40-7A85E0C1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86BCB-078A-4A46-B0FF-8FA1495B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46685-45A6-4D49-B57A-190D8B4E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D98D-D807-473A-9526-2893E810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87AAA-60E6-4F65-95B5-C5EF6193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70EB6-8CBA-455C-9D1E-6103A941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F480-195B-43F5-B09C-3D26D68A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C7A07-7188-416D-83A6-DB274390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086C1-40CE-426A-A708-BFF7AE1D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D62-3A75-4D25-8F4C-0D8E0EEC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73111-D9C0-481F-B075-89227233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0BBF0-463E-4357-8E76-CF270D68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3418F-17AB-4259-B60D-41250B75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E522B-A4B0-4D67-82C0-22C085FC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50766-63F5-4B66-859D-B812BED5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1A82C-2810-48C0-A618-9E63E13A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03EAF-17B0-4E0F-B3ED-8F49F9B4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7DD9-A9C6-4BDA-8E31-AABFFC7E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30C9E-260B-4A22-92E4-B674A700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6EF6E-4001-401A-971A-34B2F27C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306-5F86-406B-B1FC-AFCA0E7B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CD1C-F70A-4DEA-9105-C5E03C2D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E08-0E4C-4F27-9326-B1449000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FE0-3F2A-437A-A5F8-37E0095D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C0E-2563-4981-84D1-1224592E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2427-F9CD-466A-9349-3897E033F4B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4D8-4ACF-4478-A1F6-6F8A464203CA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284E-D49F-47C0-B9E0-FF7DF760674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F1D8-852C-4D8E-B442-CE983A0D588E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FC37-E773-4775-93C1-CF04603B171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gimn_shakhter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761592_7029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shahte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4d3982f22c_204349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16392__max_gal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16388__max_g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538c31c672072ad4be35c990c1e9b3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38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3" descr="350x250_4d56874acf9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2010_08_18_14_14_49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0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95801ca83d5d8bed019b767d953534c9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2___1055_446xFT.jpg"/>
          <p:cNvPicPr/>
          <p:nvPr/>
        </p:nvPicPr>
        <p:blipFill>
          <a:blip r:embed="rId1"/>
          <a:stretch/>
        </p:blipFill>
        <p:spPr>
          <a:xfrm>
            <a:off x="826920" y="0"/>
            <a:ext cx="65167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2005_C_2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shahter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113939_shahter-chemp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9:19Z</dcterms:created>
  <dc:creator>Admin</dc:creator>
  <dc:description/>
  <dc:language>en-US</dc:language>
  <cp:lastModifiedBy>школа</cp:lastModifiedBy>
  <dcterms:modified xsi:type="dcterms:W3CDTF">2011-11-24T10:25:2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3000000000001024140</vt:lpwstr>
  </property>
</Properties>
</file>