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7732-8C39-4A11-9891-DDAD7710C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BEE4-697F-45DD-B9B1-47710E1DE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6329-B355-49C7-A7EC-A6A29558D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2C5B-CA88-4CAC-82DE-105D59F89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C2F88-EDF5-4F78-B5E3-B10BCBAC5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533C4-460D-406B-9010-6265C6DAD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53D1F-7373-4FCA-9020-60274AAD9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1AE9C-D0F1-4C58-843E-F17BB62D5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A1A0E-B09F-4FF3-BF63-A5E9B1AE9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97566-820A-4029-92DD-839308949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F4805-62D6-4BCD-B37F-097BA5AF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8C2A-48D9-4530-94EF-57EC424A2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F0134-DB1B-49AE-B91B-A8B806DF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8475E-43DC-478F-A799-0C4A91D7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3EACC-E286-42C7-8291-F9790EE09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66F41-AC45-4F07-A348-3C3353C16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192E8-2F46-4CBD-B041-2220717E4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99EB4-FED6-4C5D-91CC-122E46EB0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3AF72-4D33-4FAD-8D51-16852EE03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8C540-329E-4803-9787-7C6470598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B5B3A-B20B-41E4-B4B5-95680F31B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250AA-1733-485D-B4AE-9C3856634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6738-49AC-4F69-8CBC-19360A060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31249-7A08-4894-BE06-6B07F6C48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B3F44-8720-46CE-BD78-984146557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61CF6-F824-45B7-883B-F9EA8BE4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52469-F908-4065-A7E6-CC182257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F8AD4-7476-4E94-9882-4A2881E38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D1C45-F81B-4E46-84C4-C86569801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5219F-D95F-45D4-8BEC-254A6E653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B2250-271C-47F0-A3DB-D43E2E707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34164-B37A-4122-B983-C5F0B1FEC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B6E2A-D145-4627-910C-733EC9A3E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D4C6-3CA4-4B03-B394-39B9797A3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F5F99-4D0A-484E-9EC6-C4AF3D9B9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588B7-6226-40E6-9392-40E58BEF1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3A476-6585-4229-82E2-48A0CF505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C8D8E-632F-40B8-8322-B13448A3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AA9D6-1B25-4120-9D03-EF76874A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72A52-282B-48EF-943A-CAA0DE67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1E872-B9B7-4193-A28E-47D95BC41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D10D7-B181-4A29-B2B4-D8A556AFF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12F57-AA4E-4260-BF27-07890789F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F9B66-AAF2-4363-81F1-6DDC5C353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A359-7546-49F2-B081-E56A6B66B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78009-EA03-476E-9C73-FB1127576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D39E6-CF35-4CAC-94B1-1316EDA26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ABBC0-0906-4C23-8B13-00D3EEBFD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2D799-E380-4EA6-B908-FB265DDB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3461E-E45F-453A-B68C-BC92B264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ABE3D-4D5D-445A-BF22-A6637B46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C367D-DCA8-437E-AA86-62E06BA0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621E8-11AF-42F4-8678-C378BFA8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AD5D8-3770-4F4E-B60F-201A5FE89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6ABE3-0820-49ED-BF35-960A1943A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D4C0-1846-47BB-8E42-5C539122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53BCD-B296-4527-AE20-5DA9A3771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FF59-3BEC-4E69-9EDA-C909CBD4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D6AD-E141-4770-AD20-A6C324BE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ADEF-DB31-44C0-802D-F5C0FA58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6869E-3D97-434B-9139-5517352EB5F2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E5E9D-35B5-4E11-BBB3-BFBF75C958D4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95196-3459-4F0B-8BB1-7F3F637D0662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95F83-3898-437F-88FD-0C322E2040FD}" type="slidenum">
              <a:rPr b="0" lang="en-U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54961-C20E-417C-96D6-1B4B5561801D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gimn_shakhter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1" descr="761592_70298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Рисунок 1" descr="shahter_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Рисунок 1" descr="4d3982f22c_204349.jpg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Рисунок 1" descr="images.jpg"/>
          <p:cNvPicPr/>
          <p:nvPr/>
        </p:nvPicPr>
        <p:blipFill>
          <a:blip r:embed="rId1"/>
          <a:stretch/>
        </p:blipFill>
        <p:spPr>
          <a:xfrm>
            <a:off x="0" y="0"/>
            <a:ext cx="915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Рисунок 1" descr="16392__max_gal.jpg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Рисунок 1" descr="16388__max_ga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Рисунок 1" descr="8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Рисунок 1" descr="538c31c672072ad4be35c990c1e9b3d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Рисунок 1" descr="38.jpg"/>
          <p:cNvPicPr/>
          <p:nvPr/>
        </p:nvPicPr>
        <p:blipFill>
          <a:blip r:embed="rId1"/>
          <a:stretch/>
        </p:blipFill>
        <p:spPr>
          <a:xfrm>
            <a:off x="0" y="0"/>
            <a:ext cx="9202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Рисунок 3" descr="350x250_4d56874acf93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Рисунок 1" descr="2010_08_18_14_14_49.jpg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Рисунок 1" descr="images (1).jpg"/>
          <p:cNvPicPr/>
          <p:nvPr/>
        </p:nvPicPr>
        <p:blipFill>
          <a:blip r:embed="rId1"/>
          <a:stretch/>
        </p:blipFill>
        <p:spPr>
          <a:xfrm>
            <a:off x="0" y="0"/>
            <a:ext cx="9028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Рисунок 1" descr="95801ca83d5d8bed019b767d953534c9.jpg"/>
          <p:cNvPicPr/>
          <p:nvPr/>
        </p:nvPicPr>
        <p:blipFill>
          <a:blip r:embed="rId1"/>
          <a:stretch/>
        </p:blipFill>
        <p:spPr>
          <a:xfrm>
            <a:off x="0" y="0"/>
            <a:ext cx="9123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Рисунок 1" descr="2___1055_446xFT.jpg"/>
          <p:cNvPicPr/>
          <p:nvPr/>
        </p:nvPicPr>
        <p:blipFill>
          <a:blip r:embed="rId1"/>
          <a:stretch/>
        </p:blipFill>
        <p:spPr>
          <a:xfrm>
            <a:off x="826920" y="0"/>
            <a:ext cx="651672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Рисунок 2" descr="2005_C_2.jpg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Рисунок 1" descr="shahter.jpg"/>
          <p:cNvPicPr/>
          <p:nvPr/>
        </p:nvPicPr>
        <p:blipFill>
          <a:blip r:embed="rId1"/>
          <a:stretch/>
        </p:blipFill>
        <p:spPr>
          <a:xfrm>
            <a:off x="0" y="0"/>
            <a:ext cx="911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Рисунок 1" descr="113939_shahter-chempi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16:39:19Z</dcterms:created>
  <dc:creator>Admin</dc:creator>
  <dc:description/>
  <dc:language>en-US</dc:language>
  <cp:lastModifiedBy>школа</cp:lastModifiedBy>
  <dcterms:modified xsi:type="dcterms:W3CDTF">2011-11-24T10:25:23Z</dcterms:modified>
  <cp:revision>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e13000000000001024140</vt:lpwstr>
  </property>
</Properties>
</file>