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606-F2E6-4B64-8CB4-AC118C52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56A-4BED-4201-9AD6-A8292A17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537-98C4-4CE8-9778-0ADDC599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5B3-80F5-4209-8DD5-4BD3AC16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79E1-D983-4A77-ABA8-AE0509CB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A35E-A091-446D-AADE-8572F2BC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7E4A-F50C-45AD-85EA-8637E0E0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F549-0FFD-434F-8A7E-B57EF494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C645-A5FF-459A-995C-4AA42F29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4BEB-DF1C-43BE-822C-9DA5912A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AAD8-BA72-4EDC-8A88-175573B3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1D5-94E9-4AD7-8023-20B8EC4D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20F3-E91D-49CF-94C1-6B1FA7AC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FE01-46D6-409C-9AF1-2FF8326A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3BE8-198B-41D6-8FFF-2204CEC3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57E2-13F7-4259-AE05-49331785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90F4-CD53-47C3-98F8-D96ECCA3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3B5C1-DCCE-42A2-869A-ACB7B50B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97BD9-8FFD-42C4-8367-E06A060D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C06B6-3A53-4AD1-8052-8BB5C3FD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027FC-25D0-4F88-9CF4-F8F0572C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8E0A7-87AB-434D-85ED-593F4E24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88D-345B-487F-B0BE-7BBC23AF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4D070-120A-4EE7-B243-A3F277D2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46169-EEC7-43F9-AA3B-334623AD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13288-A697-4151-9349-52831C39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F1CE3-C501-4340-AD3B-3274487B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FDB12-4112-433A-A88A-A7756191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00B8C-21B4-4D1A-B56D-27E2FA02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54A90-820C-4CD6-AFD0-7930FEC7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66556-2986-46E1-A6AE-98B3482E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C60D8-76A8-4EB5-92DA-27B33ACC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462F7-5DE2-4162-8D4C-9EF6A75E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D76-B61B-4434-A929-859722A8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967AE-0C48-4093-8613-58FF9AF0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17F7-ABE5-4FCA-BACD-3B54C9FD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587BB-E191-4992-890B-C4B13CE5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F0F7B-F64E-4EB6-913C-599D36EB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A6277-CA74-4F75-97F5-2889F468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4565B-B63A-401F-AE5E-778F434F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9F58B-0CEA-4C6E-AA27-80163416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4F18D-7DA0-472D-B7B9-1C6A4CE6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4DF1-80F5-4908-8A89-B8BE8DF8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5941-ABE9-41BB-ABD9-7C451825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7E3-4B38-4A71-9423-A05FDF60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53F-D2DC-4336-B55D-0E6B5A55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846-00E9-4654-A684-78B0BCE9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C8B-7050-4398-BAD8-E251DDAB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37F6-222B-4025-A4EA-DEFF8BFD2B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600"/>
            <a:ext cx="2870280" cy="3275640"/>
            <a:chOff x="6273360" y="-21600"/>
            <a:chExt cx="287028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600"/>
              <a:ext cx="2870280" cy="2269080"/>
              <a:chOff x="6273360" y="-21600"/>
              <a:chExt cx="287028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600"/>
                <a:ext cx="2867400" cy="2269080"/>
                <a:chOff x="6273360" y="-21600"/>
                <a:chExt cx="286740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320" y="842760"/>
                  <a:ext cx="1063800" cy="1141200"/>
                  <a:chOff x="7834320" y="842760"/>
                  <a:chExt cx="1063800" cy="114120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5640" y="1602720"/>
                    <a:ext cx="473760" cy="249840"/>
                  </a:xfrm>
                  <a:custGeom>
                    <a:avLst/>
                    <a:gdLst>
                      <a:gd name="textAreaLeft" fmla="*/ 0 w 473760"/>
                      <a:gd name="textAreaRight" fmla="*/ 474120 w 47376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960" y="824400"/>
                    <a:ext cx="860040" cy="1731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custGeom>
                    <a:avLst/>
                    <a:gdLst>
                      <a:gd name="textAreaLeft" fmla="*/ 0 w 460080"/>
                      <a:gd name="textAreaRight" fmla="*/ 460440 w 460080"/>
                      <a:gd name="textAreaTop" fmla="*/ 0 h 268200"/>
                      <a:gd name="textAreaBottom" fmla="*/ 268560 h 268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520" y="709920"/>
                    <a:ext cx="792000" cy="16344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3440"/>
                      <a:gd name="textAreaBottom" fmla="*/ 163800 h 163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3200" y="651240"/>
                    <a:ext cx="720360" cy="1087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custGeom>
                    <a:avLst/>
                    <a:gdLst>
                      <a:gd name="textAreaLeft" fmla="*/ 0 w 634680"/>
                      <a:gd name="textAreaRight" fmla="*/ 635040 w 63468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680" y="905400"/>
                  <a:ext cx="1062360" cy="1141920"/>
                  <a:chOff x="6538680" y="905400"/>
                  <a:chExt cx="1062360" cy="114192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3560" y="1193760"/>
                    <a:ext cx="880560" cy="160200"/>
                  </a:xfrm>
                  <a:custGeom>
                    <a:avLst/>
                    <a:gdLst>
                      <a:gd name="textAreaLeft" fmla="*/ 360 w 880560"/>
                      <a:gd name="textAreaRight" fmla="*/ 881280 w 88056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760" y="1665360"/>
                    <a:ext cx="472680" cy="250920"/>
                  </a:xfrm>
                  <a:custGeom>
                    <a:avLst/>
                    <a:gdLst>
                      <a:gd name="textAreaLeft" fmla="*/ -360 w 472680"/>
                      <a:gd name="textAreaRight" fmla="*/ 472680 w 4726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custGeom>
                    <a:avLst/>
                    <a:gdLst>
                      <a:gd name="textAreaLeft" fmla="*/ -360 w 929160"/>
                      <a:gd name="textAreaRight" fmla="*/ 929160 w 9291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custGeom>
                    <a:avLst/>
                    <a:gdLst>
                      <a:gd name="textAreaLeft" fmla="*/ -360 w 498600"/>
                      <a:gd name="textAreaRight" fmla="*/ 498600 w 4986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280" cy="15660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600"/>
                      <a:gd name="textAreaBottom" fmla="*/ 156960 h 156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560" cy="668880"/>
                  <a:chOff x="6273360" y="787320"/>
                  <a:chExt cx="1303560" cy="66888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6200"/>
                    <a:ext cx="860400" cy="16848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8480"/>
                      <a:gd name="textAreaBottom" fmla="*/ 168840 h 168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3200"/>
                    <a:ext cx="461520" cy="2678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7840"/>
                      <a:gd name="textAreaBottom" fmla="*/ 268200 h 267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7680"/>
                      <a:gd name="textAreaBottom" fmla="*/ 158040 h 1576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6600"/>
                      <a:gd name="textAreaBottom" fmla="*/ 246960 h 246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1280" y="741240"/>
                    <a:ext cx="720360" cy="1090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69560"/>
                      <a:gd name="textAreaBottom" fmla="*/ 169560 h 169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5840" cy="809640"/>
                  <a:chOff x="7287480" y="-21600"/>
                  <a:chExt cx="46584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>
                      <a:gd name="textAreaLeft" fmla="*/ 360 w 542160"/>
                      <a:gd name="textAreaRight" fmla="*/ 542880 w 542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60480"/>
                    <a:ext cx="294480" cy="173160"/>
                  </a:xfrm>
                  <a:custGeom>
                    <a:avLst/>
                    <a:gdLst>
                      <a:gd name="textAreaLeft" fmla="*/ 360 w 294480"/>
                      <a:gd name="textAreaRight" fmla="*/ 295200 w 294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custGeom>
                    <a:avLst/>
                    <a:gdLst>
                      <a:gd name="textAreaLeft" fmla="*/ 0 w 334800"/>
                      <a:gd name="textAreaRight" fmla="*/ 334800 w 3348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960" cy="110880"/>
                  </a:xfrm>
                  <a:custGeom>
                    <a:avLst/>
                    <a:gdLst>
                      <a:gd name="textAreaLeft" fmla="*/ 0 w 633960"/>
                      <a:gd name="textAreaRight" fmla="*/ 634320 w 6339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custGeom>
                    <a:avLst/>
                    <a:gdLst>
                      <a:gd name="textAreaLeft" fmla="*/ 0 w 336600"/>
                      <a:gd name="textAreaRight" fmla="*/ 336960 w 33660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840" y="-11160"/>
                  <a:ext cx="497160" cy="791280"/>
                  <a:chOff x="7665840" y="-11160"/>
                  <a:chExt cx="49716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4600" y="466560"/>
                    <a:ext cx="543600" cy="95400"/>
                  </a:xfrm>
                  <a:custGeom>
                    <a:avLst/>
                    <a:gdLst>
                      <a:gd name="textAreaLeft" fmla="*/ 0 w 543600"/>
                      <a:gd name="textAreaRight" fmla="*/ 543960 w 54360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840"/>
                    <a:ext cx="292320" cy="14760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0400" y="930240"/>
                  <a:ext cx="914760" cy="1248480"/>
                  <a:chOff x="6710400" y="930240"/>
                  <a:chExt cx="914760" cy="124848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6560" y="1257840"/>
                    <a:ext cx="888480" cy="160560"/>
                  </a:xfrm>
                  <a:custGeom>
                    <a:avLst/>
                    <a:gdLst>
                      <a:gd name="textAreaLeft" fmla="*/ 360 w 888480"/>
                      <a:gd name="textAreaRight" fmla="*/ 889200 w 8884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2200" y="1786680"/>
                    <a:ext cx="477000" cy="250560"/>
                  </a:xfrm>
                  <a:custGeom>
                    <a:avLst/>
                    <a:gdLst>
                      <a:gd name="textAreaLeft" fmla="*/ -360 w 477000"/>
                      <a:gd name="textAreaRight" fmla="*/ 477000 w 4770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89760" y="1309320"/>
                    <a:ext cx="822240" cy="160560"/>
                  </a:xfrm>
                  <a:custGeom>
                    <a:avLst/>
                    <a:gdLst>
                      <a:gd name="textAreaLeft" fmla="*/ 360 w 822240"/>
                      <a:gd name="textAreaRight" fmla="*/ 822960 w 82224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custGeom>
                    <a:avLst/>
                    <a:gdLst>
                      <a:gd name="textAreaLeft" fmla="*/ -360 w 435960"/>
                      <a:gd name="textAreaRight" fmla="*/ 435960 w 4359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>
                      <a:gd name="textAreaLeft" fmla="*/ 0 w 820800"/>
                      <a:gd name="textAreaRight" fmla="*/ 821160 w 82080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>
                      <a:gd name="textAreaLeft" fmla="*/ 0 w 439560"/>
                      <a:gd name="textAreaRight" fmla="*/ 439920 w 43956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custGeom>
                    <a:avLst/>
                    <a:gdLst>
                      <a:gd name="textAreaLeft" fmla="*/ 0 w 753120"/>
                      <a:gd name="textAreaRight" fmla="*/ 753480 w 75312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custGeom>
                    <a:avLst/>
                    <a:gdLst>
                      <a:gd name="textAreaLeft" fmla="*/ 0 w 406800"/>
                      <a:gd name="textAreaRight" fmla="*/ 407160 w 4068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1680" y="1402200"/>
                    <a:ext cx="739080" cy="95760"/>
                  </a:xfrm>
                  <a:custGeom>
                    <a:avLst/>
                    <a:gdLst>
                      <a:gd name="textAreaLeft" fmla="*/ 0 w 739080"/>
                      <a:gd name="textAreaRight" fmla="*/ 739440 w 73908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000" y="1928520"/>
                    <a:ext cx="396000" cy="151560"/>
                  </a:xfrm>
                  <a:custGeom>
                    <a:avLst/>
                    <a:gdLst>
                      <a:gd name="textAreaLeft" fmla="*/ 0 w 396000"/>
                      <a:gd name="textAreaRight" fmla="*/ 396360 w 39600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4640"/>
                  <a:gd name="textAreaBottom" fmla="*/ 1215000 h 121464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7792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0C73-8CCF-4D24-B81A-0C06E60CD98D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2F10-172C-4273-BFE8-1D35F67061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260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1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262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264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26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Oval 10"/>
                  <p:cNvSpPr/>
                  <p:nvPr/>
                </p:nvSpPr>
                <p:spPr>
                  <a:xfrm>
                    <a:off x="5109120" y="2234880"/>
                    <a:ext cx="712800" cy="50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269" name="Group 12"/>
                  <p:cNvGrpSpPr/>
                  <p:nvPr/>
                </p:nvGrpSpPr>
                <p:grpSpPr>
                  <a:xfrm>
                    <a:off x="5761440" y="2322720"/>
                    <a:ext cx="2558160" cy="2742480"/>
                    <a:chOff x="5761440" y="2322720"/>
                    <a:chExt cx="2558160" cy="2742480"/>
                  </a:xfrm>
                </p:grpSpPr>
                <p:sp>
                  <p:nvSpPr>
                    <p:cNvPr id="270" name="Freeform 13"/>
                    <p:cNvSpPr/>
                    <p:nvPr/>
                  </p:nvSpPr>
                  <p:spPr>
                    <a:xfrm rot="2711400">
                      <a:off x="5583600" y="3020760"/>
                      <a:ext cx="2128320" cy="384480"/>
                    </a:xfrm>
                    <a:custGeom>
                      <a:avLst/>
                      <a:gdLst>
                        <a:gd name="textAreaLeft" fmla="*/ 0 w 2128320"/>
                        <a:gd name="textAreaRight" fmla="*/ 2128680 w 21283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Freeform 14"/>
                    <p:cNvSpPr/>
                    <p:nvPr/>
                  </p:nvSpPr>
                  <p:spPr>
                    <a:xfrm rot="2711400">
                      <a:off x="7134840" y="4146120"/>
                      <a:ext cx="1138320" cy="604080"/>
                    </a:xfrm>
                    <a:custGeom>
                      <a:avLst/>
                      <a:gdLst>
                        <a:gd name="textAreaLeft" fmla="*/ 0 w 1138320"/>
                        <a:gd name="textAreaRight" fmla="*/ 1138680 w 11383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Group 15"/>
                  <p:cNvGrpSpPr/>
                  <p:nvPr/>
                </p:nvGrpSpPr>
                <p:grpSpPr>
                  <a:xfrm>
                    <a:off x="5788080" y="2148120"/>
                    <a:ext cx="3040200" cy="2530080"/>
                    <a:chOff x="5788080" y="2148120"/>
                    <a:chExt cx="3040200" cy="2530080"/>
                  </a:xfrm>
                </p:grpSpPr>
                <p:sp>
                  <p:nvSpPr>
                    <p:cNvPr id="273" name="Freeform 16"/>
                    <p:cNvSpPr/>
                    <p:nvPr/>
                  </p:nvSpPr>
                  <p:spPr>
                    <a:xfrm rot="2103600">
                      <a:off x="5707080" y="2751840"/>
                      <a:ext cx="2236680" cy="4248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4800"/>
                        <a:gd name="textAreaBottom" fmla="*/ 425160 h 424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Freeform 17"/>
                    <p:cNvSpPr/>
                    <p:nvPr/>
                  </p:nvSpPr>
                  <p:spPr>
                    <a:xfrm rot="2103600">
                      <a:off x="7541640" y="3720600"/>
                      <a:ext cx="1202040" cy="67320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3200"/>
                        <a:gd name="textAreaBottom" fmla="*/ 673560 h 673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276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Group 24"/>
                  <p:cNvGrpSpPr/>
                  <p:nvPr/>
                </p:nvGrpSpPr>
                <p:grpSpPr>
                  <a:xfrm>
                    <a:off x="5806080" y="1879560"/>
                    <a:ext cx="2940120" cy="1001880"/>
                    <a:chOff x="5806080" y="1879560"/>
                    <a:chExt cx="2940120" cy="1001880"/>
                  </a:xfrm>
                </p:grpSpPr>
                <p:sp>
                  <p:nvSpPr>
                    <p:cNvPr id="282" name="Freeform 25"/>
                    <p:cNvSpPr/>
                    <p:nvPr/>
                  </p:nvSpPr>
                  <p:spPr>
                    <a:xfrm rot="463200">
                      <a:off x="5823000" y="2005920"/>
                      <a:ext cx="1907640" cy="384480"/>
                    </a:xfrm>
                    <a:custGeom>
                      <a:avLst/>
                      <a:gdLst>
                        <a:gd name="textAreaLeft" fmla="*/ 0 w 1907640"/>
                        <a:gd name="textAreaRight" fmla="*/ 1908000 w 19076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Freeform 26"/>
                    <p:cNvSpPr/>
                    <p:nvPr/>
                  </p:nvSpPr>
                  <p:spPr>
                    <a:xfrm rot="463200">
                      <a:off x="7688160" y="2212920"/>
                      <a:ext cx="1022040" cy="602640"/>
                    </a:xfrm>
                    <a:custGeom>
                      <a:avLst/>
                      <a:gdLst>
                        <a:gd name="textAreaLeft" fmla="*/ 0 w 1022040"/>
                        <a:gd name="textAreaRight" fmla="*/ 1022400 w 10220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4" name="Group 27"/>
                  <p:cNvGrpSpPr/>
                  <p:nvPr/>
                </p:nvGrpSpPr>
                <p:grpSpPr>
                  <a:xfrm>
                    <a:off x="5851080" y="1815480"/>
                    <a:ext cx="2658960" cy="446040"/>
                    <a:chOff x="5851080" y="1815480"/>
                    <a:chExt cx="2658960" cy="446040"/>
                  </a:xfrm>
                </p:grpSpPr>
                <p:sp>
                  <p:nvSpPr>
                    <p:cNvPr id="285" name="Freeform 28"/>
                    <p:cNvSpPr/>
                    <p:nvPr/>
                  </p:nvSpPr>
                  <p:spPr>
                    <a:xfrm rot="21515400">
                      <a:off x="5853960" y="1852560"/>
                      <a:ext cx="1730880" cy="2710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080"/>
                        <a:gd name="textAreaBottom" fmla="*/ 271440 h 271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7" name="Group 30"/>
                  <p:cNvGrpSpPr/>
                  <p:nvPr/>
                </p:nvGrpSpPr>
                <p:grpSpPr>
                  <a:xfrm>
                    <a:off x="5788440" y="1303920"/>
                    <a:ext cx="2363760" cy="786960"/>
                    <a:chOff x="5788440" y="1303920"/>
                    <a:chExt cx="2363760" cy="786960"/>
                  </a:xfrm>
                </p:grpSpPr>
                <p:sp>
                  <p:nvSpPr>
                    <p:cNvPr id="288" name="Freeform 31"/>
                    <p:cNvSpPr/>
                    <p:nvPr/>
                  </p:nvSpPr>
                  <p:spPr>
                    <a:xfrm rot="20797200">
                      <a:off x="5798520" y="1651680"/>
                      <a:ext cx="1519200" cy="26676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6760"/>
                        <a:gd name="textAreaBottom" fmla="*/ 267120 h 266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44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0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91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3" name="Group 36"/>
                  <p:cNvGrpSpPr/>
                  <p:nvPr/>
                </p:nvGrpSpPr>
                <p:grpSpPr>
                  <a:xfrm>
                    <a:off x="2085120" y="2365560"/>
                    <a:ext cx="3040200" cy="2531880"/>
                    <a:chOff x="2085120" y="2365560"/>
                    <a:chExt cx="3040200" cy="2531880"/>
                  </a:xfrm>
                </p:grpSpPr>
                <p:sp>
                  <p:nvSpPr>
                    <p:cNvPr id="294" name="Freeform 37"/>
                    <p:cNvSpPr/>
                    <p:nvPr/>
                  </p:nvSpPr>
                  <p:spPr>
                    <a:xfrm flipH="1" rot="19496400">
                      <a:off x="2966040" y="2969640"/>
                      <a:ext cx="2239200" cy="427320"/>
                    </a:xfrm>
                    <a:custGeom>
                      <a:avLst/>
                      <a:gdLst>
                        <a:gd name="textAreaLeft" fmla="*/ 0 w 2239200"/>
                        <a:gd name="textAreaRight" fmla="*/ 2239200 w 2239200"/>
                        <a:gd name="textAreaTop" fmla="*/ 0 h 427320"/>
                        <a:gd name="textAreaBottom" fmla="*/ 427680 h 427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Freeform 38"/>
                    <p:cNvSpPr/>
                    <p:nvPr/>
                  </p:nvSpPr>
                  <p:spPr>
                    <a:xfrm flipH="1" rot="19496400">
                      <a:off x="2168280" y="3939120"/>
                      <a:ext cx="1204920" cy="672840"/>
                    </a:xfrm>
                    <a:custGeom>
                      <a:avLst/>
                      <a:gdLst>
                        <a:gd name="textAreaLeft" fmla="*/ -360 w 1204920"/>
                        <a:gd name="textAreaRight" fmla="*/ 1204920 w 120492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Group 39"/>
                  <p:cNvGrpSpPr/>
                  <p:nvPr/>
                </p:nvGrpSpPr>
                <p:grpSpPr>
                  <a:xfrm>
                    <a:off x="2041200" y="2283840"/>
                    <a:ext cx="3096360" cy="1992600"/>
                    <a:chOff x="2041200" y="2283840"/>
                    <a:chExt cx="3096360" cy="1992600"/>
                  </a:xfrm>
                </p:grpSpPr>
                <p:sp>
                  <p:nvSpPr>
                    <p:cNvPr id="297" name="Freeform 40"/>
                    <p:cNvSpPr/>
                    <p:nvPr/>
                  </p:nvSpPr>
                  <p:spPr>
                    <a:xfrm flipH="1" rot="20017200">
                      <a:off x="3025080" y="2739600"/>
                      <a:ext cx="2139840" cy="375840"/>
                    </a:xfrm>
                    <a:custGeom>
                      <a:avLst/>
                      <a:gdLst>
                        <a:gd name="textAreaLeft" fmla="*/ 360 w 2139840"/>
                        <a:gd name="textAreaRight" fmla="*/ 2140560 w 2139840"/>
                        <a:gd name="textAreaTop" fmla="*/ 0 h 375840"/>
                        <a:gd name="textAreaBottom" fmla="*/ 376200 h 37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Freeform 41"/>
                    <p:cNvSpPr/>
                    <p:nvPr/>
                  </p:nvSpPr>
                  <p:spPr>
                    <a:xfrm flipH="1" rot="20017200">
                      <a:off x="2111400" y="3465360"/>
                      <a:ext cx="1150560" cy="585720"/>
                    </a:xfrm>
                    <a:custGeom>
                      <a:avLst/>
                      <a:gdLst>
                        <a:gd name="textAreaLeft" fmla="*/ 360 w 1150560"/>
                        <a:gd name="textAreaRight" fmla="*/ 1151280 w 1150560"/>
                        <a:gd name="textAreaTop" fmla="*/ 0 h 585720"/>
                        <a:gd name="textAreaBottom" fmla="*/ 585720 h 585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300" name="Freeform 43"/>
                    <p:cNvSpPr/>
                    <p:nvPr/>
                  </p:nvSpPr>
                  <p:spPr>
                    <a:xfrm flipH="1" rot="20520000">
                      <a:off x="3063240" y="2497680"/>
                      <a:ext cx="2067840" cy="4143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Freeform 44"/>
                    <p:cNvSpPr/>
                    <p:nvPr/>
                  </p:nvSpPr>
                  <p:spPr>
                    <a:xfrm flipH="1" rot="20520000">
                      <a:off x="2084400" y="2988360"/>
                      <a:ext cx="1112040" cy="652320"/>
                    </a:xfrm>
                    <a:custGeom>
                      <a:avLst/>
                      <a:gdLst>
                        <a:gd name="textAreaLeft" fmla="*/ -360 w 1112040"/>
                        <a:gd name="textAreaRight" fmla="*/ 1112040 w 1112040"/>
                        <a:gd name="textAreaTop" fmla="*/ 0 h 652320"/>
                        <a:gd name="textAreaBottom" fmla="*/ 652320 h 652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Group 45"/>
                  <p:cNvGrpSpPr/>
                  <p:nvPr/>
                </p:nvGrpSpPr>
                <p:grpSpPr>
                  <a:xfrm>
                    <a:off x="2166480" y="2097720"/>
                    <a:ext cx="2940840" cy="1002240"/>
                    <a:chOff x="2166480" y="2097720"/>
                    <a:chExt cx="2940840" cy="1002240"/>
                  </a:xfrm>
                </p:grpSpPr>
                <p:sp>
                  <p:nvSpPr>
                    <p:cNvPr id="303" name="Freeform 46"/>
                    <p:cNvSpPr/>
                    <p:nvPr/>
                  </p:nvSpPr>
                  <p:spPr>
                    <a:xfrm flipH="1" rot="21136800">
                      <a:off x="3182400" y="2223720"/>
                      <a:ext cx="1907280" cy="386640"/>
                    </a:xfrm>
                    <a:custGeom>
                      <a:avLst/>
                      <a:gdLst>
                        <a:gd name="textAreaLeft" fmla="*/ 360 w 1907280"/>
                        <a:gd name="textAreaRight" fmla="*/ 1908000 w 1907280"/>
                        <a:gd name="textAreaTop" fmla="*/ 0 h 386640"/>
                        <a:gd name="textAreaBottom" fmla="*/ 387000 h 386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Freeform 47"/>
                    <p:cNvSpPr/>
                    <p:nvPr/>
                  </p:nvSpPr>
                  <p:spPr>
                    <a:xfrm flipH="1" rot="21136800">
                      <a:off x="2202120" y="2430360"/>
                      <a:ext cx="1022040" cy="603360"/>
                    </a:xfrm>
                    <a:custGeom>
                      <a:avLst/>
                      <a:gdLst>
                        <a:gd name="textAreaLeft" fmla="*/ -360 w 1022040"/>
                        <a:gd name="textAreaRight" fmla="*/ 1022040 w 1022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6" name="Freeform 49"/>
                    <p:cNvSpPr/>
                    <p:nvPr/>
                  </p:nvSpPr>
                  <p:spPr>
                    <a:xfrm flipH="1" rot="84600">
                      <a:off x="3327840" y="2072880"/>
                      <a:ext cx="1730880" cy="26712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7120"/>
                        <a:gd name="textAreaBottom" fmla="*/ 267480 h 267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30960" cy="423000"/>
                    </a:xfrm>
                    <a:custGeom>
                      <a:avLst/>
                      <a:gdLst>
                        <a:gd name="textAreaLeft" fmla="*/ 360 w 930960"/>
                        <a:gd name="textAreaRight" fmla="*/ 931680 w 93096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" name="Group 51"/>
                  <p:cNvGrpSpPr/>
                  <p:nvPr/>
                </p:nvGrpSpPr>
                <p:grpSpPr>
                  <a:xfrm>
                    <a:off x="2760480" y="1522440"/>
                    <a:ext cx="2364840" cy="787320"/>
                    <a:chOff x="2760480" y="1522440"/>
                    <a:chExt cx="2364840" cy="787320"/>
                  </a:xfrm>
                </p:grpSpPr>
                <p:sp>
                  <p:nvSpPr>
                    <p:cNvPr id="309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" name="Group 54"/>
                  <p:cNvGrpSpPr/>
                  <p:nvPr/>
                </p:nvGrpSpPr>
                <p:grpSpPr>
                  <a:xfrm>
                    <a:off x="2887560" y="1236600"/>
                    <a:ext cx="2324520" cy="1083600"/>
                    <a:chOff x="2887560" y="1236600"/>
                    <a:chExt cx="2324520" cy="1083600"/>
                  </a:xfrm>
                </p:grpSpPr>
                <p:sp>
                  <p:nvSpPr>
                    <p:cNvPr id="312" name="Freeform 55"/>
                    <p:cNvSpPr/>
                    <p:nvPr/>
                  </p:nvSpPr>
                  <p:spPr>
                    <a:xfrm flipH="1" rot="1278000">
                      <a:off x="3694680" y="1786680"/>
                      <a:ext cx="1520280" cy="26604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Freeform 56"/>
                    <p:cNvSpPr/>
                    <p:nvPr/>
                  </p:nvSpPr>
                  <p:spPr>
                    <a:xfrm flipH="1" rot="1278000">
                      <a:off x="2934720" y="1370520"/>
                      <a:ext cx="816480" cy="41508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Group 57"/>
                  <p:cNvGrpSpPr/>
                  <p:nvPr/>
                </p:nvGrpSpPr>
                <p:grpSpPr>
                  <a:xfrm>
                    <a:off x="3160800" y="831240"/>
                    <a:ext cx="2170440" cy="1507680"/>
                    <a:chOff x="3160800" y="831240"/>
                    <a:chExt cx="2170440" cy="1507680"/>
                  </a:xfrm>
                </p:grpSpPr>
                <p:sp>
                  <p:nvSpPr>
                    <p:cNvPr id="315" name="Freeform 58"/>
                    <p:cNvSpPr/>
                    <p:nvPr/>
                  </p:nvSpPr>
                  <p:spPr>
                    <a:xfrm flipH="1" rot="2028600">
                      <a:off x="3866040" y="1672560"/>
                      <a:ext cx="1519200" cy="26604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Freeform 59"/>
                    <p:cNvSpPr/>
                    <p:nvPr/>
                  </p:nvSpPr>
                  <p:spPr>
                    <a:xfrm flipH="1" rot="2028600">
                      <a:off x="3206520" y="102312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7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1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0" name="Group 63"/>
                  <p:cNvGrpSpPr/>
                  <p:nvPr/>
                </p:nvGrpSpPr>
                <p:grpSpPr>
                  <a:xfrm>
                    <a:off x="4027680" y="335520"/>
                    <a:ext cx="1460520" cy="1886040"/>
                    <a:chOff x="4027680" y="335520"/>
                    <a:chExt cx="1460520" cy="1886040"/>
                  </a:xfrm>
                </p:grpSpPr>
                <p:sp>
                  <p:nvSpPr>
                    <p:cNvPr id="321" name="Freeform 64"/>
                    <p:cNvSpPr/>
                    <p:nvPr/>
                  </p:nvSpPr>
                  <p:spPr>
                    <a:xfrm flipH="1" rot="3474000">
                      <a:off x="4336200" y="1443600"/>
                      <a:ext cx="1357560" cy="26460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Freeform 65"/>
                    <p:cNvSpPr/>
                    <p:nvPr/>
                  </p:nvSpPr>
                  <p:spPr>
                    <a:xfrm flipH="1" rot="3474000">
                      <a:off x="4033800" y="545400"/>
                      <a:ext cx="727200" cy="416880"/>
                    </a:xfrm>
                    <a:custGeom>
                      <a:avLst/>
                      <a:gdLst>
                        <a:gd name="textAreaLeft" fmla="*/ 360 w 727200"/>
                        <a:gd name="textAreaRight" fmla="*/ 727920 w 7272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3" name="Group 66"/>
                  <p:cNvGrpSpPr/>
                  <p:nvPr/>
                </p:nvGrpSpPr>
                <p:grpSpPr>
                  <a:xfrm>
                    <a:off x="4448520" y="245160"/>
                    <a:ext cx="1122480" cy="1946880"/>
                    <a:chOff x="4448520" y="245160"/>
                    <a:chExt cx="1122480" cy="1946880"/>
                  </a:xfrm>
                </p:grpSpPr>
                <p:sp>
                  <p:nvSpPr>
                    <p:cNvPr id="324" name="Freeform 67"/>
                    <p:cNvSpPr/>
                    <p:nvPr/>
                  </p:nvSpPr>
                  <p:spPr>
                    <a:xfrm flipH="1" rot="4126800">
                      <a:off x="4555440" y="1400760"/>
                      <a:ext cx="1309680" cy="265320"/>
                    </a:xfrm>
                    <a:custGeom>
                      <a:avLst/>
                      <a:gdLst>
                        <a:gd name="textAreaLeft" fmla="*/ 360 w 1309680"/>
                        <a:gd name="textAreaRight" fmla="*/ 1310400 w 13096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Freeform 68"/>
                    <p:cNvSpPr/>
                    <p:nvPr/>
                  </p:nvSpPr>
                  <p:spPr>
                    <a:xfrm flipH="1" rot="4126800">
                      <a:off x="4418640" y="438840"/>
                      <a:ext cx="700920" cy="416520"/>
                    </a:xfrm>
                    <a:custGeom>
                      <a:avLst/>
                      <a:gdLst>
                        <a:gd name="textAreaLeft" fmla="*/ -360 w 700920"/>
                        <a:gd name="textAreaRight" fmla="*/ 700920 w 7009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6" name="Group 69"/>
                  <p:cNvGrpSpPr/>
                  <p:nvPr/>
                </p:nvGrpSpPr>
                <p:grpSpPr>
                  <a:xfrm>
                    <a:off x="5661360" y="952560"/>
                    <a:ext cx="2317320" cy="1111680"/>
                    <a:chOff x="5661360" y="952560"/>
                    <a:chExt cx="2317320" cy="1111680"/>
                  </a:xfrm>
                </p:grpSpPr>
                <p:sp>
                  <p:nvSpPr>
                    <p:cNvPr id="327" name="Freeform 70"/>
                    <p:cNvSpPr/>
                    <p:nvPr/>
                  </p:nvSpPr>
                  <p:spPr>
                    <a:xfrm rot="20274000">
                      <a:off x="5655240" y="1523160"/>
                      <a:ext cx="1517760" cy="264960"/>
                    </a:xfrm>
                    <a:custGeom>
                      <a:avLst/>
                      <a:gdLst>
                        <a:gd name="textAreaLeft" fmla="*/ 0 w 1517760"/>
                        <a:gd name="textAreaRight" fmla="*/ 1518120 w 15177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Freeform 71"/>
                    <p:cNvSpPr/>
                    <p:nvPr/>
                  </p:nvSpPr>
                  <p:spPr>
                    <a:xfrm rot="20274000">
                      <a:off x="7112520" y="1090800"/>
                      <a:ext cx="817200" cy="419040"/>
                    </a:xfrm>
                    <a:custGeom>
                      <a:avLst/>
                      <a:gdLst>
                        <a:gd name="textAreaLeft" fmla="*/ 0 w 817200"/>
                        <a:gd name="textAreaRight" fmla="*/ 817560 w 81720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30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2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Freeform 76"/>
                  <p:cNvSpPr/>
                  <p:nvPr/>
                </p:nvSpPr>
                <p:spPr>
                  <a:xfrm flipH="1" rot="4578600">
                    <a:off x="479196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4" name="Group 77"/>
                  <p:cNvGrpSpPr/>
                  <p:nvPr/>
                </p:nvGrpSpPr>
                <p:grpSpPr>
                  <a:xfrm>
                    <a:off x="5356080" y="270000"/>
                    <a:ext cx="1195560" cy="1900440"/>
                    <a:chOff x="5356080" y="270000"/>
                    <a:chExt cx="1195560" cy="1900440"/>
                  </a:xfrm>
                </p:grpSpPr>
                <p:sp>
                  <p:nvSpPr>
                    <p:cNvPr id="335" name="Freeform 78"/>
                    <p:cNvSpPr/>
                    <p:nvPr/>
                  </p:nvSpPr>
                  <p:spPr>
                    <a:xfrm rot="17742000">
                      <a:off x="5087160" y="1418400"/>
                      <a:ext cx="1309320" cy="226080"/>
                    </a:xfrm>
                    <a:custGeom>
                      <a:avLst/>
                      <a:gdLst>
                        <a:gd name="textAreaLeft" fmla="*/ 0 w 1309320"/>
                        <a:gd name="textAreaRight" fmla="*/ 1309680 w 130932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Freeform 79"/>
                    <p:cNvSpPr/>
                    <p:nvPr/>
                  </p:nvSpPr>
                  <p:spPr>
                    <a:xfrm rot="17742000">
                      <a:off x="5888520" y="485280"/>
                      <a:ext cx="701640" cy="355680"/>
                    </a:xfrm>
                    <a:custGeom>
                      <a:avLst/>
                      <a:gdLst>
                        <a:gd name="textAreaLeft" fmla="*/ 0 w 701640"/>
                        <a:gd name="textAreaRight" fmla="*/ 702000 w 701640"/>
                        <a:gd name="textAreaTop" fmla="*/ 0 h 355680"/>
                        <a:gd name="textAreaBottom" fmla="*/ 356040 h 355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7" name="Group 80"/>
                  <p:cNvGrpSpPr/>
                  <p:nvPr/>
                </p:nvGrpSpPr>
                <p:grpSpPr>
                  <a:xfrm>
                    <a:off x="5347080" y="387720"/>
                    <a:ext cx="1892880" cy="1797840"/>
                    <a:chOff x="5347080" y="387720"/>
                    <a:chExt cx="1892880" cy="1797840"/>
                  </a:xfrm>
                </p:grpSpPr>
                <p:sp>
                  <p:nvSpPr>
                    <p:cNvPr id="338" name="Freeform 81"/>
                    <p:cNvSpPr/>
                    <p:nvPr/>
                  </p:nvSpPr>
                  <p:spPr>
                    <a:xfrm rot="18822600">
                      <a:off x="5247000" y="1388160"/>
                      <a:ext cx="1425960" cy="33336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3360"/>
                        <a:gd name="textAreaBottom" fmla="*/ 333720 h 333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Freeform 82"/>
                    <p:cNvSpPr/>
                    <p:nvPr/>
                  </p:nvSpPr>
                  <p:spPr>
                    <a:xfrm rot="18822600">
                      <a:off x="6400800" y="583920"/>
                      <a:ext cx="767880" cy="525600"/>
                    </a:xfrm>
                    <a:custGeom>
                      <a:avLst/>
                      <a:gdLst>
                        <a:gd name="textAreaLeft" fmla="*/ 0 w 767880"/>
                        <a:gd name="textAreaRight" fmla="*/ 768240 w 767880"/>
                        <a:gd name="textAreaTop" fmla="*/ 0 h 525600"/>
                        <a:gd name="textAreaBottom" fmla="*/ 525960 h 525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0" name="Group 83"/>
                  <p:cNvGrpSpPr/>
                  <p:nvPr/>
                </p:nvGrpSpPr>
                <p:grpSpPr>
                  <a:xfrm>
                    <a:off x="5458320" y="292320"/>
                    <a:ext cx="426960" cy="1796040"/>
                    <a:chOff x="5458320" y="292320"/>
                    <a:chExt cx="426960" cy="1796040"/>
                  </a:xfrm>
                </p:grpSpPr>
                <p:sp>
                  <p:nvSpPr>
                    <p:cNvPr id="341" name="Freeform 84"/>
                    <p:cNvSpPr/>
                    <p:nvPr/>
                  </p:nvSpPr>
                  <p:spPr>
                    <a:xfrm rot="16696200">
                      <a:off x="5007600" y="1445040"/>
                      <a:ext cx="1175760" cy="10692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920"/>
                        <a:gd name="textAreaBottom" fmla="*/ 107280 h 106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Freeform 85"/>
                    <p:cNvSpPr/>
                    <p:nvPr/>
                  </p:nvSpPr>
                  <p:spPr>
                    <a:xfrm rot="16696200">
                      <a:off x="5441040" y="532440"/>
                      <a:ext cx="631080" cy="16812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8120"/>
                        <a:gd name="textAreaBottom" fmla="*/ 168480 h 168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3" name="Group 86"/>
                  <p:cNvGrpSpPr/>
                  <p:nvPr/>
                </p:nvGrpSpPr>
                <p:grpSpPr>
                  <a:xfrm>
                    <a:off x="3062880" y="2530440"/>
                    <a:ext cx="2196000" cy="3002400"/>
                    <a:chOff x="3062880" y="2530440"/>
                    <a:chExt cx="2196000" cy="3002400"/>
                  </a:xfrm>
                </p:grpSpPr>
                <p:sp>
                  <p:nvSpPr>
                    <p:cNvPr id="344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5560"/>
                    </a:xfrm>
                    <a:custGeom>
                      <a:avLst/>
                      <a:gdLst>
                        <a:gd name="textAreaLeft" fmla="*/ -360 w 2127960"/>
                        <a:gd name="textAreaRight" fmla="*/ 212796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Freeform 88"/>
                    <p:cNvSpPr/>
                    <p:nvPr/>
                  </p:nvSpPr>
                  <p:spPr>
                    <a:xfrm flipH="1" rot="18336000">
                      <a:off x="3069360" y="4592880"/>
                      <a:ext cx="1139040" cy="60264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6" name="Group 89"/>
                  <p:cNvGrpSpPr/>
                  <p:nvPr/>
                </p:nvGrpSpPr>
                <p:grpSpPr>
                  <a:xfrm>
                    <a:off x="3791520" y="2650320"/>
                    <a:ext cx="1482120" cy="2999160"/>
                    <a:chOff x="3791520" y="2650320"/>
                    <a:chExt cx="1482120" cy="2999160"/>
                  </a:xfrm>
                </p:grpSpPr>
                <p:sp>
                  <p:nvSpPr>
                    <p:cNvPr id="347" name="Freeform 90"/>
                    <p:cNvSpPr/>
                    <p:nvPr/>
                  </p:nvSpPr>
                  <p:spPr>
                    <a:xfrm flipH="1" rot="17543400">
                      <a:off x="3737520" y="3439440"/>
                      <a:ext cx="1965600" cy="385920"/>
                    </a:xfrm>
                    <a:custGeom>
                      <a:avLst/>
                      <a:gdLst>
                        <a:gd name="textAreaLeft" fmla="*/ 360 w 1965600"/>
                        <a:gd name="textAreaRight" fmla="*/ 1966320 w 196560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Freeform 91"/>
                    <p:cNvSpPr/>
                    <p:nvPr/>
                  </p:nvSpPr>
                  <p:spPr>
                    <a:xfrm flipH="1" rot="17543400">
                      <a:off x="3742560" y="4746600"/>
                      <a:ext cx="1054800" cy="601200"/>
                    </a:xfrm>
                    <a:custGeom>
                      <a:avLst/>
                      <a:gdLst>
                        <a:gd name="textAreaLeft" fmla="*/ 360 w 1054800"/>
                        <a:gd name="textAreaRight" fmla="*/ 1055520 w 1054800"/>
                        <a:gd name="textAreaTop" fmla="*/ 0 h 601200"/>
                        <a:gd name="textAreaBottom" fmla="*/ 601560 h 601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9" name="Group 92"/>
                  <p:cNvGrpSpPr/>
                  <p:nvPr/>
                </p:nvGrpSpPr>
                <p:grpSpPr>
                  <a:xfrm>
                    <a:off x="4508280" y="2703600"/>
                    <a:ext cx="874800" cy="2926800"/>
                    <a:chOff x="4508280" y="2703600"/>
                    <a:chExt cx="874800" cy="2926800"/>
                  </a:xfrm>
                </p:grpSpPr>
                <p:sp>
                  <p:nvSpPr>
                    <p:cNvPr id="350" name="Freeform 93"/>
                    <p:cNvSpPr/>
                    <p:nvPr/>
                  </p:nvSpPr>
                  <p:spPr>
                    <a:xfrm flipH="1" rot="16870800">
                      <a:off x="4086000" y="3489840"/>
                      <a:ext cx="1887840" cy="345960"/>
                    </a:xfrm>
                    <a:custGeom>
                      <a:avLst/>
                      <a:gdLst>
                        <a:gd name="textAreaLeft" fmla="*/ 360 w 1887840"/>
                        <a:gd name="textAreaRight" fmla="*/ 1888560 w 1887840"/>
                        <a:gd name="textAreaTop" fmla="*/ 0 h 345960"/>
                        <a:gd name="textAreaBottom" fmla="*/ 346320 h 345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Freeform 94"/>
                    <p:cNvSpPr/>
                    <p:nvPr/>
                  </p:nvSpPr>
                  <p:spPr>
                    <a:xfrm flipH="1" rot="16870800">
                      <a:off x="4367160" y="4808160"/>
                      <a:ext cx="1012320" cy="54540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5400"/>
                        <a:gd name="textAreaBottom" fmla="*/ 545760 h 545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2" name="Group 95"/>
                  <p:cNvGrpSpPr/>
                  <p:nvPr/>
                </p:nvGrpSpPr>
                <p:grpSpPr>
                  <a:xfrm>
                    <a:off x="5677200" y="2482920"/>
                    <a:ext cx="2280960" cy="2953080"/>
                    <a:chOff x="5677200" y="2482920"/>
                    <a:chExt cx="2280960" cy="2953080"/>
                  </a:xfrm>
                </p:grpSpPr>
                <p:sp>
                  <p:nvSpPr>
                    <p:cNvPr id="353" name="Freeform 96"/>
                    <p:cNvSpPr/>
                    <p:nvPr/>
                  </p:nvSpPr>
                  <p:spPr>
                    <a:xfrm rot="3144000">
                      <a:off x="5415120" y="3250800"/>
                      <a:ext cx="2129040" cy="386640"/>
                    </a:xfrm>
                    <a:custGeom>
                      <a:avLst/>
                      <a:gdLst>
                        <a:gd name="textAreaLeft" fmla="*/ 0 w 2129040"/>
                        <a:gd name="textAreaRight" fmla="*/ 2129400 w 2129040"/>
                        <a:gd name="textAreaTop" fmla="*/ 0 h 386640"/>
                        <a:gd name="textAreaBottom" fmla="*/ 387000 h 386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Freeform 97"/>
                    <p:cNvSpPr/>
                    <p:nvPr/>
                  </p:nvSpPr>
                  <p:spPr>
                    <a:xfrm rot="3144000">
                      <a:off x="6802920" y="4500360"/>
                      <a:ext cx="1138680" cy="601560"/>
                    </a:xfrm>
                    <a:custGeom>
                      <a:avLst/>
                      <a:gdLst>
                        <a:gd name="textAreaLeft" fmla="*/ 0 w 1138680"/>
                        <a:gd name="textAreaRight" fmla="*/ 1139040 w 1138680"/>
                        <a:gd name="textAreaTop" fmla="*/ 0 h 601560"/>
                        <a:gd name="textAreaBottom" fmla="*/ 601560 h 601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5" name="Group 98"/>
                  <p:cNvGrpSpPr/>
                  <p:nvPr/>
                </p:nvGrpSpPr>
                <p:grpSpPr>
                  <a:xfrm>
                    <a:off x="5648760" y="2592720"/>
                    <a:ext cx="1757520" cy="3033720"/>
                    <a:chOff x="5648760" y="2592720"/>
                    <a:chExt cx="1757520" cy="3033720"/>
                  </a:xfrm>
                </p:grpSpPr>
                <p:sp>
                  <p:nvSpPr>
                    <p:cNvPr id="356" name="Freeform 99"/>
                    <p:cNvSpPr/>
                    <p:nvPr/>
                  </p:nvSpPr>
                  <p:spPr>
                    <a:xfrm rot="3745200">
                      <a:off x="5267520" y="3393720"/>
                      <a:ext cx="2033280" cy="371520"/>
                    </a:xfrm>
                    <a:custGeom>
                      <a:avLst/>
                      <a:gdLst>
                        <a:gd name="textAreaLeft" fmla="*/ 0 w 2033280"/>
                        <a:gd name="textAreaRight" fmla="*/ 2033640 w 2033280"/>
                        <a:gd name="textAreaTop" fmla="*/ 0 h 371520"/>
                        <a:gd name="textAreaBottom" fmla="*/ 371880 h 3715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Freeform 100"/>
                    <p:cNvSpPr/>
                    <p:nvPr/>
                  </p:nvSpPr>
                  <p:spPr>
                    <a:xfrm rot="3745200">
                      <a:off x="6350760" y="4718880"/>
                      <a:ext cx="1091520" cy="579240"/>
                    </a:xfrm>
                    <a:custGeom>
                      <a:avLst/>
                      <a:gdLst>
                        <a:gd name="textAreaLeft" fmla="*/ 0 w 1091520"/>
                        <a:gd name="textAreaRight" fmla="*/ 1091880 w 1091520"/>
                        <a:gd name="textAreaTop" fmla="*/ 0 h 579240"/>
                        <a:gd name="textAreaBottom" fmla="*/ 579600 h 579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8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359" name="Freeform 102"/>
                    <p:cNvSpPr/>
                    <p:nvPr/>
                  </p:nvSpPr>
                  <p:spPr>
                    <a:xfrm rot="4286400">
                      <a:off x="5047200" y="3542040"/>
                      <a:ext cx="1972080" cy="302760"/>
                    </a:xfrm>
                    <a:custGeom>
                      <a:avLst/>
                      <a:gdLst>
                        <a:gd name="textAreaLeft" fmla="*/ 0 w 1972080"/>
                        <a:gd name="textAreaRight" fmla="*/ 1972440 w 197208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1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362" name="Freeform 105"/>
                    <p:cNvSpPr/>
                    <p:nvPr/>
                  </p:nvSpPr>
                  <p:spPr>
                    <a:xfrm rot="4898400">
                      <a:off x="4897440" y="3606840"/>
                      <a:ext cx="1811160" cy="303120"/>
                    </a:xfrm>
                    <a:custGeom>
                      <a:avLst/>
                      <a:gdLst>
                        <a:gd name="textAreaLeft" fmla="*/ 0 w 1811160"/>
                        <a:gd name="textAreaRight" fmla="*/ 1811520 w 18111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Freeform 106"/>
                    <p:cNvSpPr/>
                    <p:nvPr/>
                  </p:nvSpPr>
                  <p:spPr>
                    <a:xfrm rot="4898400">
                      <a:off x="5425920" y="4864680"/>
                      <a:ext cx="972720" cy="475560"/>
                    </a:xfrm>
                    <a:custGeom>
                      <a:avLst/>
                      <a:gdLst>
                        <a:gd name="textAreaLeft" fmla="*/ 0 w 972720"/>
                        <a:gd name="textAreaRight" fmla="*/ 973080 w 97272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67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368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369" name="Arc 112"/>
                  <p:cNvSpPr/>
                  <p:nvPr/>
                </p:nvSpPr>
                <p:spPr>
                  <a:xfrm flipV="1">
                    <a:off x="5743080" y="857880"/>
                    <a:ext cx="3163680" cy="2523960"/>
                  </a:xfrm>
                  <a:custGeom>
                    <a:avLst/>
                    <a:gdLst>
                      <a:gd name="textAreaLeft" fmla="*/ 0 w 3163680"/>
                      <a:gd name="textAreaRight" fmla="*/ 3164040 w 316368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Arc 114"/>
                  <p:cNvSpPr/>
                  <p:nvPr/>
                </p:nvSpPr>
                <p:spPr>
                  <a:xfrm>
                    <a:off x="5820840" y="1752840"/>
                    <a:ext cx="1757160" cy="2934360"/>
                  </a:xfrm>
                  <a:custGeom>
                    <a:avLst/>
                    <a:gdLst>
                      <a:gd name="textAreaLeft" fmla="*/ 0 w 1757160"/>
                      <a:gd name="textAreaRight" fmla="*/ 1757520 w 175716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Arc 115"/>
                  <p:cNvSpPr/>
                  <p:nvPr/>
                </p:nvSpPr>
                <p:spPr>
                  <a:xfrm flipH="1">
                    <a:off x="2175480" y="1297800"/>
                    <a:ext cx="3134160" cy="2934360"/>
                  </a:xfrm>
                  <a:custGeom>
                    <a:avLst/>
                    <a:gdLst>
                      <a:gd name="textAreaLeft" fmla="*/ 360 w 3134160"/>
                      <a:gd name="textAreaRight" fmla="*/ 3134880 w 313416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Arc 116"/>
                  <p:cNvSpPr/>
                  <p:nvPr/>
                </p:nvSpPr>
                <p:spPr>
                  <a:xfrm flipH="1">
                    <a:off x="305892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Arc 117"/>
                  <p:cNvSpPr/>
                  <p:nvPr/>
                </p:nvSpPr>
                <p:spPr>
                  <a:xfrm>
                    <a:off x="5493240" y="1875960"/>
                    <a:ext cx="942840" cy="2840760"/>
                  </a:xfrm>
                  <a:custGeom>
                    <a:avLst/>
                    <a:gdLst>
                      <a:gd name="textAreaLeft" fmla="*/ 0 w 942840"/>
                      <a:gd name="textAreaRight" fmla="*/ 943200 w 9428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Freeform 118"/>
                  <p:cNvSpPr/>
                  <p:nvPr/>
                </p:nvSpPr>
                <p:spPr>
                  <a:xfrm flipH="1">
                    <a:off x="4306320" y="836280"/>
                    <a:ext cx="514800" cy="1879200"/>
                  </a:xfrm>
                  <a:custGeom>
                    <a:avLst/>
                    <a:gdLst>
                      <a:gd name="textAreaLeft" fmla="*/ 360 w 514800"/>
                      <a:gd name="textAreaRight" fmla="*/ 515520 w 51480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7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78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79" name="Arc 122"/>
              <p:cNvSpPr/>
              <p:nvPr/>
            </p:nvSpPr>
            <p:spPr>
              <a:xfrm flipH="1">
                <a:off x="3383280" y="2579760"/>
                <a:ext cx="2613960" cy="2841120"/>
              </a:xfrm>
              <a:custGeom>
                <a:avLst/>
                <a:gdLst>
                  <a:gd name="textAreaLeft" fmla="*/ -360 w 2613960"/>
                  <a:gd name="textAreaRight" fmla="*/ 2613960 w 261396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0" name="Arc 123"/>
              <p:cNvSpPr/>
              <p:nvPr/>
            </p:nvSpPr>
            <p:spPr>
              <a:xfrm flipH="1">
                <a:off x="3644640" y="2122200"/>
                <a:ext cx="1536120" cy="2934000"/>
              </a:xfrm>
              <a:custGeom>
                <a:avLst/>
                <a:gdLst>
                  <a:gd name="textAreaLeft" fmla="*/ -360 w 1536120"/>
                  <a:gd name="textAreaRight" fmla="*/ 1536120 w 15361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1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2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3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4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5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6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7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8" name="Freeform 131"/>
              <p:cNvSpPr/>
              <p:nvPr/>
            </p:nvSpPr>
            <p:spPr>
              <a:xfrm>
                <a:off x="7511400" y="3107880"/>
                <a:ext cx="1241640" cy="197280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2800"/>
                  <a:gd name="textAreaBottom" fmla="*/ 1973160 h 1972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9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90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91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191A-D28A-4460-AFC5-EED8980DF652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3300"/>
                </a:solidFill>
                <a:latin typeface="Tahoma"/>
              </a:rPr>
              <a:t>Игра-путешествие </a:t>
            </a:r>
            <a:br>
              <a:rPr sz="3600"/>
            </a:br>
            <a:r>
              <a:rPr b="0" lang="uk-UA" sz="3600" spc="-1" strike="noStrike">
                <a:solidFill>
                  <a:srgbClr val="ff3300"/>
                </a:solidFill>
                <a:latin typeface="Tahoma"/>
              </a:rPr>
              <a:t>“ К планете квадратичной функции”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 ( 9 класс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644"/>
                </a:solidFill>
                <a:latin typeface="Tahoma"/>
              </a:rPr>
              <a:t>УВК № 137 г.Днепропетровс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644"/>
                </a:solidFill>
                <a:latin typeface="Tahoma"/>
              </a:rPr>
              <a:t>Учитель математики Рослюк Н.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ahoma"/>
              </a:rPr>
              <a:t>         </a:t>
            </a:r>
            <a:r>
              <a:rPr b="1" i="1" lang="ru-RU" sz="4000" spc="-1" strike="noStrike">
                <a:solidFill>
                  <a:srgbClr val="6600cc"/>
                </a:solidFill>
                <a:latin typeface="Tahoma"/>
              </a:rPr>
              <a:t>Планетная разми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Что называют функци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Что называют областью определения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Что называют областью значения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Способы задания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Что называют графиком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Что называют нулями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AutoShape 6">
            <a:hlinkClick r:id="rId2" action="ppaction://hlinksldjump"/>
          </p:cNvPr>
          <p:cNvSpPr/>
          <p:nvPr/>
        </p:nvSpPr>
        <p:spPr>
          <a:xfrm>
            <a:off x="831708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8489"/>
                </a:moveTo>
                <a:lnTo>
                  <a:pt x="7301" y="8489"/>
                </a:lnTo>
                <a:lnTo>
                  <a:pt x="7301" y="13825"/>
                </a:lnTo>
                <a:cubicBezTo>
                  <a:pt x="7301" y="14747"/>
                  <a:pt x="8102" y="15478"/>
                  <a:pt x="9138" y="15478"/>
                </a:cubicBezTo>
                <a:lnTo>
                  <a:pt x="10800" y="15478"/>
                </a:lnTo>
                <a:cubicBezTo>
                  <a:pt x="11836" y="15478"/>
                  <a:pt x="12636" y="14747"/>
                  <a:pt x="12636" y="13825"/>
                </a:cubicBezTo>
                <a:lnTo>
                  <a:pt x="12636" y="8489"/>
                </a:lnTo>
                <a:lnTo>
                  <a:pt x="10800" y="8489"/>
                </a:lnTo>
                <a:lnTo>
                  <a:pt x="14308" y="4982"/>
                </a:lnTo>
                <a:lnTo>
                  <a:pt x="17981" y="8489"/>
                </a:lnTo>
                <a:lnTo>
                  <a:pt x="16144" y="8489"/>
                </a:lnTo>
                <a:lnTo>
                  <a:pt x="16144" y="13825"/>
                </a:lnTo>
                <a:cubicBezTo>
                  <a:pt x="16144" y="16592"/>
                  <a:pt x="13568" y="19151"/>
                  <a:pt x="10800" y="19151"/>
                </a:cubicBezTo>
                <a:lnTo>
                  <a:pt x="9138" y="19151"/>
                </a:lnTo>
                <a:cubicBezTo>
                  <a:pt x="6370" y="19151"/>
                  <a:pt x="3794" y="16592"/>
                  <a:pt x="3794" y="1382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Tahoma"/>
              </a:rPr>
              <a:t>Межгалактические связ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Какая функция называется убывающей а какая возрастающ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Как определить четность и нечетность функци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Как определить положительное значение функции и отрицательно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Перечислите известные вам функц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5" descr="Михаил Леонтьевич Магницкий"/>
          <p:cNvPicPr/>
          <p:nvPr/>
        </p:nvPicPr>
        <p:blipFill>
          <a:blip r:embed="rId2"/>
          <a:stretch/>
        </p:blipFill>
        <p:spPr>
          <a:xfrm>
            <a:off x="611280" y="1341360"/>
            <a:ext cx="2376360" cy="46800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4"/>
          <p:cNvSpPr/>
          <p:nvPr/>
        </p:nvSpPr>
        <p:spPr>
          <a:xfrm>
            <a:off x="3348000" y="2421000"/>
            <a:ext cx="52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«Арифметика –  наука числительная»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«Арифметика…есть художество честное, независимое, много полезнейшее и много похвальнейшее…»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                                            </a:t>
            </a: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М.Л.Магницкий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1" name="WordArt 15"/>
          <p:cNvSpPr txBox="1"/>
          <p:nvPr/>
        </p:nvSpPr>
        <p:spPr>
          <a:xfrm>
            <a:off x="1692360" y="33336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гницкий Михаил Леонтьевич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Планета квадратичной функции задает вопрос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644"/>
                </a:solidFill>
                <a:latin typeface="Tahoma"/>
              </a:rPr>
              <a:t>1.Что называют  квадратным трехчленом? Приведите примеры на доск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644"/>
                </a:solidFill>
                <a:latin typeface="Tahoma"/>
              </a:rPr>
              <a:t>Что называют корнями квадратного трехчле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644"/>
                </a:solidFill>
                <a:latin typeface="Tahoma"/>
              </a:rPr>
              <a:t>2.Выделите квадрат двучлена из квадратного трехчлена</a:t>
            </a:r>
            <a:r>
              <a:rPr b="0" lang="en-US" sz="2800" spc="-1" strike="noStrike">
                <a:solidFill>
                  <a:srgbClr val="f2f644"/>
                </a:solidFill>
                <a:latin typeface="Tahoma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у = -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²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х- 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644"/>
                </a:solidFill>
                <a:latin typeface="Tahoma"/>
              </a:rPr>
              <a:t>Разложите квадратный трехчлен на множители</a:t>
            </a:r>
            <a:r>
              <a:rPr b="0" lang="en-US" sz="2800" spc="-1" strike="noStrike">
                <a:solidFill>
                  <a:srgbClr val="f2f644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у = 2х² - 5х+ 3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у = х² + 3х+ 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А вам это интересно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о всех стихах она воспета теорема знаменитого Виета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 кто он?????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ет Франсуа (1540-1603) - французский математик. Разработал почти всю элементарную алгебру. Известны «формулы Виета», дающие зависимость между корнями и коэффициентами алгебраического уравнения. Ввел буквенные обозначения для коэффициентов в уравнения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8" name="Picture 4" descr="re_viet_fransua"/>
          <p:cNvPicPr/>
          <p:nvPr/>
        </p:nvPicPr>
        <p:blipFill>
          <a:blip r:embed="rId1"/>
          <a:stretch/>
        </p:blipFill>
        <p:spPr>
          <a:xfrm>
            <a:off x="250920" y="260280"/>
            <a:ext cx="17143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2f644"/>
                </a:solidFill>
                <a:latin typeface="Tahoma"/>
              </a:rPr>
              <a:t>Перед вами Планета  квадратичной  функции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600"/>
                </a:solidFill>
                <a:latin typeface="Tahoma"/>
              </a:rPr>
              <a:t>Какую функцию называют квадратичн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Что является графиком квадратичной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Постройте график квадратичной функц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у= -2(х+1)²-1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;    </a:t>
            </a: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у=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(х-4)²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Удачи вам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Tahoma"/>
              </a:rPr>
              <a:t>Это интересно знать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 древности такого термина не было. Его ввёл в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VII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в. французский математик Виет Франсуа, в переводе с латинского означает «спица колеса». Что эт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2700360" y="4437000"/>
            <a:ext cx="215892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3780000" y="53737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5" name="Text Box 11"/>
          <p:cNvSpPr/>
          <p:nvPr/>
        </p:nvSpPr>
        <p:spPr>
          <a:xfrm>
            <a:off x="3494880" y="558972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6" name="Line 12"/>
          <p:cNvSpPr/>
          <p:nvPr/>
        </p:nvSpPr>
        <p:spPr>
          <a:xfrm flipH="1" flipV="1">
            <a:off x="3276720" y="4508280"/>
            <a:ext cx="50328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3784320" y="5157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8" name="AutoShape 14">
            <a:hlinkClick r:id="rId2" action="ppaction://hlinksldjump"/>
          </p:cNvPr>
          <p:cNvSpPr/>
          <p:nvPr/>
        </p:nvSpPr>
        <p:spPr>
          <a:xfrm>
            <a:off x="831708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8489"/>
                </a:moveTo>
                <a:lnTo>
                  <a:pt x="7301" y="8489"/>
                </a:lnTo>
                <a:lnTo>
                  <a:pt x="7301" y="13825"/>
                </a:lnTo>
                <a:cubicBezTo>
                  <a:pt x="7301" y="14747"/>
                  <a:pt x="8102" y="15478"/>
                  <a:pt x="9138" y="15478"/>
                </a:cubicBezTo>
                <a:lnTo>
                  <a:pt x="10800" y="15478"/>
                </a:lnTo>
                <a:cubicBezTo>
                  <a:pt x="11836" y="15478"/>
                  <a:pt x="12636" y="14747"/>
                  <a:pt x="12636" y="13825"/>
                </a:cubicBezTo>
                <a:lnTo>
                  <a:pt x="12636" y="8489"/>
                </a:lnTo>
                <a:lnTo>
                  <a:pt x="10800" y="8489"/>
                </a:lnTo>
                <a:lnTo>
                  <a:pt x="14308" y="4982"/>
                </a:lnTo>
                <a:lnTo>
                  <a:pt x="17981" y="8489"/>
                </a:lnTo>
                <a:lnTo>
                  <a:pt x="16144" y="8489"/>
                </a:lnTo>
                <a:lnTo>
                  <a:pt x="16144" y="13825"/>
                </a:lnTo>
                <a:cubicBezTo>
                  <a:pt x="16144" y="16592"/>
                  <a:pt x="13568" y="19151"/>
                  <a:pt x="10800" y="19151"/>
                </a:cubicBezTo>
                <a:lnTo>
                  <a:pt x="9138" y="19151"/>
                </a:lnTo>
                <a:cubicBezTo>
                  <a:pt x="6370" y="19151"/>
                  <a:pt x="3794" y="16592"/>
                  <a:pt x="3794" y="1382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Еще одно испытание!!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нимание!!!!!!!! В руках экспертов появится новое задание. Определите знаки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cc00"/>
                </a:solidFill>
                <a:latin typeface="Tahoma"/>
              </a:rPr>
              <a:t>дискрименанта и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оэффициентов а,в,с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Arial Black"/>
              </a:rPr>
              <a:t>4.         ГЕНИЙ </a:t>
            </a:r>
            <a:r>
              <a:rPr b="1" lang="en-US" sz="4000" spc="-1" strike="noStrike">
                <a:solidFill>
                  <a:srgbClr val="996633"/>
                </a:solidFill>
                <a:latin typeface="Arial Black"/>
              </a:rPr>
              <a:t>XVIII </a:t>
            </a:r>
            <a:r>
              <a:rPr b="1" lang="ru-RU" sz="4000" spc="-1" strike="noStrike">
                <a:solidFill>
                  <a:srgbClr val="996633"/>
                </a:solidFill>
                <a:latin typeface="Arial Black"/>
              </a:rPr>
              <a:t>века</a:t>
            </a:r>
            <a:br>
              <a:rPr sz="4000"/>
            </a:br>
            <a:r>
              <a:rPr b="1" lang="ru-RU" sz="4000" spc="-1" strike="noStrike">
                <a:solidFill>
                  <a:srgbClr val="996633"/>
                </a:solidFill>
                <a:latin typeface="Arial Black"/>
              </a:rPr>
              <a:t>             Леонард Эйлер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2" name="Picture 5" descr="эйлер"/>
          <p:cNvPicPr/>
          <p:nvPr/>
        </p:nvPicPr>
        <p:blipFill>
          <a:blip r:embed="rId2"/>
          <a:stretch/>
        </p:blipFill>
        <p:spPr>
          <a:xfrm>
            <a:off x="324000" y="1989000"/>
            <a:ext cx="3717720" cy="442296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4427640" y="3573360"/>
            <a:ext cx="410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В петербургской жизни сложился как великий ученый. </a:t>
            </a:r>
            <a:r>
              <a:rPr b="1" i="1" lang="ru-RU" sz="1800" spc="-1" strike="noStrike">
                <a:solidFill>
                  <a:srgbClr val="ffcc00"/>
                </a:solidFill>
                <a:latin typeface="Times New Roman"/>
              </a:rPr>
              <a:t>Леонард Эйлер (1707-1783) - швейцарский математик. 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Совершил удивительные открытия в области алгебры и тригонометрии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4" name="AutoShape 9">
            <a:hlinkClick r:id="" action="ppaction://hlinkshowjump?jump=nextslide"/>
          </p:cNvPr>
          <p:cNvSpPr/>
          <p:nvPr/>
        </p:nvSpPr>
        <p:spPr>
          <a:xfrm>
            <a:off x="824400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3794" y="4630"/>
                </a:moveTo>
                <a:lnTo>
                  <a:pt x="17806" y="11636"/>
                </a:lnTo>
                <a:lnTo>
                  <a:pt x="3794" y="18643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4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Галактика позна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Picture 8" descr="Картиночки 705"/>
          <p:cNvPicPr/>
          <p:nvPr/>
        </p:nvPicPr>
        <p:blipFill>
          <a:blip r:embed="rId1"/>
          <a:stretch/>
        </p:blipFill>
        <p:spPr>
          <a:xfrm>
            <a:off x="250920" y="1341360"/>
            <a:ext cx="8893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вадратные вопросики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то называют квадратичным неравенством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акими  методами можно решать квадратичные  неравенства 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Докажите что это вам под силу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2f644"/>
                </a:solidFill>
                <a:latin typeface="Arial Black"/>
              </a:rPr>
              <a:t>Кого из известных женщин математиков прозвали «принцессой науки»</a:t>
            </a:r>
            <a:r>
              <a:rPr b="0" lang="en-US" sz="3400" spc="-1" strike="noStrike">
                <a:solidFill>
                  <a:srgbClr val="f2f644"/>
                </a:solidFill>
                <a:latin typeface="Arial Black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99"/>
                </a:solidFill>
                <a:latin typeface="Arial Black"/>
              </a:rPr>
              <a:t>1)Екатерина Нарышкина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99"/>
                </a:solidFill>
                <a:latin typeface="Arial Black"/>
              </a:rPr>
              <a:t>2) Людмила Келдыш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99"/>
                </a:solidFill>
                <a:latin typeface="Arial Black"/>
              </a:rPr>
              <a:t>3) Ольга Ладыженская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600" spc="-1" strike="noStrike">
                <a:solidFill>
                  <a:srgbClr val="ff3399"/>
                </a:solidFill>
                <a:latin typeface="Arial Black"/>
              </a:rPr>
              <a:t>4) Софья Ковалевская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2340000" y="5157720"/>
            <a:ext cx="1332000" cy="14479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"/>
          <p:cNvPicPr/>
          <p:nvPr/>
        </p:nvPicPr>
        <p:blipFill>
          <a:blip r:embed="rId2"/>
          <a:stretch/>
        </p:blipFill>
        <p:spPr>
          <a:xfrm>
            <a:off x="1403280" y="2708280"/>
            <a:ext cx="1236600" cy="1600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6" descr=""/>
          <p:cNvPicPr/>
          <p:nvPr/>
        </p:nvPicPr>
        <p:blipFill>
          <a:blip r:embed="rId3"/>
          <a:stretch/>
        </p:blipFill>
        <p:spPr>
          <a:xfrm>
            <a:off x="5867280" y="1844640"/>
            <a:ext cx="986040" cy="1371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"/>
          <p:cNvPicPr/>
          <p:nvPr/>
        </p:nvPicPr>
        <p:blipFill>
          <a:blip r:embed="rId4"/>
          <a:stretch/>
        </p:blipFill>
        <p:spPr>
          <a:xfrm>
            <a:off x="6443640" y="3860640"/>
            <a:ext cx="1122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692360" y="1988640"/>
            <a:ext cx="650088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Где в жизни можно встретиться с квадратичной функцией?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WordArt 5"/>
          <p:cNvSpPr txBox="1"/>
          <p:nvPr/>
        </p:nvSpPr>
        <p:spPr>
          <a:xfrm>
            <a:off x="900000" y="620640"/>
            <a:ext cx="705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5" name="Picture 6" descr="mouse"/>
          <p:cNvPicPr/>
          <p:nvPr/>
        </p:nvPicPr>
        <p:blipFill>
          <a:blip r:embed="rId4"/>
          <a:stretch/>
        </p:blipFill>
        <p:spPr>
          <a:xfrm>
            <a:off x="324000" y="4724280"/>
            <a:ext cx="14698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Tahoma"/>
              </a:rPr>
              <a:t>Уважаемые</a:t>
            </a:r>
            <a:r>
              <a:rPr b="0" lang="uk-UA" sz="4000" spc="-1" strike="noStrike">
                <a:solidFill>
                  <a:srgbClr val="993366"/>
                </a:solidFill>
                <a:latin typeface="Tahoma"/>
              </a:rPr>
              <a:t> путешественники </a:t>
            </a:r>
            <a:r>
              <a:rPr b="0" lang="ru-RU" sz="4000" spc="-1" strike="noStrike">
                <a:solidFill>
                  <a:srgbClr val="993366"/>
                </a:solidFill>
                <a:latin typeface="Tahoma"/>
              </a:rPr>
              <a:t>! Вы можете передохнуть и узнать что-то ново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530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0355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630355"/>
                </a:solidFill>
                <a:latin typeface="Tahoma"/>
              </a:rPr>
              <a:t>Кто из математиков был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0355"/>
                </a:solidFill>
                <a:latin typeface="Tahoma"/>
              </a:rPr>
              <a:t>чемпионом олимпийских игр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Пифаго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8" name="Picture 5" descr="13-3"/>
          <p:cNvPicPr/>
          <p:nvPr/>
        </p:nvPicPr>
        <p:blipFill>
          <a:blip r:embed="rId1"/>
          <a:stretch/>
        </p:blipFill>
        <p:spPr>
          <a:xfrm>
            <a:off x="4427640" y="5084640"/>
            <a:ext cx="1195200" cy="126684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6">
            <a:hlinkClick r:id="rId2" action="ppaction://hlinksldjump"/>
          </p:cNvPr>
          <p:cNvSpPr/>
          <p:nvPr/>
        </p:nvSpPr>
        <p:spPr>
          <a:xfrm>
            <a:off x="817236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7493"/>
                </a:moveTo>
                <a:lnTo>
                  <a:pt x="9569" y="7493"/>
                </a:lnTo>
                <a:lnTo>
                  <a:pt x="9569" y="12828"/>
                </a:lnTo>
                <a:cubicBezTo>
                  <a:pt x="9569" y="13751"/>
                  <a:pt x="10370" y="14482"/>
                  <a:pt x="11405" y="14482"/>
                </a:cubicBezTo>
                <a:lnTo>
                  <a:pt x="13068" y="14482"/>
                </a:lnTo>
                <a:cubicBezTo>
                  <a:pt x="14103" y="14482"/>
                  <a:pt x="14904" y="13751"/>
                  <a:pt x="14904" y="12828"/>
                </a:cubicBezTo>
                <a:lnTo>
                  <a:pt x="14904" y="7493"/>
                </a:lnTo>
                <a:lnTo>
                  <a:pt x="13068" y="7493"/>
                </a:lnTo>
                <a:lnTo>
                  <a:pt x="16575" y="3985"/>
                </a:lnTo>
                <a:lnTo>
                  <a:pt x="20248" y="7493"/>
                </a:lnTo>
                <a:lnTo>
                  <a:pt x="18412" y="7493"/>
                </a:lnTo>
                <a:lnTo>
                  <a:pt x="18412" y="12828"/>
                </a:lnTo>
                <a:cubicBezTo>
                  <a:pt x="18412" y="15596"/>
                  <a:pt x="15835" y="18155"/>
                  <a:pt x="13068" y="18155"/>
                </a:cubicBezTo>
                <a:lnTo>
                  <a:pt x="11405" y="18155"/>
                </a:lnTo>
                <a:cubicBezTo>
                  <a:pt x="8637" y="18155"/>
                  <a:pt x="6061" y="15596"/>
                  <a:pt x="6061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Arial Black"/>
              </a:rPr>
              <a:t>Замечательное  космическое путешествие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Уважаемые путешественники ! Вы проявили все свои знания и умения! Вас ждут новые открытия и победы! Удачи вам в освоении космических пространств математики!!!!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 мы возвращаемся на нашу любимую планету ЗЕМЛЯ!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3" name="Picture 4" descr="Картиночки 17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5" name="Picture 6" descr="129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7" name="Picture 4" descr="КОМЕ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9" name="Picture 4" descr="ЗЕМЛЯ"/>
          <p:cNvPicPr/>
          <p:nvPr/>
        </p:nvPicPr>
        <p:blipFill>
          <a:blip r:embed="rId1"/>
          <a:stretch/>
        </p:blipFill>
        <p:spPr>
          <a:xfrm>
            <a:off x="395280" y="0"/>
            <a:ext cx="8964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уманности созерц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4" descr="Картиночки 1807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звездия разу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0" name="Picture 6" descr="SPACE_~3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 планетам математики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2" name="Picture 4" descr="Картиночки 630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d4917"/>
              </a:solidFill>
              <a:latin typeface="Tahoma"/>
            </a:endParaRPr>
          </a:p>
        </p:txBody>
      </p:sp>
      <p:pic>
        <p:nvPicPr>
          <p:cNvPr id="444" name="Picture 4" descr="13-3"/>
          <p:cNvPicPr/>
          <p:nvPr/>
        </p:nvPicPr>
        <p:blipFill>
          <a:blip r:embed="rId1"/>
          <a:stretch/>
        </p:blipFill>
        <p:spPr>
          <a:xfrm>
            <a:off x="4384800" y="5300640"/>
            <a:ext cx="1195200" cy="1266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Картиночки 175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d4917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Уважаемые знатоки  9-Б класса вас приветствует планета Великих математ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8" name="Picture 4" descr="13-3"/>
          <p:cNvPicPr/>
          <p:nvPr/>
        </p:nvPicPr>
        <p:blipFill>
          <a:blip r:embed="rId1"/>
          <a:stretch/>
        </p:blipFill>
        <p:spPr>
          <a:xfrm>
            <a:off x="4384800" y="5300640"/>
            <a:ext cx="1195200" cy="12668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backdrop01"/>
          <p:cNvPicPr/>
          <p:nvPr/>
        </p:nvPicPr>
        <p:blipFill>
          <a:blip r:embed="rId2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бята 9-б класса!!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644"/>
                </a:solidFill>
                <a:latin typeface="Tahoma"/>
              </a:rPr>
              <a:t>Вас приветствует </a:t>
            </a:r>
            <a:r>
              <a:rPr b="0" lang="en-US" sz="6000" spc="-1" strike="noStrike">
                <a:solidFill>
                  <a:srgbClr val="f2f644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2f644"/>
                </a:solidFill>
                <a:latin typeface="Tahoma"/>
              </a:rPr>
              <a:t>Созвездие  Великих математиков!!!!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Изображение 058"/>
          <p:cNvPicPr/>
          <p:nvPr/>
        </p:nvPicPr>
        <p:blipFill>
          <a:blip r:embed="rId1"/>
          <a:stretch/>
        </p:blipFill>
        <p:spPr>
          <a:xfrm>
            <a:off x="1763640" y="2852640"/>
            <a:ext cx="4953240" cy="4005360"/>
          </a:xfrm>
          <a:prstGeom prst="rect">
            <a:avLst/>
          </a:prstGeom>
          <a:ln w="0">
            <a:noFill/>
          </a:ln>
        </p:spPr>
      </p:pic>
      <p:sp>
        <p:nvSpPr>
          <p:cNvPr id="453" name="Oval 5"/>
          <p:cNvSpPr/>
          <p:nvPr/>
        </p:nvSpPr>
        <p:spPr>
          <a:xfrm>
            <a:off x="324000" y="0"/>
            <a:ext cx="8243640" cy="2708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omic Sans MS"/>
              </a:rPr>
              <a:t>Если что-то хочешь знать надо ум свой прилагать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omic Sans MS"/>
              </a:rPr>
              <a:t>Математику с толком изучай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omic Sans MS"/>
              </a:rPr>
              <a:t>и на  нашей планете быстро отвечай!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00:52:54Z</dcterms:created>
  <dc:creator>111</dc:creator>
  <dc:description/>
  <dc:language>en-US</dc:language>
  <cp:lastModifiedBy>Евгений</cp:lastModifiedBy>
  <dcterms:modified xsi:type="dcterms:W3CDTF">2014-03-19T06:56:15Z</dcterms:modified>
  <cp:revision>35</cp:revision>
  <dc:subject/>
  <dc:title>ЧТО? ГДЕ? КОГДА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1b000000000001024140</vt:lpwstr>
  </property>
</Properties>
</file>