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gif" ContentType="image/gif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DE87-08EE-4F66-A686-7AC6706CF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811C-7572-4A63-82D1-B435629A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34E0-41F9-4EF8-8A7B-95DCAEDFA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96CA-1D48-4594-ABBB-9B7C750A3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EBB39-9E55-42BC-98C8-761821012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53D99-0307-4D6D-A6E5-97BB2756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20ED-3F72-420B-8B4C-14027D80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8880-D10C-4511-92DF-81E719B8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6829-D8CE-48CE-9A12-02F0B81A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B74B-3082-46A8-9CE6-47D2D00F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D9B5-F7A7-4C7C-A30C-F3CF7527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2D97-5BDC-48CF-B713-17AA10DF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8E7A-06F3-4A8C-AD55-5F08FCAB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AB93-F726-4247-9B4F-BB5C98B4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0D52-19AF-4020-9143-98E14664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7AAF-33F2-45A2-B8DF-1FB11E23F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3284-CB1B-4D8A-B123-63FC13201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83BE81-9EF1-4BFB-B14B-B31B0068F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B46480-5E6A-42B0-8C0D-8E6C8EAC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DB312F-9FB7-48D1-900C-59674F3A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C7B697-EF53-4D4B-8045-FFD5FC80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493786-BFEF-4677-B875-368F17CB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53FB-6987-4100-AEFD-B1CE7A92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2478FC-0274-49ED-B0B8-E64E9897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B2EEE6-81F5-47B4-A38E-EFD8781E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8070C8-7331-4DF9-AD76-756C3E46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11801B-6C4A-4121-B273-A50DE552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D806CD-4F65-473D-886A-81409652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D63045-BF3A-4E04-941B-30C8BB54A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753C26-A3C3-4CD7-AA33-83BD0A28B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DB0E5-DC04-4337-AFFD-FA4AC09FD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412E5-21DC-41DC-BC74-337FFF0B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6127C-ECFE-452E-B973-455CFFB5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3991-D2B2-4C57-9A0C-3B56E0BF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E9F62-79AD-4257-B0C3-3A3E8121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12F1D-ED3D-4FB6-898C-A6FF5388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7BEC4-F785-46B8-8458-FE5B1BFE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952FB-41C7-4B79-8690-09DAA329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3B4B8-1CE2-4495-923E-3C0F885F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E11B0-935C-48F0-A83F-4C15F722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DE53A-896E-4F4F-95BE-58E32324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92B22-51B1-4436-8CE8-148DD4019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D0F9E-98AE-44EB-BE2C-94497B7DE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E2B5-0C9A-48E4-8C59-28ABFB84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00E4-67A6-4EAB-9E82-784EDC9B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AB89-25D1-4DFD-BE3D-0289CBFB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7609-3543-4947-B03E-89B1187D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DAA3-0FA2-471D-B384-B045C309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D34A-84FD-429D-8959-DFB2C703209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6273360" y="-21600"/>
            <a:ext cx="2870280" cy="3275640"/>
            <a:chOff x="6273360" y="-21600"/>
            <a:chExt cx="2870280" cy="3275640"/>
          </a:xfrm>
        </p:grpSpPr>
        <p:grpSp>
          <p:nvGrpSpPr>
            <p:cNvPr id="42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44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</p:grpSp>
        <p:grpSp>
          <p:nvGrpSpPr>
            <p:cNvPr id="48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50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Group 12"/>
            <p:cNvGrpSpPr/>
            <p:nvPr/>
          </p:nvGrpSpPr>
          <p:grpSpPr>
            <a:xfrm>
              <a:off x="6273360" y="-21600"/>
              <a:ext cx="2870280" cy="2269080"/>
              <a:chOff x="6273360" y="-21600"/>
              <a:chExt cx="2870280" cy="2269080"/>
            </a:xfrm>
          </p:grpSpPr>
          <p:grpSp>
            <p:nvGrpSpPr>
              <p:cNvPr id="52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a50021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a50021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" name="Group 16"/>
              <p:cNvGrpSpPr/>
              <p:nvPr/>
            </p:nvGrpSpPr>
            <p:grpSpPr>
              <a:xfrm>
                <a:off x="6273360" y="-21600"/>
                <a:ext cx="2867400" cy="2269080"/>
                <a:chOff x="6273360" y="-21600"/>
                <a:chExt cx="2867400" cy="2269080"/>
              </a:xfrm>
            </p:grpSpPr>
            <p:grpSp>
              <p:nvGrpSpPr>
                <p:cNvPr id="56" name="Group 17"/>
                <p:cNvGrpSpPr/>
                <p:nvPr/>
              </p:nvGrpSpPr>
              <p:grpSpPr>
                <a:xfrm>
                  <a:off x="7834320" y="842760"/>
                  <a:ext cx="1063800" cy="1141200"/>
                  <a:chOff x="7834320" y="842760"/>
                  <a:chExt cx="1063800" cy="1141200"/>
                </a:xfrm>
              </p:grpSpPr>
              <p:sp>
                <p:nvSpPr>
                  <p:cNvPr id="57" name="Freeform 18"/>
                  <p:cNvSpPr/>
                  <p:nvPr/>
                </p:nvSpPr>
                <p:spPr>
                  <a:xfrm rot="2711400">
                    <a:off x="7760520" y="1132560"/>
                    <a:ext cx="884880" cy="160920"/>
                  </a:xfrm>
                  <a:custGeom>
                    <a:avLst/>
                    <a:gdLst>
                      <a:gd name="textAreaLeft" fmla="*/ 0 w 884880"/>
                      <a:gd name="textAreaRight" fmla="*/ 885240 w 88488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19"/>
                  <p:cNvSpPr/>
                  <p:nvPr/>
                </p:nvSpPr>
                <p:spPr>
                  <a:xfrm rot="2711400">
                    <a:off x="8405640" y="1602720"/>
                    <a:ext cx="473760" cy="249840"/>
                  </a:xfrm>
                  <a:custGeom>
                    <a:avLst/>
                    <a:gdLst>
                      <a:gd name="textAreaLeft" fmla="*/ 0 w 473760"/>
                      <a:gd name="textAreaRight" fmla="*/ 474120 w 47376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60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63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6" name="Freeform 27"/>
                  <p:cNvSpPr/>
                  <p:nvPr/>
                </p:nvSpPr>
                <p:spPr>
                  <a:xfrm rot="1080000">
                    <a:off x="7842960" y="824400"/>
                    <a:ext cx="860040" cy="17316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Freeform 28"/>
                  <p:cNvSpPr/>
                  <p:nvPr/>
                </p:nvSpPr>
                <p:spPr>
                  <a:xfrm rot="1080000">
                    <a:off x="8650440" y="1032480"/>
                    <a:ext cx="460080" cy="268200"/>
                  </a:xfrm>
                  <a:custGeom>
                    <a:avLst/>
                    <a:gdLst>
                      <a:gd name="textAreaLeft" fmla="*/ 0 w 460080"/>
                      <a:gd name="textAreaRight" fmla="*/ 460440 w 460080"/>
                      <a:gd name="textAreaTop" fmla="*/ 0 h 268200"/>
                      <a:gd name="textAreaBottom" fmla="*/ 268560 h 268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69" name="Freeform 30"/>
                  <p:cNvSpPr/>
                  <p:nvPr/>
                </p:nvSpPr>
                <p:spPr>
                  <a:xfrm rot="463200">
                    <a:off x="7859520" y="709920"/>
                    <a:ext cx="792000" cy="16344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3440"/>
                      <a:gd name="textAreaBottom" fmla="*/ 163800 h 163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31"/>
                  <p:cNvSpPr/>
                  <p:nvPr/>
                </p:nvSpPr>
                <p:spPr>
                  <a:xfrm rot="463200">
                    <a:off x="8635680" y="797040"/>
                    <a:ext cx="425160" cy="25092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1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72" name="Freeform 33"/>
                  <p:cNvSpPr/>
                  <p:nvPr/>
                </p:nvSpPr>
                <p:spPr>
                  <a:xfrm rot="21515400">
                    <a:off x="7873200" y="651240"/>
                    <a:ext cx="720360" cy="10872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08720"/>
                      <a:gd name="textAreaBottom" fmla="*/ 109080 h 108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" name="Group 35"/>
                <p:cNvGrpSpPr/>
                <p:nvPr/>
              </p:nvGrpSpPr>
              <p:grpSpPr>
                <a:xfrm>
                  <a:off x="7845480" y="419400"/>
                  <a:ext cx="983880" cy="326880"/>
                  <a:chOff x="7845480" y="419400"/>
                  <a:chExt cx="983880" cy="326880"/>
                </a:xfrm>
              </p:grpSpPr>
              <p:sp>
                <p:nvSpPr>
                  <p:cNvPr id="75" name="Freeform 36"/>
                  <p:cNvSpPr/>
                  <p:nvPr/>
                </p:nvSpPr>
                <p:spPr>
                  <a:xfrm rot="20797200">
                    <a:off x="7849080" y="566280"/>
                    <a:ext cx="634680" cy="107640"/>
                  </a:xfrm>
                  <a:custGeom>
                    <a:avLst/>
                    <a:gdLst>
                      <a:gd name="textAreaLeft" fmla="*/ 0 w 634680"/>
                      <a:gd name="textAreaRight" fmla="*/ 635040 w 634680"/>
                      <a:gd name="textAreaTop" fmla="*/ 0 h 107640"/>
                      <a:gd name="textAreaBottom" fmla="*/ 108000 h 107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37"/>
                  <p:cNvSpPr/>
                  <p:nvPr/>
                </p:nvSpPr>
                <p:spPr>
                  <a:xfrm rot="20797200">
                    <a:off x="8472600" y="456120"/>
                    <a:ext cx="34092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" name="Group 38"/>
                <p:cNvGrpSpPr/>
                <p:nvPr/>
              </p:nvGrpSpPr>
              <p:grpSpPr>
                <a:xfrm>
                  <a:off x="6538680" y="905400"/>
                  <a:ext cx="1062360" cy="1141920"/>
                  <a:chOff x="6538680" y="905400"/>
                  <a:chExt cx="1062360" cy="1141920"/>
                </a:xfrm>
              </p:grpSpPr>
              <p:sp>
                <p:nvSpPr>
                  <p:cNvPr id="78" name="Freeform 39"/>
                  <p:cNvSpPr/>
                  <p:nvPr/>
                </p:nvSpPr>
                <p:spPr>
                  <a:xfrm flipH="1" rot="18888600">
                    <a:off x="6793560" y="1193760"/>
                    <a:ext cx="880560" cy="160200"/>
                  </a:xfrm>
                  <a:custGeom>
                    <a:avLst/>
                    <a:gdLst>
                      <a:gd name="textAreaLeft" fmla="*/ 360 w 880560"/>
                      <a:gd name="textAreaRight" fmla="*/ 881280 w 88056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40"/>
                  <p:cNvSpPr/>
                  <p:nvPr/>
                </p:nvSpPr>
                <p:spPr>
                  <a:xfrm flipH="1" rot="18888600">
                    <a:off x="6557760" y="1665360"/>
                    <a:ext cx="472680" cy="250920"/>
                  </a:xfrm>
                  <a:custGeom>
                    <a:avLst/>
                    <a:gdLst>
                      <a:gd name="textAreaLeft" fmla="*/ -360 w 472680"/>
                      <a:gd name="textAreaRight" fmla="*/ 472680 w 47268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0" name="Group 41"/>
                <p:cNvGrpSpPr/>
                <p:nvPr/>
              </p:nvGrpSpPr>
              <p:grpSpPr>
                <a:xfrm>
                  <a:off x="6303960" y="861840"/>
                  <a:ext cx="1265400" cy="1051920"/>
                  <a:chOff x="6303960" y="861840"/>
                  <a:chExt cx="1265400" cy="1051920"/>
                </a:xfrm>
              </p:grpSpPr>
              <p:sp>
                <p:nvSpPr>
                  <p:cNvPr id="81" name="Freeform 42"/>
                  <p:cNvSpPr/>
                  <p:nvPr/>
                </p:nvSpPr>
                <p:spPr>
                  <a:xfrm flipH="1" rot="19496400">
                    <a:off x="6672960" y="1112400"/>
                    <a:ext cx="929160" cy="177840"/>
                  </a:xfrm>
                  <a:custGeom>
                    <a:avLst/>
                    <a:gdLst>
                      <a:gd name="textAreaLeft" fmla="*/ -360 w 929160"/>
                      <a:gd name="textAreaRight" fmla="*/ 929160 w 9291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43"/>
                  <p:cNvSpPr/>
                  <p:nvPr/>
                </p:nvSpPr>
                <p:spPr>
                  <a:xfrm flipH="1" rot="19496400">
                    <a:off x="6338880" y="1515960"/>
                    <a:ext cx="498600" cy="279720"/>
                  </a:xfrm>
                  <a:custGeom>
                    <a:avLst/>
                    <a:gdLst>
                      <a:gd name="textAreaLeft" fmla="*/ -360 w 498600"/>
                      <a:gd name="textAreaRight" fmla="*/ 498600 w 4986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" name="Group 44"/>
                <p:cNvGrpSpPr/>
                <p:nvPr/>
              </p:nvGrpSpPr>
              <p:grpSpPr>
                <a:xfrm>
                  <a:off x="6286320" y="827280"/>
                  <a:ext cx="1288080" cy="828360"/>
                  <a:chOff x="6286320" y="827280"/>
                  <a:chExt cx="1288080" cy="828360"/>
                </a:xfrm>
              </p:grpSpPr>
              <p:sp>
                <p:nvSpPr>
                  <p:cNvPr id="84" name="Freeform 45"/>
                  <p:cNvSpPr/>
                  <p:nvPr/>
                </p:nvSpPr>
                <p:spPr>
                  <a:xfrm flipH="1" rot="20017200">
                    <a:off x="6695280" y="1016640"/>
                    <a:ext cx="890280" cy="15660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6600"/>
                      <a:gd name="textAreaBottom" fmla="*/ 156960 h 156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46"/>
                  <p:cNvSpPr/>
                  <p:nvPr/>
                </p:nvSpPr>
                <p:spPr>
                  <a:xfrm flipH="1" rot="20017200">
                    <a:off x="6314400" y="1321200"/>
                    <a:ext cx="477360" cy="24084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40840"/>
                      <a:gd name="textAreaBottom" fmla="*/ 241200 h 240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" name="Group 47"/>
                <p:cNvGrpSpPr/>
                <p:nvPr/>
              </p:nvGrpSpPr>
              <p:grpSpPr>
                <a:xfrm>
                  <a:off x="6273360" y="787320"/>
                  <a:ext cx="1303560" cy="668880"/>
                  <a:chOff x="6273360" y="787320"/>
                  <a:chExt cx="1303560" cy="668880"/>
                </a:xfrm>
              </p:grpSpPr>
              <p:sp>
                <p:nvSpPr>
                  <p:cNvPr id="87" name="Freeform 48"/>
                  <p:cNvSpPr/>
                  <p:nvPr/>
                </p:nvSpPr>
                <p:spPr>
                  <a:xfrm flipH="1" rot="20520000">
                    <a:off x="6711480" y="916200"/>
                    <a:ext cx="860400" cy="16848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68480"/>
                      <a:gd name="textAreaBottom" fmla="*/ 168840 h 168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49"/>
                  <p:cNvSpPr/>
                  <p:nvPr/>
                </p:nvSpPr>
                <p:spPr>
                  <a:xfrm flipH="1" rot="20520000">
                    <a:off x="6302880" y="1123200"/>
                    <a:ext cx="461520" cy="26784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67840"/>
                      <a:gd name="textAreaBottom" fmla="*/ 268200 h 267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0" name="Freeform 51"/>
                  <p:cNvSpPr/>
                  <p:nvPr/>
                </p:nvSpPr>
                <p:spPr>
                  <a:xfrm flipH="1" rot="21136800">
                    <a:off x="6761880" y="801720"/>
                    <a:ext cx="792000" cy="15768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7680"/>
                      <a:gd name="textAreaBottom" fmla="*/ 158040 h 1576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52"/>
                  <p:cNvSpPr/>
                  <p:nvPr/>
                </p:nvSpPr>
                <p:spPr>
                  <a:xfrm flipH="1" rot="21136800">
                    <a:off x="6353280" y="891360"/>
                    <a:ext cx="425160" cy="24660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46600"/>
                      <a:gd name="textAreaBottom" fmla="*/ 246960 h 246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93" name="Freeform 54"/>
                  <p:cNvSpPr/>
                  <p:nvPr/>
                </p:nvSpPr>
                <p:spPr>
                  <a:xfrm flipH="1" rot="84600">
                    <a:off x="6821280" y="741240"/>
                    <a:ext cx="720360" cy="10908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09080"/>
                      <a:gd name="textAreaBottom" fmla="*/ 109440 h 109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96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99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102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>
                      <a:gd name="textAreaLeft" fmla="*/ -360 w 634680"/>
                      <a:gd name="textAreaRight" fmla="*/ 634680 w 634680"/>
                      <a:gd name="textAreaTop" fmla="*/ 0 h 108720"/>
                      <a:gd name="textAreaBottom" fmla="*/ 109080 h 108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>
                      <a:gd name="textAreaLeft" fmla="*/ -360 w 341640"/>
                      <a:gd name="textAreaRight" fmla="*/ 341640 w 341640"/>
                      <a:gd name="textAreaTop" fmla="*/ 0 h 169560"/>
                      <a:gd name="textAreaBottom" fmla="*/ 169560 h 169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05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08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" name="Group 71"/>
                <p:cNvGrpSpPr/>
                <p:nvPr/>
              </p:nvGrpSpPr>
              <p:grpSpPr>
                <a:xfrm>
                  <a:off x="7287480" y="-21600"/>
                  <a:ext cx="465840" cy="809640"/>
                  <a:chOff x="7287480" y="-21600"/>
                  <a:chExt cx="465840" cy="809640"/>
                </a:xfrm>
              </p:grpSpPr>
              <p:sp>
                <p:nvSpPr>
                  <p:cNvPr id="111" name="Freeform 72"/>
                  <p:cNvSpPr/>
                  <p:nvPr/>
                </p:nvSpPr>
                <p:spPr>
                  <a:xfrm flipH="1" rot="4126800">
                    <a:off x="7333200" y="460800"/>
                    <a:ext cx="542160" cy="109440"/>
                  </a:xfrm>
                  <a:custGeom>
                    <a:avLst/>
                    <a:gdLst>
                      <a:gd name="textAreaLeft" fmla="*/ 360 w 542160"/>
                      <a:gd name="textAreaRight" fmla="*/ 542880 w 542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Freeform 73"/>
                  <p:cNvSpPr/>
                  <p:nvPr/>
                </p:nvSpPr>
                <p:spPr>
                  <a:xfrm flipH="1" rot="4126800">
                    <a:off x="7274160" y="60480"/>
                    <a:ext cx="294480" cy="173160"/>
                  </a:xfrm>
                  <a:custGeom>
                    <a:avLst/>
                    <a:gdLst>
                      <a:gd name="textAreaLeft" fmla="*/ 360 w 294480"/>
                      <a:gd name="textAreaRight" fmla="*/ 295200 w 294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" name="Group 74"/>
                <p:cNvGrpSpPr/>
                <p:nvPr/>
              </p:nvGrpSpPr>
              <p:grpSpPr>
                <a:xfrm>
                  <a:off x="7792920" y="273240"/>
                  <a:ext cx="964440" cy="461520"/>
                  <a:chOff x="7792920" y="273240"/>
                  <a:chExt cx="964440" cy="461520"/>
                </a:xfrm>
              </p:grpSpPr>
              <p:sp>
                <p:nvSpPr>
                  <p:cNvPr id="114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Freeform 76"/>
                  <p:cNvSpPr/>
                  <p:nvPr/>
                </p:nvSpPr>
                <p:spPr>
                  <a:xfrm rot="20274000">
                    <a:off x="8402040" y="329760"/>
                    <a:ext cx="334800" cy="173160"/>
                  </a:xfrm>
                  <a:custGeom>
                    <a:avLst/>
                    <a:gdLst>
                      <a:gd name="textAreaLeft" fmla="*/ 0 w 334800"/>
                      <a:gd name="textAreaRight" fmla="*/ 334800 w 33480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" name="Group 77"/>
                <p:cNvGrpSpPr/>
                <p:nvPr/>
              </p:nvGrpSpPr>
              <p:grpSpPr>
                <a:xfrm>
                  <a:off x="7737480" y="136800"/>
                  <a:ext cx="916200" cy="604440"/>
                  <a:chOff x="7737480" y="136800"/>
                  <a:chExt cx="916200" cy="604440"/>
                </a:xfrm>
              </p:grpSpPr>
              <p:sp>
                <p:nvSpPr>
                  <p:cNvPr id="117" name="Freeform 78"/>
                  <p:cNvSpPr/>
                  <p:nvPr/>
                </p:nvSpPr>
                <p:spPr>
                  <a:xfrm rot="19678800">
                    <a:off x="7718400" y="470520"/>
                    <a:ext cx="633960" cy="110880"/>
                  </a:xfrm>
                  <a:custGeom>
                    <a:avLst/>
                    <a:gdLst>
                      <a:gd name="textAreaLeft" fmla="*/ 0 w 633960"/>
                      <a:gd name="textAreaRight" fmla="*/ 634320 w 63396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Freeform 79"/>
                  <p:cNvSpPr/>
                  <p:nvPr/>
                </p:nvSpPr>
                <p:spPr>
                  <a:xfrm rot="19678800">
                    <a:off x="8296200" y="212760"/>
                    <a:ext cx="336600" cy="173880"/>
                  </a:xfrm>
                  <a:custGeom>
                    <a:avLst/>
                    <a:gdLst>
                      <a:gd name="textAreaLeft" fmla="*/ 0 w 336600"/>
                      <a:gd name="textAreaRight" fmla="*/ 336960 w 33660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9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a50021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a50021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" name="Group 82"/>
                <p:cNvGrpSpPr/>
                <p:nvPr/>
              </p:nvGrpSpPr>
              <p:grpSpPr>
                <a:xfrm>
                  <a:off x="7665840" y="-11160"/>
                  <a:ext cx="497160" cy="791280"/>
                  <a:chOff x="7665840" y="-11160"/>
                  <a:chExt cx="497160" cy="791280"/>
                </a:xfrm>
              </p:grpSpPr>
              <p:sp>
                <p:nvSpPr>
                  <p:cNvPr id="122" name="Freeform 83"/>
                  <p:cNvSpPr/>
                  <p:nvPr/>
                </p:nvSpPr>
                <p:spPr>
                  <a:xfrm rot="17742000">
                    <a:off x="7554600" y="466560"/>
                    <a:ext cx="543600" cy="95400"/>
                  </a:xfrm>
                  <a:custGeom>
                    <a:avLst/>
                    <a:gdLst>
                      <a:gd name="textAreaLeft" fmla="*/ 0 w 543600"/>
                      <a:gd name="textAreaRight" fmla="*/ 543960 w 54360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Freeform 84"/>
                  <p:cNvSpPr/>
                  <p:nvPr/>
                </p:nvSpPr>
                <p:spPr>
                  <a:xfrm rot="17742000">
                    <a:off x="7886520" y="78840"/>
                    <a:ext cx="292320" cy="147600"/>
                  </a:xfrm>
                  <a:custGeom>
                    <a:avLst/>
                    <a:gdLst>
                      <a:gd name="textAreaLeft" fmla="*/ 0 w 292320"/>
                      <a:gd name="textAreaRight" fmla="*/ 292680 w 29232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25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7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28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0" name="Group 91"/>
                <p:cNvGrpSpPr/>
                <p:nvPr/>
              </p:nvGrpSpPr>
              <p:grpSpPr>
                <a:xfrm>
                  <a:off x="6710400" y="930240"/>
                  <a:ext cx="914760" cy="1248480"/>
                  <a:chOff x="6710400" y="930240"/>
                  <a:chExt cx="914760" cy="1248480"/>
                </a:xfrm>
              </p:grpSpPr>
              <p:sp>
                <p:nvSpPr>
                  <p:cNvPr id="131" name="Freeform 92"/>
                  <p:cNvSpPr/>
                  <p:nvPr/>
                </p:nvSpPr>
                <p:spPr>
                  <a:xfrm flipH="1" rot="18336000">
                    <a:off x="6856560" y="1257840"/>
                    <a:ext cx="888480" cy="160560"/>
                  </a:xfrm>
                  <a:custGeom>
                    <a:avLst/>
                    <a:gdLst>
                      <a:gd name="textAreaLeft" fmla="*/ 360 w 888480"/>
                      <a:gd name="textAreaRight" fmla="*/ 889200 w 88848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Freeform 93"/>
                  <p:cNvSpPr/>
                  <p:nvPr/>
                </p:nvSpPr>
                <p:spPr>
                  <a:xfrm flipH="1" rot="18336000">
                    <a:off x="6712200" y="1786680"/>
                    <a:ext cx="477000" cy="250560"/>
                  </a:xfrm>
                  <a:custGeom>
                    <a:avLst/>
                    <a:gdLst>
                      <a:gd name="textAreaLeft" fmla="*/ -360 w 477000"/>
                      <a:gd name="textAreaRight" fmla="*/ 477000 w 47700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" name="Group 94"/>
                <p:cNvGrpSpPr/>
                <p:nvPr/>
              </p:nvGrpSpPr>
              <p:grpSpPr>
                <a:xfrm>
                  <a:off x="7014960" y="979200"/>
                  <a:ext cx="617040" cy="1248480"/>
                  <a:chOff x="7014960" y="979200"/>
                  <a:chExt cx="617040" cy="1248480"/>
                </a:xfrm>
              </p:grpSpPr>
              <p:sp>
                <p:nvSpPr>
                  <p:cNvPr id="134" name="Freeform 95"/>
                  <p:cNvSpPr/>
                  <p:nvPr/>
                </p:nvSpPr>
                <p:spPr>
                  <a:xfrm flipH="1" rot="17543400">
                    <a:off x="6989760" y="1309320"/>
                    <a:ext cx="822240" cy="160560"/>
                  </a:xfrm>
                  <a:custGeom>
                    <a:avLst/>
                    <a:gdLst>
                      <a:gd name="textAreaLeft" fmla="*/ 360 w 822240"/>
                      <a:gd name="textAreaRight" fmla="*/ 822960 w 82224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Freeform 96"/>
                  <p:cNvSpPr/>
                  <p:nvPr/>
                </p:nvSpPr>
                <p:spPr>
                  <a:xfrm flipH="1" rot="17543400">
                    <a:off x="6995520" y="1852920"/>
                    <a:ext cx="435960" cy="250560"/>
                  </a:xfrm>
                  <a:custGeom>
                    <a:avLst/>
                    <a:gdLst>
                      <a:gd name="textAreaLeft" fmla="*/ -360 w 435960"/>
                      <a:gd name="textAreaRight" fmla="*/ 435960 w 43596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6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137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>
                      <a:gd name="textAreaLeft" fmla="*/ 360 w 785520"/>
                      <a:gd name="textAreaRight" fmla="*/ 786240 w 78552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>
                      <a:gd name="textAreaLeft" fmla="*/ -360 w 420840"/>
                      <a:gd name="textAreaRight" fmla="*/ 420840 w 42084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9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140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2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43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>
                      <a:gd name="textAreaLeft" fmla="*/ 0 w 846360"/>
                      <a:gd name="textAreaRight" fmla="*/ 846720 w 84636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custGeom>
                    <a:avLst/>
                    <a:gdLst>
                      <a:gd name="textAreaLeft" fmla="*/ 0 w 454320"/>
                      <a:gd name="textAreaRight" fmla="*/ 454680 w 45432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5" name="Group 106"/>
                <p:cNvGrpSpPr/>
                <p:nvPr/>
              </p:nvGrpSpPr>
              <p:grpSpPr>
                <a:xfrm>
                  <a:off x="7757280" y="1005120"/>
                  <a:ext cx="510120" cy="1242360"/>
                  <a:chOff x="7757280" y="1005120"/>
                  <a:chExt cx="510120" cy="1242360"/>
                </a:xfrm>
              </p:grpSpPr>
              <p:sp>
                <p:nvSpPr>
                  <p:cNvPr id="146" name="Freeform 107"/>
                  <p:cNvSpPr/>
                  <p:nvPr/>
                </p:nvSpPr>
                <p:spPr>
                  <a:xfrm rot="4286400">
                    <a:off x="7536600" y="1351440"/>
                    <a:ext cx="820800" cy="125280"/>
                  </a:xfrm>
                  <a:custGeom>
                    <a:avLst/>
                    <a:gdLst>
                      <a:gd name="textAreaLeft" fmla="*/ 0 w 820800"/>
                      <a:gd name="textAreaRight" fmla="*/ 821160 w 82080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Freeform 108"/>
                  <p:cNvSpPr/>
                  <p:nvPr/>
                </p:nvSpPr>
                <p:spPr>
                  <a:xfrm rot="4286400">
                    <a:off x="7883280" y="1908000"/>
                    <a:ext cx="439560" cy="198360"/>
                  </a:xfrm>
                  <a:custGeom>
                    <a:avLst/>
                    <a:gdLst>
                      <a:gd name="textAreaLeft" fmla="*/ 0 w 439560"/>
                      <a:gd name="textAreaRight" fmla="*/ 439920 w 43956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" name="Group 109"/>
                <p:cNvGrpSpPr/>
                <p:nvPr/>
              </p:nvGrpSpPr>
              <p:grpSpPr>
                <a:xfrm>
                  <a:off x="7733520" y="1058760"/>
                  <a:ext cx="290160" cy="1155960"/>
                  <a:chOff x="7733520" y="1058760"/>
                  <a:chExt cx="290160" cy="1155960"/>
                </a:xfrm>
              </p:grpSpPr>
              <p:sp>
                <p:nvSpPr>
                  <p:cNvPr id="149" name="Freeform 110"/>
                  <p:cNvSpPr/>
                  <p:nvPr/>
                </p:nvSpPr>
                <p:spPr>
                  <a:xfrm rot="4898400">
                    <a:off x="7473960" y="1377000"/>
                    <a:ext cx="753120" cy="126360"/>
                  </a:xfrm>
                  <a:custGeom>
                    <a:avLst/>
                    <a:gdLst>
                      <a:gd name="textAreaLeft" fmla="*/ 0 w 753120"/>
                      <a:gd name="textAreaRight" fmla="*/ 753480 w 75312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Freeform 111"/>
                  <p:cNvSpPr/>
                  <p:nvPr/>
                </p:nvSpPr>
                <p:spPr>
                  <a:xfrm rot="4898400">
                    <a:off x="7692840" y="1900080"/>
                    <a:ext cx="406800" cy="197640"/>
                  </a:xfrm>
                  <a:custGeom>
                    <a:avLst/>
                    <a:gdLst>
                      <a:gd name="textAreaLeft" fmla="*/ 0 w 406800"/>
                      <a:gd name="textAreaRight" fmla="*/ 407160 w 40680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1" name="Group 112"/>
                <p:cNvGrpSpPr/>
                <p:nvPr/>
              </p:nvGrpSpPr>
              <p:grpSpPr>
                <a:xfrm>
                  <a:off x="7500600" y="1077840"/>
                  <a:ext cx="276480" cy="1131480"/>
                  <a:chOff x="7500600" y="1077840"/>
                  <a:chExt cx="276480" cy="1131480"/>
                </a:xfrm>
              </p:grpSpPr>
              <p:sp>
                <p:nvSpPr>
                  <p:cNvPr id="152" name="Freeform 113"/>
                  <p:cNvSpPr/>
                  <p:nvPr/>
                </p:nvSpPr>
                <p:spPr>
                  <a:xfrm rot="5755200">
                    <a:off x="7321680" y="1402200"/>
                    <a:ext cx="739080" cy="95760"/>
                  </a:xfrm>
                  <a:custGeom>
                    <a:avLst/>
                    <a:gdLst>
                      <a:gd name="textAreaLeft" fmla="*/ 0 w 739080"/>
                      <a:gd name="textAreaRight" fmla="*/ 739440 w 73908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Freeform 114"/>
                  <p:cNvSpPr/>
                  <p:nvPr/>
                </p:nvSpPr>
                <p:spPr>
                  <a:xfrm rot="5755200">
                    <a:off x="7398000" y="1928520"/>
                    <a:ext cx="396000" cy="151560"/>
                  </a:xfrm>
                  <a:custGeom>
                    <a:avLst/>
                    <a:gdLst>
                      <a:gd name="textAreaLeft" fmla="*/ 0 w 396000"/>
                      <a:gd name="textAreaRight" fmla="*/ 396360 w 396000"/>
                      <a:gd name="textAreaTop" fmla="*/ 0 h 151560"/>
                      <a:gd name="textAreaBottom" fmla="*/ 151920 h 151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4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55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>
                  <a:gd name="textAreaLeft" fmla="*/ 360 w 1088640"/>
                  <a:gd name="textAreaRight" fmla="*/ 1089360 w 1088640"/>
                  <a:gd name="textAreaTop" fmla="*/ 0 h 1177920"/>
                  <a:gd name="textAreaBottom" fmla="*/ 1178280 h 11779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56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57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>
                  <a:gd name="textAreaLeft" fmla="*/ -360 w 634680"/>
                  <a:gd name="textAreaRight" fmla="*/ 634680 w 634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58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4640"/>
                  <a:gd name="textAreaBottom" fmla="*/ 1215000 h 121464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59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60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61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62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>
                  <a:gd name="textAreaLeft" fmla="*/ 0 w 730080"/>
                  <a:gd name="textAreaRight" fmla="*/ 730440 w 730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63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64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-360 h 426600"/>
                  <a:gd name="textAreaBottom" fmla="*/ 426600 h 4266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65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66" name="Arc 127"/>
              <p:cNvSpPr/>
              <p:nvPr/>
            </p:nvSpPr>
            <p:spPr>
              <a:xfrm flipH="1">
                <a:off x="6710400" y="159480"/>
                <a:ext cx="947160" cy="117792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77920"/>
                  <a:gd name="textAreaBottom" fmla="*/ 1178280 h 117792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67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1179000"/>
                  <a:gd name="textAreaBottom" fmla="*/ 1179360 h 117900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68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69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70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71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72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5760"/>
                  <a:gd name="textAreaBottom" fmla="*/ 546120 h 545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73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1520"/>
                  <a:gd name="textAreaBottom" fmla="*/ 731880 h 7315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74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75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10B1-F1DA-4D53-A66B-10FDA9B5E802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B50F-E491-4F2F-8AFC-B4F4E8E0D51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"/>
          <p:cNvGrpSpPr/>
          <p:nvPr/>
        </p:nvGrpSpPr>
        <p:grpSpPr>
          <a:xfrm>
            <a:off x="2010960" y="245160"/>
            <a:ext cx="6895800" cy="5452200"/>
            <a:chOff x="2010960" y="245160"/>
            <a:chExt cx="6895800" cy="5452200"/>
          </a:xfrm>
        </p:grpSpPr>
        <p:grpSp>
          <p:nvGrpSpPr>
            <p:cNvPr id="260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61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262" name="Oval 5"/>
              <p:cNvSpPr/>
              <p:nvPr/>
            </p:nvSpPr>
            <p:spPr>
              <a:xfrm>
                <a:off x="3822840" y="1265760"/>
                <a:ext cx="23040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Group 6"/>
            <p:cNvGrpSpPr/>
            <p:nvPr/>
          </p:nvGrpSpPr>
          <p:grpSpPr>
            <a:xfrm>
              <a:off x="2010960" y="245160"/>
              <a:ext cx="6895800" cy="5452200"/>
              <a:chOff x="2010960" y="245160"/>
              <a:chExt cx="6895800" cy="5452200"/>
            </a:xfrm>
          </p:grpSpPr>
          <p:grpSp>
            <p:nvGrpSpPr>
              <p:cNvPr id="264" name="Group 7"/>
              <p:cNvGrpSpPr/>
              <p:nvPr/>
            </p:nvGrpSpPr>
            <p:grpSpPr>
              <a:xfrm>
                <a:off x="2010960" y="245160"/>
                <a:ext cx="6891120" cy="5452200"/>
                <a:chOff x="2010960" y="245160"/>
                <a:chExt cx="6891120" cy="5452200"/>
              </a:xfrm>
            </p:grpSpPr>
            <p:grpSp>
              <p:nvGrpSpPr>
                <p:cNvPr id="265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66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Oval 10"/>
                  <p:cNvSpPr/>
                  <p:nvPr/>
                </p:nvSpPr>
                <p:spPr>
                  <a:xfrm>
                    <a:off x="5109120" y="2234880"/>
                    <a:ext cx="712800" cy="501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8" name="Group 11"/>
                <p:cNvGrpSpPr/>
                <p:nvPr/>
              </p:nvGrpSpPr>
              <p:grpSpPr>
                <a:xfrm>
                  <a:off x="2010960" y="245160"/>
                  <a:ext cx="6891120" cy="5452200"/>
                  <a:chOff x="2010960" y="245160"/>
                  <a:chExt cx="6891120" cy="5452200"/>
                </a:xfrm>
              </p:grpSpPr>
              <p:grpSp>
                <p:nvGrpSpPr>
                  <p:cNvPr id="269" name="Group 12"/>
                  <p:cNvGrpSpPr/>
                  <p:nvPr/>
                </p:nvGrpSpPr>
                <p:grpSpPr>
                  <a:xfrm>
                    <a:off x="5761440" y="2322720"/>
                    <a:ext cx="2558160" cy="2742480"/>
                    <a:chOff x="5761440" y="2322720"/>
                    <a:chExt cx="2558160" cy="2742480"/>
                  </a:xfrm>
                </p:grpSpPr>
                <p:sp>
                  <p:nvSpPr>
                    <p:cNvPr id="270" name="Freeform 13"/>
                    <p:cNvSpPr/>
                    <p:nvPr/>
                  </p:nvSpPr>
                  <p:spPr>
                    <a:xfrm rot="2711400">
                      <a:off x="5583600" y="3020760"/>
                      <a:ext cx="2128320" cy="384480"/>
                    </a:xfrm>
                    <a:custGeom>
                      <a:avLst/>
                      <a:gdLst>
                        <a:gd name="textAreaLeft" fmla="*/ 0 w 2128320"/>
                        <a:gd name="textAreaRight" fmla="*/ 2128680 w 212832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Freeform 14"/>
                    <p:cNvSpPr/>
                    <p:nvPr/>
                  </p:nvSpPr>
                  <p:spPr>
                    <a:xfrm rot="2711400">
                      <a:off x="7134840" y="4146120"/>
                      <a:ext cx="1138320" cy="604080"/>
                    </a:xfrm>
                    <a:custGeom>
                      <a:avLst/>
                      <a:gdLst>
                        <a:gd name="textAreaLeft" fmla="*/ 0 w 1138320"/>
                        <a:gd name="textAreaRight" fmla="*/ 1138680 w 113832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2" name="Group 15"/>
                  <p:cNvGrpSpPr/>
                  <p:nvPr/>
                </p:nvGrpSpPr>
                <p:grpSpPr>
                  <a:xfrm>
                    <a:off x="5788080" y="2148120"/>
                    <a:ext cx="3040200" cy="2530080"/>
                    <a:chOff x="5788080" y="2148120"/>
                    <a:chExt cx="3040200" cy="2530080"/>
                  </a:xfrm>
                </p:grpSpPr>
                <p:sp>
                  <p:nvSpPr>
                    <p:cNvPr id="273" name="Freeform 16"/>
                    <p:cNvSpPr/>
                    <p:nvPr/>
                  </p:nvSpPr>
                  <p:spPr>
                    <a:xfrm rot="2103600">
                      <a:off x="5707080" y="2751840"/>
                      <a:ext cx="2236680" cy="42480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4800"/>
                        <a:gd name="textAreaBottom" fmla="*/ 425160 h 424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Freeform 17"/>
                    <p:cNvSpPr/>
                    <p:nvPr/>
                  </p:nvSpPr>
                  <p:spPr>
                    <a:xfrm rot="2103600">
                      <a:off x="7541640" y="3720600"/>
                      <a:ext cx="1202040" cy="673200"/>
                    </a:xfrm>
                    <a:custGeom>
                      <a:avLst/>
                      <a:gdLst>
                        <a:gd name="textAreaLeft" fmla="*/ 0 w 1202040"/>
                        <a:gd name="textAreaRight" fmla="*/ 1202400 w 1202040"/>
                        <a:gd name="textAreaTop" fmla="*/ 0 h 673200"/>
                        <a:gd name="textAreaBottom" fmla="*/ 673560 h 6732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5" name="Group 18"/>
                  <p:cNvGrpSpPr/>
                  <p:nvPr/>
                </p:nvGrpSpPr>
                <p:grpSpPr>
                  <a:xfrm>
                    <a:off x="5775840" y="2065680"/>
                    <a:ext cx="3096720" cy="1992240"/>
                    <a:chOff x="5775840" y="2065680"/>
                    <a:chExt cx="3096720" cy="1992240"/>
                  </a:xfrm>
                </p:grpSpPr>
                <p:sp>
                  <p:nvSpPr>
                    <p:cNvPr id="276" name="Freeform 19"/>
                    <p:cNvSpPr/>
                    <p:nvPr/>
                  </p:nvSpPr>
                  <p:spPr>
                    <a:xfrm rot="1582800">
                      <a:off x="5747400" y="2521440"/>
                      <a:ext cx="2139480" cy="374400"/>
                    </a:xfrm>
                    <a:custGeom>
                      <a:avLst/>
                      <a:gdLst>
                        <a:gd name="textAreaLeft" fmla="*/ 0 w 2139480"/>
                        <a:gd name="textAreaRight" fmla="*/ 2139840 w 213948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8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79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1" name="Group 24"/>
                  <p:cNvGrpSpPr/>
                  <p:nvPr/>
                </p:nvGrpSpPr>
                <p:grpSpPr>
                  <a:xfrm>
                    <a:off x="5806080" y="1879560"/>
                    <a:ext cx="2940120" cy="1001880"/>
                    <a:chOff x="5806080" y="1879560"/>
                    <a:chExt cx="2940120" cy="1001880"/>
                  </a:xfrm>
                </p:grpSpPr>
                <p:sp>
                  <p:nvSpPr>
                    <p:cNvPr id="282" name="Freeform 25"/>
                    <p:cNvSpPr/>
                    <p:nvPr/>
                  </p:nvSpPr>
                  <p:spPr>
                    <a:xfrm rot="463200">
                      <a:off x="5823000" y="2005920"/>
                      <a:ext cx="1907640" cy="384480"/>
                    </a:xfrm>
                    <a:custGeom>
                      <a:avLst/>
                      <a:gdLst>
                        <a:gd name="textAreaLeft" fmla="*/ 0 w 1907640"/>
                        <a:gd name="textAreaRight" fmla="*/ 1908000 w 19076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Freeform 26"/>
                    <p:cNvSpPr/>
                    <p:nvPr/>
                  </p:nvSpPr>
                  <p:spPr>
                    <a:xfrm rot="463200">
                      <a:off x="7688160" y="2212920"/>
                      <a:ext cx="1022040" cy="602640"/>
                    </a:xfrm>
                    <a:custGeom>
                      <a:avLst/>
                      <a:gdLst>
                        <a:gd name="textAreaLeft" fmla="*/ 0 w 1022040"/>
                        <a:gd name="textAreaRight" fmla="*/ 1022400 w 102204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4" name="Group 27"/>
                  <p:cNvGrpSpPr/>
                  <p:nvPr/>
                </p:nvGrpSpPr>
                <p:grpSpPr>
                  <a:xfrm>
                    <a:off x="5851080" y="1815480"/>
                    <a:ext cx="2658960" cy="446040"/>
                    <a:chOff x="5851080" y="1815480"/>
                    <a:chExt cx="2658960" cy="446040"/>
                  </a:xfrm>
                </p:grpSpPr>
                <p:sp>
                  <p:nvSpPr>
                    <p:cNvPr id="285" name="Freeform 28"/>
                    <p:cNvSpPr/>
                    <p:nvPr/>
                  </p:nvSpPr>
                  <p:spPr>
                    <a:xfrm rot="21515400">
                      <a:off x="5853960" y="1852560"/>
                      <a:ext cx="1730880" cy="27108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1080"/>
                        <a:gd name="textAreaBottom" fmla="*/ 271440 h 2710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7" name="Group 30"/>
                  <p:cNvGrpSpPr/>
                  <p:nvPr/>
                </p:nvGrpSpPr>
                <p:grpSpPr>
                  <a:xfrm>
                    <a:off x="5788440" y="1303920"/>
                    <a:ext cx="2363760" cy="786960"/>
                    <a:chOff x="5788440" y="1303920"/>
                    <a:chExt cx="2363760" cy="786960"/>
                  </a:xfrm>
                </p:grpSpPr>
                <p:sp>
                  <p:nvSpPr>
                    <p:cNvPr id="288" name="Freeform 31"/>
                    <p:cNvSpPr/>
                    <p:nvPr/>
                  </p:nvSpPr>
                  <p:spPr>
                    <a:xfrm rot="20797200">
                      <a:off x="5798520" y="1651680"/>
                      <a:ext cx="1519200" cy="266760"/>
                    </a:xfrm>
                    <a:custGeom>
                      <a:avLst/>
                      <a:gdLst>
                        <a:gd name="textAreaLeft" fmla="*/ 0 w 1519200"/>
                        <a:gd name="textAreaRight" fmla="*/ 1519560 w 1519200"/>
                        <a:gd name="textAreaTop" fmla="*/ 0 h 266760"/>
                        <a:gd name="textAreaBottom" fmla="*/ 267120 h 266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544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0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91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>
                        <a:gd name="textAreaLeft" fmla="*/ -360 w 1141560"/>
                        <a:gd name="textAreaRight" fmla="*/ 1141560 w 11415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3" name="Group 36"/>
                  <p:cNvGrpSpPr/>
                  <p:nvPr/>
                </p:nvGrpSpPr>
                <p:grpSpPr>
                  <a:xfrm>
                    <a:off x="2085120" y="2365560"/>
                    <a:ext cx="3040200" cy="2531880"/>
                    <a:chOff x="2085120" y="2365560"/>
                    <a:chExt cx="3040200" cy="2531880"/>
                  </a:xfrm>
                </p:grpSpPr>
                <p:sp>
                  <p:nvSpPr>
                    <p:cNvPr id="294" name="Freeform 37"/>
                    <p:cNvSpPr/>
                    <p:nvPr/>
                  </p:nvSpPr>
                  <p:spPr>
                    <a:xfrm flipH="1" rot="19496400">
                      <a:off x="2966040" y="2969640"/>
                      <a:ext cx="2239200" cy="427320"/>
                    </a:xfrm>
                    <a:custGeom>
                      <a:avLst/>
                      <a:gdLst>
                        <a:gd name="textAreaLeft" fmla="*/ 0 w 2239200"/>
                        <a:gd name="textAreaRight" fmla="*/ 2239200 w 2239200"/>
                        <a:gd name="textAreaTop" fmla="*/ 0 h 427320"/>
                        <a:gd name="textAreaBottom" fmla="*/ 427680 h 427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" name="Freeform 38"/>
                    <p:cNvSpPr/>
                    <p:nvPr/>
                  </p:nvSpPr>
                  <p:spPr>
                    <a:xfrm flipH="1" rot="19496400">
                      <a:off x="2168280" y="3939120"/>
                      <a:ext cx="1204920" cy="672840"/>
                    </a:xfrm>
                    <a:custGeom>
                      <a:avLst/>
                      <a:gdLst>
                        <a:gd name="textAreaLeft" fmla="*/ -360 w 1204920"/>
                        <a:gd name="textAreaRight" fmla="*/ 1204920 w 1204920"/>
                        <a:gd name="textAreaTop" fmla="*/ 0 h 672840"/>
                        <a:gd name="textAreaBottom" fmla="*/ 673200 h 672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6" name="Group 39"/>
                  <p:cNvGrpSpPr/>
                  <p:nvPr/>
                </p:nvGrpSpPr>
                <p:grpSpPr>
                  <a:xfrm>
                    <a:off x="2041200" y="2283840"/>
                    <a:ext cx="3096360" cy="1992600"/>
                    <a:chOff x="2041200" y="2283840"/>
                    <a:chExt cx="3096360" cy="1992600"/>
                  </a:xfrm>
                </p:grpSpPr>
                <p:sp>
                  <p:nvSpPr>
                    <p:cNvPr id="297" name="Freeform 40"/>
                    <p:cNvSpPr/>
                    <p:nvPr/>
                  </p:nvSpPr>
                  <p:spPr>
                    <a:xfrm flipH="1" rot="20017200">
                      <a:off x="3025080" y="2739600"/>
                      <a:ext cx="2139840" cy="375840"/>
                    </a:xfrm>
                    <a:custGeom>
                      <a:avLst/>
                      <a:gdLst>
                        <a:gd name="textAreaLeft" fmla="*/ 360 w 2139840"/>
                        <a:gd name="textAreaRight" fmla="*/ 2140560 w 2139840"/>
                        <a:gd name="textAreaTop" fmla="*/ 0 h 375840"/>
                        <a:gd name="textAreaBottom" fmla="*/ 376200 h 37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" name="Freeform 41"/>
                    <p:cNvSpPr/>
                    <p:nvPr/>
                  </p:nvSpPr>
                  <p:spPr>
                    <a:xfrm flipH="1" rot="20017200">
                      <a:off x="2111400" y="3465360"/>
                      <a:ext cx="1150560" cy="585720"/>
                    </a:xfrm>
                    <a:custGeom>
                      <a:avLst/>
                      <a:gdLst>
                        <a:gd name="textAreaLeft" fmla="*/ 360 w 1150560"/>
                        <a:gd name="textAreaRight" fmla="*/ 1151280 w 1150560"/>
                        <a:gd name="textAreaTop" fmla="*/ 0 h 585720"/>
                        <a:gd name="textAreaBottom" fmla="*/ 585720 h 585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9" name="Group 42"/>
                  <p:cNvGrpSpPr/>
                  <p:nvPr/>
                </p:nvGrpSpPr>
                <p:grpSpPr>
                  <a:xfrm>
                    <a:off x="2010960" y="2188440"/>
                    <a:ext cx="3134160" cy="1608120"/>
                    <a:chOff x="2010960" y="2188440"/>
                    <a:chExt cx="3134160" cy="1608120"/>
                  </a:xfrm>
                </p:grpSpPr>
                <p:sp>
                  <p:nvSpPr>
                    <p:cNvPr id="300" name="Freeform 43"/>
                    <p:cNvSpPr/>
                    <p:nvPr/>
                  </p:nvSpPr>
                  <p:spPr>
                    <a:xfrm flipH="1" rot="20520000">
                      <a:off x="3063240" y="2497680"/>
                      <a:ext cx="2067840" cy="41436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4360"/>
                        <a:gd name="textAreaBottom" fmla="*/ 414720 h 4143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" name="Freeform 44"/>
                    <p:cNvSpPr/>
                    <p:nvPr/>
                  </p:nvSpPr>
                  <p:spPr>
                    <a:xfrm flipH="1" rot="20520000">
                      <a:off x="2084400" y="2988360"/>
                      <a:ext cx="1112040" cy="652320"/>
                    </a:xfrm>
                    <a:custGeom>
                      <a:avLst/>
                      <a:gdLst>
                        <a:gd name="textAreaLeft" fmla="*/ -360 w 1112040"/>
                        <a:gd name="textAreaRight" fmla="*/ 1112040 w 1112040"/>
                        <a:gd name="textAreaTop" fmla="*/ 0 h 652320"/>
                        <a:gd name="textAreaBottom" fmla="*/ 652320 h 652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2" name="Group 45"/>
                  <p:cNvGrpSpPr/>
                  <p:nvPr/>
                </p:nvGrpSpPr>
                <p:grpSpPr>
                  <a:xfrm>
                    <a:off x="2166480" y="2097720"/>
                    <a:ext cx="2940840" cy="1002240"/>
                    <a:chOff x="2166480" y="2097720"/>
                    <a:chExt cx="2940840" cy="1002240"/>
                  </a:xfrm>
                </p:grpSpPr>
                <p:sp>
                  <p:nvSpPr>
                    <p:cNvPr id="303" name="Freeform 46"/>
                    <p:cNvSpPr/>
                    <p:nvPr/>
                  </p:nvSpPr>
                  <p:spPr>
                    <a:xfrm flipH="1" rot="21136800">
                      <a:off x="3182400" y="2223720"/>
                      <a:ext cx="1907280" cy="386640"/>
                    </a:xfrm>
                    <a:custGeom>
                      <a:avLst/>
                      <a:gdLst>
                        <a:gd name="textAreaLeft" fmla="*/ 360 w 1907280"/>
                        <a:gd name="textAreaRight" fmla="*/ 1908000 w 1907280"/>
                        <a:gd name="textAreaTop" fmla="*/ 0 h 386640"/>
                        <a:gd name="textAreaBottom" fmla="*/ 387000 h 386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4" name="Freeform 47"/>
                    <p:cNvSpPr/>
                    <p:nvPr/>
                  </p:nvSpPr>
                  <p:spPr>
                    <a:xfrm flipH="1" rot="21136800">
                      <a:off x="2202120" y="2430360"/>
                      <a:ext cx="1022040" cy="603360"/>
                    </a:xfrm>
                    <a:custGeom>
                      <a:avLst/>
                      <a:gdLst>
                        <a:gd name="textAreaLeft" fmla="*/ -360 w 1022040"/>
                        <a:gd name="textAreaRight" fmla="*/ 1022040 w 1022040"/>
                        <a:gd name="textAreaTop" fmla="*/ 0 h 603360"/>
                        <a:gd name="textAreaBottom" fmla="*/ 603720 h 603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5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06" name="Freeform 49"/>
                    <p:cNvSpPr/>
                    <p:nvPr/>
                  </p:nvSpPr>
                  <p:spPr>
                    <a:xfrm flipH="1" rot="84600">
                      <a:off x="3327840" y="2072880"/>
                      <a:ext cx="1730880" cy="26712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7120"/>
                        <a:gd name="textAreaBottom" fmla="*/ 267480 h 267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7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30960" cy="423000"/>
                    </a:xfrm>
                    <a:custGeom>
                      <a:avLst/>
                      <a:gdLst>
                        <a:gd name="textAreaLeft" fmla="*/ 360 w 930960"/>
                        <a:gd name="textAreaRight" fmla="*/ 931680 w 93096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8" name="Group 51"/>
                  <p:cNvGrpSpPr/>
                  <p:nvPr/>
                </p:nvGrpSpPr>
                <p:grpSpPr>
                  <a:xfrm>
                    <a:off x="2760480" y="1522440"/>
                    <a:ext cx="2364840" cy="787320"/>
                    <a:chOff x="2760480" y="1522440"/>
                    <a:chExt cx="2364840" cy="787320"/>
                  </a:xfrm>
                </p:grpSpPr>
                <p:sp>
                  <p:nvSpPr>
                    <p:cNvPr id="309" name="Freeform 52"/>
                    <p:cNvSpPr/>
                    <p:nvPr/>
                  </p:nvSpPr>
                  <p:spPr>
                    <a:xfrm flipH="1" rot="802800">
                      <a:off x="3595680" y="1872360"/>
                      <a:ext cx="1519200" cy="26496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940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9400"/>
                        <a:gd name="textAreaBottom" fmla="*/ 419760 h 419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1" name="Group 54"/>
                  <p:cNvGrpSpPr/>
                  <p:nvPr/>
                </p:nvGrpSpPr>
                <p:grpSpPr>
                  <a:xfrm>
                    <a:off x="2887560" y="1236600"/>
                    <a:ext cx="2324520" cy="1083600"/>
                    <a:chOff x="2887560" y="1236600"/>
                    <a:chExt cx="2324520" cy="1083600"/>
                  </a:xfrm>
                </p:grpSpPr>
                <p:sp>
                  <p:nvSpPr>
                    <p:cNvPr id="312" name="Freeform 55"/>
                    <p:cNvSpPr/>
                    <p:nvPr/>
                  </p:nvSpPr>
                  <p:spPr>
                    <a:xfrm flipH="1" rot="1278000">
                      <a:off x="3694680" y="1786680"/>
                      <a:ext cx="1520280" cy="26604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6040"/>
                        <a:gd name="textAreaBottom" fmla="*/ 266400 h 266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" name="Freeform 56"/>
                    <p:cNvSpPr/>
                    <p:nvPr/>
                  </p:nvSpPr>
                  <p:spPr>
                    <a:xfrm flipH="1" rot="1278000">
                      <a:off x="2934720" y="1370520"/>
                      <a:ext cx="816480" cy="41508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5080"/>
                        <a:gd name="textAreaBottom" fmla="*/ 415440 h 415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4" name="Group 57"/>
                  <p:cNvGrpSpPr/>
                  <p:nvPr/>
                </p:nvGrpSpPr>
                <p:grpSpPr>
                  <a:xfrm>
                    <a:off x="3160800" y="831240"/>
                    <a:ext cx="2170440" cy="1507680"/>
                    <a:chOff x="3160800" y="831240"/>
                    <a:chExt cx="2170440" cy="1507680"/>
                  </a:xfrm>
                </p:grpSpPr>
                <p:sp>
                  <p:nvSpPr>
                    <p:cNvPr id="315" name="Freeform 58"/>
                    <p:cNvSpPr/>
                    <p:nvPr/>
                  </p:nvSpPr>
                  <p:spPr>
                    <a:xfrm flipH="1" rot="2028600">
                      <a:off x="3866040" y="1672560"/>
                      <a:ext cx="1519200" cy="26604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6040"/>
                        <a:gd name="textAreaBottom" fmla="*/ 266400 h 266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Freeform 59"/>
                    <p:cNvSpPr/>
                    <p:nvPr/>
                  </p:nvSpPr>
                  <p:spPr>
                    <a:xfrm flipH="1" rot="2028600">
                      <a:off x="3206520" y="1023120"/>
                      <a:ext cx="816120" cy="4147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4720"/>
                        <a:gd name="textAreaBottom" fmla="*/ 415080 h 414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7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318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9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7240"/>
                        <a:gd name="textAreaBottom" fmla="*/ 417600 h 417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0" name="Group 63"/>
                  <p:cNvGrpSpPr/>
                  <p:nvPr/>
                </p:nvGrpSpPr>
                <p:grpSpPr>
                  <a:xfrm>
                    <a:off x="4027680" y="335520"/>
                    <a:ext cx="1460520" cy="1886040"/>
                    <a:chOff x="4027680" y="335520"/>
                    <a:chExt cx="1460520" cy="1886040"/>
                  </a:xfrm>
                </p:grpSpPr>
                <p:sp>
                  <p:nvSpPr>
                    <p:cNvPr id="321" name="Freeform 64"/>
                    <p:cNvSpPr/>
                    <p:nvPr/>
                  </p:nvSpPr>
                  <p:spPr>
                    <a:xfrm flipH="1" rot="3474000">
                      <a:off x="4336200" y="1443600"/>
                      <a:ext cx="1357560" cy="264600"/>
                    </a:xfrm>
                    <a:custGeom>
                      <a:avLst/>
                      <a:gdLst>
                        <a:gd name="textAreaLeft" fmla="*/ -360 w 1357560"/>
                        <a:gd name="textAreaRight" fmla="*/ 1357560 w 1357560"/>
                        <a:gd name="textAreaTop" fmla="*/ 0 h 264600"/>
                        <a:gd name="textAreaBottom" fmla="*/ 264960 h 2646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2" name="Freeform 65"/>
                    <p:cNvSpPr/>
                    <p:nvPr/>
                  </p:nvSpPr>
                  <p:spPr>
                    <a:xfrm flipH="1" rot="3474000">
                      <a:off x="4033800" y="545400"/>
                      <a:ext cx="727200" cy="416880"/>
                    </a:xfrm>
                    <a:custGeom>
                      <a:avLst/>
                      <a:gdLst>
                        <a:gd name="textAreaLeft" fmla="*/ 360 w 727200"/>
                        <a:gd name="textAreaRight" fmla="*/ 727920 w 7272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3" name="Group 66"/>
                  <p:cNvGrpSpPr/>
                  <p:nvPr/>
                </p:nvGrpSpPr>
                <p:grpSpPr>
                  <a:xfrm>
                    <a:off x="4448520" y="245160"/>
                    <a:ext cx="1122480" cy="1946880"/>
                    <a:chOff x="4448520" y="245160"/>
                    <a:chExt cx="1122480" cy="1946880"/>
                  </a:xfrm>
                </p:grpSpPr>
                <p:sp>
                  <p:nvSpPr>
                    <p:cNvPr id="324" name="Freeform 67"/>
                    <p:cNvSpPr/>
                    <p:nvPr/>
                  </p:nvSpPr>
                  <p:spPr>
                    <a:xfrm flipH="1" rot="4126800">
                      <a:off x="4555440" y="1400760"/>
                      <a:ext cx="1309680" cy="265320"/>
                    </a:xfrm>
                    <a:custGeom>
                      <a:avLst/>
                      <a:gdLst>
                        <a:gd name="textAreaLeft" fmla="*/ 360 w 1309680"/>
                        <a:gd name="textAreaRight" fmla="*/ 1310400 w 130968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5" name="Freeform 68"/>
                    <p:cNvSpPr/>
                    <p:nvPr/>
                  </p:nvSpPr>
                  <p:spPr>
                    <a:xfrm flipH="1" rot="4126800">
                      <a:off x="4418640" y="438840"/>
                      <a:ext cx="700920" cy="416520"/>
                    </a:xfrm>
                    <a:custGeom>
                      <a:avLst/>
                      <a:gdLst>
                        <a:gd name="textAreaLeft" fmla="*/ -360 w 700920"/>
                        <a:gd name="textAreaRight" fmla="*/ 700920 w 7009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6" name="Group 69"/>
                  <p:cNvGrpSpPr/>
                  <p:nvPr/>
                </p:nvGrpSpPr>
                <p:grpSpPr>
                  <a:xfrm>
                    <a:off x="5661360" y="952560"/>
                    <a:ext cx="2317320" cy="1111680"/>
                    <a:chOff x="5661360" y="952560"/>
                    <a:chExt cx="2317320" cy="1111680"/>
                  </a:xfrm>
                </p:grpSpPr>
                <p:sp>
                  <p:nvSpPr>
                    <p:cNvPr id="327" name="Freeform 70"/>
                    <p:cNvSpPr/>
                    <p:nvPr/>
                  </p:nvSpPr>
                  <p:spPr>
                    <a:xfrm rot="20274000">
                      <a:off x="5655240" y="1523160"/>
                      <a:ext cx="1517760" cy="264960"/>
                    </a:xfrm>
                    <a:custGeom>
                      <a:avLst/>
                      <a:gdLst>
                        <a:gd name="textAreaLeft" fmla="*/ 0 w 1517760"/>
                        <a:gd name="textAreaRight" fmla="*/ 1518120 w 151776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" name="Freeform 71"/>
                    <p:cNvSpPr/>
                    <p:nvPr/>
                  </p:nvSpPr>
                  <p:spPr>
                    <a:xfrm rot="20274000">
                      <a:off x="7112520" y="1090800"/>
                      <a:ext cx="817200" cy="419040"/>
                    </a:xfrm>
                    <a:custGeom>
                      <a:avLst/>
                      <a:gdLst>
                        <a:gd name="textAreaLeft" fmla="*/ 0 w 817200"/>
                        <a:gd name="textAreaRight" fmla="*/ 817560 w 817200"/>
                        <a:gd name="textAreaTop" fmla="*/ 0 h 419040"/>
                        <a:gd name="textAreaBottom" fmla="*/ 419400 h 419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9" name="Group 72"/>
                  <p:cNvGrpSpPr/>
                  <p:nvPr/>
                </p:nvGrpSpPr>
                <p:grpSpPr>
                  <a:xfrm>
                    <a:off x="5529600" y="626400"/>
                    <a:ext cx="2199600" cy="1450800"/>
                    <a:chOff x="5529600" y="626400"/>
                    <a:chExt cx="2199600" cy="1450800"/>
                  </a:xfrm>
                </p:grpSpPr>
                <p:sp>
                  <p:nvSpPr>
                    <p:cNvPr id="330" name="Freeform 73"/>
                    <p:cNvSpPr/>
                    <p:nvPr/>
                  </p:nvSpPr>
                  <p:spPr>
                    <a:xfrm rot="19678800">
                      <a:off x="5484240" y="1429560"/>
                      <a:ext cx="1518840" cy="264960"/>
                    </a:xfrm>
                    <a:custGeom>
                      <a:avLst/>
                      <a:gdLst>
                        <a:gd name="textAreaLeft" fmla="*/ 0 w 1518840"/>
                        <a:gd name="textAreaRight" fmla="*/ 1519200 w 1518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Freeform 74"/>
                    <p:cNvSpPr/>
                    <p:nvPr/>
                  </p:nvSpPr>
                  <p:spPr>
                    <a:xfrm rot="19678800">
                      <a:off x="6864120" y="810720"/>
                      <a:ext cx="816120" cy="41796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32" name="Freeform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custGeom>
                    <a:avLst/>
                    <a:gdLst>
                      <a:gd name="textAreaLeft" fmla="*/ -360 w 1264680"/>
                      <a:gd name="textAreaRight" fmla="*/ 1264680 w 126468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Freeform 76"/>
                  <p:cNvSpPr/>
                  <p:nvPr/>
                </p:nvSpPr>
                <p:spPr>
                  <a:xfrm flipH="1" rot="4578600">
                    <a:off x="479196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34" name="Group 77"/>
                  <p:cNvGrpSpPr/>
                  <p:nvPr/>
                </p:nvGrpSpPr>
                <p:grpSpPr>
                  <a:xfrm>
                    <a:off x="5356080" y="270000"/>
                    <a:ext cx="1195560" cy="1900440"/>
                    <a:chOff x="5356080" y="270000"/>
                    <a:chExt cx="1195560" cy="1900440"/>
                  </a:xfrm>
                </p:grpSpPr>
                <p:sp>
                  <p:nvSpPr>
                    <p:cNvPr id="335" name="Freeform 78"/>
                    <p:cNvSpPr/>
                    <p:nvPr/>
                  </p:nvSpPr>
                  <p:spPr>
                    <a:xfrm rot="17742000">
                      <a:off x="5087160" y="1418400"/>
                      <a:ext cx="1309320" cy="226080"/>
                    </a:xfrm>
                    <a:custGeom>
                      <a:avLst/>
                      <a:gdLst>
                        <a:gd name="textAreaLeft" fmla="*/ 0 w 1309320"/>
                        <a:gd name="textAreaRight" fmla="*/ 1309680 w 130932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" name="Freeform 79"/>
                    <p:cNvSpPr/>
                    <p:nvPr/>
                  </p:nvSpPr>
                  <p:spPr>
                    <a:xfrm rot="17742000">
                      <a:off x="5888520" y="485280"/>
                      <a:ext cx="701640" cy="355680"/>
                    </a:xfrm>
                    <a:custGeom>
                      <a:avLst/>
                      <a:gdLst>
                        <a:gd name="textAreaLeft" fmla="*/ 0 w 701640"/>
                        <a:gd name="textAreaRight" fmla="*/ 702000 w 701640"/>
                        <a:gd name="textAreaTop" fmla="*/ 0 h 355680"/>
                        <a:gd name="textAreaBottom" fmla="*/ 356040 h 3556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7" name="Group 80"/>
                  <p:cNvGrpSpPr/>
                  <p:nvPr/>
                </p:nvGrpSpPr>
                <p:grpSpPr>
                  <a:xfrm>
                    <a:off x="5347080" y="387720"/>
                    <a:ext cx="1892880" cy="1797840"/>
                    <a:chOff x="5347080" y="387720"/>
                    <a:chExt cx="1892880" cy="1797840"/>
                  </a:xfrm>
                </p:grpSpPr>
                <p:sp>
                  <p:nvSpPr>
                    <p:cNvPr id="338" name="Freeform 81"/>
                    <p:cNvSpPr/>
                    <p:nvPr/>
                  </p:nvSpPr>
                  <p:spPr>
                    <a:xfrm rot="18822600">
                      <a:off x="5247000" y="1388160"/>
                      <a:ext cx="1425960" cy="333360"/>
                    </a:xfrm>
                    <a:custGeom>
                      <a:avLst/>
                      <a:gdLst>
                        <a:gd name="textAreaLeft" fmla="*/ 0 w 1425960"/>
                        <a:gd name="textAreaRight" fmla="*/ 1426320 w 1425960"/>
                        <a:gd name="textAreaTop" fmla="*/ 0 h 333360"/>
                        <a:gd name="textAreaBottom" fmla="*/ 333720 h 3333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Freeform 82"/>
                    <p:cNvSpPr/>
                    <p:nvPr/>
                  </p:nvSpPr>
                  <p:spPr>
                    <a:xfrm rot="18822600">
                      <a:off x="6400800" y="583920"/>
                      <a:ext cx="767880" cy="525600"/>
                    </a:xfrm>
                    <a:custGeom>
                      <a:avLst/>
                      <a:gdLst>
                        <a:gd name="textAreaLeft" fmla="*/ 0 w 767880"/>
                        <a:gd name="textAreaRight" fmla="*/ 768240 w 767880"/>
                        <a:gd name="textAreaTop" fmla="*/ 0 h 525600"/>
                        <a:gd name="textAreaBottom" fmla="*/ 525960 h 5256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0" name="Group 83"/>
                  <p:cNvGrpSpPr/>
                  <p:nvPr/>
                </p:nvGrpSpPr>
                <p:grpSpPr>
                  <a:xfrm>
                    <a:off x="5458320" y="292320"/>
                    <a:ext cx="426960" cy="1796040"/>
                    <a:chOff x="5458320" y="292320"/>
                    <a:chExt cx="426960" cy="1796040"/>
                  </a:xfrm>
                </p:grpSpPr>
                <p:sp>
                  <p:nvSpPr>
                    <p:cNvPr id="341" name="Freeform 84"/>
                    <p:cNvSpPr/>
                    <p:nvPr/>
                  </p:nvSpPr>
                  <p:spPr>
                    <a:xfrm rot="16696200">
                      <a:off x="5007600" y="1445040"/>
                      <a:ext cx="1175760" cy="10692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6920"/>
                        <a:gd name="textAreaBottom" fmla="*/ 107280 h 106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Freeform 85"/>
                    <p:cNvSpPr/>
                    <p:nvPr/>
                  </p:nvSpPr>
                  <p:spPr>
                    <a:xfrm rot="16696200">
                      <a:off x="5441040" y="532440"/>
                      <a:ext cx="631080" cy="16812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8120"/>
                        <a:gd name="textAreaBottom" fmla="*/ 168480 h 1681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3" name="Group 86"/>
                  <p:cNvGrpSpPr/>
                  <p:nvPr/>
                </p:nvGrpSpPr>
                <p:grpSpPr>
                  <a:xfrm>
                    <a:off x="3062880" y="2530440"/>
                    <a:ext cx="2196000" cy="3002400"/>
                    <a:chOff x="3062880" y="2530440"/>
                    <a:chExt cx="2196000" cy="3002400"/>
                  </a:xfrm>
                </p:grpSpPr>
                <p:sp>
                  <p:nvSpPr>
                    <p:cNvPr id="344" name="Freeform 87"/>
                    <p:cNvSpPr/>
                    <p:nvPr/>
                  </p:nvSpPr>
                  <p:spPr>
                    <a:xfrm flipH="1" rot="18336000">
                      <a:off x="3418560" y="3314880"/>
                      <a:ext cx="2127960" cy="385560"/>
                    </a:xfrm>
                    <a:custGeom>
                      <a:avLst/>
                      <a:gdLst>
                        <a:gd name="textAreaLeft" fmla="*/ -360 w 2127960"/>
                        <a:gd name="textAreaRight" fmla="*/ 2127960 w 212796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5" name="Freeform 88"/>
                    <p:cNvSpPr/>
                    <p:nvPr/>
                  </p:nvSpPr>
                  <p:spPr>
                    <a:xfrm flipH="1" rot="18336000">
                      <a:off x="3069360" y="4592880"/>
                      <a:ext cx="1139040" cy="602640"/>
                    </a:xfrm>
                    <a:custGeom>
                      <a:avLst/>
                      <a:gdLst>
                        <a:gd name="textAreaLeft" fmla="*/ 360 w 1139040"/>
                        <a:gd name="textAreaRight" fmla="*/ 1139760 w 113904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6" name="Group 89"/>
                  <p:cNvGrpSpPr/>
                  <p:nvPr/>
                </p:nvGrpSpPr>
                <p:grpSpPr>
                  <a:xfrm>
                    <a:off x="3791520" y="2650320"/>
                    <a:ext cx="1482120" cy="2999160"/>
                    <a:chOff x="3791520" y="2650320"/>
                    <a:chExt cx="1482120" cy="2999160"/>
                  </a:xfrm>
                </p:grpSpPr>
                <p:sp>
                  <p:nvSpPr>
                    <p:cNvPr id="347" name="Freeform 90"/>
                    <p:cNvSpPr/>
                    <p:nvPr/>
                  </p:nvSpPr>
                  <p:spPr>
                    <a:xfrm flipH="1" rot="17543400">
                      <a:off x="3737520" y="3439440"/>
                      <a:ext cx="1965600" cy="385920"/>
                    </a:xfrm>
                    <a:custGeom>
                      <a:avLst/>
                      <a:gdLst>
                        <a:gd name="textAreaLeft" fmla="*/ 360 w 1965600"/>
                        <a:gd name="textAreaRight" fmla="*/ 1966320 w 1965600"/>
                        <a:gd name="textAreaTop" fmla="*/ 0 h 385920"/>
                        <a:gd name="textAreaBottom" fmla="*/ 386280 h 385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8" name="Freeform 91"/>
                    <p:cNvSpPr/>
                    <p:nvPr/>
                  </p:nvSpPr>
                  <p:spPr>
                    <a:xfrm flipH="1" rot="17543400">
                      <a:off x="3742560" y="4746600"/>
                      <a:ext cx="1054800" cy="601200"/>
                    </a:xfrm>
                    <a:custGeom>
                      <a:avLst/>
                      <a:gdLst>
                        <a:gd name="textAreaLeft" fmla="*/ 360 w 1054800"/>
                        <a:gd name="textAreaRight" fmla="*/ 1055520 w 1054800"/>
                        <a:gd name="textAreaTop" fmla="*/ 0 h 601200"/>
                        <a:gd name="textAreaBottom" fmla="*/ 601560 h 6012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9" name="Group 92"/>
                  <p:cNvGrpSpPr/>
                  <p:nvPr/>
                </p:nvGrpSpPr>
                <p:grpSpPr>
                  <a:xfrm>
                    <a:off x="4508280" y="2703600"/>
                    <a:ext cx="874800" cy="2926800"/>
                    <a:chOff x="4508280" y="2703600"/>
                    <a:chExt cx="874800" cy="2926800"/>
                  </a:xfrm>
                </p:grpSpPr>
                <p:sp>
                  <p:nvSpPr>
                    <p:cNvPr id="350" name="Freeform 93"/>
                    <p:cNvSpPr/>
                    <p:nvPr/>
                  </p:nvSpPr>
                  <p:spPr>
                    <a:xfrm flipH="1" rot="16870800">
                      <a:off x="4086000" y="3489840"/>
                      <a:ext cx="1887840" cy="345960"/>
                    </a:xfrm>
                    <a:custGeom>
                      <a:avLst/>
                      <a:gdLst>
                        <a:gd name="textAreaLeft" fmla="*/ 360 w 1887840"/>
                        <a:gd name="textAreaRight" fmla="*/ 1888560 w 1887840"/>
                        <a:gd name="textAreaTop" fmla="*/ 0 h 345960"/>
                        <a:gd name="textAreaBottom" fmla="*/ 346320 h 345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1" name="Freeform 94"/>
                    <p:cNvSpPr/>
                    <p:nvPr/>
                  </p:nvSpPr>
                  <p:spPr>
                    <a:xfrm flipH="1" rot="16870800">
                      <a:off x="4367160" y="4808160"/>
                      <a:ext cx="1012320" cy="54540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5400"/>
                        <a:gd name="textAreaBottom" fmla="*/ 545760 h 545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2" name="Group 95"/>
                  <p:cNvGrpSpPr/>
                  <p:nvPr/>
                </p:nvGrpSpPr>
                <p:grpSpPr>
                  <a:xfrm>
                    <a:off x="5677200" y="2482920"/>
                    <a:ext cx="2280960" cy="2953080"/>
                    <a:chOff x="5677200" y="2482920"/>
                    <a:chExt cx="2280960" cy="2953080"/>
                  </a:xfrm>
                </p:grpSpPr>
                <p:sp>
                  <p:nvSpPr>
                    <p:cNvPr id="353" name="Freeform 96"/>
                    <p:cNvSpPr/>
                    <p:nvPr/>
                  </p:nvSpPr>
                  <p:spPr>
                    <a:xfrm rot="3144000">
                      <a:off x="5415120" y="3250800"/>
                      <a:ext cx="2129040" cy="386640"/>
                    </a:xfrm>
                    <a:custGeom>
                      <a:avLst/>
                      <a:gdLst>
                        <a:gd name="textAreaLeft" fmla="*/ 0 w 2129040"/>
                        <a:gd name="textAreaRight" fmla="*/ 2129400 w 2129040"/>
                        <a:gd name="textAreaTop" fmla="*/ 0 h 386640"/>
                        <a:gd name="textAreaBottom" fmla="*/ 387000 h 386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4" name="Freeform 97"/>
                    <p:cNvSpPr/>
                    <p:nvPr/>
                  </p:nvSpPr>
                  <p:spPr>
                    <a:xfrm rot="3144000">
                      <a:off x="6802920" y="4500360"/>
                      <a:ext cx="1138680" cy="601560"/>
                    </a:xfrm>
                    <a:custGeom>
                      <a:avLst/>
                      <a:gdLst>
                        <a:gd name="textAreaLeft" fmla="*/ 0 w 1138680"/>
                        <a:gd name="textAreaRight" fmla="*/ 1139040 w 1138680"/>
                        <a:gd name="textAreaTop" fmla="*/ 0 h 601560"/>
                        <a:gd name="textAreaBottom" fmla="*/ 601560 h 601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5" name="Group 98"/>
                  <p:cNvGrpSpPr/>
                  <p:nvPr/>
                </p:nvGrpSpPr>
                <p:grpSpPr>
                  <a:xfrm>
                    <a:off x="5648760" y="2592720"/>
                    <a:ext cx="1757520" cy="3033720"/>
                    <a:chOff x="5648760" y="2592720"/>
                    <a:chExt cx="1757520" cy="3033720"/>
                  </a:xfrm>
                </p:grpSpPr>
                <p:sp>
                  <p:nvSpPr>
                    <p:cNvPr id="356" name="Freeform 99"/>
                    <p:cNvSpPr/>
                    <p:nvPr/>
                  </p:nvSpPr>
                  <p:spPr>
                    <a:xfrm rot="3745200">
                      <a:off x="5267520" y="3393720"/>
                      <a:ext cx="2033280" cy="371520"/>
                    </a:xfrm>
                    <a:custGeom>
                      <a:avLst/>
                      <a:gdLst>
                        <a:gd name="textAreaLeft" fmla="*/ 0 w 2033280"/>
                        <a:gd name="textAreaRight" fmla="*/ 2033640 w 2033280"/>
                        <a:gd name="textAreaTop" fmla="*/ 0 h 371520"/>
                        <a:gd name="textAreaBottom" fmla="*/ 371880 h 3715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" name="Freeform 100"/>
                    <p:cNvSpPr/>
                    <p:nvPr/>
                  </p:nvSpPr>
                  <p:spPr>
                    <a:xfrm rot="3745200">
                      <a:off x="6350760" y="4718880"/>
                      <a:ext cx="1091520" cy="579240"/>
                    </a:xfrm>
                    <a:custGeom>
                      <a:avLst/>
                      <a:gdLst>
                        <a:gd name="textAreaLeft" fmla="*/ 0 w 1091520"/>
                        <a:gd name="textAreaRight" fmla="*/ 1091880 w 1091520"/>
                        <a:gd name="textAreaTop" fmla="*/ 0 h 579240"/>
                        <a:gd name="textAreaBottom" fmla="*/ 579600 h 579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8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359" name="Freeform 102"/>
                    <p:cNvSpPr/>
                    <p:nvPr/>
                  </p:nvSpPr>
                  <p:spPr>
                    <a:xfrm rot="4286400">
                      <a:off x="5047200" y="3542040"/>
                      <a:ext cx="1972080" cy="302760"/>
                    </a:xfrm>
                    <a:custGeom>
                      <a:avLst/>
                      <a:gdLst>
                        <a:gd name="textAreaLeft" fmla="*/ 0 w 1972080"/>
                        <a:gd name="textAreaRight" fmla="*/ 1972440 w 1972080"/>
                        <a:gd name="textAreaTop" fmla="*/ 0 h 302760"/>
                        <a:gd name="textAreaBottom" fmla="*/ 303120 h 302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0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>
                        <a:gd name="textAreaLeft" fmla="*/ 0 w 1059480"/>
                        <a:gd name="textAreaRight" fmla="*/ 1059840 w 1059480"/>
                        <a:gd name="textAreaTop" fmla="*/ 0 h 474840"/>
                        <a:gd name="textAreaBottom" fmla="*/ 475200 h 474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1" name="Group 104"/>
                  <p:cNvGrpSpPr/>
                  <p:nvPr/>
                </p:nvGrpSpPr>
                <p:grpSpPr>
                  <a:xfrm>
                    <a:off x="5521680" y="2840760"/>
                    <a:ext cx="696960" cy="2777400"/>
                    <a:chOff x="5521680" y="2840760"/>
                    <a:chExt cx="696960" cy="2777400"/>
                  </a:xfrm>
                </p:grpSpPr>
                <p:sp>
                  <p:nvSpPr>
                    <p:cNvPr id="362" name="Freeform 105"/>
                    <p:cNvSpPr/>
                    <p:nvPr/>
                  </p:nvSpPr>
                  <p:spPr>
                    <a:xfrm rot="4898400">
                      <a:off x="4897440" y="3606840"/>
                      <a:ext cx="1811160" cy="303120"/>
                    </a:xfrm>
                    <a:custGeom>
                      <a:avLst/>
                      <a:gdLst>
                        <a:gd name="textAreaLeft" fmla="*/ 0 w 1811160"/>
                        <a:gd name="textAreaRight" fmla="*/ 1811520 w 181116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3" name="Freeform 106"/>
                    <p:cNvSpPr/>
                    <p:nvPr/>
                  </p:nvSpPr>
                  <p:spPr>
                    <a:xfrm rot="4898400">
                      <a:off x="5425920" y="4864680"/>
                      <a:ext cx="972720" cy="475560"/>
                    </a:xfrm>
                    <a:custGeom>
                      <a:avLst/>
                      <a:gdLst>
                        <a:gd name="textAreaLeft" fmla="*/ 0 w 972720"/>
                        <a:gd name="textAreaRight" fmla="*/ 973080 w 97272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4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65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6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67" name="Group 110"/>
              <p:cNvGrpSpPr/>
              <p:nvPr/>
            </p:nvGrpSpPr>
            <p:grpSpPr>
              <a:xfrm>
                <a:off x="2175480" y="682560"/>
                <a:ext cx="6731280" cy="4521240"/>
                <a:chOff x="2175480" y="682560"/>
                <a:chExt cx="6731280" cy="4521240"/>
              </a:xfrm>
            </p:grpSpPr>
            <p:grpSp>
              <p:nvGrpSpPr>
                <p:cNvPr id="368" name="Group 111"/>
                <p:cNvGrpSpPr/>
                <p:nvPr/>
              </p:nvGrpSpPr>
              <p:grpSpPr>
                <a:xfrm>
                  <a:off x="2175480" y="682560"/>
                  <a:ext cx="6731280" cy="4521240"/>
                  <a:chOff x="2175480" y="682560"/>
                  <a:chExt cx="6731280" cy="4521240"/>
                </a:xfrm>
              </p:grpSpPr>
              <p:sp>
                <p:nvSpPr>
                  <p:cNvPr id="369" name="Arc 112"/>
                  <p:cNvSpPr/>
                  <p:nvPr/>
                </p:nvSpPr>
                <p:spPr>
                  <a:xfrm flipV="1">
                    <a:off x="5743080" y="857880"/>
                    <a:ext cx="3163680" cy="2523960"/>
                  </a:xfrm>
                  <a:custGeom>
                    <a:avLst/>
                    <a:gdLst>
                      <a:gd name="textAreaLeft" fmla="*/ 0 w 3163680"/>
                      <a:gd name="textAreaRight" fmla="*/ 3164040 w 3163680"/>
                      <a:gd name="textAreaTop" fmla="*/ -360 h 2523960"/>
                      <a:gd name="textAreaBottom" fmla="*/ 2523960 h 252396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Arc 113"/>
                  <p:cNvSpPr/>
                  <p:nvPr/>
                </p:nvSpPr>
                <p:spPr>
                  <a:xfrm flipH="1">
                    <a:off x="2562480" y="2270520"/>
                    <a:ext cx="2485440" cy="2933280"/>
                  </a:xfrm>
                  <a:custGeom>
                    <a:avLst/>
                    <a:gdLst>
                      <a:gd name="textAreaLeft" fmla="*/ 360 w 2485440"/>
                      <a:gd name="textAreaRight" fmla="*/ 2486160 w 24854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Arc 114"/>
                  <p:cNvSpPr/>
                  <p:nvPr/>
                </p:nvSpPr>
                <p:spPr>
                  <a:xfrm>
                    <a:off x="5820840" y="1752840"/>
                    <a:ext cx="1757160" cy="2934360"/>
                  </a:xfrm>
                  <a:custGeom>
                    <a:avLst/>
                    <a:gdLst>
                      <a:gd name="textAreaLeft" fmla="*/ 0 w 1757160"/>
                      <a:gd name="textAreaRight" fmla="*/ 1757520 w 175716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Arc 115"/>
                  <p:cNvSpPr/>
                  <p:nvPr/>
                </p:nvSpPr>
                <p:spPr>
                  <a:xfrm flipH="1">
                    <a:off x="2175480" y="1297800"/>
                    <a:ext cx="3134160" cy="2934360"/>
                  </a:xfrm>
                  <a:custGeom>
                    <a:avLst/>
                    <a:gdLst>
                      <a:gd name="textAreaLeft" fmla="*/ 360 w 3134160"/>
                      <a:gd name="textAreaRight" fmla="*/ 3134880 w 313416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Arc 116"/>
                  <p:cNvSpPr/>
                  <p:nvPr/>
                </p:nvSpPr>
                <p:spPr>
                  <a:xfrm flipH="1">
                    <a:off x="3058920" y="682560"/>
                    <a:ext cx="2280960" cy="2840760"/>
                  </a:xfrm>
                  <a:custGeom>
                    <a:avLst/>
                    <a:gdLst>
                      <a:gd name="textAreaLeft" fmla="*/ 360 w 2280960"/>
                      <a:gd name="textAreaRight" fmla="*/ 2281680 w 22809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Arc 117"/>
                  <p:cNvSpPr/>
                  <p:nvPr/>
                </p:nvSpPr>
                <p:spPr>
                  <a:xfrm>
                    <a:off x="5493240" y="1875960"/>
                    <a:ext cx="942840" cy="2840760"/>
                  </a:xfrm>
                  <a:custGeom>
                    <a:avLst/>
                    <a:gdLst>
                      <a:gd name="textAreaLeft" fmla="*/ 0 w 942840"/>
                      <a:gd name="textAreaRight" fmla="*/ 943200 w 94284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Freeform 118"/>
                  <p:cNvSpPr/>
                  <p:nvPr/>
                </p:nvSpPr>
                <p:spPr>
                  <a:xfrm flipH="1">
                    <a:off x="4306320" y="836280"/>
                    <a:ext cx="514800" cy="1879200"/>
                  </a:xfrm>
                  <a:custGeom>
                    <a:avLst/>
                    <a:gdLst>
                      <a:gd name="textAreaLeft" fmla="*/ 360 w 514800"/>
                      <a:gd name="textAreaRight" fmla="*/ 515520 w 51480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6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a50021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7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378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379" name="Arc 122"/>
              <p:cNvSpPr/>
              <p:nvPr/>
            </p:nvSpPr>
            <p:spPr>
              <a:xfrm flipH="1">
                <a:off x="3383280" y="2579760"/>
                <a:ext cx="2613960" cy="2841120"/>
              </a:xfrm>
              <a:custGeom>
                <a:avLst/>
                <a:gdLst>
                  <a:gd name="textAreaLeft" fmla="*/ -360 w 2613960"/>
                  <a:gd name="textAreaRight" fmla="*/ 2613960 w 261396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380" name="Arc 123"/>
              <p:cNvSpPr/>
              <p:nvPr/>
            </p:nvSpPr>
            <p:spPr>
              <a:xfrm flipH="1">
                <a:off x="3644640" y="2122200"/>
                <a:ext cx="1536120" cy="2934000"/>
              </a:xfrm>
              <a:custGeom>
                <a:avLst/>
                <a:gdLst>
                  <a:gd name="textAreaLeft" fmla="*/ -360 w 1536120"/>
                  <a:gd name="textAreaRight" fmla="*/ 1536120 w 153612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381" name="Arc 124"/>
              <p:cNvSpPr/>
              <p:nvPr/>
            </p:nvSpPr>
            <p:spPr>
              <a:xfrm flipH="1">
                <a:off x="2342520" y="1738800"/>
                <a:ext cx="2930040" cy="293400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382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383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384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385" name="Freeform 128"/>
              <p:cNvSpPr/>
              <p:nvPr/>
            </p:nvSpPr>
            <p:spPr>
              <a:xfrm flipV="1" rot="19660800">
                <a:off x="5223600" y="2947320"/>
                <a:ext cx="544680" cy="10339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360 h 1033920"/>
                  <a:gd name="textAreaBottom" fmla="*/ 1034640 h 10339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386" name="Freeform 129"/>
              <p:cNvSpPr/>
              <p:nvPr/>
            </p:nvSpPr>
            <p:spPr>
              <a:xfrm flipH="1">
                <a:off x="2686320" y="338400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387" name="Freeform 130"/>
              <p:cNvSpPr/>
              <p:nvPr/>
            </p:nvSpPr>
            <p:spPr>
              <a:xfrm flipH="1">
                <a:off x="3317400" y="1398240"/>
                <a:ext cx="856800" cy="1879200"/>
              </a:xfrm>
              <a:custGeom>
                <a:avLst/>
                <a:gdLst>
                  <a:gd name="textAreaLeft" fmla="*/ 360 w 856800"/>
                  <a:gd name="textAreaRight" fmla="*/ 857520 w 85680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388" name="Freeform 131"/>
              <p:cNvSpPr/>
              <p:nvPr/>
            </p:nvSpPr>
            <p:spPr>
              <a:xfrm>
                <a:off x="7511400" y="3107880"/>
                <a:ext cx="1241640" cy="197280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2800"/>
                  <a:gd name="textAreaBottom" fmla="*/ 1973160 h 1972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389" name="Freeform 132"/>
              <p:cNvSpPr/>
              <p:nvPr/>
            </p:nvSpPr>
            <p:spPr>
              <a:xfrm>
                <a:off x="6865200" y="2109960"/>
                <a:ext cx="1873080" cy="1315800"/>
              </a:xfrm>
              <a:custGeom>
                <a:avLst/>
                <a:gdLst>
                  <a:gd name="textAreaLeft" fmla="*/ 0 w 1873080"/>
                  <a:gd name="textAreaRight" fmla="*/ 1873440 w 187308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390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391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86AD-9D08-4F04-AA2D-1A4968E16C9E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3300"/>
                </a:solidFill>
                <a:latin typeface="Tahoma"/>
              </a:rPr>
              <a:t>Игра-путешествие </a:t>
            </a:r>
            <a:br>
              <a:rPr sz="3600"/>
            </a:br>
            <a:r>
              <a:rPr b="0" lang="uk-UA" sz="3600" spc="-1" strike="noStrike">
                <a:solidFill>
                  <a:srgbClr val="ff3300"/>
                </a:solidFill>
                <a:latin typeface="Tahoma"/>
              </a:rPr>
              <a:t>“ К планете квадратичной функции”</a:t>
            </a:r>
            <a:br>
              <a:rPr sz="3600"/>
            </a:br>
            <a:r>
              <a:rPr b="0" lang="ru-RU" sz="3600" spc="-1" strike="noStrike">
                <a:solidFill>
                  <a:srgbClr val="ff3300"/>
                </a:solidFill>
                <a:latin typeface="Tahoma"/>
              </a:rPr>
              <a:t> ( 9 класс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644"/>
                </a:solidFill>
                <a:latin typeface="Tahoma"/>
              </a:rPr>
              <a:t>УВК № 137 г.Днепропетровс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644"/>
                </a:solidFill>
                <a:latin typeface="Tahoma"/>
              </a:rPr>
              <a:t>Учитель математики Рослюк Н.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cc"/>
                </a:solidFill>
                <a:latin typeface="Tahoma"/>
              </a:rPr>
              <a:t>         </a:t>
            </a:r>
            <a:r>
              <a:rPr b="1" i="1" lang="ru-RU" sz="4000" spc="-1" strike="noStrike">
                <a:solidFill>
                  <a:srgbClr val="6600cc"/>
                </a:solidFill>
                <a:latin typeface="Tahoma"/>
              </a:rPr>
              <a:t>Планетная размин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Что называют функцие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Что называют областью определения функц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Что называют областью значения функц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Способы задания функц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Что называют графиком функц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Что называют нулями функц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AutoShape 6">
            <a:hlinkClick r:id="rId2" action="ppaction://hlinksldjump"/>
          </p:cNvPr>
          <p:cNvSpPr/>
          <p:nvPr/>
        </p:nvSpPr>
        <p:spPr>
          <a:xfrm>
            <a:off x="8317080" y="6308640"/>
            <a:ext cx="502920" cy="54936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93">
                <a:moveTo>
                  <a:pt x="0" y="0"/>
                </a:moveTo>
                <a:lnTo>
                  <a:pt x="21600" y="0"/>
                </a:lnTo>
                <a:lnTo>
                  <a:pt x="21600" y="23593"/>
                </a:lnTo>
                <a:lnTo>
                  <a:pt x="0" y="23593"/>
                </a:lnTo>
                <a:close/>
              </a:path>
              <a:path fill="lightenLess" w="21600" h="235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93">
                <a:moveTo>
                  <a:pt x="21600" y="0"/>
                </a:moveTo>
                <a:lnTo>
                  <a:pt x="21600" y="23593"/>
                </a:lnTo>
                <a:lnTo>
                  <a:pt x="20200" y="22193"/>
                </a:lnTo>
                <a:lnTo>
                  <a:pt x="20200" y="1400"/>
                </a:lnTo>
                <a:close/>
              </a:path>
              <a:path fill="darkenLess" w="21600" h="23593">
                <a:moveTo>
                  <a:pt x="21600" y="23593"/>
                </a:moveTo>
                <a:lnTo>
                  <a:pt x="0" y="23593"/>
                </a:lnTo>
                <a:lnTo>
                  <a:pt x="1400" y="22193"/>
                </a:lnTo>
                <a:lnTo>
                  <a:pt x="20200" y="22193"/>
                </a:lnTo>
                <a:close/>
              </a:path>
              <a:path fill="lighten" w="21600" h="23593">
                <a:moveTo>
                  <a:pt x="0" y="235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93"/>
                </a:lnTo>
                <a:close/>
              </a:path>
              <a:path fill="darken" w="21600" h="23593">
                <a:moveTo>
                  <a:pt x="3794" y="8489"/>
                </a:moveTo>
                <a:lnTo>
                  <a:pt x="7301" y="8489"/>
                </a:lnTo>
                <a:lnTo>
                  <a:pt x="7301" y="13825"/>
                </a:lnTo>
                <a:cubicBezTo>
                  <a:pt x="7301" y="14747"/>
                  <a:pt x="8102" y="15478"/>
                  <a:pt x="9138" y="15478"/>
                </a:cubicBezTo>
                <a:lnTo>
                  <a:pt x="10800" y="15478"/>
                </a:lnTo>
                <a:cubicBezTo>
                  <a:pt x="11836" y="15478"/>
                  <a:pt x="12636" y="14747"/>
                  <a:pt x="12636" y="13825"/>
                </a:cubicBezTo>
                <a:lnTo>
                  <a:pt x="12636" y="8489"/>
                </a:lnTo>
                <a:lnTo>
                  <a:pt x="10800" y="8489"/>
                </a:lnTo>
                <a:lnTo>
                  <a:pt x="14308" y="4982"/>
                </a:lnTo>
                <a:lnTo>
                  <a:pt x="17981" y="8489"/>
                </a:lnTo>
                <a:lnTo>
                  <a:pt x="16144" y="8489"/>
                </a:lnTo>
                <a:lnTo>
                  <a:pt x="16144" y="13825"/>
                </a:lnTo>
                <a:cubicBezTo>
                  <a:pt x="16144" y="16592"/>
                  <a:pt x="13568" y="19151"/>
                  <a:pt x="10800" y="19151"/>
                </a:cubicBezTo>
                <a:lnTo>
                  <a:pt x="9138" y="19151"/>
                </a:lnTo>
                <a:cubicBezTo>
                  <a:pt x="6370" y="19151"/>
                  <a:pt x="3794" y="16592"/>
                  <a:pt x="3794" y="13825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Tahoma"/>
              </a:rPr>
              <a:t>Межгалактические связ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Какая функция называется убывающей а какая возрастающе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Как определить четность и нечетность функци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Как определить положительное значение функции и отрицательно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Перечислите известные вам функци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5" descr="Михаил Леонтьевич Магницкий"/>
          <p:cNvPicPr/>
          <p:nvPr/>
        </p:nvPicPr>
        <p:blipFill>
          <a:blip r:embed="rId2"/>
          <a:stretch/>
        </p:blipFill>
        <p:spPr>
          <a:xfrm>
            <a:off x="611280" y="1341360"/>
            <a:ext cx="2376360" cy="468000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14"/>
          <p:cNvSpPr/>
          <p:nvPr/>
        </p:nvSpPr>
        <p:spPr>
          <a:xfrm>
            <a:off x="3348000" y="2421000"/>
            <a:ext cx="521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imes New Roman"/>
              </a:rPr>
              <a:t>«Арифметика –  наука числительная»</a:t>
            </a:r>
            <a:endParaRPr b="0" lang="en-US" sz="18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imes New Roman"/>
              </a:rPr>
              <a:t>«Арифметика…есть художество честное, независимое, много полезнейшее и много похвальнейшее…»</a:t>
            </a:r>
            <a:endParaRPr b="0" lang="en-US" sz="18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imes New Roman"/>
              </a:rPr>
              <a:t>                                            </a:t>
            </a:r>
            <a:r>
              <a:rPr b="0" lang="ru-RU" sz="1800" spc="-1" strike="noStrike">
                <a:solidFill>
                  <a:srgbClr val="010199"/>
                </a:solidFill>
                <a:latin typeface="Times New Roman"/>
              </a:rPr>
              <a:t>М.Л.Магницкий</a:t>
            </a:r>
            <a:endParaRPr b="0" lang="en-US" sz="1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61" name="WordArt 15"/>
          <p:cNvSpPr txBox="1"/>
          <p:nvPr/>
        </p:nvSpPr>
        <p:spPr>
          <a:xfrm>
            <a:off x="1692360" y="333360"/>
            <a:ext cx="669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гницкий Михаил Леонтьевич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500"/>
                            </p:stCondLst>
                            <p:childTnLst>
                              <p:par>
                                <p:cTn id="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Tahoma"/>
              </a:rPr>
              <a:t>Планета квадратичной функции задает вопросы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644"/>
                </a:solidFill>
                <a:latin typeface="Tahoma"/>
              </a:rPr>
              <a:t>1.Что называют  квадратным трехчленом? Приведите примеры на доске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644"/>
                </a:solidFill>
                <a:latin typeface="Tahoma"/>
              </a:rPr>
              <a:t>Что называют корнями квадратного трехчлен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644"/>
                </a:solidFill>
                <a:latin typeface="Tahoma"/>
              </a:rPr>
              <a:t>2.Выделите квадрат двучлена из квадратного трехчлена</a:t>
            </a:r>
            <a:r>
              <a:rPr b="0" lang="en-US" sz="2800" spc="-1" strike="noStrike">
                <a:solidFill>
                  <a:srgbClr val="f2f644"/>
                </a:solidFill>
                <a:latin typeface="Tahoma"/>
              </a:rPr>
              <a:t>  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у = -х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²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х- 9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644"/>
                </a:solidFill>
                <a:latin typeface="Tahoma"/>
              </a:rPr>
              <a:t>Разложите квадратный трехчлен на множители</a:t>
            </a:r>
            <a:r>
              <a:rPr b="0" lang="en-US" sz="2800" spc="-1" strike="noStrike">
                <a:solidFill>
                  <a:srgbClr val="f2f644"/>
                </a:solidFill>
                <a:latin typeface="Tahoma"/>
              </a:rPr>
              <a:t> 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у = 2х² - 5х+ 3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у = х² + 3х+ 2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А вам это интересно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Во всех стихах она воспета теорема знаменитого Виета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А кто он??????????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иет Франсуа (1540-1603) - французский математик. Разработал почти всю элементарную алгебру. Известны «формулы Виета», дающие зависимость между корнями и коэффициентами алгебраического уравнения. Ввел буквенные обозначения для коэффициентов в уравнениях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8" name="Picture 4" descr="re_viet_fransua"/>
          <p:cNvPicPr/>
          <p:nvPr/>
        </p:nvPicPr>
        <p:blipFill>
          <a:blip r:embed="rId1"/>
          <a:stretch/>
        </p:blipFill>
        <p:spPr>
          <a:xfrm>
            <a:off x="250920" y="260280"/>
            <a:ext cx="17143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2f644"/>
                </a:solidFill>
                <a:latin typeface="Tahoma"/>
              </a:rPr>
              <a:t>Перед вами Планета  квадратичной  функции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600"/>
                </a:solidFill>
                <a:latin typeface="Tahoma"/>
              </a:rPr>
              <a:t>Какую функцию называют квадратичной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Что является графиком квадратичной функц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Постройте график квадратичной функци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uk-UA" sz="3200" spc="-1" strike="noStrike">
                <a:solidFill>
                  <a:srgbClr val="ffffff"/>
                </a:solidFill>
                <a:latin typeface="Tahoma"/>
              </a:rPr>
              <a:t>у= -2(х+1)²-1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;    </a:t>
            </a:r>
            <a:r>
              <a:rPr b="0" i="1" lang="uk-UA" sz="3200" spc="-1" strike="noStrike">
                <a:solidFill>
                  <a:srgbClr val="ffffff"/>
                </a:solidFill>
                <a:latin typeface="Tahoma"/>
              </a:rPr>
              <a:t>у=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i="1" lang="uk-UA" sz="3200" spc="-1" strike="noStrike">
                <a:solidFill>
                  <a:srgbClr val="ffffff"/>
                </a:solidFill>
                <a:latin typeface="Tahoma"/>
              </a:rPr>
              <a:t>(х-4)²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+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cc"/>
                </a:solidFill>
                <a:latin typeface="Tahoma"/>
              </a:rPr>
              <a:t>Удачи вам!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33"/>
                </a:solidFill>
                <a:latin typeface="Tahoma"/>
              </a:rPr>
              <a:t>Это интересно знать!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В древности такого термина не было. Его ввёл в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XVII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 в. французский математик Виет Франсуа, в переводе с латинского означает «спица колеса». Что это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Oval 7"/>
          <p:cNvSpPr/>
          <p:nvPr/>
        </p:nvSpPr>
        <p:spPr>
          <a:xfrm>
            <a:off x="2700360" y="4437000"/>
            <a:ext cx="2158920" cy="1871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74" name="Line 9"/>
          <p:cNvSpPr/>
          <p:nvPr/>
        </p:nvSpPr>
        <p:spPr>
          <a:xfrm>
            <a:off x="3780000" y="537372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75" name="Text Box 11"/>
          <p:cNvSpPr/>
          <p:nvPr/>
        </p:nvSpPr>
        <p:spPr>
          <a:xfrm>
            <a:off x="3494880" y="558972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76" name="Line 12"/>
          <p:cNvSpPr/>
          <p:nvPr/>
        </p:nvSpPr>
        <p:spPr>
          <a:xfrm flipH="1" flipV="1">
            <a:off x="3276720" y="4508280"/>
            <a:ext cx="50328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77" name="Text Box 13"/>
          <p:cNvSpPr/>
          <p:nvPr/>
        </p:nvSpPr>
        <p:spPr>
          <a:xfrm>
            <a:off x="3784320" y="51577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О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78" name="AutoShape 14">
            <a:hlinkClick r:id="rId2" action="ppaction://hlinksldjump"/>
          </p:cNvPr>
          <p:cNvSpPr/>
          <p:nvPr/>
        </p:nvSpPr>
        <p:spPr>
          <a:xfrm>
            <a:off x="8317080" y="6308640"/>
            <a:ext cx="502920" cy="54936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93">
                <a:moveTo>
                  <a:pt x="0" y="0"/>
                </a:moveTo>
                <a:lnTo>
                  <a:pt x="21600" y="0"/>
                </a:lnTo>
                <a:lnTo>
                  <a:pt x="21600" y="23593"/>
                </a:lnTo>
                <a:lnTo>
                  <a:pt x="0" y="23593"/>
                </a:lnTo>
                <a:close/>
              </a:path>
              <a:path fill="lightenLess" w="21600" h="235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93">
                <a:moveTo>
                  <a:pt x="21600" y="0"/>
                </a:moveTo>
                <a:lnTo>
                  <a:pt x="21600" y="23593"/>
                </a:lnTo>
                <a:lnTo>
                  <a:pt x="20200" y="22193"/>
                </a:lnTo>
                <a:lnTo>
                  <a:pt x="20200" y="1400"/>
                </a:lnTo>
                <a:close/>
              </a:path>
              <a:path fill="darkenLess" w="21600" h="23593">
                <a:moveTo>
                  <a:pt x="21600" y="23593"/>
                </a:moveTo>
                <a:lnTo>
                  <a:pt x="0" y="23593"/>
                </a:lnTo>
                <a:lnTo>
                  <a:pt x="1400" y="22193"/>
                </a:lnTo>
                <a:lnTo>
                  <a:pt x="20200" y="22193"/>
                </a:lnTo>
                <a:close/>
              </a:path>
              <a:path fill="lighten" w="21600" h="23593">
                <a:moveTo>
                  <a:pt x="0" y="235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93"/>
                </a:lnTo>
                <a:close/>
              </a:path>
              <a:path fill="darken" w="21600" h="23593">
                <a:moveTo>
                  <a:pt x="3794" y="8489"/>
                </a:moveTo>
                <a:lnTo>
                  <a:pt x="7301" y="8489"/>
                </a:lnTo>
                <a:lnTo>
                  <a:pt x="7301" y="13825"/>
                </a:lnTo>
                <a:cubicBezTo>
                  <a:pt x="7301" y="14747"/>
                  <a:pt x="8102" y="15478"/>
                  <a:pt x="9138" y="15478"/>
                </a:cubicBezTo>
                <a:lnTo>
                  <a:pt x="10800" y="15478"/>
                </a:lnTo>
                <a:cubicBezTo>
                  <a:pt x="11836" y="15478"/>
                  <a:pt x="12636" y="14747"/>
                  <a:pt x="12636" y="13825"/>
                </a:cubicBezTo>
                <a:lnTo>
                  <a:pt x="12636" y="8489"/>
                </a:lnTo>
                <a:lnTo>
                  <a:pt x="10800" y="8489"/>
                </a:lnTo>
                <a:lnTo>
                  <a:pt x="14308" y="4982"/>
                </a:lnTo>
                <a:lnTo>
                  <a:pt x="17981" y="8489"/>
                </a:lnTo>
                <a:lnTo>
                  <a:pt x="16144" y="8489"/>
                </a:lnTo>
                <a:lnTo>
                  <a:pt x="16144" y="13825"/>
                </a:lnTo>
                <a:cubicBezTo>
                  <a:pt x="16144" y="16592"/>
                  <a:pt x="13568" y="19151"/>
                  <a:pt x="10800" y="19151"/>
                </a:cubicBezTo>
                <a:lnTo>
                  <a:pt x="9138" y="19151"/>
                </a:lnTo>
                <a:cubicBezTo>
                  <a:pt x="6370" y="19151"/>
                  <a:pt x="3794" y="16592"/>
                  <a:pt x="3794" y="13825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ff3300"/>
                </a:solidFill>
                <a:latin typeface="Tahoma"/>
              </a:rPr>
              <a:t>Еще одно испытание!!!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нимание!!!!!!!! В руках экспертов появится новое задание. Определите знаки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uk-UA" sz="3200" spc="-1" strike="noStrike">
                <a:solidFill>
                  <a:srgbClr val="ffcc00"/>
                </a:solidFill>
                <a:latin typeface="Tahoma"/>
              </a:rPr>
              <a:t>дискрименанта и 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коэффициентов а,в,с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!!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33"/>
                </a:solidFill>
                <a:latin typeface="Arial Black"/>
              </a:rPr>
              <a:t>4.         ГЕНИЙ </a:t>
            </a:r>
            <a:r>
              <a:rPr b="1" lang="en-US" sz="4000" spc="-1" strike="noStrike">
                <a:solidFill>
                  <a:srgbClr val="996633"/>
                </a:solidFill>
                <a:latin typeface="Arial Black"/>
              </a:rPr>
              <a:t>XVIII </a:t>
            </a:r>
            <a:r>
              <a:rPr b="1" lang="ru-RU" sz="4000" spc="-1" strike="noStrike">
                <a:solidFill>
                  <a:srgbClr val="996633"/>
                </a:solidFill>
                <a:latin typeface="Arial Black"/>
              </a:rPr>
              <a:t>века</a:t>
            </a:r>
            <a:br>
              <a:rPr sz="4000"/>
            </a:br>
            <a:r>
              <a:rPr b="1" lang="ru-RU" sz="4000" spc="-1" strike="noStrike">
                <a:solidFill>
                  <a:srgbClr val="996633"/>
                </a:solidFill>
                <a:latin typeface="Arial Black"/>
              </a:rPr>
              <a:t>             Леонард Эйлер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82" name="Picture 5" descr="эйлер"/>
          <p:cNvPicPr/>
          <p:nvPr/>
        </p:nvPicPr>
        <p:blipFill>
          <a:blip r:embed="rId2"/>
          <a:stretch/>
        </p:blipFill>
        <p:spPr>
          <a:xfrm>
            <a:off x="324000" y="1989000"/>
            <a:ext cx="3717720" cy="4422960"/>
          </a:xfrm>
          <a:prstGeom prst="rect">
            <a:avLst/>
          </a:prstGeom>
          <a:ln w="0">
            <a:noFill/>
          </a:ln>
        </p:spPr>
      </p:pic>
      <p:sp>
        <p:nvSpPr>
          <p:cNvPr id="483" name="Rectangle 6"/>
          <p:cNvSpPr/>
          <p:nvPr/>
        </p:nvSpPr>
        <p:spPr>
          <a:xfrm>
            <a:off x="4427640" y="3573360"/>
            <a:ext cx="410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В петербургской жизни сложился как великий ученый. </a:t>
            </a:r>
            <a:r>
              <a:rPr b="1" i="1" lang="ru-RU" sz="1800" spc="-1" strike="noStrike">
                <a:solidFill>
                  <a:srgbClr val="ffcc00"/>
                </a:solidFill>
                <a:latin typeface="Times New Roman"/>
              </a:rPr>
              <a:t>Леонард Эйлер (1707-1783) - швейцарский математик. </a:t>
            </a:r>
            <a:endParaRPr b="0" lang="en-US" sz="18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Совершил удивительные открытия в области алгебры и тригонометрии</a:t>
            </a:r>
            <a:endParaRPr b="0" lang="en-US" sz="18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84" name="AutoShape 9">
            <a:hlinkClick r:id="" action="ppaction://hlinkshowjump?jump=nextslide"/>
          </p:cNvPr>
          <p:cNvSpPr/>
          <p:nvPr/>
        </p:nvSpPr>
        <p:spPr>
          <a:xfrm>
            <a:off x="8244000" y="6237360"/>
            <a:ext cx="576000" cy="62064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620640"/>
              <a:gd name="textAreaBottom" fmla="*/ 583560 h 620640"/>
            </a:gdLst>
            <a:ahLst/>
            <a:rect l="textAreaLeft" t="textAreaTop" r="textAreaRight" b="textAreaBottom"/>
            <a:pathLst>
              <a:path w="21600" h="23273">
                <a:moveTo>
                  <a:pt x="0" y="0"/>
                </a:moveTo>
                <a:lnTo>
                  <a:pt x="21600" y="0"/>
                </a:lnTo>
                <a:lnTo>
                  <a:pt x="21600" y="23273"/>
                </a:lnTo>
                <a:lnTo>
                  <a:pt x="0" y="23273"/>
                </a:lnTo>
                <a:close/>
              </a:path>
              <a:path fill="lightenLess" w="21600" h="232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73">
                <a:moveTo>
                  <a:pt x="21600" y="0"/>
                </a:moveTo>
                <a:lnTo>
                  <a:pt x="21600" y="23273"/>
                </a:lnTo>
                <a:lnTo>
                  <a:pt x="20200" y="21873"/>
                </a:lnTo>
                <a:lnTo>
                  <a:pt x="20200" y="1400"/>
                </a:lnTo>
                <a:close/>
              </a:path>
              <a:path fill="darkenLess" w="21600" h="23273">
                <a:moveTo>
                  <a:pt x="21600" y="23273"/>
                </a:moveTo>
                <a:lnTo>
                  <a:pt x="0" y="23273"/>
                </a:lnTo>
                <a:lnTo>
                  <a:pt x="1400" y="21873"/>
                </a:lnTo>
                <a:lnTo>
                  <a:pt x="20200" y="21873"/>
                </a:lnTo>
                <a:close/>
              </a:path>
              <a:path fill="lighten" w="21600" h="23273">
                <a:moveTo>
                  <a:pt x="0" y="232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73"/>
                </a:lnTo>
                <a:close/>
              </a:path>
              <a:path fill="darken" w="21600" h="23273">
                <a:moveTo>
                  <a:pt x="3794" y="4630"/>
                </a:moveTo>
                <a:lnTo>
                  <a:pt x="17806" y="11636"/>
                </a:lnTo>
                <a:lnTo>
                  <a:pt x="3794" y="18643"/>
                </a:lnTo>
                <a:close/>
              </a:path>
            </a:pathLst>
          </a:cu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77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770" fill="hold"/>
                                        <p:tgtEl>
                                          <p:spTgt spid="4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8" dur="77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0" dur="77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10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Галактика познания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6" name="Picture 8" descr="Картиночки 705"/>
          <p:cNvPicPr/>
          <p:nvPr/>
        </p:nvPicPr>
        <p:blipFill>
          <a:blip r:embed="rId1"/>
          <a:stretch/>
        </p:blipFill>
        <p:spPr>
          <a:xfrm>
            <a:off x="250920" y="1341360"/>
            <a:ext cx="889308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Квадратные вопросики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Что называют квадратичным неравенством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Какими  методами можно решать квадратичные  неравенства 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Докажите что это вам под силу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2f644"/>
                </a:solidFill>
                <a:latin typeface="Arial Black"/>
              </a:rPr>
              <a:t>Кого из известных женщин математиков прозвали «принцессой науки»</a:t>
            </a:r>
            <a:r>
              <a:rPr b="0" lang="en-US" sz="3400" spc="-1" strike="noStrike">
                <a:solidFill>
                  <a:srgbClr val="f2f644"/>
                </a:solidFill>
                <a:latin typeface="Arial Black"/>
              </a:rPr>
              <a:t>?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3399"/>
                </a:solidFill>
                <a:latin typeface="Arial Black"/>
              </a:rPr>
              <a:t>1)Екатерина Нарышкина</a:t>
            </a: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3399"/>
                </a:solidFill>
                <a:latin typeface="Arial Black"/>
              </a:rPr>
              <a:t>2) Людмила Келдыш</a:t>
            </a: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3399"/>
                </a:solidFill>
                <a:latin typeface="Arial Black"/>
              </a:rPr>
              <a:t>3) Ольга Ладыженская</a:t>
            </a: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2600" spc="-1" strike="noStrike">
                <a:solidFill>
                  <a:srgbClr val="ff3399"/>
                </a:solidFill>
                <a:latin typeface="Arial Black"/>
              </a:rPr>
              <a:t>4) Софья Ковалевская</a:t>
            </a: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89" name="Picture 4" descr=""/>
          <p:cNvPicPr/>
          <p:nvPr/>
        </p:nvPicPr>
        <p:blipFill>
          <a:blip r:embed="rId1"/>
          <a:stretch/>
        </p:blipFill>
        <p:spPr>
          <a:xfrm>
            <a:off x="2340000" y="5157720"/>
            <a:ext cx="1332000" cy="144792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5" descr=""/>
          <p:cNvPicPr/>
          <p:nvPr/>
        </p:nvPicPr>
        <p:blipFill>
          <a:blip r:embed="rId2"/>
          <a:stretch/>
        </p:blipFill>
        <p:spPr>
          <a:xfrm>
            <a:off x="1403280" y="2708280"/>
            <a:ext cx="1236600" cy="16002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6" descr=""/>
          <p:cNvPicPr/>
          <p:nvPr/>
        </p:nvPicPr>
        <p:blipFill>
          <a:blip r:embed="rId3"/>
          <a:stretch/>
        </p:blipFill>
        <p:spPr>
          <a:xfrm>
            <a:off x="5867280" y="1844640"/>
            <a:ext cx="986040" cy="13716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8" descr=""/>
          <p:cNvPicPr/>
          <p:nvPr/>
        </p:nvPicPr>
        <p:blipFill>
          <a:blip r:embed="rId4"/>
          <a:stretch/>
        </p:blipFill>
        <p:spPr>
          <a:xfrm>
            <a:off x="6443640" y="3860640"/>
            <a:ext cx="11224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692360" y="1988640"/>
            <a:ext cx="650088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Times New Roman"/>
              </a:rPr>
              <a:t>Где в жизни можно встретиться с квадратичной функцией?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4" name="WordArt 5"/>
          <p:cNvSpPr txBox="1"/>
          <p:nvPr/>
        </p:nvSpPr>
        <p:spPr>
          <a:xfrm>
            <a:off x="900000" y="620640"/>
            <a:ext cx="7056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95" name="Picture 6" descr="mouse"/>
          <p:cNvPicPr/>
          <p:nvPr/>
        </p:nvPicPr>
        <p:blipFill>
          <a:blip r:embed="rId4"/>
          <a:stretch/>
        </p:blipFill>
        <p:spPr>
          <a:xfrm>
            <a:off x="324000" y="4724280"/>
            <a:ext cx="146988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66"/>
                </a:solidFill>
                <a:latin typeface="Tahoma"/>
              </a:rPr>
              <a:t>Уважаемые</a:t>
            </a:r>
            <a:r>
              <a:rPr b="0" lang="uk-UA" sz="4000" spc="-1" strike="noStrike">
                <a:solidFill>
                  <a:srgbClr val="993366"/>
                </a:solidFill>
                <a:latin typeface="Tahoma"/>
              </a:rPr>
              <a:t> путешественники </a:t>
            </a:r>
            <a:r>
              <a:rPr b="0" lang="ru-RU" sz="4000" spc="-1" strike="noStrike">
                <a:solidFill>
                  <a:srgbClr val="993366"/>
                </a:solidFill>
                <a:latin typeface="Tahoma"/>
              </a:rPr>
              <a:t>! Вы можете передохнуть и узнать что-то новое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8229600" cy="4530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30355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630355"/>
                </a:solidFill>
                <a:latin typeface="Tahoma"/>
              </a:rPr>
              <a:t>Кто из математиков был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30355"/>
                </a:solidFill>
                <a:latin typeface="Tahoma"/>
              </a:rPr>
              <a:t>чемпионом олимпийских игр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ahoma"/>
              </a:rPr>
              <a:t>Пифагор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8" name="Picture 5" descr="13-3"/>
          <p:cNvPicPr/>
          <p:nvPr/>
        </p:nvPicPr>
        <p:blipFill>
          <a:blip r:embed="rId1"/>
          <a:stretch/>
        </p:blipFill>
        <p:spPr>
          <a:xfrm>
            <a:off x="4427640" y="5084640"/>
            <a:ext cx="1195200" cy="1266840"/>
          </a:xfrm>
          <a:prstGeom prst="rect">
            <a:avLst/>
          </a:prstGeom>
          <a:ln w="0">
            <a:noFill/>
          </a:ln>
        </p:spPr>
      </p:pic>
      <p:sp>
        <p:nvSpPr>
          <p:cNvPr id="499" name="AutoShape 6">
            <a:hlinkClick r:id="rId2" action="ppaction://hlinksldjump"/>
          </p:cNvPr>
          <p:cNvSpPr/>
          <p:nvPr/>
        </p:nvSpPr>
        <p:spPr>
          <a:xfrm>
            <a:off x="8172360" y="6381720"/>
            <a:ext cx="576360" cy="476280"/>
          </a:xfrm>
          <a:custGeom>
            <a:avLst/>
            <a:gdLst>
              <a:gd name="textAreaLeft" fmla="*/ 30600 w 576360"/>
              <a:gd name="textAreaRight" fmla="*/ 545760 w 576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35" h="21600">
                <a:moveTo>
                  <a:pt x="0" y="0"/>
                </a:moveTo>
                <a:lnTo>
                  <a:pt x="26135" y="0"/>
                </a:lnTo>
                <a:lnTo>
                  <a:pt x="26135" y="21600"/>
                </a:lnTo>
                <a:lnTo>
                  <a:pt x="0" y="21600"/>
                </a:lnTo>
                <a:close/>
              </a:path>
              <a:path fill="lightenLess" w="26135" h="21600">
                <a:moveTo>
                  <a:pt x="0" y="0"/>
                </a:moveTo>
                <a:lnTo>
                  <a:pt x="26135" y="0"/>
                </a:lnTo>
                <a:lnTo>
                  <a:pt x="24735" y="1400"/>
                </a:lnTo>
                <a:lnTo>
                  <a:pt x="1400" y="1400"/>
                </a:lnTo>
                <a:close/>
              </a:path>
              <a:path fill="darken" w="26135" h="21600">
                <a:moveTo>
                  <a:pt x="26135" y="0"/>
                </a:moveTo>
                <a:lnTo>
                  <a:pt x="26135" y="21600"/>
                </a:lnTo>
                <a:lnTo>
                  <a:pt x="24735" y="20200"/>
                </a:lnTo>
                <a:lnTo>
                  <a:pt x="24735" y="1400"/>
                </a:lnTo>
                <a:close/>
              </a:path>
              <a:path fill="darkenLess" w="26135" h="21600">
                <a:moveTo>
                  <a:pt x="261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35" y="20200"/>
                </a:lnTo>
                <a:close/>
              </a:path>
              <a:path fill="lighten" w="261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35" h="21600">
                <a:moveTo>
                  <a:pt x="6061" y="7493"/>
                </a:moveTo>
                <a:lnTo>
                  <a:pt x="9569" y="7493"/>
                </a:lnTo>
                <a:lnTo>
                  <a:pt x="9569" y="12828"/>
                </a:lnTo>
                <a:cubicBezTo>
                  <a:pt x="9569" y="13751"/>
                  <a:pt x="10370" y="14482"/>
                  <a:pt x="11405" y="14482"/>
                </a:cubicBezTo>
                <a:lnTo>
                  <a:pt x="13068" y="14482"/>
                </a:lnTo>
                <a:cubicBezTo>
                  <a:pt x="14103" y="14482"/>
                  <a:pt x="14904" y="13751"/>
                  <a:pt x="14904" y="12828"/>
                </a:cubicBezTo>
                <a:lnTo>
                  <a:pt x="14904" y="7493"/>
                </a:lnTo>
                <a:lnTo>
                  <a:pt x="13068" y="7493"/>
                </a:lnTo>
                <a:lnTo>
                  <a:pt x="16575" y="3985"/>
                </a:lnTo>
                <a:lnTo>
                  <a:pt x="20248" y="7493"/>
                </a:lnTo>
                <a:lnTo>
                  <a:pt x="18412" y="7493"/>
                </a:lnTo>
                <a:lnTo>
                  <a:pt x="18412" y="12828"/>
                </a:lnTo>
                <a:cubicBezTo>
                  <a:pt x="18412" y="15596"/>
                  <a:pt x="15835" y="18155"/>
                  <a:pt x="13068" y="18155"/>
                </a:cubicBezTo>
                <a:lnTo>
                  <a:pt x="11405" y="18155"/>
                </a:lnTo>
                <a:cubicBezTo>
                  <a:pt x="8637" y="18155"/>
                  <a:pt x="6061" y="15596"/>
                  <a:pt x="6061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Arial Black"/>
              </a:rPr>
              <a:t>Замечательное  космическое путешествие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Уважаемые путешественники ! Вы проявили все свои знания и умения! Вас ждут новые открытия и победы! Удачи вам в освоении космических пространств математики!!!!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А мы возвращаемся на нашу любимую планету ЗЕМЛЯ!!!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03" name="Picture 4" descr="Картиночки 17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05" name="Picture 6" descr="129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07" name="Picture 4" descr="КОМЕТ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09" name="Picture 4" descr="ЗЕМЛЯ"/>
          <p:cNvPicPr/>
          <p:nvPr/>
        </p:nvPicPr>
        <p:blipFill>
          <a:blip r:embed="rId1"/>
          <a:stretch/>
        </p:blipFill>
        <p:spPr>
          <a:xfrm>
            <a:off x="395280" y="0"/>
            <a:ext cx="896472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Туманности созерц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8" name="Picture 4" descr="Картиночки 1807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озвездия разу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0" name="Picture 6" descr="SPACE_~3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 планетам математики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2" name="Picture 4" descr="Картиночки 630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5d4917"/>
              </a:solidFill>
              <a:latin typeface="Tahoma"/>
            </a:endParaRPr>
          </a:p>
        </p:txBody>
      </p:sp>
      <p:pic>
        <p:nvPicPr>
          <p:cNvPr id="444" name="Picture 4" descr="13-3"/>
          <p:cNvPicPr/>
          <p:nvPr/>
        </p:nvPicPr>
        <p:blipFill>
          <a:blip r:embed="rId1"/>
          <a:stretch/>
        </p:blipFill>
        <p:spPr>
          <a:xfrm>
            <a:off x="4384800" y="5300640"/>
            <a:ext cx="1195200" cy="126684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5" descr="Картиночки 175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5d4917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Уважаемые знатоки  9-Б класса вас приветствует планета Великих математик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8" name="Picture 4" descr="13-3"/>
          <p:cNvPicPr/>
          <p:nvPr/>
        </p:nvPicPr>
        <p:blipFill>
          <a:blip r:embed="rId1"/>
          <a:stretch/>
        </p:blipFill>
        <p:spPr>
          <a:xfrm>
            <a:off x="4384800" y="5300640"/>
            <a:ext cx="1195200" cy="126684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5" descr="backdrop01"/>
          <p:cNvPicPr/>
          <p:nvPr/>
        </p:nvPicPr>
        <p:blipFill>
          <a:blip r:embed="rId2"/>
          <a:stretch/>
        </p:blipFill>
        <p:spPr>
          <a:xfrm>
            <a:off x="-60948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Ребята 9-б класса!!!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2f644"/>
                </a:solidFill>
                <a:latin typeface="Tahoma"/>
              </a:rPr>
              <a:t>Вас приветствует </a:t>
            </a:r>
            <a:r>
              <a:rPr b="0" lang="en-US" sz="6000" spc="-1" strike="noStrike">
                <a:solidFill>
                  <a:srgbClr val="f2f644"/>
                </a:solidFill>
                <a:latin typeface="Tahoma"/>
              </a:rPr>
              <a:t> </a:t>
            </a:r>
            <a:r>
              <a:rPr b="0" lang="ru-RU" sz="6000" spc="-1" strike="noStrike">
                <a:solidFill>
                  <a:srgbClr val="f2f644"/>
                </a:solidFill>
                <a:latin typeface="Tahoma"/>
              </a:rPr>
              <a:t>Созвездие  Великих математиков!!!!!!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4" descr="Изображение 058"/>
          <p:cNvPicPr/>
          <p:nvPr/>
        </p:nvPicPr>
        <p:blipFill>
          <a:blip r:embed="rId1"/>
          <a:stretch/>
        </p:blipFill>
        <p:spPr>
          <a:xfrm>
            <a:off x="1763640" y="2852640"/>
            <a:ext cx="4953240" cy="4005360"/>
          </a:xfrm>
          <a:prstGeom prst="rect">
            <a:avLst/>
          </a:prstGeom>
          <a:ln w="0">
            <a:noFill/>
          </a:ln>
        </p:spPr>
      </p:pic>
      <p:sp>
        <p:nvSpPr>
          <p:cNvPr id="453" name="Oval 5"/>
          <p:cNvSpPr/>
          <p:nvPr/>
        </p:nvSpPr>
        <p:spPr>
          <a:xfrm>
            <a:off x="324000" y="0"/>
            <a:ext cx="8243640" cy="2708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Comic Sans MS"/>
              </a:rPr>
              <a:t>Если что-то хочешь знать надо ум свой прилагать.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Comic Sans MS"/>
              </a:rPr>
              <a:t>Математику с толком изучай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Comic Sans MS"/>
              </a:rPr>
              <a:t>и на  нашей планете быстро отвечай!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2T00:52:54Z</dcterms:created>
  <dc:creator>111</dc:creator>
  <dc:description/>
  <dc:language>en-US</dc:language>
  <cp:lastModifiedBy>Евгений</cp:lastModifiedBy>
  <dcterms:modified xsi:type="dcterms:W3CDTF">2014-03-19T06:56:15Z</dcterms:modified>
  <cp:revision>35</cp:revision>
  <dc:subject/>
  <dc:title>ЧТО? ГДЕ? КОГДА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21b000000000001024140</vt:lpwstr>
  </property>
</Properties>
</file>