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8.gif" ContentType="image/gif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4.jpeg" ContentType="image/jpeg"/>
  <Override PartName="/ppt/media/image37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01D4-1060-4AB3-A6CD-ED3C18C4F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C28C-56B3-4629-9828-B832F2231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A71-20E6-4E4D-A0FF-321AA653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32F-60BF-4EBE-A333-7D1F9794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DC5-0CD4-4CB1-8114-F3367A89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F0F-96D3-45D4-AE99-47172C98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D27-C0E4-4A7C-B76B-A2E917CC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5ED-77F3-4899-BAF3-7B0980B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4B9-9317-4BD4-88A5-AE6CA68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647-F58B-4C04-9440-5CA8E01B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240-AB37-449F-90AD-3CE1EF6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3F8-F5D2-44C6-97FC-F762D7FE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7B0-C246-4800-A68C-0CDFD4EA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4EE-704A-4E5E-B0CD-3707FAF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ab"/>
            </a:gs>
            <a:gs pos="100000">
              <a:srgbClr val="cab99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456-851A-4767-BD37-7038655B2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8.gi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9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15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elide\Desktop\картинки у уроку\1261321062_1pergam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2"/>
          <a:stretch/>
        </p:blipFill>
        <p:spPr>
          <a:xfrm>
            <a:off x="1762200" y="1584360"/>
            <a:ext cx="593100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8" descr=""/>
          <p:cNvPicPr/>
          <p:nvPr/>
        </p:nvPicPr>
        <p:blipFill>
          <a:blip r:embed="rId3"/>
          <a:stretch/>
        </p:blipFill>
        <p:spPr>
          <a:xfrm>
            <a:off x="3230640" y="360360"/>
            <a:ext cx="3322440" cy="669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9" descr=""/>
          <p:cNvPicPr/>
          <p:nvPr/>
        </p:nvPicPr>
        <p:blipFill>
          <a:blip r:embed="rId4"/>
          <a:stretch/>
        </p:blipFill>
        <p:spPr>
          <a:xfrm>
            <a:off x="2425680" y="2371680"/>
            <a:ext cx="4267080" cy="8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567000" y="53578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2020"/>
                </a:solidFill>
                <a:latin typeface="Adventure"/>
              </a:rPr>
              <a:t>Методическая разработка учителя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2020"/>
                </a:solidFill>
                <a:latin typeface="Adventure"/>
              </a:rPr>
              <a:t>Донецкой ОШ №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2020"/>
                </a:solidFill>
                <a:latin typeface="Adventure"/>
              </a:rPr>
              <a:t>Холодных И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карта"/>
          <p:cNvPicPr/>
          <p:nvPr/>
        </p:nvPicPr>
        <p:blipFill>
          <a:blip r:embed="rId1"/>
          <a:stretch/>
        </p:blipFill>
        <p:spPr>
          <a:xfrm>
            <a:off x="285840" y="2000160"/>
            <a:ext cx="4244760" cy="401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карта"/>
          <p:cNvPicPr/>
          <p:nvPr/>
        </p:nvPicPr>
        <p:blipFill>
          <a:blip r:embed="rId2"/>
          <a:stretch/>
        </p:blipFill>
        <p:spPr>
          <a:xfrm>
            <a:off x="928800" y="285840"/>
            <a:ext cx="757224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71680" y="2357280"/>
          <a:ext cx="3708360" cy="3368880"/>
        </p:xfrm>
        <a:graphic>
          <a:graphicData uri="http://schemas.openxmlformats.org/drawingml/2006/table">
            <a:tbl>
              <a:tblPr/>
              <a:tblGrid>
                <a:gridCol w="412560"/>
                <a:gridCol w="411120"/>
                <a:gridCol w="412920"/>
                <a:gridCol w="411120"/>
                <a:gridCol w="412560"/>
                <a:gridCol w="411120"/>
                <a:gridCol w="412920"/>
                <a:gridCol w="411120"/>
                <a:gridCol w="41292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214960" y="2286000"/>
          <a:ext cx="3708360" cy="3425760"/>
        </p:xfrm>
        <a:graphic>
          <a:graphicData uri="http://schemas.openxmlformats.org/drawingml/2006/table">
            <a:tbl>
              <a:tblPr/>
              <a:tblGrid>
                <a:gridCol w="412560"/>
                <a:gridCol w="411480"/>
                <a:gridCol w="412560"/>
                <a:gridCol w="411120"/>
                <a:gridCol w="412920"/>
                <a:gridCol w="411120"/>
                <a:gridCol w="412560"/>
                <a:gridCol w="411480"/>
                <a:gridCol w="41256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7"/>
          <p:cNvSpPr/>
          <p:nvPr/>
        </p:nvSpPr>
        <p:spPr>
          <a:xfrm>
            <a:off x="1651320" y="714240"/>
            <a:ext cx="59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dventure"/>
              </a:rPr>
              <a:t>Скандинавский 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4929120" y="59342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противолежащий, угол, Самос, шко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теорема, гипотенуза, ка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треугольник,  прямоугольный, 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карта"/>
          <p:cNvPicPr/>
          <p:nvPr/>
        </p:nvPicPr>
        <p:blipFill>
          <a:blip r:embed="rId3"/>
          <a:stretch/>
        </p:blipFill>
        <p:spPr>
          <a:xfrm>
            <a:off x="4786200" y="1928880"/>
            <a:ext cx="4245120" cy="40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карта др грец"/>
          <p:cNvPicPr/>
          <p:nvPr/>
        </p:nvPicPr>
        <p:blipFill>
          <a:blip r:embed="rId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 rot="20747400">
            <a:off x="3879720" y="4098960"/>
            <a:ext cx="309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092000"/>
                </a:gradFill>
                <a:latin typeface="Viner Hand ITC"/>
              </a:rPr>
              <a:t>о. Само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092000"/>
              </a:gradFill>
              <a:latin typeface="Viner Hand ITC"/>
              <a:ea typeface="Viner Hand ITC"/>
            </a:endParaRPr>
          </a:p>
        </p:txBody>
      </p:sp>
      <p:sp>
        <p:nvSpPr>
          <p:cNvPr id="154" name="AutoShape 9"/>
          <p:cNvSpPr/>
          <p:nvPr/>
        </p:nvSpPr>
        <p:spPr>
          <a:xfrm rot="19515000">
            <a:off x="6581520" y="3676680"/>
            <a:ext cx="577800" cy="216000"/>
          </a:xfrm>
          <a:prstGeom prst="rightArrow">
            <a:avLst>
              <a:gd name="adj1" fmla="val 50000"/>
              <a:gd name="adj2" fmla="val 66875"/>
            </a:avLst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0523E-006 L 0.53194 -0.00023 E">
                                      <p:cBhvr>
                                        <p:cTn id="32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C:\Users\relide\Desktop\Рисунок1.png"/>
          <p:cNvPicPr/>
          <p:nvPr/>
        </p:nvPicPr>
        <p:blipFill>
          <a:blip r:embed="rId1"/>
          <a:stretch/>
        </p:blipFill>
        <p:spPr>
          <a:xfrm>
            <a:off x="6072120" y="307188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C:\Users\relide\Desktop\Рисунок1.png"/>
          <p:cNvPicPr/>
          <p:nvPr/>
        </p:nvPicPr>
        <p:blipFill>
          <a:blip r:embed="rId2"/>
          <a:stretch/>
        </p:blipFill>
        <p:spPr>
          <a:xfrm>
            <a:off x="3214800" y="3071880"/>
            <a:ext cx="2571480" cy="25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C:\Users\relide\Desktop\Рисунок1.png"/>
          <p:cNvPicPr/>
          <p:nvPr/>
        </p:nvPicPr>
        <p:blipFill>
          <a:blip r:embed="rId3"/>
          <a:stretch/>
        </p:blipFill>
        <p:spPr>
          <a:xfrm>
            <a:off x="428760" y="3071880"/>
            <a:ext cx="2571480" cy="25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relide\Desktop\dffw.png"/>
          <p:cNvPicPr/>
          <p:nvPr/>
        </p:nvPicPr>
        <p:blipFill>
          <a:blip r:embed="rId4"/>
          <a:stretch/>
        </p:blipFill>
        <p:spPr>
          <a:xfrm>
            <a:off x="571680" y="32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relide\Desktop\asfsaf.png"/>
          <p:cNvPicPr/>
          <p:nvPr/>
        </p:nvPicPr>
        <p:blipFill>
          <a:blip r:embed="rId5"/>
          <a:stretch/>
        </p:blipFill>
        <p:spPr>
          <a:xfrm>
            <a:off x="3429000" y="32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:\Users\relide\Desktop\34234.png"/>
          <p:cNvPicPr/>
          <p:nvPr/>
        </p:nvPicPr>
        <p:blipFill>
          <a:blip r:embed="rId6"/>
          <a:stretch/>
        </p:blipFill>
        <p:spPr>
          <a:xfrm>
            <a:off x="6215040" y="32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409400" y="55720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4268880" y="556884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7133040" y="550080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карта"/>
          <p:cNvPicPr/>
          <p:nvPr/>
        </p:nvPicPr>
        <p:blipFill>
          <a:blip r:embed="rId7"/>
          <a:stretch/>
        </p:blipFill>
        <p:spPr>
          <a:xfrm>
            <a:off x="642960" y="357120"/>
            <a:ext cx="8001000" cy="10000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2"/>
          <p:cNvSpPr/>
          <p:nvPr/>
        </p:nvSpPr>
        <p:spPr>
          <a:xfrm>
            <a:off x="4783680" y="1643040"/>
            <a:ext cx="469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dventure"/>
              </a:rPr>
              <a:t>Математика это пол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dventure"/>
              </a:rPr>
              <a:t>Геометрия это полёт на воздушном ш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1919880" y="57168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dventure"/>
              </a:rPr>
              <a:t>Доказать теорему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relide\Desktop\картинки у уроку\Green-grass-blue-sky_1920x120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relide\Desktop\картинки у уроку\1192821581_0lik.png"/>
          <p:cNvPicPr/>
          <p:nvPr/>
        </p:nvPicPr>
        <p:blipFill>
          <a:blip r:embed="rId9"/>
          <a:stretch/>
        </p:blipFill>
        <p:spPr>
          <a:xfrm>
            <a:off x="-214200" y="2535120"/>
            <a:ext cx="3286080" cy="488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relide\Desktop\картинки у уроку\F2413183.png"/>
          <p:cNvPicPr/>
          <p:nvPr/>
        </p:nvPicPr>
        <p:blipFill>
          <a:blip r:embed="rId10"/>
          <a:stretch/>
        </p:blipFill>
        <p:spPr>
          <a:xfrm>
            <a:off x="3000240" y="3143160"/>
            <a:ext cx="3376800" cy="470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Users\relide\Desktop\картинки у уроку\1285306552_2.png"/>
          <p:cNvPicPr/>
          <p:nvPr/>
        </p:nvPicPr>
        <p:blipFill>
          <a:blip r:embed="rId11"/>
          <a:stretch/>
        </p:blipFill>
        <p:spPr>
          <a:xfrm>
            <a:off x="5786280" y="3357720"/>
            <a:ext cx="4195800" cy="3790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8"/>
          <p:cNvSpPr/>
          <p:nvPr/>
        </p:nvSpPr>
        <p:spPr>
          <a:xfrm>
            <a:off x="-391680" y="357120"/>
            <a:ext cx="98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dventure"/>
              </a:rPr>
              <a:t>Полет на воздушном ш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44444E-006 L -0.00278 -0.59328 E">
                                      <p:cBhvr>
                                        <p:cTn id="35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00313 -0.75255 E">
                                      <p:cBhvr>
                                        <p:cTn id="35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00018 -0.6125 E">
                                      <p:cBhvr>
                                        <p:cTn id="36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relide\Desktop\картинки у уроку\8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1619640" y="357120"/>
            <a:ext cx="647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dventure"/>
              </a:rPr>
              <a:t>Встреча у кост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565880" y="58579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dventure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dventure"/>
              </a:rPr>
              <a:t>коллективное решение зада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dventure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dventure"/>
              </a:rPr>
              <a:t>по готовым чертеж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6"/>
          <p:cNvSpPr/>
          <p:nvPr/>
        </p:nvSpPr>
        <p:spPr>
          <a:xfrm flipV="1" rot="16200000">
            <a:off x="990000" y="-342720"/>
            <a:ext cx="1733760" cy="314316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 flipV="1">
            <a:off x="285840" y="928440"/>
            <a:ext cx="10713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-71280" y="21420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321000" y="207180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0" y="204804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214280" y="571680"/>
            <a:ext cx="2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714240" y="3571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2214720" y="1143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0" y="1071720"/>
            <a:ext cx="2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1643040" y="20718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285840" y="1893960"/>
            <a:ext cx="180720" cy="18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17"/>
          <p:cNvSpPr/>
          <p:nvPr/>
        </p:nvSpPr>
        <p:spPr>
          <a:xfrm rot="1987200">
            <a:off x="201240" y="1805040"/>
            <a:ext cx="431640" cy="33336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333360"/>
              <a:gd name="textAreaBottom" fmla="*/ 166680 h 333360"/>
            </a:gdLst>
            <a:ahLst/>
            <a:rect l="textAreaLeft" t="textAreaTop" r="textAreaRight" b="textAreaBottom"/>
            <a:pathLst>
              <a:path stroke="0" w="431800" h="333375">
                <a:moveTo>
                  <a:pt x="215900" y="0"/>
                </a:moveTo>
                <a:lnTo>
                  <a:pt x="215900" y="0"/>
                </a:lnTo>
                <a:arcTo wR="215900" hR="166688" stAng="-5400000" swAng="5400016"/>
                <a:lnTo>
                  <a:pt x="215900" y="166688"/>
                </a:lnTo>
                <a:close/>
              </a:path>
              <a:path fill="none" w="431800" h="333375">
                <a:moveTo>
                  <a:pt x="215900" y="0"/>
                </a:moveTo>
                <a:lnTo>
                  <a:pt x="215900" y="0"/>
                </a:lnTo>
                <a:arcTo wR="215900" hR="166688" stAng="-5400000" swAng="540001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уга 19"/>
          <p:cNvSpPr/>
          <p:nvPr/>
        </p:nvSpPr>
        <p:spPr>
          <a:xfrm>
            <a:off x="15840" y="1627200"/>
            <a:ext cx="555840" cy="301680"/>
          </a:xfrm>
          <a:custGeom>
            <a:avLst/>
            <a:gdLst>
              <a:gd name="textAreaLeft" fmla="*/ 277920 w 555840"/>
              <a:gd name="textAreaRight" fmla="*/ 556200 w 555840"/>
              <a:gd name="textAreaTop" fmla="*/ 0 h 301680"/>
              <a:gd name="textAreaBottom" fmla="*/ 174240 h 301680"/>
            </a:gdLst>
            <a:ahLst/>
            <a:rect l="textAreaLeft" t="textAreaTop" r="textAreaRight" b="textAreaBottom"/>
            <a:pathLst>
              <a:path stroke="0" w="555625" h="301625">
                <a:moveTo>
                  <a:pt x="277813" y="0"/>
                </a:moveTo>
                <a:lnTo>
                  <a:pt x="277813" y="0"/>
                </a:lnTo>
                <a:arcTo wR="277813" hR="150813" stAng="-5400000" swAng="5690236"/>
                <a:lnTo>
                  <a:pt x="277813" y="150813"/>
                </a:lnTo>
                <a:close/>
              </a:path>
              <a:path fill="none" w="555625" h="301625">
                <a:moveTo>
                  <a:pt x="277813" y="0"/>
                </a:moveTo>
                <a:lnTo>
                  <a:pt x="277813" y="0"/>
                </a:lnTo>
                <a:arcTo wR="277813" hR="150813" stAng="-5400000" swAng="569023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3290760" y="838080"/>
            <a:ext cx="59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el-GR" sz="2400" spc="-1" strike="noStrike">
                <a:solidFill>
                  <a:srgbClr val="000000"/>
                </a:solidFill>
                <a:latin typeface="Adventure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 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∠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=90°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),</a:t>
            </a:r>
            <a:r>
              <a:rPr b="0" lang="uk-UA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М–биссектри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М = 15см, МВ = 20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С, С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"/>
          <p:cNvSpPr/>
          <p:nvPr/>
        </p:nvSpPr>
        <p:spPr>
          <a:xfrm>
            <a:off x="5408640" y="2147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-17640" y="12859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2"/>
          <p:cNvSpPr/>
          <p:nvPr/>
        </p:nvSpPr>
        <p:spPr>
          <a:xfrm>
            <a:off x="1343520" y="20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414000" y="2610000"/>
            <a:ext cx="1244160" cy="816840"/>
            <a:chOff x="414000" y="2610000"/>
            <a:chExt cx="1244160" cy="816840"/>
          </a:xfrm>
        </p:grpSpPr>
        <p:sp>
          <p:nvSpPr>
            <p:cNvPr id="195" name="Text Box 17"/>
            <p:cNvSpPr/>
            <p:nvPr/>
          </p:nvSpPr>
          <p:spPr>
            <a:xfrm>
              <a:off x="414000" y="2967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553680" y="2610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875160" y="2786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dventure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1108800" y="2967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303560" y="2610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ая соединительная линия 33"/>
          <p:cNvSpPr/>
          <p:nvPr/>
        </p:nvSpPr>
        <p:spPr>
          <a:xfrm>
            <a:off x="500040" y="3000240"/>
            <a:ext cx="42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34"/>
          <p:cNvSpPr/>
          <p:nvPr/>
        </p:nvSpPr>
        <p:spPr>
          <a:xfrm>
            <a:off x="1214280" y="3000240"/>
            <a:ext cx="42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6"/>
          <p:cNvSpPr/>
          <p:nvPr/>
        </p:nvSpPr>
        <p:spPr>
          <a:xfrm>
            <a:off x="4077360" y="1094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Дуга 37"/>
          <p:cNvSpPr/>
          <p:nvPr/>
        </p:nvSpPr>
        <p:spPr>
          <a:xfrm rot="20947800">
            <a:off x="-1973160" y="260280"/>
            <a:ext cx="5500440" cy="4788000"/>
          </a:xfrm>
          <a:custGeom>
            <a:avLst/>
            <a:gdLst>
              <a:gd name="textAreaLeft" fmla="*/ 2750400 w 5500440"/>
              <a:gd name="textAreaRight" fmla="*/ 5495040 w 5500440"/>
              <a:gd name="textAreaTop" fmla="*/ 0 h 4788000"/>
              <a:gd name="textAreaBottom" fmla="*/ 2239560 h 4788000"/>
            </a:gdLst>
            <a:ahLst/>
            <a:rect l="textAreaLeft" t="textAreaTop" r="textAreaRight" b="textAreaBottom"/>
            <a:pathLst>
              <a:path stroke="0" w="5500688" h="4787900">
                <a:moveTo>
                  <a:pt x="2750347" y="0"/>
                </a:moveTo>
                <a:lnTo>
                  <a:pt x="2750347" y="0"/>
                </a:lnTo>
                <a:arcTo wR="2750344" hR="2393950" stAng="-5399996" swAng="5206947"/>
                <a:lnTo>
                  <a:pt x="2750344" y="2393950"/>
                </a:lnTo>
                <a:close/>
              </a:path>
              <a:path fill="none" w="5500688" h="4787900">
                <a:moveTo>
                  <a:pt x="2750347" y="0"/>
                </a:moveTo>
                <a:lnTo>
                  <a:pt x="2750347" y="0"/>
                </a:lnTo>
                <a:arcTo wR="2750344" hR="2393950" stAng="-5399996" swAng="520694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8"/>
          <p:cNvSpPr/>
          <p:nvPr/>
        </p:nvSpPr>
        <p:spPr>
          <a:xfrm>
            <a:off x="2063160" y="214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7120" y="33566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= 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фигурная скобка 40"/>
          <p:cNvSpPr/>
          <p:nvPr/>
        </p:nvSpPr>
        <p:spPr>
          <a:xfrm>
            <a:off x="214200" y="2714760"/>
            <a:ext cx="214560" cy="10000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000080"/>
              <a:gd name="textAreaBottom" fmla="*/ 9946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5400" y="10800"/>
                  <a:pt x="0" y="10800"/>
                </a:cubicBezTo>
                <a:cubicBezTo>
                  <a:pt x="54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1204560" y="278604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- по свойству биссектрис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1998360" y="339552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- по теореме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5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ашивка 46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785880" y="252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525760" y="25236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3433680" y="838080"/>
            <a:ext cx="54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Д – равнобокая трап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||A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С = 17см, СК = 8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l –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реднюю ли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5408640" y="2147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374400" y="21099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802520" y="2143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4077360" y="1094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Трапеция 31"/>
          <p:cNvSpPr/>
          <p:nvPr/>
        </p:nvSpPr>
        <p:spPr>
          <a:xfrm>
            <a:off x="214200" y="500040"/>
            <a:ext cx="3214800" cy="1714680"/>
          </a:xfrm>
          <a:custGeom>
            <a:avLst/>
            <a:gdLst>
              <a:gd name="textAreaLeft" fmla="*/ 566640 w 3214800"/>
              <a:gd name="textAreaRight" fmla="*/ 2648160 w 3214800"/>
              <a:gd name="textAreaTop" fmla="*/ 302040 h 1714680"/>
              <a:gd name="textAreaBottom" fmla="*/ 1715040 h 1714680"/>
            </a:gdLst>
            <a:ahLst/>
            <a:rect l="textAreaLeft" t="textAreaTop" r="textAreaRight" b="textAreaBottom"/>
            <a:pathLst>
              <a:path w="3214687" h="1714500">
                <a:moveTo>
                  <a:pt x="0" y="1714500"/>
                </a:moveTo>
                <a:lnTo>
                  <a:pt x="849963" y="0"/>
                </a:lnTo>
                <a:lnTo>
                  <a:pt x="2364724" y="0"/>
                </a:lnTo>
                <a:lnTo>
                  <a:pt x="3214687" y="17145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33"/>
          <p:cNvSpPr/>
          <p:nvPr/>
        </p:nvSpPr>
        <p:spPr>
          <a:xfrm flipV="1">
            <a:off x="214200" y="499680"/>
            <a:ext cx="2357640" cy="171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5"/>
          <p:cNvSpPr/>
          <p:nvPr/>
        </p:nvSpPr>
        <p:spPr>
          <a:xfrm>
            <a:off x="2571840" y="500040"/>
            <a:ext cx="0" cy="171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7"/>
          <p:cNvSpPr/>
          <p:nvPr/>
        </p:nvSpPr>
        <p:spPr>
          <a:xfrm>
            <a:off x="1071720" y="500040"/>
            <a:ext cx="0" cy="171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9"/>
          <p:cNvSpPr/>
          <p:nvPr/>
        </p:nvSpPr>
        <p:spPr>
          <a:xfrm>
            <a:off x="2390760" y="2030400"/>
            <a:ext cx="181080" cy="18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41"/>
          <p:cNvSpPr/>
          <p:nvPr/>
        </p:nvSpPr>
        <p:spPr>
          <a:xfrm>
            <a:off x="714240" y="1000080"/>
            <a:ext cx="14292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42"/>
          <p:cNvSpPr/>
          <p:nvPr/>
        </p:nvSpPr>
        <p:spPr>
          <a:xfrm>
            <a:off x="714240" y="1071720"/>
            <a:ext cx="1429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45"/>
          <p:cNvSpPr/>
          <p:nvPr/>
        </p:nvSpPr>
        <p:spPr>
          <a:xfrm flipV="1">
            <a:off x="2786040" y="999720"/>
            <a:ext cx="14292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8"/>
          <p:cNvSpPr/>
          <p:nvPr/>
        </p:nvSpPr>
        <p:spPr>
          <a:xfrm flipV="1">
            <a:off x="2786040" y="1071720"/>
            <a:ext cx="1429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50"/>
          <p:cNvSpPr/>
          <p:nvPr/>
        </p:nvSpPr>
        <p:spPr>
          <a:xfrm>
            <a:off x="300024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51"/>
          <p:cNvSpPr/>
          <p:nvPr/>
        </p:nvSpPr>
        <p:spPr>
          <a:xfrm>
            <a:off x="64296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52"/>
          <p:cNvSpPr/>
          <p:nvPr/>
        </p:nvSpPr>
        <p:spPr>
          <a:xfrm>
            <a:off x="1724040" y="428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55"/>
          <p:cNvSpPr/>
          <p:nvPr/>
        </p:nvSpPr>
        <p:spPr>
          <a:xfrm>
            <a:off x="1785960" y="428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56"/>
          <p:cNvSpPr/>
          <p:nvPr/>
        </p:nvSpPr>
        <p:spPr>
          <a:xfrm>
            <a:off x="1857240" y="428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57"/>
          <p:cNvSpPr/>
          <p:nvPr/>
        </p:nvSpPr>
        <p:spPr>
          <a:xfrm>
            <a:off x="172404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8"/>
          <p:cNvSpPr/>
          <p:nvPr/>
        </p:nvSpPr>
        <p:spPr>
          <a:xfrm>
            <a:off x="178596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59"/>
          <p:cNvSpPr/>
          <p:nvPr/>
        </p:nvSpPr>
        <p:spPr>
          <a:xfrm>
            <a:off x="185724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0"/>
          <p:cNvSpPr/>
          <p:nvPr/>
        </p:nvSpPr>
        <p:spPr>
          <a:xfrm>
            <a:off x="2732040" y="2143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1"/>
          <p:cNvSpPr/>
          <p:nvPr/>
        </p:nvSpPr>
        <p:spPr>
          <a:xfrm>
            <a:off x="1873800" y="142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4"/>
          <p:cNvSpPr/>
          <p:nvPr/>
        </p:nvSpPr>
        <p:spPr>
          <a:xfrm>
            <a:off x="-84240" y="21812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5"/>
          <p:cNvSpPr/>
          <p:nvPr/>
        </p:nvSpPr>
        <p:spPr>
          <a:xfrm>
            <a:off x="3286800" y="21812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6"/>
          <p:cNvSpPr/>
          <p:nvPr/>
        </p:nvSpPr>
        <p:spPr>
          <a:xfrm>
            <a:off x="2351520" y="21812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7"/>
          <p:cNvSpPr/>
          <p:nvPr/>
        </p:nvSpPr>
        <p:spPr>
          <a:xfrm>
            <a:off x="769680" y="2181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8"/>
          <p:cNvSpPr/>
          <p:nvPr/>
        </p:nvSpPr>
        <p:spPr>
          <a:xfrm>
            <a:off x="1128240" y="1000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9"/>
          <p:cNvSpPr/>
          <p:nvPr/>
        </p:nvSpPr>
        <p:spPr>
          <a:xfrm>
            <a:off x="2284920" y="1285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142920" y="30740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1) АК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= А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СК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АК = 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714920" y="2642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l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73"/>
          <p:cNvSpPr/>
          <p:nvPr/>
        </p:nvSpPr>
        <p:spPr>
          <a:xfrm>
            <a:off x="5286240" y="2886120"/>
            <a:ext cx="10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4"/>
          <p:cNvSpPr/>
          <p:nvPr/>
        </p:nvSpPr>
        <p:spPr>
          <a:xfrm>
            <a:off x="5143680" y="25671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ВС + 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5"/>
          <p:cNvSpPr/>
          <p:nvPr/>
        </p:nvSpPr>
        <p:spPr>
          <a:xfrm>
            <a:off x="5658480" y="28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6"/>
          <p:cNvSpPr/>
          <p:nvPr/>
        </p:nvSpPr>
        <p:spPr>
          <a:xfrm>
            <a:off x="119160" y="4000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00040" y="4004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78"/>
          <p:cNvSpPr/>
          <p:nvPr/>
        </p:nvSpPr>
        <p:spPr>
          <a:xfrm>
            <a:off x="1071720" y="4248000"/>
            <a:ext cx="10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9"/>
          <p:cNvSpPr/>
          <p:nvPr/>
        </p:nvSpPr>
        <p:spPr>
          <a:xfrm>
            <a:off x="998280" y="392904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у+2х+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0"/>
          <p:cNvSpPr/>
          <p:nvPr/>
        </p:nvSpPr>
        <p:spPr>
          <a:xfrm>
            <a:off x="144360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1"/>
          <p:cNvSpPr/>
          <p:nvPr/>
        </p:nvSpPr>
        <p:spPr>
          <a:xfrm>
            <a:off x="2145600" y="4059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82"/>
          <p:cNvSpPr/>
          <p:nvPr/>
        </p:nvSpPr>
        <p:spPr>
          <a:xfrm>
            <a:off x="2428920" y="4248000"/>
            <a:ext cx="10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3"/>
          <p:cNvSpPr/>
          <p:nvPr/>
        </p:nvSpPr>
        <p:spPr>
          <a:xfrm>
            <a:off x="2402280" y="39290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х+2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4"/>
          <p:cNvSpPr/>
          <p:nvPr/>
        </p:nvSpPr>
        <p:spPr>
          <a:xfrm>
            <a:off x="280080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5"/>
          <p:cNvSpPr/>
          <p:nvPr/>
        </p:nvSpPr>
        <p:spPr>
          <a:xfrm>
            <a:off x="3489120" y="40384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= х+у = 15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6"/>
          <p:cNvSpPr/>
          <p:nvPr/>
        </p:nvSpPr>
        <p:spPr>
          <a:xfrm>
            <a:off x="79200" y="4714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Ответ: 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91"/>
          <p:cNvSpPr/>
          <p:nvPr/>
        </p:nvSpPr>
        <p:spPr>
          <a:xfrm>
            <a:off x="792612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ашивка 92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"/>
                            </p:stCondLst>
                            <p:childTnLst>
                              <p:par>
                                <p:cTn id="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5"/>
          <p:cNvSpPr/>
          <p:nvPr/>
        </p:nvSpPr>
        <p:spPr>
          <a:xfrm>
            <a:off x="6929280" y="0"/>
            <a:ext cx="1428840" cy="507204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5072040"/>
              <a:gd name="textAreaBottom" fmla="*/ 5002560 h 5072040"/>
            </a:gdLst>
            <a:ahLst/>
            <a:rect l="textAreaLeft" t="textAreaTop" r="textAreaRight" b="textAreaBottom"/>
            <a:pathLst>
              <a:path w="21600" h="76661">
                <a:moveTo>
                  <a:pt x="3600" y="0"/>
                </a:moveTo>
                <a:arcTo wR="3600" hR="3600" stAng="16200000" swAng="-5400000"/>
                <a:lnTo>
                  <a:pt x="0" y="73061"/>
                </a:lnTo>
                <a:arcTo wR="3600" hR="3600" stAng="10800000" swAng="-5400000"/>
                <a:lnTo>
                  <a:pt x="18000" y="76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Ar.gif"/>
          <p:cNvPicPr/>
          <p:nvPr/>
        </p:nvPicPr>
        <p:blipFill>
          <a:blip r:embed="rId1"/>
          <a:stretch/>
        </p:blipFill>
        <p:spPr>
          <a:xfrm>
            <a:off x="6980400" y="420840"/>
            <a:ext cx="1322280" cy="53402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lb.gif"/>
          <p:cNvPicPr/>
          <p:nvPr/>
        </p:nvPicPr>
        <p:blipFill>
          <a:blip r:embed="rId2"/>
          <a:stretch/>
        </p:blipFill>
        <p:spPr>
          <a:xfrm>
            <a:off x="353880" y="1463760"/>
            <a:ext cx="1760760" cy="4503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2000160" y="1928880"/>
            <a:ext cx="4929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d1e"/>
                </a:solidFill>
                <a:latin typeface="Adventure"/>
              </a:rPr>
              <a:t>путь, ведущий к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d1e"/>
                </a:solidFill>
                <a:latin typeface="Adventure"/>
              </a:rPr>
              <a:t>в сложных услов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d1e"/>
                </a:solidFill>
                <a:latin typeface="Adventure"/>
              </a:rPr>
              <a:t>называют </a:t>
            </a:r>
            <a:r>
              <a:rPr b="1" lang="ru-RU" sz="3200" spc="-1" strike="noStrike">
                <a:solidFill>
                  <a:srgbClr val="92d050"/>
                </a:solidFill>
                <a:latin typeface="Adventure"/>
              </a:rPr>
              <a:t>нитью Ариа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Полилиния 11"/>
          <p:cNvGrpSpPr/>
          <p:nvPr/>
        </p:nvGrpSpPr>
        <p:grpSpPr>
          <a:xfrm>
            <a:off x="1189080" y="1279440"/>
            <a:ext cx="5979960" cy="2664000"/>
            <a:chOff x="1189080" y="1279440"/>
            <a:chExt cx="5979960" cy="2664000"/>
          </a:xfrm>
        </p:grpSpPr>
        <p:pic>
          <p:nvPicPr>
            <p:cNvPr id="269" name="Полилиния 11" descr=""/>
            <p:cNvPicPr/>
            <p:nvPr/>
          </p:nvPicPr>
          <p:blipFill>
            <a:blip r:embed="rId3"/>
            <a:stretch/>
          </p:blipFill>
          <p:spPr>
            <a:xfrm>
              <a:off x="1189080" y="1279440"/>
              <a:ext cx="597996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214280" y="1285920"/>
              <a:ext cx="592956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Текст 3"/>
          <p:cNvSpPr/>
          <p:nvPr/>
        </p:nvSpPr>
        <p:spPr>
          <a:xfrm>
            <a:off x="142920" y="5000760"/>
            <a:ext cx="85723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ледующий этап путешествия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-математический лабиринт, а нитью Ариадны будут знания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«Теорема Пифаго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Полилиния 12"/>
          <p:cNvGrpSpPr/>
          <p:nvPr/>
        </p:nvGrpSpPr>
        <p:grpSpPr>
          <a:xfrm>
            <a:off x="195120" y="4194000"/>
            <a:ext cx="8759880" cy="2608560"/>
            <a:chOff x="195120" y="4194000"/>
            <a:chExt cx="8759880" cy="2608560"/>
          </a:xfrm>
        </p:grpSpPr>
        <p:pic>
          <p:nvPicPr>
            <p:cNvPr id="273" name="Полилиния 12" descr=""/>
            <p:cNvPicPr/>
            <p:nvPr/>
          </p:nvPicPr>
          <p:blipFill>
            <a:blip r:embed="rId4"/>
            <a:stretch/>
          </p:blipFill>
          <p:spPr>
            <a:xfrm>
              <a:off x="195120" y="4194000"/>
              <a:ext cx="8759880" cy="26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19240" y="4214880"/>
              <a:ext cx="872316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Рисунок 6" descr="клубок.gif"/>
          <p:cNvPicPr/>
          <p:nvPr/>
        </p:nvPicPr>
        <p:blipFill>
          <a:blip r:embed="rId5"/>
          <a:stretch/>
        </p:blipFill>
        <p:spPr>
          <a:xfrm>
            <a:off x="714240" y="6143760"/>
            <a:ext cx="533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720"/>
                            </p:stCondLst>
                            <p:childTnLst>
                              <p:par>
                                <p:cTn id="6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440"/>
                            </p:stCondLst>
                            <p:childTnLst>
                              <p:par>
                                <p:cTn id="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200"/>
                            </p:stCondLst>
                            <p:childTnLst>
                              <p:par>
                                <p:cTn id="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6" descr="клубок.gif"/>
          <p:cNvPicPr/>
          <p:nvPr/>
        </p:nvPicPr>
        <p:blipFill>
          <a:blip r:embed="rId1"/>
          <a:stretch/>
        </p:blipFill>
        <p:spPr>
          <a:xfrm>
            <a:off x="785880" y="5286240"/>
            <a:ext cx="533160" cy="5432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клубок.gif"/>
          <p:cNvPicPr/>
          <p:nvPr/>
        </p:nvPicPr>
        <p:blipFill>
          <a:blip r:embed="rId2"/>
          <a:stretch/>
        </p:blipFill>
        <p:spPr>
          <a:xfrm>
            <a:off x="6039000" y="1028880"/>
            <a:ext cx="533160" cy="5428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6" descr="клубок.gif"/>
          <p:cNvPicPr/>
          <p:nvPr/>
        </p:nvPicPr>
        <p:blipFill>
          <a:blip r:embed="rId3"/>
          <a:stretch/>
        </p:blipFill>
        <p:spPr>
          <a:xfrm>
            <a:off x="4572000" y="435780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lb.gif"/>
          <p:cNvPicPr/>
          <p:nvPr/>
        </p:nvPicPr>
        <p:blipFill>
          <a:blip r:embed="rId4"/>
          <a:stretch/>
        </p:blipFill>
        <p:spPr>
          <a:xfrm>
            <a:off x="285840" y="30240"/>
            <a:ext cx="1762200" cy="451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5072040" y="4541760"/>
            <a:ext cx="3714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04б (2бал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**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(3балла)</a:t>
            </a:r>
            <a:r>
              <a:rPr b="1" lang="ru-RU" sz="8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кар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15 (4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285920" y="52509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04в (2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13 (3балла)</a:t>
            </a:r>
            <a:r>
              <a:rPr b="1" lang="ru-RU" sz="8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19 (4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олилиния 8"/>
          <p:cNvGrpSpPr/>
          <p:nvPr/>
        </p:nvGrpSpPr>
        <p:grpSpPr>
          <a:xfrm>
            <a:off x="1122480" y="1279440"/>
            <a:ext cx="4973400" cy="1384560"/>
            <a:chOff x="1122480" y="1279440"/>
            <a:chExt cx="4973400" cy="1384560"/>
          </a:xfrm>
        </p:grpSpPr>
        <p:pic>
          <p:nvPicPr>
            <p:cNvPr id="283" name="Полилиния 8" descr=""/>
            <p:cNvPicPr/>
            <p:nvPr/>
          </p:nvPicPr>
          <p:blipFill>
            <a:blip r:embed="rId5"/>
            <a:stretch/>
          </p:blipFill>
          <p:spPr>
            <a:xfrm>
              <a:off x="1122480" y="1279440"/>
              <a:ext cx="49734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143000" y="1285920"/>
              <a:ext cx="4929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олилиния 9"/>
          <p:cNvGrpSpPr/>
          <p:nvPr/>
        </p:nvGrpSpPr>
        <p:grpSpPr>
          <a:xfrm>
            <a:off x="930240" y="720000"/>
            <a:ext cx="4596120" cy="3948840"/>
            <a:chOff x="930240" y="720000"/>
            <a:chExt cx="4596120" cy="3948840"/>
          </a:xfrm>
        </p:grpSpPr>
        <p:pic>
          <p:nvPicPr>
            <p:cNvPr id="286" name="Полилиния 9" descr=""/>
            <p:cNvPicPr/>
            <p:nvPr/>
          </p:nvPicPr>
          <p:blipFill>
            <a:blip r:embed="rId6"/>
            <a:stretch/>
          </p:blipFill>
          <p:spPr>
            <a:xfrm>
              <a:off x="1278000" y="927000"/>
              <a:ext cx="395424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12838200">
              <a:off x="914400" y="1896840"/>
              <a:ext cx="462744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олилиния 10"/>
          <p:cNvGrpSpPr/>
          <p:nvPr/>
        </p:nvGrpSpPr>
        <p:grpSpPr>
          <a:xfrm>
            <a:off x="397800" y="697680"/>
            <a:ext cx="2255040" cy="4788360"/>
            <a:chOff x="397800" y="697680"/>
            <a:chExt cx="2255040" cy="4788360"/>
          </a:xfrm>
        </p:grpSpPr>
        <p:pic>
          <p:nvPicPr>
            <p:cNvPr id="289" name="Полилиния 10" descr=""/>
            <p:cNvPicPr/>
            <p:nvPr/>
          </p:nvPicPr>
          <p:blipFill>
            <a:blip r:embed="rId7"/>
            <a:stretch/>
          </p:blipFill>
          <p:spPr>
            <a:xfrm>
              <a:off x="991440" y="826560"/>
              <a:ext cx="1459440" cy="46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5432000">
              <a:off x="-770400" y="2442240"/>
              <a:ext cx="459216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1"/>
          <p:cNvSpPr/>
          <p:nvPr/>
        </p:nvSpPr>
        <p:spPr>
          <a:xfrm>
            <a:off x="2143080" y="0"/>
            <a:ext cx="70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Задача (2балла) – решить и показать учител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Задача (3балла) – решить, краткий комментарий у до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Задача (4балла) –решить, на доске записать краткое 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              </a:t>
            </a: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(все учащиеся записывают решение задач (4балла) в тетради</a:t>
            </a:r>
            <a:r>
              <a:rPr b="1" lang="ru-RU" sz="2000" spc="-1" strike="noStrike">
                <a:solidFill>
                  <a:srgbClr val="ff0000"/>
                </a:solidFill>
                <a:latin typeface="Adventure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2"/>
          <p:cNvSpPr/>
          <p:nvPr/>
        </p:nvSpPr>
        <p:spPr>
          <a:xfrm flipH="1">
            <a:off x="5920560" y="205596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2253240" y="500076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dventure"/>
                <a:ea typeface="Trebuchet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5"/>
          <p:cNvSpPr/>
          <p:nvPr/>
        </p:nvSpPr>
        <p:spPr>
          <a:xfrm>
            <a:off x="5914440" y="414324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dventure"/>
                <a:ea typeface="Trebuchet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6"/>
          <p:cNvSpPr/>
          <p:nvPr/>
        </p:nvSpPr>
        <p:spPr>
          <a:xfrm>
            <a:off x="6695640" y="12142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dventure"/>
                <a:ea typeface="Trebuchet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7328880" y="4643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1"/>
          <p:cNvSpPr/>
          <p:nvPr/>
        </p:nvSpPr>
        <p:spPr>
          <a:xfrm>
            <a:off x="3503160" y="55008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186400" y="1714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3"/>
          <p:cNvSpPr/>
          <p:nvPr/>
        </p:nvSpPr>
        <p:spPr>
          <a:xfrm>
            <a:off x="2286000" y="31050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dventure"/>
              </a:rPr>
              <a:t>учащиеся самостоятельно выбирают уровень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5929200" y="1464840"/>
            <a:ext cx="25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04а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балла)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13 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3балла)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*** (4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4"/>
          <p:cNvSpPr/>
          <p:nvPr/>
        </p:nvSpPr>
        <p:spPr>
          <a:xfrm>
            <a:off x="8005320" y="20718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5"/>
          <p:cNvSpPr/>
          <p:nvPr/>
        </p:nvSpPr>
        <p:spPr>
          <a:xfrm>
            <a:off x="7831080" y="24289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кар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7"/>
          <p:cNvSpPr/>
          <p:nvPr/>
        </p:nvSpPr>
        <p:spPr>
          <a:xfrm>
            <a:off x="7146360" y="5429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8"/>
          <p:cNvSpPr/>
          <p:nvPr/>
        </p:nvSpPr>
        <p:spPr>
          <a:xfrm>
            <a:off x="3360240" y="628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elide\Desktop\картинки у уроку\1261321062_1pergam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071880" y="3589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  <a:ea typeface="Trebuchet MS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1714680" y="12841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928880" y="612000"/>
            <a:ext cx="6215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сформировать навыки комплексног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знаний для решения задач с использованием теор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Пифагора и следствий из н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развивать математическ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воспитывать умения объективно оцен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свои знания и аргументированно доказ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своё мн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воспитывать умение контрол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внимание на всех этапах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14680" y="22129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714680" y="2498760"/>
            <a:ext cx="253800" cy="25380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400 h 253800"/>
              <a:gd name="textAreaBottom" fmla="*/ 149400 h 25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14680" y="33955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286080" y="4043880"/>
            <a:ext cx="328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dventure"/>
                <a:ea typeface="Trebuchet MS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928880" y="474912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сборник задач и контро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«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Геометрия 8 класс</a:t>
            </a: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»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 А.Г. Мерзля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 </a:t>
            </a: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«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путевые журналы</a:t>
            </a: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»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раздаточный материал (условия задач, кроссвор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мультимедийный про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1714680" y="49291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714680" y="546084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1714680" y="578628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1643040" y="128592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dventure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Геометрия полна приключ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потому что за каждой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скрывается приключение мыс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Решить задачу – это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пережить приключение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В. Произ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714680" y="60325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2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96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Равнобедренный треугольник 50"/>
          <p:cNvSpPr/>
          <p:nvPr/>
        </p:nvSpPr>
        <p:spPr>
          <a:xfrm>
            <a:off x="571680" y="285840"/>
            <a:ext cx="2406600" cy="2074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85960" y="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2857680" y="232416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2753280" y="714240"/>
            <a:ext cx="64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el-GR" sz="2400" spc="-1" strike="noStrike">
                <a:solidFill>
                  <a:srgbClr val="000000"/>
                </a:solidFill>
                <a:latin typeface="Adventure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 – равносторонний, ВК-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ВК на 4см меньше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5370840" y="17146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982440" y="2286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826440" y="10944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19 (запиши в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1604880" y="2173320"/>
            <a:ext cx="181080" cy="183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1566000" y="2357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2"/>
          <p:cNvSpPr/>
          <p:nvPr/>
        </p:nvSpPr>
        <p:spPr>
          <a:xfrm flipH="1">
            <a:off x="1774440" y="285840"/>
            <a:ext cx="11160" cy="20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2"/>
          <p:cNvSpPr/>
          <p:nvPr/>
        </p:nvSpPr>
        <p:spPr>
          <a:xfrm>
            <a:off x="201600" y="2324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Дуга 53"/>
          <p:cNvSpPr/>
          <p:nvPr/>
        </p:nvSpPr>
        <p:spPr>
          <a:xfrm rot="1378200">
            <a:off x="581040" y="2125800"/>
            <a:ext cx="344520" cy="365040"/>
          </a:xfrm>
          <a:custGeom>
            <a:avLst/>
            <a:gdLst>
              <a:gd name="textAreaLeft" fmla="*/ 79560 w 344520"/>
              <a:gd name="textAreaRight" fmla="*/ 344160 w 344520"/>
              <a:gd name="textAreaTop" fmla="*/ 0 h 365040"/>
              <a:gd name="textAreaBottom" fmla="*/ 167400 h 365040"/>
            </a:gdLst>
            <a:ahLst/>
            <a:rect l="textAreaLeft" t="textAreaTop" r="textAreaRight" b="textAreaBottom"/>
            <a:pathLst>
              <a:path stroke="0" w="344488" h="365125">
                <a:moveTo>
                  <a:pt x="79817" y="28510"/>
                </a:moveTo>
                <a:lnTo>
                  <a:pt x="79817" y="28510"/>
                </a:lnTo>
                <a:arcTo wR="172244" hR="182563" stAng="-7257747" swAng="6955692"/>
                <a:lnTo>
                  <a:pt x="172244" y="182563"/>
                </a:lnTo>
                <a:close/>
              </a:path>
              <a:path fill="none" w="344488" h="365125">
                <a:moveTo>
                  <a:pt x="79817" y="28510"/>
                </a:moveTo>
                <a:lnTo>
                  <a:pt x="79817" y="28510"/>
                </a:lnTo>
                <a:arcTo wR="172244" hR="182563" stAng="-7257747" swAng="6955692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857160" y="1928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Дуга 55"/>
          <p:cNvSpPr/>
          <p:nvPr/>
        </p:nvSpPr>
        <p:spPr>
          <a:xfrm rot="10800000">
            <a:off x="1571760" y="428760"/>
            <a:ext cx="357120" cy="357120"/>
          </a:xfrm>
          <a:custGeom>
            <a:avLst/>
            <a:gdLst>
              <a:gd name="textAreaLeft" fmla="*/ 178560 w 357120"/>
              <a:gd name="textAreaRight" fmla="*/ 357480 w 3571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357188" h="357188">
                <a:moveTo>
                  <a:pt x="178594" y="0"/>
                </a:moveTo>
                <a:lnTo>
                  <a:pt x="178594" y="0"/>
                </a:lnTo>
                <a:arcTo wR="178594" hR="178594" stAng="-5400000" swAng="5400000"/>
                <a:lnTo>
                  <a:pt x="178594" y="178594"/>
                </a:lnTo>
                <a:close/>
              </a:path>
              <a:path fill="none" w="357188" h="357188">
                <a:moveTo>
                  <a:pt x="178594" y="0"/>
                </a:moveTo>
                <a:lnTo>
                  <a:pt x="178594" y="0"/>
                </a:lnTo>
                <a:arcTo wR="178594" hR="178594" stAng="-5400000" swAng="54000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Дуга 56"/>
          <p:cNvSpPr/>
          <p:nvPr/>
        </p:nvSpPr>
        <p:spPr>
          <a:xfrm rot="10800000">
            <a:off x="1643040" y="356760"/>
            <a:ext cx="357120" cy="357120"/>
          </a:xfrm>
          <a:custGeom>
            <a:avLst/>
            <a:gdLst>
              <a:gd name="textAreaLeft" fmla="*/ 222840 w 357120"/>
              <a:gd name="textAreaRight" fmla="*/ 357480 w 357120"/>
              <a:gd name="textAreaTop" fmla="*/ 540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357187" h="357187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  <a:lnTo>
                  <a:pt x="178594" y="178594"/>
                </a:lnTo>
                <a:close/>
              </a:path>
              <a:path fill="none" w="357187" h="357187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7"/>
          <p:cNvSpPr/>
          <p:nvPr/>
        </p:nvSpPr>
        <p:spPr>
          <a:xfrm>
            <a:off x="1357200" y="785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8"/>
          <p:cNvSpPr/>
          <p:nvPr/>
        </p:nvSpPr>
        <p:spPr>
          <a:xfrm>
            <a:off x="709200" y="1000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dventure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9"/>
          <p:cNvSpPr/>
          <p:nvPr/>
        </p:nvSpPr>
        <p:spPr>
          <a:xfrm>
            <a:off x="1706400" y="1214280"/>
            <a:ext cx="6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dventure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dventure"/>
              </a:rPr>
              <a:t>x</a:t>
            </a:r>
            <a:r>
              <a:rPr b="1" lang="ru-RU" sz="1800" spc="-1" strike="noStrike">
                <a:solidFill>
                  <a:srgbClr val="ff0000"/>
                </a:solidFill>
                <a:latin typeface="Adventur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500200" y="279108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(2х-4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+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= (2х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16х + 16 +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 16х + 1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Д =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2357280" y="4029480"/>
            <a:ext cx="16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√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Д = 8√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2428920" y="43585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16 + 8√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500200" y="595836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АВ = 2(8 - 4√3)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2497320" y="56008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АВ = 2(8 + 4√3)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36"/>
          <p:cNvSpPr/>
          <p:nvPr/>
        </p:nvSpPr>
        <p:spPr>
          <a:xfrm>
            <a:off x="3214800" y="463068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7"/>
          <p:cNvSpPr/>
          <p:nvPr/>
        </p:nvSpPr>
        <p:spPr>
          <a:xfrm>
            <a:off x="3511080" y="4587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8"/>
          <p:cNvSpPr/>
          <p:nvPr/>
        </p:nvSpPr>
        <p:spPr>
          <a:xfrm>
            <a:off x="2772720" y="441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9"/>
          <p:cNvSpPr/>
          <p:nvPr/>
        </p:nvSpPr>
        <p:spPr>
          <a:xfrm>
            <a:off x="4163400" y="441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0"/>
          <p:cNvSpPr/>
          <p:nvPr/>
        </p:nvSpPr>
        <p:spPr>
          <a:xfrm>
            <a:off x="4369320" y="44751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venture"/>
                <a:ea typeface="Trebuchet MS"/>
              </a:rPr>
              <a:t>8 + 4√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1"/>
          <p:cNvSpPr/>
          <p:nvPr/>
        </p:nvSpPr>
        <p:spPr>
          <a:xfrm>
            <a:off x="2488680" y="4416480"/>
            <a:ext cx="412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dventure"/>
                <a:ea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2428920" y="49316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16 - 8√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43"/>
          <p:cNvSpPr/>
          <p:nvPr/>
        </p:nvSpPr>
        <p:spPr>
          <a:xfrm>
            <a:off x="3214800" y="520380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4"/>
          <p:cNvSpPr/>
          <p:nvPr/>
        </p:nvSpPr>
        <p:spPr>
          <a:xfrm>
            <a:off x="3511080" y="5160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5"/>
          <p:cNvSpPr/>
          <p:nvPr/>
        </p:nvSpPr>
        <p:spPr>
          <a:xfrm>
            <a:off x="2772720" y="4989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6"/>
          <p:cNvSpPr/>
          <p:nvPr/>
        </p:nvSpPr>
        <p:spPr>
          <a:xfrm>
            <a:off x="4163400" y="49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7"/>
          <p:cNvSpPr/>
          <p:nvPr/>
        </p:nvSpPr>
        <p:spPr>
          <a:xfrm>
            <a:off x="4394520" y="50497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venture"/>
                <a:ea typeface="Trebuchet MS"/>
              </a:rPr>
              <a:t>8 - 4√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8"/>
          <p:cNvSpPr/>
          <p:nvPr/>
        </p:nvSpPr>
        <p:spPr>
          <a:xfrm>
            <a:off x="2499480" y="4989600"/>
            <a:ext cx="412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51"/>
          <p:cNvSpPr/>
          <p:nvPr/>
        </p:nvSpPr>
        <p:spPr>
          <a:xfrm>
            <a:off x="4000680" y="435780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60"/>
          <p:cNvSpPr/>
          <p:nvPr/>
        </p:nvSpPr>
        <p:spPr>
          <a:xfrm>
            <a:off x="4000680" y="492912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68"/>
          <p:cNvSpPr/>
          <p:nvPr/>
        </p:nvSpPr>
        <p:spPr>
          <a:xfrm>
            <a:off x="5072040" y="50594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69"/>
          <p:cNvSpPr/>
          <p:nvPr/>
        </p:nvSpPr>
        <p:spPr>
          <a:xfrm>
            <a:off x="5072040" y="4487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0"/>
          <p:cNvSpPr/>
          <p:nvPr/>
        </p:nvSpPr>
        <p:spPr>
          <a:xfrm>
            <a:off x="4214880" y="564372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73"/>
          <p:cNvSpPr/>
          <p:nvPr/>
        </p:nvSpPr>
        <p:spPr>
          <a:xfrm>
            <a:off x="4214880" y="600084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4"/>
          <p:cNvSpPr/>
          <p:nvPr/>
        </p:nvSpPr>
        <p:spPr>
          <a:xfrm>
            <a:off x="3429000" y="407196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75"/>
          <p:cNvSpPr/>
          <p:nvPr/>
        </p:nvSpPr>
        <p:spPr>
          <a:xfrm>
            <a:off x="2571840" y="407196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77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ашивка 78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9"/>
          <p:cNvSpPr/>
          <p:nvPr/>
        </p:nvSpPr>
        <p:spPr>
          <a:xfrm>
            <a:off x="3596760" y="21430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И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АВК (∠К=90°)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1"/>
          <p:cNvSpPr/>
          <p:nvPr/>
        </p:nvSpPr>
        <p:spPr>
          <a:xfrm>
            <a:off x="135360" y="62866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62"/>
          <p:cNvSpPr/>
          <p:nvPr/>
        </p:nvSpPr>
        <p:spPr>
          <a:xfrm>
            <a:off x="939960" y="62866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2(8 + 4√3)с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63"/>
          <p:cNvSpPr/>
          <p:nvPr/>
        </p:nvSpPr>
        <p:spPr>
          <a:xfrm>
            <a:off x="2473920" y="6273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2(8 - 4√3)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64"/>
          <p:cNvSpPr/>
          <p:nvPr/>
        </p:nvSpPr>
        <p:spPr>
          <a:xfrm>
            <a:off x="3429000" y="628668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65"/>
          <p:cNvSpPr/>
          <p:nvPr/>
        </p:nvSpPr>
        <p:spPr>
          <a:xfrm>
            <a:off x="1928880" y="628668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15"/>
          <p:cNvSpPr/>
          <p:nvPr/>
        </p:nvSpPr>
        <p:spPr>
          <a:xfrm rot="21547200">
            <a:off x="450720" y="299880"/>
            <a:ext cx="1884600" cy="29322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2286000" y="15382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3524760" y="838080"/>
            <a:ext cx="4999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– ромб, АК –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К=6см,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∠С=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dventure"/>
              </a:rPr>
              <a:t>АВСД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5408640" y="2147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554120" y="324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3746160" y="10944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*** (запиши в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8"/>
          <p:cNvSpPr/>
          <p:nvPr/>
        </p:nvSpPr>
        <p:spPr>
          <a:xfrm rot="3464400">
            <a:off x="1592280" y="816120"/>
            <a:ext cx="162000" cy="164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1780200" y="6429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22040" y="15717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Дуга 12"/>
          <p:cNvSpPr/>
          <p:nvPr/>
        </p:nvSpPr>
        <p:spPr>
          <a:xfrm rot="14521800">
            <a:off x="2140920" y="1555200"/>
            <a:ext cx="345960" cy="365040"/>
          </a:xfrm>
          <a:custGeom>
            <a:avLst/>
            <a:gdLst>
              <a:gd name="textAreaLeft" fmla="*/ 80280 w 345960"/>
              <a:gd name="textAreaRight" fmla="*/ 345600 w 345960"/>
              <a:gd name="textAreaTop" fmla="*/ 0 h 365040"/>
              <a:gd name="textAreaBottom" fmla="*/ 167400 h 365040"/>
            </a:gdLst>
            <a:ahLst/>
            <a:rect l="textAreaLeft" t="textAreaTop" r="textAreaRight" b="textAreaBottom"/>
            <a:pathLst>
              <a:path stroke="0" w="346075" h="365125">
                <a:moveTo>
                  <a:pt x="80488" y="28307"/>
                </a:moveTo>
                <a:lnTo>
                  <a:pt x="80488" y="28307"/>
                </a:lnTo>
                <a:arcTo wR="173038" hR="182563" stAng="-7257750" swAng="6955700"/>
                <a:lnTo>
                  <a:pt x="173038" y="182563"/>
                </a:lnTo>
                <a:close/>
              </a:path>
              <a:path fill="none" w="346075" h="365125">
                <a:moveTo>
                  <a:pt x="80488" y="28307"/>
                </a:moveTo>
                <a:lnTo>
                  <a:pt x="80488" y="28307"/>
                </a:lnTo>
                <a:arcTo wR="173038" hR="182563" stAng="-7257750" swAng="69557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1071720" y="4874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Дуга 14"/>
          <p:cNvSpPr/>
          <p:nvPr/>
        </p:nvSpPr>
        <p:spPr>
          <a:xfrm>
            <a:off x="571680" y="1357200"/>
            <a:ext cx="285480" cy="357480"/>
          </a:xfrm>
          <a:custGeom>
            <a:avLst/>
            <a:gdLst>
              <a:gd name="textAreaLeft" fmla="*/ 142920 w 285480"/>
              <a:gd name="textAreaRight" fmla="*/ 285840 w 285480"/>
              <a:gd name="textAreaTop" fmla="*/ 0 h 357480"/>
              <a:gd name="textAreaBottom" fmla="*/ 178920 h 357480"/>
            </a:gdLst>
            <a:ahLst/>
            <a:rect l="textAreaLeft" t="textAreaTop" r="textAreaRight" b="textAreaBottom"/>
            <a:pathLst>
              <a:path stroke="0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  <a:lnTo>
                  <a:pt x="142875" y="178594"/>
                </a:lnTo>
                <a:close/>
              </a:path>
              <a:path fill="none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Дуга 15"/>
          <p:cNvSpPr/>
          <p:nvPr/>
        </p:nvSpPr>
        <p:spPr>
          <a:xfrm rot="7931400">
            <a:off x="1216080" y="144360"/>
            <a:ext cx="357120" cy="357120"/>
          </a:xfrm>
          <a:custGeom>
            <a:avLst/>
            <a:gdLst>
              <a:gd name="textAreaLeft" fmla="*/ 222840 w 357120"/>
              <a:gd name="textAreaRight" fmla="*/ 357480 w 357120"/>
              <a:gd name="textAreaTop" fmla="*/ 540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357187" h="357188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  <a:lnTo>
                  <a:pt x="178594" y="178594"/>
                </a:lnTo>
                <a:close/>
              </a:path>
              <a:path fill="none" w="357187" h="357188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6"/>
          <p:cNvSpPr/>
          <p:nvPr/>
        </p:nvSpPr>
        <p:spPr>
          <a:xfrm>
            <a:off x="1500120" y="15717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venture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423360" y="7142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dventure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1"/>
          <p:cNvSpPr/>
          <p:nvPr/>
        </p:nvSpPr>
        <p:spPr>
          <a:xfrm>
            <a:off x="1340640" y="71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3"/>
          <p:cNvSpPr/>
          <p:nvPr/>
        </p:nvSpPr>
        <p:spPr>
          <a:xfrm flipV="1">
            <a:off x="450000" y="928800"/>
            <a:ext cx="1335240" cy="8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Дуга 34"/>
          <p:cNvSpPr/>
          <p:nvPr/>
        </p:nvSpPr>
        <p:spPr>
          <a:xfrm>
            <a:off x="500040" y="1428840"/>
            <a:ext cx="285840" cy="285840"/>
          </a:xfrm>
          <a:custGeom>
            <a:avLst/>
            <a:gdLst>
              <a:gd name="textAreaLeft" fmla="*/ 142920 w 285840"/>
              <a:gd name="textAreaRight" fmla="*/ 286200 w 285840"/>
              <a:gd name="textAreaTop" fmla="*/ 0 h 285840"/>
              <a:gd name="textAreaBottom" fmla="*/ 142920 h 285840"/>
            </a:gdLst>
            <a:ahLst/>
            <a:rect l="textAreaLeft" t="textAreaTop" r="textAreaRight" b="textAreaBottom"/>
            <a:pathLst>
              <a:path stroke="0" w="285750" h="285750">
                <a:moveTo>
                  <a:pt x="142875" y="0"/>
                </a:moveTo>
                <a:lnTo>
                  <a:pt x="142875" y="0"/>
                </a:lnTo>
                <a:arcTo wR="142875" hR="142875" stAng="-5400000" swAng="5400000"/>
                <a:lnTo>
                  <a:pt x="142875" y="142875"/>
                </a:lnTo>
                <a:close/>
              </a:path>
              <a:path fill="none" w="285750" h="285750">
                <a:moveTo>
                  <a:pt x="142875" y="0"/>
                </a:moveTo>
                <a:lnTo>
                  <a:pt x="142875" y="0"/>
                </a:lnTo>
                <a:arcTo wR="142875" hR="142875" stAng="-5400000" swAng="54000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5"/>
          <p:cNvSpPr/>
          <p:nvPr/>
        </p:nvSpPr>
        <p:spPr>
          <a:xfrm>
            <a:off x="698040" y="1143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dventure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6"/>
          <p:cNvSpPr/>
          <p:nvPr/>
        </p:nvSpPr>
        <p:spPr>
          <a:xfrm>
            <a:off x="1297080" y="3214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8"/>
          <p:cNvSpPr/>
          <p:nvPr/>
        </p:nvSpPr>
        <p:spPr>
          <a:xfrm>
            <a:off x="4952160" y="2643120"/>
            <a:ext cx="1518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Р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dventure"/>
                <a:ea typeface="Trebuchet MS"/>
              </a:rPr>
              <a:t>АВСД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= 4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3" descr=""/>
          <p:cNvPicPr/>
          <p:nvPr/>
        </p:nvPicPr>
        <p:blipFill>
          <a:blip r:embed="rId1"/>
          <a:stretch/>
        </p:blipFill>
        <p:spPr>
          <a:xfrm>
            <a:off x="3071880" y="45007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2" descr=""/>
          <p:cNvPicPr/>
          <p:nvPr/>
        </p:nvPicPr>
        <p:blipFill>
          <a:blip r:embed="rId2"/>
          <a:stretch/>
        </p:blipFill>
        <p:spPr>
          <a:xfrm>
            <a:off x="4129200" y="4500720"/>
            <a:ext cx="37152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1" descr=""/>
          <p:cNvPicPr/>
          <p:nvPr/>
        </p:nvPicPr>
        <p:blipFill>
          <a:blip r:embed="rId3"/>
          <a:stretch/>
        </p:blipFill>
        <p:spPr>
          <a:xfrm>
            <a:off x="3486240" y="4829040"/>
            <a:ext cx="371520" cy="4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0" descr=""/>
          <p:cNvPicPr/>
          <p:nvPr/>
        </p:nvPicPr>
        <p:blipFill>
          <a:blip r:embed="rId4"/>
          <a:stretch/>
        </p:blipFill>
        <p:spPr>
          <a:xfrm>
            <a:off x="3429000" y="5214960"/>
            <a:ext cx="371520" cy="457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4"/>
          <p:cNvSpPr/>
          <p:nvPr/>
        </p:nvSpPr>
        <p:spPr>
          <a:xfrm>
            <a:off x="2714760" y="3252600"/>
            <a:ext cx="178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+36=(2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3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=   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 flipV="1" rot="10800000">
            <a:off x="2714760" y="48578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АВ=4  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2643120" y="488700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Р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3786120" y="4887000"/>
            <a:ext cx="6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0"/>
          <p:cNvSpPr/>
          <p:nvPr/>
        </p:nvSpPr>
        <p:spPr>
          <a:xfrm>
            <a:off x="1141920" y="121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C:\Users\relide\Desktop\картинки у уроку\віапівп.png"/>
          <p:cNvPicPr/>
          <p:nvPr/>
        </p:nvPicPr>
        <p:blipFill>
          <a:blip r:embed="rId5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3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ашивка 44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7"/>
          <p:cNvSpPr/>
          <p:nvPr/>
        </p:nvSpPr>
        <p:spPr>
          <a:xfrm>
            <a:off x="2372760" y="30718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И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АВК (∠К=90°)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39"/>
          <p:cNvSpPr/>
          <p:nvPr/>
        </p:nvSpPr>
        <p:spPr>
          <a:xfrm>
            <a:off x="136800" y="62866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0"/>
          <p:cNvSpPr/>
          <p:nvPr/>
        </p:nvSpPr>
        <p:spPr>
          <a:xfrm>
            <a:off x="1000080" y="6286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0" descr=""/>
          <p:cNvPicPr/>
          <p:nvPr/>
        </p:nvPicPr>
        <p:blipFill>
          <a:blip r:embed="rId6"/>
          <a:stretch/>
        </p:blipFill>
        <p:spPr>
          <a:xfrm>
            <a:off x="1352520" y="6286680"/>
            <a:ext cx="290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Равнобедренный треугольник 30"/>
          <p:cNvSpPr/>
          <p:nvPr/>
        </p:nvSpPr>
        <p:spPr>
          <a:xfrm>
            <a:off x="1143000" y="1000080"/>
            <a:ext cx="4000680" cy="1784520"/>
          </a:xfrm>
          <a:prstGeom prst="triangle">
            <a:avLst>
              <a:gd name="adj" fmla="val 720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000760" y="275256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482560" y="15001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>
            <a:off x="3836160" y="27511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772920" y="2751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4518720" y="157176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Adventure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1"/>
          <p:cNvSpPr/>
          <p:nvPr/>
        </p:nvSpPr>
        <p:spPr>
          <a:xfrm>
            <a:off x="3989880" y="6793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37"/>
          <p:cNvSpPr/>
          <p:nvPr/>
        </p:nvSpPr>
        <p:spPr>
          <a:xfrm>
            <a:off x="4024440" y="1000080"/>
            <a:ext cx="0" cy="178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42"/>
          <p:cNvSpPr/>
          <p:nvPr/>
        </p:nvSpPr>
        <p:spPr>
          <a:xfrm>
            <a:off x="357120" y="2784600"/>
            <a:ext cx="564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6"/>
          <p:cNvSpPr/>
          <p:nvPr/>
        </p:nvSpPr>
        <p:spPr>
          <a:xfrm>
            <a:off x="2288160" y="16812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51"/>
          <p:cNvSpPr/>
          <p:nvPr/>
        </p:nvSpPr>
        <p:spPr>
          <a:xfrm>
            <a:off x="3786120" y="2571840"/>
            <a:ext cx="214560" cy="214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5"/>
          <p:cNvSpPr/>
          <p:nvPr/>
        </p:nvSpPr>
        <p:spPr>
          <a:xfrm>
            <a:off x="24991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6"/>
          <p:cNvSpPr/>
          <p:nvPr/>
        </p:nvSpPr>
        <p:spPr>
          <a:xfrm>
            <a:off x="442260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717080" y="18572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2001600" y="4071960"/>
            <a:ext cx="355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81 = (х –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81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4х + 4 –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4х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В = 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С = 1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3820680" y="10944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15 (запиши в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2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ашивка 23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6"/>
          <p:cNvSpPr/>
          <p:nvPr/>
        </p:nvSpPr>
        <p:spPr>
          <a:xfrm>
            <a:off x="5020920" y="785880"/>
            <a:ext cx="412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, ВС – наклон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К и КС – прое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ВК – перпендикуля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К=9см, КС=5с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ВС на 2см меньше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, 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7"/>
          <p:cNvSpPr/>
          <p:nvPr/>
        </p:nvSpPr>
        <p:spPr>
          <a:xfrm>
            <a:off x="2727360" y="3110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4200" y="34275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По теореме Пифагора из </a:t>
            </a:r>
            <a:r>
              <a:rPr b="1" lang="el-GR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АВК (∠К=90°): ВК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= АВ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– АК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из </a:t>
            </a:r>
            <a:r>
              <a:rPr b="1" lang="el-GR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ВСК (∠К=90°): ВК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= В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– К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5"/>
          <p:cNvSpPr/>
          <p:nvPr/>
        </p:nvSpPr>
        <p:spPr>
          <a:xfrm>
            <a:off x="70920" y="62866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Ответ: 15см, 13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"/>
                            </p:stCondLst>
                            <p:childTnLst>
                              <p:par>
                                <p:cTn id="1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7" descr="theseus_minotaur_mosaic.jpg"/>
          <p:cNvPicPr/>
          <p:nvPr/>
        </p:nvPicPr>
        <p:blipFill>
          <a:blip r:embed="rId1"/>
          <a:stretch/>
        </p:blipFill>
        <p:spPr>
          <a:xfrm>
            <a:off x="357120" y="4572000"/>
            <a:ext cx="2502000" cy="1857240"/>
          </a:xfrm>
          <a:prstGeom prst="rect">
            <a:avLst/>
          </a:prstGeom>
          <a:ln w="9360">
            <a:solidFill>
              <a:srgbClr val="4c3020"/>
            </a:solidFill>
            <a:miter/>
          </a:ln>
        </p:spPr>
      </p:pic>
      <p:sp>
        <p:nvSpPr>
          <p:cNvPr id="420" name="Прямоугольник 1"/>
          <p:cNvSpPr/>
          <p:nvPr/>
        </p:nvSpPr>
        <p:spPr>
          <a:xfrm>
            <a:off x="-285840" y="142920"/>
            <a:ext cx="9715680" cy="647640"/>
          </a:xfrm>
          <a:prstGeom prst="rect">
            <a:avLst/>
          </a:prstGeom>
          <a:gradFill rotWithShape="0">
            <a:gsLst>
              <a:gs pos="0">
                <a:srgbClr val="fdfefc"/>
              </a:gs>
              <a:gs pos="100000">
                <a:srgbClr val="f9db91"/>
              </a:gs>
            </a:gsLst>
            <a:lin ang="27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-55440"/>
            <a:ext cx="7042320" cy="847440"/>
          </a:xfrm>
          <a:prstGeom prst="rect">
            <a:avLst/>
          </a:prstGeom>
          <a:ln w="0">
            <a:noFill/>
          </a:ln>
        </p:spPr>
      </p:pic>
      <p:sp>
        <p:nvSpPr>
          <p:cNvPr id="422" name="Скругленный прямоугольник 5"/>
          <p:cNvSpPr/>
          <p:nvPr/>
        </p:nvSpPr>
        <p:spPr>
          <a:xfrm>
            <a:off x="7358040" y="357120"/>
            <a:ext cx="1785960" cy="585792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5857920"/>
              <a:gd name="textAreaBottom" fmla="*/ 5770800 h 5857920"/>
            </a:gdLst>
            <a:ahLst/>
            <a:rect l="textAreaLeft" t="textAreaTop" r="textAreaRight" b="textAreaBottom"/>
            <a:pathLst>
              <a:path w="21600" h="70838">
                <a:moveTo>
                  <a:pt x="3600" y="0"/>
                </a:moveTo>
                <a:arcTo wR="3600" hR="3600" stAng="16200000" swAng="-5400000"/>
                <a:lnTo>
                  <a:pt x="0" y="67238"/>
                </a:lnTo>
                <a:arcTo wR="3600" hR="3600" stAng="10800000" swAng="-5400000"/>
                <a:lnTo>
                  <a:pt x="18000" y="70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Ar.gif"/>
          <p:cNvPicPr/>
          <p:nvPr/>
        </p:nvPicPr>
        <p:blipFill>
          <a:blip r:embed="rId3"/>
          <a:stretch/>
        </p:blipFill>
        <p:spPr>
          <a:xfrm>
            <a:off x="7394400" y="353880"/>
            <a:ext cx="1694160" cy="6875640"/>
          </a:xfrm>
          <a:prstGeom prst="rect">
            <a:avLst/>
          </a:prstGeom>
          <a:ln w="0">
            <a:noFill/>
          </a:ln>
        </p:spPr>
      </p:pic>
      <p:grpSp>
        <p:nvGrpSpPr>
          <p:cNvPr id="424" name="Полилиния 10"/>
          <p:cNvGrpSpPr/>
          <p:nvPr/>
        </p:nvGrpSpPr>
        <p:grpSpPr>
          <a:xfrm>
            <a:off x="2066760" y="1420920"/>
            <a:ext cx="5596200" cy="4986000"/>
            <a:chOff x="2066760" y="1420920"/>
            <a:chExt cx="5596200" cy="4986000"/>
          </a:xfrm>
        </p:grpSpPr>
        <p:pic>
          <p:nvPicPr>
            <p:cNvPr id="425" name="Полилиния 10" descr=""/>
            <p:cNvPicPr/>
            <p:nvPr/>
          </p:nvPicPr>
          <p:blipFill>
            <a:blip r:embed="rId4"/>
            <a:stretch/>
          </p:blipFill>
          <p:spPr>
            <a:xfrm>
              <a:off x="2066760" y="1420920"/>
              <a:ext cx="5596200" cy="49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071800" y="1428480"/>
              <a:ext cx="557352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2"/>
          <p:cNvSpPr/>
          <p:nvPr/>
        </p:nvSpPr>
        <p:spPr>
          <a:xfrm>
            <a:off x="307080" y="1285920"/>
            <a:ext cx="6959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3805"/>
                </a:solidFill>
                <a:latin typeface="Adventure"/>
              </a:rPr>
              <a:t>Подведение итогов, выставление оц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3805"/>
                </a:solidFill>
                <a:latin typeface="Adventure"/>
              </a:rPr>
              <a:t>Домашнее задание</a:t>
            </a:r>
            <a:r>
              <a:rPr b="0" lang="ru-RU" sz="2400" spc="-1" strike="noStrike">
                <a:solidFill>
                  <a:srgbClr val="753805"/>
                </a:solidFill>
                <a:latin typeface="Adventure"/>
              </a:rPr>
              <a:t>: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повторить прави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подготовиться к самостоятельной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решить №200, №213, №216, №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(сборник задач и контро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под редакцией А.Г. Мерзля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1967040" y="164304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Нет смысла в знаниях больш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Коль ты не применяеш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Всё обо всём и понемн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Закроет к истин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Ты связи главное пой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И их на деле пр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Не надо лишнее, пуст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А помни только основ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5"/>
          <p:cNvSpPr/>
          <p:nvPr/>
        </p:nvSpPr>
        <p:spPr>
          <a:xfrm>
            <a:off x="7286760" y="357120"/>
            <a:ext cx="1785960" cy="585792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5857920"/>
              <a:gd name="textAreaBottom" fmla="*/ 5770800 h 5857920"/>
            </a:gdLst>
            <a:ahLst/>
            <a:rect l="textAreaLeft" t="textAreaTop" r="textAreaRight" b="textAreaBottom"/>
            <a:pathLst>
              <a:path w="21600" h="70838">
                <a:moveTo>
                  <a:pt x="3600" y="0"/>
                </a:moveTo>
                <a:arcTo wR="3600" hR="3600" stAng="16200000" swAng="-5400000"/>
                <a:lnTo>
                  <a:pt x="0" y="67238"/>
                </a:lnTo>
                <a:arcTo wR="3600" hR="3600" stAng="10800000" swAng="-5400000"/>
                <a:lnTo>
                  <a:pt x="18000" y="70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6" descr="Ar.gif"/>
          <p:cNvPicPr/>
          <p:nvPr/>
        </p:nvPicPr>
        <p:blipFill>
          <a:blip r:embed="rId1"/>
          <a:stretch/>
        </p:blipFill>
        <p:spPr>
          <a:xfrm>
            <a:off x="7321680" y="353880"/>
            <a:ext cx="1699920" cy="68756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8" descr="lb.gif"/>
          <p:cNvPicPr/>
          <p:nvPr/>
        </p:nvPicPr>
        <p:blipFill>
          <a:blip r:embed="rId2"/>
          <a:stretch/>
        </p:blipFill>
        <p:spPr>
          <a:xfrm>
            <a:off x="139680" y="3676680"/>
            <a:ext cx="1762200" cy="4516560"/>
          </a:xfrm>
          <a:prstGeom prst="rect">
            <a:avLst/>
          </a:prstGeom>
          <a:ln w="0">
            <a:noFill/>
          </a:ln>
        </p:spPr>
      </p:pic>
      <p:grpSp>
        <p:nvGrpSpPr>
          <p:cNvPr id="432" name="Полилиния 9"/>
          <p:cNvGrpSpPr/>
          <p:nvPr/>
        </p:nvGrpSpPr>
        <p:grpSpPr>
          <a:xfrm>
            <a:off x="1066680" y="1420920"/>
            <a:ext cx="6596280" cy="4986000"/>
            <a:chOff x="1066680" y="1420920"/>
            <a:chExt cx="6596280" cy="4986000"/>
          </a:xfrm>
        </p:grpSpPr>
        <p:pic>
          <p:nvPicPr>
            <p:cNvPr id="433" name="Полилиния 9" descr=""/>
            <p:cNvPicPr/>
            <p:nvPr/>
          </p:nvPicPr>
          <p:blipFill>
            <a:blip r:embed="rId3"/>
            <a:stretch/>
          </p:blipFill>
          <p:spPr>
            <a:xfrm>
              <a:off x="1066680" y="1420920"/>
              <a:ext cx="6596280" cy="49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071720" y="1428480"/>
              <a:ext cx="657360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Box 10"/>
          <p:cNvSpPr/>
          <p:nvPr/>
        </p:nvSpPr>
        <p:spPr>
          <a:xfrm>
            <a:off x="4475880" y="45720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И.Н. Хол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elide\Desktop\картинки у уроку\1261321062_1pergam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682720" y="500040"/>
            <a:ext cx="43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dventure"/>
              </a:rPr>
              <a:t>Организац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86440" y="1357200"/>
            <a:ext cx="846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До изучения теоремы Пифагора мы смотрел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геометрию в замочную скважину, а теорем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«золотой ключик», позволяющий открыть дверь в удивительн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полную неожиданностей, страну «Геометр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Сегодня мы совершим путешествие по этой загадочно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70320" y="3000240"/>
            <a:ext cx="59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Для того что бы увидеть и узнать как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больше, создадим три туристически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Каждая группа пойдёт по своему маршр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36440" y="4071960"/>
            <a:ext cx="632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Чтобы наше путешествие прошло организова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и вы не заблудились в «джунглях геометр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каждую группу возглавит кап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Выберите самостоятельно капит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-571680" y="-928800"/>
            <a:ext cx="10429920" cy="8685360"/>
          </a:xfrm>
          <a:prstGeom prst="rect">
            <a:avLst/>
          </a:prstGeom>
          <a:ln w="0">
            <a:noFill/>
          </a:ln>
        </p:spPr>
      </p:pic>
      <p:pic>
        <p:nvPicPr>
          <p:cNvPr id="73" name="Таблица 3" descr=""/>
          <p:cNvPicPr/>
          <p:nvPr/>
        </p:nvPicPr>
        <p:blipFill>
          <a:blip r:embed="rId2"/>
          <a:stretch/>
        </p:blipFill>
        <p:spPr>
          <a:xfrm>
            <a:off x="139680" y="1925640"/>
            <a:ext cx="857736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72360" y="92880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dventure"/>
              </a:rPr>
              <a:t>Путевой жур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096560" y="5000760"/>
            <a:ext cx="64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dventure"/>
              </a:rPr>
              <a:t>путевые журналы получают капитаны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dventure"/>
              </a:rPr>
              <a:t>и заполняют после каждого кон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relide\Desktop\ывы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карта"/>
          <p:cNvPicPr/>
          <p:nvPr/>
        </p:nvPicPr>
        <p:blipFill>
          <a:blip r:embed="rId2"/>
          <a:stretch/>
        </p:blipFill>
        <p:spPr>
          <a:xfrm>
            <a:off x="1357200" y="357120"/>
            <a:ext cx="6643800" cy="500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032560" y="35712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dventure"/>
              </a:rPr>
              <a:t>Маршрут путеше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-163080" y="4786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«Собираем чемода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-2880" y="17146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Морской кру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2620440" y="857160"/>
            <a:ext cx="25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Отдых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острове Сам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6367320" y="12142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Поле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воздушном ша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7182720" y="4071960"/>
            <a:ext cx="159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Встр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у кос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3575520" y="48578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Лабири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"/>
          <p:cNvSpPr/>
          <p:nvPr/>
        </p:nvSpPr>
        <p:spPr>
          <a:xfrm rot="19713000">
            <a:off x="766800" y="2400120"/>
            <a:ext cx="1344600" cy="223668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2236680"/>
              <a:gd name="textAreaBottom" fmla="*/ 2237040 h 2236680"/>
            </a:gdLst>
            <a:ahLst/>
            <a:rect l="textAreaLeft" t="textAreaTop" r="textAreaRight" b="textAreaBottom"/>
            <a:pathLst>
              <a:path w="1096" h="1285">
                <a:moveTo>
                  <a:pt x="325" y="1285"/>
                </a:moveTo>
                <a:cubicBezTo>
                  <a:pt x="238" y="1156"/>
                  <a:pt x="151" y="1027"/>
                  <a:pt x="98" y="876"/>
                </a:cubicBezTo>
                <a:cubicBezTo>
                  <a:pt x="45" y="725"/>
                  <a:pt x="0" y="513"/>
                  <a:pt x="7" y="377"/>
                </a:cubicBezTo>
                <a:cubicBezTo>
                  <a:pt x="14" y="241"/>
                  <a:pt x="52" y="120"/>
                  <a:pt x="143" y="60"/>
                </a:cubicBezTo>
                <a:cubicBezTo>
                  <a:pt x="234" y="0"/>
                  <a:pt x="424" y="8"/>
                  <a:pt x="552" y="15"/>
                </a:cubicBezTo>
                <a:cubicBezTo>
                  <a:pt x="680" y="22"/>
                  <a:pt x="823" y="75"/>
                  <a:pt x="914" y="105"/>
                </a:cubicBezTo>
                <a:cubicBezTo>
                  <a:pt x="1005" y="135"/>
                  <a:pt x="1050" y="165"/>
                  <a:pt x="1096" y="1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 flipV="1" rot="21302400">
            <a:off x="1530360" y="2263320"/>
            <a:ext cx="2822400" cy="824040"/>
          </a:xfrm>
          <a:custGeom>
            <a:avLst/>
            <a:gdLst>
              <a:gd name="textAreaLeft" fmla="*/ 0 w 2822400"/>
              <a:gd name="textAreaRight" fmla="*/ 2822760 w 2822400"/>
              <a:gd name="textAreaTop" fmla="*/ -360 h 824040"/>
              <a:gd name="textAreaBottom" fmla="*/ 824040 h 824040"/>
            </a:gdLst>
            <a:ahLst/>
            <a:rect l="textAreaLeft" t="textAreaTop" r="textAreaRight" b="textAreaBottom"/>
            <a:pathLst>
              <a:path w="1051" h="363">
                <a:moveTo>
                  <a:pt x="53" y="340"/>
                </a:moveTo>
                <a:cubicBezTo>
                  <a:pt x="30" y="272"/>
                  <a:pt x="8" y="204"/>
                  <a:pt x="8" y="159"/>
                </a:cubicBezTo>
                <a:cubicBezTo>
                  <a:pt x="8" y="114"/>
                  <a:pt x="0" y="91"/>
                  <a:pt x="53" y="68"/>
                </a:cubicBezTo>
                <a:cubicBezTo>
                  <a:pt x="106" y="45"/>
                  <a:pt x="234" y="0"/>
                  <a:pt x="325" y="23"/>
                </a:cubicBezTo>
                <a:cubicBezTo>
                  <a:pt x="416" y="46"/>
                  <a:pt x="529" y="151"/>
                  <a:pt x="597" y="204"/>
                </a:cubicBezTo>
                <a:cubicBezTo>
                  <a:pt x="665" y="257"/>
                  <a:pt x="673" y="317"/>
                  <a:pt x="733" y="340"/>
                </a:cubicBezTo>
                <a:cubicBezTo>
                  <a:pt x="793" y="363"/>
                  <a:pt x="907" y="347"/>
                  <a:pt x="960" y="340"/>
                </a:cubicBezTo>
                <a:cubicBezTo>
                  <a:pt x="1013" y="333"/>
                  <a:pt x="1032" y="314"/>
                  <a:pt x="1051" y="295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 rot="7082400">
            <a:off x="5754960" y="2684880"/>
            <a:ext cx="2762280" cy="11030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2473" h="695">
                <a:moveTo>
                  <a:pt x="386" y="695"/>
                </a:moveTo>
                <a:cubicBezTo>
                  <a:pt x="280" y="687"/>
                  <a:pt x="174" y="680"/>
                  <a:pt x="114" y="650"/>
                </a:cubicBezTo>
                <a:cubicBezTo>
                  <a:pt x="54" y="620"/>
                  <a:pt x="0" y="559"/>
                  <a:pt x="23" y="514"/>
                </a:cubicBezTo>
                <a:cubicBezTo>
                  <a:pt x="46" y="469"/>
                  <a:pt x="159" y="408"/>
                  <a:pt x="250" y="378"/>
                </a:cubicBezTo>
                <a:cubicBezTo>
                  <a:pt x="341" y="348"/>
                  <a:pt x="470" y="332"/>
                  <a:pt x="568" y="332"/>
                </a:cubicBezTo>
                <a:cubicBezTo>
                  <a:pt x="666" y="332"/>
                  <a:pt x="727" y="363"/>
                  <a:pt x="840" y="378"/>
                </a:cubicBezTo>
                <a:cubicBezTo>
                  <a:pt x="953" y="393"/>
                  <a:pt x="1097" y="431"/>
                  <a:pt x="1248" y="423"/>
                </a:cubicBezTo>
                <a:cubicBezTo>
                  <a:pt x="1399" y="415"/>
                  <a:pt x="1656" y="377"/>
                  <a:pt x="1747" y="332"/>
                </a:cubicBezTo>
                <a:cubicBezTo>
                  <a:pt x="1838" y="287"/>
                  <a:pt x="1754" y="204"/>
                  <a:pt x="1792" y="151"/>
                </a:cubicBezTo>
                <a:cubicBezTo>
                  <a:pt x="1830" y="98"/>
                  <a:pt x="1891" y="30"/>
                  <a:pt x="1974" y="15"/>
                </a:cubicBezTo>
                <a:cubicBezTo>
                  <a:pt x="2057" y="0"/>
                  <a:pt x="2208" y="37"/>
                  <a:pt x="2291" y="60"/>
                </a:cubicBezTo>
                <a:cubicBezTo>
                  <a:pt x="2374" y="83"/>
                  <a:pt x="2423" y="117"/>
                  <a:pt x="2473" y="151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4286160" y="1785960"/>
            <a:ext cx="2786040" cy="46656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1083" h="294">
                <a:moveTo>
                  <a:pt x="43" y="292"/>
                </a:moveTo>
                <a:cubicBezTo>
                  <a:pt x="35" y="265"/>
                  <a:pt x="6" y="168"/>
                  <a:pt x="8" y="129"/>
                </a:cubicBezTo>
                <a:cubicBezTo>
                  <a:pt x="10" y="90"/>
                  <a:pt x="0" y="74"/>
                  <a:pt x="55" y="55"/>
                </a:cubicBezTo>
                <a:cubicBezTo>
                  <a:pt x="110" y="36"/>
                  <a:pt x="242" y="0"/>
                  <a:pt x="336" y="19"/>
                </a:cubicBezTo>
                <a:cubicBezTo>
                  <a:pt x="431" y="37"/>
                  <a:pt x="548" y="122"/>
                  <a:pt x="618" y="165"/>
                </a:cubicBezTo>
                <a:cubicBezTo>
                  <a:pt x="688" y="208"/>
                  <a:pt x="697" y="257"/>
                  <a:pt x="759" y="275"/>
                </a:cubicBezTo>
                <a:cubicBezTo>
                  <a:pt x="821" y="294"/>
                  <a:pt x="940" y="286"/>
                  <a:pt x="994" y="275"/>
                </a:cubicBezTo>
                <a:cubicBezTo>
                  <a:pt x="1048" y="264"/>
                  <a:pt x="1065" y="225"/>
                  <a:pt x="1083" y="212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 rot="10800000">
            <a:off x="4428720" y="4571640"/>
            <a:ext cx="2536920" cy="81108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051" h="363">
                <a:moveTo>
                  <a:pt x="53" y="340"/>
                </a:moveTo>
                <a:cubicBezTo>
                  <a:pt x="30" y="272"/>
                  <a:pt x="8" y="204"/>
                  <a:pt x="8" y="159"/>
                </a:cubicBezTo>
                <a:cubicBezTo>
                  <a:pt x="8" y="114"/>
                  <a:pt x="0" y="91"/>
                  <a:pt x="53" y="68"/>
                </a:cubicBezTo>
                <a:cubicBezTo>
                  <a:pt x="106" y="45"/>
                  <a:pt x="234" y="0"/>
                  <a:pt x="325" y="23"/>
                </a:cubicBezTo>
                <a:cubicBezTo>
                  <a:pt x="416" y="46"/>
                  <a:pt x="529" y="151"/>
                  <a:pt x="597" y="204"/>
                </a:cubicBezTo>
                <a:cubicBezTo>
                  <a:pt x="665" y="257"/>
                  <a:pt x="673" y="317"/>
                  <a:pt x="733" y="340"/>
                </a:cubicBezTo>
                <a:cubicBezTo>
                  <a:pt x="793" y="363"/>
                  <a:pt x="907" y="347"/>
                  <a:pt x="960" y="340"/>
                </a:cubicBezTo>
                <a:cubicBezTo>
                  <a:pt x="1013" y="333"/>
                  <a:pt x="1032" y="314"/>
                  <a:pt x="1051" y="295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140400" y="204948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устное решение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2556000" y="150012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разгадать кроссвор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7215120" y="18572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доказ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теоремы Пифаго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0"/>
          <p:cNvSpPr/>
          <p:nvPr/>
        </p:nvSpPr>
        <p:spPr>
          <a:xfrm>
            <a:off x="7009920" y="485784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коллектив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решение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3654000" y="5143680"/>
            <a:ext cx="16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решение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"/>
          <p:cNvSpPr/>
          <p:nvPr/>
        </p:nvSpPr>
        <p:spPr>
          <a:xfrm>
            <a:off x="496080" y="5072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фронтальный опро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:\Users\relide\Desktop\картинки у уроку\віапівп.png"/>
          <p:cNvPicPr/>
          <p:nvPr/>
        </p:nvPicPr>
        <p:blipFill>
          <a:blip r:embed="rId3"/>
          <a:stretch/>
        </p:blipFill>
        <p:spPr>
          <a:xfrm>
            <a:off x="7500960" y="550080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24"/>
          <p:cNvSpPr/>
          <p:nvPr/>
        </p:nvSpPr>
        <p:spPr>
          <a:xfrm>
            <a:off x="7854840" y="58579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ашивка 25"/>
          <p:cNvSpPr/>
          <p:nvPr/>
        </p:nvSpPr>
        <p:spPr>
          <a:xfrm>
            <a:off x="8358120" y="601020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relide\Desktop\картинки у уроку\trav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S00554_"/>
          <p:cNvPicPr/>
          <p:nvPr/>
        </p:nvPicPr>
        <p:blipFill>
          <a:blip r:embed="rId2"/>
          <a:stretch/>
        </p:blipFill>
        <p:spPr>
          <a:xfrm>
            <a:off x="7072200" y="4429080"/>
            <a:ext cx="1524240" cy="1328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9"/>
          <p:cNvSpPr/>
          <p:nvPr/>
        </p:nvSpPr>
        <p:spPr>
          <a:xfrm>
            <a:off x="357120" y="285840"/>
            <a:ext cx="2033640" cy="1006560"/>
          </a:xfrm>
          <a:prstGeom prst="wedgeRoundRectCallout">
            <a:avLst>
              <a:gd name="adj1" fmla="val 67189"/>
              <a:gd name="adj2" fmla="val 94069"/>
              <a:gd name="adj3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(«Начала» Евкли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 flipH="1">
            <a:off x="6429240" y="571680"/>
            <a:ext cx="2286000" cy="1006200"/>
          </a:xfrm>
          <a:prstGeom prst="wedgeRoundRectCallout">
            <a:avLst>
              <a:gd name="adj1" fmla="val 67189"/>
              <a:gd name="adj2" fmla="val 9406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Современная формулировка теоремы Пифаг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 flipV="1">
            <a:off x="6786720" y="2928240"/>
            <a:ext cx="2133360" cy="733320"/>
          </a:xfrm>
          <a:prstGeom prst="wedgeRoundRectCallout">
            <a:avLst>
              <a:gd name="adj1" fmla="val -85953"/>
              <a:gd name="adj2" fmla="val -61634"/>
              <a:gd name="adj3" fmla="val 1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860880" y="2928960"/>
            <a:ext cx="195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, обра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е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4143240" y="1285920"/>
            <a:ext cx="1600200" cy="838080"/>
          </a:xfrm>
          <a:prstGeom prst="wedgeRoundRectCallout">
            <a:avLst>
              <a:gd name="adj1" fmla="val 90078"/>
              <a:gd name="adj2" fmla="val 7291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аклонные и их про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3500280" y="4500720"/>
            <a:ext cx="1752840" cy="761760"/>
          </a:xfrm>
          <a:prstGeom prst="wedgeRoundRectCallout">
            <a:avLst>
              <a:gd name="adj1" fmla="val 23046"/>
              <a:gd name="adj2" fmla="val -174018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гипетски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0"/>
          <p:cNvSpPr/>
          <p:nvPr/>
        </p:nvSpPr>
        <p:spPr>
          <a:xfrm flipH="1">
            <a:off x="856440" y="1857240"/>
            <a:ext cx="1785960" cy="838440"/>
          </a:xfrm>
          <a:prstGeom prst="wedgeRoundRectCallout">
            <a:avLst>
              <a:gd name="adj1" fmla="val -84749"/>
              <a:gd name="adj2" fmla="val 8712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Неравенств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8"/>
          <p:cNvSpPr/>
          <p:nvPr/>
        </p:nvSpPr>
        <p:spPr>
          <a:xfrm flipH="1" flipV="1">
            <a:off x="1643040" y="3643200"/>
            <a:ext cx="1571760" cy="733680"/>
          </a:xfrm>
          <a:prstGeom prst="wedgeRoundRectCallout">
            <a:avLst>
              <a:gd name="adj1" fmla="val -57148"/>
              <a:gd name="adj2" fmla="val 127560"/>
              <a:gd name="adj3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762200" y="3714840"/>
            <a:ext cx="14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й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2"/>
          <p:cNvSpPr/>
          <p:nvPr/>
        </p:nvSpPr>
        <p:spPr>
          <a:xfrm>
            <a:off x="142920" y="4786200"/>
            <a:ext cx="2457360" cy="1409760"/>
          </a:xfrm>
          <a:prstGeom prst="wedgeRoundRectCallout">
            <a:avLst>
              <a:gd name="adj1" fmla="val 111967"/>
              <a:gd name="adj2" fmla="val -10895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relide\Desktop\sdgga.png"/>
          <p:cNvPicPr/>
          <p:nvPr/>
        </p:nvPicPr>
        <p:blipFill>
          <a:blip r:embed="rId4"/>
          <a:stretch/>
        </p:blipFill>
        <p:spPr>
          <a:xfrm>
            <a:off x="428760" y="4714920"/>
            <a:ext cx="1963440" cy="15717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0"/>
          <p:cNvSpPr/>
          <p:nvPr/>
        </p:nvSpPr>
        <p:spPr>
          <a:xfrm flipH="1">
            <a:off x="6143040" y="4714920"/>
            <a:ext cx="2428920" cy="1643040"/>
          </a:xfrm>
          <a:prstGeom prst="wedgeRoundRectCallout">
            <a:avLst>
              <a:gd name="adj1" fmla="val 75064"/>
              <a:gd name="adj2" fmla="val -7110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Users\relide\Desktop\sgsdfg.png"/>
          <p:cNvPicPr/>
          <p:nvPr/>
        </p:nvPicPr>
        <p:blipFill>
          <a:blip r:embed="rId5"/>
          <a:stretch/>
        </p:blipFill>
        <p:spPr>
          <a:xfrm>
            <a:off x="6286680" y="4429080"/>
            <a:ext cx="2428560" cy="194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relide\Desktop\картинки у уроку\віапівп.png"/>
          <p:cNvPicPr/>
          <p:nvPr/>
        </p:nvPicPr>
        <p:blipFill>
          <a:blip r:embed="rId6"/>
          <a:stretch/>
        </p:blipFill>
        <p:spPr>
          <a:xfrm>
            <a:off x="3714840" y="5643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7"/>
          <p:cNvSpPr/>
          <p:nvPr/>
        </p:nvSpPr>
        <p:spPr>
          <a:xfrm>
            <a:off x="4068360" y="6000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ашивка 18"/>
          <p:cNvSpPr/>
          <p:nvPr/>
        </p:nvSpPr>
        <p:spPr>
          <a:xfrm>
            <a:off x="4572000" y="615312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71880" y="8373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b3305"/>
                </a:solidFill>
                <a:latin typeface="Adventure"/>
                <a:ea typeface="Times New Roman"/>
              </a:rPr>
              <a:t>Геометрия – это широкий роскошный пейзаж, открытый всем тем, кому мышление доставляет настоящую рад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b3305"/>
                </a:solidFill>
                <a:latin typeface="Adventure"/>
                <a:ea typeface="Times New Roman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6b3305"/>
                </a:solidFill>
                <a:latin typeface="Adventure"/>
                <a:ea typeface="Times New Roman"/>
              </a:rPr>
              <a:t>В.Фу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Свиток"/>
          <p:cNvPicPr/>
          <p:nvPr/>
        </p:nvPicPr>
        <p:blipFill>
          <a:blip r:embed="rId1"/>
          <a:stretch/>
        </p:blipFill>
        <p:spPr>
          <a:xfrm>
            <a:off x="6429240" y="2071800"/>
            <a:ext cx="2292480" cy="46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Свиток"/>
          <p:cNvPicPr/>
          <p:nvPr/>
        </p:nvPicPr>
        <p:blipFill>
          <a:blip r:embed="rId2"/>
          <a:stretch/>
        </p:blipFill>
        <p:spPr>
          <a:xfrm>
            <a:off x="3429000" y="2071800"/>
            <a:ext cx="2292480" cy="46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Свиток"/>
          <p:cNvPicPr/>
          <p:nvPr/>
        </p:nvPicPr>
        <p:blipFill>
          <a:blip r:embed="rId3"/>
          <a:stretch/>
        </p:blipFill>
        <p:spPr>
          <a:xfrm>
            <a:off x="500040" y="2071800"/>
            <a:ext cx="2292480" cy="4643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225252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Лови ошиб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3571920" y="2098800"/>
            <a:ext cx="21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Найди пери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500880" y="2286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Найди сторо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C:\Users\relide\Desktop\sdgdfgh.png"/>
          <p:cNvPicPr/>
          <p:nvPr/>
        </p:nvPicPr>
        <p:blipFill>
          <a:blip r:embed="rId4"/>
          <a:stretch/>
        </p:blipFill>
        <p:spPr>
          <a:xfrm>
            <a:off x="6786720" y="2725560"/>
            <a:ext cx="1779480" cy="134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Users\relide\Desktop\ttghjjtgj.png"/>
          <p:cNvPicPr/>
          <p:nvPr/>
        </p:nvPicPr>
        <p:blipFill>
          <a:blip r:embed="rId5"/>
          <a:stretch/>
        </p:blipFill>
        <p:spPr>
          <a:xfrm>
            <a:off x="6715080" y="5369040"/>
            <a:ext cx="1779480" cy="134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Users\relide\Desktop\sdfgfgdfg.png"/>
          <p:cNvPicPr/>
          <p:nvPr/>
        </p:nvPicPr>
        <p:blipFill>
          <a:blip r:embed="rId6"/>
          <a:stretch/>
        </p:blipFill>
        <p:spPr>
          <a:xfrm>
            <a:off x="6715080" y="4083120"/>
            <a:ext cx="1779480" cy="134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relide\Desktop\wegsdg.png"/>
          <p:cNvPicPr/>
          <p:nvPr/>
        </p:nvPicPr>
        <p:blipFill>
          <a:blip r:embed="rId7"/>
          <a:stretch/>
        </p:blipFill>
        <p:spPr>
          <a:xfrm>
            <a:off x="785880" y="5214960"/>
            <a:ext cx="177948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relide\Desktop\001.png"/>
          <p:cNvPicPr/>
          <p:nvPr/>
        </p:nvPicPr>
        <p:blipFill>
          <a:blip r:embed="rId8"/>
          <a:stretch/>
        </p:blipFill>
        <p:spPr>
          <a:xfrm>
            <a:off x="857160" y="4000680"/>
            <a:ext cx="1704960" cy="128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relide\Desktop\fsdfg.png"/>
          <p:cNvPicPr/>
          <p:nvPr/>
        </p:nvPicPr>
        <p:blipFill>
          <a:blip r:embed="rId9"/>
          <a:stretch/>
        </p:blipFill>
        <p:spPr>
          <a:xfrm>
            <a:off x="857160" y="2786040"/>
            <a:ext cx="1779840" cy="134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relide\Desktop\dsfg.png"/>
          <p:cNvPicPr/>
          <p:nvPr/>
        </p:nvPicPr>
        <p:blipFill>
          <a:blip r:embed="rId10"/>
          <a:stretch/>
        </p:blipFill>
        <p:spPr>
          <a:xfrm>
            <a:off x="3714840" y="5297400"/>
            <a:ext cx="1779480" cy="1346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relide\Desktop\выаывпып.png"/>
          <p:cNvPicPr/>
          <p:nvPr/>
        </p:nvPicPr>
        <p:blipFill>
          <a:blip r:embed="rId11"/>
          <a:stretch/>
        </p:blipFill>
        <p:spPr>
          <a:xfrm>
            <a:off x="3643200" y="2782800"/>
            <a:ext cx="1790640" cy="1360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relide\Desktop\8н8щ0н.png"/>
          <p:cNvPicPr/>
          <p:nvPr/>
        </p:nvPicPr>
        <p:blipFill>
          <a:blip r:embed="rId12"/>
          <a:stretch/>
        </p:blipFill>
        <p:spPr>
          <a:xfrm>
            <a:off x="3714840" y="4075200"/>
            <a:ext cx="1790640" cy="1353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3"/>
          <p:cNvSpPr/>
          <p:nvPr/>
        </p:nvSpPr>
        <p:spPr>
          <a:xfrm>
            <a:off x="1143000" y="6357960"/>
            <a:ext cx="3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venture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4"/>
          <p:cNvSpPr/>
          <p:nvPr/>
        </p:nvSpPr>
        <p:spPr>
          <a:xfrm>
            <a:off x="4429080" y="6416640"/>
            <a:ext cx="3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ventur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5"/>
          <p:cNvSpPr/>
          <p:nvPr/>
        </p:nvSpPr>
        <p:spPr>
          <a:xfrm>
            <a:off x="7431120" y="6429240"/>
            <a:ext cx="3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venture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Свиток"/>
          <p:cNvPicPr/>
          <p:nvPr/>
        </p:nvPicPr>
        <p:blipFill>
          <a:blip r:embed="rId13"/>
          <a:stretch/>
        </p:blipFill>
        <p:spPr>
          <a:xfrm>
            <a:off x="2143080" y="71280"/>
            <a:ext cx="4483080" cy="8035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2347920" y="262080"/>
            <a:ext cx="44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dventure"/>
              </a:rPr>
              <a:t>Устное 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C:\Users\relide\Desktop\картинки у уроку\diving_ocean-792387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relide\Desktop\картинки у уроку\santam.png"/>
          <p:cNvPicPr/>
          <p:nvPr/>
        </p:nvPicPr>
        <p:blipFill>
          <a:blip r:embed="rId15"/>
          <a:stretch/>
        </p:blipFill>
        <p:spPr>
          <a:xfrm>
            <a:off x="785880" y="500040"/>
            <a:ext cx="2759040" cy="23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relide\Desktop\картинки у уроку\31-englishmerchantship.png"/>
          <p:cNvPicPr/>
          <p:nvPr/>
        </p:nvPicPr>
        <p:blipFill>
          <a:blip r:embed="rId16"/>
          <a:stretch/>
        </p:blipFill>
        <p:spPr>
          <a:xfrm>
            <a:off x="3857760" y="2643120"/>
            <a:ext cx="4168800" cy="2890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2"/>
          <p:cNvSpPr/>
          <p:nvPr/>
        </p:nvSpPr>
        <p:spPr>
          <a:xfrm>
            <a:off x="1593720" y="5715000"/>
            <a:ext cx="58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dventure"/>
              </a:rPr>
              <a:t>Морской круи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Users\relide\Desktop\картинки у уроку\wofs_ship_wealth.png"/>
          <p:cNvPicPr/>
          <p:nvPr/>
        </p:nvPicPr>
        <p:blipFill>
          <a:blip r:embed="rId17"/>
          <a:stretch/>
        </p:blipFill>
        <p:spPr>
          <a:xfrm>
            <a:off x="4929120" y="0"/>
            <a:ext cx="3562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0.90712 -0.00115 E">
                                      <p:cBhvr>
                                        <p:cTn id="272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3632E-006 L -0.49236 0.00463 E">
                                      <p:cBhvr>
                                        <p:cTn id="27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L 0.75764 0.00301 E">
                                      <p:cBhvr>
                                        <p:cTn id="27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6:23:05Z</dcterms:created>
  <dc:creator>Val</dc:creator>
  <dc:description/>
  <dc:language>en-US</dc:language>
  <cp:lastModifiedBy>Холодных</cp:lastModifiedBy>
  <dcterms:modified xsi:type="dcterms:W3CDTF">2014-03-16T19:39:06Z</dcterms:modified>
  <cp:revision>2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3b000000000001024140</vt:lpwstr>
  </property>
</Properties>
</file>