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3.gif" ContentType="image/gif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8.gif" ContentType="image/gif"/>
  <Override PartName="/ppt/media/image45.png" ContentType="image/png"/>
  <Override PartName="/ppt/media/image46.png" ContentType="image/png"/>
  <Override PartName="/ppt/media/image48.png" ContentType="image/png"/>
  <Override PartName="/ppt/media/image13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4.jpeg" ContentType="image/jpeg"/>
  <Override PartName="/ppt/media/image37.png" ContentType="image/png"/>
  <Override PartName="/ppt/media/image31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54A5-211C-46C7-B18D-6CDF71CE9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0EF3-D8C7-41AB-92CD-62980B00F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5A0-B1B4-4FE3-9B34-BD9292D8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37A-A600-4987-A39E-703A8622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566-1CB3-4A4D-95EA-B8BB66C9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D69-DAA9-4199-9F5D-B0AF942F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07C-10A1-4574-B18F-1E360963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A1F-7934-482A-A557-5B93DB5E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619-5635-4FC5-BDB7-8E4463C3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F20-3F0E-4828-8B41-9713BCFE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888-80D4-4AE3-BE56-8F6E0CAF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41C-7C48-430A-BAFE-9EA7FC12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154-DDB4-4059-80A7-97341B9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FFE-DB3F-4D47-BE29-0BF6AC33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ab"/>
            </a:gs>
            <a:gs pos="100000">
              <a:srgbClr val="cab99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3340-D2E4-4EC1-87ED-E34340244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8.gif"/><Relationship Id="rId8" Type="http://schemas.openxmlformats.org/officeDocument/2006/relationships/image" Target="../media/image34.jpe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3.gif"/><Relationship Id="rId3" Type="http://schemas.openxmlformats.org/officeDocument/2006/relationships/image" Target="../media/image43.gif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9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15.pn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relide\Desktop\картинки у уроку\1261321062_1pergame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7" descr=""/>
          <p:cNvPicPr/>
          <p:nvPr/>
        </p:nvPicPr>
        <p:blipFill>
          <a:blip r:embed="rId2"/>
          <a:stretch/>
        </p:blipFill>
        <p:spPr>
          <a:xfrm>
            <a:off x="1762200" y="1584360"/>
            <a:ext cx="5931000" cy="11034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8" descr=""/>
          <p:cNvPicPr/>
          <p:nvPr/>
        </p:nvPicPr>
        <p:blipFill>
          <a:blip r:embed="rId3"/>
          <a:stretch/>
        </p:blipFill>
        <p:spPr>
          <a:xfrm>
            <a:off x="3230640" y="360360"/>
            <a:ext cx="3322440" cy="6699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9" descr=""/>
          <p:cNvPicPr/>
          <p:nvPr/>
        </p:nvPicPr>
        <p:blipFill>
          <a:blip r:embed="rId4"/>
          <a:stretch/>
        </p:blipFill>
        <p:spPr>
          <a:xfrm>
            <a:off x="2425680" y="2371680"/>
            <a:ext cx="4267080" cy="8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"/>
          <p:cNvSpPr/>
          <p:nvPr/>
        </p:nvSpPr>
        <p:spPr>
          <a:xfrm>
            <a:off x="567000" y="5357880"/>
            <a:ext cx="79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2020"/>
                </a:solidFill>
                <a:latin typeface="Adventure"/>
              </a:rPr>
              <a:t>Методическая разработка учителя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2020"/>
                </a:solidFill>
                <a:latin typeface="Adventure"/>
              </a:rPr>
              <a:t>Донецкой ОШ №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2020"/>
                </a:solidFill>
                <a:latin typeface="Adventure"/>
              </a:rPr>
              <a:t>Холодных И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1" descr="карта"/>
          <p:cNvPicPr/>
          <p:nvPr/>
        </p:nvPicPr>
        <p:blipFill>
          <a:blip r:embed="rId1"/>
          <a:stretch/>
        </p:blipFill>
        <p:spPr>
          <a:xfrm>
            <a:off x="285840" y="2000160"/>
            <a:ext cx="4244760" cy="401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карта"/>
          <p:cNvPicPr/>
          <p:nvPr/>
        </p:nvPicPr>
        <p:blipFill>
          <a:blip r:embed="rId2"/>
          <a:stretch/>
        </p:blipFill>
        <p:spPr>
          <a:xfrm>
            <a:off x="928800" y="285840"/>
            <a:ext cx="757224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571680" y="2357280"/>
          <a:ext cx="3708360" cy="3368880"/>
        </p:xfrm>
        <a:graphic>
          <a:graphicData uri="http://schemas.openxmlformats.org/drawingml/2006/table">
            <a:tbl>
              <a:tblPr/>
              <a:tblGrid>
                <a:gridCol w="412560"/>
                <a:gridCol w="411120"/>
                <a:gridCol w="412920"/>
                <a:gridCol w="411120"/>
                <a:gridCol w="412560"/>
                <a:gridCol w="411120"/>
                <a:gridCol w="412920"/>
                <a:gridCol w="411120"/>
                <a:gridCol w="412920"/>
              </a:tblGrid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214960" y="2286000"/>
          <a:ext cx="3708360" cy="3425760"/>
        </p:xfrm>
        <a:graphic>
          <a:graphicData uri="http://schemas.openxmlformats.org/drawingml/2006/table">
            <a:tbl>
              <a:tblPr/>
              <a:tblGrid>
                <a:gridCol w="412560"/>
                <a:gridCol w="411480"/>
                <a:gridCol w="412560"/>
                <a:gridCol w="411120"/>
                <a:gridCol w="412920"/>
                <a:gridCol w="411120"/>
                <a:gridCol w="412560"/>
                <a:gridCol w="411480"/>
                <a:gridCol w="412560"/>
              </a:tblGrid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Bookman Old Style"/>
                          <a:ea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abf8f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Bookman Old Style"/>
                          <a:ea typeface="Trebuchet MS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abf8f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abf8f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abf8f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2d05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Bookman Old Style"/>
                          <a:ea typeface="Trebuchet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Bookman Old Style"/>
                          <a:ea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rebuchet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735db"/>
                          </a:solidFill>
                          <a:latin typeface="Bookman Old Style"/>
                          <a:ea typeface="Trebuchet MS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7"/>
          <p:cNvSpPr/>
          <p:nvPr/>
        </p:nvSpPr>
        <p:spPr>
          <a:xfrm>
            <a:off x="1651320" y="714240"/>
            <a:ext cx="59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dventure"/>
              </a:rPr>
              <a:t>Скандинавский кроссв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1"/>
          <p:cNvSpPr/>
          <p:nvPr/>
        </p:nvSpPr>
        <p:spPr>
          <a:xfrm>
            <a:off x="4929120" y="59342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противолежащий, угол, Самос, шко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теорема, гипотенуза, кат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треугольник,  прямоугольный, Пиф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карта"/>
          <p:cNvPicPr/>
          <p:nvPr/>
        </p:nvPicPr>
        <p:blipFill>
          <a:blip r:embed="rId3"/>
          <a:stretch/>
        </p:blipFill>
        <p:spPr>
          <a:xfrm>
            <a:off x="4786200" y="1928880"/>
            <a:ext cx="4245120" cy="401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карта др грец"/>
          <p:cNvPicPr/>
          <p:nvPr/>
        </p:nvPicPr>
        <p:blipFill>
          <a:blip r:embed="rId4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 rot="20747400">
            <a:off x="3879720" y="4098960"/>
            <a:ext cx="3095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092000"/>
                </a:gradFill>
                <a:latin typeface="Viner Hand ITC"/>
              </a:rPr>
              <a:t>о. Само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092000"/>
              </a:gradFill>
              <a:latin typeface="Viner Hand ITC"/>
              <a:ea typeface="Viner Hand ITC"/>
            </a:endParaRPr>
          </a:p>
        </p:txBody>
      </p:sp>
      <p:sp>
        <p:nvSpPr>
          <p:cNvPr id="154" name="AutoShape 9"/>
          <p:cNvSpPr/>
          <p:nvPr/>
        </p:nvSpPr>
        <p:spPr>
          <a:xfrm rot="19515000">
            <a:off x="6581520" y="3676680"/>
            <a:ext cx="577800" cy="216000"/>
          </a:xfrm>
          <a:prstGeom prst="rightArrow">
            <a:avLst>
              <a:gd name="adj1" fmla="val 50000"/>
              <a:gd name="adj2" fmla="val 66875"/>
            </a:avLst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80523E-006 L 0.53194 -0.00023 E">
                                      <p:cBhvr>
                                        <p:cTn id="327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551600" y="1857240"/>
            <a:ext cx="62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Запол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путевой журна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C:\Users\relide\Desktop\Рисунок1.png"/>
          <p:cNvPicPr/>
          <p:nvPr/>
        </p:nvPicPr>
        <p:blipFill>
          <a:blip r:embed="rId1"/>
          <a:stretch/>
        </p:blipFill>
        <p:spPr>
          <a:xfrm>
            <a:off x="6072120" y="3071880"/>
            <a:ext cx="2571840" cy="25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" descr="C:\Users\relide\Desktop\Рисунок1.png"/>
          <p:cNvPicPr/>
          <p:nvPr/>
        </p:nvPicPr>
        <p:blipFill>
          <a:blip r:embed="rId2"/>
          <a:stretch/>
        </p:blipFill>
        <p:spPr>
          <a:xfrm>
            <a:off x="3214800" y="3071880"/>
            <a:ext cx="2571480" cy="2500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" descr="C:\Users\relide\Desktop\Рисунок1.png"/>
          <p:cNvPicPr/>
          <p:nvPr/>
        </p:nvPicPr>
        <p:blipFill>
          <a:blip r:embed="rId3"/>
          <a:stretch/>
        </p:blipFill>
        <p:spPr>
          <a:xfrm>
            <a:off x="428760" y="3071880"/>
            <a:ext cx="2571480" cy="2500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Users\relide\Desktop\dffw.png"/>
          <p:cNvPicPr/>
          <p:nvPr/>
        </p:nvPicPr>
        <p:blipFill>
          <a:blip r:embed="rId4"/>
          <a:stretch/>
        </p:blipFill>
        <p:spPr>
          <a:xfrm>
            <a:off x="571680" y="32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relide\Desktop\asfsaf.png"/>
          <p:cNvPicPr/>
          <p:nvPr/>
        </p:nvPicPr>
        <p:blipFill>
          <a:blip r:embed="rId5"/>
          <a:stretch/>
        </p:blipFill>
        <p:spPr>
          <a:xfrm>
            <a:off x="3429000" y="32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C:\Users\relide\Desktop\34234.png"/>
          <p:cNvPicPr/>
          <p:nvPr/>
        </p:nvPicPr>
        <p:blipFill>
          <a:blip r:embed="rId6"/>
          <a:stretch/>
        </p:blipFill>
        <p:spPr>
          <a:xfrm>
            <a:off x="6215040" y="3214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409400" y="557208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dventur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4268880" y="556884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dventur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7133040" y="550080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dventur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карта"/>
          <p:cNvPicPr/>
          <p:nvPr/>
        </p:nvPicPr>
        <p:blipFill>
          <a:blip r:embed="rId7"/>
          <a:stretch/>
        </p:blipFill>
        <p:spPr>
          <a:xfrm>
            <a:off x="642960" y="357120"/>
            <a:ext cx="8001000" cy="10000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2"/>
          <p:cNvSpPr/>
          <p:nvPr/>
        </p:nvSpPr>
        <p:spPr>
          <a:xfrm>
            <a:off x="4783680" y="1643040"/>
            <a:ext cx="469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dventure"/>
              </a:rPr>
              <a:t>Математика это полё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dventure"/>
              </a:rPr>
              <a:t>Геометрия это полёт на воздушном ша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1919880" y="57168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dventure"/>
              </a:rPr>
              <a:t>Доказать теорему Пифа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relide\Desktop\картинки у уроку\Green-grass-blue-sky_1920x1200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Users\relide\Desktop\картинки у уроку\1192821581_0lik.png"/>
          <p:cNvPicPr/>
          <p:nvPr/>
        </p:nvPicPr>
        <p:blipFill>
          <a:blip r:embed="rId9"/>
          <a:stretch/>
        </p:blipFill>
        <p:spPr>
          <a:xfrm>
            <a:off x="-214200" y="2535120"/>
            <a:ext cx="3286080" cy="488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Users\relide\Desktop\картинки у уроку\F2413183.png"/>
          <p:cNvPicPr/>
          <p:nvPr/>
        </p:nvPicPr>
        <p:blipFill>
          <a:blip r:embed="rId10"/>
          <a:stretch/>
        </p:blipFill>
        <p:spPr>
          <a:xfrm>
            <a:off x="3000240" y="3143160"/>
            <a:ext cx="3376800" cy="4702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Users\relide\Desktop\картинки у уроку\1285306552_2.png"/>
          <p:cNvPicPr/>
          <p:nvPr/>
        </p:nvPicPr>
        <p:blipFill>
          <a:blip r:embed="rId11"/>
          <a:stretch/>
        </p:blipFill>
        <p:spPr>
          <a:xfrm>
            <a:off x="5786280" y="3357720"/>
            <a:ext cx="4195800" cy="37908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8"/>
          <p:cNvSpPr/>
          <p:nvPr/>
        </p:nvSpPr>
        <p:spPr>
          <a:xfrm>
            <a:off x="-391680" y="357120"/>
            <a:ext cx="98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dventure"/>
              </a:rPr>
              <a:t>Полет на воздушном ша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44444E-006 L -0.00278 -0.59328 E">
                                      <p:cBhvr>
                                        <p:cTn id="35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0.00313 -0.75255 E">
                                      <p:cBhvr>
                                        <p:cTn id="35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00018 -0.6125 E">
                                      <p:cBhvr>
                                        <p:cTn id="36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20000" y="2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551600" y="1857240"/>
            <a:ext cx="62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Запол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путевой журна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relide\Desktop\картинки у уроку\8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1619640" y="357120"/>
            <a:ext cx="647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dventure"/>
              </a:rPr>
              <a:t>Встреча у кост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4565880" y="585792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dventure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dventure"/>
              </a:rPr>
              <a:t>коллективное решение зада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dventure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dventure"/>
              </a:rPr>
              <a:t>по готовым чертеж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6"/>
          <p:cNvSpPr/>
          <p:nvPr/>
        </p:nvSpPr>
        <p:spPr>
          <a:xfrm flipV="1" rot="16200000">
            <a:off x="990000" y="-342720"/>
            <a:ext cx="1733760" cy="3143160"/>
          </a:xfrm>
          <a:prstGeom prst="rtTriangl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4"/>
          <p:cNvSpPr/>
          <p:nvPr/>
        </p:nvSpPr>
        <p:spPr>
          <a:xfrm flipV="1">
            <a:off x="285840" y="928440"/>
            <a:ext cx="1071360" cy="11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-71280" y="21420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3321000" y="207180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0" y="204804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214280" y="571680"/>
            <a:ext cx="2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714240" y="35712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2214720" y="1143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0" y="1071720"/>
            <a:ext cx="2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1643040" y="20718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285840" y="1893960"/>
            <a:ext cx="180720" cy="182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уга 17"/>
          <p:cNvSpPr/>
          <p:nvPr/>
        </p:nvSpPr>
        <p:spPr>
          <a:xfrm rot="1987200">
            <a:off x="201240" y="1805040"/>
            <a:ext cx="431640" cy="333360"/>
          </a:xfrm>
          <a:custGeom>
            <a:avLst/>
            <a:gdLst>
              <a:gd name="textAreaLeft" fmla="*/ 216000 w 431640"/>
              <a:gd name="textAreaRight" fmla="*/ 432000 w 431640"/>
              <a:gd name="textAreaTop" fmla="*/ 0 h 333360"/>
              <a:gd name="textAreaBottom" fmla="*/ 166680 h 333360"/>
            </a:gdLst>
            <a:ahLst/>
            <a:rect l="textAreaLeft" t="textAreaTop" r="textAreaRight" b="textAreaBottom"/>
            <a:pathLst>
              <a:path stroke="0" w="431800" h="333375">
                <a:moveTo>
                  <a:pt x="215900" y="0"/>
                </a:moveTo>
                <a:lnTo>
                  <a:pt x="215900" y="0"/>
                </a:lnTo>
                <a:arcTo wR="215900" hR="166688" stAng="-5400000" swAng="5400016"/>
                <a:lnTo>
                  <a:pt x="215900" y="166688"/>
                </a:lnTo>
                <a:close/>
              </a:path>
              <a:path fill="none" w="431800" h="333375">
                <a:moveTo>
                  <a:pt x="215900" y="0"/>
                </a:moveTo>
                <a:lnTo>
                  <a:pt x="215900" y="0"/>
                </a:lnTo>
                <a:arcTo wR="215900" hR="166688" stAng="-5400000" swAng="5400016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Дуга 19"/>
          <p:cNvSpPr/>
          <p:nvPr/>
        </p:nvSpPr>
        <p:spPr>
          <a:xfrm>
            <a:off x="15840" y="1627200"/>
            <a:ext cx="555840" cy="301680"/>
          </a:xfrm>
          <a:custGeom>
            <a:avLst/>
            <a:gdLst>
              <a:gd name="textAreaLeft" fmla="*/ 277920 w 555840"/>
              <a:gd name="textAreaRight" fmla="*/ 556200 w 555840"/>
              <a:gd name="textAreaTop" fmla="*/ 0 h 301680"/>
              <a:gd name="textAreaBottom" fmla="*/ 174240 h 301680"/>
            </a:gdLst>
            <a:ahLst/>
            <a:rect l="textAreaLeft" t="textAreaTop" r="textAreaRight" b="textAreaBottom"/>
            <a:pathLst>
              <a:path stroke="0" w="555625" h="301625">
                <a:moveTo>
                  <a:pt x="277813" y="0"/>
                </a:moveTo>
                <a:lnTo>
                  <a:pt x="277813" y="0"/>
                </a:lnTo>
                <a:arcTo wR="277813" hR="150813" stAng="-5400000" swAng="5690236"/>
                <a:lnTo>
                  <a:pt x="277813" y="150813"/>
                </a:lnTo>
                <a:close/>
              </a:path>
              <a:path fill="none" w="555625" h="301625">
                <a:moveTo>
                  <a:pt x="277813" y="0"/>
                </a:moveTo>
                <a:lnTo>
                  <a:pt x="277813" y="0"/>
                </a:lnTo>
                <a:arcTo wR="277813" hR="150813" stAng="-5400000" swAng="5690236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3290760" y="838080"/>
            <a:ext cx="59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Дано: </a:t>
            </a:r>
            <a:r>
              <a:rPr b="0" lang="el-GR" sz="2400" spc="-1" strike="noStrike">
                <a:solidFill>
                  <a:srgbClr val="000000"/>
                </a:solidFill>
                <a:latin typeface="Adventure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С (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∠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С=90°</a:t>
            </a:r>
            <a:r>
              <a:rPr b="0" lang="en-US" sz="2400" spc="-1" strike="noStrike">
                <a:solidFill>
                  <a:srgbClr val="000000"/>
                </a:solidFill>
                <a:latin typeface="Adventure"/>
              </a:rPr>
              <a:t>),</a:t>
            </a:r>
            <a:r>
              <a:rPr b="0" lang="uk-UA" sz="2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СМ–биссектри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М = 15см, МВ = 20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С, С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8"/>
          <p:cNvSpPr/>
          <p:nvPr/>
        </p:nvSpPr>
        <p:spPr>
          <a:xfrm>
            <a:off x="5408640" y="21477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1"/>
          <p:cNvSpPr/>
          <p:nvPr/>
        </p:nvSpPr>
        <p:spPr>
          <a:xfrm>
            <a:off x="-17640" y="12859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2"/>
          <p:cNvSpPr/>
          <p:nvPr/>
        </p:nvSpPr>
        <p:spPr>
          <a:xfrm>
            <a:off x="1343520" y="20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414000" y="2610000"/>
            <a:ext cx="1244160" cy="816840"/>
            <a:chOff x="414000" y="2610000"/>
            <a:chExt cx="1244160" cy="816840"/>
          </a:xfrm>
        </p:grpSpPr>
        <p:sp>
          <p:nvSpPr>
            <p:cNvPr id="195" name="Text Box 17"/>
            <p:cNvSpPr/>
            <p:nvPr/>
          </p:nvSpPr>
          <p:spPr>
            <a:xfrm>
              <a:off x="414000" y="2967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dventure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553680" y="26100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dventure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875160" y="2786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dventure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1108800" y="2967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dventure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1303560" y="2610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dventure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ая соединительная линия 33"/>
          <p:cNvSpPr/>
          <p:nvPr/>
        </p:nvSpPr>
        <p:spPr>
          <a:xfrm>
            <a:off x="500040" y="3000240"/>
            <a:ext cx="428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34"/>
          <p:cNvSpPr/>
          <p:nvPr/>
        </p:nvSpPr>
        <p:spPr>
          <a:xfrm>
            <a:off x="1214280" y="3000240"/>
            <a:ext cx="428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6"/>
          <p:cNvSpPr/>
          <p:nvPr/>
        </p:nvSpPr>
        <p:spPr>
          <a:xfrm>
            <a:off x="4077360" y="10944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2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Дуга 37"/>
          <p:cNvSpPr/>
          <p:nvPr/>
        </p:nvSpPr>
        <p:spPr>
          <a:xfrm rot="20947800">
            <a:off x="-1973160" y="260280"/>
            <a:ext cx="5500440" cy="4788000"/>
          </a:xfrm>
          <a:custGeom>
            <a:avLst/>
            <a:gdLst>
              <a:gd name="textAreaLeft" fmla="*/ 2750400 w 5500440"/>
              <a:gd name="textAreaRight" fmla="*/ 5495040 w 5500440"/>
              <a:gd name="textAreaTop" fmla="*/ 0 h 4788000"/>
              <a:gd name="textAreaBottom" fmla="*/ 2239560 h 4788000"/>
            </a:gdLst>
            <a:ahLst/>
            <a:rect l="textAreaLeft" t="textAreaTop" r="textAreaRight" b="textAreaBottom"/>
            <a:pathLst>
              <a:path stroke="0" w="5500688" h="4787900">
                <a:moveTo>
                  <a:pt x="2750347" y="0"/>
                </a:moveTo>
                <a:lnTo>
                  <a:pt x="2750347" y="0"/>
                </a:lnTo>
                <a:arcTo wR="2750344" hR="2393950" stAng="-5399996" swAng="5206947"/>
                <a:lnTo>
                  <a:pt x="2750344" y="2393950"/>
                </a:lnTo>
                <a:close/>
              </a:path>
              <a:path fill="none" w="5500688" h="4787900">
                <a:moveTo>
                  <a:pt x="2750347" y="0"/>
                </a:moveTo>
                <a:lnTo>
                  <a:pt x="2750347" y="0"/>
                </a:lnTo>
                <a:arcTo wR="2750344" hR="2393950" stAng="-5399996" swAng="5206947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8"/>
          <p:cNvSpPr/>
          <p:nvPr/>
        </p:nvSpPr>
        <p:spPr>
          <a:xfrm>
            <a:off x="2063160" y="214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7120" y="33566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= 3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Левая фигурная скобка 40"/>
          <p:cNvSpPr/>
          <p:nvPr/>
        </p:nvSpPr>
        <p:spPr>
          <a:xfrm>
            <a:off x="214200" y="2714760"/>
            <a:ext cx="214560" cy="100008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000080"/>
              <a:gd name="textAreaBottom" fmla="*/ 9946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5400" y="10800"/>
                  <a:pt x="0" y="10800"/>
                </a:cubicBezTo>
                <a:cubicBezTo>
                  <a:pt x="54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1"/>
          <p:cNvSpPr/>
          <p:nvPr/>
        </p:nvSpPr>
        <p:spPr>
          <a:xfrm>
            <a:off x="1204560" y="2786040"/>
            <a:ext cx="67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- по свойству биссектрисы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2"/>
          <p:cNvSpPr/>
          <p:nvPr/>
        </p:nvSpPr>
        <p:spPr>
          <a:xfrm>
            <a:off x="1998360" y="339552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- по теореме 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C:\Users\relide\Desktop\картинки у уроку\віапівп.png"/>
          <p:cNvPicPr/>
          <p:nvPr/>
        </p:nvPicPr>
        <p:blipFill>
          <a:blip r:embed="rId1"/>
          <a:stretch/>
        </p:blipFill>
        <p:spPr>
          <a:xfrm>
            <a:off x="7572240" y="556272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5"/>
          <p:cNvSpPr/>
          <p:nvPr/>
        </p:nvSpPr>
        <p:spPr>
          <a:xfrm>
            <a:off x="7916040" y="5919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ашивка 46"/>
          <p:cNvSpPr/>
          <p:nvPr/>
        </p:nvSpPr>
        <p:spPr>
          <a:xfrm>
            <a:off x="8429760" y="6072120"/>
            <a:ext cx="285480" cy="285840"/>
          </a:xfrm>
          <a:custGeom>
            <a:avLst/>
            <a:gdLst>
              <a:gd name="textAreaLeft" fmla="*/ 0 w 285480"/>
              <a:gd name="textAreaRight" fmla="*/ 285840 w 2854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785880" y="252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525760" y="25236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3433680" y="838080"/>
            <a:ext cx="54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Дано: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СД – равнобокая трап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dventure"/>
              </a:rPr>
              <a:t>||A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dventure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С = 17см, СК = 8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Найти: </a:t>
            </a:r>
            <a:r>
              <a:rPr b="0" lang="en-US" sz="2400" spc="-1" strike="noStrike">
                <a:solidFill>
                  <a:srgbClr val="000000"/>
                </a:solidFill>
                <a:latin typeface="Adventure"/>
              </a:rPr>
              <a:t>l –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среднюю ли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4"/>
          <p:cNvSpPr/>
          <p:nvPr/>
        </p:nvSpPr>
        <p:spPr>
          <a:xfrm>
            <a:off x="5408640" y="21477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374400" y="210996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1802520" y="2143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5"/>
          <p:cNvSpPr/>
          <p:nvPr/>
        </p:nvSpPr>
        <p:spPr>
          <a:xfrm>
            <a:off x="4077360" y="10944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2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Трапеция 31"/>
          <p:cNvSpPr/>
          <p:nvPr/>
        </p:nvSpPr>
        <p:spPr>
          <a:xfrm>
            <a:off x="214200" y="500040"/>
            <a:ext cx="3214800" cy="1714680"/>
          </a:xfrm>
          <a:custGeom>
            <a:avLst/>
            <a:gdLst>
              <a:gd name="textAreaLeft" fmla="*/ 566640 w 3214800"/>
              <a:gd name="textAreaRight" fmla="*/ 2648160 w 3214800"/>
              <a:gd name="textAreaTop" fmla="*/ 302040 h 1714680"/>
              <a:gd name="textAreaBottom" fmla="*/ 1715040 h 1714680"/>
            </a:gdLst>
            <a:ahLst/>
            <a:rect l="textAreaLeft" t="textAreaTop" r="textAreaRight" b="textAreaBottom"/>
            <a:pathLst>
              <a:path w="3214687" h="1714500">
                <a:moveTo>
                  <a:pt x="0" y="1714500"/>
                </a:moveTo>
                <a:lnTo>
                  <a:pt x="849963" y="0"/>
                </a:lnTo>
                <a:lnTo>
                  <a:pt x="2364724" y="0"/>
                </a:lnTo>
                <a:lnTo>
                  <a:pt x="3214687" y="17145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33"/>
          <p:cNvSpPr/>
          <p:nvPr/>
        </p:nvSpPr>
        <p:spPr>
          <a:xfrm flipV="1">
            <a:off x="214200" y="499680"/>
            <a:ext cx="2357640" cy="171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35"/>
          <p:cNvSpPr/>
          <p:nvPr/>
        </p:nvSpPr>
        <p:spPr>
          <a:xfrm>
            <a:off x="2571840" y="500040"/>
            <a:ext cx="0" cy="171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37"/>
          <p:cNvSpPr/>
          <p:nvPr/>
        </p:nvSpPr>
        <p:spPr>
          <a:xfrm>
            <a:off x="1071720" y="500040"/>
            <a:ext cx="0" cy="171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9"/>
          <p:cNvSpPr/>
          <p:nvPr/>
        </p:nvSpPr>
        <p:spPr>
          <a:xfrm>
            <a:off x="2390760" y="2030400"/>
            <a:ext cx="181080" cy="18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41"/>
          <p:cNvSpPr/>
          <p:nvPr/>
        </p:nvSpPr>
        <p:spPr>
          <a:xfrm>
            <a:off x="714240" y="1000080"/>
            <a:ext cx="14292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42"/>
          <p:cNvSpPr/>
          <p:nvPr/>
        </p:nvSpPr>
        <p:spPr>
          <a:xfrm>
            <a:off x="714240" y="1071720"/>
            <a:ext cx="14292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45"/>
          <p:cNvSpPr/>
          <p:nvPr/>
        </p:nvSpPr>
        <p:spPr>
          <a:xfrm flipV="1">
            <a:off x="2786040" y="999720"/>
            <a:ext cx="14292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48"/>
          <p:cNvSpPr/>
          <p:nvPr/>
        </p:nvSpPr>
        <p:spPr>
          <a:xfrm flipV="1">
            <a:off x="2786040" y="1071720"/>
            <a:ext cx="14292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50"/>
          <p:cNvSpPr/>
          <p:nvPr/>
        </p:nvSpPr>
        <p:spPr>
          <a:xfrm>
            <a:off x="3000240" y="21430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51"/>
          <p:cNvSpPr/>
          <p:nvPr/>
        </p:nvSpPr>
        <p:spPr>
          <a:xfrm>
            <a:off x="642960" y="21430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52"/>
          <p:cNvSpPr/>
          <p:nvPr/>
        </p:nvSpPr>
        <p:spPr>
          <a:xfrm>
            <a:off x="1724040" y="42876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55"/>
          <p:cNvSpPr/>
          <p:nvPr/>
        </p:nvSpPr>
        <p:spPr>
          <a:xfrm>
            <a:off x="1785960" y="42876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56"/>
          <p:cNvSpPr/>
          <p:nvPr/>
        </p:nvSpPr>
        <p:spPr>
          <a:xfrm>
            <a:off x="1857240" y="42876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57"/>
          <p:cNvSpPr/>
          <p:nvPr/>
        </p:nvSpPr>
        <p:spPr>
          <a:xfrm>
            <a:off x="1724040" y="21430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58"/>
          <p:cNvSpPr/>
          <p:nvPr/>
        </p:nvSpPr>
        <p:spPr>
          <a:xfrm>
            <a:off x="1785960" y="21430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59"/>
          <p:cNvSpPr/>
          <p:nvPr/>
        </p:nvSpPr>
        <p:spPr>
          <a:xfrm>
            <a:off x="1857240" y="21430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0"/>
          <p:cNvSpPr/>
          <p:nvPr/>
        </p:nvSpPr>
        <p:spPr>
          <a:xfrm>
            <a:off x="2732040" y="21430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1"/>
          <p:cNvSpPr/>
          <p:nvPr/>
        </p:nvSpPr>
        <p:spPr>
          <a:xfrm>
            <a:off x="1873800" y="142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4"/>
          <p:cNvSpPr/>
          <p:nvPr/>
        </p:nvSpPr>
        <p:spPr>
          <a:xfrm>
            <a:off x="-84240" y="21812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5"/>
          <p:cNvSpPr/>
          <p:nvPr/>
        </p:nvSpPr>
        <p:spPr>
          <a:xfrm>
            <a:off x="3286800" y="218124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6"/>
          <p:cNvSpPr/>
          <p:nvPr/>
        </p:nvSpPr>
        <p:spPr>
          <a:xfrm>
            <a:off x="2351520" y="21812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7"/>
          <p:cNvSpPr/>
          <p:nvPr/>
        </p:nvSpPr>
        <p:spPr>
          <a:xfrm>
            <a:off x="769680" y="21812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8"/>
          <p:cNvSpPr/>
          <p:nvPr/>
        </p:nvSpPr>
        <p:spPr>
          <a:xfrm>
            <a:off x="1128240" y="1000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9"/>
          <p:cNvSpPr/>
          <p:nvPr/>
        </p:nvSpPr>
        <p:spPr>
          <a:xfrm>
            <a:off x="2284920" y="1285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142920" y="307404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1) АК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= А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СК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АК = 1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714920" y="26420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l</a:t>
            </a: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73"/>
          <p:cNvSpPr/>
          <p:nvPr/>
        </p:nvSpPr>
        <p:spPr>
          <a:xfrm>
            <a:off x="5286240" y="2886120"/>
            <a:ext cx="10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4"/>
          <p:cNvSpPr/>
          <p:nvPr/>
        </p:nvSpPr>
        <p:spPr>
          <a:xfrm>
            <a:off x="5143680" y="256716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ВС + 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5"/>
          <p:cNvSpPr/>
          <p:nvPr/>
        </p:nvSpPr>
        <p:spPr>
          <a:xfrm>
            <a:off x="5658480" y="285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6"/>
          <p:cNvSpPr/>
          <p:nvPr/>
        </p:nvSpPr>
        <p:spPr>
          <a:xfrm>
            <a:off x="119160" y="40006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500040" y="40042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78"/>
          <p:cNvSpPr/>
          <p:nvPr/>
        </p:nvSpPr>
        <p:spPr>
          <a:xfrm>
            <a:off x="1071720" y="4248000"/>
            <a:ext cx="10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9"/>
          <p:cNvSpPr/>
          <p:nvPr/>
        </p:nvSpPr>
        <p:spPr>
          <a:xfrm>
            <a:off x="998280" y="392904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у+2х+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0"/>
          <p:cNvSpPr/>
          <p:nvPr/>
        </p:nvSpPr>
        <p:spPr>
          <a:xfrm>
            <a:off x="1443600" y="4214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1"/>
          <p:cNvSpPr/>
          <p:nvPr/>
        </p:nvSpPr>
        <p:spPr>
          <a:xfrm>
            <a:off x="2145600" y="40593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82"/>
          <p:cNvSpPr/>
          <p:nvPr/>
        </p:nvSpPr>
        <p:spPr>
          <a:xfrm>
            <a:off x="2428920" y="4248000"/>
            <a:ext cx="10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3"/>
          <p:cNvSpPr/>
          <p:nvPr/>
        </p:nvSpPr>
        <p:spPr>
          <a:xfrm>
            <a:off x="2402280" y="392904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х+2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4"/>
          <p:cNvSpPr/>
          <p:nvPr/>
        </p:nvSpPr>
        <p:spPr>
          <a:xfrm>
            <a:off x="2800800" y="4214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85"/>
          <p:cNvSpPr/>
          <p:nvPr/>
        </p:nvSpPr>
        <p:spPr>
          <a:xfrm>
            <a:off x="3489120" y="403848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= х+у = 15 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6"/>
          <p:cNvSpPr/>
          <p:nvPr/>
        </p:nvSpPr>
        <p:spPr>
          <a:xfrm>
            <a:off x="79200" y="47149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Ответ: 1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C:\Users\relide\Desktop\картинки у уроку\віапівп.png"/>
          <p:cNvPicPr/>
          <p:nvPr/>
        </p:nvPicPr>
        <p:blipFill>
          <a:blip r:embed="rId1"/>
          <a:stretch/>
        </p:blipFill>
        <p:spPr>
          <a:xfrm>
            <a:off x="7572240" y="556272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91"/>
          <p:cNvSpPr/>
          <p:nvPr/>
        </p:nvSpPr>
        <p:spPr>
          <a:xfrm>
            <a:off x="7926120" y="5919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ашивка 92"/>
          <p:cNvSpPr/>
          <p:nvPr/>
        </p:nvSpPr>
        <p:spPr>
          <a:xfrm>
            <a:off x="8429760" y="6072120"/>
            <a:ext cx="285480" cy="285840"/>
          </a:xfrm>
          <a:custGeom>
            <a:avLst/>
            <a:gdLst>
              <a:gd name="textAreaLeft" fmla="*/ 0 w 285480"/>
              <a:gd name="textAreaRight" fmla="*/ 285840 w 2854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1551600" y="1857240"/>
            <a:ext cx="62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Запол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путевой журна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"/>
                            </p:stCondLst>
                            <p:childTnLst>
                              <p:par>
                                <p:cTn id="6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5"/>
          <p:cNvSpPr/>
          <p:nvPr/>
        </p:nvSpPr>
        <p:spPr>
          <a:xfrm>
            <a:off x="6929280" y="0"/>
            <a:ext cx="1428840" cy="507204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5072040"/>
              <a:gd name="textAreaBottom" fmla="*/ 5002560 h 5072040"/>
            </a:gdLst>
            <a:ahLst/>
            <a:rect l="textAreaLeft" t="textAreaTop" r="textAreaRight" b="textAreaBottom"/>
            <a:pathLst>
              <a:path w="21600" h="76661">
                <a:moveTo>
                  <a:pt x="3600" y="0"/>
                </a:moveTo>
                <a:arcTo wR="3600" hR="3600" stAng="16200000" swAng="-5400000"/>
                <a:lnTo>
                  <a:pt x="0" y="73061"/>
                </a:lnTo>
                <a:arcTo wR="3600" hR="3600" stAng="10800000" swAng="-5400000"/>
                <a:lnTo>
                  <a:pt x="18000" y="766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0404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4" descr="Ar.gif"/>
          <p:cNvPicPr/>
          <p:nvPr/>
        </p:nvPicPr>
        <p:blipFill>
          <a:blip r:embed="rId1"/>
          <a:stretch/>
        </p:blipFill>
        <p:spPr>
          <a:xfrm>
            <a:off x="6980400" y="420840"/>
            <a:ext cx="1322280" cy="53402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lb.gif"/>
          <p:cNvPicPr/>
          <p:nvPr/>
        </p:nvPicPr>
        <p:blipFill>
          <a:blip r:embed="rId2"/>
          <a:stretch/>
        </p:blipFill>
        <p:spPr>
          <a:xfrm>
            <a:off x="353880" y="1463760"/>
            <a:ext cx="1760760" cy="45036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7"/>
          <p:cNvSpPr/>
          <p:nvPr/>
        </p:nvSpPr>
        <p:spPr>
          <a:xfrm>
            <a:off x="2000160" y="1928880"/>
            <a:ext cx="49291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d1e"/>
                </a:solidFill>
                <a:latin typeface="Adventure"/>
              </a:rPr>
              <a:t>путь, ведущий к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d1e"/>
                </a:solidFill>
                <a:latin typeface="Adventure"/>
              </a:rPr>
              <a:t>в сложных услови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d1e"/>
                </a:solidFill>
                <a:latin typeface="Adventure"/>
              </a:rPr>
              <a:t>называют </a:t>
            </a:r>
            <a:r>
              <a:rPr b="1" lang="ru-RU" sz="3200" spc="-1" strike="noStrike">
                <a:solidFill>
                  <a:srgbClr val="92d050"/>
                </a:solidFill>
                <a:latin typeface="Adventure"/>
              </a:rPr>
              <a:t>нитью Ариад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Полилиния 11"/>
          <p:cNvGrpSpPr/>
          <p:nvPr/>
        </p:nvGrpSpPr>
        <p:grpSpPr>
          <a:xfrm>
            <a:off x="1189080" y="1279440"/>
            <a:ext cx="5979960" cy="2664000"/>
            <a:chOff x="1189080" y="1279440"/>
            <a:chExt cx="5979960" cy="2664000"/>
          </a:xfrm>
        </p:grpSpPr>
        <p:pic>
          <p:nvPicPr>
            <p:cNvPr id="269" name="Полилиния 11" descr=""/>
            <p:cNvPicPr/>
            <p:nvPr/>
          </p:nvPicPr>
          <p:blipFill>
            <a:blip r:embed="rId3"/>
            <a:stretch/>
          </p:blipFill>
          <p:spPr>
            <a:xfrm>
              <a:off x="1189080" y="1279440"/>
              <a:ext cx="597996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214280" y="1285920"/>
              <a:ext cx="592956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Текст 3"/>
          <p:cNvSpPr/>
          <p:nvPr/>
        </p:nvSpPr>
        <p:spPr>
          <a:xfrm>
            <a:off x="142920" y="5000760"/>
            <a:ext cx="857232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Следующий этап путешествия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-математический лабиринт, а нитью Ариадны будут знания 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«Теорема Пифаго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Полилиния 12"/>
          <p:cNvGrpSpPr/>
          <p:nvPr/>
        </p:nvGrpSpPr>
        <p:grpSpPr>
          <a:xfrm>
            <a:off x="195120" y="4194000"/>
            <a:ext cx="8759880" cy="2608560"/>
            <a:chOff x="195120" y="4194000"/>
            <a:chExt cx="8759880" cy="2608560"/>
          </a:xfrm>
        </p:grpSpPr>
        <p:pic>
          <p:nvPicPr>
            <p:cNvPr id="273" name="Полилиния 12" descr=""/>
            <p:cNvPicPr/>
            <p:nvPr/>
          </p:nvPicPr>
          <p:blipFill>
            <a:blip r:embed="rId4"/>
            <a:stretch/>
          </p:blipFill>
          <p:spPr>
            <a:xfrm>
              <a:off x="195120" y="4194000"/>
              <a:ext cx="8759880" cy="26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19240" y="4214880"/>
              <a:ext cx="872316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Рисунок 6" descr="клубок.gif"/>
          <p:cNvPicPr/>
          <p:nvPr/>
        </p:nvPicPr>
        <p:blipFill>
          <a:blip r:embed="rId5"/>
          <a:stretch/>
        </p:blipFill>
        <p:spPr>
          <a:xfrm>
            <a:off x="714240" y="6143760"/>
            <a:ext cx="5335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720"/>
                            </p:stCondLst>
                            <p:childTnLst>
                              <p:par>
                                <p:cTn id="6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440"/>
                            </p:stCondLst>
                            <p:childTnLst>
                              <p:par>
                                <p:cTn id="6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200"/>
                            </p:stCondLst>
                            <p:childTnLst>
                              <p:par>
                                <p:cTn id="7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6" descr="клубок.gif"/>
          <p:cNvPicPr/>
          <p:nvPr/>
        </p:nvPicPr>
        <p:blipFill>
          <a:blip r:embed="rId1"/>
          <a:stretch/>
        </p:blipFill>
        <p:spPr>
          <a:xfrm>
            <a:off x="785880" y="5286240"/>
            <a:ext cx="533160" cy="5432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" descr="клубок.gif"/>
          <p:cNvPicPr/>
          <p:nvPr/>
        </p:nvPicPr>
        <p:blipFill>
          <a:blip r:embed="rId2"/>
          <a:stretch/>
        </p:blipFill>
        <p:spPr>
          <a:xfrm>
            <a:off x="6039000" y="1028880"/>
            <a:ext cx="533160" cy="5428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6" descr="клубок.gif"/>
          <p:cNvPicPr/>
          <p:nvPr/>
        </p:nvPicPr>
        <p:blipFill>
          <a:blip r:embed="rId3"/>
          <a:stretch/>
        </p:blipFill>
        <p:spPr>
          <a:xfrm>
            <a:off x="4572000" y="4357800"/>
            <a:ext cx="533520" cy="5428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4" descr="lb.gif"/>
          <p:cNvPicPr/>
          <p:nvPr/>
        </p:nvPicPr>
        <p:blipFill>
          <a:blip r:embed="rId4"/>
          <a:stretch/>
        </p:blipFill>
        <p:spPr>
          <a:xfrm>
            <a:off x="285840" y="30240"/>
            <a:ext cx="1762200" cy="451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5072040" y="4541760"/>
            <a:ext cx="3714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204б (2балл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№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**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(3балла)</a:t>
            </a:r>
            <a:r>
              <a:rPr b="1" lang="ru-RU" sz="8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кар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15 (4ба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285920" y="525096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204в (2ба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213 (3балла)</a:t>
            </a:r>
            <a:r>
              <a:rPr b="1" lang="ru-RU" sz="8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219 (4ба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Полилиния 8"/>
          <p:cNvGrpSpPr/>
          <p:nvPr/>
        </p:nvGrpSpPr>
        <p:grpSpPr>
          <a:xfrm>
            <a:off x="1122480" y="1279440"/>
            <a:ext cx="4973400" cy="1384560"/>
            <a:chOff x="1122480" y="1279440"/>
            <a:chExt cx="4973400" cy="1384560"/>
          </a:xfrm>
        </p:grpSpPr>
        <p:pic>
          <p:nvPicPr>
            <p:cNvPr id="283" name="Полилиния 8" descr=""/>
            <p:cNvPicPr/>
            <p:nvPr/>
          </p:nvPicPr>
          <p:blipFill>
            <a:blip r:embed="rId5"/>
            <a:stretch/>
          </p:blipFill>
          <p:spPr>
            <a:xfrm>
              <a:off x="1122480" y="1279440"/>
              <a:ext cx="497340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143000" y="1285920"/>
              <a:ext cx="492912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олилиния 9"/>
          <p:cNvGrpSpPr/>
          <p:nvPr/>
        </p:nvGrpSpPr>
        <p:grpSpPr>
          <a:xfrm>
            <a:off x="930240" y="720000"/>
            <a:ext cx="4596120" cy="3948840"/>
            <a:chOff x="930240" y="720000"/>
            <a:chExt cx="4596120" cy="3948840"/>
          </a:xfrm>
        </p:grpSpPr>
        <p:pic>
          <p:nvPicPr>
            <p:cNvPr id="286" name="Полилиния 9" descr=""/>
            <p:cNvPicPr/>
            <p:nvPr/>
          </p:nvPicPr>
          <p:blipFill>
            <a:blip r:embed="rId6"/>
            <a:stretch/>
          </p:blipFill>
          <p:spPr>
            <a:xfrm>
              <a:off x="1278000" y="927000"/>
              <a:ext cx="3954240" cy="37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12838200">
              <a:off x="914400" y="1896840"/>
              <a:ext cx="462744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олилиния 10"/>
          <p:cNvGrpSpPr/>
          <p:nvPr/>
        </p:nvGrpSpPr>
        <p:grpSpPr>
          <a:xfrm>
            <a:off x="397800" y="697680"/>
            <a:ext cx="2255040" cy="4788360"/>
            <a:chOff x="397800" y="697680"/>
            <a:chExt cx="2255040" cy="4788360"/>
          </a:xfrm>
        </p:grpSpPr>
        <p:pic>
          <p:nvPicPr>
            <p:cNvPr id="289" name="Полилиния 10" descr=""/>
            <p:cNvPicPr/>
            <p:nvPr/>
          </p:nvPicPr>
          <p:blipFill>
            <a:blip r:embed="rId7"/>
            <a:stretch/>
          </p:blipFill>
          <p:spPr>
            <a:xfrm>
              <a:off x="991440" y="826560"/>
              <a:ext cx="1459440" cy="46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15432000">
              <a:off x="-770400" y="2442240"/>
              <a:ext cx="4592160" cy="12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11"/>
          <p:cNvSpPr/>
          <p:nvPr/>
        </p:nvSpPr>
        <p:spPr>
          <a:xfrm>
            <a:off x="2143080" y="0"/>
            <a:ext cx="7072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venture"/>
              </a:rPr>
              <a:t>Задача (2балла) – решить и показать учител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venture"/>
              </a:rPr>
              <a:t>Задача (3балла) – решить, краткий комментарий у до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venture"/>
              </a:rPr>
              <a:t>Задача (4балла) –решить, на доске записать краткое 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dventure"/>
              </a:rPr>
              <a:t>              </a:t>
            </a:r>
            <a:r>
              <a:rPr b="1" lang="ru-RU" sz="1600" spc="-1" strike="noStrike">
                <a:solidFill>
                  <a:srgbClr val="ff0000"/>
                </a:solidFill>
                <a:latin typeface="Adventure"/>
              </a:rPr>
              <a:t>(все учащиеся записывают решение задач (4балла) в тетради</a:t>
            </a:r>
            <a:r>
              <a:rPr b="1" lang="ru-RU" sz="2000" spc="-1" strike="noStrike">
                <a:solidFill>
                  <a:srgbClr val="ff0000"/>
                </a:solidFill>
                <a:latin typeface="Adventure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2"/>
          <p:cNvSpPr/>
          <p:nvPr/>
        </p:nvSpPr>
        <p:spPr>
          <a:xfrm flipH="1">
            <a:off x="5920560" y="205596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4"/>
          <p:cNvSpPr/>
          <p:nvPr/>
        </p:nvSpPr>
        <p:spPr>
          <a:xfrm>
            <a:off x="2253240" y="500076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dventure"/>
                <a:ea typeface="Trebuchet MS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5"/>
          <p:cNvSpPr/>
          <p:nvPr/>
        </p:nvSpPr>
        <p:spPr>
          <a:xfrm>
            <a:off x="5914440" y="414324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dventure"/>
                <a:ea typeface="Trebuchet MS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6"/>
          <p:cNvSpPr/>
          <p:nvPr/>
        </p:nvSpPr>
        <p:spPr>
          <a:xfrm>
            <a:off x="6695640" y="121428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dventure"/>
                <a:ea typeface="Trebuchet MS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0"/>
          <p:cNvSpPr/>
          <p:nvPr/>
        </p:nvSpPr>
        <p:spPr>
          <a:xfrm>
            <a:off x="7328880" y="46432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1"/>
          <p:cNvSpPr/>
          <p:nvPr/>
        </p:nvSpPr>
        <p:spPr>
          <a:xfrm>
            <a:off x="3503160" y="55008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8186400" y="1714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3"/>
          <p:cNvSpPr/>
          <p:nvPr/>
        </p:nvSpPr>
        <p:spPr>
          <a:xfrm>
            <a:off x="2286000" y="310500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dventure"/>
              </a:rPr>
              <a:t>учащиеся самостоятельно выбирают уровень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5929200" y="1464840"/>
            <a:ext cx="250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204а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2балла)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213 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3балла)</a:t>
            </a:r>
            <a:r>
              <a:rPr b="1" lang="en-US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*** (4ба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4"/>
          <p:cNvSpPr/>
          <p:nvPr/>
        </p:nvSpPr>
        <p:spPr>
          <a:xfrm>
            <a:off x="8005320" y="20718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5"/>
          <p:cNvSpPr/>
          <p:nvPr/>
        </p:nvSpPr>
        <p:spPr>
          <a:xfrm>
            <a:off x="7831080" y="24289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кар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7"/>
          <p:cNvSpPr/>
          <p:nvPr/>
        </p:nvSpPr>
        <p:spPr>
          <a:xfrm>
            <a:off x="7146360" y="5429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8"/>
          <p:cNvSpPr/>
          <p:nvPr/>
        </p:nvSpPr>
        <p:spPr>
          <a:xfrm>
            <a:off x="3360240" y="628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стр.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elide\Desktop\картинки у уроку\1261321062_1pergame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071880" y="3589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dventure"/>
                <a:ea typeface="Trebuchet MS"/>
              </a:rPr>
              <a:t>Цель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1714680" y="128412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928880" y="612000"/>
            <a:ext cx="6215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  <a:ea typeface="Trebuchet MS"/>
              </a:rPr>
              <a:t>сформировать навыки комплексного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  <a:ea typeface="Trebuchet MS"/>
              </a:rPr>
              <a:t>знаний для решения задач с использованием теор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  <a:ea typeface="Trebuchet MS"/>
              </a:rPr>
              <a:t>Пифагора и следствий из неё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  <a:ea typeface="Trebuchet MS"/>
              </a:rPr>
              <a:t>развивать математическую реч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</a:rPr>
              <a:t>воспитывать умения объективно оцен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</a:rPr>
              <a:t>свои знания и аргументированно доказ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</a:rPr>
              <a:t>своё мн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</a:rPr>
              <a:t>воспитывать умение контрол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2103"/>
                </a:solidFill>
                <a:latin typeface="Adventure"/>
              </a:rPr>
              <a:t>внимание на всех этапах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714680" y="221292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1714680" y="2498760"/>
            <a:ext cx="253800" cy="25380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400 h 253800"/>
              <a:gd name="textAreaBottom" fmla="*/ 149400 h 253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714680" y="339552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286080" y="4043880"/>
            <a:ext cx="328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dventure"/>
                <a:ea typeface="Trebuchet MS"/>
              </a:rPr>
              <a:t>Обору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928880" y="474912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сборник задач и контроль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2103"/>
                </a:solidFill>
                <a:latin typeface="Trebuchet MS"/>
                <a:ea typeface="Trebuchet MS"/>
              </a:rPr>
              <a:t>«</a:t>
            </a: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Геометрия 8 класс</a:t>
            </a:r>
            <a:r>
              <a:rPr b="1" lang="ru-RU" sz="1800" spc="-1" strike="noStrike">
                <a:solidFill>
                  <a:srgbClr val="452103"/>
                </a:solidFill>
                <a:latin typeface="Trebuchet MS"/>
                <a:ea typeface="Trebuchet MS"/>
              </a:rPr>
              <a:t>»</a:t>
            </a: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 А.Г. Мерзля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 </a:t>
            </a:r>
            <a:r>
              <a:rPr b="1" lang="ru-RU" sz="1800" spc="-1" strike="noStrike">
                <a:solidFill>
                  <a:srgbClr val="452103"/>
                </a:solidFill>
                <a:latin typeface="Trebuchet MS"/>
                <a:ea typeface="Trebuchet MS"/>
              </a:rPr>
              <a:t>«</a:t>
            </a: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путевые журналы</a:t>
            </a:r>
            <a:r>
              <a:rPr b="1" lang="ru-RU" sz="1800" spc="-1" strike="noStrike">
                <a:solidFill>
                  <a:srgbClr val="452103"/>
                </a:solidFill>
                <a:latin typeface="Trebuchet MS"/>
                <a:ea typeface="Trebuchet MS"/>
              </a:rPr>
              <a:t>»</a:t>
            </a: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раздаточный материал (условия задач, кроссвор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2103"/>
                </a:solidFill>
                <a:latin typeface="Adventure"/>
                <a:ea typeface="Trebuchet MS"/>
              </a:rPr>
              <a:t>мультимедийный про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1714680" y="492912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1714680" y="546084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1714680" y="578628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6"/>
          <p:cNvSpPr/>
          <p:nvPr/>
        </p:nvSpPr>
        <p:spPr>
          <a:xfrm>
            <a:off x="1643040" y="128592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dventure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Геометрия полна приключ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потому что за каждой зада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скрывается приключение мыс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Решить задачу – это знач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пережить приключение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          </a:t>
            </a:r>
            <a:r>
              <a:rPr b="1" lang="ru-RU" sz="2800" spc="-1" strike="noStrike">
                <a:solidFill>
                  <a:srgbClr val="c00000"/>
                </a:solidFill>
                <a:latin typeface="Adventure"/>
              </a:rPr>
              <a:t>В. Произ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1714680" y="6032520"/>
            <a:ext cx="253800" cy="254160"/>
          </a:xfrm>
          <a:custGeom>
            <a:avLst/>
            <a:gdLst>
              <a:gd name="textAreaLeft" fmla="*/ 104400 w 253800"/>
              <a:gd name="textAreaRight" fmla="*/ 149400 w 253800"/>
              <a:gd name="textAreaTop" fmla="*/ 104760 h 254160"/>
              <a:gd name="textAreaBottom" fmla="*/ 149400 h 2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2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1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96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Равнобедренный треугольник 50"/>
          <p:cNvSpPr/>
          <p:nvPr/>
        </p:nvSpPr>
        <p:spPr>
          <a:xfrm>
            <a:off x="571680" y="285840"/>
            <a:ext cx="2406600" cy="2074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1785960" y="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"/>
          <p:cNvSpPr/>
          <p:nvPr/>
        </p:nvSpPr>
        <p:spPr>
          <a:xfrm>
            <a:off x="2857680" y="232416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2753280" y="714240"/>
            <a:ext cx="64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Дано: </a:t>
            </a:r>
            <a:r>
              <a:rPr b="0" lang="el-GR" sz="2400" spc="-1" strike="noStrike">
                <a:solidFill>
                  <a:srgbClr val="000000"/>
                </a:solidFill>
                <a:latin typeface="Adventure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С – равносторонний, ВК-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ВК на 4см меньше 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5370840" y="17146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982440" y="22860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3826440" y="10944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219 (запиши в тетрад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4"/>
          <p:cNvSpPr/>
          <p:nvPr/>
        </p:nvSpPr>
        <p:spPr>
          <a:xfrm>
            <a:off x="1604880" y="2173320"/>
            <a:ext cx="181080" cy="183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0"/>
          <p:cNvSpPr/>
          <p:nvPr/>
        </p:nvSpPr>
        <p:spPr>
          <a:xfrm>
            <a:off x="1566000" y="2357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2"/>
          <p:cNvSpPr/>
          <p:nvPr/>
        </p:nvSpPr>
        <p:spPr>
          <a:xfrm flipH="1">
            <a:off x="1774440" y="285840"/>
            <a:ext cx="11160" cy="207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2"/>
          <p:cNvSpPr/>
          <p:nvPr/>
        </p:nvSpPr>
        <p:spPr>
          <a:xfrm>
            <a:off x="201600" y="23241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Дуга 53"/>
          <p:cNvSpPr/>
          <p:nvPr/>
        </p:nvSpPr>
        <p:spPr>
          <a:xfrm rot="1378200">
            <a:off x="581040" y="2125800"/>
            <a:ext cx="344520" cy="365040"/>
          </a:xfrm>
          <a:custGeom>
            <a:avLst/>
            <a:gdLst>
              <a:gd name="textAreaLeft" fmla="*/ 79560 w 344520"/>
              <a:gd name="textAreaRight" fmla="*/ 344160 w 344520"/>
              <a:gd name="textAreaTop" fmla="*/ 0 h 365040"/>
              <a:gd name="textAreaBottom" fmla="*/ 167400 h 365040"/>
            </a:gdLst>
            <a:ahLst/>
            <a:rect l="textAreaLeft" t="textAreaTop" r="textAreaRight" b="textAreaBottom"/>
            <a:pathLst>
              <a:path stroke="0" w="344488" h="365125">
                <a:moveTo>
                  <a:pt x="79817" y="28510"/>
                </a:moveTo>
                <a:lnTo>
                  <a:pt x="79817" y="28510"/>
                </a:lnTo>
                <a:arcTo wR="172244" hR="182563" stAng="-7257747" swAng="6955692"/>
                <a:lnTo>
                  <a:pt x="172244" y="182563"/>
                </a:lnTo>
                <a:close/>
              </a:path>
              <a:path fill="none" w="344488" h="365125">
                <a:moveTo>
                  <a:pt x="79817" y="28510"/>
                </a:moveTo>
                <a:lnTo>
                  <a:pt x="79817" y="28510"/>
                </a:lnTo>
                <a:arcTo wR="172244" hR="182563" stAng="-7257747" swAng="6955692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4"/>
          <p:cNvSpPr/>
          <p:nvPr/>
        </p:nvSpPr>
        <p:spPr>
          <a:xfrm>
            <a:off x="857160" y="1928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Дуга 55"/>
          <p:cNvSpPr/>
          <p:nvPr/>
        </p:nvSpPr>
        <p:spPr>
          <a:xfrm rot="10800000">
            <a:off x="1571760" y="428760"/>
            <a:ext cx="357120" cy="357120"/>
          </a:xfrm>
          <a:custGeom>
            <a:avLst/>
            <a:gdLst>
              <a:gd name="textAreaLeft" fmla="*/ 178560 w 357120"/>
              <a:gd name="textAreaRight" fmla="*/ 357480 w 357120"/>
              <a:gd name="textAreaTop" fmla="*/ 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357188" h="357188">
                <a:moveTo>
                  <a:pt x="178594" y="0"/>
                </a:moveTo>
                <a:lnTo>
                  <a:pt x="178594" y="0"/>
                </a:lnTo>
                <a:arcTo wR="178594" hR="178594" stAng="-5400000" swAng="5400000"/>
                <a:lnTo>
                  <a:pt x="178594" y="178594"/>
                </a:lnTo>
                <a:close/>
              </a:path>
              <a:path fill="none" w="357188" h="357188">
                <a:moveTo>
                  <a:pt x="178594" y="0"/>
                </a:moveTo>
                <a:lnTo>
                  <a:pt x="178594" y="0"/>
                </a:lnTo>
                <a:arcTo wR="178594" hR="178594" stAng="-5400000" swAng="5400000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Дуга 56"/>
          <p:cNvSpPr/>
          <p:nvPr/>
        </p:nvSpPr>
        <p:spPr>
          <a:xfrm rot="10800000">
            <a:off x="1643040" y="356760"/>
            <a:ext cx="357120" cy="357120"/>
          </a:xfrm>
          <a:custGeom>
            <a:avLst/>
            <a:gdLst>
              <a:gd name="textAreaLeft" fmla="*/ 222840 w 357120"/>
              <a:gd name="textAreaRight" fmla="*/ 357480 w 357120"/>
              <a:gd name="textAreaTop" fmla="*/ 540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357187" h="357187">
                <a:moveTo>
                  <a:pt x="222885" y="5579"/>
                </a:moveTo>
                <a:lnTo>
                  <a:pt x="222885" y="5579"/>
                </a:lnTo>
                <a:arcTo wR="178594" hR="178594" stAng="-4538437" swAng="4538437"/>
                <a:lnTo>
                  <a:pt x="178594" y="178594"/>
                </a:lnTo>
                <a:close/>
              </a:path>
              <a:path fill="none" w="357187" h="357187">
                <a:moveTo>
                  <a:pt x="222885" y="5579"/>
                </a:moveTo>
                <a:lnTo>
                  <a:pt x="222885" y="5579"/>
                </a:lnTo>
                <a:arcTo wR="178594" hR="178594" stAng="-4538437" swAng="4538437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7"/>
          <p:cNvSpPr/>
          <p:nvPr/>
        </p:nvSpPr>
        <p:spPr>
          <a:xfrm>
            <a:off x="1357200" y="785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8"/>
          <p:cNvSpPr/>
          <p:nvPr/>
        </p:nvSpPr>
        <p:spPr>
          <a:xfrm>
            <a:off x="709200" y="1000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dventure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59"/>
          <p:cNvSpPr/>
          <p:nvPr/>
        </p:nvSpPr>
        <p:spPr>
          <a:xfrm>
            <a:off x="1706400" y="1214280"/>
            <a:ext cx="6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dventure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dventure"/>
              </a:rPr>
              <a:t>x</a:t>
            </a:r>
            <a:r>
              <a:rPr b="1" lang="ru-RU" sz="1800" spc="-1" strike="noStrike">
                <a:solidFill>
                  <a:srgbClr val="ff0000"/>
                </a:solidFill>
                <a:latin typeface="Adventur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500200" y="2791080"/>
            <a:ext cx="32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(2х-4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 + 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 = (2х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 16х + 16 + 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 =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</a:rPr>
              <a:t>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dventure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</a:rPr>
              <a:t> 16х + 16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</a:rPr>
              <a:t>Д = 1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2357280" y="4029480"/>
            <a:ext cx="16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√</a:t>
            </a: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Д = 8√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2428920" y="43585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16 + 8√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2500200" y="595836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АВ = 2(8 - 4√3)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34"/>
          <p:cNvSpPr/>
          <p:nvPr/>
        </p:nvSpPr>
        <p:spPr>
          <a:xfrm>
            <a:off x="2497320" y="560088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АВ = 2(8 + 4√3)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36"/>
          <p:cNvSpPr/>
          <p:nvPr/>
        </p:nvSpPr>
        <p:spPr>
          <a:xfrm>
            <a:off x="3214800" y="463068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7"/>
          <p:cNvSpPr/>
          <p:nvPr/>
        </p:nvSpPr>
        <p:spPr>
          <a:xfrm>
            <a:off x="3511080" y="4587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8"/>
          <p:cNvSpPr/>
          <p:nvPr/>
        </p:nvSpPr>
        <p:spPr>
          <a:xfrm>
            <a:off x="2772720" y="4416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9"/>
          <p:cNvSpPr/>
          <p:nvPr/>
        </p:nvSpPr>
        <p:spPr>
          <a:xfrm>
            <a:off x="4163400" y="4416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0"/>
          <p:cNvSpPr/>
          <p:nvPr/>
        </p:nvSpPr>
        <p:spPr>
          <a:xfrm>
            <a:off x="4369320" y="447516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venture"/>
                <a:ea typeface="Trebuchet MS"/>
              </a:rPr>
              <a:t>8 + 4√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41"/>
          <p:cNvSpPr/>
          <p:nvPr/>
        </p:nvSpPr>
        <p:spPr>
          <a:xfrm>
            <a:off x="2488680" y="4416480"/>
            <a:ext cx="4125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х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dventure"/>
                <a:ea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2428920" y="49316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16 - 8√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43"/>
          <p:cNvSpPr/>
          <p:nvPr/>
        </p:nvSpPr>
        <p:spPr>
          <a:xfrm>
            <a:off x="3214800" y="520380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4"/>
          <p:cNvSpPr/>
          <p:nvPr/>
        </p:nvSpPr>
        <p:spPr>
          <a:xfrm>
            <a:off x="3511080" y="5160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5"/>
          <p:cNvSpPr/>
          <p:nvPr/>
        </p:nvSpPr>
        <p:spPr>
          <a:xfrm>
            <a:off x="2772720" y="4989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6"/>
          <p:cNvSpPr/>
          <p:nvPr/>
        </p:nvSpPr>
        <p:spPr>
          <a:xfrm>
            <a:off x="4163400" y="498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7"/>
          <p:cNvSpPr/>
          <p:nvPr/>
        </p:nvSpPr>
        <p:spPr>
          <a:xfrm>
            <a:off x="4394520" y="50497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dventure"/>
                <a:ea typeface="Trebuchet MS"/>
              </a:rPr>
              <a:t>8 - 4√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8"/>
          <p:cNvSpPr/>
          <p:nvPr/>
        </p:nvSpPr>
        <p:spPr>
          <a:xfrm>
            <a:off x="2499480" y="4989600"/>
            <a:ext cx="4125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dventure"/>
                <a:ea typeface="Trebuchet MS"/>
              </a:rPr>
              <a:t>х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51"/>
          <p:cNvSpPr/>
          <p:nvPr/>
        </p:nvSpPr>
        <p:spPr>
          <a:xfrm>
            <a:off x="4000680" y="435780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60"/>
          <p:cNvSpPr/>
          <p:nvPr/>
        </p:nvSpPr>
        <p:spPr>
          <a:xfrm>
            <a:off x="4000680" y="492912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68"/>
          <p:cNvSpPr/>
          <p:nvPr/>
        </p:nvSpPr>
        <p:spPr>
          <a:xfrm>
            <a:off x="5072040" y="50594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69"/>
          <p:cNvSpPr/>
          <p:nvPr/>
        </p:nvSpPr>
        <p:spPr>
          <a:xfrm>
            <a:off x="5072040" y="44877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70"/>
          <p:cNvSpPr/>
          <p:nvPr/>
        </p:nvSpPr>
        <p:spPr>
          <a:xfrm>
            <a:off x="4214880" y="564372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73"/>
          <p:cNvSpPr/>
          <p:nvPr/>
        </p:nvSpPr>
        <p:spPr>
          <a:xfrm>
            <a:off x="4214880" y="600084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74"/>
          <p:cNvSpPr/>
          <p:nvPr/>
        </p:nvSpPr>
        <p:spPr>
          <a:xfrm>
            <a:off x="3429000" y="407196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75"/>
          <p:cNvSpPr/>
          <p:nvPr/>
        </p:nvSpPr>
        <p:spPr>
          <a:xfrm>
            <a:off x="2571840" y="407196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C:\Users\relide\Desktop\картинки у уроку\віапівп.png"/>
          <p:cNvPicPr/>
          <p:nvPr/>
        </p:nvPicPr>
        <p:blipFill>
          <a:blip r:embed="rId1"/>
          <a:stretch/>
        </p:blipFill>
        <p:spPr>
          <a:xfrm>
            <a:off x="7572240" y="556272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350" name="TextBox 77"/>
          <p:cNvSpPr/>
          <p:nvPr/>
        </p:nvSpPr>
        <p:spPr>
          <a:xfrm>
            <a:off x="7916040" y="5919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ашивка 78"/>
          <p:cNvSpPr/>
          <p:nvPr/>
        </p:nvSpPr>
        <p:spPr>
          <a:xfrm>
            <a:off x="8429760" y="6072120"/>
            <a:ext cx="285480" cy="285840"/>
          </a:xfrm>
          <a:custGeom>
            <a:avLst/>
            <a:gdLst>
              <a:gd name="textAreaLeft" fmla="*/ 0 w 285480"/>
              <a:gd name="textAreaRight" fmla="*/ 285840 w 2854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49"/>
          <p:cNvSpPr/>
          <p:nvPr/>
        </p:nvSpPr>
        <p:spPr>
          <a:xfrm>
            <a:off x="3596760" y="21430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imes New Roman"/>
              </a:rPr>
              <a:t>Из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imes New Roman"/>
              </a:rPr>
              <a:t>АВК (∠К=90°) по теореме Пифа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1"/>
          <p:cNvSpPr/>
          <p:nvPr/>
        </p:nvSpPr>
        <p:spPr>
          <a:xfrm>
            <a:off x="135360" y="62866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62"/>
          <p:cNvSpPr/>
          <p:nvPr/>
        </p:nvSpPr>
        <p:spPr>
          <a:xfrm>
            <a:off x="939960" y="628668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2(8 + 4√3)с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63"/>
          <p:cNvSpPr/>
          <p:nvPr/>
        </p:nvSpPr>
        <p:spPr>
          <a:xfrm>
            <a:off x="2473920" y="62737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2(8 - 4√3)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64"/>
          <p:cNvSpPr/>
          <p:nvPr/>
        </p:nvSpPr>
        <p:spPr>
          <a:xfrm>
            <a:off x="3429000" y="628668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65"/>
          <p:cNvSpPr/>
          <p:nvPr/>
        </p:nvSpPr>
        <p:spPr>
          <a:xfrm>
            <a:off x="1928880" y="6286680"/>
            <a:ext cx="21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utoShape 15"/>
          <p:cNvSpPr/>
          <p:nvPr/>
        </p:nvSpPr>
        <p:spPr>
          <a:xfrm rot="21547200">
            <a:off x="450720" y="299880"/>
            <a:ext cx="1884600" cy="29322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2286000" y="15382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"/>
          <p:cNvSpPr/>
          <p:nvPr/>
        </p:nvSpPr>
        <p:spPr>
          <a:xfrm>
            <a:off x="3524760" y="838080"/>
            <a:ext cx="4999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Дано: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С</a:t>
            </a:r>
            <a:r>
              <a:rPr b="0" lang="en-US" sz="2400" spc="-1" strike="noStrike">
                <a:solidFill>
                  <a:srgbClr val="000000"/>
                </a:solidFill>
                <a:latin typeface="Adventure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– ромб, АК – выс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К=6см,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∠С=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Найти: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Р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dventure"/>
              </a:rPr>
              <a:t>АВСД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5408640" y="21477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1554120" y="3240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3746160" y="10944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*** (запиши в тетрад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8"/>
          <p:cNvSpPr/>
          <p:nvPr/>
        </p:nvSpPr>
        <p:spPr>
          <a:xfrm rot="3464400">
            <a:off x="1592280" y="816120"/>
            <a:ext cx="162000" cy="164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9"/>
          <p:cNvSpPr/>
          <p:nvPr/>
        </p:nvSpPr>
        <p:spPr>
          <a:xfrm>
            <a:off x="1780200" y="6429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22040" y="15717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Дуга 12"/>
          <p:cNvSpPr/>
          <p:nvPr/>
        </p:nvSpPr>
        <p:spPr>
          <a:xfrm rot="14521800">
            <a:off x="2140920" y="1555200"/>
            <a:ext cx="345960" cy="365040"/>
          </a:xfrm>
          <a:custGeom>
            <a:avLst/>
            <a:gdLst>
              <a:gd name="textAreaLeft" fmla="*/ 80280 w 345960"/>
              <a:gd name="textAreaRight" fmla="*/ 345600 w 345960"/>
              <a:gd name="textAreaTop" fmla="*/ 0 h 365040"/>
              <a:gd name="textAreaBottom" fmla="*/ 167400 h 365040"/>
            </a:gdLst>
            <a:ahLst/>
            <a:rect l="textAreaLeft" t="textAreaTop" r="textAreaRight" b="textAreaBottom"/>
            <a:pathLst>
              <a:path stroke="0" w="346075" h="365125">
                <a:moveTo>
                  <a:pt x="80488" y="28307"/>
                </a:moveTo>
                <a:lnTo>
                  <a:pt x="80488" y="28307"/>
                </a:lnTo>
                <a:arcTo wR="173038" hR="182563" stAng="-7257750" swAng="6955700"/>
                <a:lnTo>
                  <a:pt x="173038" y="182563"/>
                </a:lnTo>
                <a:close/>
              </a:path>
              <a:path fill="none" w="346075" h="365125">
                <a:moveTo>
                  <a:pt x="80488" y="28307"/>
                </a:moveTo>
                <a:lnTo>
                  <a:pt x="80488" y="28307"/>
                </a:lnTo>
                <a:arcTo wR="173038" hR="182563" stAng="-7257750" swAng="6955700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1071720" y="4874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Дуга 14"/>
          <p:cNvSpPr/>
          <p:nvPr/>
        </p:nvSpPr>
        <p:spPr>
          <a:xfrm>
            <a:off x="571680" y="1357200"/>
            <a:ext cx="285480" cy="357480"/>
          </a:xfrm>
          <a:custGeom>
            <a:avLst/>
            <a:gdLst>
              <a:gd name="textAreaLeft" fmla="*/ 142920 w 285480"/>
              <a:gd name="textAreaRight" fmla="*/ 285840 w 285480"/>
              <a:gd name="textAreaTop" fmla="*/ 0 h 357480"/>
              <a:gd name="textAreaBottom" fmla="*/ 178920 h 357480"/>
            </a:gdLst>
            <a:ahLst/>
            <a:rect l="textAreaLeft" t="textAreaTop" r="textAreaRight" b="textAreaBottom"/>
            <a:pathLst>
              <a:path stroke="0" w="285750" h="357187">
                <a:moveTo>
                  <a:pt x="142875" y="0"/>
                </a:moveTo>
                <a:lnTo>
                  <a:pt x="142875" y="0"/>
                </a:lnTo>
                <a:arcTo wR="142875" hR="178594" stAng="-5400000" swAng="5400000"/>
                <a:lnTo>
                  <a:pt x="142875" y="178594"/>
                </a:lnTo>
                <a:close/>
              </a:path>
              <a:path fill="none" w="285750" h="357187">
                <a:moveTo>
                  <a:pt x="142875" y="0"/>
                </a:moveTo>
                <a:lnTo>
                  <a:pt x="142875" y="0"/>
                </a:lnTo>
                <a:arcTo wR="142875" hR="178594" stAng="-5400000" swAng="5400000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Дуга 15"/>
          <p:cNvSpPr/>
          <p:nvPr/>
        </p:nvSpPr>
        <p:spPr>
          <a:xfrm rot="7931400">
            <a:off x="1216080" y="144360"/>
            <a:ext cx="357120" cy="357120"/>
          </a:xfrm>
          <a:custGeom>
            <a:avLst/>
            <a:gdLst>
              <a:gd name="textAreaLeft" fmla="*/ 222840 w 357120"/>
              <a:gd name="textAreaRight" fmla="*/ 357480 w 357120"/>
              <a:gd name="textAreaTop" fmla="*/ 540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357187" h="357188">
                <a:moveTo>
                  <a:pt x="222885" y="5579"/>
                </a:moveTo>
                <a:lnTo>
                  <a:pt x="222885" y="5579"/>
                </a:lnTo>
                <a:arcTo wR="178594" hR="178594" stAng="-4538437" swAng="4538437"/>
                <a:lnTo>
                  <a:pt x="178594" y="178594"/>
                </a:lnTo>
                <a:close/>
              </a:path>
              <a:path fill="none" w="357187" h="357188">
                <a:moveTo>
                  <a:pt x="222885" y="5579"/>
                </a:moveTo>
                <a:lnTo>
                  <a:pt x="222885" y="5579"/>
                </a:lnTo>
                <a:arcTo wR="178594" hR="178594" stAng="-4538437" swAng="4538437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6"/>
          <p:cNvSpPr/>
          <p:nvPr/>
        </p:nvSpPr>
        <p:spPr>
          <a:xfrm>
            <a:off x="1500120" y="15717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venture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7"/>
          <p:cNvSpPr/>
          <p:nvPr/>
        </p:nvSpPr>
        <p:spPr>
          <a:xfrm>
            <a:off x="423360" y="7142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dventure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1"/>
          <p:cNvSpPr/>
          <p:nvPr/>
        </p:nvSpPr>
        <p:spPr>
          <a:xfrm>
            <a:off x="1340640" y="71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ventur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33"/>
          <p:cNvSpPr/>
          <p:nvPr/>
        </p:nvSpPr>
        <p:spPr>
          <a:xfrm flipV="1">
            <a:off x="450000" y="928800"/>
            <a:ext cx="1335240" cy="8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Дуга 34"/>
          <p:cNvSpPr/>
          <p:nvPr/>
        </p:nvSpPr>
        <p:spPr>
          <a:xfrm>
            <a:off x="500040" y="1428840"/>
            <a:ext cx="285840" cy="285840"/>
          </a:xfrm>
          <a:custGeom>
            <a:avLst/>
            <a:gdLst>
              <a:gd name="textAreaLeft" fmla="*/ 142920 w 285840"/>
              <a:gd name="textAreaRight" fmla="*/ 286200 w 285840"/>
              <a:gd name="textAreaTop" fmla="*/ 0 h 285840"/>
              <a:gd name="textAreaBottom" fmla="*/ 142920 h 285840"/>
            </a:gdLst>
            <a:ahLst/>
            <a:rect l="textAreaLeft" t="textAreaTop" r="textAreaRight" b="textAreaBottom"/>
            <a:pathLst>
              <a:path stroke="0" w="285750" h="285750">
                <a:moveTo>
                  <a:pt x="142875" y="0"/>
                </a:moveTo>
                <a:lnTo>
                  <a:pt x="142875" y="0"/>
                </a:lnTo>
                <a:arcTo wR="142875" hR="142875" stAng="-5400000" swAng="5400000"/>
                <a:lnTo>
                  <a:pt x="142875" y="142875"/>
                </a:lnTo>
                <a:close/>
              </a:path>
              <a:path fill="none" w="285750" h="285750">
                <a:moveTo>
                  <a:pt x="142875" y="0"/>
                </a:moveTo>
                <a:lnTo>
                  <a:pt x="142875" y="0"/>
                </a:lnTo>
                <a:arcTo wR="142875" hR="142875" stAng="-5400000" swAng="5400000"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5"/>
          <p:cNvSpPr/>
          <p:nvPr/>
        </p:nvSpPr>
        <p:spPr>
          <a:xfrm>
            <a:off x="698040" y="1143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dventure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6"/>
          <p:cNvSpPr/>
          <p:nvPr/>
        </p:nvSpPr>
        <p:spPr>
          <a:xfrm>
            <a:off x="1297080" y="32148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ventur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38"/>
          <p:cNvSpPr/>
          <p:nvPr/>
        </p:nvSpPr>
        <p:spPr>
          <a:xfrm>
            <a:off x="4952160" y="2643120"/>
            <a:ext cx="1518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Р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Adventure"/>
                <a:ea typeface="Trebuchet MS"/>
              </a:rPr>
              <a:t>АВСД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= 4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3" descr=""/>
          <p:cNvPicPr/>
          <p:nvPr/>
        </p:nvPicPr>
        <p:blipFill>
          <a:blip r:embed="rId1"/>
          <a:stretch/>
        </p:blipFill>
        <p:spPr>
          <a:xfrm>
            <a:off x="3071880" y="45007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2" descr=""/>
          <p:cNvPicPr/>
          <p:nvPr/>
        </p:nvPicPr>
        <p:blipFill>
          <a:blip r:embed="rId2"/>
          <a:stretch/>
        </p:blipFill>
        <p:spPr>
          <a:xfrm>
            <a:off x="4129200" y="4500720"/>
            <a:ext cx="371520" cy="457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1" descr=""/>
          <p:cNvPicPr/>
          <p:nvPr/>
        </p:nvPicPr>
        <p:blipFill>
          <a:blip r:embed="rId3"/>
          <a:stretch/>
        </p:blipFill>
        <p:spPr>
          <a:xfrm>
            <a:off x="3486240" y="4829040"/>
            <a:ext cx="371520" cy="457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0" descr=""/>
          <p:cNvPicPr/>
          <p:nvPr/>
        </p:nvPicPr>
        <p:blipFill>
          <a:blip r:embed="rId4"/>
          <a:stretch/>
        </p:blipFill>
        <p:spPr>
          <a:xfrm>
            <a:off x="3429000" y="5214960"/>
            <a:ext cx="371520" cy="4572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4"/>
          <p:cNvSpPr/>
          <p:nvPr/>
        </p:nvSpPr>
        <p:spPr>
          <a:xfrm>
            <a:off x="2714760" y="3252600"/>
            <a:ext cx="178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+36=(2х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3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rebuchet MS"/>
              </a:rPr>
              <a:t>=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х=   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6"/>
          <p:cNvSpPr/>
          <p:nvPr/>
        </p:nvSpPr>
        <p:spPr>
          <a:xfrm flipV="1" rot="10800000">
            <a:off x="2714760" y="48578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imes New Roman"/>
              </a:rPr>
              <a:t>АВ=4  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7"/>
          <p:cNvSpPr/>
          <p:nvPr/>
        </p:nvSpPr>
        <p:spPr>
          <a:xfrm>
            <a:off x="2643120" y="488700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imes New Roman"/>
              </a:rPr>
              <a:t>Р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8"/>
          <p:cNvSpPr/>
          <p:nvPr/>
        </p:nvSpPr>
        <p:spPr>
          <a:xfrm>
            <a:off x="3786120" y="4887000"/>
            <a:ext cx="6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  <a:ea typeface="Times New Roman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30"/>
          <p:cNvSpPr/>
          <p:nvPr/>
        </p:nvSpPr>
        <p:spPr>
          <a:xfrm>
            <a:off x="1141920" y="121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C:\Users\relide\Desktop\картинки у уроку\віапівп.png"/>
          <p:cNvPicPr/>
          <p:nvPr/>
        </p:nvPicPr>
        <p:blipFill>
          <a:blip r:embed="rId5"/>
          <a:stretch/>
        </p:blipFill>
        <p:spPr>
          <a:xfrm>
            <a:off x="7572240" y="556272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43"/>
          <p:cNvSpPr/>
          <p:nvPr/>
        </p:nvSpPr>
        <p:spPr>
          <a:xfrm>
            <a:off x="7916040" y="5919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ашивка 44"/>
          <p:cNvSpPr/>
          <p:nvPr/>
        </p:nvSpPr>
        <p:spPr>
          <a:xfrm>
            <a:off x="8429760" y="6072120"/>
            <a:ext cx="285480" cy="285840"/>
          </a:xfrm>
          <a:custGeom>
            <a:avLst/>
            <a:gdLst>
              <a:gd name="textAreaLeft" fmla="*/ 0 w 285480"/>
              <a:gd name="textAreaRight" fmla="*/ 285840 w 2854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37"/>
          <p:cNvSpPr/>
          <p:nvPr/>
        </p:nvSpPr>
        <p:spPr>
          <a:xfrm>
            <a:off x="2372760" y="30718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imes New Roman"/>
              </a:rPr>
              <a:t>Из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imes New Roman"/>
              </a:rPr>
              <a:t>АВК (∠К=90°) по теореме Пифа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39"/>
          <p:cNvSpPr/>
          <p:nvPr/>
        </p:nvSpPr>
        <p:spPr>
          <a:xfrm>
            <a:off x="136800" y="62866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40"/>
          <p:cNvSpPr/>
          <p:nvPr/>
        </p:nvSpPr>
        <p:spPr>
          <a:xfrm>
            <a:off x="1000080" y="6286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imes New Roman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imes New Roman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0" descr=""/>
          <p:cNvPicPr/>
          <p:nvPr/>
        </p:nvPicPr>
        <p:blipFill>
          <a:blip r:embed="rId6"/>
          <a:stretch/>
        </p:blipFill>
        <p:spPr>
          <a:xfrm>
            <a:off x="1352520" y="6286680"/>
            <a:ext cx="290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Равнобедренный треугольник 30"/>
          <p:cNvSpPr/>
          <p:nvPr/>
        </p:nvSpPr>
        <p:spPr>
          <a:xfrm>
            <a:off x="1143000" y="1000080"/>
            <a:ext cx="4000680" cy="1784520"/>
          </a:xfrm>
          <a:prstGeom prst="triangle">
            <a:avLst>
              <a:gd name="adj" fmla="val 720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5000760" y="275256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2482560" y="15001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9"/>
          <p:cNvSpPr/>
          <p:nvPr/>
        </p:nvSpPr>
        <p:spPr>
          <a:xfrm>
            <a:off x="3836160" y="27511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772920" y="27511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4518720" y="157176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venture"/>
              </a:rPr>
              <a:t>x</a:t>
            </a:r>
            <a:r>
              <a:rPr b="1" lang="ru-RU" sz="2400" spc="-1" strike="noStrike">
                <a:solidFill>
                  <a:srgbClr val="ff0000"/>
                </a:solidFill>
                <a:latin typeface="Adventure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1"/>
          <p:cNvSpPr/>
          <p:nvPr/>
        </p:nvSpPr>
        <p:spPr>
          <a:xfrm>
            <a:off x="3989880" y="6793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ventur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37"/>
          <p:cNvSpPr/>
          <p:nvPr/>
        </p:nvSpPr>
        <p:spPr>
          <a:xfrm>
            <a:off x="4024440" y="1000080"/>
            <a:ext cx="0" cy="178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42"/>
          <p:cNvSpPr/>
          <p:nvPr/>
        </p:nvSpPr>
        <p:spPr>
          <a:xfrm>
            <a:off x="357120" y="2784600"/>
            <a:ext cx="564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46"/>
          <p:cNvSpPr/>
          <p:nvPr/>
        </p:nvSpPr>
        <p:spPr>
          <a:xfrm>
            <a:off x="2288160" y="16812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51"/>
          <p:cNvSpPr/>
          <p:nvPr/>
        </p:nvSpPr>
        <p:spPr>
          <a:xfrm>
            <a:off x="3786120" y="2571840"/>
            <a:ext cx="214560" cy="214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5"/>
          <p:cNvSpPr/>
          <p:nvPr/>
        </p:nvSpPr>
        <p:spPr>
          <a:xfrm>
            <a:off x="249912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6"/>
          <p:cNvSpPr/>
          <p:nvPr/>
        </p:nvSpPr>
        <p:spPr>
          <a:xfrm>
            <a:off x="442260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4717080" y="18572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9"/>
          <p:cNvSpPr/>
          <p:nvPr/>
        </p:nvSpPr>
        <p:spPr>
          <a:xfrm>
            <a:off x="2001600" y="4071960"/>
            <a:ext cx="355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 – 81 = (х – 2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 –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 – 81 =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dventure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 – 4х + 4 –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4х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х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АВ = 1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ВС = 13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3820680" y="10944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№</a:t>
            </a:r>
            <a:r>
              <a:rPr b="1" lang="ru-RU" sz="2400" spc="-1" strike="noStrike">
                <a:solidFill>
                  <a:srgbClr val="3333ff"/>
                </a:solidFill>
                <a:latin typeface="Adventure"/>
              </a:rPr>
              <a:t>215 (запиши в тетрад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C:\Users\relide\Desktop\картинки у уроку\віапівп.png"/>
          <p:cNvPicPr/>
          <p:nvPr/>
        </p:nvPicPr>
        <p:blipFill>
          <a:blip r:embed="rId1"/>
          <a:stretch/>
        </p:blipFill>
        <p:spPr>
          <a:xfrm>
            <a:off x="7572240" y="556272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22"/>
          <p:cNvSpPr/>
          <p:nvPr/>
        </p:nvSpPr>
        <p:spPr>
          <a:xfrm>
            <a:off x="7916040" y="5919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ашивка 23"/>
          <p:cNvSpPr/>
          <p:nvPr/>
        </p:nvSpPr>
        <p:spPr>
          <a:xfrm>
            <a:off x="8429760" y="6072120"/>
            <a:ext cx="285480" cy="285840"/>
          </a:xfrm>
          <a:custGeom>
            <a:avLst/>
            <a:gdLst>
              <a:gd name="textAreaLeft" fmla="*/ 0 w 285480"/>
              <a:gd name="textAreaRight" fmla="*/ 285840 w 2854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6"/>
          <p:cNvSpPr/>
          <p:nvPr/>
        </p:nvSpPr>
        <p:spPr>
          <a:xfrm>
            <a:off x="5020920" y="785880"/>
            <a:ext cx="412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Дано: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, ВС – наклон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К и КС – прое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ВК – перпендикуля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К=9см, КС=5с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ВС на 2см меньше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      </a:t>
            </a:r>
            <a:r>
              <a:rPr b="0" lang="ru-RU" sz="2400" spc="-1" strike="noStrike">
                <a:solidFill>
                  <a:srgbClr val="3333ff"/>
                </a:solidFill>
                <a:latin typeface="Adventure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АВ, 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7"/>
          <p:cNvSpPr/>
          <p:nvPr/>
        </p:nvSpPr>
        <p:spPr>
          <a:xfrm>
            <a:off x="2727360" y="3110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venture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4200" y="34275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По теореме Пифагора из </a:t>
            </a:r>
            <a:r>
              <a:rPr b="1" lang="el-GR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АВК (∠К=90°): ВК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= АВ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– АК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из </a:t>
            </a:r>
            <a:r>
              <a:rPr b="1" lang="el-GR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Δ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ВСК (∠К=90°): ВК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= ВС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– КС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dventure"/>
                <a:ea typeface="Trebuchet MS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dventure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25"/>
          <p:cNvSpPr/>
          <p:nvPr/>
        </p:nvSpPr>
        <p:spPr>
          <a:xfrm>
            <a:off x="70920" y="62866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dventure"/>
              </a:rPr>
              <a:t>Ответ: 15см, 13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1551600" y="1857240"/>
            <a:ext cx="62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Запол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путевой журна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6" dur="8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400"/>
                            </p:stCondLst>
                            <p:childTnLst>
                              <p:par>
                                <p:cTn id="1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1" dur="8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2" dur="8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7" descr="theseus_minotaur_mosaic.jpg"/>
          <p:cNvPicPr/>
          <p:nvPr/>
        </p:nvPicPr>
        <p:blipFill>
          <a:blip r:embed="rId1"/>
          <a:stretch/>
        </p:blipFill>
        <p:spPr>
          <a:xfrm>
            <a:off x="357120" y="4572000"/>
            <a:ext cx="2502000" cy="1857240"/>
          </a:xfrm>
          <a:prstGeom prst="rect">
            <a:avLst/>
          </a:prstGeom>
          <a:ln w="9360">
            <a:solidFill>
              <a:srgbClr val="4c3020"/>
            </a:solidFill>
            <a:miter/>
          </a:ln>
        </p:spPr>
      </p:pic>
      <p:sp>
        <p:nvSpPr>
          <p:cNvPr id="420" name="Прямоугольник 1"/>
          <p:cNvSpPr/>
          <p:nvPr/>
        </p:nvSpPr>
        <p:spPr>
          <a:xfrm>
            <a:off x="-285840" y="142920"/>
            <a:ext cx="9715680" cy="647640"/>
          </a:xfrm>
          <a:prstGeom prst="rect">
            <a:avLst/>
          </a:prstGeom>
          <a:gradFill rotWithShape="0">
            <a:gsLst>
              <a:gs pos="0">
                <a:srgbClr val="fdfefc"/>
              </a:gs>
              <a:gs pos="100000">
                <a:srgbClr val="f9db91"/>
              </a:gs>
            </a:gsLst>
            <a:lin ang="2700000"/>
          </a:gra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Прямоугольник 2" descr=""/>
          <p:cNvPicPr/>
          <p:nvPr/>
        </p:nvPicPr>
        <p:blipFill>
          <a:blip r:embed="rId2"/>
          <a:stretch/>
        </p:blipFill>
        <p:spPr>
          <a:xfrm>
            <a:off x="23760" y="-55440"/>
            <a:ext cx="7042320" cy="847440"/>
          </a:xfrm>
          <a:prstGeom prst="rect">
            <a:avLst/>
          </a:prstGeom>
          <a:ln w="0">
            <a:noFill/>
          </a:ln>
        </p:spPr>
      </p:pic>
      <p:sp>
        <p:nvSpPr>
          <p:cNvPr id="422" name="Скругленный прямоугольник 5"/>
          <p:cNvSpPr/>
          <p:nvPr/>
        </p:nvSpPr>
        <p:spPr>
          <a:xfrm>
            <a:off x="7358040" y="357120"/>
            <a:ext cx="1785960" cy="585792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5857920"/>
              <a:gd name="textAreaBottom" fmla="*/ 5770800 h 5857920"/>
            </a:gdLst>
            <a:ahLst/>
            <a:rect l="textAreaLeft" t="textAreaTop" r="textAreaRight" b="textAreaBottom"/>
            <a:pathLst>
              <a:path w="21600" h="70838">
                <a:moveTo>
                  <a:pt x="3600" y="0"/>
                </a:moveTo>
                <a:arcTo wR="3600" hR="3600" stAng="16200000" swAng="-5400000"/>
                <a:lnTo>
                  <a:pt x="0" y="67238"/>
                </a:lnTo>
                <a:arcTo wR="3600" hR="3600" stAng="10800000" swAng="-5400000"/>
                <a:lnTo>
                  <a:pt x="18000" y="70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0404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6" descr="Ar.gif"/>
          <p:cNvPicPr/>
          <p:nvPr/>
        </p:nvPicPr>
        <p:blipFill>
          <a:blip r:embed="rId3"/>
          <a:stretch/>
        </p:blipFill>
        <p:spPr>
          <a:xfrm>
            <a:off x="7394400" y="353880"/>
            <a:ext cx="1694160" cy="6875640"/>
          </a:xfrm>
          <a:prstGeom prst="rect">
            <a:avLst/>
          </a:prstGeom>
          <a:ln w="0">
            <a:noFill/>
          </a:ln>
        </p:spPr>
      </p:pic>
      <p:grpSp>
        <p:nvGrpSpPr>
          <p:cNvPr id="424" name="Полилиния 10"/>
          <p:cNvGrpSpPr/>
          <p:nvPr/>
        </p:nvGrpSpPr>
        <p:grpSpPr>
          <a:xfrm>
            <a:off x="2066760" y="1420920"/>
            <a:ext cx="5596200" cy="4986000"/>
            <a:chOff x="2066760" y="1420920"/>
            <a:chExt cx="5596200" cy="4986000"/>
          </a:xfrm>
        </p:grpSpPr>
        <p:pic>
          <p:nvPicPr>
            <p:cNvPr id="425" name="Полилиния 10" descr=""/>
            <p:cNvPicPr/>
            <p:nvPr/>
          </p:nvPicPr>
          <p:blipFill>
            <a:blip r:embed="rId4"/>
            <a:stretch/>
          </p:blipFill>
          <p:spPr>
            <a:xfrm>
              <a:off x="2066760" y="1420920"/>
              <a:ext cx="5596200" cy="49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071800" y="1428480"/>
              <a:ext cx="557352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Box 12"/>
          <p:cNvSpPr/>
          <p:nvPr/>
        </p:nvSpPr>
        <p:spPr>
          <a:xfrm>
            <a:off x="307080" y="1285920"/>
            <a:ext cx="69595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3805"/>
                </a:solidFill>
                <a:latin typeface="Adventure"/>
              </a:rPr>
              <a:t>Подведение итогов, выставление оц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3805"/>
                </a:solidFill>
                <a:latin typeface="Adventure"/>
              </a:rPr>
              <a:t>Домашнее задание</a:t>
            </a:r>
            <a:r>
              <a:rPr b="0" lang="ru-RU" sz="2400" spc="-1" strike="noStrike">
                <a:solidFill>
                  <a:srgbClr val="753805"/>
                </a:solidFill>
                <a:latin typeface="Adventure"/>
              </a:rPr>
              <a:t>: </a:t>
            </a: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повторить прави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                         </a:t>
            </a: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подготовиться к самостоятельной раб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                         </a:t>
            </a: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решить №200, №213, №216, №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                         </a:t>
            </a: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(сборник задач и контроль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                         </a:t>
            </a:r>
            <a:r>
              <a:rPr b="0" lang="ru-RU" sz="1800" spc="-1" strike="noStrike">
                <a:solidFill>
                  <a:srgbClr val="753805"/>
                </a:solidFill>
                <a:latin typeface="Adventure"/>
              </a:rPr>
              <a:t>под редакцией А.Г. Мерзля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1"/>
          <p:cNvSpPr/>
          <p:nvPr/>
        </p:nvSpPr>
        <p:spPr>
          <a:xfrm>
            <a:off x="1967040" y="1643040"/>
            <a:ext cx="5357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Нет смысла в знаниях больш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Коль ты не применяеш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Всё обо всём и понемн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Закроет к истин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Ты связи главное пой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И их на деле при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Не надо лишнее, пуст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А помни только основ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кругленный прямоугольник 5"/>
          <p:cNvSpPr/>
          <p:nvPr/>
        </p:nvSpPr>
        <p:spPr>
          <a:xfrm>
            <a:off x="7286760" y="357120"/>
            <a:ext cx="1785960" cy="585792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5857920"/>
              <a:gd name="textAreaBottom" fmla="*/ 5770800 h 5857920"/>
            </a:gdLst>
            <a:ahLst/>
            <a:rect l="textAreaLeft" t="textAreaTop" r="textAreaRight" b="textAreaBottom"/>
            <a:pathLst>
              <a:path w="21600" h="70838">
                <a:moveTo>
                  <a:pt x="3600" y="0"/>
                </a:moveTo>
                <a:arcTo wR="3600" hR="3600" stAng="16200000" swAng="-5400000"/>
                <a:lnTo>
                  <a:pt x="0" y="67238"/>
                </a:lnTo>
                <a:arcTo wR="3600" hR="3600" stAng="10800000" swAng="-5400000"/>
                <a:lnTo>
                  <a:pt x="18000" y="70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0404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Рисунок 6" descr="Ar.gif"/>
          <p:cNvPicPr/>
          <p:nvPr/>
        </p:nvPicPr>
        <p:blipFill>
          <a:blip r:embed="rId1"/>
          <a:stretch/>
        </p:blipFill>
        <p:spPr>
          <a:xfrm>
            <a:off x="7321680" y="353880"/>
            <a:ext cx="1699920" cy="687564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8" descr="lb.gif"/>
          <p:cNvPicPr/>
          <p:nvPr/>
        </p:nvPicPr>
        <p:blipFill>
          <a:blip r:embed="rId2"/>
          <a:stretch/>
        </p:blipFill>
        <p:spPr>
          <a:xfrm>
            <a:off x="139680" y="3676680"/>
            <a:ext cx="1762200" cy="4516560"/>
          </a:xfrm>
          <a:prstGeom prst="rect">
            <a:avLst/>
          </a:prstGeom>
          <a:ln w="0">
            <a:noFill/>
          </a:ln>
        </p:spPr>
      </p:pic>
      <p:grpSp>
        <p:nvGrpSpPr>
          <p:cNvPr id="432" name="Полилиния 9"/>
          <p:cNvGrpSpPr/>
          <p:nvPr/>
        </p:nvGrpSpPr>
        <p:grpSpPr>
          <a:xfrm>
            <a:off x="1066680" y="1420920"/>
            <a:ext cx="6596280" cy="4986000"/>
            <a:chOff x="1066680" y="1420920"/>
            <a:chExt cx="6596280" cy="4986000"/>
          </a:xfrm>
        </p:grpSpPr>
        <p:pic>
          <p:nvPicPr>
            <p:cNvPr id="433" name="Полилиния 9" descr=""/>
            <p:cNvPicPr/>
            <p:nvPr/>
          </p:nvPicPr>
          <p:blipFill>
            <a:blip r:embed="rId3"/>
            <a:stretch/>
          </p:blipFill>
          <p:spPr>
            <a:xfrm>
              <a:off x="1066680" y="1420920"/>
              <a:ext cx="6596280" cy="49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1071720" y="1428480"/>
              <a:ext cx="657360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Box 10"/>
          <p:cNvSpPr/>
          <p:nvPr/>
        </p:nvSpPr>
        <p:spPr>
          <a:xfrm>
            <a:off x="4475880" y="457200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dventure"/>
              </a:rPr>
              <a:t>И.Н. Холо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relide\Desktop\картинки у уроку\1261321062_1pergame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2682720" y="500040"/>
            <a:ext cx="43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dventure"/>
              </a:rPr>
              <a:t>Организац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586440" y="1357200"/>
            <a:ext cx="846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 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До изучения теоремы Пифагора мы смотрели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геометрию в замочную скважину, а теорема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«золотой ключик», позволяющий открыть дверь в удивительну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полную неожиданностей, страну «Геометри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Сегодня мы совершим путешествие по этой загадочно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670320" y="3000240"/>
            <a:ext cx="59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 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Для того что бы увидеть и узнать как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больше, создадим три туристические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Каждая группа пойдёт по своему маршру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36440" y="4071960"/>
            <a:ext cx="632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  </a:t>
            </a: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Чтобы наше путешествие прошло организова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и вы не заблудились в «джунглях геометр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каждую группу возглавит капи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2020"/>
                </a:solidFill>
                <a:latin typeface="Adventure"/>
              </a:rPr>
              <a:t>Выберите самостоятельно капит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C:\Users\relide\Desktop\картинки у уроку\віапівп.png"/>
          <p:cNvPicPr/>
          <p:nvPr/>
        </p:nvPicPr>
        <p:blipFill>
          <a:blip r:embed="rId1"/>
          <a:stretch/>
        </p:blipFill>
        <p:spPr>
          <a:xfrm>
            <a:off x="-571680" y="-928800"/>
            <a:ext cx="10429920" cy="8685360"/>
          </a:xfrm>
          <a:prstGeom prst="rect">
            <a:avLst/>
          </a:prstGeom>
          <a:ln w="0">
            <a:noFill/>
          </a:ln>
        </p:spPr>
      </p:pic>
      <p:pic>
        <p:nvPicPr>
          <p:cNvPr id="73" name="Таблица 3" descr=""/>
          <p:cNvPicPr/>
          <p:nvPr/>
        </p:nvPicPr>
        <p:blipFill>
          <a:blip r:embed="rId2"/>
          <a:stretch/>
        </p:blipFill>
        <p:spPr>
          <a:xfrm>
            <a:off x="139680" y="1925640"/>
            <a:ext cx="8577360" cy="2743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1872360" y="92880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dventure"/>
              </a:rPr>
              <a:t>Путевой журн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096560" y="5000760"/>
            <a:ext cx="64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dventure"/>
              </a:rPr>
              <a:t>путевые журналы получают капитаны ком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dventure"/>
              </a:rPr>
              <a:t>и заполняют после каждого кон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Users\relide\Desktop\ывы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карта"/>
          <p:cNvPicPr/>
          <p:nvPr/>
        </p:nvPicPr>
        <p:blipFill>
          <a:blip r:embed="rId2"/>
          <a:stretch/>
        </p:blipFill>
        <p:spPr>
          <a:xfrm>
            <a:off x="1357200" y="357120"/>
            <a:ext cx="6643800" cy="5000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032560" y="35712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dventure"/>
              </a:rPr>
              <a:t>Маршрут путеше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-163080" y="47862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«Собираем чемода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-2880" y="171468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Морской кру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2620440" y="857160"/>
            <a:ext cx="25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Отдых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острове Сам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6367320" y="12142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Полет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воздушном ша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7182720" y="4071960"/>
            <a:ext cx="159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Встр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у кос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3575520" y="48578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dventure"/>
                <a:ea typeface="Trebuchet MS"/>
              </a:rPr>
              <a:t>Лабири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"/>
          <p:cNvSpPr/>
          <p:nvPr/>
        </p:nvSpPr>
        <p:spPr>
          <a:xfrm rot="19713000">
            <a:off x="766800" y="2400120"/>
            <a:ext cx="1344600" cy="223668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2236680"/>
              <a:gd name="textAreaBottom" fmla="*/ 2237040 h 2236680"/>
            </a:gdLst>
            <a:ahLst/>
            <a:rect l="textAreaLeft" t="textAreaTop" r="textAreaRight" b="textAreaBottom"/>
            <a:pathLst>
              <a:path w="1096" h="1285">
                <a:moveTo>
                  <a:pt x="325" y="1285"/>
                </a:moveTo>
                <a:cubicBezTo>
                  <a:pt x="238" y="1156"/>
                  <a:pt x="151" y="1027"/>
                  <a:pt x="98" y="876"/>
                </a:cubicBezTo>
                <a:cubicBezTo>
                  <a:pt x="45" y="725"/>
                  <a:pt x="0" y="513"/>
                  <a:pt x="7" y="377"/>
                </a:cubicBezTo>
                <a:cubicBezTo>
                  <a:pt x="14" y="241"/>
                  <a:pt x="52" y="120"/>
                  <a:pt x="143" y="60"/>
                </a:cubicBezTo>
                <a:cubicBezTo>
                  <a:pt x="234" y="0"/>
                  <a:pt x="424" y="8"/>
                  <a:pt x="552" y="15"/>
                </a:cubicBezTo>
                <a:cubicBezTo>
                  <a:pt x="680" y="22"/>
                  <a:pt x="823" y="75"/>
                  <a:pt x="914" y="105"/>
                </a:cubicBezTo>
                <a:cubicBezTo>
                  <a:pt x="1005" y="135"/>
                  <a:pt x="1050" y="165"/>
                  <a:pt x="1096" y="1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3"/>
          <p:cNvSpPr/>
          <p:nvPr/>
        </p:nvSpPr>
        <p:spPr>
          <a:xfrm flipV="1" rot="21302400">
            <a:off x="1530360" y="2263320"/>
            <a:ext cx="2822400" cy="824040"/>
          </a:xfrm>
          <a:custGeom>
            <a:avLst/>
            <a:gdLst>
              <a:gd name="textAreaLeft" fmla="*/ 0 w 2822400"/>
              <a:gd name="textAreaRight" fmla="*/ 2822760 w 2822400"/>
              <a:gd name="textAreaTop" fmla="*/ -360 h 824040"/>
              <a:gd name="textAreaBottom" fmla="*/ 824040 h 824040"/>
            </a:gdLst>
            <a:ahLst/>
            <a:rect l="textAreaLeft" t="textAreaTop" r="textAreaRight" b="textAreaBottom"/>
            <a:pathLst>
              <a:path w="1051" h="363">
                <a:moveTo>
                  <a:pt x="53" y="340"/>
                </a:moveTo>
                <a:cubicBezTo>
                  <a:pt x="30" y="272"/>
                  <a:pt x="8" y="204"/>
                  <a:pt x="8" y="159"/>
                </a:cubicBezTo>
                <a:cubicBezTo>
                  <a:pt x="8" y="114"/>
                  <a:pt x="0" y="91"/>
                  <a:pt x="53" y="68"/>
                </a:cubicBezTo>
                <a:cubicBezTo>
                  <a:pt x="106" y="45"/>
                  <a:pt x="234" y="0"/>
                  <a:pt x="325" y="23"/>
                </a:cubicBezTo>
                <a:cubicBezTo>
                  <a:pt x="416" y="46"/>
                  <a:pt x="529" y="151"/>
                  <a:pt x="597" y="204"/>
                </a:cubicBezTo>
                <a:cubicBezTo>
                  <a:pt x="665" y="257"/>
                  <a:pt x="673" y="317"/>
                  <a:pt x="733" y="340"/>
                </a:cubicBezTo>
                <a:cubicBezTo>
                  <a:pt x="793" y="363"/>
                  <a:pt x="907" y="347"/>
                  <a:pt x="960" y="340"/>
                </a:cubicBezTo>
                <a:cubicBezTo>
                  <a:pt x="1013" y="333"/>
                  <a:pt x="1032" y="314"/>
                  <a:pt x="1051" y="295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 rot="7082400">
            <a:off x="5754960" y="2684880"/>
            <a:ext cx="2762280" cy="110304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1103040"/>
              <a:gd name="textAreaBottom" fmla="*/ 1103400 h 1103040"/>
            </a:gdLst>
            <a:ahLst/>
            <a:rect l="textAreaLeft" t="textAreaTop" r="textAreaRight" b="textAreaBottom"/>
            <a:pathLst>
              <a:path w="2473" h="695">
                <a:moveTo>
                  <a:pt x="386" y="695"/>
                </a:moveTo>
                <a:cubicBezTo>
                  <a:pt x="280" y="687"/>
                  <a:pt x="174" y="680"/>
                  <a:pt x="114" y="650"/>
                </a:cubicBezTo>
                <a:cubicBezTo>
                  <a:pt x="54" y="620"/>
                  <a:pt x="0" y="559"/>
                  <a:pt x="23" y="514"/>
                </a:cubicBezTo>
                <a:cubicBezTo>
                  <a:pt x="46" y="469"/>
                  <a:pt x="159" y="408"/>
                  <a:pt x="250" y="378"/>
                </a:cubicBezTo>
                <a:cubicBezTo>
                  <a:pt x="341" y="348"/>
                  <a:pt x="470" y="332"/>
                  <a:pt x="568" y="332"/>
                </a:cubicBezTo>
                <a:cubicBezTo>
                  <a:pt x="666" y="332"/>
                  <a:pt x="727" y="363"/>
                  <a:pt x="840" y="378"/>
                </a:cubicBezTo>
                <a:cubicBezTo>
                  <a:pt x="953" y="393"/>
                  <a:pt x="1097" y="431"/>
                  <a:pt x="1248" y="423"/>
                </a:cubicBezTo>
                <a:cubicBezTo>
                  <a:pt x="1399" y="415"/>
                  <a:pt x="1656" y="377"/>
                  <a:pt x="1747" y="332"/>
                </a:cubicBezTo>
                <a:cubicBezTo>
                  <a:pt x="1838" y="287"/>
                  <a:pt x="1754" y="204"/>
                  <a:pt x="1792" y="151"/>
                </a:cubicBezTo>
                <a:cubicBezTo>
                  <a:pt x="1830" y="98"/>
                  <a:pt x="1891" y="30"/>
                  <a:pt x="1974" y="15"/>
                </a:cubicBezTo>
                <a:cubicBezTo>
                  <a:pt x="2057" y="0"/>
                  <a:pt x="2208" y="37"/>
                  <a:pt x="2291" y="60"/>
                </a:cubicBezTo>
                <a:cubicBezTo>
                  <a:pt x="2374" y="83"/>
                  <a:pt x="2423" y="117"/>
                  <a:pt x="2473" y="151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3"/>
          <p:cNvSpPr/>
          <p:nvPr/>
        </p:nvSpPr>
        <p:spPr>
          <a:xfrm>
            <a:off x="4286160" y="1785960"/>
            <a:ext cx="2786040" cy="46656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1083" h="294">
                <a:moveTo>
                  <a:pt x="43" y="292"/>
                </a:moveTo>
                <a:cubicBezTo>
                  <a:pt x="35" y="265"/>
                  <a:pt x="6" y="168"/>
                  <a:pt x="8" y="129"/>
                </a:cubicBezTo>
                <a:cubicBezTo>
                  <a:pt x="10" y="90"/>
                  <a:pt x="0" y="74"/>
                  <a:pt x="55" y="55"/>
                </a:cubicBezTo>
                <a:cubicBezTo>
                  <a:pt x="110" y="36"/>
                  <a:pt x="242" y="0"/>
                  <a:pt x="336" y="19"/>
                </a:cubicBezTo>
                <a:cubicBezTo>
                  <a:pt x="431" y="37"/>
                  <a:pt x="548" y="122"/>
                  <a:pt x="618" y="165"/>
                </a:cubicBezTo>
                <a:cubicBezTo>
                  <a:pt x="688" y="208"/>
                  <a:pt x="697" y="257"/>
                  <a:pt x="759" y="275"/>
                </a:cubicBezTo>
                <a:cubicBezTo>
                  <a:pt x="821" y="294"/>
                  <a:pt x="940" y="286"/>
                  <a:pt x="994" y="275"/>
                </a:cubicBezTo>
                <a:cubicBezTo>
                  <a:pt x="1048" y="264"/>
                  <a:pt x="1065" y="225"/>
                  <a:pt x="1083" y="212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3"/>
          <p:cNvSpPr/>
          <p:nvPr/>
        </p:nvSpPr>
        <p:spPr>
          <a:xfrm rot="10800000">
            <a:off x="4428720" y="4571640"/>
            <a:ext cx="2536920" cy="811080"/>
          </a:xfrm>
          <a:custGeom>
            <a:avLst/>
            <a:gdLst>
              <a:gd name="textAreaLeft" fmla="*/ 0 w 2536920"/>
              <a:gd name="textAreaRight" fmla="*/ 2537280 w 253692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1051" h="363">
                <a:moveTo>
                  <a:pt x="53" y="340"/>
                </a:moveTo>
                <a:cubicBezTo>
                  <a:pt x="30" y="272"/>
                  <a:pt x="8" y="204"/>
                  <a:pt x="8" y="159"/>
                </a:cubicBezTo>
                <a:cubicBezTo>
                  <a:pt x="8" y="114"/>
                  <a:pt x="0" y="91"/>
                  <a:pt x="53" y="68"/>
                </a:cubicBezTo>
                <a:cubicBezTo>
                  <a:pt x="106" y="45"/>
                  <a:pt x="234" y="0"/>
                  <a:pt x="325" y="23"/>
                </a:cubicBezTo>
                <a:cubicBezTo>
                  <a:pt x="416" y="46"/>
                  <a:pt x="529" y="151"/>
                  <a:pt x="597" y="204"/>
                </a:cubicBezTo>
                <a:cubicBezTo>
                  <a:pt x="665" y="257"/>
                  <a:pt x="673" y="317"/>
                  <a:pt x="733" y="340"/>
                </a:cubicBezTo>
                <a:cubicBezTo>
                  <a:pt x="793" y="363"/>
                  <a:pt x="907" y="347"/>
                  <a:pt x="960" y="340"/>
                </a:cubicBezTo>
                <a:cubicBezTo>
                  <a:pt x="1013" y="333"/>
                  <a:pt x="1032" y="314"/>
                  <a:pt x="1051" y="295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140400" y="204948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(устное решение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8"/>
          <p:cNvSpPr/>
          <p:nvPr/>
        </p:nvSpPr>
        <p:spPr>
          <a:xfrm>
            <a:off x="2556000" y="1500120"/>
            <a:ext cx="210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(разгадать кроссвор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9"/>
          <p:cNvSpPr/>
          <p:nvPr/>
        </p:nvSpPr>
        <p:spPr>
          <a:xfrm>
            <a:off x="7215120" y="185724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(доказ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теоремы Пифаго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0"/>
          <p:cNvSpPr/>
          <p:nvPr/>
        </p:nvSpPr>
        <p:spPr>
          <a:xfrm>
            <a:off x="7009920" y="485784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(коллектив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решение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3654000" y="5143680"/>
            <a:ext cx="163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(решение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2"/>
          <p:cNvSpPr/>
          <p:nvPr/>
        </p:nvSpPr>
        <p:spPr>
          <a:xfrm>
            <a:off x="496080" y="507204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dventure"/>
                <a:ea typeface="Trebuchet MS"/>
              </a:rPr>
              <a:t>(фронтальный опро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:\Users\relide\Desktop\картинки у уроку\віапівп.png"/>
          <p:cNvPicPr/>
          <p:nvPr/>
        </p:nvPicPr>
        <p:blipFill>
          <a:blip r:embed="rId3"/>
          <a:stretch/>
        </p:blipFill>
        <p:spPr>
          <a:xfrm>
            <a:off x="7500960" y="550080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97" name="TextBox 24"/>
          <p:cNvSpPr/>
          <p:nvPr/>
        </p:nvSpPr>
        <p:spPr>
          <a:xfrm>
            <a:off x="7854840" y="58579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ашивка 25"/>
          <p:cNvSpPr/>
          <p:nvPr/>
        </p:nvSpPr>
        <p:spPr>
          <a:xfrm>
            <a:off x="8358120" y="601020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relide\Desktop\картинки у уроку\trave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BS00554_"/>
          <p:cNvPicPr/>
          <p:nvPr/>
        </p:nvPicPr>
        <p:blipFill>
          <a:blip r:embed="rId2"/>
          <a:stretch/>
        </p:blipFill>
        <p:spPr>
          <a:xfrm>
            <a:off x="7072200" y="4429080"/>
            <a:ext cx="1524240" cy="1328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9"/>
          <p:cNvSpPr/>
          <p:nvPr/>
        </p:nvSpPr>
        <p:spPr>
          <a:xfrm>
            <a:off x="357120" y="285840"/>
            <a:ext cx="2033640" cy="1006560"/>
          </a:xfrm>
          <a:prstGeom prst="wedgeRoundRectCallout">
            <a:avLst>
              <a:gd name="adj1" fmla="val 67189"/>
              <a:gd name="adj2" fmla="val 94069"/>
              <a:gd name="adj3" fmla="val 16667"/>
            </a:avLst>
          </a:prstGeom>
          <a:gradFill rotWithShape="0">
            <a:gsLst>
              <a:gs pos="0">
                <a:srgbClr val="ff66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Теорема Пифаг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(«Начала» Евкли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 flipH="1">
            <a:off x="6429240" y="571680"/>
            <a:ext cx="2286000" cy="1006200"/>
          </a:xfrm>
          <a:prstGeom prst="wedgeRoundRectCallout">
            <a:avLst>
              <a:gd name="adj1" fmla="val 67189"/>
              <a:gd name="adj2" fmla="val 94069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Современная формулировка теоремы Пифаг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1"/>
          <p:cNvSpPr/>
          <p:nvPr/>
        </p:nvSpPr>
        <p:spPr>
          <a:xfrm flipV="1">
            <a:off x="6786720" y="2928240"/>
            <a:ext cx="2133360" cy="733320"/>
          </a:xfrm>
          <a:prstGeom prst="wedgeRoundRectCallout">
            <a:avLst>
              <a:gd name="adj1" fmla="val -85953"/>
              <a:gd name="adj2" fmla="val -61634"/>
              <a:gd name="adj3" fmla="val 16667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6860880" y="2928960"/>
            <a:ext cx="195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, обра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е Пифаг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2"/>
          <p:cNvSpPr/>
          <p:nvPr/>
        </p:nvSpPr>
        <p:spPr>
          <a:xfrm>
            <a:off x="4143240" y="1285920"/>
            <a:ext cx="1600200" cy="838080"/>
          </a:xfrm>
          <a:prstGeom prst="wedgeRoundRectCallout">
            <a:avLst>
              <a:gd name="adj1" fmla="val 90078"/>
              <a:gd name="adj2" fmla="val 7291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аклонные и их прое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3"/>
          <p:cNvSpPr/>
          <p:nvPr/>
        </p:nvSpPr>
        <p:spPr>
          <a:xfrm>
            <a:off x="3500280" y="4500720"/>
            <a:ext cx="1752840" cy="761760"/>
          </a:xfrm>
          <a:prstGeom prst="wedgeRoundRectCallout">
            <a:avLst>
              <a:gd name="adj1" fmla="val 23046"/>
              <a:gd name="adj2" fmla="val -174018"/>
              <a:gd name="adj3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гипетски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0"/>
          <p:cNvSpPr/>
          <p:nvPr/>
        </p:nvSpPr>
        <p:spPr>
          <a:xfrm flipH="1">
            <a:off x="856440" y="1857240"/>
            <a:ext cx="1785960" cy="838440"/>
          </a:xfrm>
          <a:prstGeom prst="wedgeRoundRectCallout">
            <a:avLst>
              <a:gd name="adj1" fmla="val -84749"/>
              <a:gd name="adj2" fmla="val 87120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Неравенство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8"/>
          <p:cNvSpPr/>
          <p:nvPr/>
        </p:nvSpPr>
        <p:spPr>
          <a:xfrm flipH="1" flipV="1">
            <a:off x="1643040" y="3643200"/>
            <a:ext cx="1571760" cy="733680"/>
          </a:xfrm>
          <a:prstGeom prst="wedgeRoundRectCallout">
            <a:avLst>
              <a:gd name="adj1" fmla="val -57148"/>
              <a:gd name="adj2" fmla="val 127560"/>
              <a:gd name="adj3" fmla="val 16667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762200" y="3714840"/>
            <a:ext cx="14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фагор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й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2"/>
          <p:cNvSpPr/>
          <p:nvPr/>
        </p:nvSpPr>
        <p:spPr>
          <a:xfrm>
            <a:off x="142920" y="4786200"/>
            <a:ext cx="2457360" cy="1409760"/>
          </a:xfrm>
          <a:prstGeom prst="wedgeRoundRectCallout">
            <a:avLst>
              <a:gd name="adj1" fmla="val 111967"/>
              <a:gd name="adj2" fmla="val -10895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:\Users\relide\Desktop\sdgga.png"/>
          <p:cNvPicPr/>
          <p:nvPr/>
        </p:nvPicPr>
        <p:blipFill>
          <a:blip r:embed="rId4"/>
          <a:stretch/>
        </p:blipFill>
        <p:spPr>
          <a:xfrm>
            <a:off x="428760" y="4714920"/>
            <a:ext cx="1963440" cy="15717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0"/>
          <p:cNvSpPr/>
          <p:nvPr/>
        </p:nvSpPr>
        <p:spPr>
          <a:xfrm flipH="1">
            <a:off x="6143040" y="4714920"/>
            <a:ext cx="2428920" cy="1643040"/>
          </a:xfrm>
          <a:prstGeom prst="wedgeRoundRectCallout">
            <a:avLst>
              <a:gd name="adj1" fmla="val 75064"/>
              <a:gd name="adj2" fmla="val -71106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Users\relide\Desktop\sgsdfg.png"/>
          <p:cNvPicPr/>
          <p:nvPr/>
        </p:nvPicPr>
        <p:blipFill>
          <a:blip r:embed="rId5"/>
          <a:stretch/>
        </p:blipFill>
        <p:spPr>
          <a:xfrm>
            <a:off x="6286680" y="4429080"/>
            <a:ext cx="2428560" cy="194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relide\Desktop\картинки у уроку\віапівп.png"/>
          <p:cNvPicPr/>
          <p:nvPr/>
        </p:nvPicPr>
        <p:blipFill>
          <a:blip r:embed="rId6"/>
          <a:stretch/>
        </p:blipFill>
        <p:spPr>
          <a:xfrm>
            <a:off x="3714840" y="5643720"/>
            <a:ext cx="1433520" cy="1295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7"/>
          <p:cNvSpPr/>
          <p:nvPr/>
        </p:nvSpPr>
        <p:spPr>
          <a:xfrm>
            <a:off x="4068360" y="6000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venture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ашивка 18"/>
          <p:cNvSpPr/>
          <p:nvPr/>
        </p:nvSpPr>
        <p:spPr>
          <a:xfrm>
            <a:off x="4572000" y="6153120"/>
            <a:ext cx="285840" cy="285840"/>
          </a:xfrm>
          <a:custGeom>
            <a:avLst/>
            <a:gdLst>
              <a:gd name="textAreaLeft" fmla="*/ 0 w 285840"/>
              <a:gd name="textAreaRight" fmla="*/ 286200 w 2858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551600" y="1857240"/>
            <a:ext cx="62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Запол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путевой журна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71880" y="8373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b3305"/>
                </a:solidFill>
                <a:latin typeface="Adventure"/>
                <a:ea typeface="Times New Roman"/>
              </a:rPr>
              <a:t>Геометрия – это широкий роскошный пейзаж, открытый всем тем, кому мышление доставляет настоящую рад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b3305"/>
                </a:solidFill>
                <a:latin typeface="Adventure"/>
                <a:ea typeface="Times New Roman"/>
              </a:rPr>
              <a:t>                                                  </a:t>
            </a:r>
            <a:r>
              <a:rPr b="1" lang="ru-RU" sz="1600" spc="-1" strike="noStrike">
                <a:solidFill>
                  <a:srgbClr val="6b3305"/>
                </a:solidFill>
                <a:latin typeface="Adventure"/>
                <a:ea typeface="Times New Roman"/>
              </a:rPr>
              <a:t>В.Фук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Свиток"/>
          <p:cNvPicPr/>
          <p:nvPr/>
        </p:nvPicPr>
        <p:blipFill>
          <a:blip r:embed="rId1"/>
          <a:stretch/>
        </p:blipFill>
        <p:spPr>
          <a:xfrm>
            <a:off x="6429240" y="2071800"/>
            <a:ext cx="2292480" cy="464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Свиток"/>
          <p:cNvPicPr/>
          <p:nvPr/>
        </p:nvPicPr>
        <p:blipFill>
          <a:blip r:embed="rId2"/>
          <a:stretch/>
        </p:blipFill>
        <p:spPr>
          <a:xfrm>
            <a:off x="3429000" y="2071800"/>
            <a:ext cx="2292480" cy="464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Свиток"/>
          <p:cNvPicPr/>
          <p:nvPr/>
        </p:nvPicPr>
        <p:blipFill>
          <a:blip r:embed="rId3"/>
          <a:stretch/>
        </p:blipFill>
        <p:spPr>
          <a:xfrm>
            <a:off x="500040" y="2071800"/>
            <a:ext cx="2292480" cy="4643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642960" y="2252520"/>
            <a:ext cx="22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Лови ошиб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3571920" y="2098800"/>
            <a:ext cx="21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Найди пери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6500880" y="2286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dventure"/>
              </a:rPr>
              <a:t>Найди сторо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C:\Users\relide\Desktop\sdgdfgh.png"/>
          <p:cNvPicPr/>
          <p:nvPr/>
        </p:nvPicPr>
        <p:blipFill>
          <a:blip r:embed="rId4"/>
          <a:stretch/>
        </p:blipFill>
        <p:spPr>
          <a:xfrm>
            <a:off x="6786720" y="2725560"/>
            <a:ext cx="1779480" cy="134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:\Users\relide\Desktop\ttghjjtgj.png"/>
          <p:cNvPicPr/>
          <p:nvPr/>
        </p:nvPicPr>
        <p:blipFill>
          <a:blip r:embed="rId5"/>
          <a:stretch/>
        </p:blipFill>
        <p:spPr>
          <a:xfrm>
            <a:off x="6715080" y="5369040"/>
            <a:ext cx="1779480" cy="1346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Users\relide\Desktop\sdfgfgdfg.png"/>
          <p:cNvPicPr/>
          <p:nvPr/>
        </p:nvPicPr>
        <p:blipFill>
          <a:blip r:embed="rId6"/>
          <a:stretch/>
        </p:blipFill>
        <p:spPr>
          <a:xfrm>
            <a:off x="6715080" y="4083120"/>
            <a:ext cx="1779480" cy="134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:\Users\relide\Desktop\wegsdg.png"/>
          <p:cNvPicPr/>
          <p:nvPr/>
        </p:nvPicPr>
        <p:blipFill>
          <a:blip r:embed="rId7"/>
          <a:stretch/>
        </p:blipFill>
        <p:spPr>
          <a:xfrm>
            <a:off x="785880" y="5214960"/>
            <a:ext cx="1779480" cy="134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relide\Desktop\001.png"/>
          <p:cNvPicPr/>
          <p:nvPr/>
        </p:nvPicPr>
        <p:blipFill>
          <a:blip r:embed="rId8"/>
          <a:stretch/>
        </p:blipFill>
        <p:spPr>
          <a:xfrm>
            <a:off x="857160" y="4000680"/>
            <a:ext cx="1704960" cy="128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relide\Desktop\fsdfg.png"/>
          <p:cNvPicPr/>
          <p:nvPr/>
        </p:nvPicPr>
        <p:blipFill>
          <a:blip r:embed="rId9"/>
          <a:stretch/>
        </p:blipFill>
        <p:spPr>
          <a:xfrm>
            <a:off x="857160" y="2786040"/>
            <a:ext cx="1779840" cy="1346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relide\Desktop\dsfg.png"/>
          <p:cNvPicPr/>
          <p:nvPr/>
        </p:nvPicPr>
        <p:blipFill>
          <a:blip r:embed="rId10"/>
          <a:stretch/>
        </p:blipFill>
        <p:spPr>
          <a:xfrm>
            <a:off x="3714840" y="5297400"/>
            <a:ext cx="1779480" cy="1346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relide\Desktop\выаывпып.png"/>
          <p:cNvPicPr/>
          <p:nvPr/>
        </p:nvPicPr>
        <p:blipFill>
          <a:blip r:embed="rId11"/>
          <a:stretch/>
        </p:blipFill>
        <p:spPr>
          <a:xfrm>
            <a:off x="3643200" y="2782800"/>
            <a:ext cx="1790640" cy="1360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relide\Desktop\8н8щ0н.png"/>
          <p:cNvPicPr/>
          <p:nvPr/>
        </p:nvPicPr>
        <p:blipFill>
          <a:blip r:embed="rId12"/>
          <a:stretch/>
        </p:blipFill>
        <p:spPr>
          <a:xfrm>
            <a:off x="3714840" y="4075200"/>
            <a:ext cx="1790640" cy="13539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3"/>
          <p:cNvSpPr/>
          <p:nvPr/>
        </p:nvSpPr>
        <p:spPr>
          <a:xfrm>
            <a:off x="1143000" y="6357960"/>
            <a:ext cx="3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venture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4"/>
          <p:cNvSpPr/>
          <p:nvPr/>
        </p:nvSpPr>
        <p:spPr>
          <a:xfrm>
            <a:off x="4429080" y="6416640"/>
            <a:ext cx="3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venture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5"/>
          <p:cNvSpPr/>
          <p:nvPr/>
        </p:nvSpPr>
        <p:spPr>
          <a:xfrm>
            <a:off x="7431120" y="6429240"/>
            <a:ext cx="3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venture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Свиток"/>
          <p:cNvPicPr/>
          <p:nvPr/>
        </p:nvPicPr>
        <p:blipFill>
          <a:blip r:embed="rId13"/>
          <a:stretch/>
        </p:blipFill>
        <p:spPr>
          <a:xfrm>
            <a:off x="2143080" y="71280"/>
            <a:ext cx="4483080" cy="8035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2347920" y="262080"/>
            <a:ext cx="44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dventure"/>
              </a:rPr>
              <a:t>Устное 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C:\Users\relide\Desktop\картинки у уроку\diving_ocean-792387.jpg"/>
          <p:cNvPicPr/>
          <p:nvPr/>
        </p:nvPicPr>
        <p:blipFill>
          <a:blip r:embed="rId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relide\Desktop\картинки у уроку\santam.png"/>
          <p:cNvPicPr/>
          <p:nvPr/>
        </p:nvPicPr>
        <p:blipFill>
          <a:blip r:embed="rId15"/>
          <a:stretch/>
        </p:blipFill>
        <p:spPr>
          <a:xfrm>
            <a:off x="785880" y="500040"/>
            <a:ext cx="2759040" cy="234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relide\Desktop\картинки у уроку\31-englishmerchantship.png"/>
          <p:cNvPicPr/>
          <p:nvPr/>
        </p:nvPicPr>
        <p:blipFill>
          <a:blip r:embed="rId16"/>
          <a:stretch/>
        </p:blipFill>
        <p:spPr>
          <a:xfrm>
            <a:off x="3857760" y="2643120"/>
            <a:ext cx="4168800" cy="2890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2"/>
          <p:cNvSpPr/>
          <p:nvPr/>
        </p:nvSpPr>
        <p:spPr>
          <a:xfrm>
            <a:off x="1593720" y="5715000"/>
            <a:ext cx="585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dventure"/>
              </a:rPr>
              <a:t>Морской круи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C:\Users\relide\Desktop\картинки у уроку\wofs_ship_wealth.png"/>
          <p:cNvPicPr/>
          <p:nvPr/>
        </p:nvPicPr>
        <p:blipFill>
          <a:blip r:embed="rId17"/>
          <a:stretch/>
        </p:blipFill>
        <p:spPr>
          <a:xfrm>
            <a:off x="4929120" y="0"/>
            <a:ext cx="3562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0.90712 -0.00115 E">
                                      <p:cBhvr>
                                        <p:cTn id="272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03632E-006 L -0.49236 0.00463 E">
                                      <p:cBhvr>
                                        <p:cTn id="274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40741E-007 L 0.75764 0.00301 E">
                                      <p:cBhvr>
                                        <p:cTn id="27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551600" y="1857240"/>
            <a:ext cx="626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Заполн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3305"/>
                </a:solidFill>
                <a:latin typeface="Adventure"/>
              </a:rPr>
              <a:t>путевой журнал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6:23:05Z</dcterms:created>
  <dc:creator>Val</dc:creator>
  <dc:description/>
  <dc:language>en-US</dc:language>
  <cp:lastModifiedBy>Холодных</cp:lastModifiedBy>
  <dcterms:modified xsi:type="dcterms:W3CDTF">2014-03-16T19:39:06Z</dcterms:modified>
  <cp:revision>2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3b000000000001024140</vt:lpwstr>
  </property>
</Properties>
</file>