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2FE-EB37-4730-A1CB-2873407B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89E-6F09-410F-9910-12A59D0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C08-2A62-4CE5-9C23-128B2265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82A-5971-4501-8A3E-139B8B2B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1941-2DD6-4194-BF17-D9A6193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44B9-9304-4C73-A2D7-062DCF2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3A99-369E-49EC-A481-CAC0D5A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C875-01E6-4AD3-AABB-E304E46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110C-C254-4073-9472-1FBBF8B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CBAC-D0E1-4870-85BA-81282B9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B9F-3771-4CB5-B504-1C09E0F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244-ED86-41B2-A942-135167A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3A0D-FB15-4C75-B22C-4A16EDB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05B-9789-43CA-984D-96F640A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7FF2-A111-4247-A663-593C4F91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254-2FEA-46E6-A8E5-935888D1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705E-0568-4F51-B67B-BC9D014B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B8E7-C641-419E-BE79-28CC80C3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AE03-B0D5-4FDF-9DBE-E6D5843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C07E-FAE2-40FC-AE1E-31628DD4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BB33-9F09-4483-BD09-DAB6A0A7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683C-D274-4EAC-8B77-6D817EA6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147-ADE5-4691-B72B-E57ACCD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2E9E-168C-4BDF-976D-2B26059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4BAE-7874-43A9-A182-DF6F958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610D-5F72-4B05-95A2-29B6BC0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404F-83CA-4EEF-A072-D0C7A1A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89F3-80F7-4088-A426-E944374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8A8B-F8C2-40E8-B26A-D99E449E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826D-C69A-42C6-96E2-CF7BB60D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55E-C70F-4EB3-AB54-DDB9A4D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B7D-057E-42C5-816B-07D1BB6F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0FB-C40D-4EB9-B47F-996CBE53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D36-BD4D-4AF7-BF17-98DA117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800-F5B2-4B43-A282-37AE877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438-64B6-48AF-81E1-F876046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2A4F-B39E-4EC0-9588-EA5836E40C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277-AABC-49D1-BEC5-23FEA15CE0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F53-A84E-4F2A-BD05-036ACBDEFB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Я в этом мире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инарный урок по алгебре и основам здоровья в 7-м классе по теме: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равнения. Решения задач с помощью уравнений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03640" y="386064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услышу и забыв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вижу и запомин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делаю и поним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Конфу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4" descr="Confucius-9254926-2-402.jpg"/>
          <p:cNvPicPr/>
          <p:nvPr/>
        </p:nvPicPr>
        <p:blipFill>
          <a:blip r:embed="rId2"/>
          <a:stretch/>
        </p:blipFill>
        <p:spPr>
          <a:xfrm>
            <a:off x="2530440" y="3645000"/>
            <a:ext cx="1895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Малоподвижный образ жизни, нарушение осанки, нарушение питания, употребление курения и алкоголя, конфликты и стрессов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1463760" y="652320"/>
            <a:ext cx="621180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6875640" y="4292640"/>
            <a:ext cx="1284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Большинство подростков не удовлетворены своим внешним видом. Во избежание косметических дефектов кожи, надо своевременно обратиться к врачу- дерматологу. Правильное и систематическое пользование косметическим средствами- предпосылка для получения стабильного положительного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8753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79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умма состоит только из двух слага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амое важное для человека –это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Нужно соблюдать режим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От перемены мест множителей, произведение может измен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Уравнение может не иметь ко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981000" y="291960"/>
            <a:ext cx="7205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решения задач с помощью уравн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пределить, какие величины неизвест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бозначить одну из них буквой (ввести переменну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Выразить остальные величины через ту, которую обозначили бук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Составить уравнение (математическую модель) согласно условию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Решить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ерить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, удовлетворяют ли корни уравнения условию </a:t>
            </a: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йти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ставшиеся неизвестные величины.</a:t>
            </a: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ревнегреческий скульптор ПОЛИКЛЕТ (V в. до н.э.) написал трактат «Канон», в котором вывел цифровую пропорцию человека: 1/7- голова, туловище-3/7, а ноги -66 см. Какой рост у данного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7375e"/>
                </a:solidFill>
                <a:uFillTx/>
                <a:latin typeface="Calibri"/>
              </a:rPr>
              <a:t>Решение: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усть х см-рост всего человека. Тогда голова- х/7(см), а тело- 3х/7(см). Так как длина ног 66 см, то составим и решим уравнен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/7+3х/7+66=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=1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, рост человека 154 см.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Это как раз средний рост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ребенка 12- 13 л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колько литров крови перельет сердце человека в покое за 1 минуту , если при тренировке оно переливает на 10 литров больше. В течение 5 минут количество крови перелитой в покое и при тренировке 100 лит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Решение: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пусть х л крови переливается в покое, тогда (х+10) л –при тренировке. Так как всего за 5 мин перелито 100 л крови , то составим и решим уравне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5х + 5*(10+х)=1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Х= 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7375e"/>
                </a:solidFill>
                <a:latin typeface="Calibri"/>
              </a:rPr>
              <a:t>                         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, 5 л крови переливае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ердце человека в пок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6509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Вот еще интересные факты об организме человек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При обычном дыхании человек вдыхает 500 кубических сантиметров, при игре на духовом инструменте – 35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амая сильная мышца в человеческом организме – язык, не сердце. Сердце — самая выносливая мыш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аши нос и уши продолжают расти все вашу жизн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Чтобы развить способности своего мозга достаточно почаще заниматься новыми видами деятельности, которыми до этого момента вы никогда не занимались. Ученые утверждают, что это способствует развитию памяти, внимательности, реакции и сообраз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268360" y="45813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Спасибо всем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умений решать текстовые задачи с помощью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ть умение составлять математическую модель-уравнение по условию текстов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развивать умение анализировать, выделять глав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оспиты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воспитыва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рганизацион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е темы, цели и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шение  линейных  уравн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я о физическом развитии подро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изкультминут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сновная часть урока – решение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1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1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rpp.nashaucheba.ru/pars_docs/refs/53/52534/img4.jpg"/>
          <p:cNvPicPr/>
          <p:nvPr/>
        </p:nvPicPr>
        <p:blipFill>
          <a:blip r:embed="rId2"/>
          <a:stretch/>
        </p:blipFill>
        <p:spPr>
          <a:xfrm>
            <a:off x="2152800" y="1566720"/>
            <a:ext cx="6205320" cy="47548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3"/>
          <a:stretch/>
        </p:blipFill>
        <p:spPr>
          <a:xfrm>
            <a:off x="2139840" y="500040"/>
            <a:ext cx="4016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Устный сче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Решим устно уравнения и узнаем вес сердца, рост и массу человека в 13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2,4)*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300)=0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300; у = 2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2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316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1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:3=15,6               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46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2f2f2"/>
                </a:solidFill>
                <a:uFillTx/>
                <a:latin typeface="Calibri"/>
              </a:rPr>
              <a:t>Решение линейных уравн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осле решения уравнения мы узнаем интересный факт об организме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3х+2*(10х-35)=6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твет: 27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разу после рождения у человека кости мягкие и гибкие, а их количество доходит до 270 штук. Но постепенно кости срастаются и твердеют и их становится 200 шт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1258559346_18_11_2009_0530684001258546206_kerianne-brown.jpg"/>
          <p:cNvPicPr/>
          <p:nvPr/>
        </p:nvPicPr>
        <p:blipFill>
          <a:blip r:embed="rId2"/>
          <a:stretch/>
        </p:blipFill>
        <p:spPr>
          <a:xfrm>
            <a:off x="5126040" y="4529160"/>
            <a:ext cx="2914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8*(2х-5)-5*(х+3)=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За сутки человек выделяет столько тепла, что его хватит, чтобы довести до кипения 33 литра ледяной воды</a:t>
            </a:r>
            <a:r>
              <a:rPr b="0" i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984400" cy="16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2х+14х-56=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орма двигательной активности – 7-10 км (10000-14000 шаг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6510240" y="3206880"/>
            <a:ext cx="1706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Изменения в период созревания надо воспринимать спокойно и не огорчаться, если тело становится непропорциональным, а движения – неуклюжими. Тело каждого из вас имеет свой ритм, свое «расписание роста». Это зависит от телосложения, наследственных особенностей, а также от образа и условий жизни      подро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Прямоугольник 1" descr=""/>
          <p:cNvPicPr/>
          <p:nvPr/>
        </p:nvPicPr>
        <p:blipFill>
          <a:blip r:embed="rId2"/>
          <a:stretch/>
        </p:blipFill>
        <p:spPr>
          <a:xfrm>
            <a:off x="798480" y="146160"/>
            <a:ext cx="7991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5:31:20Z</dcterms:created>
  <dc:creator>Denis</dc:creator>
  <dc:description/>
  <dc:language>en-US</dc:language>
  <cp:lastModifiedBy>Admin</cp:lastModifiedBy>
  <dcterms:modified xsi:type="dcterms:W3CDTF">2014-03-03T18:49:4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2f000000000001024140</vt:lpwstr>
  </property>
</Properties>
</file>