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D80-D520-4D40-84F9-2DE74AD5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659-CE0D-4C82-9701-DC086D40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89C-2154-4546-812B-0E914BFF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6C1-4BAB-4B62-A13E-CFF50EFF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F709-F00C-4F5C-9E17-A9197EF1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B43C-D1B5-4DAA-8EB0-36D15AB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9B15-2D7F-4807-8D6B-9C9E729B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6631-35C4-457F-865F-A606188A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752-FEB9-4EE9-9C52-4B408B46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619B-169E-4DAE-AFE1-564A6AE1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A081-8171-4D0A-836D-ED668D2C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AA5-F809-40BF-918D-CD73FEBE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4BD-AEE2-44BC-8389-70303C01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D13-F877-4913-8B80-981C0B9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E732-C458-4A70-B9AD-4F8DD93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7213-95E0-491E-89A4-83B52CAD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41AD-E740-42CF-A764-1C052F98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C03F-476B-4D7F-8ABA-DF472958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8130-DEE6-4FE5-998B-97E7A50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B72B-1C6E-4661-999F-77B06AC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4DF6-C0D2-4547-9A9A-A9B24BC4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C719-4DD7-4B9A-ADE3-54A8BB3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370-C0C0-48CB-ABB1-79F4875C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60FF-2932-42C2-8A71-15C3AC9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26D9-F2BA-4957-9891-F90EFB20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B458-69B1-46EF-8BDD-5581144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2F60-28F1-4ACF-B1E2-3F523C6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E702-A11A-4366-8AEB-4E73D96B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C5F4-E209-4A7A-B854-343FE199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0B7C-A48D-4F6B-AC89-6268ABCF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519-3DC4-47EC-A9AA-1E8DF5E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26C-8915-40C9-868F-E4BC23E0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371-33BA-462A-903A-3FF89047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B0D-1682-4E53-BBE4-67E01395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35E-F831-407A-B429-2C1A6CF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BF8-0D48-495F-877A-5175E7E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418-897A-45D6-910C-293093566C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F5B-5872-449E-9604-6F0CEE8B8B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4346-3FC6-4F13-99DC-3EBC371D65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Я в этом мире</a:t>
            </a:r>
            <a:r>
              <a:rPr b="1" i="1" lang="en-US" sz="4400" spc="-1" strike="noStrike">
                <a:solidFill>
                  <a:srgbClr val="1f497d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764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Бинарный урок по алгебре и основам здоровья в 7-м классе по теме: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”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равнения. Решения задач с помощью уравнений</a:t>
            </a: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03640" y="386064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услышу и забыв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вижу и запомин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Я делаю и понима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                                    </a:t>
            </a:r>
            <a:r>
              <a:rPr b="1" i="1" lang="ru-RU" sz="2000" spc="-1" strike="noStrike">
                <a:solidFill>
                  <a:srgbClr val="00b050"/>
                </a:solidFill>
                <a:latin typeface="Calibri"/>
              </a:rPr>
              <a:t>Конфу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4" descr="Confucius-9254926-2-402.jpg"/>
          <p:cNvPicPr/>
          <p:nvPr/>
        </p:nvPicPr>
        <p:blipFill>
          <a:blip r:embed="rId2"/>
          <a:stretch/>
        </p:blipFill>
        <p:spPr>
          <a:xfrm>
            <a:off x="2530440" y="3645000"/>
            <a:ext cx="1895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Малоподвижный образ жизни, нарушение осанки, нарушение питания, употребление курения и алкоголя, конфликты и стрессовые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1463760" y="652320"/>
            <a:ext cx="6211800" cy="18050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3"/>
          <a:stretch/>
        </p:blipFill>
        <p:spPr>
          <a:xfrm>
            <a:off x="6875640" y="4292640"/>
            <a:ext cx="12841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Большинство подростков не удовлетворены своим внешним видом. Во избежание косметических дефектов кожи, надо своевременно обратиться к врачу- дерматологу. Правильное и систематическое пользование косметическим средствами- предпосылка для получения стабильного положительного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1" descr=""/>
          <p:cNvPicPr/>
          <p:nvPr/>
        </p:nvPicPr>
        <p:blipFill>
          <a:blip r:embed="rId2"/>
          <a:stretch/>
        </p:blipFill>
        <p:spPr>
          <a:xfrm>
            <a:off x="225360" y="291960"/>
            <a:ext cx="8753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795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умма состоит только из двух слагаем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Самое важное для человека –это здоровь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Нужно соблюдать режим д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От перемены мест множителей, произведение может измени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4061"/>
                </a:solidFill>
                <a:latin typeface="Calibri"/>
              </a:rPr>
              <a:t>Уравнение может не иметь ко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Прямоугольник 1" descr=""/>
          <p:cNvPicPr/>
          <p:nvPr/>
        </p:nvPicPr>
        <p:blipFill>
          <a:blip r:embed="rId2"/>
          <a:stretch/>
        </p:blipFill>
        <p:spPr>
          <a:xfrm>
            <a:off x="981000" y="291960"/>
            <a:ext cx="7205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5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5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лгоритм решения задач с помощью уравнен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пределить, какие величины неизвест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бозначить одну из них буквой (ввести переменную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Выразить остальные величины через ту, которую обозначили бук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Составить уравнение (математическую модель) согласно условию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Решить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верить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, удовлетворяют ли корни уравнения условию </a:t>
            </a: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         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254061"/>
                </a:solidFill>
                <a:latin typeface="Calibri"/>
              </a:rPr>
              <a:t>                     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йти </a:t>
            </a: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оставшиеся неизвестные величины.</a:t>
            </a:r>
            <a:br>
              <a:rPr sz="2000"/>
            </a:br>
            <a:r>
              <a:rPr b="1" lang="ru-RU" sz="2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Древнегреческий скульптор ПОЛИКЛЕТ (V в. до н.э.) написал трактат «Канон», в котором вывел цифровую пропорцию человека: 1/7- голова, туловище-3/7, а ноги -66 см. Какой рост у данного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7375e"/>
                </a:solidFill>
                <a:uFillTx/>
                <a:latin typeface="Calibri"/>
              </a:rPr>
              <a:t>Решение: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пусть х см-рост всего человека. Тогда голова- х/7(см), а тело- 3х/7(см). Так как длина ног 66 см, то составим и решим уравнени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/7+3х/7+66=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х=15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, рост человека 154 см.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Это как раз средний рост </a:t>
            </a: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       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ребенка 12- 13 л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колько литров крови перельет сердце человека в покое за 1 минуту , если при тренировке оно переливает на 10 литров больше. В течение 5 минут количество крови перелитой в покое и при тренировке 100 литр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Решение: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пусть х л крови переливается в покое, тогда (х+10) л –при тренировке. Так как всего за 5 мин перелито 100 л крови , то составим и решим уравне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5х + 5*(10+х)=1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Х= 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7375e"/>
                </a:solidFill>
                <a:latin typeface="Calibri"/>
              </a:rPr>
              <a:t>                          </a:t>
            </a:r>
            <a:r>
              <a:rPr b="1" lang="ru-RU" sz="2500" spc="-1" strike="noStrike">
                <a:solidFill>
                  <a:srgbClr val="17375e"/>
                </a:solidFill>
                <a:latin typeface="Calibri"/>
              </a:rPr>
              <a:t>Итак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, 5 л крови переливает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сердце человека в пок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16509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7030a0"/>
                </a:solidFill>
                <a:uFillTx/>
                <a:latin typeface="Calibri"/>
              </a:rPr>
              <a:t>Вот еще интересные факты об организме человека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При обычном дыхании человек вдыхает 500 кубических сантиметров, при игре на духовом инструменте – 35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амая сильная мышца в человеческом организме – язык, не сердце. Сердце — самая выносливая мыш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аши нос и уши продолжают расти все вашу жизн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Calibri"/>
              </a:rPr>
              <a:t>Чтобы развить способности своего мозга достаточно почаще заниматься новыми видами деятельности, которыми до этого момента вы никогда не занимались. Ученые утверждают, что это способствует развитию памяти, внимательности, реакции и сообрази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2268360" y="458136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Спасибо всем за урок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6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Цель урока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ние умений решать текстовые задачи с помощью урав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ть умение составлять математическую модель-уравнение по условию текстовой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Разви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развивать умение анализировать, выделять глав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Воспитывающая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воспитывать интерес к предм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196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Организационная ч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е темы, цели и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Разм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ешение  линейных  уравн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Сообщения о физическом развитии подрос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Физкультминут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сновная часть урока – решение зада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     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1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1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1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1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1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1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1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1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rpp.nashaucheba.ru/pars_docs/refs/53/52534/img4.jpg"/>
          <p:cNvPicPr/>
          <p:nvPr/>
        </p:nvPicPr>
        <p:blipFill>
          <a:blip r:embed="rId2"/>
          <a:stretch/>
        </p:blipFill>
        <p:spPr>
          <a:xfrm>
            <a:off x="2152800" y="1566720"/>
            <a:ext cx="6205320" cy="47548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1" descr=""/>
          <p:cNvPicPr/>
          <p:nvPr/>
        </p:nvPicPr>
        <p:blipFill>
          <a:blip r:embed="rId3"/>
          <a:stretch/>
        </p:blipFill>
        <p:spPr>
          <a:xfrm>
            <a:off x="2139840" y="500040"/>
            <a:ext cx="40165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1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Устный счет</a:t>
            </a:r>
            <a:r>
              <a:rPr b="1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Calibri"/>
              </a:rPr>
              <a:t>Решим устно уравнения и узнаем вес сердца, рост и массу человека в 13 л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2,4)*(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-300)=0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300; у = 2,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2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316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1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:3=15,6                         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х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= 46,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2f2f2"/>
                </a:solidFill>
                <a:uFillTx/>
                <a:latin typeface="Calibri"/>
              </a:rPr>
              <a:t>Решение линейных уравн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7030a0"/>
                </a:solidFill>
                <a:latin typeface="Calibri"/>
              </a:rPr>
              <a:t>После решения уравнения мы узнаем интересный факт об организме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3х+2*(10х-35)=61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Ответ: 27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разу после рождения у человека кости мягкие и гибкие, а их количество доходит до 270 штук. Но постепенно кости срастаются и твердеют и их становится 200 шт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1258559346_18_11_2009_0530684001258546206_kerianne-brown.jpg"/>
          <p:cNvPicPr/>
          <p:nvPr/>
        </p:nvPicPr>
        <p:blipFill>
          <a:blip r:embed="rId2"/>
          <a:stretch/>
        </p:blipFill>
        <p:spPr>
          <a:xfrm>
            <a:off x="5126040" y="4529160"/>
            <a:ext cx="29145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8*(2х-5)-5*(х+3)=2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За сутки человек выделяет столько тепла, что его хватит, чтобы довести до кипения 33 литра ледяной воды</a:t>
            </a:r>
            <a:r>
              <a:rPr b="0" i="1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5406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2984400" cy="1681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2х+14х-56=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Ответ: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  </a:t>
            </a: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Норма двигательной активности – 7-10 км (10000-14000 шаг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6510240" y="3206880"/>
            <a:ext cx="17067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</a:rPr>
              <a:t>Изменения в период созревания надо воспринимать спокойно и не огорчаться, если тело становится непропорциональным, а движения – неуклюжими. Тело каждого из вас имеет свой ритм, свое «расписание роста». Это зависит от телосложения, наследственных особенностей, а также от образа и условий жизни      подрост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Прямоугольник 1" descr=""/>
          <p:cNvPicPr/>
          <p:nvPr/>
        </p:nvPicPr>
        <p:blipFill>
          <a:blip r:embed="rId2"/>
          <a:stretch/>
        </p:blipFill>
        <p:spPr>
          <a:xfrm>
            <a:off x="798480" y="146160"/>
            <a:ext cx="79916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5:31:20Z</dcterms:created>
  <dc:creator>Denis</dc:creator>
  <dc:description/>
  <dc:language>en-US</dc:language>
  <cp:lastModifiedBy>Admin</cp:lastModifiedBy>
  <dcterms:modified xsi:type="dcterms:W3CDTF">2014-03-03T18:49:41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2f000000000001024140</vt:lpwstr>
  </property>
</Properties>
</file>