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D64-BE19-4CEF-A97A-67836A81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5EC-E98D-4B93-ACD3-9BCA6407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2AC-31F4-468D-BE39-9052B33D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ACB-6B63-4688-B63F-225AE0D1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85F1-0A6F-46B5-84BA-65168A00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9305-C2D5-404A-A8B5-47FA1311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DF28-D169-4E23-9421-CD471B7E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0524-C5FC-4DCC-8FC6-B5B1B7EC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A5F2-2055-4703-BFB1-A7A7E4D0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FAFE-373A-4AF8-9A72-652DB210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4F44-1BCF-4C75-BC3F-88930D9D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42B-1837-4F56-9990-6826C8EE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0B4D-9CF8-4D54-82CA-969993BF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37CD-F864-43EC-8228-58F0890B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E6F2-7524-452B-9C36-1387403E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4E62-0BB1-464C-8F59-13F4F57F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C20B-DA1E-49E9-BF26-F7E3B994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78D8-86CC-4567-813D-48C83EF6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DA41-C1A6-4D2E-BC42-FA568EBA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C902-2F25-4200-A722-58F8153C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CF9A2-BC03-46AC-AB4F-A33069B7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3FB6E-C042-4833-842F-C5F0FE7F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589-8B31-4573-8301-DA2756E6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FCDCC-9C67-4BE4-8F7F-730037B7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8940-A903-46AD-A2A1-EB27279C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7CC1-8F31-4EB0-B0C9-AC40B35F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C5D9-BFE5-4963-8D36-558FCD4D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D4AE-E6B2-4A0E-A4B8-405C090D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2904-5AC4-4087-A97D-2BCFCC1A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AC37-BC4E-4527-ADEE-9F2A5BED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0C6-0309-4F70-AC4D-6778444D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052-BEE7-4AF8-8A7F-84356510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67B-F031-4179-9475-C6E2F01E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CC3-848C-4E54-ABE7-EFE6A6B9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385-F8BE-41FD-9172-718B44F4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6CE-6665-466D-9584-5AB7B738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8749-787C-4E85-8EB0-E6B63FB4FB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A013-81A5-49F5-A15F-3249872CC7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17F6-8ED6-49DD-9EB8-1C9611AE8D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Я в этом мире</a:t>
            </a: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764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Бинарный урок по алгебре и основам здоровья в 7-м классе по теме: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”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Уравнения. Решения задач с помощью уравнений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003640" y="386064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услышу и забыв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вижу и запомин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делаю и поним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                        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Конфу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4" descr="Confucius-9254926-2-402.jpg"/>
          <p:cNvPicPr/>
          <p:nvPr/>
        </p:nvPicPr>
        <p:blipFill>
          <a:blip r:embed="rId2"/>
          <a:stretch/>
        </p:blipFill>
        <p:spPr>
          <a:xfrm>
            <a:off x="2530440" y="3645000"/>
            <a:ext cx="18954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Малоподвижный образ жизни, нарушение осанки, нарушение питания, употребление курения и алкоголя, конфликты и стрессовые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Прямоугольник 1" descr=""/>
          <p:cNvPicPr/>
          <p:nvPr/>
        </p:nvPicPr>
        <p:blipFill>
          <a:blip r:embed="rId2"/>
          <a:stretch/>
        </p:blipFill>
        <p:spPr>
          <a:xfrm>
            <a:off x="1463760" y="652320"/>
            <a:ext cx="6211800" cy="18050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3"/>
          <a:stretch/>
        </p:blipFill>
        <p:spPr>
          <a:xfrm>
            <a:off x="6875640" y="4292640"/>
            <a:ext cx="12841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Большинство подростков не удовлетворены своим внешним видом. Во избежание косметических дефектов кожи, надо своевременно обратиться к врачу- дерматологу. Правильное и систематическое пользование косметическим средствами- предпосылка для получения стабильного положительного резуль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Прямоугольник 1" descr=""/>
          <p:cNvPicPr/>
          <p:nvPr/>
        </p:nvPicPr>
        <p:blipFill>
          <a:blip r:embed="rId2"/>
          <a:stretch/>
        </p:blipFill>
        <p:spPr>
          <a:xfrm>
            <a:off x="225360" y="291960"/>
            <a:ext cx="87534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795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Сумма состоит только из двух слагаем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Самое важное для человека –это здоровь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Нужно соблюдать режим д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От перемены мест множителей, произведение может измени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Уравнение может не иметь корн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Прямоугольник 1" descr=""/>
          <p:cNvPicPr/>
          <p:nvPr/>
        </p:nvPicPr>
        <p:blipFill>
          <a:blip r:embed="rId2"/>
          <a:stretch/>
        </p:blipFill>
        <p:spPr>
          <a:xfrm>
            <a:off x="981000" y="291960"/>
            <a:ext cx="72057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500"/>
                            </p:stCondLst>
                            <p:childTnLst>
                              <p:par>
                                <p:cTn id="2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лгоритм решения задач с помощью уравнен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пределить, какие величины неизвест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бозначить одну из них буквой (ввести переменную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Выразить остальные величины через ту, которую обозначили бук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Составить уравнение (математическую модель) согласно условию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Решить урав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верить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, удовлетворяют ли корни уравнения условию </a:t>
            </a: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         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айти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ставшиеся неизвестные величины.</a:t>
            </a: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Древнегреческий скульптор ПОЛИКЛЕТ (V в. до н.э.) написал трактат «Канон», в котором вывел цифровую пропорцию человека: 1/7- голова, туловище-3/7, а ноги -66 см. Какой рост у данного человек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17375e"/>
                </a:solidFill>
                <a:uFillTx/>
                <a:latin typeface="Calibri"/>
              </a:rPr>
              <a:t>Решение: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пусть х см-рост всего человека. Тогда голова- х/7(см), а тело- 3х/7(см). Так как длина ног 66 см, то составим и решим уравнени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х/7+3х/7+66=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х=15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Итак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, рост человека 154 см. </a:t>
            </a: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Это как раз средний рост </a:t>
            </a: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       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ребенка 12- 13 л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6836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2.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Сколько литров крови перельет сердце человека в покое за 1 минуту , если при тренировке оно переливает на 10 литров больше. В течение 5 минут количество крови перелитой в покое и при тренировке 100 литр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Решение: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пусть х л крови переливается в покое, тогда (х+10) л –при тренировке. Так как всего за 5 мин перелито 100 л крови , то составим и решим уравне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5х + 5*(10+х)=1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Х= 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7375e"/>
                </a:solidFill>
                <a:latin typeface="Calibri"/>
              </a:rPr>
              <a:t>                          </a:t>
            </a: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Итак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, 5 л крови переливает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сердце человека в пок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2"/>
          <a:stretch/>
        </p:blipFill>
        <p:spPr>
          <a:xfrm>
            <a:off x="6659640" y="3500280"/>
            <a:ext cx="16509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Вот еще интересные факты об организме человек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При обычном дыхании человек вдыхает 500 кубических сантиметров, при игре на духовом инструменте – 35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Самая сильная мышца в человеческом организме – язык, не сердце. Сердце — самая выносливая мыш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Ваши нос и уши продолжают расти все вашу жизн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Calibri"/>
              </a:rPr>
              <a:t>Чтобы развить способности своего мозга достаточно почаще заниматься новыми видами деятельности, которыми до этого момента вы никогда не занимались. Ученые утверждают, что это способствует развитию памяти, внимательности, реакции и сообрази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268360" y="458136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17375e"/>
                </a:solidFill>
                <a:latin typeface="Calibri"/>
              </a:rPr>
              <a:t>Спасибо всем за урок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692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Цель урок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ние умений решать текстовые задачи с помощью урав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ть умение составлять математическую модель-уравнение по условию текстовой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Развивающ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развивать умение анализировать, выделять глав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Воспитывающ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воспитывать интерес к предм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196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Организационная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ообщение темы, цели и 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Разми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ешение  линейных  уравн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ообщения о физическом развитии подрос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Физкультминут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сновная часть урока – решение зад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одведение ит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1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1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1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1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1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1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" dur="1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1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rpp.nashaucheba.ru/pars_docs/refs/53/52534/img4.jpg"/>
          <p:cNvPicPr/>
          <p:nvPr/>
        </p:nvPicPr>
        <p:blipFill>
          <a:blip r:embed="rId2"/>
          <a:stretch/>
        </p:blipFill>
        <p:spPr>
          <a:xfrm>
            <a:off x="2152800" y="1566720"/>
            <a:ext cx="6205320" cy="47548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" descr=""/>
          <p:cNvPicPr/>
          <p:nvPr/>
        </p:nvPicPr>
        <p:blipFill>
          <a:blip r:embed="rId3"/>
          <a:stretch/>
        </p:blipFill>
        <p:spPr>
          <a:xfrm>
            <a:off x="2139840" y="500040"/>
            <a:ext cx="40165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Устный счет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Calibri"/>
              </a:rPr>
              <a:t>Решим устно уравнения и узнаем вес сердца, рост и массу человека в 13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у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-2,4)*(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-300)=0                  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300; у = 2,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2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316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1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:3=15,6                                 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46,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2f2f2"/>
                </a:solidFill>
                <a:uFillTx/>
                <a:latin typeface="Calibri"/>
              </a:rPr>
              <a:t>Решение линейных уравн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После решения уравнения мы узнаем интересный факт об организме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3х+2*(10х-35)=61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Ответ: 27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Сразу после рождения у человека кости мягкие и гибкие, а их количество доходит до 270 штук. Но постепенно кости срастаются и твердеют и их становится 200 шт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1258559346_18_11_2009_0530684001258546206_kerianne-brown.jpg"/>
          <p:cNvPicPr/>
          <p:nvPr/>
        </p:nvPicPr>
        <p:blipFill>
          <a:blip r:embed="rId2"/>
          <a:stretch/>
        </p:blipFill>
        <p:spPr>
          <a:xfrm>
            <a:off x="5126040" y="4529160"/>
            <a:ext cx="29145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4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8*(2х-5)-5*(х+3)=2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Ответ: 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За сутки человек выделяет столько тепла, что его хватит, чтобы довести до кипения 33 литра ледяной воды</a:t>
            </a:r>
            <a:r>
              <a:rPr b="0" i="1" lang="ru-RU" sz="32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5406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2984400" cy="1681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2х+14х-56=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Ответ: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  </a:t>
            </a: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Норма двигательной активности – 7-10 км (10000-14000 шаг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2"/>
          <a:stretch/>
        </p:blipFill>
        <p:spPr>
          <a:xfrm>
            <a:off x="6510240" y="3206880"/>
            <a:ext cx="17067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Изменения в период созревания надо воспринимать спокойно и не огорчаться, если тело становится непропорциональным, а движения – неуклюжими. Тело каждого из вас имеет свой ритм, свое «расписание роста». Это зависит от телосложения, наследственных особенностей, а также от образа и условий жизни      подрост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Прямоугольник 1" descr=""/>
          <p:cNvPicPr/>
          <p:nvPr/>
        </p:nvPicPr>
        <p:blipFill>
          <a:blip r:embed="rId2"/>
          <a:stretch/>
        </p:blipFill>
        <p:spPr>
          <a:xfrm>
            <a:off x="798480" y="146160"/>
            <a:ext cx="7991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5:31:20Z</dcterms:created>
  <dc:creator>Denis</dc:creator>
  <dc:description/>
  <dc:language>en-US</dc:language>
  <cp:lastModifiedBy>Admin</cp:lastModifiedBy>
  <dcterms:modified xsi:type="dcterms:W3CDTF">2014-03-03T18:49:41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2f000000000001024140</vt:lpwstr>
  </property>
</Properties>
</file>