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452-4132-4467-80FB-764E056B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5EC-6EBB-48B2-8706-F0E33FDA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B51-9D5B-4BF5-9A41-5BF0AC08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4A5-A8A5-4473-AE7E-9A9CCA5F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F37E-C2C4-4301-94AA-4A952250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55D5-2B52-4C83-9282-81ADCB74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4DF9-1357-4A0E-81A9-3097494C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C05F-B0D4-4323-833E-87982BBC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16A2-D6D8-4845-BF27-720EB556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5FCE-8EB0-4D5F-9621-A4B6E889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411F-DC28-425A-8FB2-C9FBE6AE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DA8-E563-46C6-8C75-B5432E6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545A-F93F-4E4D-865C-330E2A39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0649-8CA3-4D77-AA82-E35B334C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8FEF-1B17-4B38-844E-C8E55775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5FC8-50A4-430C-A318-E626695D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B083-1279-4193-8DD3-E5A686C8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6DCD-DE40-43AB-9EB2-EEE2CD88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C237-6002-4423-B81C-7A796259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4508-D267-48A1-9875-5DB9D07D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C5B94-0727-440F-B8AC-AC3B74BB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A8187-AF7B-4442-82BA-D3BA4BE8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DBB-1FBB-45AC-B4F3-EF9F8466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B2FF-4987-41E5-9360-DD0E324A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43815-A756-4C80-81BF-A07A04E6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8127-51B4-49B6-9050-509D7ABB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1997-63B9-4EEC-85CF-CAE0A665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1A89E-4796-4B12-A0E4-53E3AAAB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DDE2-5695-4215-83AE-8EE473C6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CD006-33C6-4B88-A681-71CBB198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B4A-2317-4F14-A41D-D3CA5CCF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DA9-0074-4475-BC17-42D3F546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7F0-FC11-4723-BB54-530418E3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BDE-57EE-45DC-A49D-76E51F3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6CA-991C-4CDE-B5B6-7200FAE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358-46B3-43F5-8A78-8F25FC0F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1F50-E963-451C-AE75-ED5EE05B24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BA33-BD8D-40B0-A713-E8D2D01771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C321-48A7-43D3-86BD-43E3084436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Я в этом мире</a:t>
            </a: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764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Бинарный урок по алгебре и основам здоровья в 7-м классе по теме: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”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Уравнения. Решения задач с помощью уравнений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003640" y="386064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услышу и забыв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вижу и запомин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делаю и поним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                        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Конфу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4" descr="Confucius-9254926-2-402.jpg"/>
          <p:cNvPicPr/>
          <p:nvPr/>
        </p:nvPicPr>
        <p:blipFill>
          <a:blip r:embed="rId2"/>
          <a:stretch/>
        </p:blipFill>
        <p:spPr>
          <a:xfrm>
            <a:off x="2530440" y="3645000"/>
            <a:ext cx="18954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Малоподвижный образ жизни, нарушение осанки, нарушение питания, употребление курения и алкоголя, конфликты и стрессовые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Прямоугольник 1" descr=""/>
          <p:cNvPicPr/>
          <p:nvPr/>
        </p:nvPicPr>
        <p:blipFill>
          <a:blip r:embed="rId2"/>
          <a:stretch/>
        </p:blipFill>
        <p:spPr>
          <a:xfrm>
            <a:off x="1463760" y="652320"/>
            <a:ext cx="6211800" cy="18050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3"/>
          <a:stretch/>
        </p:blipFill>
        <p:spPr>
          <a:xfrm>
            <a:off x="6875640" y="4292640"/>
            <a:ext cx="12841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Большинство подростков не удовлетворены своим внешним видом. Во избежание косметических дефектов кожи, надо своевременно обратиться к врачу- дерматологу. Правильное и систематическое пользование косметическим средствами- предпосылка для получения стабильного положительного резуль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Прямоугольник 1" descr=""/>
          <p:cNvPicPr/>
          <p:nvPr/>
        </p:nvPicPr>
        <p:blipFill>
          <a:blip r:embed="rId2"/>
          <a:stretch/>
        </p:blipFill>
        <p:spPr>
          <a:xfrm>
            <a:off x="225360" y="291960"/>
            <a:ext cx="87534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795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Сумма состоит только из двух слагаем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Самое важное для человека –это здоровь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Нужно соблюдать режим д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От перемены мест множителей, произведение может измени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Уравнение может не иметь корн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Прямоугольник 1" descr=""/>
          <p:cNvPicPr/>
          <p:nvPr/>
        </p:nvPicPr>
        <p:blipFill>
          <a:blip r:embed="rId2"/>
          <a:stretch/>
        </p:blipFill>
        <p:spPr>
          <a:xfrm>
            <a:off x="981000" y="291960"/>
            <a:ext cx="72057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500"/>
                            </p:stCondLst>
                            <p:childTnLst>
                              <p:par>
                                <p:cTn id="2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лгоритм решения задач с помощью уравнен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пределить, какие величины неизвест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бозначить одну из них буквой (ввести переменную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Выразить остальные величины через ту, которую обозначили бук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Составить уравнение (математическую модель) согласно условию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Решить урав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верить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, удовлетворяют ли корни уравнения условию </a:t>
            </a: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         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айти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ставшиеся неизвестные величины.</a:t>
            </a: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Древнегреческий скульптор ПОЛИКЛЕТ (V в. до н.э.) написал трактат «Канон», в котором вывел цифровую пропорцию человека: 1/7- голова, туловище-3/7, а ноги -66 см. Какой рост у данного человек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17375e"/>
                </a:solidFill>
                <a:uFillTx/>
                <a:latin typeface="Calibri"/>
              </a:rPr>
              <a:t>Решение: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пусть х см-рост всего человека. Тогда голова- х/7(см), а тело- 3х/7(см). Так как длина ног 66 см, то составим и решим уравнени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х/7+3х/7+66=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х=15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Итак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, рост человека 154 см. </a:t>
            </a: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Это как раз средний рост </a:t>
            </a: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       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ребенка 12- 13 л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6836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2.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Сколько литров крови перельет сердце человека в покое за 1 минуту , если при тренировке оно переливает на 10 литров больше. В течение 5 минут количество крови перелитой в покое и при тренировке 100 литр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Решение: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пусть х л крови переливается в покое, тогда (х+10) л –при тренировке. Так как всего за 5 мин перелито 100 л крови , то составим и решим уравне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5х + 5*(10+х)=1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Х= 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7375e"/>
                </a:solidFill>
                <a:latin typeface="Calibri"/>
              </a:rPr>
              <a:t>                          </a:t>
            </a: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Итак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, 5 л крови переливает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сердце человека в пок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2"/>
          <a:stretch/>
        </p:blipFill>
        <p:spPr>
          <a:xfrm>
            <a:off x="6659640" y="3500280"/>
            <a:ext cx="16509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Вот еще интересные факты об организме человек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При обычном дыхании человек вдыхает 500 кубических сантиметров, при игре на духовом инструменте – 35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Самая сильная мышца в человеческом организме – язык, не сердце. Сердце — самая выносливая мыш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Ваши нос и уши продолжают расти все вашу жизн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Calibri"/>
              </a:rPr>
              <a:t>Чтобы развить способности своего мозга достаточно почаще заниматься новыми видами деятельности, которыми до этого момента вы никогда не занимались. Ученые утверждают, что это способствует развитию памяти, внимательности, реакции и сообрази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268360" y="458136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17375e"/>
                </a:solidFill>
                <a:latin typeface="Calibri"/>
              </a:rPr>
              <a:t>Спасибо всем за урок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692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Цель урок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ние умений решать текстовые задачи с помощью урав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ть умение составлять математическую модель-уравнение по условию текстовой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Развивающ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развивать умение анализировать, выделять глав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Воспитывающ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воспитывать интерес к предм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196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Организационная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ообщение темы, цели и 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Разми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ешение  линейных  уравн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ообщения о физическом развитии подрос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Физкультминут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сновная часть урока – решение зад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одведение ит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1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1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1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1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1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1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" dur="1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1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rpp.nashaucheba.ru/pars_docs/refs/53/52534/img4.jpg"/>
          <p:cNvPicPr/>
          <p:nvPr/>
        </p:nvPicPr>
        <p:blipFill>
          <a:blip r:embed="rId2"/>
          <a:stretch/>
        </p:blipFill>
        <p:spPr>
          <a:xfrm>
            <a:off x="2152800" y="1566720"/>
            <a:ext cx="6205320" cy="47548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" descr=""/>
          <p:cNvPicPr/>
          <p:nvPr/>
        </p:nvPicPr>
        <p:blipFill>
          <a:blip r:embed="rId3"/>
          <a:stretch/>
        </p:blipFill>
        <p:spPr>
          <a:xfrm>
            <a:off x="2139840" y="500040"/>
            <a:ext cx="40165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Устный счет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Calibri"/>
              </a:rPr>
              <a:t>Решим устно уравнения и узнаем вес сердца, рост и массу человека в 13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у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-2,4)*(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-300)=0                  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300; у = 2,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2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316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1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:3=15,6                                 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46,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2f2f2"/>
                </a:solidFill>
                <a:uFillTx/>
                <a:latin typeface="Calibri"/>
              </a:rPr>
              <a:t>Решение линейных уравн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После решения уравнения мы узнаем интересный факт об организме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3х+2*(10х-35)=61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Ответ: 27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Сразу после рождения у человека кости мягкие и гибкие, а их количество доходит до 270 штук. Но постепенно кости срастаются и твердеют и их становится 200 шт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1258559346_18_11_2009_0530684001258546206_kerianne-brown.jpg"/>
          <p:cNvPicPr/>
          <p:nvPr/>
        </p:nvPicPr>
        <p:blipFill>
          <a:blip r:embed="rId2"/>
          <a:stretch/>
        </p:blipFill>
        <p:spPr>
          <a:xfrm>
            <a:off x="5126040" y="4529160"/>
            <a:ext cx="29145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4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8*(2х-5)-5*(х+3)=2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Ответ: 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За сутки человек выделяет столько тепла, что его хватит, чтобы довести до кипения 33 литра ледяной воды</a:t>
            </a:r>
            <a:r>
              <a:rPr b="0" i="1" lang="ru-RU" sz="32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5406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2984400" cy="1681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2х+14х-56=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Ответ: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  </a:t>
            </a: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Норма двигательной активности – 7-10 км (10000-14000 шаг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2"/>
          <a:stretch/>
        </p:blipFill>
        <p:spPr>
          <a:xfrm>
            <a:off x="6510240" y="3206880"/>
            <a:ext cx="17067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Изменения в период созревания надо воспринимать спокойно и не огорчаться, если тело становится непропорциональным, а движения – неуклюжими. Тело каждого из вас имеет свой ритм, свое «расписание роста». Это зависит от телосложения, наследственных особенностей, а также от образа и условий жизни      подрост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Прямоугольник 1" descr=""/>
          <p:cNvPicPr/>
          <p:nvPr/>
        </p:nvPicPr>
        <p:blipFill>
          <a:blip r:embed="rId2"/>
          <a:stretch/>
        </p:blipFill>
        <p:spPr>
          <a:xfrm>
            <a:off x="798480" y="146160"/>
            <a:ext cx="7991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5:31:20Z</dcterms:created>
  <dc:creator>Denis</dc:creator>
  <dc:description/>
  <dc:language>en-US</dc:language>
  <cp:lastModifiedBy>Admin</cp:lastModifiedBy>
  <dcterms:modified xsi:type="dcterms:W3CDTF">2014-03-03T18:49:41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2f000000000001024140</vt:lpwstr>
  </property>
</Properties>
</file>