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B1D-B985-4259-87E1-B40E302D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ED7-B77A-4084-8331-94F8AD3C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1C6-6CB2-4AEC-8D52-3AE7DE3D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DC9-51ED-4A9C-A790-EF9BFB2D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188B-EB70-4098-811D-9DD24365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DEFD-CB42-4BD9-9983-042E9E2A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52AE-AE3B-4D6D-93DF-7C353F1F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5DC4-52E0-47FE-B37F-4CAE2BE7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8040-6D10-40EE-8D2C-53C11630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3794-3D62-4665-9C04-F3F28DE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51E0-8C24-41FC-B558-757359D9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3C0-50EE-457B-BFAF-DD684938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692F-EE9F-4FA8-9A60-83039B3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6306-97F4-47CB-9DBD-14EEFF11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ABE4-2521-4EBD-A77F-0EFB47DB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71F2-EAD0-4774-8D56-42C77F43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E793-7F12-4B6D-92C2-31AFC082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11DD-29D3-4DE9-AE87-852E7206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3E6D-B08F-4624-A404-CC92EFC1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9205C-C642-4DBF-AEA9-FE5BDF0D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FE80-B054-4FAD-8523-A730276C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0562-B57A-4B3A-B0A0-6A603E4D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AA9-2AA4-4226-AB3E-5DF2B15C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BD65-4E0E-47F4-8F1A-23057777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6477-02F0-4FF8-9436-EF0E4DB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8FBD-4CFF-4694-AD44-173FF38A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1EC5-24F2-4A36-A9F3-14FD691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A708-AE05-4CCC-98C8-7146C8D7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825D-882C-4B38-8FCD-07B5FABF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AB1F-9715-4990-88DC-9F405228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0B9-4552-43AF-9AC9-8FE66D36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E12-F5D4-48B6-A5A0-0C7C4A90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FE1-F4C6-4E8A-9F6B-D5FA5AE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659-6A04-41ED-8DC7-694CF12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88E-E323-4458-9B3E-713843C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94C-380C-4C71-B8EB-824039E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EC75-CD49-40BF-8DB8-5FF66CC5A6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5FE9-7533-4649-8700-0E85DDA7ED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2CDF-50EE-4C30-AC60-BE1DEA58AA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Я в этом мире</a:t>
            </a: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764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Бинарный урок по алгебре и основам здоровья в 7-м классе по теме: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”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Уравнения. Решения задач с помощью уравнений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003640" y="386064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услышу и забыв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вижу и запомин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делаю и поним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                       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Конфу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4" descr="Confucius-9254926-2-402.jpg"/>
          <p:cNvPicPr/>
          <p:nvPr/>
        </p:nvPicPr>
        <p:blipFill>
          <a:blip r:embed="rId2"/>
          <a:stretch/>
        </p:blipFill>
        <p:spPr>
          <a:xfrm>
            <a:off x="2530440" y="3645000"/>
            <a:ext cx="1895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Малоподвижный образ жизни, нарушение осанки, нарушение питания, употребление курения и алкоголя, конфликты и стрессовые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Прямоугольник 1" descr=""/>
          <p:cNvPicPr/>
          <p:nvPr/>
        </p:nvPicPr>
        <p:blipFill>
          <a:blip r:embed="rId2"/>
          <a:stretch/>
        </p:blipFill>
        <p:spPr>
          <a:xfrm>
            <a:off x="1463760" y="652320"/>
            <a:ext cx="6211800" cy="1805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3"/>
          <a:stretch/>
        </p:blipFill>
        <p:spPr>
          <a:xfrm>
            <a:off x="6875640" y="4292640"/>
            <a:ext cx="12841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Большинство подростков не удовлетворены своим внешним видом. Во избежание косметических дефектов кожи, надо своевременно обратиться к врачу- дерматологу. Правильное и систематическое пользование косметическим средствами- предпосылка для получения стабильного положительного резуль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Прямоугольник 1" descr=""/>
          <p:cNvPicPr/>
          <p:nvPr/>
        </p:nvPicPr>
        <p:blipFill>
          <a:blip r:embed="rId2"/>
          <a:stretch/>
        </p:blipFill>
        <p:spPr>
          <a:xfrm>
            <a:off x="225360" y="291960"/>
            <a:ext cx="8753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795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умма состоит только из двух слагаем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амое важное для человека –это здоровь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Нужно соблюдать режим д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От перемены мест множителей, произведение может измени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Уравнение может не иметь кор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Прямоугольник 1" descr=""/>
          <p:cNvPicPr/>
          <p:nvPr/>
        </p:nvPicPr>
        <p:blipFill>
          <a:blip r:embed="rId2"/>
          <a:stretch/>
        </p:blipFill>
        <p:spPr>
          <a:xfrm>
            <a:off x="981000" y="291960"/>
            <a:ext cx="72057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500"/>
                            </p:stCondLst>
                            <p:childTnLst>
                              <p:par>
                                <p:cTn id="2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лгоритм решения задач с помощью уравне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пределить, какие величины неизвест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бозначить одну из них буквой (ввести переменну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Выразить остальные величины через ту, которую обозначили бук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Составить уравнение (математическую модель) согласно условию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Решить у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верить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, удовлетворяют ли корни уравнения условию </a:t>
            </a: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айти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ставшиеся неизвестные величины.</a:t>
            </a: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Древнегреческий скульптор ПОЛИКЛЕТ (V в. до н.э.) написал трактат «Канон», в котором вывел цифровую пропорцию человека: 1/7- голова, туловище-3/7, а ноги -66 см. Какой рост у данного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17375e"/>
                </a:solidFill>
                <a:uFillTx/>
                <a:latin typeface="Calibri"/>
              </a:rPr>
              <a:t>Решение: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пусть х см-рост всего человека. Тогда голова- х/7(см), а тело- 3х/7(см). Так как длина ног 66 см, то составим и решим уравнени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/7+3х/7+66=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=15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, рост человека 154 см.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Это как раз средний рост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      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ребенка 12- 13 л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6836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2.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колько литров крови перельет сердце человека в покое за 1 минуту , если при тренировке оно переливает на 10 литров больше. В течение 5 минут количество крови перелитой в покое и при тренировке 100 литр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Решение: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пусть х л крови переливается в покое, тогда (х+10) л –при тренировке. Так как всего за 5 мин перелито 100 л крови , то составим и решим уравне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5х + 5*(10+х)=1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Х= 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7375e"/>
                </a:solidFill>
                <a:latin typeface="Calibri"/>
              </a:rPr>
              <a:t>                          </a:t>
            </a: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, 5 л крови переливает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ердце человека в пок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16509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Вот еще интересные факты об организме человек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При обычном дыхании человек вдыхает 500 кубических сантиметров, при игре на духовом инструменте – 35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Самая сильная мышца в человеческом организме – язык, не сердце. Сердце — самая выносливая мыш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аши нос и уши продолжают расти все вашу жизн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Чтобы развить способности своего мозга достаточно почаще заниматься новыми видами деятельности, которыми до этого момента вы никогда не занимались. Ученые утверждают, что это способствует развитию памяти, внимательности, реакции и сообрази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268360" y="458136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Спасибо всем за урок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6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Цель урок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ние умений решать текстовые задачи с помощью урав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ть умение составлять математическую модель-уравнение по условию текстовой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Разви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развивать умение анализировать, выделять глав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Воспиты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воспитывать интерес к предм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рганизацион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е темы, цели и 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Разми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ешение  линейных  уравн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я о физическом развитии подрос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Физкультминут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сновная часть урока – решение зад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1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1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1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1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1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1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1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1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rpp.nashaucheba.ru/pars_docs/refs/53/52534/img4.jpg"/>
          <p:cNvPicPr/>
          <p:nvPr/>
        </p:nvPicPr>
        <p:blipFill>
          <a:blip r:embed="rId2"/>
          <a:stretch/>
        </p:blipFill>
        <p:spPr>
          <a:xfrm>
            <a:off x="2152800" y="1566720"/>
            <a:ext cx="6205320" cy="47548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" descr=""/>
          <p:cNvPicPr/>
          <p:nvPr/>
        </p:nvPicPr>
        <p:blipFill>
          <a:blip r:embed="rId3"/>
          <a:stretch/>
        </p:blipFill>
        <p:spPr>
          <a:xfrm>
            <a:off x="2139840" y="500040"/>
            <a:ext cx="40165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Устный счет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Решим устно уравнения и узнаем вес сердца, рост и массу человека в 13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у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2,4)*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300)=0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300; у = 2,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2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316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1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:3=15,6               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46,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2f2f2"/>
                </a:solidFill>
                <a:uFillTx/>
                <a:latin typeface="Calibri"/>
              </a:rPr>
              <a:t>Решение линейных уравн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После решения уравнения мы узнаем интересный факт об организме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3х+2*(10х-35)=61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Ответ: 27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разу после рождения у человека кости мягкие и гибкие, а их количество доходит до 270 штук. Но постепенно кости срастаются и твердеют и их становится 200 шт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1258559346_18_11_2009_0530684001258546206_kerianne-brown.jpg"/>
          <p:cNvPicPr/>
          <p:nvPr/>
        </p:nvPicPr>
        <p:blipFill>
          <a:blip r:embed="rId2"/>
          <a:stretch/>
        </p:blipFill>
        <p:spPr>
          <a:xfrm>
            <a:off x="5126040" y="4529160"/>
            <a:ext cx="29145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4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8*(2х-5)-5*(х+3)=2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 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За сутки человек выделяет столько тепла, что его хватит, чтобы довести до кипения 33 литра ледяной воды</a:t>
            </a:r>
            <a:r>
              <a:rPr b="0" i="1" lang="ru-RU" sz="32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5406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2984400" cy="1681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2х+14х-56=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  </a:t>
            </a: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Норма двигательной активности – 7-10 км (10000-14000 шаг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6510240" y="3206880"/>
            <a:ext cx="1706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Изменения в период созревания надо воспринимать спокойно и не огорчаться, если тело становится непропорциональным, а движения – неуклюжими. Тело каждого из вас имеет свой ритм, свое «расписание роста». Это зависит от телосложения, наследственных особенностей, а также от образа и условий жизни      подрост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Прямоугольник 1" descr=""/>
          <p:cNvPicPr/>
          <p:nvPr/>
        </p:nvPicPr>
        <p:blipFill>
          <a:blip r:embed="rId2"/>
          <a:stretch/>
        </p:blipFill>
        <p:spPr>
          <a:xfrm>
            <a:off x="798480" y="146160"/>
            <a:ext cx="7991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5:31:20Z</dcterms:created>
  <dc:creator>Denis</dc:creator>
  <dc:description/>
  <dc:language>en-US</dc:language>
  <cp:lastModifiedBy>Admin</cp:lastModifiedBy>
  <dcterms:modified xsi:type="dcterms:W3CDTF">2014-03-03T18:49:41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2f000000000001024140</vt:lpwstr>
  </property>
</Properties>
</file>